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7A3-4A0F-4872-AEE9-CC64569C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4D8-6BAC-40EF-B8A4-A358D344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2B3-363A-4E4E-8BFB-4D37C2B0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320-3D7D-42DE-A08F-3630B19F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E94E-281D-4989-82F8-BAE04819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94A8-A9A1-4F4B-9019-F5F575A5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E016-1AE2-4C1D-B657-A55D4B26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641-BB87-4D48-A31D-C90E864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6BEA-B5EB-4893-A44C-2B876233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EC28-65F9-4926-85E3-A0D91A8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0261-E298-4CE2-8490-E44FAF72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761-D46B-46A4-BD90-79743204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DC4F-9CC9-4965-BE7B-D5E2ABD9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BEE-DE2B-437C-89EA-863AC03D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4EC3-B9E6-4ACE-A6CA-C7BE4E2D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A10E-5C76-403B-9F2F-E634118B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2E34-B1FA-4817-8CCF-887F3375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85E-4C7B-4A47-B8F3-B11E5922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C9E-2E73-493E-95C5-53CC480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18C-0957-44DE-A3F9-43A4BC21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ED8-5B81-45BF-A8F9-952D2159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BBC-C25C-4CD1-B8B0-3C16344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320-DFE7-4FD8-99ED-A221AE38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A9C-40AE-466B-B2E2-988834F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DDA5-D50A-4E78-8A57-C69D7EE4552D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BD0E-22C1-4738-8218-9D6071F09C5B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fo.med.yale.edu/intmed/cardio/imaging" TargetMode="External"/><Relationship Id="rId2" Type="http://schemas.openxmlformats.org/officeDocument/2006/relationships/hyperlink" Target="http://info.med.yale.edu/intmed/cardio/imaging" TargetMode="External"/><Relationship Id="rId3" Type="http://schemas.openxmlformats.org/officeDocument/2006/relationships/hyperlink" Target="http://info.med.yale.edu/intmed/cardio/imaging" TargetMode="External"/><Relationship Id="rId4" Type="http://schemas.openxmlformats.org/officeDocument/2006/relationships/hyperlink" Target="http://info.med.yale.edu/intmed/cardio/imaging" TargetMode="External"/><Relationship Id="rId5" Type="http://schemas.openxmlformats.org/officeDocument/2006/relationships/hyperlink" Target="http://info.med.yale.edu/intmed/cardio/imaging" TargetMode="External"/><Relationship Id="rId6" Type="http://schemas.openxmlformats.org/officeDocument/2006/relationships/hyperlink" Target="http://info.med.yale.edu/intmed/cardio/imaging" TargetMode="External"/><Relationship Id="rId7" Type="http://schemas.openxmlformats.org/officeDocument/2006/relationships/hyperlink" Target="http://info.med.yale.edu/intmed/cardio/imaging" TargetMode="External"/><Relationship Id="rId8" Type="http://schemas.openxmlformats.org/officeDocument/2006/relationships/image" Target="../media/image5.png"/><Relationship Id="rId9" Type="http://schemas.openxmlformats.org/officeDocument/2006/relationships/hyperlink" Target="http://info.med.yale.edu/intmed/cardio/imaging" TargetMode="Externa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rtleby.com/" TargetMode="External"/><Relationship Id="rId2" Type="http://schemas.openxmlformats.org/officeDocument/2006/relationships/hyperlink" Target="http://www.bartleby.com/" TargetMode="External"/><Relationship Id="rId3" Type="http://schemas.openxmlformats.org/officeDocument/2006/relationships/hyperlink" Target="http://www.bartleby.com/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bartleby.com/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late.msn.com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slate.msn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ytimes.com/" TargetMode="External"/><Relationship Id="rId2" Type="http://schemas.openxmlformats.org/officeDocument/2006/relationships/hyperlink" Target="http://www.nytimes.com/" TargetMode="External"/><Relationship Id="rId3" Type="http://schemas.openxmlformats.org/officeDocument/2006/relationships/hyperlink" Target="http://www.nytimes.com/" TargetMode="External"/><Relationship Id="rId4" Type="http://schemas.openxmlformats.org/officeDocument/2006/relationships/hyperlink" Target="http://www.nytimes.com/" TargetMode="External"/><Relationship Id="rId5" Type="http://schemas.openxmlformats.org/officeDocument/2006/relationships/hyperlink" Target="http://www.nytimes.com/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nytimes.com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ytimes.com/" TargetMode="External"/><Relationship Id="rId2" Type="http://schemas.openxmlformats.org/officeDocument/2006/relationships/hyperlink" Target="http://www.nytimes.com/" TargetMode="External"/><Relationship Id="rId3" Type="http://schemas.openxmlformats.org/officeDocument/2006/relationships/hyperlink" Target="http://www.nytimes.com/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mazon.com/" TargetMode="External"/><Relationship Id="rId2" Type="http://schemas.openxmlformats.org/officeDocument/2006/relationships/hyperlink" Target="http://www.amazon.com/" TargetMode="External"/><Relationship Id="rId3" Type="http://schemas.openxmlformats.org/officeDocument/2006/relationships/hyperlink" Target="http://www.amazon.com/" TargetMode="External"/><Relationship Id="rId4" Type="http://schemas.openxmlformats.org/officeDocument/2006/relationships/hyperlink" Target="http://www.amazon.com/" TargetMode="External"/><Relationship Id="rId5" Type="http://schemas.openxmlformats.org/officeDocument/2006/relationships/hyperlink" Target="http://www.amazon.com/" TargetMode="External"/><Relationship Id="rId6" Type="http://schemas.openxmlformats.org/officeDocument/2006/relationships/image" Target="../media/image10.png"/><Relationship Id="rId7" Type="http://schemas.openxmlformats.org/officeDocument/2006/relationships/hyperlink" Target="http://www.amazon.com/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yale.edu/physics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argus-acia.com/" TargetMode="External"/><Relationship Id="rId2" Type="http://schemas.openxmlformats.org/officeDocument/2006/relationships/hyperlink" Target="http://argus-acia.com/" TargetMode="External"/><Relationship Id="rId3" Type="http://schemas.openxmlformats.org/officeDocument/2006/relationships/hyperlink" Target="http://argus-acia.com/" TargetMode="External"/><Relationship Id="rId4" Type="http://schemas.openxmlformats.org/officeDocument/2006/relationships/hyperlink" Target="http://argus-acia.com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argus-acia.com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salon.com/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salon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iastate.edu/" TargetMode="External"/><Relationship Id="rId2" Type="http://schemas.openxmlformats.org/officeDocument/2006/relationships/hyperlink" Target="http://www.iastate.edu/" TargetMode="External"/><Relationship Id="rId3" Type="http://schemas.openxmlformats.org/officeDocument/2006/relationships/hyperlink" Target="http://www.iastate.edu/" TargetMode="External"/><Relationship Id="rId4" Type="http://schemas.openxmlformats.org/officeDocument/2006/relationships/hyperlink" Target="http://www.iastate.edu/" TargetMode="External"/><Relationship Id="rId5" Type="http://schemas.openxmlformats.org/officeDocument/2006/relationships/image" Target="../media/image15.png"/><Relationship Id="rId6" Type="http://schemas.openxmlformats.org/officeDocument/2006/relationships/hyperlink" Target="http://www.iastate.edu/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fo.med.yale.edu/caim/hhmi" TargetMode="External"/><Relationship Id="rId2" Type="http://schemas.openxmlformats.org/officeDocument/2006/relationships/hyperlink" Target="http://info.med.yale.edu/caim/hhmi" TargetMode="External"/><Relationship Id="rId3" Type="http://schemas.openxmlformats.org/officeDocument/2006/relationships/hyperlink" Target="http://info.med.yale.edu/caim/hhmi" TargetMode="External"/><Relationship Id="rId4" Type="http://schemas.openxmlformats.org/officeDocument/2006/relationships/hyperlink" Target="http://info.med.yale.edu/caim/hhmi" TargetMode="External"/><Relationship Id="rId5" Type="http://schemas.openxmlformats.org/officeDocument/2006/relationships/hyperlink" Target="http://info.med.yale.edu/caim/hhmi" TargetMode="External"/><Relationship Id="rId6" Type="http://schemas.openxmlformats.org/officeDocument/2006/relationships/hyperlink" Target="http://info.med.yale.edu/caim/hhmi" TargetMode="External"/><Relationship Id="rId7" Type="http://schemas.openxmlformats.org/officeDocument/2006/relationships/hyperlink" Target="http://info.med.yale.edu/caim/hhmi" TargetMode="External"/><Relationship Id="rId8" Type="http://schemas.openxmlformats.org/officeDocument/2006/relationships/hyperlink" Target="http://info.med.yale.edu/caim/hhmi" TargetMode="External"/><Relationship Id="rId9" Type="http://schemas.openxmlformats.org/officeDocument/2006/relationships/hyperlink" Target="http://info.med.yale.edu/caim/hhmi" TargetMode="External"/><Relationship Id="rId10" Type="http://schemas.openxmlformats.org/officeDocument/2006/relationships/hyperlink" Target="http://info.med.yale.edu/caim/hhmi" TargetMode="External"/><Relationship Id="rId11" Type="http://schemas.openxmlformats.org/officeDocument/2006/relationships/hyperlink" Target="http://info.med.yale.edu/caim/hhmi" TargetMode="External"/><Relationship Id="rId12" Type="http://schemas.openxmlformats.org/officeDocument/2006/relationships/image" Target="../media/image2.png"/><Relationship Id="rId13" Type="http://schemas.openxmlformats.org/officeDocument/2006/relationships/hyperlink" Target="http://info.med.yale.edu/caim/hhmi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rtmouth.edu/~chemlab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dartmouth.edu/~chemlab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274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UPOTREBA WEB</a:t>
            </a:r>
            <a:r>
              <a:rPr b="1" lang="hr-HR" sz="4400" spc="-1" strike="noStrike">
                <a:solidFill>
                  <a:srgbClr val="003366"/>
                </a:solidFill>
                <a:latin typeface="Times New Roman"/>
              </a:rPr>
              <a:t> DIZAJN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859320"/>
            <a:ext cx="865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inuirano obraz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orisnici s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eli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m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prd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nanj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 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just in time"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rening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određe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pecif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tem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leksibilni, interaktivni, nelinerni diza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zajn mora omogućiti brz pristup velikom opsegu tema i obično mora obilovati linkovima na povezane materijale, kako na lokalnom sajtu, tako i na celom Web-u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ekst bazirana lista linkov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učitava brzo i prikazuje dosta inform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859320"/>
            <a:ext cx="865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inuirano obraz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trebne i dobro dizajnirane slike i ilustracije da bi se zainteresovali sami korisnic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reme pristupa korisnika se ne može predvideti, ali je kraće od vremena za prethodne dve grupe aplik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 u ovom slučaju je opcija za jednostavnu štampu skoro obavezujuć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859320"/>
            <a:ext cx="865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inuirano obraz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617220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info.med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yale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edu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/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intmed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/cardio/imag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3.16" descr="Screen shot: Set of pages from Cardiothoracic Imaging site"/>
          <p:cNvPicPr/>
          <p:nvPr/>
        </p:nvPicPr>
        <p:blipFill>
          <a:blip r:embed="rId8"/>
          <a:stretch/>
        </p:blipFill>
        <p:spPr>
          <a:xfrm>
            <a:off x="2286000" y="1981080"/>
            <a:ext cx="4648320" cy="4050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5620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newwind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156204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Refer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snic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ete sajt, pronađu šta žele i jednostavo odštampaju ili učitaju to što su pronašli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 ovakvim slučajevima nema glavne obrađene teme i njenih pojedniosti, pa je korišćenje nelinearn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evažne slike i ilustracije b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rebale da budu minimalne i odvojene od samog konteks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Refer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ekst stranice i meni struktura bi trebalo da bude pažljivo strukturiran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z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pretrag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jednostavan download dokumenata i opcij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za štam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obro osmišljena opcija za pretragu je obavezn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sajtova sa više od trideset stranica ili za dugačke teks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v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alizacij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efikasnije više parametarske prestr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eme zadržavanja korisnika je po principu „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horter the bette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Refer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594360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bartleby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co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3.17" descr="Screen shot: Bartleby Columbia Encyclopedia search page"/>
          <p:cNvPicPr/>
          <p:nvPr/>
        </p:nvPicPr>
        <p:blipFill>
          <a:blip r:embed="rId4"/>
          <a:stretch/>
        </p:blipFill>
        <p:spPr>
          <a:xfrm>
            <a:off x="1981080" y="1828800"/>
            <a:ext cx="5867640" cy="406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1943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newwind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943280"/>
            <a:ext cx="152280" cy="13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pšti i magazinski sajtov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snici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manje fokusira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m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otiv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mah privučeni kompletnom grafičkom i tekstualnom prezentacijom, ili će otići na neki drugi sličan saj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a će privući korisnika zavisi od njegovih očekiva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a primer uticaj političkih komentara i kritike socijalnog stanja umnogome zavise od izdvojenih naslova i glavnih teza tekstov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pšti i magazinski sajtov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095880"/>
            <a:ext cx="9144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l-PL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.slate.msn.co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3.18" descr="Screen shot: Slate home page"/>
          <p:cNvPicPr/>
          <p:nvPr/>
        </p:nvPicPr>
        <p:blipFill>
          <a:blip r:embed="rId2"/>
          <a:stretch/>
        </p:blipFill>
        <p:spPr>
          <a:xfrm>
            <a:off x="1905120" y="1905120"/>
            <a:ext cx="5257800" cy="4054320"/>
          </a:xfrm>
          <a:prstGeom prst="rect">
            <a:avLst/>
          </a:prstGeom>
          <a:ln w="0">
            <a:noFill/>
          </a:ln>
        </p:spPr>
      </p:pic>
      <p:pic>
        <p:nvPicPr>
          <p:cNvPr id="255" name="newwind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7624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ajtovi sa vest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ovinski sajtovi su u velikoj meri prilagodili svoj dizajn sa papira na manje formate na Internetu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sajtu </a:t>
            </a:r>
            <a:r>
              <a:rPr b="0" i="1" lang="en-GB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New York Times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iskorišćene sve osobine papirnog izdanja, ali uz korišćenje više boja i manje konzervativnih shvatanja i principa.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ajtovi sa vest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6035760"/>
            <a:ext cx="9144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nytimes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com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3.19" descr="Screen shot: New York Times home page"/>
          <p:cNvPicPr/>
          <p:nvPr/>
        </p:nvPicPr>
        <p:blipFill>
          <a:blip r:embed="rId6"/>
          <a:stretch/>
        </p:blipFill>
        <p:spPr>
          <a:xfrm>
            <a:off x="1447920" y="1828800"/>
            <a:ext cx="5410080" cy="4303800"/>
          </a:xfrm>
          <a:prstGeom prst="rect">
            <a:avLst/>
          </a:prstGeom>
          <a:ln w="0">
            <a:noFill/>
          </a:ln>
        </p:spPr>
      </p:pic>
      <p:pic>
        <p:nvPicPr>
          <p:cNvPr id="261" name="newwind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724040"/>
            <a:ext cx="152280" cy="13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eb di</a:t>
            </a: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zaj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iskusni dizajneri i klijenti pokušavaju da urade sve što je moguće da bi privukli pažnju na svoj Web saj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risnik koji je izložen napadnoj grafici ili Flash animacij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eoma brzo gubi pažnju i ne primećuje osnovnu poruku samog saj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ć posle 10-15 sekundi korisnik ne primećuje nove detal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ećina korisnika je zasićena od bleštećih animiranih slika i dugog učitavanja, i trudi se da izbegne takve sajto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spešan sajt zahteva realan i stalan napred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ajtovi sa vest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6035760"/>
            <a:ext cx="914400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Verdana"/>
              </a:rPr>
              <a:t>politika.co.y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newwind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72404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41452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1219320" y="1828800"/>
            <a:ext cx="431460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jvažniji parametri dizajna su efikasna navigacija i pretraga, i brzina kojom korisnik stiže do dugmeta za naruči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troš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n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ogromne količine para za razvoj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cromedia Flash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i digitalnih video prezentacij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—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nog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u doživeli i bankrot pre nego što su sajtovi i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roradil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hnički osnovne i jednostavne stva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azon, eBay, Yahoo!,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padljive jednostavne šeme za dizajn stranice i jednostavne tekst ili tab bazirane navigacione sistem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uspešni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realizacija alata za pretragu koji su dovoljno inteligentni da ponude odgovarajuće odgovore kada za neki upit nema odgovarajućih rezulta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o korisnik otkuc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"PDA"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eodgovarajući pristup je da se prikažu svi proizvodi koji imaju ovu reč u svom imenu ili opis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fikasno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se prikaže lista sortirana po odgovarajućim kriterijumim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548640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amazon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com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3.20" descr="Screen shot: Results from search for &quot;pda&quot; on Amazon site"/>
          <p:cNvPicPr/>
          <p:nvPr/>
        </p:nvPicPr>
        <p:blipFill>
          <a:blip r:embed="rId6"/>
          <a:stretch/>
        </p:blipFill>
        <p:spPr>
          <a:xfrm>
            <a:off x="2666880" y="1828800"/>
            <a:ext cx="4286520" cy="4095720"/>
          </a:xfrm>
          <a:prstGeom prst="rect">
            <a:avLst/>
          </a:prstGeom>
          <a:ln w="0">
            <a:noFill/>
          </a:ln>
        </p:spPr>
      </p:pic>
      <p:pic>
        <p:nvPicPr>
          <p:cNvPr id="274" name="newwind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38096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azon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e eksperimentisao sa različitim tab sistemima kako je sajt rasta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bovi funkcionišu ako postoji oko 8 ili manje opcija. Veći broj dovodi do konfuz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azo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tranice za naručivanj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m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pecijalan navigacioni dizaj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ećina dobro dizajniranih ekrana za naručivanje su kratki i obrađuju jednu tem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cij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"shopping car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dresa korisnik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je o kreditnoj kartici, it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rozorima koji ne zahtevaju scroll bar da bi se pregledao sadržaj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m proces naručivanj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više ekra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aki proces elektronskog poslovanja je jednoličan za samog kupc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ato informacija o trenutnoj poziciji korisnika je korisna, jer serija ekrana postaje manji  problem za korisnika koji zna šta ga dalje očekuj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lektronsko poslo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Screen shot: Sequence of checkout pages on Amazon site"/>
          <p:cNvPicPr/>
          <p:nvPr/>
        </p:nvPicPr>
        <p:blipFill>
          <a:blip r:embed="rId1"/>
          <a:stretch/>
        </p:blipFill>
        <p:spPr>
          <a:xfrm>
            <a:off x="1447920" y="1981080"/>
            <a:ext cx="6553080" cy="42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Elementi saj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Home p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enij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ista resursa,"other related sites" stran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putst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What's new?" stran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pcije pretr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je o kontaktu i korisnički utisc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ibliografija i dodac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ne sa najčešće postavljenim pitanj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brada korisničkih grešak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Home p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i Web sajtovi  su organizovani oko početne stranice, koja predstavlja  i logički ulaz u sistem stranic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hijerarhijskoj organizaciji, home page se nalazi na vrhu hijerarhije i sve stranice u okviru sajta sadrže direktan link povratka na ovu stranic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tra se da je površina pravougaonika širine oko 30-ak inča na vrhu početne stranice najviše primećena površina od strane korisnik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ikasna navigacija - linkovi na vrhi stran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Home p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6" name="3.22" descr="Screen shot: Above the fold design on Physics at Yale University home page"/>
          <p:cNvPicPr/>
          <p:nvPr/>
        </p:nvPicPr>
        <p:blipFill>
          <a:blip r:embed="rId1"/>
          <a:stretch/>
        </p:blipFill>
        <p:spPr>
          <a:xfrm>
            <a:off x="1600200" y="1828800"/>
            <a:ext cx="5562720" cy="44258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0" y="140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newwind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044800"/>
            <a:ext cx="152280" cy="13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Vrste sajtov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ren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bučavan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inuirano obrazovan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eferen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pšti i magazinski sajtov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i sa vestim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Elektronsko poslo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Home p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a stranica može imati više funk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 dizajneri koriste prednost ove stranice kao najposećenije stranice sajta, pa je smatraju idealnom za postavljanje novosti i novih informaci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ka posećenost ove stranic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e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to 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ko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li smeštanje opisa sadržaja saj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l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pci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se ova stranica iskoristi kao prva mogućnost da se privuče pažnja korisni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neku određenu podtemu ili specijalnu obla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Verdana"/>
              </a:rPr>
              <a:t>U</a:t>
            </a:r>
            <a:r>
              <a:rPr b="1" lang="en-GB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 formi menija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a linkova u form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ija je dominirala u dizajnu početnih stranica prvih nekoliko godina razvoja Web-a, i trenutnoje najčešće korišćeni tip početnih stranic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kva organizacija stranica zahteva korišćenje ne samo obične liste tekst baziranih HTML linkova, već korišćenje i grafičkih slika, koje su i efikasnije, jer se dati prostor može maksimalno iskoristit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an dizajn kmbinuje slike i blokove tekst baziranih linkov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st linkovi su manje vizuelno uočljivi, ali je jednostanije održavanje samog kod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Verdana"/>
              </a:rPr>
              <a:t>U</a:t>
            </a:r>
            <a:r>
              <a:rPr b="1" lang="en-GB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 formi menija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6400800"/>
            <a:ext cx="91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argus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-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acia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.co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3.23" descr="Screen shot: Menu home page on Argus Center for Information Architecture site"/>
          <p:cNvPicPr/>
          <p:nvPr/>
        </p:nvPicPr>
        <p:blipFill>
          <a:blip r:embed="rId5"/>
          <a:stretch/>
        </p:blipFill>
        <p:spPr>
          <a:xfrm>
            <a:off x="2209680" y="1828800"/>
            <a:ext cx="4286520" cy="4524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33520" y="621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newwind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116676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zirane na vest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tov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 Time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N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noge organizacije koriste prednosti njihove velike posećenosti radi obaveštavanja kako samih svojih zaposlenih, tako i šireg kruga korisnik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je uživo povećavaju atraktivnost sajta i ponovnu posetu korisnik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ogi dizajneri rezervišu jednu ili više površina za poslednje vesti, naredne događaje ili upozoravajuće poruk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dardizovati lokaciju i prirodu površine za vesti s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m okvirom dizajna stran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zirane na vest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172200"/>
            <a:ext cx="91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.salon.co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3.24" descr="Screen shot: News-oriented page on Salon site"/>
          <p:cNvPicPr/>
          <p:nvPr/>
        </p:nvPicPr>
        <p:blipFill>
          <a:blip r:embed="rId2"/>
          <a:stretch/>
        </p:blipFill>
        <p:spPr>
          <a:xfrm>
            <a:off x="1752480" y="1828800"/>
            <a:ext cx="5105520" cy="41860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0" y="1671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newwind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67148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zirane na korisnic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i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jtovi pružaju mnogo informacija širokom opsegu korisnika, pa je nemoguće opisati širinu i dubinu takvog sajta na jednoj početnoj stranic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mi korisnici često posećuju Web sajt sa specifičnim interesom ili ciljo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o je iskoristiti početnu stranicu da bi se odmah izvršila podela korisnika u interesne grupe i onda svakoj grupi ponuditi specifične informacije u okviru sledećih stranic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zirane na korisnicim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990720" y="6324480"/>
            <a:ext cx="91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iastate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edu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3.25" descr="Screen shot: Path-based home page on Iowa State University site"/>
          <p:cNvPicPr/>
          <p:nvPr/>
        </p:nvPicPr>
        <p:blipFill>
          <a:blip r:embed="rId5"/>
          <a:stretch/>
        </p:blipFill>
        <p:spPr>
          <a:xfrm>
            <a:off x="1143000" y="1752480"/>
            <a:ext cx="6324480" cy="4497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1905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newwind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1905120"/>
            <a:ext cx="152280" cy="13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plash stran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ash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ce su jedan od najosporavanijih elmenata saj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mnoge korisnike one predstavljaju dodatak i nepoteban klik miša do sadržaja koji ih zani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leli da im se odmah prikaže struktura sajta i da krenu od te tačk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to je ključna stvar upoznavanje sa krajnjim korisnicima i tek onda najprikladniji izbor ulaska na saj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plash stran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li će tipični korisnici jednom posetiti sajt ili više puta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 kao što su kalendar ili alat za pretragu nemaju samo estetsku ulogu, jer neki korisnici mogu posetiti sajt nekoliko puta dnevn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gantni, ali nefunkcionalni elementi tako mogu vrlo brzo postati zamorn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snici koji ne žele da pristupaju sajtu preko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h stranic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pamtiti u okviru čitača narednu stranicu sa sadržajem i pristupati sajtu preko te stran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plash stran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peh splash stranice umnogome zavisi od očekivanja korisnika sajt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e i korisnici koje zanimaju misteriozni, enigmatski ili estetski ugođaji, koji će uživati u efektno dizajniranim splash stranicam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Vrste sajtov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6" name="" descr="Diagram: Types of sites against user contact time and narrative"/>
          <p:cNvPicPr/>
          <p:nvPr/>
        </p:nvPicPr>
        <p:blipFill>
          <a:blip r:embed="rId1"/>
          <a:stretch/>
        </p:blipFill>
        <p:spPr>
          <a:xfrm>
            <a:off x="1600200" y="2133720"/>
            <a:ext cx="48769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plash strani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6400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eng.yale.ed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3.26" descr="Screen shot: Splash screen on Yale Engineering site"/>
          <p:cNvPicPr/>
          <p:nvPr/>
        </p:nvPicPr>
        <p:blipFill>
          <a:blip r:embed="rId1"/>
          <a:stretch/>
        </p:blipFill>
        <p:spPr>
          <a:xfrm>
            <a:off x="2057400" y="1981080"/>
            <a:ext cx="5562720" cy="4302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762120" y="621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newwind" descr=""/>
          <p:cNvPicPr/>
          <p:nvPr/>
        </p:nvPicPr>
        <p:blipFill>
          <a:blip r:embed="rId2"/>
          <a:stretch/>
        </p:blipFill>
        <p:spPr>
          <a:xfrm>
            <a:off x="0" y="177156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Kombin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 realizaciji početne stranice mogu se kombinovati različiti dizajni početne stranice i na taj način napraviti mešavinu sve 4 strategij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 The Library of Congress's THOMAS kombinuje slike, listu meni opcija i specijalne delove sajt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Kombin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6248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loc.gov/thomas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3.27" descr="Screen shot: Mixed menu strategies on THOMAS home page"/>
          <p:cNvPicPr/>
          <p:nvPr/>
        </p:nvPicPr>
        <p:blipFill>
          <a:blip r:embed="rId1"/>
          <a:stretch/>
        </p:blipFill>
        <p:spPr>
          <a:xfrm>
            <a:off x="2133720" y="175248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214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newwind" descr=""/>
          <p:cNvPicPr/>
          <p:nvPr/>
        </p:nvPicPr>
        <p:blipFill>
          <a:blip r:embed="rId2"/>
          <a:stretch/>
        </p:blipFill>
        <p:spPr>
          <a:xfrm>
            <a:off x="0" y="121428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mpanije, institucije i edukacione organizacij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ale grafičke banere na vrhu početne stra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mercij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saj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kompleks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kombinaci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linkova ugrađenih u vizuelne ele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fikasni u privlačenju korisnikove pažnje, veliki grafički meniji podrazumevaju i veće vreme učitavanja stra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Čak, iako su korisnici povezani pomoću bržih veza, grafički meniji i dalje se prikazuju sporije nego tekst bazirana lista linko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simetrija između sporog učitavanja, ali atraktivnog prikaza stranica baziranih na vizuelnim elementima jednostavnih tekst baziranih stranica se reflektuje i na različite potrebe različite vrste korisni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Ciljevi većin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eb 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jtova je da prenesu neke interne informacij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i da komuniciraju sa potencijalnim klijentima i proizvoljnim Web korisnici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Guggenheim Museum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je izbor grafičkog dizajna početne stranic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li j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yout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ažljivo dizajniran da odgovara dimenzijama prosečnog monitor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35" name="3.28" descr="Screen shot: Graphic menu on Guggenheim home page"/>
          <p:cNvPicPr/>
          <p:nvPr/>
        </p:nvPicPr>
        <p:blipFill>
          <a:blip r:embed="rId1"/>
          <a:stretch/>
        </p:blipFill>
        <p:spPr>
          <a:xfrm>
            <a:off x="1600200" y="1828800"/>
            <a:ext cx="5486400" cy="3670200"/>
          </a:xfrm>
          <a:prstGeom prst="rect">
            <a:avLst/>
          </a:prstGeom>
          <a:ln w="0">
            <a:noFill/>
          </a:ln>
        </p:spPr>
      </p:pic>
      <p:pic>
        <p:nvPicPr>
          <p:cNvPr id="336" name="newwind" descr=""/>
          <p:cNvPicPr/>
          <p:nvPr/>
        </p:nvPicPr>
        <p:blipFill>
          <a:blip r:embed="rId2"/>
          <a:stretch/>
        </p:blipFill>
        <p:spPr>
          <a:xfrm>
            <a:off x="0" y="479592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" y="42465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78640" y="5714640"/>
            <a:ext cx="401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uggenhei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41" name="newwind" descr=""/>
          <p:cNvPicPr/>
          <p:nvPr/>
        </p:nvPicPr>
        <p:blipFill>
          <a:blip r:embed="rId1"/>
          <a:stretch/>
        </p:blipFill>
        <p:spPr>
          <a:xfrm>
            <a:off x="0" y="479592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128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0" y="42465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3.29" descr="Screen shot: Text-based home page on W3C site"/>
          <p:cNvPicPr/>
          <p:nvPr/>
        </p:nvPicPr>
        <p:blipFill>
          <a:blip r:embed="rId2"/>
          <a:stretch/>
        </p:blipFill>
        <p:spPr>
          <a:xfrm>
            <a:off x="1676520" y="1905120"/>
            <a:ext cx="4647960" cy="3967200"/>
          </a:xfrm>
          <a:prstGeom prst="rect">
            <a:avLst/>
          </a:prstGeom>
          <a:ln w="0">
            <a:noFill/>
          </a:ln>
        </p:spPr>
      </p:pic>
      <p:pic>
        <p:nvPicPr>
          <p:cNvPr id="345" name="newwind" descr=""/>
          <p:cNvPicPr/>
          <p:nvPr/>
        </p:nvPicPr>
        <p:blipFill>
          <a:blip r:embed="rId3"/>
          <a:stretch/>
        </p:blipFill>
        <p:spPr>
          <a:xfrm>
            <a:off x="0" y="537372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00" y="4824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58840" y="612540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Najbolji način da se obuhvate i efektan izgled i potrebe običnog korisnika je da se pruže alternativni pogledi na is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saj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Jedan pristup je da se realizuje vizuelno atraktivna početna stranica sa ciljem da se privuče pažnja većine korisni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li i da se realizuje više tekst orijentisana alternativna stranic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brz pristu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Drugi pristup je da se koristi grafički baner na vrhu stranice, praćen skupom tekst baziranih linkov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52" name="3.30" descr="Screen shot: Graphic banner and text-based links on The Atlantic Online home page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3938400"/>
          </a:xfrm>
          <a:prstGeom prst="rect">
            <a:avLst/>
          </a:prstGeom>
          <a:ln w="0">
            <a:noFill/>
          </a:ln>
        </p:spPr>
      </p:pic>
      <p:pic>
        <p:nvPicPr>
          <p:cNvPr id="353" name="newwind" descr=""/>
          <p:cNvPicPr/>
          <p:nvPr/>
        </p:nvPicPr>
        <p:blipFill>
          <a:blip r:embed="rId2"/>
          <a:stretch/>
        </p:blipFill>
        <p:spPr>
          <a:xfrm>
            <a:off x="0" y="5173560"/>
            <a:ext cx="152280" cy="133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00" y="4624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31240" y="6049080"/>
            <a:ext cx="37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theatlantic.com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lika ili tesk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eki korisnici koji pristupaju Internetu preko modema biraju da ne učitavaju slik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otrebno je obezbediti i alternativne tekst bazirane linkove koji će biti vidljivi i ovoj vrsti korisni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Mnogi sajtovi realizuju tekst bazirane linkove  smanjene veličine iznad footer-a, gde ne utiču mnogo na ostali deo dizaj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Tre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eb-b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irane aplikacije za trening bi trebale da budu linearne i uobičajeno nude nekoliko opcij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odstupanja od centralnog tok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zentacij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e treba zbunjivati korisnika ponudom previše linkova i odstu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jem od centralne poruk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graničenje linkova na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ledeca tem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"P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sla tem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svi korisnici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ć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ideti istu osnovu prezentaci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lika ili tek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60" name="3.31" descr="Screen shot: Text-based footer links on Yale-New Haven Hospital pages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3054600"/>
          </a:xfrm>
          <a:prstGeom prst="rect">
            <a:avLst/>
          </a:prstGeom>
          <a:ln w="0">
            <a:noFill/>
          </a:ln>
        </p:spPr>
      </p:pic>
      <p:pic>
        <p:nvPicPr>
          <p:cNvPr id="361" name="newwind" descr=""/>
          <p:cNvPicPr/>
          <p:nvPr/>
        </p:nvPicPr>
        <p:blipFill>
          <a:blip r:embed="rId2"/>
          <a:stretch/>
        </p:blipFill>
        <p:spPr>
          <a:xfrm>
            <a:off x="0" y="460692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00" y="40575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84200" y="5668200"/>
            <a:ext cx="26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ynhh.org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brazac stranic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očet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stra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najviše pažnje u početku dizajniranja Web saj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e treba dopustiti da njen dizajn dominira nad strategijom celog saj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Kada se realizuje veliki kompleksan Web sajt, mnogo je bitnije kon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trisati se na standardan layout ostalih unutrašnjih stranica u okviru saj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uspeh samog sajta zavisi od preciznog logičkog obrasca koji se primenjuje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brazac stranic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liza strukture sadržaja i odlu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šta je potrebno za re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zaciju osnovne navigaci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dlučuje se koji će se linkovi prikazati i kako će se koristiti na svakoj stranici saj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ko će se sajt uklopiti u širi kontekst samih klijen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a li klijent već ima postavljen i uspešan format Web dizajna u koji se treba uklopit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žljivo odabrati koji linkov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logo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oznak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 drugi grafički i funkcionalni elementi određuju mesto u većoj hijerarhi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Cilj je ustanoviti logički i konzistentan pristup gde i kako će se osnovni grafički elementi identiteta, navigacioni linkovi i ostale najbitnije informacije, pojaviti na svim stranicama u okviru sajtov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minolog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ja je veoma bitn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treba izabrati odgovarajuće reči za linkove i naslo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vosmislene ili konfuzne labele i fraze mogu dovesti do pogrešnog rad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Illustration: Basic page layout grid"/>
          <p:cNvPicPr/>
          <p:nvPr/>
        </p:nvPicPr>
        <p:blipFill>
          <a:blip r:embed="rId1"/>
          <a:stretch/>
        </p:blipFill>
        <p:spPr>
          <a:xfrm>
            <a:off x="1752480" y="380880"/>
            <a:ext cx="5202360" cy="64771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brazac stranic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72" name="3.34" descr="Screen shot: Three pages from the Yale University School of Medicine site"/>
          <p:cNvPicPr/>
          <p:nvPr/>
        </p:nvPicPr>
        <p:blipFill>
          <a:blip r:embed="rId1"/>
          <a:stretch/>
        </p:blipFill>
        <p:spPr>
          <a:xfrm>
            <a:off x="1371600" y="2133720"/>
            <a:ext cx="6172200" cy="403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00" y="3987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Obrazac stranica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akon definisanja obrasca stranica može se realizovati i početna stranica na osnovu istog obrasc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ako da se korisnici koji pristupaju sajtu odmah upoznaju sa primenjenim obrascem, vizuelnim identitom, i navigacionom šemo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reba naglasiti da napravljeni obrazac ne treba da bude konačan i za početnu stranicu, ona treba da poseduje veći broj navigacionih elemenata i samog sadržaja nego obične unutrašnje stra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z ovog razloga početne stranice su obično šire i sa mnogo više grafike od ostalih stranic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Obrazac stranica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78" name="" descr="Screen shot: Yale-New Haven Hospital home page and internal page"/>
          <p:cNvPicPr/>
          <p:nvPr/>
        </p:nvPicPr>
        <p:blipFill>
          <a:blip r:embed="rId1"/>
          <a:stretch/>
        </p:blipFill>
        <p:spPr>
          <a:xfrm>
            <a:off x="1752480" y="1828800"/>
            <a:ext cx="42865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Men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ći broj podmeni stranica kojima će se pristupati iz generalne liste kategorija sa početne stra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ka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nije praktično zatrpati početnu stranicu sa desetinama linkova – povećava se vreme učitavanja stranice, kao i sama kompleksnost što može odbiti same korisnik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ealizacija podmeni stranica za svaku temu dovodi do kreiranja mini-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e page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 svaku temu saj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Za specijalizovane, detaljne podmenije, česti korisnici se mogu uputiti d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utomatsku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istupaj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Na ovaj način podmeniji postaju alternativne početne stranice orijentisani ka specifičnim korisnici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eba uključiti osnovni skup linkova na ostale delove sajta na svakoj stranici podmenija, i uvek uključiti i link ka glavnoj početnoj str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www.b92.net/spor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Menij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82" name="" descr="Screen shot: Yale-New Haven Hospital home page and two internal menu pages"/>
          <p:cNvPicPr/>
          <p:nvPr/>
        </p:nvPicPr>
        <p:blipFill>
          <a:blip r:embed="rId1"/>
          <a:stretch/>
        </p:blipFill>
        <p:spPr>
          <a:xfrm>
            <a:off x="1295280" y="1981080"/>
            <a:ext cx="5257800" cy="46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859320"/>
            <a:ext cx="8348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Lista resurs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Kada se počne realizacija sajta, početna stranica je obično kolekcija najvažnijih linkova ka sajtovima povezanim preko profesije, industrije ili nekog drugog interes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Kod sajtova organizacija ili institucija, dobro organizovana stranica tipa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"Other useful sites" 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može biti najvredniji i najčešće korišćeni resurs od strane korisnika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Tre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noge prezentacije ove vr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 pretpostavljaju vreme korišćenja od 1h ili manj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ukid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nj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sesij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ba navesti korisniku koliko traje sesija, koliko je preostalo vremena do njenog kraja i upozoriti ga da ne bude preopširan u radu sa ponuđenim materijali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za logovanje i da nude pitalice u formatu tačno-netačni ili izbora između ponuđenih odgovor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Registracija korisnika i rezultati na pitalicama se zapisuju u baze podataka koje su povezane sa datim saj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putstvo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štampani medij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-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velič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knjige ili magazina može oceniti koja količina informacija se sadrži unu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Web sajtovi daju nekoliko eksplicitnih  informacija o dubini prezentovanja obrađenog sadrža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ve informacije su posebno bitne, ako početna stranica ne sadrži detaljnu listu unutrašnjih linko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cije pretrage ne mogu zameniti definisan, dobro organizovan opis sadržaja samog sajt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mehanizam najboljih opcija za pretragu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relativno neinteligentan i samo preko nekoliko određenih parametara pruža informaciju o prisoritetu, relevantnosti i međusobnim relacijama, informacionih resursa na sajtu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Verdana"/>
              </a:rPr>
              <a:t>Sadržaj ili indeksi sajta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ednostavan i efikasan način da se korisniku predstave namere, organizacija i sam sadržaja saj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o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su konvencije iz štampanih medija, korisnici ih razumeju  i podržavaju preglede, perspektive i efikasnu navigaciju koju n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Glavna razlika je da Web indeksi zahtevaju da ne budu složeni i detaljni kao oni iz knjiga, jer korisnik pomoću alata za pretragu može da nađe referencu za svaku nepoznatu reč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ndeksi na Web sajtu treba da ukažu na n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važnija i najkorisnija pojavljivanja definisane reči i da zanemare nevažne referenc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Verdana"/>
              </a:rPr>
              <a:t>Sadržaj ili indeksi sajta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390" name="3.37" descr="Screen shot: IKEA site index"/>
          <p:cNvPicPr/>
          <p:nvPr/>
        </p:nvPicPr>
        <p:blipFill>
          <a:blip r:embed="rId1"/>
          <a:stretch/>
        </p:blipFill>
        <p:spPr>
          <a:xfrm>
            <a:off x="1523880" y="1828800"/>
            <a:ext cx="4800600" cy="4129200"/>
          </a:xfrm>
          <a:prstGeom prst="rect">
            <a:avLst/>
          </a:prstGeom>
          <a:ln w="0">
            <a:noFill/>
          </a:ln>
        </p:spPr>
      </p:pic>
      <p:pic>
        <p:nvPicPr>
          <p:cNvPr id="391" name="newwind" descr=""/>
          <p:cNvPicPr/>
          <p:nvPr/>
        </p:nvPicPr>
        <p:blipFill>
          <a:blip r:embed="rId2"/>
          <a:stretch/>
        </p:blipFill>
        <p:spPr>
          <a:xfrm>
            <a:off x="0" y="538812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10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00" y="4838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38200" y="6125400"/>
            <a:ext cx="33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ikea-usa.com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pa saj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apa sajta pruža korisniku pregled sadržaja sajta, i mogu se organizovati na dva načina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grafički dijagrami koji opisuju sadržaj ili organizovana lista linkova na glavne delove sajta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fičke mape sadržaja velikih i kompleksnih sajtova su u najboljem slučaju metafore koje opisuju samo gflavne teme sadržaja sajta. Sam ekran je limitiranog prostora, pa grafička prezentacija tži da pojednostavi i zanemari hijerarhiju informacija. Rezultat je potrošeno vreme na realizaciju grafičkih elemenata i prikaz samo osnove sajta. Sve dok se na sajtu koriste informacije koje nisu vizuelne (skup mapa na primer), tekst-bazirani sadržaji ili indeksu su efikasniji i sa više informacij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rafičke mape sajta su u većini slučajeva kompleksni grafički fajlovi, koji manje trpe eventualne izme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ajlovi za grafičke mape sajta su veliki i sporije se učitavaj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pa saj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pe sajta zasnovane na brižljivo organizovanim tekst linkovima glavnih meni  i podmeni stranica sa naslovima glavnih stranica su sa mnogo više informacija i sa jednostavnijim načinima promene sadrža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 najefikasniji tekstualne mape sajta su samo proširene verzije sadrža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kve elemente, korisnici bolje razumeju i koris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pa saj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3.38" descr="Screen shot: Bitstream site map"/>
          <p:cNvPicPr/>
          <p:nvPr/>
        </p:nvPicPr>
        <p:blipFill>
          <a:blip r:embed="rId1"/>
          <a:stretch/>
        </p:blipFill>
        <p:spPr>
          <a:xfrm>
            <a:off x="1676520" y="182880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401" name="newwind" descr=""/>
          <p:cNvPicPr/>
          <p:nvPr/>
        </p:nvPicPr>
        <p:blipFill>
          <a:blip r:embed="rId2"/>
          <a:stretch/>
        </p:blipFill>
        <p:spPr>
          <a:xfrm>
            <a:off x="0" y="5283360"/>
            <a:ext cx="152280" cy="1332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0" y="11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00" y="47336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69240" y="612540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ww.bitstream.com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Verdana"/>
              </a:rPr>
              <a:t>Bibliografija i dodaci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oncept dokumenata u elektronsko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kruženju kao što je Web, je fleksibilno, pa ekonomski i logistički apsekti digitalnog izdavanja omogućavaju pruzžanje informacija bez trošaka vezanih za štampanje samih dokumenat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štampanje po jedne kopije za svakog, i praktično dovodi do toga da papirni izveštaji budu koncizni i sa limitiranim materijalom za podršku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Bibliografija, dodaci i apendiksi se zato u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to u osnovni dokument, mogu postaviti na Web sajt i na taj način dostupni svakome ko želi da ih pogleda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Verdana"/>
              </a:rPr>
              <a:t>FAQ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Q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li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"frequently asked questions"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tran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-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gde su prikazana najčešće postavljena pitanja od strane korisnika sa datim odgovorim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Q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trane su idealne za sajtove koji su dizajnirani za potrebe podrške ili informacija određenoj radnoj grupi korisnik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noga pitanja od novih korisnika su u prošlosti često postavljena i na njih su davani odgovo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obro dizajnirana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Q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tranica može povećati korisnikovo razumevanje informacija i ponuđenog servisa, pa 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njiti pritisak na tim za podršk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Tre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5410080"/>
            <a:ext cx="9144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info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2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3"/>
              </a:rPr>
              <a:t>med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4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5"/>
              </a:rPr>
              <a:t>yale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6"/>
              </a:rPr>
              <a:t>.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7"/>
              </a:rPr>
              <a:t>edu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8"/>
              </a:rPr>
              <a:t>/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9"/>
              </a:rPr>
              <a:t>caim</a:t>
            </a:r>
            <a:r>
              <a:rPr b="0" lang="sr-CS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0"/>
              </a:rPr>
              <a:t>/</a:t>
            </a:r>
            <a:r>
              <a:rPr b="0" lang="en-GB" sz="28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1"/>
              </a:rPr>
              <a:t>hh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3.14" descr="Screen shot: Laboratory Safety Training page"/>
          <p:cNvPicPr/>
          <p:nvPr/>
        </p:nvPicPr>
        <p:blipFill>
          <a:blip r:embed="rId12"/>
          <a:stretch/>
        </p:blipFill>
        <p:spPr>
          <a:xfrm>
            <a:off x="1066680" y="2133720"/>
            <a:ext cx="5886720" cy="3230280"/>
          </a:xfrm>
          <a:prstGeom prst="rect">
            <a:avLst/>
          </a:prstGeom>
          <a:ln w="0">
            <a:noFill/>
          </a:ln>
        </p:spPr>
      </p:pic>
      <p:pic>
        <p:nvPicPr>
          <p:cNvPr id="224" name="newwind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0" y="2481120"/>
            <a:ext cx="152280" cy="1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Obuča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rog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central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kontrolu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ali i više mogućnosti za digresij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je koje se prikazuju su zahtevnije i traže više predznanja nego što je slučaj kod aplikacija za trenin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ko postoje linkovi na Web-bazirane resurse izvan datog sajta, trebalo bi takve linkove grupisati na odvojene stranice, izvan samog materijala koji se prezentu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nud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printing" verzije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više stranica sa jednom temom u jednu dugačku stranicu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Obučav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-304920" y="6324480"/>
            <a:ext cx="9144000" cy="8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  <a:hlinkClick r:id="rId1"/>
              </a:rPr>
              <a:t>www.dartmouth.edu/~chemlab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3.15" descr="Screen shot: ChemLab Techniques page"/>
          <p:cNvPicPr/>
          <p:nvPr/>
        </p:nvPicPr>
        <p:blipFill>
          <a:blip r:embed="rId2"/>
          <a:stretch/>
        </p:blipFill>
        <p:spPr>
          <a:xfrm>
            <a:off x="1905120" y="1828800"/>
            <a:ext cx="428616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1143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newwind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152280" cy="13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02:38:40Z</dcterms:created>
  <dc:creator>Bosko</dc:creator>
  <dc:description/>
  <dc:language>en-US</dc:language>
  <cp:lastModifiedBy>Administrator</cp:lastModifiedBy>
  <dcterms:modified xsi:type="dcterms:W3CDTF">2006-03-19T13:30:44Z</dcterms:modified>
  <cp:revision>63</cp:revision>
  <dc:subject/>
  <dc:title>Internet</dc:title>
</cp:coreProperties>
</file>