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A78-DB7C-4B33-9914-86431EE7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533-43B8-4FBC-8285-FBAB1EE5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A388-D81E-4DC5-AE53-B9376701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03CA-490D-4256-83AC-2CAEB619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1ADC-C6D1-40D6-8339-5EA9FF80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539-D3C9-4B6E-8A38-A56E5570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C43D-3AC2-4CBB-A844-9B427B4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4863-6574-4FA9-8135-23528860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D1F-75DC-4614-AD93-57C5FD2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D66C-565D-452F-94CF-5DA20E7C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EDD9-5389-4BDA-B1C2-0BB6C984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4F1-B3BD-473E-9651-3E91DF03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F593-514B-4D06-8825-5F6B7B1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81D-3DD8-4FA2-A91E-DA9672B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5AB0-4359-4CF2-82FB-815F9DE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EAA0-1214-4AE5-9F69-B62704DE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7755-9B85-4292-92ED-C45B6EB0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4EC-20D9-4E89-B32B-2E61E575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B83-5766-41C7-BEDB-AFDEE9EC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0C7-AC44-479A-BA31-E0B5205A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611-3763-4FC9-AB7B-1719AFCA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69B-C80F-47DF-9DDC-2E62FF11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27F-BAA0-4C0E-9D28-86F58EE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4A7-7F81-4B28-9B7A-9D8A554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70BF-0F98-4C87-907C-97447308110D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E673-6F22-4AD2-ACA3-5F6E3A77D272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3274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3366"/>
                </a:solidFill>
                <a:latin typeface="Times New Roman"/>
              </a:rPr>
              <a:t>GRAFIČKI DIZAJ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Kontr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84872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Vizuelne promenlj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st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za komunikaciju, kodiranje podataka i crtanje razlika između vizuelnih elemena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 nego što se izabere određena promenljiva da bi se nešto iskazalo, mora se ispitati da li je tražena karakteristika podržana korišćenom tehnologijom i uspostavljenom komunikacijo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mperatura se može iskazati brojem, pozicijom na skali, bojom indikatora, ikonom i svaki izbor će se odraziti na korisnikov prijem poslate poruk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kal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ve karakteristike vizuelnih promenljivih su skala i dužina ska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minalna skala je samo lista kategorija.  Pomoću ove skale moguće je samo izvršiti poređenje jednakosti. Različite vrednosti se ne mogu porediti. Primer je promenljiva oblik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bojenost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je nominalna veličina, jer je perceptualn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ređena skala definiše poredak vrednosti promenljivih. Pozicija, veličina, vrednost, i u nekim slučajevima tekstura su uređeni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kal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a kvantitativnim promenljivama, može se primetiti mera razlike u okviru poređe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ozicija je kvantitativna, jer se za svake dve tačke na grafu može reći koja je iznad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eličina je takođe kvantitativna, ali se mnogo preciznije definiše u slučaju da je jedna dimenzija (dužina), nego dve (površina)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Dužina promenlj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užina promenljive je broj različitih vrednosti koje se mogu definisati nad njo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oblik se može definisati skoro beskonačan broj oblika, pa je dužina ove promenljive veoma velika, ali nominal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rijentacija je veoma male duži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užine ostalih promenljivih su negde između ovih ekstremnih vrednosti, sa najmanje 10 različitih nivoa predstave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elektivno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ktivnost je stepen sa kojim se pojedinačna vrednost promenljive može selektovati iz ulaznog vizuelnog polj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 promenljivih je selektivno: na primer odjednom se može raspoznati zeleni objekat ili širok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ik generalno nije, teško je prepoznati trougao između većeg broja kvadrat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elektivno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Selektivno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naći sva slova na desnoj polovini stranice (pozicij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naću sva crvena slova (jačina boj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naći svako pojavljivanje slova K (oblik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rz odgovor na postavljeno pitanje odgovara selektivnoj promenljivoj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Asocijativno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cijativnost se odnosi na mogućnost da korisnik ignoriše pojedine promenljive u trenutku kada se usredsredi na drug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nljive sa slabom asocijativnošću su u podređenom položaju u odnosu na druge vizuelne dimenzij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ocijativne su pozicija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bojenos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rednost, tekstura, oblik, orijentaci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asocijativne veli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ina 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ačin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kav zaključak se može dobiti i ako se posmatraju objekti male veličine i slabe jačine boj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Asocijativno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25780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im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4876560" cy="26035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46280" y="4527720"/>
            <a:ext cx="69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46483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jt kompanije Midwest Microwa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ada korisnik želi da pogleda katalog proizvo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ruka se pojavljuje pre pojave samog kataloga i objašnjava probleme pri korišćenju samog katalo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Izb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718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ebno je izabrati pravu vizuelnu promenljiv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kontrast 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datak koji se prikazuje korisniku i zadatak koji korisnik obavlja za podatko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erahija sadržaja teksta: naslov, odeljak, sekcija, običan tekst, fusnot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atak zahteva uređenu vizuelnu promenlji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lne promenljive kao što je oblik (vrsta fonta), ne može samostalno izraziti željenu poruk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s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še nezavisnih dimenzija podataka u isto vreme (graf koji koristi veličinu, poziciju, i boju za tačke koji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tavljaju različite vrednosti podatka)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ekti asocijativnosti i selektivnosti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Izb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se izabere promenljiva, potrebno je koristiti što više dužinu promenlj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znaje se minimum i maksimum veličine koja će se koristiti, i tada se istraži ceo opse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bi se primenio i princip jednostavnosti potrebno je koristiti što manje diskretnih vrednost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oziciju, može se primeniti na punu širinu prozora, za veličinu najmanje i najveća veličina određenog objekt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Izb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realizaciju susednih nivoa neke promenljive bolje je koristiti multiplikativno skaliran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vaka sledeća veličina je 1.5 do 2 puta veća od prethodn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go aditivno skaliranj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sedni nivoi se razlikuju za 5 pikse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že se koristiti i redudantno kodiranje kod određenih vizuelnih promenljivih da bi se posebno istakli određeni objekti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lov dokumenta nije samo veći od ostalog teksta (veličina), već je i centriran (pozicija), boldovan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ačin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 može biti prikazan drugom bojom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Izb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jačane razlike mogu biti korisne, posebno kod korišćenja slik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ori animiranih filmova koriste takođe ovu osobinu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vaj način objektu se mogu dati uveličane proporcije da bi se lakše uočio na ekran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Izb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avan test može demonstrirati efekte kontrasta koji su primenjeni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zatvoriti jedno oko i gledati na drugo i na taj način poremetiti uobičajeni fokus posmatranj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 pojedinosti koje su tada primetne, uočiće i korisnik pri površnom posmatranju interfejs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azan pros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zan prostor ima najbitniju ulogu u kompozicij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ar dizajn znači balans između potrebe za praznim prostorom i želje da se prikaže što više informaci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ostatak praznog prostora dovodi do ozbiljnog bočnog efekta, i otežanog posmatranja ekra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postaviti margine oko samog sadržaja. Labele i kontrole koje su preblizu krajevima ekrana se sporije skroluju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azan pros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da je objekat okružen praznim prostorom, potrebno je zadržati proporciju između objekta (figure) i okruženj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treba preterivati pri grupisanju kontrol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sto takav dizajn dovodi do neželjenih vizuelnih efekata kada se dve linije (na primer ivice tekst polja) prebliz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ga GUI okruženja ohr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ju ovakav način rad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va Swing tehnologija koja dozvoljava da se definišu prazne margine kontrolama i time im omogućiti pristojan dizajn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azan pros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24852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azan pros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postoje margine oko iv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role su preblizu i linije se koriste za grupisanj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kav dizajn dovodi do neželjenih efekata, kao što je primer Spacing tekst polja i linije koja ih okružuj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oliko piksela praznog prostora između njih, eliminisao bi ovaj problem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azan pros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708660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im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pterećivati korisnika detaljima. Na prozoru nije naznačeno šta je bitno, a šta nije. (minimalan dizaj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uspešan layout: nema paragrafa, nema naslova, nema praznog prostora (estetski dizaj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e postoji pokušaj da se materijal organizuje u podteme, tako da može brzo da se pregleda i da korisnik preskoči stvari koje već poznaje (fleksibilnost i efikasnos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ve informacije su beskorisne i ne pomaže korisniku pre nego što ne počne sa pregledanjem kataloga (pomoć i dokumentacij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azan pros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no korišćenje praznog prostora se može dobiti poravnanjem labela uz leu marginu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er a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 (Source 1, Mask, ...) nisu poravnate, već su korišćene linije da bi se odvojile vrednosti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zajnirana verzija u primeru b dovodi do mnogo efikasnij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gleda istih label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Gastelt principi grupisanja</a:t>
            </a:r>
            <a:r>
              <a:rPr b="0" lang="en-GB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Bliskost – elementi koji su bliži jednostavnije se  grupiš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ednostavnost – elementi koji imaju slična svojstva jednostavnije se grupiš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Kontinuitet – oko očekuje da kontura bude kontinualan objekat. Mi u primeru razumemo da su se dve linije presekle, a ne da su se četiri linije susrele u jednoj tačk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Gastelt principi grupisan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Kompletnost – oko očekuje da vidi kompletnu, zatvorenu figuru, čak i kada neke linije nedostaju. U primeru vidi se trougao u centru, iako mu ivice nisu komplet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stor – kada se dva elementa preklapaju, manji će biti shvaćen kao figura ispred veće površ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etrija – oko daje prednost objektima koji su simetrični. U primeru vide se dva kvadrata koji se preklapaju, a ne tri odvojena poligona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  <a:ea typeface="Times New Roman"/>
              </a:rPr>
              <a:t>Gastelt principi grupisan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47712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azan prosto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46784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Bal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s i simetrija su važni alati u realizaciji dizajn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grafičkom dizajnu, simetrija retko znači detaljnu ekvivalenciju (kao original i lik u ogledalu)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ta količina elemenata na svakoj strani simetričnih površin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 pojmom elementa se misli i na ne-bele piksele i prostor pokriven ovim pikseli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dna i druga površina bi trebalo da budu balansirane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Bal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791320" cy="38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Bal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stavan način da se postigne balans je da se centriraju elementi u okviru prozor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omatski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iže balans oko vertikalne os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gl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ni element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ruš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u simetriju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cij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vanced search, Perferences, Language Tool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 mala neregularnost dovodi do toga da se ove tri opcije blago istaknu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oravn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va dizajna je da se elementi poravnavaju horizontalno i vertikalno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avnanje doprinosti jednostavnosti dizajn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pozicija za poravnanje znači i jednostavniji dizajn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oravnanj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4419360" cy="40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im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ati prozor je alert – to je modalan dijalog, sve informacije će nestati kada korisniku stvarno budu potrebne (minimizovanje korišćenja memorij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Koriste se tehnički termini kao što je V.90 modem (govoriti korisnikovim jezik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avedeno je da se pojedinačne stavke učitavaju sa odzivom: 20-60 sekundi, što je sporo (korisnička sloboda i kontro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 prvoj rečenici je navedeno “out catalog” umesto “our catalog” (govoriti korisnikovim jezikom, ali pravilno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oravnanje - labe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oje dve škole mišljenja o poravnanju label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a smatra da leve ivice labela treba da budu poravn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ga smatra da poravnate treba da budu desne ivi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sva istraživanja i eksperimenti nisu pronašli značajnu razliku u rezultatima ova dva pristup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bolji rezultati će se postići ako su labele iste veličine i ako su dugačke labele podeljene u više linij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oravnanje - kontro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lona kontrola bi trebalo da bude poravnata i po desnoj i po levoj ivici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ada ovo zvuči nerazumno – trebalo bi da kratko polje za datum bude iste veličine kao i polje za ime i prezime korisnik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ta se ne narušava, ako polje za datum bude veće nego što jepotrebno, izuzev možda ako se definiše tačno definisani format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ranžira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oravnanje - kontro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le i kontrole u istom redu treba da dele istu srednju liniju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na mreža je takođe efektna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ža sa istom širinom kolona, čime se automatski dobija i poravnanje i bala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ledećem primeru se koristi mreža sa četiri kolone, izuzev tri dugmeta u dnu, čime je istaknuta (uz minimalan prazan prostor od ostatka prozora) njihova uloga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oravnanje - kontro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486400" cy="38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incip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jednostavn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a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razan pros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bal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poravnanj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rinc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</a:t>
            </a: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pi jednostavnost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"Less is more", "Perfection is achieved not when there is a nothing more to add, but when there is nothing left to take away", "Keep it simple, stupid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va osobina je u suprotnosti sa ostalim fazama dizajna kada dizajner dodaje nove i nove opcije "da se nađu"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a bi se primenio i ovaj princip mora se imati dobar razlog za svaki element koji se dodaj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Tehn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ukcija – eliminisati sve što nije neophodno.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ri koraka: odlučiti šta je osnovna potreba samog dizajna, kritički ispitati svaki element, ukloniti sve što nije neophodno.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stirati dizaj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klon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neki element koji je procenjen kao neophod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mbinovanje elemenata –dugme za scroll, window title b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Tehnik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regularnost – za elemente koji su ostali minimizovati razlike. Koristiti iste fontove, boje, debljine linija, dimenzije, 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05120" y="4114800"/>
            <a:ext cx="548640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Kontr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datna vizuelna dimenzija, kao što su  boja ili veličin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zlik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u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itn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ast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ira da je prihvatljiv samom zadatku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zlik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između v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zuelnih dimenzij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zueln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promenljiv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e: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jačina, obojenost, tekstura, pozicija, oblik, orijentacija i veličin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bojenos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je sa čistom bojom, dok j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va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vrednost jačina izabrane boje.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02:38:40Z</dcterms:created>
  <dc:creator>Bosko</dc:creator>
  <dc:description/>
  <dc:language>en-US</dc:language>
  <cp:lastModifiedBy>pcshop</cp:lastModifiedBy>
  <dcterms:modified xsi:type="dcterms:W3CDTF">2006-06-03T21:53:51Z</dcterms:modified>
  <cp:revision>56</cp:revision>
  <dc:subject/>
  <dc:title>Internet</dc:title>
</cp:coreProperties>
</file>