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52D0-780E-48BD-B5EB-CCED472F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AD23-06ED-4040-8E9C-E20EE780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7D95-A90B-4596-B1E9-BC0BA8A0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613-97AE-4BC3-A452-DE542005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938-31CE-4E5E-9B2E-B7263680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BAD-F89A-45A0-87A2-18DAAD0E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5C1-70FC-4FD1-8975-BF485FF1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E16-E319-486D-BB0E-216C57A7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ECD2-D68B-49B3-AA36-B348D975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BB09-DE18-428E-839F-048E5E32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870C-0061-4CBC-B7BA-29337534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ED1-9613-4A38-B398-4C0B5F17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494C-F9E2-427F-B30D-C03B5DE1C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848720" cy="48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rot="5400000">
            <a:off x="2057400" y="-304560"/>
            <a:ext cx="5105160" cy="76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934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239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077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5400000">
            <a:off x="2247840" y="-647640"/>
            <a:ext cx="48006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84872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CAJ PRENOSA NA VELIKA RASTOJANJ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cilova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746784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772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54380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1:56:49Z</dcterms:created>
  <dc:creator>Korisnik</dc:creator>
  <dc:description/>
  <dc:language>en-US</dc:language>
  <cp:lastModifiedBy>Korisnik</cp:lastModifiedBy>
  <dcterms:modified xsi:type="dcterms:W3CDTF">2006-12-27T14:17:48Z</dcterms:modified>
  <cp:revision>49</cp:revision>
  <dc:subject/>
  <dc:title>Model telekomunikacionog kanala</dc:title>
</cp:coreProperties>
</file>