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5EEF-4140-4194-8832-8A877805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34C-1CC2-4259-AADF-A68588B7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2D3-1DA9-41E7-9907-3342EC26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48E-DAA3-40D8-A5D8-1766A90D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FE8E-3357-4332-83AC-A7FAB837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236F-55EC-4A84-B80B-E7BA7B7F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5476-17ED-40DF-93D0-049A6EBE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CD8C-47ED-4FBA-85FE-31A5026C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E8FD-BBA9-46B2-9C53-A54DDEBC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2B16-AA92-4D8D-85D4-ECAF0A8D1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0B58-8ED6-43DA-B0D7-1BFC0A9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D84-1C05-4D5A-B688-01FD991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A4CA-0E53-41D6-A806-856BBC1B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EDCF-4F8B-44E1-B297-C988A47A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F92C-D8FF-4440-A581-215D001E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A19A-58B1-4990-9185-CDB15A17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C1BA-58DE-41F1-80F7-03DC6EEE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448-455E-4B76-8956-C00CEA69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D47-227A-468C-80CB-9D0CEAC0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868-7D25-4545-A81A-D636440C7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725-C794-48CA-A1E7-E26630F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F1A-72A1-4489-81ED-9A7F7DD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9B5-718A-405D-AC0D-408DEA9C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38D8-8880-4852-BCCD-91C0DC3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9E56-7011-4B1C-AB5D-250873CB40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776-43FB-46CA-B134-AA0C46FA1F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Bežične sredine za pren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o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no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bodni pro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e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m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Skeniranje sa proredo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61930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PAL – tehnički parametri vide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625 linija, skeniranje s  pror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ijska frekvencija 15625 Hz; frekvencija poluslike 50 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mračenje: 75% vršne snage nosi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ivo crnog: 3-6,5% snage nosioca od nivoa zamra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ršni nivo belog: 10-12,5% snage nosi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dulacija: negativna AM-N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PAL – tehnički parametri aud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x izračena snaga je 20% vršne snage v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emfazis i deemfaz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PAL - spekt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ina kanala 7 ili 8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ina spektra videa: 5; 5,5 ili 6 M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irina spektra audija: 10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osilac slike na 1,25 MHz od donje granice ka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remenski oblik PAL signal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2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cept mobilne mre</a:t>
            </a: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ž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38020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Model ćelijskog pokrivan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79520" y="1557360"/>
            <a:ext cx="51008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Dodeljivanje frekvencij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383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Prostiranje radio-talasa u urbanim uslovim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723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Konstruktivna i destruktivna interferencij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8000" y="2333520"/>
            <a:ext cx="88930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Radio pren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ra da postoji element koji električni signal pretvara u signal za bežični prenos. Ti elementi se nazivaju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nten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račeći element efikasno zrači ukoliko je njegova dimenzija reda talasne dužine signala koji se zra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ća frekvencij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manja talasna dužina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manja dimenzija ant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Nivo polja u urbanim uslovi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2468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Višestruki prist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29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tandardi za mobilne siste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40872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5484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SM – TDMA+FDM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59456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GSM - frekvenci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4319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 sist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link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Hz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Hz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M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-9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-9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M 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0-17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5-18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M 1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0-19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0-1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GSM – struktura okvi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68400" y="1465200"/>
            <a:ext cx="74912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ndard za bežične telef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seg: 1880 MHz – 1900 MHz (Evro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diranje govora: ADPCM, 32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dulacija: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tok na kanalu: 1152 k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rajanje okvira: 10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račena snaga slušalice: max 250 mW, prosečno 10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Prostiranje radio-talas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497800" cy="2011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3527280" cy="1133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43280" y="3789360"/>
            <a:ext cx="34560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Radio i optički horizo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7756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Podela RF spektr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30 KHz mirijametarski VLF (radio-navigacija i pomorske ve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-300 KHz kilometarski LF (radio-navigacija i pomorske ve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0-3000 KHz hektometarski MF (AM radio, aeronautičke ve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30 MHz dekametarski HF (pomorske mobilne, aeronautič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-300 MHz metarski VHF (zemaljske mobilne, FM radio, TV difuz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0-3000 MHz decimetarski UHF (TV, zemaljske mobilne, satelits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-30 GHz centimetarski S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-300 GHz milimetarski E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00-3000 GHz decimilimetar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Mikrotalasni opsez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-2 GHz – L (radio, navigac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-4 GHz – S (fiksni satelitski, istraživanja kosm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-8 GHz – C (fiksne satelitske, meteorološ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8-12 GHz – X (fiksne satelitske, kosm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2-18 GHz – Ku (mobilne i fiksne satelitske, difuz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8-27 GHz – K (mobilne i fiksne satelitske, difuzi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7-40 GHz – Ka (međusatelits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40-300 GHz – (ispitivanje kosmosa, satelits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Mikrotalasni RR si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5520" y="2281320"/>
            <a:ext cx="8832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Struktura krajnje sta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71640" y="1484280"/>
            <a:ext cx="36846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Arial"/>
              </a:rPr>
              <a:t>Struktura relejne stani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27280" y="1700280"/>
            <a:ext cx="40863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08:57:44Z</dcterms:created>
  <dc:creator>milan</dc:creator>
  <dc:description/>
  <dc:language>en-US</dc:language>
  <cp:lastModifiedBy>KatTel</cp:lastModifiedBy>
  <dcterms:modified xsi:type="dcterms:W3CDTF">2006-12-20T11:57:45Z</dcterms:modified>
  <cp:revision>6</cp:revision>
  <dc:subject/>
  <dc:title>Bežične sredine za prenos</dc:title>
</cp:coreProperties>
</file>