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BC8-7DE0-48B9-A44C-42632175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530-A8C5-43D4-844C-D6F70B10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E15-214C-4AC9-BAEC-43BB749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BFE3-56A3-43DE-A4BF-A9CA5AD2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4A0-DEB1-4CC3-8EBD-E60A05C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70B5-A034-43DA-A9A9-2CF79D7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8F0-2C68-46BD-A6FD-B78DBA83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ABC1-69AB-4F53-BD06-845D7BFD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0E9-E63D-4E54-AE6A-08038CC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983-8A69-4E8E-B771-23BBB2C4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606-A4BA-44DB-A036-377A8C8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F515-4F66-423A-AA40-BCD6A7F2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0728-E01E-418C-842B-96CC11973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 multipleksir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066680" y="1760400"/>
            <a:ext cx="7543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Бинарна фазна модул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1722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нарна фреквенцијска модул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66680" y="210996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вадратурна амплитудска модул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0673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ktar TV sig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400480" y="241776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ncip frekvencijske raspodele kan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00480" y="2417760"/>
            <a:ext cx="434340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kvencijska raspodela kan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ultipleksir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153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ks po talasnim du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a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71680" y="2106720"/>
            <a:ext cx="61992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ncip vremenskog multiple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2880" y="1947960"/>
            <a:ext cx="805644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Дигитални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тинуални носилац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Напоменули смо да модулација укључује операцију над једном (или више) од три карактеристике носећег сигнала: амплитудом, учестаношћу и фазом. Према томе постоје три основне технике  модулације з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нос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дигиталних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гнала модулисаним носиоцем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-арна амплитудска модулациј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plitude Shift Ke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-арна фреквенцијска модулациј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SK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quency - Shift Ke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-арна фазна модулациј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K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ase - Shift Key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свим овим случајевим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ктар модулис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игна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узима опсег око учестанос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носио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Бинарна амплитудска модул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7816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1:56:49Z</dcterms:created>
  <dc:creator>Korisnik</dc:creator>
  <dc:description/>
  <dc:language>en-US</dc:language>
  <cp:lastModifiedBy>Korisnik</cp:lastModifiedBy>
  <dcterms:modified xsi:type="dcterms:W3CDTF">2006-11-29T11:46:00Z</dcterms:modified>
  <cp:revision>13</cp:revision>
  <dc:subject/>
  <dc:title>Model telekomunikacionog kanala</dc:title>
</cp:coreProperties>
</file>