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1.png" ContentType="image/png"/>
  <Override PartName="/ppt/media/image6.wmf" ContentType="image/x-wmf"/>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22.wmf" ContentType="image/x-wmf"/>
  <Override PartName="/ppt/media/image10.png" ContentType="image/png"/>
  <Override PartName="/ppt/media/image21.wmf" ContentType="image/x-wmf"/>
  <Override PartName="/ppt/media/image19.wmf" ContentType="image/x-wmf"/>
  <Override PartName="/ppt/media/image1.wmf" ContentType="image/x-wmf"/>
  <Override PartName="/ppt/media/image18.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20.jpeg" ContentType="image/jpeg"/>
  <Override PartName="/ppt/media/image7.wmf" ContentType="image/x-wmf"/>
  <Override PartName="/ppt/media/image8.png" ContentType="image/png"/>
  <Override PartName="/ppt/media/image1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1D3EB-94C8-414C-98B4-77E8C77FE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0B9A2-E758-4FF9-A671-0C7C8C794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06E76-28A3-47C6-B6DE-897D39618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EA5E4-9A67-4324-9B0A-BCC24DFC11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F1613-A0A2-4B77-AE6F-078CCFF8B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ABB6C-56E3-4DF3-9FB2-552E075A8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759D3-80ED-4DD3-9F18-5A5707A4E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A83C0-9240-450E-8487-071789BBB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35DE5-5E97-4349-9F17-5325D877D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156D3-6EC1-4659-A390-4880326A6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0CE35-3CB4-49CA-9363-80EC92150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1F910-F983-4D9D-994D-2B567BF2C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5C32-0950-4625-973D-F1B077E342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6.wmf"/><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MI</a:t>
            </a:r>
            <a:endParaRPr b="0" lang="en-US" sz="4400" spc="-1" strike="noStrike">
              <a:solidFill>
                <a:srgbClr val="000000"/>
              </a:solidFill>
              <a:latin typeface="Arial"/>
            </a:endParaRPr>
          </a:p>
        </p:txBody>
      </p:sp>
      <p:graphicFrame>
        <p:nvGraphicFramePr>
          <p:cNvPr id="42" name=""/>
          <p:cNvGraphicFramePr/>
          <p:nvPr/>
        </p:nvGraphicFramePr>
        <p:xfrm>
          <a:off x="1131840" y="1687680"/>
          <a:ext cx="6880320" cy="4349520"/>
        </p:xfrm>
        <a:graphic>
          <a:graphicData uri="http://schemas.openxmlformats.org/presentationml/2006/ole">
            <p:oleObj r:id="rId1" spid="">
              <p:embed/>
              <p:pic>
                <p:nvPicPr>
                  <p:cNvPr id="43" name="" descr=""/>
                  <p:cNvPicPr/>
                  <p:nvPr/>
                </p:nvPicPr>
                <p:blipFill>
                  <a:blip r:embed="rId2"/>
                  <a:stretch/>
                </p:blipFill>
                <p:spPr>
                  <a:xfrm>
                    <a:off x="1131840" y="1687680"/>
                    <a:ext cx="6880320" cy="434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asivne optičke mreže</a:t>
            </a: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Jedna pasivna optička mreža sastoji se od optičkog završetka linije (OLT) i optičke mrežne jedinice (O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Naziva se </a:t>
            </a:r>
            <a:r>
              <a:rPr b="0" lang="en-US" sz="2000" spc="-1" strike="noStrike">
                <a:solidFill>
                  <a:srgbClr val="000000"/>
                </a:solidFill>
                <a:latin typeface="Arial"/>
              </a:rPr>
              <a:t>“pasivna”</a:t>
            </a:r>
            <a:r>
              <a:rPr b="0" lang="sr-Latn-CS" sz="2000" spc="-1" strike="noStrike">
                <a:solidFill>
                  <a:srgbClr val="000000"/>
                </a:solidFill>
                <a:latin typeface="Arial"/>
              </a:rPr>
              <a:t> jer se fizička veza između OLT i ONU, optička distributivna mreža (ODN), sastoji samo od pasivnih komponena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Jedan OLT tipično podržava do 32 ONU, a saglasno ITU preporukama željeni broj je do 64 ON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OLT se po pravilu nalazi u centru, gde se generišu servis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Lokacija ONU zavisi od scenarij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0" lang="sr-Latn-CS" sz="2000" spc="-1" strike="noStrike">
                <a:solidFill>
                  <a:srgbClr val="000000"/>
                </a:solidFill>
                <a:latin typeface="Arial"/>
              </a:rPr>
              <a:t>za FTTC scenarijo ONU se smeštaju u razdelniku, gde se optički signal konvertuje u električni radi prenosa koaksijalnim kablom do kuć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0" lang="sr-Latn-CS" sz="2000" spc="-1" strike="noStrike">
                <a:solidFill>
                  <a:srgbClr val="000000"/>
                </a:solidFill>
                <a:latin typeface="Arial"/>
              </a:rPr>
              <a:t>za slučaj FTTH , ONU se naziva ONT. Optički signal se prenosi od centra do lokacije korisnika (FT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Koristi se postupak vremenske raspodele kanala (TDM) ili frekvencijske raspodele kanala (FD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Raspodela kapaciteta u PON</a:t>
            </a:r>
            <a:endParaRPr b="0" lang="en-US" sz="4400" spc="-1" strike="noStrike">
              <a:solidFill>
                <a:srgbClr val="000000"/>
              </a:solidFill>
              <a:latin typeface="Arial"/>
            </a:endParaRPr>
          </a:p>
        </p:txBody>
      </p:sp>
      <p:graphicFrame>
        <p:nvGraphicFramePr>
          <p:cNvPr id="272" name=""/>
          <p:cNvGraphicFramePr/>
          <p:nvPr/>
        </p:nvGraphicFramePr>
        <p:xfrm>
          <a:off x="2733840" y="1604880"/>
          <a:ext cx="3674880" cy="4516560"/>
        </p:xfrm>
        <a:graphic>
          <a:graphicData uri="http://schemas.openxmlformats.org/presentationml/2006/ole">
            <p:oleObj r:id="rId1" spid="">
              <p:embed/>
              <p:pic>
                <p:nvPicPr>
                  <p:cNvPr id="273" name="" descr=""/>
                  <p:cNvPicPr/>
                  <p:nvPr/>
                </p:nvPicPr>
                <p:blipFill>
                  <a:blip r:embed="rId2"/>
                  <a:stretch/>
                </p:blipFill>
                <p:spPr>
                  <a:xfrm>
                    <a:off x="2733840" y="1604880"/>
                    <a:ext cx="3674880" cy="451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Servis lokalne višedifuzne raspodele - LMDS </a:t>
            </a:r>
            <a:br>
              <a:rPr sz="2000"/>
            </a:br>
            <a:r>
              <a:rPr b="0" lang="sr-Latn-CS" sz="2000" spc="-1" strike="noStrike">
                <a:solidFill>
                  <a:srgbClr val="000000"/>
                </a:solidFill>
                <a:latin typeface="Arial"/>
              </a:rPr>
              <a:t>(Local Multipoint Distribution Service)</a:t>
            </a:r>
            <a:endParaRPr b="0" lang="en-US" sz="2000" spc="-1" strike="noStrike">
              <a:solidFill>
                <a:srgbClr val="000000"/>
              </a:solidFill>
              <a:latin typeface="Arial"/>
            </a:endParaRPr>
          </a:p>
        </p:txBody>
      </p:sp>
      <p:graphicFrame>
        <p:nvGraphicFramePr>
          <p:cNvPr id="275" name=""/>
          <p:cNvGraphicFramePr/>
          <p:nvPr/>
        </p:nvGraphicFramePr>
        <p:xfrm>
          <a:off x="3227400" y="1600200"/>
          <a:ext cx="2685960" cy="4525920"/>
        </p:xfrm>
        <a:graphic>
          <a:graphicData uri="http://schemas.openxmlformats.org/presentationml/2006/ole">
            <p:oleObj r:id="rId1" spid="">
              <p:embed/>
              <p:pic>
                <p:nvPicPr>
                  <p:cNvPr id="276" name="" descr=""/>
                  <p:cNvPicPr/>
                  <p:nvPr/>
                </p:nvPicPr>
                <p:blipFill>
                  <a:blip r:embed="rId2"/>
                  <a:stretch/>
                </p:blipFill>
                <p:spPr>
                  <a:xfrm>
                    <a:off x="3227400" y="1600200"/>
                    <a:ext cx="268596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Servis lokalne višedifuzne raspodele - LMDS </a:t>
            </a:r>
            <a:br>
              <a:rPr sz="2400"/>
            </a:br>
            <a:r>
              <a:rPr b="0" lang="sr-Latn-CS" sz="2400" spc="-1" strike="noStrike">
                <a:solidFill>
                  <a:srgbClr val="000000"/>
                </a:solidFill>
                <a:latin typeface="Arial"/>
              </a:rPr>
              <a:t>(Local Multipoint Distribution Service)</a:t>
            </a:r>
            <a:endParaRPr b="0" lang="en-US" sz="2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očetkom 1998, FCC je raspisao konkurs za opseg od 28 GHz-31 GHz, za namene LM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ajveća primena je servis bežičnog videa i bežičnog pristupa Internet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otoci su reda 300 kb/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Servisima se pristupa na različite načine, ali nema lokalne komunikacije unutar siste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ogodan je za roaming servise jer su na raspolaganju unutar zone serv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Bežična LAN (Wireless LAN – WLAN)</a:t>
            </a:r>
            <a:endParaRPr b="0" lang="en-US" sz="2000" spc="-1" strike="noStrike">
              <a:solidFill>
                <a:srgbClr val="000000"/>
              </a:solidFill>
              <a:latin typeface="Arial"/>
            </a:endParaRPr>
          </a:p>
        </p:txBody>
      </p:sp>
      <p:graphicFrame>
        <p:nvGraphicFramePr>
          <p:cNvPr id="280" name=""/>
          <p:cNvGraphicFramePr/>
          <p:nvPr/>
        </p:nvGraphicFramePr>
        <p:xfrm>
          <a:off x="3014640" y="1600200"/>
          <a:ext cx="3113280" cy="4525920"/>
        </p:xfrm>
        <a:graphic>
          <a:graphicData uri="http://schemas.openxmlformats.org/presentationml/2006/ole">
            <p:oleObj r:id="rId1" spid="">
              <p:embed/>
              <p:pic>
                <p:nvPicPr>
                  <p:cNvPr id="281"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Bežična LAN (Wireless LAN – WLAN)</a:t>
            </a:r>
            <a:endParaRPr b="0" lang="en-US" sz="2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Bežični LAn je razvijen na osnovu Preporuke IEEE 802.11 komite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otoci su se uvećavali od 1MB/s, 2 Mb/s do 11 Mb/s, sa mogićim protokom do 100 Mb/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Raspoloživi opseg zavisi od rastojanja do taćke pristupa (access point), broja korisnika i opsega u kome sistem rad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imena je u objektima i površinama gde nije moguće ožičavanj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akođe, može se umrežavati kućna računarska oprema bez povezivanja žičnim kablovi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85" name=""/>
          <p:cNvGraphicFramePr/>
          <p:nvPr/>
        </p:nvGraphicFramePr>
        <p:xfrm>
          <a:off x="1117440" y="2073240"/>
          <a:ext cx="6907320" cy="3579840"/>
        </p:xfrm>
        <a:graphic>
          <a:graphicData uri="http://schemas.openxmlformats.org/presentationml/2006/ole">
            <p:oleObj r:id="rId1" spid="">
              <p:embed/>
              <p:pic>
                <p:nvPicPr>
                  <p:cNvPr id="286" name="" descr=""/>
                  <p:cNvPicPr/>
                  <p:nvPr/>
                </p:nvPicPr>
                <p:blipFill>
                  <a:blip r:embed="rId2"/>
                  <a:stretch/>
                </p:blipFill>
                <p:spPr>
                  <a:xfrm>
                    <a:off x="1117440" y="2073240"/>
                    <a:ext cx="6907320" cy="35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88" name=""/>
          <p:cNvGraphicFramePr/>
          <p:nvPr/>
        </p:nvGraphicFramePr>
        <p:xfrm>
          <a:off x="2674800" y="1600200"/>
          <a:ext cx="3792600" cy="4525920"/>
        </p:xfrm>
        <a:graphic>
          <a:graphicData uri="http://schemas.openxmlformats.org/presentationml/2006/ole">
            <p:oleObj r:id="rId1" spid="">
              <p:embed/>
              <p:pic>
                <p:nvPicPr>
                  <p:cNvPr id="289" name="" descr=""/>
                  <p:cNvPicPr/>
                  <p:nvPr/>
                </p:nvPicPr>
                <p:blipFill>
                  <a:blip r:embed="rId2"/>
                  <a:stretch/>
                </p:blipFill>
                <p:spPr>
                  <a:xfrm>
                    <a:off x="2674800" y="1600200"/>
                    <a:ext cx="37926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91" name=""/>
          <p:cNvGraphicFramePr/>
          <p:nvPr/>
        </p:nvGraphicFramePr>
        <p:xfrm>
          <a:off x="1608120" y="1954080"/>
          <a:ext cx="5926320" cy="3816360"/>
        </p:xfrm>
        <a:graphic>
          <a:graphicData uri="http://schemas.openxmlformats.org/presentationml/2006/ole">
            <p:oleObj r:id="rId1" spid="">
              <p:embed/>
              <p:pic>
                <p:nvPicPr>
                  <p:cNvPr id="292" name="" descr=""/>
                  <p:cNvPicPr/>
                  <p:nvPr/>
                </p:nvPicPr>
                <p:blipFill>
                  <a:blip r:embed="rId2"/>
                  <a:stretch/>
                </p:blipFill>
                <p:spPr>
                  <a:xfrm>
                    <a:off x="1608120" y="1954080"/>
                    <a:ext cx="5926320" cy="38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a:t>
            </a:r>
            <a:r>
              <a:rPr b="0" lang="sr-Latn-CS" sz="2000" spc="-1" strike="noStrike">
                <a:solidFill>
                  <a:srgbClr val="000000"/>
                </a:solidFill>
                <a:latin typeface="Arial"/>
              </a:rPr>
              <a:t>š</a:t>
            </a:r>
            <a:r>
              <a:rPr b="0" lang="en-US" sz="2000" spc="-1" strike="noStrike">
                <a:solidFill>
                  <a:srgbClr val="000000"/>
                </a:solidFill>
                <a:latin typeface="Arial"/>
              </a:rPr>
              <a:t>ti model elektrodistrubitivnog sistema</a:t>
            </a:r>
            <a:endParaRPr b="0" lang="en-US" sz="2000" spc="-1" strike="noStrike">
              <a:solidFill>
                <a:srgbClr val="000000"/>
              </a:solidFill>
              <a:latin typeface="Arial"/>
            </a:endParaRPr>
          </a:p>
        </p:txBody>
      </p:sp>
      <p:pic>
        <p:nvPicPr>
          <p:cNvPr id="294" name="Clip_54" descr=""/>
          <p:cNvPicPr/>
          <p:nvPr/>
        </p:nvPicPr>
        <p:blipFill>
          <a:blip r:embed="rId1"/>
          <a:stretch/>
        </p:blipFill>
        <p:spPr>
          <a:xfrm>
            <a:off x="1676520" y="1666800"/>
            <a:ext cx="5790960" cy="439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ymetric Digital Subscriber Line</a:t>
            </a:r>
            <a:r>
              <a:rPr b="0" lang="sr-Latn-CS" sz="2400" spc="-1" strike="noStrike">
                <a:solidFill>
                  <a:srgbClr val="000000"/>
                </a:solidFill>
                <a:latin typeface="Arial"/>
              </a:rPr>
              <a:t> - ADSL</a:t>
            </a:r>
            <a:endParaRPr b="0" lang="en-US" sz="2400" spc="-1" strike="noStrike">
              <a:solidFill>
                <a:srgbClr val="000000"/>
              </a:solidFill>
              <a:latin typeface="Arial"/>
            </a:endParaRPr>
          </a:p>
        </p:txBody>
      </p:sp>
      <p:graphicFrame>
        <p:nvGraphicFramePr>
          <p:cNvPr id="45" name=""/>
          <p:cNvGraphicFramePr/>
          <p:nvPr/>
        </p:nvGraphicFramePr>
        <p:xfrm>
          <a:off x="960480" y="2122560"/>
          <a:ext cx="7221600" cy="3479760"/>
        </p:xfrm>
        <a:graphic>
          <a:graphicData uri="http://schemas.openxmlformats.org/presentationml/2006/ole">
            <p:oleObj r:id="rId1" spid="">
              <p:embed/>
              <p:pic>
                <p:nvPicPr>
                  <p:cNvPr id="46" name="" descr=""/>
                  <p:cNvPicPr/>
                  <p:nvPr/>
                </p:nvPicPr>
                <p:blipFill>
                  <a:blip r:embed="rId2"/>
                  <a:stretch/>
                </p:blipFill>
                <p:spPr>
                  <a:xfrm>
                    <a:off x="960480" y="2122560"/>
                    <a:ext cx="7221600" cy="347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LC-1</a:t>
            </a:r>
            <a:endParaRPr b="0" lang="en-US" sz="2000" spc="-1" strike="noStrike">
              <a:solidFill>
                <a:srgbClr val="000000"/>
              </a:solidFill>
              <a:latin typeface="Arial"/>
            </a:endParaRPr>
          </a:p>
        </p:txBody>
      </p:sp>
      <p:sp>
        <p:nvSpPr>
          <p:cNvPr id="296"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Prenos poruka elektroenergetskim vodovima (</a:t>
            </a:r>
            <a:r>
              <a:rPr b="0" lang="sl-SI" sz="1600" spc="-1" strike="noStrike">
                <a:solidFill>
                  <a:srgbClr val="000000"/>
                </a:solidFill>
                <a:latin typeface="Arial"/>
              </a:rPr>
              <a:t>Power Line Communications - </a:t>
            </a:r>
            <a:r>
              <a:rPr b="0" lang="sr-Latn-CS" sz="1600" spc="-1" strike="noStrike">
                <a:solidFill>
                  <a:srgbClr val="000000"/>
                </a:solidFill>
                <a:latin typeface="Arial"/>
              </a:rPr>
              <a:t>PLC)  se odnosi na tehnologije, opremu, aplikacije i servise koji koriste provodnike čija je osnovna namena distribucija električne energij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Umesto naziva PLC, često se koristi i PLT (</a:t>
            </a:r>
            <a:r>
              <a:rPr b="0" lang="sl-SI" sz="1600" spc="-1" strike="noStrike">
                <a:solidFill>
                  <a:srgbClr val="000000"/>
                </a:solidFill>
                <a:latin typeface="Arial"/>
              </a:rPr>
              <a:t>Power Line Telecommunications)</a:t>
            </a:r>
            <a:r>
              <a:rPr b="0" lang="sr-Latn-CS" sz="1600" spc="-1" strike="noStrike">
                <a:solidFill>
                  <a:srgbClr val="000000"/>
                </a:solidFill>
                <a:latin typeface="Arial"/>
              </a:rPr>
              <a:t> ili BPL (Broadbend over Power Lines), koji naznačava mogućnost ove tehnologije da obezbedi širokopojasne servis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Prva tehnika koja je koristila (EEV) za prenos informacija imala je naziv </a:t>
            </a:r>
            <a:r>
              <a:rPr b="0" i="1" lang="sr-Latn-CS" sz="1600" spc="-1" strike="noStrike">
                <a:solidFill>
                  <a:srgbClr val="000000"/>
                </a:solidFill>
                <a:latin typeface="Arial"/>
              </a:rPr>
              <a:t>kontrola talasnosti</a:t>
            </a:r>
            <a:r>
              <a:rPr b="0" lang="sr-Latn-CS" sz="1600" spc="-1" strike="noStrike">
                <a:solidFill>
                  <a:srgbClr val="000000"/>
                </a:solidFill>
                <a:latin typeface="Arial"/>
              </a:rPr>
              <a:t>, i koristila se samo za prenos kontrolnih poruka. Tehniku je karakterisalo korišćenje niskih frekvencija (500-900 Hz), mali protok podataka i velika snaga predajnika (često veličine i nekoliko desetina kW). Sistem je obezbeđivao komunikaciju u jednom smeru, a koristio se za daljinsko upravljanje osvetljenjem kao i za kontrolu opterećenja elektroenergetske mreže.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Sredinom osamdesetih godina prošlog veka sprovedni su testovi koji su ispitivali karakteristike električne mreže kao sredine  za prenos podataka na višim frekvencijama (5-500 KHz). Vršena su merenja kojima se određivao odnos signal-šum i slabljenje signala pri njegovom prostiranju po EEV. Bidirekciona komunikacija je omogućena kasnih osamdesetih i ranih devedesetih godina prošlog veka. Glavna razlika između tadašnjih i današnjih sistema je u daleko većim frekvencijama koje se koriste za prenos danas, kao i značajnoj redukciji nivoa snage signal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Na slici 1. prikazana je opšta šema elektroenergetskog sistema. Na slici su naznačene glavni delovi sistema, a posebno je istaknuta niskonaponska mrež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LC-2</a:t>
            </a:r>
            <a:endParaRPr b="0" lang="en-US" sz="2000" spc="-1" strike="noStrike">
              <a:solidFill>
                <a:srgbClr val="000000"/>
              </a:solidFill>
              <a:latin typeface="Arial"/>
            </a:endParaRPr>
          </a:p>
        </p:txBody>
      </p:sp>
      <p:sp>
        <p:nvSpPr>
          <p:cNvPr id="29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Vodovi za prenos električne energije dobijaju funkciju i telekomunikacione mreže superpozicijom telekomunikacionih signala male energije i električnih signala koji nose veliku energiju.</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U cilju obezbeđivanja nezavisnog rada ova dva sistema na istoj sredini za prenos, opseg frekvencija koji se koristi za telekomunikacione signale je daleko iznad frekvencije električnog signala kojim se prenosi električna energija.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Za uskopojasne PLC aplikacije opseg frekvencija je od 3 do 148.5 KHz, a za širokopojasne od 1 do 30 MHz.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Koristeći se pristupnim PLC („access PLC“) na nisko-naponskom nivou i unutarkućnim PLC („in-home PLC“) mrežama može se obezbediti širok spektar uskopojasnih (protoka nekoliko Kb/s) i širokopojasnih servisa (protoka nekoliko desetina ili čak stotina Mb/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Uskopojasne aplikacije uključuju kontrolu i automatizaciju kuća, automatsko čitanje mernih uređaja, kontrolu kućnih uređaja, daljinsko upravljanje itd.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Kod pristupnih PLC mreža na nisko-naponskom nivou obezbeđuju se širokopojasni servisi, kao što su pristup internetu i telefonija, a kod unutarkućnih zajedničko korišćenje jednog internet priključka od strane više uređaja, raspodela računarskih resursa i distribucija AV (Audio-Video) signala unutar cele kuće. Inače, sintagma „pristupne PLC mreže“ se odnosi na obezbeđivanje širokopojasnih servisa korisniku korišćenjem spoljne električne mreže, dok se sintagma „unutarkućne PLC mreže“ odnosi na aplikacije koje PLC obezbeđuje unutar kuć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Arial"/>
              </a:rPr>
              <a:t>Primer moguće topologije na nisko-naponskom mrežnom nivou.</a:t>
            </a:r>
            <a:endParaRPr b="0" lang="en-US" sz="2000" spc="-1" strike="noStrike">
              <a:solidFill>
                <a:srgbClr val="000000"/>
              </a:solidFill>
              <a:latin typeface="Arial"/>
            </a:endParaRPr>
          </a:p>
        </p:txBody>
      </p:sp>
      <p:sp>
        <p:nvSpPr>
          <p:cNvPr id="300"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endParaRPr b="0" lang="en-US" sz="3200" spc="-1" strike="noStrike">
              <a:solidFill>
                <a:srgbClr val="000000"/>
              </a:solidFill>
              <a:latin typeface="Arial"/>
            </a:endParaRPr>
          </a:p>
        </p:txBody>
      </p:sp>
      <p:sp>
        <p:nvSpPr>
          <p:cNvPr id="3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2" name=""/>
          <p:cNvGraphicFramePr/>
          <p:nvPr/>
        </p:nvGraphicFramePr>
        <p:xfrm>
          <a:off x="2057400" y="2209680"/>
          <a:ext cx="4629240" cy="3400560"/>
        </p:xfrm>
        <a:graphic>
          <a:graphicData uri="http://schemas.openxmlformats.org/presentationml/2006/ole">
            <p:oleObj r:id="rId1" spid="">
              <p:embed/>
              <p:pic>
                <p:nvPicPr>
                  <p:cNvPr id="303" name="" descr=""/>
                  <p:cNvPicPr/>
                  <p:nvPr/>
                </p:nvPicPr>
                <p:blipFill>
                  <a:blip r:embed="rId2"/>
                  <a:stretch/>
                </p:blipFill>
                <p:spPr>
                  <a:xfrm>
                    <a:off x="2057400" y="2209680"/>
                    <a:ext cx="4629240" cy="340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000" spc="-1" strike="noStrike">
                <a:solidFill>
                  <a:srgbClr val="000000"/>
                </a:solidFill>
                <a:latin typeface="Arial"/>
              </a:rPr>
              <a:t>Tipična realizacija PLC mreže za pristup i lokalne PLC mreže</a:t>
            </a:r>
            <a:endParaRPr b="0" lang="en-US" sz="2000" spc="-1" strike="noStrike">
              <a:solidFill>
                <a:srgbClr val="000000"/>
              </a:solidFill>
              <a:latin typeface="Arial"/>
            </a:endParaRPr>
          </a:p>
        </p:txBody>
      </p:sp>
      <p:sp>
        <p:nvSpPr>
          <p:cNvPr id="3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6" name=""/>
          <p:cNvGraphicFramePr/>
          <p:nvPr/>
        </p:nvGraphicFramePr>
        <p:xfrm>
          <a:off x="1371600" y="1523880"/>
          <a:ext cx="6477120" cy="3781440"/>
        </p:xfrm>
        <a:graphic>
          <a:graphicData uri="http://schemas.openxmlformats.org/presentationml/2006/ole">
            <p:oleObj r:id="rId1" spid="">
              <p:embed/>
              <p:pic>
                <p:nvPicPr>
                  <p:cNvPr id="307" name="" descr=""/>
                  <p:cNvPicPr/>
                  <p:nvPr/>
                </p:nvPicPr>
                <p:blipFill>
                  <a:blip r:embed="rId2"/>
                  <a:stretch/>
                </p:blipFill>
                <p:spPr>
                  <a:xfrm>
                    <a:off x="1371600" y="1523880"/>
                    <a:ext cx="6477120" cy="37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SL-Asimetri</a:t>
            </a:r>
            <a:r>
              <a:rPr b="0" lang="sr-Latn-CS" sz="4000" spc="-1" strike="noStrike">
                <a:solidFill>
                  <a:srgbClr val="000000"/>
                </a:solidFill>
                <a:latin typeface="Arial"/>
              </a:rPr>
              <a:t>čna digitalna pretplatnička linija (petlja)</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Standard ANSI T1.41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otok: 6 Mb/s ka pretplatniku,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640 kb/s od pretplatnik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Najrasprostranjenija verzija dan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Bez interferencije sa govornim signalom na istoj linij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otok zavisi od rastojanja do centrale i kvaliteta kabl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6 Mb/s na 3,6 k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1,5 Mb/s do 2 Mb/s na 5,6 k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Nije proširiv za primena velikih protoka od pretplatnik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etplatnik mora da koristi servise telekom operatora ili provajdera IP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High-Rate Digital Subscriber Line</a:t>
            </a:r>
            <a:r>
              <a:rPr b="0" lang="sr-Latn-CS" sz="2400" spc="-1" strike="noStrike">
                <a:solidFill>
                  <a:srgbClr val="000000"/>
                </a:solidFill>
                <a:latin typeface="Arial"/>
              </a:rPr>
              <a:t> - VDSL</a:t>
            </a:r>
            <a:endParaRPr b="0" lang="en-US" sz="2400" spc="-1" strike="noStrike">
              <a:solidFill>
                <a:srgbClr val="000000"/>
              </a:solidFill>
              <a:latin typeface="Arial"/>
            </a:endParaRPr>
          </a:p>
        </p:txBody>
      </p:sp>
      <p:graphicFrame>
        <p:nvGraphicFramePr>
          <p:cNvPr id="50" name=""/>
          <p:cNvGraphicFramePr/>
          <p:nvPr/>
        </p:nvGraphicFramePr>
        <p:xfrm>
          <a:off x="919080" y="2092320"/>
          <a:ext cx="7304040" cy="3540240"/>
        </p:xfrm>
        <a:graphic>
          <a:graphicData uri="http://schemas.openxmlformats.org/presentationml/2006/ole">
            <p:oleObj r:id="rId1" spid="">
              <p:embed/>
              <p:pic>
                <p:nvPicPr>
                  <p:cNvPr id="51" name="" descr=""/>
                  <p:cNvPicPr/>
                  <p:nvPr/>
                </p:nvPicPr>
                <p:blipFill>
                  <a:blip r:embed="rId2"/>
                  <a:stretch/>
                </p:blipFill>
                <p:spPr>
                  <a:xfrm>
                    <a:off x="919080" y="2092320"/>
                    <a:ext cx="7304040" cy="354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DSL-</a:t>
            </a:r>
            <a:r>
              <a:rPr b="0" lang="sr-Latn-CS" sz="4000" spc="-1" strike="noStrike">
                <a:solidFill>
                  <a:srgbClr val="000000"/>
                </a:solidFill>
                <a:latin typeface="Arial"/>
              </a:rPr>
              <a:t>digitalna pretplatnička linija velikog protoka</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Standard ANSI T1E1.4</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Namenjen za korišćenje sa FTT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fiber-to-the-cur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Veliki protok ka pretplatniku na kratkim rastojanjim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51-55 Mb/s do 300 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25-27 Mb/s do 1000 m</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13-14 Mb/s do 1500 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Primenjuje se tamo gde još uvek nije moguće postaviti FTTS (fiber-to-the-subscrib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Zahteva velike i skupe zajedničke sistema na svakih 500 pretplatnik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kser za pristup u digitalnoj pretplatni</a:t>
            </a:r>
            <a:r>
              <a:rPr b="0" lang="sr-Latn-CS" sz="2000" spc="-1" strike="noStrike">
                <a:solidFill>
                  <a:srgbClr val="000000"/>
                </a:solidFill>
                <a:latin typeface="Arial"/>
              </a:rPr>
              <a:t>čkoj petlji - </a:t>
            </a:r>
            <a:r>
              <a:rPr b="0" lang="en-US" sz="2000" spc="-1" strike="noStrike">
                <a:solidFill>
                  <a:srgbClr val="000000"/>
                </a:solidFill>
                <a:latin typeface="Arial"/>
              </a:rPr>
              <a:t>DSLAM</a:t>
            </a:r>
            <a:endParaRPr b="0" lang="en-US" sz="2000" spc="-1" strike="noStrike">
              <a:solidFill>
                <a:srgbClr val="000000"/>
              </a:solidFill>
              <a:latin typeface="Arial"/>
            </a:endParaRPr>
          </a:p>
        </p:txBody>
      </p:sp>
      <p:grpSp>
        <p:nvGrpSpPr>
          <p:cNvPr id="55" name=""/>
          <p:cNvGrpSpPr/>
          <p:nvPr/>
        </p:nvGrpSpPr>
        <p:grpSpPr>
          <a:xfrm>
            <a:off x="762120" y="1752480"/>
            <a:ext cx="7086240" cy="4267080"/>
            <a:chOff x="762120" y="1752480"/>
            <a:chExt cx="7086240" cy="4267080"/>
          </a:xfrm>
        </p:grpSpPr>
        <p:sp>
          <p:nvSpPr>
            <p:cNvPr id="56" name=""/>
            <p:cNvSpPr/>
            <p:nvPr/>
          </p:nvSpPr>
          <p:spPr>
            <a:xfrm flipH="1">
              <a:off x="4932360" y="2134800"/>
              <a:ext cx="349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7" name="" descr=""/>
            <p:cNvPicPr/>
            <p:nvPr/>
          </p:nvPicPr>
          <p:blipFill>
            <a:blip r:embed="rId1">
              <a:lum bright="12000"/>
            </a:blip>
            <a:stretch/>
          </p:blipFill>
          <p:spPr>
            <a:xfrm>
              <a:off x="2136960" y="5052600"/>
              <a:ext cx="288720" cy="164880"/>
            </a:xfrm>
            <a:prstGeom prst="rect">
              <a:avLst/>
            </a:prstGeom>
            <a:ln w="0">
              <a:noFill/>
            </a:ln>
          </p:spPr>
        </p:pic>
        <p:pic>
          <p:nvPicPr>
            <p:cNvPr id="58" name="" descr=""/>
            <p:cNvPicPr/>
            <p:nvPr/>
          </p:nvPicPr>
          <p:blipFill>
            <a:blip r:embed="rId2"/>
            <a:stretch/>
          </p:blipFill>
          <p:spPr>
            <a:xfrm>
              <a:off x="4465080" y="5119920"/>
              <a:ext cx="348480" cy="223560"/>
            </a:xfrm>
            <a:prstGeom prst="rect">
              <a:avLst/>
            </a:prstGeom>
            <a:ln w="0">
              <a:noFill/>
            </a:ln>
          </p:spPr>
        </p:pic>
        <p:sp>
          <p:nvSpPr>
            <p:cNvPr id="59" name=""/>
            <p:cNvSpPr/>
            <p:nvPr/>
          </p:nvSpPr>
          <p:spPr>
            <a:xfrm>
              <a:off x="4176360" y="5331240"/>
              <a:ext cx="815400" cy="331920"/>
            </a:xfrm>
            <a:prstGeom prst="rect">
              <a:avLst/>
            </a:prstGeom>
            <a:noFill/>
            <a:ln w="0">
              <a:noFill/>
            </a:ln>
          </p:spPr>
          <p:style>
            <a:lnRef idx="0"/>
            <a:fillRef idx="0"/>
            <a:effectRef idx="0"/>
            <a:fontRef idx="minor"/>
          </p:style>
          <p:txBody>
            <a:bodyPr lIns="57600" rIns="576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OTS/ISDN</a:t>
              </a:r>
              <a:endParaRPr b="0" lang="en-US" sz="700" spc="-1" strike="noStrike">
                <a:solidFill>
                  <a:srgbClr val="000000"/>
                </a:solidFill>
                <a:latin typeface="Arial"/>
              </a:endParaRPr>
            </a:p>
          </p:txBody>
        </p:sp>
        <p:sp>
          <p:nvSpPr>
            <p:cNvPr id="60" name=""/>
            <p:cNvSpPr/>
            <p:nvPr/>
          </p:nvSpPr>
          <p:spPr>
            <a:xfrm>
              <a:off x="7324200" y="5238000"/>
              <a:ext cx="402120" cy="639360"/>
            </a:xfrm>
            <a:prstGeom prst="rect">
              <a:avLst/>
            </a:prstGeom>
            <a:noFill/>
            <a:ln w="0">
              <a:noFill/>
            </a:ln>
          </p:spPr>
          <p:style>
            <a:lnRef idx="0"/>
            <a:fillRef idx="0"/>
            <a:effectRef idx="0"/>
            <a:fontRef idx="minor"/>
          </p:style>
          <p:txBody>
            <a:bodyPr lIns="57600" rIns="576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24</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35</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1</a:t>
              </a:r>
              <a:endParaRPr b="0" lang="en-US" sz="700" spc="-1" strike="noStrike">
                <a:solidFill>
                  <a:srgbClr val="000000"/>
                </a:solidFill>
                <a:latin typeface="Arial"/>
              </a:endParaRPr>
            </a:p>
          </p:txBody>
        </p:sp>
        <p:sp>
          <p:nvSpPr>
            <p:cNvPr id="61" name=""/>
            <p:cNvSpPr/>
            <p:nvPr/>
          </p:nvSpPr>
          <p:spPr>
            <a:xfrm>
              <a:off x="1840680" y="5110200"/>
              <a:ext cx="645480" cy="909360"/>
            </a:xfrm>
            <a:prstGeom prst="rect">
              <a:avLst/>
            </a:prstGeom>
            <a:noFill/>
            <a:ln w="0">
              <a:noFill/>
            </a:ln>
          </p:spPr>
          <p:style>
            <a:lnRef idx="0"/>
            <a:fillRef idx="0"/>
            <a:effectRef idx="0"/>
            <a:fontRef idx="minor"/>
          </p:style>
          <p:txBody>
            <a:bodyPr lIns="57600" rIns="576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S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ADSL2+</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VDS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HDSL</a:t>
              </a:r>
              <a:endParaRPr b="0" lang="en-US" sz="700" spc="-1" strike="noStrike">
                <a:solidFill>
                  <a:srgbClr val="000000"/>
                </a:solidFill>
                <a:latin typeface="Arial"/>
              </a:endParaRPr>
            </a:p>
          </p:txBody>
        </p:sp>
        <p:sp>
          <p:nvSpPr>
            <p:cNvPr id="62" name=""/>
            <p:cNvSpPr/>
            <p:nvPr/>
          </p:nvSpPr>
          <p:spPr>
            <a:xfrm>
              <a:off x="3183120" y="5464800"/>
              <a:ext cx="402120" cy="221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AN </a:t>
              </a:r>
              <a:endParaRPr b="0" lang="en-US" sz="700" spc="-1" strike="noStrike">
                <a:solidFill>
                  <a:srgbClr val="000000"/>
                </a:solidFill>
                <a:latin typeface="Arial"/>
              </a:endParaRPr>
            </a:p>
          </p:txBody>
        </p:sp>
        <p:grpSp>
          <p:nvGrpSpPr>
            <p:cNvPr id="63" name=""/>
            <p:cNvGrpSpPr/>
            <p:nvPr/>
          </p:nvGrpSpPr>
          <p:grpSpPr>
            <a:xfrm>
              <a:off x="7208280" y="5120640"/>
              <a:ext cx="612000" cy="163800"/>
              <a:chOff x="7208280" y="5120640"/>
              <a:chExt cx="612000" cy="163800"/>
            </a:xfrm>
          </p:grpSpPr>
          <p:sp>
            <p:nvSpPr>
              <p:cNvPr id="64" name=""/>
              <p:cNvSpPr/>
              <p:nvPr/>
            </p:nvSpPr>
            <p:spPr>
              <a:xfrm>
                <a:off x="7697520" y="5120640"/>
                <a:ext cx="122760" cy="163800"/>
              </a:xfrm>
              <a:custGeom>
                <a:avLst/>
                <a:gdLst/>
                <a:ahLst/>
                <a:rect l="l" t="t" r="r" b="b"/>
                <a:pathLst>
                  <a:path w="209" h="222">
                    <a:moveTo>
                      <a:pt x="6" y="222"/>
                    </a:moveTo>
                    <a:lnTo>
                      <a:pt x="209" y="91"/>
                    </a:lnTo>
                    <a:lnTo>
                      <a:pt x="209" y="0"/>
                    </a:lnTo>
                    <a:lnTo>
                      <a:pt x="0" y="99"/>
                    </a:lnTo>
                    <a:lnTo>
                      <a:pt x="4" y="212"/>
                    </a:lnTo>
                    <a:lnTo>
                      <a:pt x="6" y="222"/>
                    </a:lnTo>
                    <a:close/>
                  </a:path>
                </a:pathLst>
              </a:custGeom>
              <a:solidFill>
                <a:srgbClr val="515746"/>
              </a:solidFill>
              <a:ln w="0">
                <a:solidFill>
                  <a:srgbClr val="25221e"/>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208280" y="5195520"/>
                <a:ext cx="491040" cy="88560"/>
              </a:xfrm>
              <a:prstGeom prst="rect">
                <a:avLst/>
              </a:prstGeom>
              <a:solidFill>
                <a:srgbClr val="7c805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6" name=""/>
              <p:cNvSpPr/>
              <p:nvPr/>
            </p:nvSpPr>
            <p:spPr>
              <a:xfrm>
                <a:off x="7208280" y="5195520"/>
                <a:ext cx="491040" cy="88560"/>
              </a:xfrm>
              <a:prstGeom prst="rect">
                <a:avLst/>
              </a:prstGeom>
              <a:noFill/>
              <a:ln w="0">
                <a:solidFill>
                  <a:srgbClr val="515746"/>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 name=""/>
              <p:cNvSpPr/>
              <p:nvPr/>
            </p:nvSpPr>
            <p:spPr>
              <a:xfrm>
                <a:off x="7286760" y="5210640"/>
                <a:ext cx="107280" cy="17280"/>
              </a:xfrm>
              <a:prstGeom prst="rect">
                <a:avLst/>
              </a:prstGeom>
              <a:solidFill>
                <a:srgbClr val="8c927d"/>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 name=""/>
              <p:cNvSpPr/>
              <p:nvPr/>
            </p:nvSpPr>
            <p:spPr>
              <a:xfrm>
                <a:off x="7286760" y="5207400"/>
                <a:ext cx="107280" cy="2880"/>
              </a:xfrm>
              <a:prstGeom prst="rect">
                <a:avLst/>
              </a:prstGeom>
              <a:solidFill>
                <a:srgbClr val="d7dbbe"/>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69" name=""/>
              <p:cNvSpPr/>
              <p:nvPr/>
            </p:nvSpPr>
            <p:spPr>
              <a:xfrm>
                <a:off x="7284240" y="5207400"/>
                <a:ext cx="4680" cy="20160"/>
              </a:xfrm>
              <a:prstGeom prst="rect">
                <a:avLst/>
              </a:prstGeom>
              <a:solidFill>
                <a:srgbClr val="d7dbbe"/>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0" name=""/>
              <p:cNvSpPr/>
              <p:nvPr/>
            </p:nvSpPr>
            <p:spPr>
              <a:xfrm>
                <a:off x="7284240" y="5227920"/>
                <a:ext cx="109800" cy="2880"/>
              </a:xfrm>
              <a:prstGeom prst="rect">
                <a:avLst/>
              </a:prstGeom>
              <a:solidFill>
                <a:srgbClr val="575c47"/>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1" name=""/>
              <p:cNvSpPr/>
              <p:nvPr/>
            </p:nvSpPr>
            <p:spPr>
              <a:xfrm>
                <a:off x="7394040" y="5207400"/>
                <a:ext cx="5760" cy="24840"/>
              </a:xfrm>
              <a:prstGeom prst="rect">
                <a:avLst/>
              </a:prstGeom>
              <a:solidFill>
                <a:srgbClr val="575c47"/>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2" name=""/>
              <p:cNvSpPr/>
              <p:nvPr/>
            </p:nvSpPr>
            <p:spPr>
              <a:xfrm>
                <a:off x="7217640" y="5226840"/>
                <a:ext cx="33480" cy="13320"/>
              </a:xfrm>
              <a:prstGeom prst="rect">
                <a:avLst/>
              </a:prstGeom>
              <a:solidFill>
                <a:srgbClr val="8c927d"/>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3" name=""/>
              <p:cNvSpPr/>
              <p:nvPr/>
            </p:nvSpPr>
            <p:spPr>
              <a:xfrm>
                <a:off x="7217640" y="5225400"/>
                <a:ext cx="33480" cy="1080"/>
              </a:xfrm>
              <a:prstGeom prst="rect">
                <a:avLst/>
              </a:prstGeom>
              <a:solidFill>
                <a:srgbClr val="d7dbbe"/>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4" name=""/>
              <p:cNvSpPr/>
              <p:nvPr/>
            </p:nvSpPr>
            <p:spPr>
              <a:xfrm>
                <a:off x="7217640" y="5225400"/>
                <a:ext cx="720" cy="14400"/>
              </a:xfrm>
              <a:prstGeom prst="rect">
                <a:avLst/>
              </a:prstGeom>
              <a:solidFill>
                <a:srgbClr val="d7dbb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 name=""/>
              <p:cNvSpPr/>
              <p:nvPr/>
            </p:nvSpPr>
            <p:spPr>
              <a:xfrm>
                <a:off x="7217640" y="5240160"/>
                <a:ext cx="33480" cy="2880"/>
              </a:xfrm>
              <a:prstGeom prst="rect">
                <a:avLst/>
              </a:prstGeom>
              <a:solidFill>
                <a:srgbClr val="575c47"/>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6" name=""/>
              <p:cNvSpPr/>
              <p:nvPr/>
            </p:nvSpPr>
            <p:spPr>
              <a:xfrm>
                <a:off x="7251480" y="5225400"/>
                <a:ext cx="1080" cy="17640"/>
              </a:xfrm>
              <a:prstGeom prst="rect">
                <a:avLst/>
              </a:prstGeom>
              <a:solidFill>
                <a:srgbClr val="575c47"/>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 name=""/>
              <p:cNvSpPr/>
              <p:nvPr/>
            </p:nvSpPr>
            <p:spPr>
              <a:xfrm>
                <a:off x="7561440" y="5212080"/>
                <a:ext cx="108720" cy="17640"/>
              </a:xfrm>
              <a:prstGeom prst="rect">
                <a:avLst/>
              </a:prstGeom>
              <a:solidFill>
                <a:srgbClr val="8c927d"/>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 name=""/>
              <p:cNvSpPr/>
              <p:nvPr/>
            </p:nvSpPr>
            <p:spPr>
              <a:xfrm>
                <a:off x="7208280" y="5120640"/>
                <a:ext cx="612000" cy="73440"/>
              </a:xfrm>
              <a:custGeom>
                <a:avLst/>
                <a:gdLst/>
                <a:ahLst/>
                <a:rect l="l" t="t" r="r" b="b"/>
                <a:pathLst>
                  <a:path w="1046" h="100">
                    <a:moveTo>
                      <a:pt x="346" y="0"/>
                    </a:moveTo>
                    <a:lnTo>
                      <a:pt x="522" y="0"/>
                    </a:lnTo>
                    <a:lnTo>
                      <a:pt x="696" y="0"/>
                    </a:lnTo>
                    <a:lnTo>
                      <a:pt x="872" y="0"/>
                    </a:lnTo>
                    <a:lnTo>
                      <a:pt x="1046" y="0"/>
                    </a:lnTo>
                    <a:lnTo>
                      <a:pt x="1001" y="22"/>
                    </a:lnTo>
                    <a:lnTo>
                      <a:pt x="955" y="45"/>
                    </a:lnTo>
                    <a:lnTo>
                      <a:pt x="902" y="72"/>
                    </a:lnTo>
                    <a:lnTo>
                      <a:pt x="841" y="100"/>
                    </a:lnTo>
                    <a:lnTo>
                      <a:pt x="421" y="100"/>
                    </a:lnTo>
                    <a:lnTo>
                      <a:pt x="0" y="100"/>
                    </a:lnTo>
                    <a:lnTo>
                      <a:pt x="98" y="72"/>
                    </a:lnTo>
                    <a:lnTo>
                      <a:pt x="145" y="57"/>
                    </a:lnTo>
                    <a:lnTo>
                      <a:pt x="188" y="45"/>
                    </a:lnTo>
                    <a:lnTo>
                      <a:pt x="270" y="22"/>
                    </a:lnTo>
                    <a:lnTo>
                      <a:pt x="346" y="0"/>
                    </a:lnTo>
                    <a:close/>
                  </a:path>
                </a:pathLst>
              </a:custGeom>
              <a:solidFill>
                <a:srgbClr val="b4b99d"/>
              </a:solidFill>
              <a:ln w="0">
                <a:solidFill>
                  <a:srgbClr val="515746"/>
                </a:solid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79" name=""/>
              <p:cNvSpPr/>
              <p:nvPr/>
            </p:nvSpPr>
            <p:spPr>
              <a:xfrm>
                <a:off x="7713360" y="5135040"/>
                <a:ext cx="99360" cy="79560"/>
              </a:xfrm>
              <a:custGeom>
                <a:avLst/>
                <a:gdLst/>
                <a:ahLst/>
                <a:rect l="l" t="t" r="r" b="b"/>
                <a:pathLst>
                  <a:path w="170" h="109">
                    <a:moveTo>
                      <a:pt x="170" y="0"/>
                    </a:moveTo>
                    <a:lnTo>
                      <a:pt x="0" y="91"/>
                    </a:lnTo>
                    <a:lnTo>
                      <a:pt x="0" y="109"/>
                    </a:lnTo>
                    <a:lnTo>
                      <a:pt x="170" y="15"/>
                    </a:lnTo>
                    <a:lnTo>
                      <a:pt x="170" y="0"/>
                    </a:lnTo>
                    <a:close/>
                  </a:path>
                </a:pathLst>
              </a:custGeom>
              <a:solidFill>
                <a:srgbClr val="7c805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0" name=""/>
              <p:cNvSpPr/>
              <p:nvPr/>
            </p:nvSpPr>
            <p:spPr>
              <a:xfrm>
                <a:off x="7713360" y="5154120"/>
                <a:ext cx="99360" cy="82440"/>
              </a:xfrm>
              <a:custGeom>
                <a:avLst/>
                <a:gdLst/>
                <a:ahLst/>
                <a:rect l="l" t="t" r="r" b="b"/>
                <a:pathLst>
                  <a:path w="170" h="113">
                    <a:moveTo>
                      <a:pt x="0" y="95"/>
                    </a:moveTo>
                    <a:lnTo>
                      <a:pt x="170" y="0"/>
                    </a:lnTo>
                    <a:lnTo>
                      <a:pt x="170" y="14"/>
                    </a:lnTo>
                    <a:lnTo>
                      <a:pt x="0" y="113"/>
                    </a:lnTo>
                    <a:lnTo>
                      <a:pt x="0" y="95"/>
                    </a:lnTo>
                    <a:close/>
                  </a:path>
                </a:pathLst>
              </a:custGeom>
              <a:solidFill>
                <a:srgbClr val="7c805f"/>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1" name=""/>
              <p:cNvSpPr/>
              <p:nvPr/>
            </p:nvSpPr>
            <p:spPr>
              <a:xfrm>
                <a:off x="7713360" y="5173560"/>
                <a:ext cx="99360" cy="85680"/>
              </a:xfrm>
              <a:custGeom>
                <a:avLst/>
                <a:gdLst/>
                <a:ahLst/>
                <a:rect l="l" t="t" r="r" b="b"/>
                <a:pathLst>
                  <a:path w="170" h="116">
                    <a:moveTo>
                      <a:pt x="170" y="0"/>
                    </a:moveTo>
                    <a:lnTo>
                      <a:pt x="0" y="99"/>
                    </a:lnTo>
                    <a:lnTo>
                      <a:pt x="0" y="116"/>
                    </a:lnTo>
                    <a:lnTo>
                      <a:pt x="170" y="13"/>
                    </a:lnTo>
                    <a:lnTo>
                      <a:pt x="170" y="0"/>
                    </a:lnTo>
                    <a:close/>
                  </a:path>
                </a:pathLst>
              </a:custGeom>
              <a:solidFill>
                <a:srgbClr val="7c805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pic>
          <p:nvPicPr>
            <p:cNvPr id="82" name="" descr=""/>
            <p:cNvPicPr/>
            <p:nvPr/>
          </p:nvPicPr>
          <p:blipFill>
            <a:blip r:embed="rId3"/>
            <a:stretch/>
          </p:blipFill>
          <p:spPr>
            <a:xfrm>
              <a:off x="1607040" y="1857960"/>
              <a:ext cx="1108080" cy="756720"/>
            </a:xfrm>
            <a:prstGeom prst="rect">
              <a:avLst/>
            </a:prstGeom>
            <a:ln w="0">
              <a:noFill/>
            </a:ln>
          </p:spPr>
        </p:pic>
        <p:pic>
          <p:nvPicPr>
            <p:cNvPr id="83" name="" descr=""/>
            <p:cNvPicPr/>
            <p:nvPr/>
          </p:nvPicPr>
          <p:blipFill>
            <a:blip r:embed="rId4"/>
            <a:stretch/>
          </p:blipFill>
          <p:spPr>
            <a:xfrm>
              <a:off x="5049000" y="1789920"/>
              <a:ext cx="1865520" cy="963360"/>
            </a:xfrm>
            <a:prstGeom prst="rect">
              <a:avLst/>
            </a:prstGeom>
            <a:ln w="0">
              <a:noFill/>
            </a:ln>
          </p:spPr>
        </p:pic>
        <p:sp>
          <p:nvSpPr>
            <p:cNvPr id="84" name=""/>
            <p:cNvSpPr/>
            <p:nvPr/>
          </p:nvSpPr>
          <p:spPr>
            <a:xfrm>
              <a:off x="6972840" y="1752480"/>
              <a:ext cx="829440" cy="367920"/>
            </a:xfrm>
            <a:prstGeom prst="rect">
              <a:avLst/>
            </a:prstGeom>
            <a:noFill/>
            <a:ln w="0">
              <a:noFill/>
            </a:ln>
          </p:spPr>
          <p:style>
            <a:lnRef idx="0"/>
            <a:fillRef idx="0"/>
            <a:effectRef idx="0"/>
            <a:fontRef idx="minor"/>
          </p:style>
          <p:txBody>
            <a:bodyPr lIns="57600" rIns="576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ftSwitch</a:t>
              </a:r>
              <a:endParaRPr b="0" lang="en-US" sz="900" spc="-1" strike="noStrike">
                <a:solidFill>
                  <a:srgbClr val="000000"/>
                </a:solidFill>
                <a:latin typeface="Arial"/>
              </a:endParaRPr>
            </a:p>
          </p:txBody>
        </p:sp>
        <p:sp>
          <p:nvSpPr>
            <p:cNvPr id="85" name=""/>
            <p:cNvSpPr/>
            <p:nvPr/>
          </p:nvSpPr>
          <p:spPr>
            <a:xfrm flipV="1">
              <a:off x="4815000" y="2684160"/>
              <a:ext cx="933120" cy="962280"/>
            </a:xfrm>
            <a:prstGeom prst="line">
              <a:avLst/>
            </a:prstGeom>
            <a:ln w="3168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576400" y="2045160"/>
              <a:ext cx="807840" cy="406440"/>
            </a:xfrm>
            <a:prstGeom prst="rect">
              <a:avLst/>
            </a:prstGeom>
            <a:noFill/>
            <a:ln w="0">
              <a:noFill/>
            </a:ln>
          </p:spPr>
          <p:style>
            <a:lnRef idx="0"/>
            <a:fillRef idx="0"/>
            <a:effectRef idx="0"/>
            <a:fontRef idx="minor"/>
          </p:style>
          <p:txBody>
            <a:bodyPr lIns="57600" rIns="576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P/MPLS</a:t>
              </a:r>
              <a:endParaRPr b="0" lang="en-US" sz="1000" spc="-1" strike="noStrike">
                <a:solidFill>
                  <a:srgbClr val="000000"/>
                </a:solidFill>
                <a:latin typeface="Arial"/>
              </a:endParaRPr>
            </a:p>
          </p:txBody>
        </p:sp>
        <p:sp>
          <p:nvSpPr>
            <p:cNvPr id="87" name=""/>
            <p:cNvSpPr/>
            <p:nvPr/>
          </p:nvSpPr>
          <p:spPr>
            <a:xfrm>
              <a:off x="1607040" y="2023560"/>
              <a:ext cx="1107000" cy="406440"/>
            </a:xfrm>
            <a:prstGeom prst="rect">
              <a:avLst/>
            </a:prstGeom>
            <a:noFill/>
            <a:ln w="0">
              <a:noFill/>
            </a:ln>
          </p:spPr>
          <p:style>
            <a:lnRef idx="0"/>
            <a:fillRef idx="0"/>
            <a:effectRef idx="0"/>
            <a:fontRef idx="minor"/>
          </p:style>
          <p:txBody>
            <a:bodyPr lIns="57600" rIns="576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TN</a:t>
              </a:r>
              <a:endParaRPr b="0" lang="en-US" sz="1000" spc="-1" strike="noStrike">
                <a:solidFill>
                  <a:srgbClr val="000000"/>
                </a:solidFill>
                <a:latin typeface="Arial"/>
              </a:endParaRPr>
            </a:p>
          </p:txBody>
        </p:sp>
        <p:grpSp>
          <p:nvGrpSpPr>
            <p:cNvPr id="88" name=""/>
            <p:cNvGrpSpPr/>
            <p:nvPr/>
          </p:nvGrpSpPr>
          <p:grpSpPr>
            <a:xfrm>
              <a:off x="4406040" y="3579120"/>
              <a:ext cx="419400" cy="688320"/>
              <a:chOff x="4406040" y="3579120"/>
              <a:chExt cx="419400" cy="688320"/>
            </a:xfrm>
          </p:grpSpPr>
          <p:sp>
            <p:nvSpPr>
              <p:cNvPr id="89" name=""/>
              <p:cNvSpPr/>
              <p:nvPr/>
            </p:nvSpPr>
            <p:spPr>
              <a:xfrm>
                <a:off x="4406040" y="3627720"/>
                <a:ext cx="347400" cy="639720"/>
              </a:xfrm>
              <a:prstGeom prst="rect">
                <a:avLst/>
              </a:prstGeom>
              <a:solidFill>
                <a:srgbClr val="7fa6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406040" y="3579120"/>
                <a:ext cx="419400" cy="688320"/>
              </a:xfrm>
              <a:custGeom>
                <a:avLst/>
                <a:gdLst/>
                <a:ahLst/>
                <a:rect l="l" t="t" r="r" b="b"/>
                <a:pathLst>
                  <a:path w="10581" h="16172">
                    <a:moveTo>
                      <a:pt x="10581" y="0"/>
                    </a:moveTo>
                    <a:lnTo>
                      <a:pt x="10581" y="15019"/>
                    </a:lnTo>
                    <a:lnTo>
                      <a:pt x="8762" y="16172"/>
                    </a:lnTo>
                    <a:lnTo>
                      <a:pt x="0" y="16172"/>
                    </a:lnTo>
                    <a:lnTo>
                      <a:pt x="0" y="1155"/>
                    </a:lnTo>
                    <a:lnTo>
                      <a:pt x="1817" y="0"/>
                    </a:lnTo>
                    <a:lnTo>
                      <a:pt x="10581" y="0"/>
                    </a:lnTo>
                    <a:lnTo>
                      <a:pt x="10581" y="0"/>
                    </a:lnTo>
                    <a:lnTo>
                      <a:pt x="10581" y="0"/>
                    </a:lnTo>
                    <a:close/>
                  </a:path>
                </a:pathLst>
              </a:custGeom>
              <a:solidFill>
                <a:srgbClr val="7fa6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753440" y="3579120"/>
                <a:ext cx="72000" cy="688320"/>
              </a:xfrm>
              <a:custGeom>
                <a:avLst/>
                <a:gdLst/>
                <a:ahLst/>
                <a:rect l="l" t="t" r="r" b="b"/>
                <a:pathLst>
                  <a:path w="1819" h="16172">
                    <a:moveTo>
                      <a:pt x="1819" y="0"/>
                    </a:moveTo>
                    <a:lnTo>
                      <a:pt x="0" y="1155"/>
                    </a:lnTo>
                    <a:lnTo>
                      <a:pt x="0" y="16172"/>
                    </a:lnTo>
                    <a:lnTo>
                      <a:pt x="1819" y="15019"/>
                    </a:lnTo>
                    <a:lnTo>
                      <a:pt x="1819" y="0"/>
                    </a:lnTo>
                    <a:close/>
                  </a:path>
                </a:pathLst>
              </a:custGeom>
              <a:solidFill>
                <a:srgbClr val="00426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406040" y="3579120"/>
                <a:ext cx="419400" cy="48600"/>
              </a:xfrm>
              <a:custGeom>
                <a:avLst/>
                <a:gdLst/>
                <a:ahLst/>
                <a:rect l="l" t="t" r="r" b="b"/>
                <a:pathLst>
                  <a:path w="10581" h="1155">
                    <a:moveTo>
                      <a:pt x="0" y="1155"/>
                    </a:moveTo>
                    <a:lnTo>
                      <a:pt x="8762" y="1155"/>
                    </a:lnTo>
                    <a:lnTo>
                      <a:pt x="10581" y="0"/>
                    </a:lnTo>
                    <a:lnTo>
                      <a:pt x="1817" y="0"/>
                    </a:lnTo>
                    <a:lnTo>
                      <a:pt x="0" y="1155"/>
                    </a:lnTo>
                    <a:close/>
                  </a:path>
                </a:pathLst>
              </a:custGeom>
              <a:solidFill>
                <a:srgbClr val="4d7299"/>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93" name=""/>
              <p:cNvSpPr/>
              <p:nvPr/>
            </p:nvSpPr>
            <p:spPr>
              <a:xfrm>
                <a:off x="4406040" y="3946320"/>
                <a:ext cx="347400" cy="10800"/>
              </a:xfrm>
              <a:prstGeom prst="rect">
                <a:avLst/>
              </a:prstGeom>
              <a:solidFill>
                <a:srgbClr val="1f1a17"/>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4" name=""/>
              <p:cNvSpPr/>
              <p:nvPr/>
            </p:nvSpPr>
            <p:spPr>
              <a:xfrm>
                <a:off x="4451400" y="4046040"/>
                <a:ext cx="244080" cy="8640"/>
              </a:xfrm>
              <a:prstGeom prst="rect">
                <a:avLst/>
              </a:prstGeom>
              <a:solidFill>
                <a:srgbClr val="1f1a17"/>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5" name=""/>
              <p:cNvSpPr/>
              <p:nvPr/>
            </p:nvSpPr>
            <p:spPr>
              <a:xfrm>
                <a:off x="4451400" y="4054680"/>
                <a:ext cx="244080" cy="11160"/>
              </a:xfrm>
              <a:prstGeom prst="rect">
                <a:avLst/>
              </a:prstGeom>
              <a:solidFill>
                <a:srgbClr val="a7cded"/>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6" name=""/>
              <p:cNvSpPr/>
              <p:nvPr/>
            </p:nvSpPr>
            <p:spPr>
              <a:xfrm>
                <a:off x="4451400" y="4096080"/>
                <a:ext cx="244080" cy="8640"/>
              </a:xfrm>
              <a:prstGeom prst="rect">
                <a:avLst/>
              </a:prstGeom>
              <a:solidFill>
                <a:srgbClr val="1f1a17"/>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7" name=""/>
              <p:cNvSpPr/>
              <p:nvPr/>
            </p:nvSpPr>
            <p:spPr>
              <a:xfrm>
                <a:off x="4451400" y="4104720"/>
                <a:ext cx="244080" cy="11880"/>
              </a:xfrm>
              <a:prstGeom prst="rect">
                <a:avLst/>
              </a:prstGeom>
              <a:solidFill>
                <a:srgbClr val="a7cded"/>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98" name=""/>
              <p:cNvSpPr/>
              <p:nvPr/>
            </p:nvSpPr>
            <p:spPr>
              <a:xfrm>
                <a:off x="4451400" y="4145760"/>
                <a:ext cx="244080" cy="8640"/>
              </a:xfrm>
              <a:prstGeom prst="rect">
                <a:avLst/>
              </a:prstGeom>
              <a:solidFill>
                <a:srgbClr val="1f1a17"/>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9" name=""/>
              <p:cNvSpPr/>
              <p:nvPr/>
            </p:nvSpPr>
            <p:spPr>
              <a:xfrm>
                <a:off x="4451400" y="4154400"/>
                <a:ext cx="244080" cy="12240"/>
              </a:xfrm>
              <a:prstGeom prst="rect">
                <a:avLst/>
              </a:prstGeom>
              <a:solidFill>
                <a:srgbClr val="a7cded"/>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0" name=""/>
              <p:cNvSpPr/>
              <p:nvPr/>
            </p:nvSpPr>
            <p:spPr>
              <a:xfrm>
                <a:off x="4451400" y="4195440"/>
                <a:ext cx="244080" cy="8640"/>
              </a:xfrm>
              <a:prstGeom prst="rect">
                <a:avLst/>
              </a:prstGeom>
              <a:solidFill>
                <a:srgbClr val="1f1a17"/>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1" name=""/>
              <p:cNvSpPr/>
              <p:nvPr/>
            </p:nvSpPr>
            <p:spPr>
              <a:xfrm>
                <a:off x="4451400" y="4204440"/>
                <a:ext cx="244080" cy="10800"/>
              </a:xfrm>
              <a:prstGeom prst="rect">
                <a:avLst/>
              </a:prstGeom>
              <a:solidFill>
                <a:srgbClr val="a7cded"/>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2" name=""/>
              <p:cNvSpPr/>
              <p:nvPr/>
            </p:nvSpPr>
            <p:spPr>
              <a:xfrm>
                <a:off x="4406040" y="3957480"/>
                <a:ext cx="347400" cy="9720"/>
              </a:xfrm>
              <a:prstGeom prst="rect">
                <a:avLst/>
              </a:prstGeom>
              <a:solidFill>
                <a:srgbClr val="a7cded"/>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3" name=""/>
              <p:cNvSpPr/>
              <p:nvPr/>
            </p:nvSpPr>
            <p:spPr>
              <a:xfrm>
                <a:off x="4436640" y="3681000"/>
                <a:ext cx="288720" cy="247680"/>
              </a:xfrm>
              <a:custGeom>
                <a:avLst/>
                <a:gdLst/>
                <a:ahLst/>
                <a:rect l="l" t="t" r="r" b="b"/>
                <a:pathLst>
                  <a:path w="7267" h="5808">
                    <a:moveTo>
                      <a:pt x="2897" y="4484"/>
                    </a:moveTo>
                    <a:lnTo>
                      <a:pt x="2173" y="5278"/>
                    </a:lnTo>
                    <a:lnTo>
                      <a:pt x="865" y="5294"/>
                    </a:lnTo>
                    <a:lnTo>
                      <a:pt x="854" y="5808"/>
                    </a:lnTo>
                    <a:lnTo>
                      <a:pt x="0" y="5054"/>
                    </a:lnTo>
                    <a:lnTo>
                      <a:pt x="849" y="4244"/>
                    </a:lnTo>
                    <a:lnTo>
                      <a:pt x="849" y="4780"/>
                    </a:lnTo>
                    <a:lnTo>
                      <a:pt x="1837" y="4780"/>
                    </a:lnTo>
                    <a:lnTo>
                      <a:pt x="1857" y="4761"/>
                    </a:lnTo>
                    <a:lnTo>
                      <a:pt x="1912" y="4709"/>
                    </a:lnTo>
                    <a:lnTo>
                      <a:pt x="1992" y="4631"/>
                    </a:lnTo>
                    <a:lnTo>
                      <a:pt x="2089" y="4536"/>
                    </a:lnTo>
                    <a:lnTo>
                      <a:pt x="2194" y="4433"/>
                    </a:lnTo>
                    <a:lnTo>
                      <a:pt x="2297" y="4328"/>
                    </a:lnTo>
                    <a:lnTo>
                      <a:pt x="2346" y="4278"/>
                    </a:lnTo>
                    <a:lnTo>
                      <a:pt x="2392" y="4230"/>
                    </a:lnTo>
                    <a:lnTo>
                      <a:pt x="2431" y="4187"/>
                    </a:lnTo>
                    <a:lnTo>
                      <a:pt x="2466" y="4148"/>
                    </a:lnTo>
                    <a:lnTo>
                      <a:pt x="2438" y="4117"/>
                    </a:lnTo>
                    <a:lnTo>
                      <a:pt x="2411" y="4087"/>
                    </a:lnTo>
                    <a:lnTo>
                      <a:pt x="2384" y="4055"/>
                    </a:lnTo>
                    <a:lnTo>
                      <a:pt x="2359" y="4022"/>
                    </a:lnTo>
                    <a:lnTo>
                      <a:pt x="2334" y="3989"/>
                    </a:lnTo>
                    <a:lnTo>
                      <a:pt x="2310" y="3956"/>
                    </a:lnTo>
                    <a:lnTo>
                      <a:pt x="2286" y="3921"/>
                    </a:lnTo>
                    <a:lnTo>
                      <a:pt x="2264" y="3886"/>
                    </a:lnTo>
                    <a:lnTo>
                      <a:pt x="2242" y="3850"/>
                    </a:lnTo>
                    <a:lnTo>
                      <a:pt x="2220" y="3814"/>
                    </a:lnTo>
                    <a:lnTo>
                      <a:pt x="2200" y="3778"/>
                    </a:lnTo>
                    <a:lnTo>
                      <a:pt x="2181" y="3740"/>
                    </a:lnTo>
                    <a:lnTo>
                      <a:pt x="2162" y="3703"/>
                    </a:lnTo>
                    <a:lnTo>
                      <a:pt x="2143" y="3664"/>
                    </a:lnTo>
                    <a:lnTo>
                      <a:pt x="2127" y="3626"/>
                    </a:lnTo>
                    <a:lnTo>
                      <a:pt x="2111" y="3587"/>
                    </a:lnTo>
                    <a:lnTo>
                      <a:pt x="2096" y="3547"/>
                    </a:lnTo>
                    <a:lnTo>
                      <a:pt x="2081" y="3507"/>
                    </a:lnTo>
                    <a:lnTo>
                      <a:pt x="2068" y="3466"/>
                    </a:lnTo>
                    <a:lnTo>
                      <a:pt x="2055" y="3425"/>
                    </a:lnTo>
                    <a:lnTo>
                      <a:pt x="2043" y="3384"/>
                    </a:lnTo>
                    <a:lnTo>
                      <a:pt x="2033" y="3342"/>
                    </a:lnTo>
                    <a:lnTo>
                      <a:pt x="2023" y="3300"/>
                    </a:lnTo>
                    <a:lnTo>
                      <a:pt x="2014" y="3257"/>
                    </a:lnTo>
                    <a:lnTo>
                      <a:pt x="2007" y="3215"/>
                    </a:lnTo>
                    <a:lnTo>
                      <a:pt x="2000" y="3171"/>
                    </a:lnTo>
                    <a:lnTo>
                      <a:pt x="1994" y="3127"/>
                    </a:lnTo>
                    <a:lnTo>
                      <a:pt x="1990" y="3083"/>
                    </a:lnTo>
                    <a:lnTo>
                      <a:pt x="1986" y="3039"/>
                    </a:lnTo>
                    <a:lnTo>
                      <a:pt x="1982" y="2994"/>
                    </a:lnTo>
                    <a:lnTo>
                      <a:pt x="1981" y="2950"/>
                    </a:lnTo>
                    <a:lnTo>
                      <a:pt x="1980" y="2904"/>
                    </a:lnTo>
                    <a:lnTo>
                      <a:pt x="1981" y="2859"/>
                    </a:lnTo>
                    <a:lnTo>
                      <a:pt x="1982" y="2814"/>
                    </a:lnTo>
                    <a:lnTo>
                      <a:pt x="1986" y="2770"/>
                    </a:lnTo>
                    <a:lnTo>
                      <a:pt x="1990" y="2725"/>
                    </a:lnTo>
                    <a:lnTo>
                      <a:pt x="1994" y="2681"/>
                    </a:lnTo>
                    <a:lnTo>
                      <a:pt x="2000" y="2638"/>
                    </a:lnTo>
                    <a:lnTo>
                      <a:pt x="2007" y="2594"/>
                    </a:lnTo>
                    <a:lnTo>
                      <a:pt x="2014" y="2552"/>
                    </a:lnTo>
                    <a:lnTo>
                      <a:pt x="2023" y="2509"/>
                    </a:lnTo>
                    <a:lnTo>
                      <a:pt x="2033" y="2467"/>
                    </a:lnTo>
                    <a:lnTo>
                      <a:pt x="2043" y="2424"/>
                    </a:lnTo>
                    <a:lnTo>
                      <a:pt x="2055" y="2383"/>
                    </a:lnTo>
                    <a:lnTo>
                      <a:pt x="2068" y="2342"/>
                    </a:lnTo>
                    <a:lnTo>
                      <a:pt x="2081" y="2302"/>
                    </a:lnTo>
                    <a:lnTo>
                      <a:pt x="2096" y="2262"/>
                    </a:lnTo>
                    <a:lnTo>
                      <a:pt x="2111" y="2222"/>
                    </a:lnTo>
                    <a:lnTo>
                      <a:pt x="2127" y="2183"/>
                    </a:lnTo>
                    <a:lnTo>
                      <a:pt x="2143" y="2144"/>
                    </a:lnTo>
                    <a:lnTo>
                      <a:pt x="2162" y="2106"/>
                    </a:lnTo>
                    <a:lnTo>
                      <a:pt x="2181" y="2068"/>
                    </a:lnTo>
                    <a:lnTo>
                      <a:pt x="2200" y="2031"/>
                    </a:lnTo>
                    <a:lnTo>
                      <a:pt x="2220" y="1995"/>
                    </a:lnTo>
                    <a:lnTo>
                      <a:pt x="2242" y="1958"/>
                    </a:lnTo>
                    <a:lnTo>
                      <a:pt x="2264" y="1923"/>
                    </a:lnTo>
                    <a:lnTo>
                      <a:pt x="2286" y="1888"/>
                    </a:lnTo>
                    <a:lnTo>
                      <a:pt x="2310" y="1853"/>
                    </a:lnTo>
                    <a:lnTo>
                      <a:pt x="2334" y="1820"/>
                    </a:lnTo>
                    <a:lnTo>
                      <a:pt x="2359" y="1786"/>
                    </a:lnTo>
                    <a:lnTo>
                      <a:pt x="2384" y="1754"/>
                    </a:lnTo>
                    <a:lnTo>
                      <a:pt x="2411" y="1722"/>
                    </a:lnTo>
                    <a:lnTo>
                      <a:pt x="2438" y="1691"/>
                    </a:lnTo>
                    <a:lnTo>
                      <a:pt x="2466" y="1660"/>
                    </a:lnTo>
                    <a:lnTo>
                      <a:pt x="2431" y="1622"/>
                    </a:lnTo>
                    <a:lnTo>
                      <a:pt x="2391" y="1578"/>
                    </a:lnTo>
                    <a:lnTo>
                      <a:pt x="2346" y="1531"/>
                    </a:lnTo>
                    <a:lnTo>
                      <a:pt x="2297" y="1481"/>
                    </a:lnTo>
                    <a:lnTo>
                      <a:pt x="2194" y="1376"/>
                    </a:lnTo>
                    <a:lnTo>
                      <a:pt x="2089" y="1273"/>
                    </a:lnTo>
                    <a:lnTo>
                      <a:pt x="1992" y="1178"/>
                    </a:lnTo>
                    <a:lnTo>
                      <a:pt x="1912" y="1100"/>
                    </a:lnTo>
                    <a:lnTo>
                      <a:pt x="1857" y="1048"/>
                    </a:lnTo>
                    <a:lnTo>
                      <a:pt x="1837" y="1028"/>
                    </a:lnTo>
                    <a:lnTo>
                      <a:pt x="849" y="1028"/>
                    </a:lnTo>
                    <a:lnTo>
                      <a:pt x="849" y="1564"/>
                    </a:lnTo>
                    <a:lnTo>
                      <a:pt x="0" y="755"/>
                    </a:lnTo>
                    <a:lnTo>
                      <a:pt x="854" y="0"/>
                    </a:lnTo>
                    <a:lnTo>
                      <a:pt x="865" y="514"/>
                    </a:lnTo>
                    <a:lnTo>
                      <a:pt x="2173" y="531"/>
                    </a:lnTo>
                    <a:lnTo>
                      <a:pt x="2897" y="1325"/>
                    </a:lnTo>
                    <a:lnTo>
                      <a:pt x="2941" y="1301"/>
                    </a:lnTo>
                    <a:lnTo>
                      <a:pt x="2986" y="1279"/>
                    </a:lnTo>
                    <a:lnTo>
                      <a:pt x="3033" y="1258"/>
                    </a:lnTo>
                    <a:lnTo>
                      <a:pt x="3079" y="1238"/>
                    </a:lnTo>
                    <a:lnTo>
                      <a:pt x="3127" y="1220"/>
                    </a:lnTo>
                    <a:lnTo>
                      <a:pt x="3174" y="1203"/>
                    </a:lnTo>
                    <a:lnTo>
                      <a:pt x="3223" y="1188"/>
                    </a:lnTo>
                    <a:lnTo>
                      <a:pt x="3273" y="1174"/>
                    </a:lnTo>
                    <a:lnTo>
                      <a:pt x="3322" y="1162"/>
                    </a:lnTo>
                    <a:lnTo>
                      <a:pt x="3373" y="1152"/>
                    </a:lnTo>
                    <a:lnTo>
                      <a:pt x="3423" y="1143"/>
                    </a:lnTo>
                    <a:lnTo>
                      <a:pt x="3475" y="1135"/>
                    </a:lnTo>
                    <a:lnTo>
                      <a:pt x="3527" y="1128"/>
                    </a:lnTo>
                    <a:lnTo>
                      <a:pt x="3579" y="1124"/>
                    </a:lnTo>
                    <a:lnTo>
                      <a:pt x="3632" y="1122"/>
                    </a:lnTo>
                    <a:lnTo>
                      <a:pt x="3686" y="1121"/>
                    </a:lnTo>
                    <a:lnTo>
                      <a:pt x="3733" y="1121"/>
                    </a:lnTo>
                    <a:lnTo>
                      <a:pt x="3781" y="1124"/>
                    </a:lnTo>
                    <a:lnTo>
                      <a:pt x="3829" y="1127"/>
                    </a:lnTo>
                    <a:lnTo>
                      <a:pt x="3875" y="1133"/>
                    </a:lnTo>
                    <a:lnTo>
                      <a:pt x="3922" y="1139"/>
                    </a:lnTo>
                    <a:lnTo>
                      <a:pt x="3968" y="1146"/>
                    </a:lnTo>
                    <a:lnTo>
                      <a:pt x="4014" y="1155"/>
                    </a:lnTo>
                    <a:lnTo>
                      <a:pt x="4059" y="1165"/>
                    </a:lnTo>
                    <a:lnTo>
                      <a:pt x="4104" y="1176"/>
                    </a:lnTo>
                    <a:lnTo>
                      <a:pt x="4149" y="1188"/>
                    </a:lnTo>
                    <a:lnTo>
                      <a:pt x="4192" y="1202"/>
                    </a:lnTo>
                    <a:lnTo>
                      <a:pt x="4236" y="1217"/>
                    </a:lnTo>
                    <a:lnTo>
                      <a:pt x="4279" y="1234"/>
                    </a:lnTo>
                    <a:lnTo>
                      <a:pt x="4321" y="1251"/>
                    </a:lnTo>
                    <a:lnTo>
                      <a:pt x="4363" y="1269"/>
                    </a:lnTo>
                    <a:lnTo>
                      <a:pt x="4405" y="1288"/>
                    </a:lnTo>
                    <a:lnTo>
                      <a:pt x="5094" y="531"/>
                    </a:lnTo>
                    <a:lnTo>
                      <a:pt x="6403" y="514"/>
                    </a:lnTo>
                    <a:lnTo>
                      <a:pt x="6413" y="0"/>
                    </a:lnTo>
                    <a:lnTo>
                      <a:pt x="7267" y="755"/>
                    </a:lnTo>
                    <a:lnTo>
                      <a:pt x="6419" y="1564"/>
                    </a:lnTo>
                    <a:lnTo>
                      <a:pt x="6419" y="1028"/>
                    </a:lnTo>
                    <a:lnTo>
                      <a:pt x="5430" y="1028"/>
                    </a:lnTo>
                    <a:lnTo>
                      <a:pt x="5413" y="1045"/>
                    </a:lnTo>
                    <a:lnTo>
                      <a:pt x="5368" y="1089"/>
                    </a:lnTo>
                    <a:lnTo>
                      <a:pt x="5298" y="1156"/>
                    </a:lnTo>
                    <a:lnTo>
                      <a:pt x="5214" y="1238"/>
                    </a:lnTo>
                    <a:lnTo>
                      <a:pt x="5120" y="1331"/>
                    </a:lnTo>
                    <a:lnTo>
                      <a:pt x="5023" y="1427"/>
                    </a:lnTo>
                    <a:lnTo>
                      <a:pt x="4977" y="1474"/>
                    </a:lnTo>
                    <a:lnTo>
                      <a:pt x="4931" y="1521"/>
                    </a:lnTo>
                    <a:lnTo>
                      <a:pt x="4890" y="1564"/>
                    </a:lnTo>
                    <a:lnTo>
                      <a:pt x="4851" y="1606"/>
                    </a:lnTo>
                    <a:lnTo>
                      <a:pt x="4882" y="1636"/>
                    </a:lnTo>
                    <a:lnTo>
                      <a:pt x="4912" y="1668"/>
                    </a:lnTo>
                    <a:lnTo>
                      <a:pt x="4941" y="1701"/>
                    </a:lnTo>
                    <a:lnTo>
                      <a:pt x="4970" y="1734"/>
                    </a:lnTo>
                    <a:lnTo>
                      <a:pt x="4997" y="1767"/>
                    </a:lnTo>
                    <a:lnTo>
                      <a:pt x="5023" y="1803"/>
                    </a:lnTo>
                    <a:lnTo>
                      <a:pt x="5050" y="1838"/>
                    </a:lnTo>
                    <a:lnTo>
                      <a:pt x="5075" y="1873"/>
                    </a:lnTo>
                    <a:lnTo>
                      <a:pt x="5099" y="1911"/>
                    </a:lnTo>
                    <a:lnTo>
                      <a:pt x="5123" y="1948"/>
                    </a:lnTo>
                    <a:lnTo>
                      <a:pt x="5146" y="1986"/>
                    </a:lnTo>
                    <a:lnTo>
                      <a:pt x="5167" y="2025"/>
                    </a:lnTo>
                    <a:lnTo>
                      <a:pt x="5188" y="2063"/>
                    </a:lnTo>
                    <a:lnTo>
                      <a:pt x="5208" y="2104"/>
                    </a:lnTo>
                    <a:lnTo>
                      <a:pt x="5227" y="2144"/>
                    </a:lnTo>
                    <a:lnTo>
                      <a:pt x="5245" y="2185"/>
                    </a:lnTo>
                    <a:lnTo>
                      <a:pt x="5261" y="2227"/>
                    </a:lnTo>
                    <a:lnTo>
                      <a:pt x="5278" y="2269"/>
                    </a:lnTo>
                    <a:lnTo>
                      <a:pt x="5293" y="2311"/>
                    </a:lnTo>
                    <a:lnTo>
                      <a:pt x="5307" y="2355"/>
                    </a:lnTo>
                    <a:lnTo>
                      <a:pt x="5320" y="2398"/>
                    </a:lnTo>
                    <a:lnTo>
                      <a:pt x="5332" y="2442"/>
                    </a:lnTo>
                    <a:lnTo>
                      <a:pt x="5342" y="2487"/>
                    </a:lnTo>
                    <a:lnTo>
                      <a:pt x="5353" y="2531"/>
                    </a:lnTo>
                    <a:lnTo>
                      <a:pt x="5361" y="2577"/>
                    </a:lnTo>
                    <a:lnTo>
                      <a:pt x="5369" y="2622"/>
                    </a:lnTo>
                    <a:lnTo>
                      <a:pt x="5375" y="2669"/>
                    </a:lnTo>
                    <a:lnTo>
                      <a:pt x="5381" y="2715"/>
                    </a:lnTo>
                    <a:lnTo>
                      <a:pt x="5385" y="2762"/>
                    </a:lnTo>
                    <a:lnTo>
                      <a:pt x="5388" y="2809"/>
                    </a:lnTo>
                    <a:lnTo>
                      <a:pt x="5390" y="2857"/>
                    </a:lnTo>
                    <a:lnTo>
                      <a:pt x="5390" y="2904"/>
                    </a:lnTo>
                    <a:lnTo>
                      <a:pt x="5390" y="2952"/>
                    </a:lnTo>
                    <a:lnTo>
                      <a:pt x="5388" y="2999"/>
                    </a:lnTo>
                    <a:lnTo>
                      <a:pt x="5385" y="3047"/>
                    </a:lnTo>
                    <a:lnTo>
                      <a:pt x="5381" y="3093"/>
                    </a:lnTo>
                    <a:lnTo>
                      <a:pt x="5375" y="3140"/>
                    </a:lnTo>
                    <a:lnTo>
                      <a:pt x="5369" y="3186"/>
                    </a:lnTo>
                    <a:lnTo>
                      <a:pt x="5361" y="3232"/>
                    </a:lnTo>
                    <a:lnTo>
                      <a:pt x="5353" y="3277"/>
                    </a:lnTo>
                    <a:lnTo>
                      <a:pt x="5342" y="3322"/>
                    </a:lnTo>
                    <a:lnTo>
                      <a:pt x="5332" y="3366"/>
                    </a:lnTo>
                    <a:lnTo>
                      <a:pt x="5320" y="3411"/>
                    </a:lnTo>
                    <a:lnTo>
                      <a:pt x="5307" y="3454"/>
                    </a:lnTo>
                    <a:lnTo>
                      <a:pt x="5293" y="3498"/>
                    </a:lnTo>
                    <a:lnTo>
                      <a:pt x="5278" y="3540"/>
                    </a:lnTo>
                    <a:lnTo>
                      <a:pt x="5261" y="3582"/>
                    </a:lnTo>
                    <a:lnTo>
                      <a:pt x="5245" y="3623"/>
                    </a:lnTo>
                    <a:lnTo>
                      <a:pt x="5227" y="3664"/>
                    </a:lnTo>
                    <a:lnTo>
                      <a:pt x="5208" y="3705"/>
                    </a:lnTo>
                    <a:lnTo>
                      <a:pt x="5188" y="3745"/>
                    </a:lnTo>
                    <a:lnTo>
                      <a:pt x="5167" y="3784"/>
                    </a:lnTo>
                    <a:lnTo>
                      <a:pt x="5146" y="3823"/>
                    </a:lnTo>
                    <a:lnTo>
                      <a:pt x="5123" y="3861"/>
                    </a:lnTo>
                    <a:lnTo>
                      <a:pt x="5099" y="3898"/>
                    </a:lnTo>
                    <a:lnTo>
                      <a:pt x="5075" y="3935"/>
                    </a:lnTo>
                    <a:lnTo>
                      <a:pt x="5050" y="3971"/>
                    </a:lnTo>
                    <a:lnTo>
                      <a:pt x="5023" y="4006"/>
                    </a:lnTo>
                    <a:lnTo>
                      <a:pt x="4997" y="4041"/>
                    </a:lnTo>
                    <a:lnTo>
                      <a:pt x="4970" y="4075"/>
                    </a:lnTo>
                    <a:lnTo>
                      <a:pt x="4940" y="4108"/>
                    </a:lnTo>
                    <a:lnTo>
                      <a:pt x="4912" y="4141"/>
                    </a:lnTo>
                    <a:lnTo>
                      <a:pt x="4882" y="4173"/>
                    </a:lnTo>
                    <a:lnTo>
                      <a:pt x="4851" y="4203"/>
                    </a:lnTo>
                    <a:lnTo>
                      <a:pt x="4890" y="4245"/>
                    </a:lnTo>
                    <a:lnTo>
                      <a:pt x="4931" y="4288"/>
                    </a:lnTo>
                    <a:lnTo>
                      <a:pt x="4977" y="4335"/>
                    </a:lnTo>
                    <a:lnTo>
                      <a:pt x="5023" y="4382"/>
                    </a:lnTo>
                    <a:lnTo>
                      <a:pt x="5120" y="4478"/>
                    </a:lnTo>
                    <a:lnTo>
                      <a:pt x="5214" y="4570"/>
                    </a:lnTo>
                    <a:lnTo>
                      <a:pt x="5298" y="4653"/>
                    </a:lnTo>
                    <a:lnTo>
                      <a:pt x="5368" y="4720"/>
                    </a:lnTo>
                    <a:lnTo>
                      <a:pt x="5413" y="4764"/>
                    </a:lnTo>
                    <a:lnTo>
                      <a:pt x="5430" y="4780"/>
                    </a:lnTo>
                    <a:lnTo>
                      <a:pt x="6419" y="4780"/>
                    </a:lnTo>
                    <a:lnTo>
                      <a:pt x="6419" y="4244"/>
                    </a:lnTo>
                    <a:lnTo>
                      <a:pt x="7267" y="5054"/>
                    </a:lnTo>
                    <a:lnTo>
                      <a:pt x="6413" y="5808"/>
                    </a:lnTo>
                    <a:lnTo>
                      <a:pt x="6403" y="5294"/>
                    </a:lnTo>
                    <a:lnTo>
                      <a:pt x="5094" y="5278"/>
                    </a:lnTo>
                    <a:lnTo>
                      <a:pt x="4405" y="4521"/>
                    </a:lnTo>
                    <a:lnTo>
                      <a:pt x="4363" y="4540"/>
                    </a:lnTo>
                    <a:lnTo>
                      <a:pt x="4321" y="4558"/>
                    </a:lnTo>
                    <a:lnTo>
                      <a:pt x="4279" y="4575"/>
                    </a:lnTo>
                    <a:lnTo>
                      <a:pt x="4236" y="4591"/>
                    </a:lnTo>
                    <a:lnTo>
                      <a:pt x="4192" y="4606"/>
                    </a:lnTo>
                    <a:lnTo>
                      <a:pt x="4149" y="4621"/>
                    </a:lnTo>
                    <a:lnTo>
                      <a:pt x="4104" y="4633"/>
                    </a:lnTo>
                    <a:lnTo>
                      <a:pt x="4059" y="4644"/>
                    </a:lnTo>
                    <a:lnTo>
                      <a:pt x="4014" y="4654"/>
                    </a:lnTo>
                    <a:lnTo>
                      <a:pt x="3968" y="4663"/>
                    </a:lnTo>
                    <a:lnTo>
                      <a:pt x="3922" y="4670"/>
                    </a:lnTo>
                    <a:lnTo>
                      <a:pt x="3875" y="4676"/>
                    </a:lnTo>
                    <a:lnTo>
                      <a:pt x="3829" y="4681"/>
                    </a:lnTo>
                    <a:lnTo>
                      <a:pt x="3781" y="4684"/>
                    </a:lnTo>
                    <a:lnTo>
                      <a:pt x="3733" y="4686"/>
                    </a:lnTo>
                    <a:lnTo>
                      <a:pt x="3686" y="4687"/>
                    </a:lnTo>
                    <a:lnTo>
                      <a:pt x="3632" y="4686"/>
                    </a:lnTo>
                    <a:lnTo>
                      <a:pt x="3579" y="4684"/>
                    </a:lnTo>
                    <a:lnTo>
                      <a:pt x="3527" y="4679"/>
                    </a:lnTo>
                    <a:lnTo>
                      <a:pt x="3475" y="4673"/>
                    </a:lnTo>
                    <a:lnTo>
                      <a:pt x="3423" y="4666"/>
                    </a:lnTo>
                    <a:lnTo>
                      <a:pt x="3373" y="4657"/>
                    </a:lnTo>
                    <a:lnTo>
                      <a:pt x="3322" y="4647"/>
                    </a:lnTo>
                    <a:lnTo>
                      <a:pt x="3273" y="4634"/>
                    </a:lnTo>
                    <a:lnTo>
                      <a:pt x="3223" y="4621"/>
                    </a:lnTo>
                    <a:lnTo>
                      <a:pt x="3174" y="4605"/>
                    </a:lnTo>
                    <a:lnTo>
                      <a:pt x="3127" y="4588"/>
                    </a:lnTo>
                    <a:lnTo>
                      <a:pt x="3079" y="4570"/>
                    </a:lnTo>
                    <a:lnTo>
                      <a:pt x="3033" y="4551"/>
                    </a:lnTo>
                    <a:lnTo>
                      <a:pt x="2986" y="4530"/>
                    </a:lnTo>
                    <a:lnTo>
                      <a:pt x="2941" y="4507"/>
                    </a:lnTo>
                    <a:lnTo>
                      <a:pt x="2897" y="4484"/>
                    </a:lnTo>
                    <a:close/>
                    <a:moveTo>
                      <a:pt x="3686" y="1721"/>
                    </a:moveTo>
                    <a:lnTo>
                      <a:pt x="3743" y="1723"/>
                    </a:lnTo>
                    <a:lnTo>
                      <a:pt x="3801" y="1727"/>
                    </a:lnTo>
                    <a:lnTo>
                      <a:pt x="3857" y="1735"/>
                    </a:lnTo>
                    <a:lnTo>
                      <a:pt x="3913" y="1745"/>
                    </a:lnTo>
                    <a:lnTo>
                      <a:pt x="3967" y="1758"/>
                    </a:lnTo>
                    <a:lnTo>
                      <a:pt x="4021" y="1774"/>
                    </a:lnTo>
                    <a:lnTo>
                      <a:pt x="4074" y="1793"/>
                    </a:lnTo>
                    <a:lnTo>
                      <a:pt x="4125" y="1814"/>
                    </a:lnTo>
                    <a:lnTo>
                      <a:pt x="4175" y="1838"/>
                    </a:lnTo>
                    <a:lnTo>
                      <a:pt x="4223" y="1864"/>
                    </a:lnTo>
                    <a:lnTo>
                      <a:pt x="4271" y="1893"/>
                    </a:lnTo>
                    <a:lnTo>
                      <a:pt x="4318" y="1924"/>
                    </a:lnTo>
                    <a:lnTo>
                      <a:pt x="4361" y="1956"/>
                    </a:lnTo>
                    <a:lnTo>
                      <a:pt x="4405" y="1992"/>
                    </a:lnTo>
                    <a:lnTo>
                      <a:pt x="4445" y="2029"/>
                    </a:lnTo>
                    <a:lnTo>
                      <a:pt x="4485" y="2068"/>
                    </a:lnTo>
                    <a:lnTo>
                      <a:pt x="4522" y="2109"/>
                    </a:lnTo>
                    <a:lnTo>
                      <a:pt x="4558" y="2152"/>
                    </a:lnTo>
                    <a:lnTo>
                      <a:pt x="4591" y="2197"/>
                    </a:lnTo>
                    <a:lnTo>
                      <a:pt x="4623" y="2243"/>
                    </a:lnTo>
                    <a:lnTo>
                      <a:pt x="4653" y="2292"/>
                    </a:lnTo>
                    <a:lnTo>
                      <a:pt x="4680" y="2341"/>
                    </a:lnTo>
                    <a:lnTo>
                      <a:pt x="4704" y="2392"/>
                    </a:lnTo>
                    <a:lnTo>
                      <a:pt x="4728" y="2444"/>
                    </a:lnTo>
                    <a:lnTo>
                      <a:pt x="4748" y="2498"/>
                    </a:lnTo>
                    <a:lnTo>
                      <a:pt x="4765" y="2553"/>
                    </a:lnTo>
                    <a:lnTo>
                      <a:pt x="4781" y="2609"/>
                    </a:lnTo>
                    <a:lnTo>
                      <a:pt x="4794" y="2666"/>
                    </a:lnTo>
                    <a:lnTo>
                      <a:pt x="4804" y="2724"/>
                    </a:lnTo>
                    <a:lnTo>
                      <a:pt x="4811" y="2783"/>
                    </a:lnTo>
                    <a:lnTo>
                      <a:pt x="4815" y="2844"/>
                    </a:lnTo>
                    <a:lnTo>
                      <a:pt x="4817" y="2904"/>
                    </a:lnTo>
                    <a:lnTo>
                      <a:pt x="4815" y="2965"/>
                    </a:lnTo>
                    <a:lnTo>
                      <a:pt x="4811" y="3025"/>
                    </a:lnTo>
                    <a:lnTo>
                      <a:pt x="4804" y="3084"/>
                    </a:lnTo>
                    <a:lnTo>
                      <a:pt x="4794" y="3142"/>
                    </a:lnTo>
                    <a:lnTo>
                      <a:pt x="4781" y="3200"/>
                    </a:lnTo>
                    <a:lnTo>
                      <a:pt x="4765" y="3255"/>
                    </a:lnTo>
                    <a:lnTo>
                      <a:pt x="4748" y="3311"/>
                    </a:lnTo>
                    <a:lnTo>
                      <a:pt x="4728" y="3364"/>
                    </a:lnTo>
                    <a:lnTo>
                      <a:pt x="4704" y="3417"/>
                    </a:lnTo>
                    <a:lnTo>
                      <a:pt x="4680" y="3467"/>
                    </a:lnTo>
                    <a:lnTo>
                      <a:pt x="4653" y="3517"/>
                    </a:lnTo>
                    <a:lnTo>
                      <a:pt x="4623" y="3565"/>
                    </a:lnTo>
                    <a:lnTo>
                      <a:pt x="4591" y="3612"/>
                    </a:lnTo>
                    <a:lnTo>
                      <a:pt x="4558" y="3656"/>
                    </a:lnTo>
                    <a:lnTo>
                      <a:pt x="4522" y="3699"/>
                    </a:lnTo>
                    <a:lnTo>
                      <a:pt x="4485" y="3740"/>
                    </a:lnTo>
                    <a:lnTo>
                      <a:pt x="4445" y="3780"/>
                    </a:lnTo>
                    <a:lnTo>
                      <a:pt x="4405" y="3817"/>
                    </a:lnTo>
                    <a:lnTo>
                      <a:pt x="4361" y="3852"/>
                    </a:lnTo>
                    <a:lnTo>
                      <a:pt x="4318" y="3885"/>
                    </a:lnTo>
                    <a:lnTo>
                      <a:pt x="4271" y="3916"/>
                    </a:lnTo>
                    <a:lnTo>
                      <a:pt x="4223" y="3944"/>
                    </a:lnTo>
                    <a:lnTo>
                      <a:pt x="4175" y="3971"/>
                    </a:lnTo>
                    <a:lnTo>
                      <a:pt x="4125" y="3994"/>
                    </a:lnTo>
                    <a:lnTo>
                      <a:pt x="4074" y="4015"/>
                    </a:lnTo>
                    <a:lnTo>
                      <a:pt x="4021" y="4034"/>
                    </a:lnTo>
                    <a:lnTo>
                      <a:pt x="3967" y="4051"/>
                    </a:lnTo>
                    <a:lnTo>
                      <a:pt x="3913" y="4064"/>
                    </a:lnTo>
                    <a:lnTo>
                      <a:pt x="3857" y="4074"/>
                    </a:lnTo>
                    <a:lnTo>
                      <a:pt x="3801" y="4081"/>
                    </a:lnTo>
                    <a:lnTo>
                      <a:pt x="3743" y="4086"/>
                    </a:lnTo>
                    <a:lnTo>
                      <a:pt x="3686" y="4087"/>
                    </a:lnTo>
                    <a:lnTo>
                      <a:pt x="3627" y="4086"/>
                    </a:lnTo>
                    <a:lnTo>
                      <a:pt x="3570" y="4081"/>
                    </a:lnTo>
                    <a:lnTo>
                      <a:pt x="3514" y="4074"/>
                    </a:lnTo>
                    <a:lnTo>
                      <a:pt x="3458" y="4064"/>
                    </a:lnTo>
                    <a:lnTo>
                      <a:pt x="3403" y="4051"/>
                    </a:lnTo>
                    <a:lnTo>
                      <a:pt x="3350" y="4034"/>
                    </a:lnTo>
                    <a:lnTo>
                      <a:pt x="3297" y="4015"/>
                    </a:lnTo>
                    <a:lnTo>
                      <a:pt x="3245" y="3994"/>
                    </a:lnTo>
                    <a:lnTo>
                      <a:pt x="3196" y="3971"/>
                    </a:lnTo>
                    <a:lnTo>
                      <a:pt x="3147" y="3944"/>
                    </a:lnTo>
                    <a:lnTo>
                      <a:pt x="3099" y="3916"/>
                    </a:lnTo>
                    <a:lnTo>
                      <a:pt x="3054" y="3885"/>
                    </a:lnTo>
                    <a:lnTo>
                      <a:pt x="3009" y="3852"/>
                    </a:lnTo>
                    <a:lnTo>
                      <a:pt x="2967" y="3817"/>
                    </a:lnTo>
                    <a:lnTo>
                      <a:pt x="2925" y="3780"/>
                    </a:lnTo>
                    <a:lnTo>
                      <a:pt x="2886" y="3740"/>
                    </a:lnTo>
                    <a:lnTo>
                      <a:pt x="2848" y="3699"/>
                    </a:lnTo>
                    <a:lnTo>
                      <a:pt x="2813" y="3656"/>
                    </a:lnTo>
                    <a:lnTo>
                      <a:pt x="2779" y="3612"/>
                    </a:lnTo>
                    <a:lnTo>
                      <a:pt x="2748" y="3565"/>
                    </a:lnTo>
                    <a:lnTo>
                      <a:pt x="2718" y="3517"/>
                    </a:lnTo>
                    <a:lnTo>
                      <a:pt x="2691" y="3467"/>
                    </a:lnTo>
                    <a:lnTo>
                      <a:pt x="2666" y="3417"/>
                    </a:lnTo>
                    <a:lnTo>
                      <a:pt x="2643" y="3364"/>
                    </a:lnTo>
                    <a:lnTo>
                      <a:pt x="2622" y="3311"/>
                    </a:lnTo>
                    <a:lnTo>
                      <a:pt x="2605" y="3255"/>
                    </a:lnTo>
                    <a:lnTo>
                      <a:pt x="2590" y="3200"/>
                    </a:lnTo>
                    <a:lnTo>
                      <a:pt x="2577" y="3142"/>
                    </a:lnTo>
                    <a:lnTo>
                      <a:pt x="2567" y="3084"/>
                    </a:lnTo>
                    <a:lnTo>
                      <a:pt x="2560" y="3025"/>
                    </a:lnTo>
                    <a:lnTo>
                      <a:pt x="2556" y="2965"/>
                    </a:lnTo>
                    <a:lnTo>
                      <a:pt x="2555" y="2904"/>
                    </a:lnTo>
                    <a:lnTo>
                      <a:pt x="2556" y="2844"/>
                    </a:lnTo>
                    <a:lnTo>
                      <a:pt x="2560" y="2783"/>
                    </a:lnTo>
                    <a:lnTo>
                      <a:pt x="2567" y="2724"/>
                    </a:lnTo>
                    <a:lnTo>
                      <a:pt x="2577" y="2666"/>
                    </a:lnTo>
                    <a:lnTo>
                      <a:pt x="2590" y="2609"/>
                    </a:lnTo>
                    <a:lnTo>
                      <a:pt x="2605" y="2553"/>
                    </a:lnTo>
                    <a:lnTo>
                      <a:pt x="2622" y="2498"/>
                    </a:lnTo>
                    <a:lnTo>
                      <a:pt x="2643" y="2444"/>
                    </a:lnTo>
                    <a:lnTo>
                      <a:pt x="2666" y="2392"/>
                    </a:lnTo>
                    <a:lnTo>
                      <a:pt x="2691" y="2341"/>
                    </a:lnTo>
                    <a:lnTo>
                      <a:pt x="2718" y="2292"/>
                    </a:lnTo>
                    <a:lnTo>
                      <a:pt x="2748" y="2243"/>
                    </a:lnTo>
                    <a:lnTo>
                      <a:pt x="2779" y="2197"/>
                    </a:lnTo>
                    <a:lnTo>
                      <a:pt x="2813" y="2152"/>
                    </a:lnTo>
                    <a:lnTo>
                      <a:pt x="2848" y="2109"/>
                    </a:lnTo>
                    <a:lnTo>
                      <a:pt x="2886" y="2068"/>
                    </a:lnTo>
                    <a:lnTo>
                      <a:pt x="2925" y="2029"/>
                    </a:lnTo>
                    <a:lnTo>
                      <a:pt x="2967" y="1992"/>
                    </a:lnTo>
                    <a:lnTo>
                      <a:pt x="3009" y="1956"/>
                    </a:lnTo>
                    <a:lnTo>
                      <a:pt x="3054" y="1924"/>
                    </a:lnTo>
                    <a:lnTo>
                      <a:pt x="3099" y="1893"/>
                    </a:lnTo>
                    <a:lnTo>
                      <a:pt x="3147" y="1864"/>
                    </a:lnTo>
                    <a:lnTo>
                      <a:pt x="3196" y="1838"/>
                    </a:lnTo>
                    <a:lnTo>
                      <a:pt x="3245" y="1814"/>
                    </a:lnTo>
                    <a:lnTo>
                      <a:pt x="3297" y="1793"/>
                    </a:lnTo>
                    <a:lnTo>
                      <a:pt x="3350" y="1774"/>
                    </a:lnTo>
                    <a:lnTo>
                      <a:pt x="3403" y="1758"/>
                    </a:lnTo>
                    <a:lnTo>
                      <a:pt x="3458" y="1745"/>
                    </a:lnTo>
                    <a:lnTo>
                      <a:pt x="3514" y="1735"/>
                    </a:lnTo>
                    <a:lnTo>
                      <a:pt x="3570" y="1727"/>
                    </a:lnTo>
                    <a:lnTo>
                      <a:pt x="3627" y="1723"/>
                    </a:lnTo>
                    <a:lnTo>
                      <a:pt x="3686" y="172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434480" y="3677400"/>
                <a:ext cx="287280" cy="246600"/>
              </a:xfrm>
              <a:custGeom>
                <a:avLst/>
                <a:gdLst/>
                <a:ahLst/>
                <a:rect l="l" t="t" r="r" b="b"/>
                <a:pathLst>
                  <a:path w="7268" h="5808">
                    <a:moveTo>
                      <a:pt x="2896" y="4484"/>
                    </a:moveTo>
                    <a:lnTo>
                      <a:pt x="2173" y="5278"/>
                    </a:lnTo>
                    <a:lnTo>
                      <a:pt x="865" y="5294"/>
                    </a:lnTo>
                    <a:lnTo>
                      <a:pt x="855" y="5808"/>
                    </a:lnTo>
                    <a:lnTo>
                      <a:pt x="0" y="5054"/>
                    </a:lnTo>
                    <a:lnTo>
                      <a:pt x="849" y="4245"/>
                    </a:lnTo>
                    <a:lnTo>
                      <a:pt x="849" y="4780"/>
                    </a:lnTo>
                    <a:lnTo>
                      <a:pt x="1837" y="4780"/>
                    </a:lnTo>
                    <a:lnTo>
                      <a:pt x="1857" y="4761"/>
                    </a:lnTo>
                    <a:lnTo>
                      <a:pt x="1912" y="4709"/>
                    </a:lnTo>
                    <a:lnTo>
                      <a:pt x="1992" y="4631"/>
                    </a:lnTo>
                    <a:lnTo>
                      <a:pt x="2089" y="4536"/>
                    </a:lnTo>
                    <a:lnTo>
                      <a:pt x="2193" y="4433"/>
                    </a:lnTo>
                    <a:lnTo>
                      <a:pt x="2298" y="4327"/>
                    </a:lnTo>
                    <a:lnTo>
                      <a:pt x="2346" y="4278"/>
                    </a:lnTo>
                    <a:lnTo>
                      <a:pt x="2391" y="4230"/>
                    </a:lnTo>
                    <a:lnTo>
                      <a:pt x="2431" y="4187"/>
                    </a:lnTo>
                    <a:lnTo>
                      <a:pt x="2466" y="4149"/>
                    </a:lnTo>
                    <a:lnTo>
                      <a:pt x="2438" y="4118"/>
                    </a:lnTo>
                    <a:lnTo>
                      <a:pt x="2411" y="4087"/>
                    </a:lnTo>
                    <a:lnTo>
                      <a:pt x="2385" y="4055"/>
                    </a:lnTo>
                    <a:lnTo>
                      <a:pt x="2359" y="4022"/>
                    </a:lnTo>
                    <a:lnTo>
                      <a:pt x="2334" y="3989"/>
                    </a:lnTo>
                    <a:lnTo>
                      <a:pt x="2310" y="3956"/>
                    </a:lnTo>
                    <a:lnTo>
                      <a:pt x="2286" y="3921"/>
                    </a:lnTo>
                    <a:lnTo>
                      <a:pt x="2263" y="3886"/>
                    </a:lnTo>
                    <a:lnTo>
                      <a:pt x="2242" y="3850"/>
                    </a:lnTo>
                    <a:lnTo>
                      <a:pt x="2221" y="3815"/>
                    </a:lnTo>
                    <a:lnTo>
                      <a:pt x="2200" y="3778"/>
                    </a:lnTo>
                    <a:lnTo>
                      <a:pt x="2180" y="3741"/>
                    </a:lnTo>
                    <a:lnTo>
                      <a:pt x="2162" y="3703"/>
                    </a:lnTo>
                    <a:lnTo>
                      <a:pt x="2144" y="3664"/>
                    </a:lnTo>
                    <a:lnTo>
                      <a:pt x="2126" y="3626"/>
                    </a:lnTo>
                    <a:lnTo>
                      <a:pt x="2111" y="3587"/>
                    </a:lnTo>
                    <a:lnTo>
                      <a:pt x="2095" y="3547"/>
                    </a:lnTo>
                    <a:lnTo>
                      <a:pt x="2081" y="3507"/>
                    </a:lnTo>
                    <a:lnTo>
                      <a:pt x="2068" y="3466"/>
                    </a:lnTo>
                    <a:lnTo>
                      <a:pt x="2055" y="3426"/>
                    </a:lnTo>
                    <a:lnTo>
                      <a:pt x="2043" y="3384"/>
                    </a:lnTo>
                    <a:lnTo>
                      <a:pt x="2032" y="3342"/>
                    </a:lnTo>
                    <a:lnTo>
                      <a:pt x="2023" y="3300"/>
                    </a:lnTo>
                    <a:lnTo>
                      <a:pt x="2014" y="3257"/>
                    </a:lnTo>
                    <a:lnTo>
                      <a:pt x="2006" y="3215"/>
                    </a:lnTo>
                    <a:lnTo>
                      <a:pt x="2000" y="3171"/>
                    </a:lnTo>
                    <a:lnTo>
                      <a:pt x="1994" y="3128"/>
                    </a:lnTo>
                    <a:lnTo>
                      <a:pt x="1989" y="3083"/>
                    </a:lnTo>
                    <a:lnTo>
                      <a:pt x="1986" y="3039"/>
                    </a:lnTo>
                    <a:lnTo>
                      <a:pt x="1983" y="2994"/>
                    </a:lnTo>
                    <a:lnTo>
                      <a:pt x="1982" y="2950"/>
                    </a:lnTo>
                    <a:lnTo>
                      <a:pt x="1981" y="2904"/>
                    </a:lnTo>
                    <a:lnTo>
                      <a:pt x="1982" y="2859"/>
                    </a:lnTo>
                    <a:lnTo>
                      <a:pt x="1983" y="2814"/>
                    </a:lnTo>
                    <a:lnTo>
                      <a:pt x="1986" y="2770"/>
                    </a:lnTo>
                    <a:lnTo>
                      <a:pt x="1989" y="2725"/>
                    </a:lnTo>
                    <a:lnTo>
                      <a:pt x="1994" y="2681"/>
                    </a:lnTo>
                    <a:lnTo>
                      <a:pt x="2000" y="2638"/>
                    </a:lnTo>
                    <a:lnTo>
                      <a:pt x="2006" y="2594"/>
                    </a:lnTo>
                    <a:lnTo>
                      <a:pt x="2014" y="2552"/>
                    </a:lnTo>
                    <a:lnTo>
                      <a:pt x="2023" y="2509"/>
                    </a:lnTo>
                    <a:lnTo>
                      <a:pt x="2032" y="2467"/>
                    </a:lnTo>
                    <a:lnTo>
                      <a:pt x="2043" y="2425"/>
                    </a:lnTo>
                    <a:lnTo>
                      <a:pt x="2055" y="2384"/>
                    </a:lnTo>
                    <a:lnTo>
                      <a:pt x="2068" y="2342"/>
                    </a:lnTo>
                    <a:lnTo>
                      <a:pt x="2081" y="2302"/>
                    </a:lnTo>
                    <a:lnTo>
                      <a:pt x="2095" y="2262"/>
                    </a:lnTo>
                    <a:lnTo>
                      <a:pt x="2111" y="2222"/>
                    </a:lnTo>
                    <a:lnTo>
                      <a:pt x="2126" y="2183"/>
                    </a:lnTo>
                    <a:lnTo>
                      <a:pt x="2144" y="2144"/>
                    </a:lnTo>
                    <a:lnTo>
                      <a:pt x="2162" y="2106"/>
                    </a:lnTo>
                    <a:lnTo>
                      <a:pt x="2180" y="2068"/>
                    </a:lnTo>
                    <a:lnTo>
                      <a:pt x="2200" y="2031"/>
                    </a:lnTo>
                    <a:lnTo>
                      <a:pt x="2221" y="1995"/>
                    </a:lnTo>
                    <a:lnTo>
                      <a:pt x="2242" y="1958"/>
                    </a:lnTo>
                    <a:lnTo>
                      <a:pt x="2263" y="1923"/>
                    </a:lnTo>
                    <a:lnTo>
                      <a:pt x="2286" y="1888"/>
                    </a:lnTo>
                    <a:lnTo>
                      <a:pt x="2310" y="1853"/>
                    </a:lnTo>
                    <a:lnTo>
                      <a:pt x="2334" y="1820"/>
                    </a:lnTo>
                    <a:lnTo>
                      <a:pt x="2358" y="1786"/>
                    </a:lnTo>
                    <a:lnTo>
                      <a:pt x="2385" y="1754"/>
                    </a:lnTo>
                    <a:lnTo>
                      <a:pt x="2411" y="1723"/>
                    </a:lnTo>
                    <a:lnTo>
                      <a:pt x="2438" y="1691"/>
                    </a:lnTo>
                    <a:lnTo>
                      <a:pt x="2466" y="1661"/>
                    </a:lnTo>
                    <a:lnTo>
                      <a:pt x="2431" y="1622"/>
                    </a:lnTo>
                    <a:lnTo>
                      <a:pt x="2391" y="1578"/>
                    </a:lnTo>
                    <a:lnTo>
                      <a:pt x="2346" y="1532"/>
                    </a:lnTo>
                    <a:lnTo>
                      <a:pt x="2298" y="1481"/>
                    </a:lnTo>
                    <a:lnTo>
                      <a:pt x="2193" y="1376"/>
                    </a:lnTo>
                    <a:lnTo>
                      <a:pt x="2089" y="1273"/>
                    </a:lnTo>
                    <a:lnTo>
                      <a:pt x="1992" y="1178"/>
                    </a:lnTo>
                    <a:lnTo>
                      <a:pt x="1912" y="1100"/>
                    </a:lnTo>
                    <a:lnTo>
                      <a:pt x="1857" y="1048"/>
                    </a:lnTo>
                    <a:lnTo>
                      <a:pt x="1837" y="1028"/>
                    </a:lnTo>
                    <a:lnTo>
                      <a:pt x="849" y="1028"/>
                    </a:lnTo>
                    <a:lnTo>
                      <a:pt x="849" y="1564"/>
                    </a:lnTo>
                    <a:lnTo>
                      <a:pt x="0" y="754"/>
                    </a:lnTo>
                    <a:lnTo>
                      <a:pt x="855" y="0"/>
                    </a:lnTo>
                    <a:lnTo>
                      <a:pt x="865" y="515"/>
                    </a:lnTo>
                    <a:lnTo>
                      <a:pt x="2173" y="531"/>
                    </a:lnTo>
                    <a:lnTo>
                      <a:pt x="2896" y="1325"/>
                    </a:lnTo>
                    <a:lnTo>
                      <a:pt x="2941" y="1301"/>
                    </a:lnTo>
                    <a:lnTo>
                      <a:pt x="2986" y="1279"/>
                    </a:lnTo>
                    <a:lnTo>
                      <a:pt x="3033" y="1258"/>
                    </a:lnTo>
                    <a:lnTo>
                      <a:pt x="3079" y="1239"/>
                    </a:lnTo>
                    <a:lnTo>
                      <a:pt x="3127" y="1220"/>
                    </a:lnTo>
                    <a:lnTo>
                      <a:pt x="3175" y="1203"/>
                    </a:lnTo>
                    <a:lnTo>
                      <a:pt x="3223" y="1188"/>
                    </a:lnTo>
                    <a:lnTo>
                      <a:pt x="3273" y="1174"/>
                    </a:lnTo>
                    <a:lnTo>
                      <a:pt x="3322" y="1162"/>
                    </a:lnTo>
                    <a:lnTo>
                      <a:pt x="3373" y="1152"/>
                    </a:lnTo>
                    <a:lnTo>
                      <a:pt x="3424" y="1143"/>
                    </a:lnTo>
                    <a:lnTo>
                      <a:pt x="3475" y="1135"/>
                    </a:lnTo>
                    <a:lnTo>
                      <a:pt x="3527" y="1129"/>
                    </a:lnTo>
                    <a:lnTo>
                      <a:pt x="3580" y="1124"/>
                    </a:lnTo>
                    <a:lnTo>
                      <a:pt x="3632" y="1122"/>
                    </a:lnTo>
                    <a:lnTo>
                      <a:pt x="3686" y="1121"/>
                    </a:lnTo>
                    <a:lnTo>
                      <a:pt x="3734" y="1122"/>
                    </a:lnTo>
                    <a:lnTo>
                      <a:pt x="3781" y="1124"/>
                    </a:lnTo>
                    <a:lnTo>
                      <a:pt x="3829" y="1127"/>
                    </a:lnTo>
                    <a:lnTo>
                      <a:pt x="3875" y="1133"/>
                    </a:lnTo>
                    <a:lnTo>
                      <a:pt x="3922" y="1139"/>
                    </a:lnTo>
                    <a:lnTo>
                      <a:pt x="3967" y="1146"/>
                    </a:lnTo>
                    <a:lnTo>
                      <a:pt x="4014" y="1155"/>
                    </a:lnTo>
                    <a:lnTo>
                      <a:pt x="4060" y="1165"/>
                    </a:lnTo>
                    <a:lnTo>
                      <a:pt x="4104" y="1176"/>
                    </a:lnTo>
                    <a:lnTo>
                      <a:pt x="4149" y="1189"/>
                    </a:lnTo>
                    <a:lnTo>
                      <a:pt x="4192" y="1202"/>
                    </a:lnTo>
                    <a:lnTo>
                      <a:pt x="4236" y="1217"/>
                    </a:lnTo>
                    <a:lnTo>
                      <a:pt x="4278" y="1234"/>
                    </a:lnTo>
                    <a:lnTo>
                      <a:pt x="4321" y="1251"/>
                    </a:lnTo>
                    <a:lnTo>
                      <a:pt x="4363" y="1269"/>
                    </a:lnTo>
                    <a:lnTo>
                      <a:pt x="4404" y="1288"/>
                    </a:lnTo>
                    <a:lnTo>
                      <a:pt x="5095" y="531"/>
                    </a:lnTo>
                    <a:lnTo>
                      <a:pt x="6403" y="515"/>
                    </a:lnTo>
                    <a:lnTo>
                      <a:pt x="6413" y="0"/>
                    </a:lnTo>
                    <a:lnTo>
                      <a:pt x="7268" y="754"/>
                    </a:lnTo>
                    <a:lnTo>
                      <a:pt x="6418" y="1564"/>
                    </a:lnTo>
                    <a:lnTo>
                      <a:pt x="6418" y="1028"/>
                    </a:lnTo>
                    <a:lnTo>
                      <a:pt x="5431" y="1028"/>
                    </a:lnTo>
                    <a:lnTo>
                      <a:pt x="5413" y="1045"/>
                    </a:lnTo>
                    <a:lnTo>
                      <a:pt x="5367" y="1089"/>
                    </a:lnTo>
                    <a:lnTo>
                      <a:pt x="5298" y="1156"/>
                    </a:lnTo>
                    <a:lnTo>
                      <a:pt x="5214" y="1239"/>
                    </a:lnTo>
                    <a:lnTo>
                      <a:pt x="5120" y="1331"/>
                    </a:lnTo>
                    <a:lnTo>
                      <a:pt x="5024" y="1427"/>
                    </a:lnTo>
                    <a:lnTo>
                      <a:pt x="4976" y="1474"/>
                    </a:lnTo>
                    <a:lnTo>
                      <a:pt x="4931" y="1521"/>
                    </a:lnTo>
                    <a:lnTo>
                      <a:pt x="4890" y="1564"/>
                    </a:lnTo>
                    <a:lnTo>
                      <a:pt x="4851" y="1606"/>
                    </a:lnTo>
                    <a:lnTo>
                      <a:pt x="4882" y="1637"/>
                    </a:lnTo>
                    <a:lnTo>
                      <a:pt x="4912" y="1668"/>
                    </a:lnTo>
                    <a:lnTo>
                      <a:pt x="4941" y="1701"/>
                    </a:lnTo>
                    <a:lnTo>
                      <a:pt x="4970" y="1734"/>
                    </a:lnTo>
                    <a:lnTo>
                      <a:pt x="4997" y="1768"/>
                    </a:lnTo>
                    <a:lnTo>
                      <a:pt x="5024" y="1803"/>
                    </a:lnTo>
                    <a:lnTo>
                      <a:pt x="5050" y="1838"/>
                    </a:lnTo>
                    <a:lnTo>
                      <a:pt x="5075" y="1873"/>
                    </a:lnTo>
                    <a:lnTo>
                      <a:pt x="5100" y="1911"/>
                    </a:lnTo>
                    <a:lnTo>
                      <a:pt x="5123" y="1948"/>
                    </a:lnTo>
                    <a:lnTo>
                      <a:pt x="5145" y="1987"/>
                    </a:lnTo>
                    <a:lnTo>
                      <a:pt x="5167" y="2025"/>
                    </a:lnTo>
                    <a:lnTo>
                      <a:pt x="5188" y="2064"/>
                    </a:lnTo>
                    <a:lnTo>
                      <a:pt x="5208" y="2104"/>
                    </a:lnTo>
                    <a:lnTo>
                      <a:pt x="5227" y="2144"/>
                    </a:lnTo>
                    <a:lnTo>
                      <a:pt x="5245" y="2186"/>
                    </a:lnTo>
                    <a:lnTo>
                      <a:pt x="5262" y="2227"/>
                    </a:lnTo>
                    <a:lnTo>
                      <a:pt x="5278" y="2269"/>
                    </a:lnTo>
                    <a:lnTo>
                      <a:pt x="5293" y="2311"/>
                    </a:lnTo>
                    <a:lnTo>
                      <a:pt x="5307" y="2355"/>
                    </a:lnTo>
                    <a:lnTo>
                      <a:pt x="5320" y="2398"/>
                    </a:lnTo>
                    <a:lnTo>
                      <a:pt x="5331" y="2442"/>
                    </a:lnTo>
                    <a:lnTo>
                      <a:pt x="5343" y="2487"/>
                    </a:lnTo>
                    <a:lnTo>
                      <a:pt x="5353" y="2531"/>
                    </a:lnTo>
                    <a:lnTo>
                      <a:pt x="5361" y="2577"/>
                    </a:lnTo>
                    <a:lnTo>
                      <a:pt x="5369" y="2622"/>
                    </a:lnTo>
                    <a:lnTo>
                      <a:pt x="5375" y="2669"/>
                    </a:lnTo>
                    <a:lnTo>
                      <a:pt x="5380" y="2715"/>
                    </a:lnTo>
                    <a:lnTo>
                      <a:pt x="5385" y="2762"/>
                    </a:lnTo>
                    <a:lnTo>
                      <a:pt x="5388" y="2809"/>
                    </a:lnTo>
                    <a:lnTo>
                      <a:pt x="5389" y="2857"/>
                    </a:lnTo>
                    <a:lnTo>
                      <a:pt x="5390" y="2904"/>
                    </a:lnTo>
                    <a:lnTo>
                      <a:pt x="5389" y="2952"/>
                    </a:lnTo>
                    <a:lnTo>
                      <a:pt x="5388" y="2999"/>
                    </a:lnTo>
                    <a:lnTo>
                      <a:pt x="5385" y="3047"/>
                    </a:lnTo>
                    <a:lnTo>
                      <a:pt x="5380" y="3093"/>
                    </a:lnTo>
                    <a:lnTo>
                      <a:pt x="5375" y="3140"/>
                    </a:lnTo>
                    <a:lnTo>
                      <a:pt x="5369" y="3186"/>
                    </a:lnTo>
                    <a:lnTo>
                      <a:pt x="5361" y="3232"/>
                    </a:lnTo>
                    <a:lnTo>
                      <a:pt x="5353" y="3277"/>
                    </a:lnTo>
                    <a:lnTo>
                      <a:pt x="5343" y="3322"/>
                    </a:lnTo>
                    <a:lnTo>
                      <a:pt x="5331" y="3367"/>
                    </a:lnTo>
                    <a:lnTo>
                      <a:pt x="5320" y="3411"/>
                    </a:lnTo>
                    <a:lnTo>
                      <a:pt x="5307" y="3454"/>
                    </a:lnTo>
                    <a:lnTo>
                      <a:pt x="5293" y="3498"/>
                    </a:lnTo>
                    <a:lnTo>
                      <a:pt x="5278" y="3540"/>
                    </a:lnTo>
                    <a:lnTo>
                      <a:pt x="5262" y="3583"/>
                    </a:lnTo>
                    <a:lnTo>
                      <a:pt x="5245" y="3624"/>
                    </a:lnTo>
                    <a:lnTo>
                      <a:pt x="5227" y="3664"/>
                    </a:lnTo>
                    <a:lnTo>
                      <a:pt x="5208" y="3705"/>
                    </a:lnTo>
                    <a:lnTo>
                      <a:pt x="5188" y="3745"/>
                    </a:lnTo>
                    <a:lnTo>
                      <a:pt x="5167" y="3785"/>
                    </a:lnTo>
                    <a:lnTo>
                      <a:pt x="5145" y="3823"/>
                    </a:lnTo>
                    <a:lnTo>
                      <a:pt x="5123" y="3861"/>
                    </a:lnTo>
                    <a:lnTo>
                      <a:pt x="5100" y="3899"/>
                    </a:lnTo>
                    <a:lnTo>
                      <a:pt x="5075" y="3935"/>
                    </a:lnTo>
                    <a:lnTo>
                      <a:pt x="5050" y="3972"/>
                    </a:lnTo>
                    <a:lnTo>
                      <a:pt x="5024" y="4007"/>
                    </a:lnTo>
                    <a:lnTo>
                      <a:pt x="4997" y="4041"/>
                    </a:lnTo>
                    <a:lnTo>
                      <a:pt x="4969" y="4075"/>
                    </a:lnTo>
                    <a:lnTo>
                      <a:pt x="4941" y="4108"/>
                    </a:lnTo>
                    <a:lnTo>
                      <a:pt x="4911" y="4141"/>
                    </a:lnTo>
                    <a:lnTo>
                      <a:pt x="4882" y="4173"/>
                    </a:lnTo>
                    <a:lnTo>
                      <a:pt x="4851" y="4203"/>
                    </a:lnTo>
                    <a:lnTo>
                      <a:pt x="4890" y="4245"/>
                    </a:lnTo>
                    <a:lnTo>
                      <a:pt x="4931" y="4289"/>
                    </a:lnTo>
                    <a:lnTo>
                      <a:pt x="4976" y="4335"/>
                    </a:lnTo>
                    <a:lnTo>
                      <a:pt x="5024" y="4382"/>
                    </a:lnTo>
                    <a:lnTo>
                      <a:pt x="5120" y="4478"/>
                    </a:lnTo>
                    <a:lnTo>
                      <a:pt x="5214" y="4571"/>
                    </a:lnTo>
                    <a:lnTo>
                      <a:pt x="5298" y="4653"/>
                    </a:lnTo>
                    <a:lnTo>
                      <a:pt x="5367" y="4720"/>
                    </a:lnTo>
                    <a:lnTo>
                      <a:pt x="5413" y="4764"/>
                    </a:lnTo>
                    <a:lnTo>
                      <a:pt x="5431" y="4780"/>
                    </a:lnTo>
                    <a:lnTo>
                      <a:pt x="6418" y="4780"/>
                    </a:lnTo>
                    <a:lnTo>
                      <a:pt x="6418" y="4245"/>
                    </a:lnTo>
                    <a:lnTo>
                      <a:pt x="7268" y="5054"/>
                    </a:lnTo>
                    <a:lnTo>
                      <a:pt x="6413" y="5808"/>
                    </a:lnTo>
                    <a:lnTo>
                      <a:pt x="6403" y="5294"/>
                    </a:lnTo>
                    <a:lnTo>
                      <a:pt x="5095" y="5278"/>
                    </a:lnTo>
                    <a:lnTo>
                      <a:pt x="4404" y="4521"/>
                    </a:lnTo>
                    <a:lnTo>
                      <a:pt x="4363" y="4540"/>
                    </a:lnTo>
                    <a:lnTo>
                      <a:pt x="4321" y="4558"/>
                    </a:lnTo>
                    <a:lnTo>
                      <a:pt x="4278" y="4575"/>
                    </a:lnTo>
                    <a:lnTo>
                      <a:pt x="4236" y="4591"/>
                    </a:lnTo>
                    <a:lnTo>
                      <a:pt x="4192" y="4606"/>
                    </a:lnTo>
                    <a:lnTo>
                      <a:pt x="4149" y="4621"/>
                    </a:lnTo>
                    <a:lnTo>
                      <a:pt x="4104" y="4633"/>
                    </a:lnTo>
                    <a:lnTo>
                      <a:pt x="4060" y="4644"/>
                    </a:lnTo>
                    <a:lnTo>
                      <a:pt x="4014" y="4654"/>
                    </a:lnTo>
                    <a:lnTo>
                      <a:pt x="3967" y="4663"/>
                    </a:lnTo>
                    <a:lnTo>
                      <a:pt x="3922" y="4670"/>
                    </a:lnTo>
                    <a:lnTo>
                      <a:pt x="3875" y="4676"/>
                    </a:lnTo>
                    <a:lnTo>
                      <a:pt x="3829" y="4681"/>
                    </a:lnTo>
                    <a:lnTo>
                      <a:pt x="3781" y="4684"/>
                    </a:lnTo>
                    <a:lnTo>
                      <a:pt x="3734" y="4686"/>
                    </a:lnTo>
                    <a:lnTo>
                      <a:pt x="3686" y="4687"/>
                    </a:lnTo>
                    <a:lnTo>
                      <a:pt x="3632" y="4686"/>
                    </a:lnTo>
                    <a:lnTo>
                      <a:pt x="3580" y="4684"/>
                    </a:lnTo>
                    <a:lnTo>
                      <a:pt x="3527" y="4680"/>
                    </a:lnTo>
                    <a:lnTo>
                      <a:pt x="3475" y="4674"/>
                    </a:lnTo>
                    <a:lnTo>
                      <a:pt x="3424" y="4666"/>
                    </a:lnTo>
                    <a:lnTo>
                      <a:pt x="3373" y="4657"/>
                    </a:lnTo>
                    <a:lnTo>
                      <a:pt x="3322" y="4647"/>
                    </a:lnTo>
                    <a:lnTo>
                      <a:pt x="3273" y="4635"/>
                    </a:lnTo>
                    <a:lnTo>
                      <a:pt x="3223" y="4621"/>
                    </a:lnTo>
                    <a:lnTo>
                      <a:pt x="3175" y="4605"/>
                    </a:lnTo>
                    <a:lnTo>
                      <a:pt x="3127" y="4589"/>
                    </a:lnTo>
                    <a:lnTo>
                      <a:pt x="3079" y="4571"/>
                    </a:lnTo>
                    <a:lnTo>
                      <a:pt x="3033" y="4551"/>
                    </a:lnTo>
                    <a:lnTo>
                      <a:pt x="2986" y="4530"/>
                    </a:lnTo>
                    <a:lnTo>
                      <a:pt x="2941" y="4507"/>
                    </a:lnTo>
                    <a:lnTo>
                      <a:pt x="2896" y="4484"/>
                    </a:lnTo>
                    <a:close/>
                    <a:moveTo>
                      <a:pt x="3686" y="1721"/>
                    </a:moveTo>
                    <a:lnTo>
                      <a:pt x="3744" y="1723"/>
                    </a:lnTo>
                    <a:lnTo>
                      <a:pt x="3800" y="1727"/>
                    </a:lnTo>
                    <a:lnTo>
                      <a:pt x="3857" y="1735"/>
                    </a:lnTo>
                    <a:lnTo>
                      <a:pt x="3913" y="1745"/>
                    </a:lnTo>
                    <a:lnTo>
                      <a:pt x="3967" y="1758"/>
                    </a:lnTo>
                    <a:lnTo>
                      <a:pt x="4021" y="1774"/>
                    </a:lnTo>
                    <a:lnTo>
                      <a:pt x="4074" y="1794"/>
                    </a:lnTo>
                    <a:lnTo>
                      <a:pt x="4125" y="1815"/>
                    </a:lnTo>
                    <a:lnTo>
                      <a:pt x="4175" y="1838"/>
                    </a:lnTo>
                    <a:lnTo>
                      <a:pt x="4224" y="1864"/>
                    </a:lnTo>
                    <a:lnTo>
                      <a:pt x="4271" y="1893"/>
                    </a:lnTo>
                    <a:lnTo>
                      <a:pt x="4317" y="1924"/>
                    </a:lnTo>
                    <a:lnTo>
                      <a:pt x="4361" y="1956"/>
                    </a:lnTo>
                    <a:lnTo>
                      <a:pt x="4404" y="1992"/>
                    </a:lnTo>
                    <a:lnTo>
                      <a:pt x="4445" y="2029"/>
                    </a:lnTo>
                    <a:lnTo>
                      <a:pt x="4485" y="2068"/>
                    </a:lnTo>
                    <a:lnTo>
                      <a:pt x="4522" y="2110"/>
                    </a:lnTo>
                    <a:lnTo>
                      <a:pt x="4558" y="2152"/>
                    </a:lnTo>
                    <a:lnTo>
                      <a:pt x="4591" y="2197"/>
                    </a:lnTo>
                    <a:lnTo>
                      <a:pt x="4623" y="2243"/>
                    </a:lnTo>
                    <a:lnTo>
                      <a:pt x="4652" y="2292"/>
                    </a:lnTo>
                    <a:lnTo>
                      <a:pt x="4679" y="2341"/>
                    </a:lnTo>
                    <a:lnTo>
                      <a:pt x="4705" y="2392"/>
                    </a:lnTo>
                    <a:lnTo>
                      <a:pt x="4728" y="2444"/>
                    </a:lnTo>
                    <a:lnTo>
                      <a:pt x="4748" y="2498"/>
                    </a:lnTo>
                    <a:lnTo>
                      <a:pt x="4765" y="2554"/>
                    </a:lnTo>
                    <a:lnTo>
                      <a:pt x="4781" y="2609"/>
                    </a:lnTo>
                    <a:lnTo>
                      <a:pt x="4794" y="2667"/>
                    </a:lnTo>
                    <a:lnTo>
                      <a:pt x="4804" y="2724"/>
                    </a:lnTo>
                    <a:lnTo>
                      <a:pt x="4811" y="2784"/>
                    </a:lnTo>
                    <a:lnTo>
                      <a:pt x="4815" y="2844"/>
                    </a:lnTo>
                    <a:lnTo>
                      <a:pt x="4817" y="2904"/>
                    </a:lnTo>
                    <a:lnTo>
                      <a:pt x="4815" y="2965"/>
                    </a:lnTo>
                    <a:lnTo>
                      <a:pt x="4811" y="3025"/>
                    </a:lnTo>
                    <a:lnTo>
                      <a:pt x="4804" y="3084"/>
                    </a:lnTo>
                    <a:lnTo>
                      <a:pt x="4794" y="3143"/>
                    </a:lnTo>
                    <a:lnTo>
                      <a:pt x="4781" y="3200"/>
                    </a:lnTo>
                    <a:lnTo>
                      <a:pt x="4765" y="3256"/>
                    </a:lnTo>
                    <a:lnTo>
                      <a:pt x="4748" y="3311"/>
                    </a:lnTo>
                    <a:lnTo>
                      <a:pt x="4728" y="3364"/>
                    </a:lnTo>
                    <a:lnTo>
                      <a:pt x="4705" y="3417"/>
                    </a:lnTo>
                    <a:lnTo>
                      <a:pt x="4679" y="3467"/>
                    </a:lnTo>
                    <a:lnTo>
                      <a:pt x="4652" y="3517"/>
                    </a:lnTo>
                    <a:lnTo>
                      <a:pt x="4623" y="3565"/>
                    </a:lnTo>
                    <a:lnTo>
                      <a:pt x="4591" y="3612"/>
                    </a:lnTo>
                    <a:lnTo>
                      <a:pt x="4558" y="3656"/>
                    </a:lnTo>
                    <a:lnTo>
                      <a:pt x="4522" y="3700"/>
                    </a:lnTo>
                    <a:lnTo>
                      <a:pt x="4485" y="3740"/>
                    </a:lnTo>
                    <a:lnTo>
                      <a:pt x="4445" y="3780"/>
                    </a:lnTo>
                    <a:lnTo>
                      <a:pt x="4404" y="3817"/>
                    </a:lnTo>
                    <a:lnTo>
                      <a:pt x="4361" y="3852"/>
                    </a:lnTo>
                    <a:lnTo>
                      <a:pt x="4317" y="3885"/>
                    </a:lnTo>
                    <a:lnTo>
                      <a:pt x="4271" y="3916"/>
                    </a:lnTo>
                    <a:lnTo>
                      <a:pt x="4224" y="3944"/>
                    </a:lnTo>
                    <a:lnTo>
                      <a:pt x="4175" y="3971"/>
                    </a:lnTo>
                    <a:lnTo>
                      <a:pt x="4125" y="3994"/>
                    </a:lnTo>
                    <a:lnTo>
                      <a:pt x="4074" y="4016"/>
                    </a:lnTo>
                    <a:lnTo>
                      <a:pt x="4021" y="4034"/>
                    </a:lnTo>
                    <a:lnTo>
                      <a:pt x="3967" y="4051"/>
                    </a:lnTo>
                    <a:lnTo>
                      <a:pt x="3913" y="4064"/>
                    </a:lnTo>
                    <a:lnTo>
                      <a:pt x="3857" y="4074"/>
                    </a:lnTo>
                    <a:lnTo>
                      <a:pt x="3800" y="4082"/>
                    </a:lnTo>
                    <a:lnTo>
                      <a:pt x="3744" y="4086"/>
                    </a:lnTo>
                    <a:lnTo>
                      <a:pt x="3686" y="4088"/>
                    </a:lnTo>
                    <a:lnTo>
                      <a:pt x="3627" y="4086"/>
                    </a:lnTo>
                    <a:lnTo>
                      <a:pt x="3569" y="4082"/>
                    </a:lnTo>
                    <a:lnTo>
                      <a:pt x="3514" y="4074"/>
                    </a:lnTo>
                    <a:lnTo>
                      <a:pt x="3458" y="4064"/>
                    </a:lnTo>
                    <a:lnTo>
                      <a:pt x="3403" y="4051"/>
                    </a:lnTo>
                    <a:lnTo>
                      <a:pt x="3350" y="4034"/>
                    </a:lnTo>
                    <a:lnTo>
                      <a:pt x="3297" y="4016"/>
                    </a:lnTo>
                    <a:lnTo>
                      <a:pt x="3245" y="3994"/>
                    </a:lnTo>
                    <a:lnTo>
                      <a:pt x="3196" y="3971"/>
                    </a:lnTo>
                    <a:lnTo>
                      <a:pt x="3147" y="3944"/>
                    </a:lnTo>
                    <a:lnTo>
                      <a:pt x="3100" y="3916"/>
                    </a:lnTo>
                    <a:lnTo>
                      <a:pt x="3053" y="3885"/>
                    </a:lnTo>
                    <a:lnTo>
                      <a:pt x="3009" y="3852"/>
                    </a:lnTo>
                    <a:lnTo>
                      <a:pt x="2966" y="3817"/>
                    </a:lnTo>
                    <a:lnTo>
                      <a:pt x="2925" y="3780"/>
                    </a:lnTo>
                    <a:lnTo>
                      <a:pt x="2886" y="3740"/>
                    </a:lnTo>
                    <a:lnTo>
                      <a:pt x="2848" y="3700"/>
                    </a:lnTo>
                    <a:lnTo>
                      <a:pt x="2813" y="3656"/>
                    </a:lnTo>
                    <a:lnTo>
                      <a:pt x="2780" y="3612"/>
                    </a:lnTo>
                    <a:lnTo>
                      <a:pt x="2747" y="3565"/>
                    </a:lnTo>
                    <a:lnTo>
                      <a:pt x="2718" y="3517"/>
                    </a:lnTo>
                    <a:lnTo>
                      <a:pt x="2691" y="3467"/>
                    </a:lnTo>
                    <a:lnTo>
                      <a:pt x="2666" y="3417"/>
                    </a:lnTo>
                    <a:lnTo>
                      <a:pt x="2643" y="3364"/>
                    </a:lnTo>
                    <a:lnTo>
                      <a:pt x="2623" y="3311"/>
                    </a:lnTo>
                    <a:lnTo>
                      <a:pt x="2605" y="3256"/>
                    </a:lnTo>
                    <a:lnTo>
                      <a:pt x="2589" y="3200"/>
                    </a:lnTo>
                    <a:lnTo>
                      <a:pt x="2577" y="3143"/>
                    </a:lnTo>
                    <a:lnTo>
                      <a:pt x="2567" y="3084"/>
                    </a:lnTo>
                    <a:lnTo>
                      <a:pt x="2560" y="3025"/>
                    </a:lnTo>
                    <a:lnTo>
                      <a:pt x="2556" y="2965"/>
                    </a:lnTo>
                    <a:lnTo>
                      <a:pt x="2554" y="2904"/>
                    </a:lnTo>
                    <a:lnTo>
                      <a:pt x="2556" y="2844"/>
                    </a:lnTo>
                    <a:lnTo>
                      <a:pt x="2560" y="2784"/>
                    </a:lnTo>
                    <a:lnTo>
                      <a:pt x="2567" y="2724"/>
                    </a:lnTo>
                    <a:lnTo>
                      <a:pt x="2577" y="2667"/>
                    </a:lnTo>
                    <a:lnTo>
                      <a:pt x="2589" y="2609"/>
                    </a:lnTo>
                    <a:lnTo>
                      <a:pt x="2605" y="2554"/>
                    </a:lnTo>
                    <a:lnTo>
                      <a:pt x="2623" y="2498"/>
                    </a:lnTo>
                    <a:lnTo>
                      <a:pt x="2643" y="2444"/>
                    </a:lnTo>
                    <a:lnTo>
                      <a:pt x="2666" y="2392"/>
                    </a:lnTo>
                    <a:lnTo>
                      <a:pt x="2691" y="2341"/>
                    </a:lnTo>
                    <a:lnTo>
                      <a:pt x="2718" y="2292"/>
                    </a:lnTo>
                    <a:lnTo>
                      <a:pt x="2747" y="2243"/>
                    </a:lnTo>
                    <a:lnTo>
                      <a:pt x="2780" y="2197"/>
                    </a:lnTo>
                    <a:lnTo>
                      <a:pt x="2813" y="2152"/>
                    </a:lnTo>
                    <a:lnTo>
                      <a:pt x="2848" y="2110"/>
                    </a:lnTo>
                    <a:lnTo>
                      <a:pt x="2886" y="2068"/>
                    </a:lnTo>
                    <a:lnTo>
                      <a:pt x="2925" y="2029"/>
                    </a:lnTo>
                    <a:lnTo>
                      <a:pt x="2966" y="1992"/>
                    </a:lnTo>
                    <a:lnTo>
                      <a:pt x="3009" y="1956"/>
                    </a:lnTo>
                    <a:lnTo>
                      <a:pt x="3053" y="1924"/>
                    </a:lnTo>
                    <a:lnTo>
                      <a:pt x="3100" y="1893"/>
                    </a:lnTo>
                    <a:lnTo>
                      <a:pt x="3147" y="1864"/>
                    </a:lnTo>
                    <a:lnTo>
                      <a:pt x="3196" y="1838"/>
                    </a:lnTo>
                    <a:lnTo>
                      <a:pt x="3245" y="1815"/>
                    </a:lnTo>
                    <a:lnTo>
                      <a:pt x="3297" y="1794"/>
                    </a:lnTo>
                    <a:lnTo>
                      <a:pt x="3350" y="1774"/>
                    </a:lnTo>
                    <a:lnTo>
                      <a:pt x="3403" y="1758"/>
                    </a:lnTo>
                    <a:lnTo>
                      <a:pt x="3458" y="1745"/>
                    </a:lnTo>
                    <a:lnTo>
                      <a:pt x="3514" y="1735"/>
                    </a:lnTo>
                    <a:lnTo>
                      <a:pt x="3569" y="1727"/>
                    </a:lnTo>
                    <a:lnTo>
                      <a:pt x="3627" y="1723"/>
                    </a:lnTo>
                    <a:lnTo>
                      <a:pt x="3686" y="17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
            <p:cNvGrpSpPr/>
            <p:nvPr/>
          </p:nvGrpSpPr>
          <p:grpSpPr>
            <a:xfrm>
              <a:off x="5282640" y="3029040"/>
              <a:ext cx="97200" cy="114480"/>
              <a:chOff x="5282640" y="3029040"/>
              <a:chExt cx="97200" cy="114480"/>
            </a:xfrm>
          </p:grpSpPr>
          <p:sp>
            <p:nvSpPr>
              <p:cNvPr id="106" name=""/>
              <p:cNvSpPr/>
              <p:nvPr/>
            </p:nvSpPr>
            <p:spPr>
              <a:xfrm>
                <a:off x="5282640" y="3029040"/>
                <a:ext cx="97200" cy="114480"/>
              </a:xfrm>
              <a:prstGeom prst="ellipse">
                <a:avLst/>
              </a:prstGeom>
              <a:solidFill>
                <a:srgbClr val="000000"/>
              </a:solidFill>
              <a:ln w="12600">
                <a:solidFill>
                  <a:srgbClr val="000000"/>
                </a:solidFill>
                <a:miter/>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107" name=""/>
              <p:cNvSpPr/>
              <p:nvPr/>
            </p:nvSpPr>
            <p:spPr>
              <a:xfrm flipV="1">
                <a:off x="5289120" y="3036600"/>
                <a:ext cx="57600" cy="67680"/>
              </a:xfrm>
              <a:prstGeom prst="line">
                <a:avLst/>
              </a:prstGeom>
              <a:ln w="12600">
                <a:solidFill>
                  <a:srgbClr val="ffcc00"/>
                </a:solidFill>
                <a:miter/>
                <a:tailEnd len="sm" type="triangle" w="sm"/>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8" name=""/>
              <p:cNvSpPr/>
              <p:nvPr/>
            </p:nvSpPr>
            <p:spPr>
              <a:xfrm flipV="1">
                <a:off x="5314320" y="3067920"/>
                <a:ext cx="57960" cy="67680"/>
              </a:xfrm>
              <a:prstGeom prst="line">
                <a:avLst/>
              </a:prstGeom>
              <a:ln w="12600">
                <a:solidFill>
                  <a:srgbClr val="ffcc00"/>
                </a:solidFill>
                <a:miter/>
                <a:tailEnd len="sm" type="triangle" w="sm"/>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sp>
          <p:nvSpPr>
            <p:cNvPr id="109" name=""/>
            <p:cNvSpPr/>
            <p:nvPr/>
          </p:nvSpPr>
          <p:spPr>
            <a:xfrm>
              <a:off x="2832120" y="2921760"/>
              <a:ext cx="641880" cy="367920"/>
            </a:xfrm>
            <a:prstGeom prst="rect">
              <a:avLst/>
            </a:prstGeom>
            <a:noFill/>
            <a:ln w="0">
              <a:noFill/>
            </a:ln>
          </p:spPr>
          <p:style>
            <a:lnRef idx="0"/>
            <a:fillRef idx="0"/>
            <a:effectRef idx="0"/>
            <a:fontRef idx="minor"/>
          </p:style>
          <p:txBody>
            <a:bodyPr lIns="57600" rIns="576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1</a:t>
              </a:r>
              <a:endParaRPr b="0" lang="en-US" sz="900" spc="-1" strike="noStrike">
                <a:solidFill>
                  <a:srgbClr val="000000"/>
                </a:solidFill>
                <a:latin typeface="Arial"/>
              </a:endParaRPr>
            </a:p>
          </p:txBody>
        </p:sp>
        <p:sp>
          <p:nvSpPr>
            <p:cNvPr id="110" name=""/>
            <p:cNvSpPr/>
            <p:nvPr/>
          </p:nvSpPr>
          <p:spPr>
            <a:xfrm>
              <a:off x="5266800" y="3751920"/>
              <a:ext cx="357120" cy="367920"/>
            </a:xfrm>
            <a:prstGeom prst="rect">
              <a:avLst/>
            </a:prstGeom>
            <a:noFill/>
            <a:ln w="0">
              <a:noFill/>
            </a:ln>
          </p:spPr>
          <p:style>
            <a:lnRef idx="0"/>
            <a:fillRef idx="0"/>
            <a:effectRef idx="0"/>
            <a:fontRef idx="minor"/>
          </p:style>
          <p:txBody>
            <a:bodyPr lIns="57600" rIns="576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a:t>
              </a:r>
              <a:endParaRPr b="0" lang="en-US" sz="900" spc="-1" strike="noStrike">
                <a:solidFill>
                  <a:srgbClr val="000000"/>
                </a:solidFill>
                <a:latin typeface="Arial"/>
              </a:endParaRPr>
            </a:p>
          </p:txBody>
        </p:sp>
        <p:sp>
          <p:nvSpPr>
            <p:cNvPr id="111" name=""/>
            <p:cNvSpPr/>
            <p:nvPr/>
          </p:nvSpPr>
          <p:spPr>
            <a:xfrm>
              <a:off x="4811400" y="5245200"/>
              <a:ext cx="1054080" cy="772560"/>
            </a:xfrm>
            <a:prstGeom prst="rect">
              <a:avLst/>
            </a:prstGeom>
            <a:noFill/>
            <a:ln w="0">
              <a:noFill/>
            </a:ln>
          </p:spPr>
          <p:style>
            <a:lnRef idx="0"/>
            <a:fillRef idx="0"/>
            <a:effectRef idx="0"/>
            <a:fontRef idx="minor"/>
          </p:style>
          <p:txBody>
            <a:bodyPr lIns="57600" rIns="576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OTS (VoIP)</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AX over IP</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Modem over IP</a:t>
              </a:r>
              <a:endParaRPr b="0" lang="en-US" sz="700" spc="-1" strike="noStrike">
                <a:solidFill>
                  <a:srgbClr val="000000"/>
                </a:solidFill>
                <a:latin typeface="Arial"/>
              </a:endParaRPr>
            </a:p>
          </p:txBody>
        </p:sp>
        <p:sp>
          <p:nvSpPr>
            <p:cNvPr id="112" name=""/>
            <p:cNvSpPr/>
            <p:nvPr/>
          </p:nvSpPr>
          <p:spPr>
            <a:xfrm>
              <a:off x="1316160" y="3303360"/>
              <a:ext cx="6357600" cy="0"/>
            </a:xfrm>
            <a:prstGeom prst="line">
              <a:avLst/>
            </a:prstGeom>
            <a:ln w="12600">
              <a:solidFill>
                <a:srgbClr val="80808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316160" y="4816440"/>
              <a:ext cx="6532200" cy="0"/>
            </a:xfrm>
            <a:prstGeom prst="line">
              <a:avLst/>
            </a:prstGeom>
            <a:ln w="12600">
              <a:solidFill>
                <a:srgbClr val="80808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411920" y="4175280"/>
              <a:ext cx="1198440" cy="443160"/>
            </a:xfrm>
            <a:prstGeom prst="rect">
              <a:avLst/>
            </a:prstGeom>
            <a:noFill/>
            <a:ln w="0">
              <a:noFill/>
            </a:ln>
          </p:spPr>
          <p:style>
            <a:lnRef idx="0"/>
            <a:fillRef idx="0"/>
            <a:effectRef idx="0"/>
            <a:fontRef idx="minor"/>
          </p:style>
          <p:txBody>
            <a:bodyPr lIns="57600" rIns="576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istupni nivo nivo</a:t>
              </a:r>
              <a:endParaRPr b="0" lang="en-US" sz="1100" spc="-1" strike="noStrike">
                <a:solidFill>
                  <a:srgbClr val="000000"/>
                </a:solidFill>
                <a:latin typeface="Arial"/>
              </a:endParaRPr>
            </a:p>
          </p:txBody>
        </p:sp>
        <p:sp>
          <p:nvSpPr>
            <p:cNvPr id="115" name=""/>
            <p:cNvSpPr/>
            <p:nvPr/>
          </p:nvSpPr>
          <p:spPr>
            <a:xfrm>
              <a:off x="1286640" y="2900160"/>
              <a:ext cx="1720440" cy="3319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Nivo konvergencije</a:t>
              </a:r>
              <a:endParaRPr b="0" lang="en-US" sz="1100" spc="-1" strike="noStrike">
                <a:solidFill>
                  <a:srgbClr val="000000"/>
                </a:solidFill>
                <a:latin typeface="Arial"/>
              </a:endParaRPr>
            </a:p>
          </p:txBody>
        </p:sp>
        <p:sp>
          <p:nvSpPr>
            <p:cNvPr id="116" name=""/>
            <p:cNvSpPr/>
            <p:nvPr/>
          </p:nvSpPr>
          <p:spPr>
            <a:xfrm>
              <a:off x="762120" y="5050800"/>
              <a:ext cx="920520" cy="443160"/>
            </a:xfrm>
            <a:prstGeom prst="rect">
              <a:avLst/>
            </a:prstGeom>
            <a:noFill/>
            <a:ln w="0">
              <a:noFill/>
            </a:ln>
          </p:spPr>
          <p:style>
            <a:lnRef idx="0"/>
            <a:fillRef idx="0"/>
            <a:effectRef idx="0"/>
            <a:fontRef idx="minor"/>
          </p:style>
          <p:txBody>
            <a:bodyPr lIns="57600" rIns="576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mises</a:t>
              </a:r>
              <a:endParaRPr b="0" lang="en-US" sz="1100" spc="-1" strike="noStrike">
                <a:solidFill>
                  <a:srgbClr val="000000"/>
                </a:solidFill>
                <a:latin typeface="Arial"/>
              </a:endParaRPr>
            </a:p>
          </p:txBody>
        </p:sp>
        <p:sp>
          <p:nvSpPr>
            <p:cNvPr id="117" name=""/>
            <p:cNvSpPr/>
            <p:nvPr/>
          </p:nvSpPr>
          <p:spPr>
            <a:xfrm>
              <a:off x="4815000" y="2340720"/>
              <a:ext cx="2334240" cy="1271520"/>
            </a:xfrm>
            <a:custGeom>
              <a:avLst/>
              <a:gdLst/>
              <a:ahLst/>
              <a:rect l="l" t="t" r="r" b="b"/>
              <a:pathLst>
                <a:path w="2087" h="930">
                  <a:moveTo>
                    <a:pt x="0" y="930"/>
                  </a:moveTo>
                  <a:cubicBezTo>
                    <a:pt x="38" y="835"/>
                    <a:pt x="76" y="741"/>
                    <a:pt x="182" y="613"/>
                  </a:cubicBezTo>
                  <a:cubicBezTo>
                    <a:pt x="288" y="485"/>
                    <a:pt x="371" y="257"/>
                    <a:pt x="635" y="159"/>
                  </a:cubicBezTo>
                  <a:cubicBezTo>
                    <a:pt x="899" y="61"/>
                    <a:pt x="1527" y="46"/>
                    <a:pt x="1769" y="23"/>
                  </a:cubicBezTo>
                  <a:cubicBezTo>
                    <a:pt x="2011" y="0"/>
                    <a:pt x="2034" y="23"/>
                    <a:pt x="2087" y="23"/>
                  </a:cubicBezTo>
                </a:path>
              </a:pathLst>
            </a:custGeom>
            <a:noFill/>
            <a:ln w="25560">
              <a:solidFill>
                <a:srgbClr val="339966"/>
              </a:solidFill>
              <a:prstDash val="dash"/>
              <a:round/>
            </a:ln>
          </p:spPr>
          <p:style>
            <a:lnRef idx="0"/>
            <a:fillRef idx="0"/>
            <a:effectRef idx="0"/>
            <a:fontRef idx="minor"/>
          </p:style>
          <p:txBody>
            <a:bodyPr anchor="ctr">
              <a:noAutofit/>
            </a:bodyPr>
            <a:p>
              <a:endParaRPr b="0" lang="en-US" sz="1800" spc="-1" strike="noStrike">
                <a:solidFill>
                  <a:srgbClr val="000000"/>
                </a:solidFill>
                <a:latin typeface="Arial"/>
              </a:endParaRPr>
            </a:p>
          </p:txBody>
        </p:sp>
        <p:pic>
          <p:nvPicPr>
            <p:cNvPr id="118" name="" descr=""/>
            <p:cNvPicPr/>
            <p:nvPr/>
          </p:nvPicPr>
          <p:blipFill>
            <a:blip r:embed="rId5"/>
            <a:stretch/>
          </p:blipFill>
          <p:spPr>
            <a:xfrm>
              <a:off x="7090200" y="2003760"/>
              <a:ext cx="524520" cy="542520"/>
            </a:xfrm>
            <a:prstGeom prst="rect">
              <a:avLst/>
            </a:prstGeom>
            <a:ln w="0">
              <a:noFill/>
            </a:ln>
          </p:spPr>
        </p:pic>
        <p:sp>
          <p:nvSpPr>
            <p:cNvPr id="119" name=""/>
            <p:cNvSpPr/>
            <p:nvPr/>
          </p:nvSpPr>
          <p:spPr>
            <a:xfrm>
              <a:off x="6376320" y="2535840"/>
              <a:ext cx="1099800" cy="368640"/>
            </a:xfrm>
            <a:prstGeom prst="rect">
              <a:avLst/>
            </a:prstGeom>
            <a:noFill/>
            <a:ln w="0">
              <a:noFill/>
            </a:ln>
          </p:spPr>
          <p:style>
            <a:lnRef idx="0"/>
            <a:fillRef idx="0"/>
            <a:effectRef idx="0"/>
            <a:fontRef idx="minor"/>
          </p:style>
          <p:txBody>
            <a:bodyPr lIns="57600" rIns="576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248/MGCP)</a:t>
              </a:r>
              <a:endParaRPr b="0" lang="en-US" sz="900" spc="-1" strike="noStrike">
                <a:solidFill>
                  <a:srgbClr val="000000"/>
                </a:solidFill>
                <a:latin typeface="Arial"/>
              </a:endParaRPr>
            </a:p>
          </p:txBody>
        </p:sp>
        <p:pic>
          <p:nvPicPr>
            <p:cNvPr id="120" name="" descr=""/>
            <p:cNvPicPr/>
            <p:nvPr/>
          </p:nvPicPr>
          <p:blipFill>
            <a:blip r:embed="rId6"/>
            <a:stretch/>
          </p:blipFill>
          <p:spPr>
            <a:xfrm>
              <a:off x="3299400" y="1857960"/>
              <a:ext cx="1108440" cy="756720"/>
            </a:xfrm>
            <a:prstGeom prst="rect">
              <a:avLst/>
            </a:prstGeom>
            <a:ln w="0">
              <a:noFill/>
            </a:ln>
          </p:spPr>
        </p:pic>
        <p:sp>
          <p:nvSpPr>
            <p:cNvPr id="121" name=""/>
            <p:cNvSpPr/>
            <p:nvPr/>
          </p:nvSpPr>
          <p:spPr>
            <a:xfrm>
              <a:off x="3616560" y="2066760"/>
              <a:ext cx="550440" cy="442080"/>
            </a:xfrm>
            <a:prstGeom prst="rect">
              <a:avLst/>
            </a:prstGeom>
            <a:noFill/>
            <a:ln w="0">
              <a:noFill/>
            </a:ln>
          </p:spPr>
          <p:style>
            <a:lnRef idx="0"/>
            <a:fillRef idx="0"/>
            <a:effectRef idx="0"/>
            <a:fontRef idx="minor"/>
          </p:style>
          <p:txBody>
            <a:bodyPr lIns="57600" rIns="576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DN</a:t>
              </a:r>
              <a:endParaRPr b="0" lang="en-US" sz="1100" spc="-1" strike="noStrike">
                <a:solidFill>
                  <a:srgbClr val="000000"/>
                </a:solidFill>
                <a:latin typeface="Arial"/>
              </a:endParaRPr>
            </a:p>
          </p:txBody>
        </p:sp>
        <p:sp>
          <p:nvSpPr>
            <p:cNvPr id="122" name=""/>
            <p:cNvSpPr/>
            <p:nvPr/>
          </p:nvSpPr>
          <p:spPr>
            <a:xfrm flipH="1" flipV="1">
              <a:off x="2248200" y="2545920"/>
              <a:ext cx="2157840" cy="1100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H="1" flipV="1">
              <a:off x="3881160" y="2614320"/>
              <a:ext cx="583920" cy="103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649320" y="2835720"/>
              <a:ext cx="641160" cy="368640"/>
            </a:xfrm>
            <a:prstGeom prst="rect">
              <a:avLst/>
            </a:prstGeom>
            <a:noFill/>
            <a:ln w="0">
              <a:noFill/>
            </a:ln>
          </p:spPr>
          <p:style>
            <a:lnRef idx="0"/>
            <a:fillRef idx="0"/>
            <a:effectRef idx="0"/>
            <a:fontRef idx="minor"/>
          </p:style>
          <p:txBody>
            <a:bodyPr lIns="57600" rIns="576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1</a:t>
              </a:r>
              <a:endParaRPr b="0" lang="en-US" sz="900" spc="-1" strike="noStrike">
                <a:solidFill>
                  <a:srgbClr val="000000"/>
                </a:solidFill>
                <a:latin typeface="Arial"/>
              </a:endParaRPr>
            </a:p>
          </p:txBody>
        </p:sp>
        <p:sp>
          <p:nvSpPr>
            <p:cNvPr id="125" name=""/>
            <p:cNvSpPr/>
            <p:nvPr/>
          </p:nvSpPr>
          <p:spPr>
            <a:xfrm>
              <a:off x="4115160" y="2913480"/>
              <a:ext cx="1750320" cy="367920"/>
            </a:xfrm>
            <a:prstGeom prst="rect">
              <a:avLst/>
            </a:prstGeom>
            <a:noFill/>
            <a:ln w="0">
              <a:noFill/>
            </a:ln>
          </p:spPr>
          <p:style>
            <a:lnRef idx="0"/>
            <a:fillRef idx="0"/>
            <a:effectRef idx="0"/>
            <a:fontRef idx="minor"/>
          </p:style>
          <p:txBody>
            <a:bodyPr lIns="57600" rIns="576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FE</a:t>
              </a:r>
              <a:endParaRPr b="0" lang="en-US" sz="900" spc="-1" strike="noStrike">
                <a:solidFill>
                  <a:srgbClr val="000000"/>
                </a:solidFill>
                <a:latin typeface="Arial"/>
              </a:endParaRPr>
            </a:p>
          </p:txBody>
        </p:sp>
        <p:grpSp>
          <p:nvGrpSpPr>
            <p:cNvPr id="126" name=""/>
            <p:cNvGrpSpPr/>
            <p:nvPr/>
          </p:nvGrpSpPr>
          <p:grpSpPr>
            <a:xfrm>
              <a:off x="5223960" y="5096520"/>
              <a:ext cx="349560" cy="275760"/>
              <a:chOff x="5223960" y="5096520"/>
              <a:chExt cx="349560" cy="275760"/>
            </a:xfrm>
          </p:grpSpPr>
          <p:sp>
            <p:nvSpPr>
              <p:cNvPr id="127" name=""/>
              <p:cNvSpPr/>
              <p:nvPr/>
            </p:nvSpPr>
            <p:spPr>
              <a:xfrm>
                <a:off x="5506200" y="5115600"/>
                <a:ext cx="7560" cy="14040"/>
              </a:xfrm>
              <a:prstGeom prst="rect">
                <a:avLst/>
              </a:prstGeom>
              <a:solidFill>
                <a:srgbClr val="5382aa"/>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 name=""/>
              <p:cNvSpPr/>
              <p:nvPr/>
            </p:nvSpPr>
            <p:spPr>
              <a:xfrm>
                <a:off x="5480640" y="5096520"/>
                <a:ext cx="40320" cy="21600"/>
              </a:xfrm>
              <a:custGeom>
                <a:avLst/>
                <a:gdLst/>
                <a:ahLst/>
                <a:rect l="l" t="t" r="r" b="b"/>
                <a:pathLst>
                  <a:path w="1697" h="805">
                    <a:moveTo>
                      <a:pt x="159" y="0"/>
                    </a:moveTo>
                    <a:lnTo>
                      <a:pt x="174" y="2"/>
                    </a:lnTo>
                    <a:lnTo>
                      <a:pt x="217" y="3"/>
                    </a:lnTo>
                    <a:lnTo>
                      <a:pt x="284" y="7"/>
                    </a:lnTo>
                    <a:lnTo>
                      <a:pt x="371" y="13"/>
                    </a:lnTo>
                    <a:lnTo>
                      <a:pt x="476" y="21"/>
                    </a:lnTo>
                    <a:lnTo>
                      <a:pt x="593" y="34"/>
                    </a:lnTo>
                    <a:lnTo>
                      <a:pt x="656" y="41"/>
                    </a:lnTo>
                    <a:lnTo>
                      <a:pt x="720" y="50"/>
                    </a:lnTo>
                    <a:lnTo>
                      <a:pt x="787" y="59"/>
                    </a:lnTo>
                    <a:lnTo>
                      <a:pt x="854" y="70"/>
                    </a:lnTo>
                    <a:lnTo>
                      <a:pt x="921" y="81"/>
                    </a:lnTo>
                    <a:lnTo>
                      <a:pt x="989" y="95"/>
                    </a:lnTo>
                    <a:lnTo>
                      <a:pt x="1056" y="108"/>
                    </a:lnTo>
                    <a:lnTo>
                      <a:pt x="1123" y="124"/>
                    </a:lnTo>
                    <a:lnTo>
                      <a:pt x="1188" y="142"/>
                    </a:lnTo>
                    <a:lnTo>
                      <a:pt x="1252" y="160"/>
                    </a:lnTo>
                    <a:lnTo>
                      <a:pt x="1314" y="180"/>
                    </a:lnTo>
                    <a:lnTo>
                      <a:pt x="1373" y="202"/>
                    </a:lnTo>
                    <a:lnTo>
                      <a:pt x="1429" y="225"/>
                    </a:lnTo>
                    <a:lnTo>
                      <a:pt x="1481" y="249"/>
                    </a:lnTo>
                    <a:lnTo>
                      <a:pt x="1530" y="276"/>
                    </a:lnTo>
                    <a:lnTo>
                      <a:pt x="1574" y="304"/>
                    </a:lnTo>
                    <a:lnTo>
                      <a:pt x="1613" y="334"/>
                    </a:lnTo>
                    <a:lnTo>
                      <a:pt x="1647" y="366"/>
                    </a:lnTo>
                    <a:lnTo>
                      <a:pt x="1675" y="401"/>
                    </a:lnTo>
                    <a:lnTo>
                      <a:pt x="1697" y="436"/>
                    </a:lnTo>
                    <a:lnTo>
                      <a:pt x="1692" y="464"/>
                    </a:lnTo>
                    <a:lnTo>
                      <a:pt x="1685" y="489"/>
                    </a:lnTo>
                    <a:lnTo>
                      <a:pt x="1676" y="513"/>
                    </a:lnTo>
                    <a:lnTo>
                      <a:pt x="1667" y="536"/>
                    </a:lnTo>
                    <a:lnTo>
                      <a:pt x="1655" y="557"/>
                    </a:lnTo>
                    <a:lnTo>
                      <a:pt x="1643" y="577"/>
                    </a:lnTo>
                    <a:lnTo>
                      <a:pt x="1629" y="596"/>
                    </a:lnTo>
                    <a:lnTo>
                      <a:pt x="1613" y="614"/>
                    </a:lnTo>
                    <a:lnTo>
                      <a:pt x="1598" y="629"/>
                    </a:lnTo>
                    <a:lnTo>
                      <a:pt x="1580" y="645"/>
                    </a:lnTo>
                    <a:lnTo>
                      <a:pt x="1562" y="660"/>
                    </a:lnTo>
                    <a:lnTo>
                      <a:pt x="1542" y="673"/>
                    </a:lnTo>
                    <a:lnTo>
                      <a:pt x="1522" y="685"/>
                    </a:lnTo>
                    <a:lnTo>
                      <a:pt x="1501" y="696"/>
                    </a:lnTo>
                    <a:lnTo>
                      <a:pt x="1480" y="708"/>
                    </a:lnTo>
                    <a:lnTo>
                      <a:pt x="1458" y="717"/>
                    </a:lnTo>
                    <a:lnTo>
                      <a:pt x="1435" y="727"/>
                    </a:lnTo>
                    <a:lnTo>
                      <a:pt x="1412" y="735"/>
                    </a:lnTo>
                    <a:lnTo>
                      <a:pt x="1389" y="743"/>
                    </a:lnTo>
                    <a:lnTo>
                      <a:pt x="1365" y="750"/>
                    </a:lnTo>
                    <a:lnTo>
                      <a:pt x="1317" y="762"/>
                    </a:lnTo>
                    <a:lnTo>
                      <a:pt x="1269" y="773"/>
                    </a:lnTo>
                    <a:lnTo>
                      <a:pt x="1172" y="791"/>
                    </a:lnTo>
                    <a:lnTo>
                      <a:pt x="1082" y="805"/>
                    </a:lnTo>
                    <a:lnTo>
                      <a:pt x="0" y="68"/>
                    </a:lnTo>
                    <a:lnTo>
                      <a:pt x="159" y="0"/>
                    </a:lnTo>
                    <a:close/>
                  </a:path>
                </a:pathLst>
              </a:custGeom>
              <a:solidFill>
                <a:srgbClr val="315575"/>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29" name=""/>
              <p:cNvSpPr/>
              <p:nvPr/>
            </p:nvSpPr>
            <p:spPr>
              <a:xfrm>
                <a:off x="5487840" y="5103360"/>
                <a:ext cx="33120" cy="14760"/>
              </a:xfrm>
              <a:custGeom>
                <a:avLst/>
                <a:gdLst/>
                <a:ahLst/>
                <a:rect l="l" t="t" r="r" b="b"/>
                <a:pathLst>
                  <a:path w="1391" h="550">
                    <a:moveTo>
                      <a:pt x="1391" y="181"/>
                    </a:moveTo>
                    <a:lnTo>
                      <a:pt x="1386" y="209"/>
                    </a:lnTo>
                    <a:lnTo>
                      <a:pt x="1379" y="234"/>
                    </a:lnTo>
                    <a:lnTo>
                      <a:pt x="1370" y="258"/>
                    </a:lnTo>
                    <a:lnTo>
                      <a:pt x="1361" y="281"/>
                    </a:lnTo>
                    <a:lnTo>
                      <a:pt x="1349" y="302"/>
                    </a:lnTo>
                    <a:lnTo>
                      <a:pt x="1337" y="322"/>
                    </a:lnTo>
                    <a:lnTo>
                      <a:pt x="1323" y="341"/>
                    </a:lnTo>
                    <a:lnTo>
                      <a:pt x="1307" y="359"/>
                    </a:lnTo>
                    <a:lnTo>
                      <a:pt x="1292" y="374"/>
                    </a:lnTo>
                    <a:lnTo>
                      <a:pt x="1274" y="390"/>
                    </a:lnTo>
                    <a:lnTo>
                      <a:pt x="1256" y="405"/>
                    </a:lnTo>
                    <a:lnTo>
                      <a:pt x="1236" y="418"/>
                    </a:lnTo>
                    <a:lnTo>
                      <a:pt x="1216" y="430"/>
                    </a:lnTo>
                    <a:lnTo>
                      <a:pt x="1195" y="441"/>
                    </a:lnTo>
                    <a:lnTo>
                      <a:pt x="1174" y="453"/>
                    </a:lnTo>
                    <a:lnTo>
                      <a:pt x="1152" y="462"/>
                    </a:lnTo>
                    <a:lnTo>
                      <a:pt x="1129" y="472"/>
                    </a:lnTo>
                    <a:lnTo>
                      <a:pt x="1106" y="480"/>
                    </a:lnTo>
                    <a:lnTo>
                      <a:pt x="1083" y="488"/>
                    </a:lnTo>
                    <a:lnTo>
                      <a:pt x="1059" y="495"/>
                    </a:lnTo>
                    <a:lnTo>
                      <a:pt x="1011" y="507"/>
                    </a:lnTo>
                    <a:lnTo>
                      <a:pt x="963" y="518"/>
                    </a:lnTo>
                    <a:lnTo>
                      <a:pt x="866" y="536"/>
                    </a:lnTo>
                    <a:lnTo>
                      <a:pt x="776" y="550"/>
                    </a:lnTo>
                    <a:lnTo>
                      <a:pt x="0" y="33"/>
                    </a:lnTo>
                    <a:lnTo>
                      <a:pt x="63" y="32"/>
                    </a:lnTo>
                    <a:lnTo>
                      <a:pt x="140" y="27"/>
                    </a:lnTo>
                    <a:lnTo>
                      <a:pt x="228" y="22"/>
                    </a:lnTo>
                    <a:lnTo>
                      <a:pt x="323" y="16"/>
                    </a:lnTo>
                    <a:lnTo>
                      <a:pt x="427" y="10"/>
                    </a:lnTo>
                    <a:lnTo>
                      <a:pt x="533" y="4"/>
                    </a:lnTo>
                    <a:lnTo>
                      <a:pt x="589" y="3"/>
                    </a:lnTo>
                    <a:lnTo>
                      <a:pt x="643" y="1"/>
                    </a:lnTo>
                    <a:lnTo>
                      <a:pt x="699" y="0"/>
                    </a:lnTo>
                    <a:lnTo>
                      <a:pt x="754" y="0"/>
                    </a:lnTo>
                    <a:lnTo>
                      <a:pt x="809" y="1"/>
                    </a:lnTo>
                    <a:lnTo>
                      <a:pt x="862" y="3"/>
                    </a:lnTo>
                    <a:lnTo>
                      <a:pt x="916" y="5"/>
                    </a:lnTo>
                    <a:lnTo>
                      <a:pt x="967" y="10"/>
                    </a:lnTo>
                    <a:lnTo>
                      <a:pt x="1017" y="15"/>
                    </a:lnTo>
                    <a:lnTo>
                      <a:pt x="1066" y="21"/>
                    </a:lnTo>
                    <a:lnTo>
                      <a:pt x="1112" y="28"/>
                    </a:lnTo>
                    <a:lnTo>
                      <a:pt x="1156" y="38"/>
                    </a:lnTo>
                    <a:lnTo>
                      <a:pt x="1196" y="49"/>
                    </a:lnTo>
                    <a:lnTo>
                      <a:pt x="1235" y="62"/>
                    </a:lnTo>
                    <a:lnTo>
                      <a:pt x="1271" y="77"/>
                    </a:lnTo>
                    <a:lnTo>
                      <a:pt x="1302" y="93"/>
                    </a:lnTo>
                    <a:lnTo>
                      <a:pt x="1331" y="112"/>
                    </a:lnTo>
                    <a:lnTo>
                      <a:pt x="1355" y="133"/>
                    </a:lnTo>
                    <a:lnTo>
                      <a:pt x="1376" y="156"/>
                    </a:lnTo>
                    <a:lnTo>
                      <a:pt x="1391" y="181"/>
                    </a:lnTo>
                    <a:close/>
                  </a:path>
                </a:pathLst>
              </a:custGeom>
              <a:solidFill>
                <a:srgbClr val="709cba"/>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30" name=""/>
              <p:cNvSpPr/>
              <p:nvPr/>
            </p:nvSpPr>
            <p:spPr>
              <a:xfrm>
                <a:off x="5483880" y="5115600"/>
                <a:ext cx="22320" cy="14040"/>
              </a:xfrm>
              <a:prstGeom prst="rect">
                <a:avLst/>
              </a:prstGeom>
              <a:solidFill>
                <a:srgbClr val="9abcda"/>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1" name=""/>
              <p:cNvSpPr/>
              <p:nvPr/>
            </p:nvSpPr>
            <p:spPr>
              <a:xfrm>
                <a:off x="5263200" y="5148000"/>
                <a:ext cx="309600" cy="217800"/>
              </a:xfrm>
              <a:custGeom>
                <a:avLst/>
                <a:gdLst/>
                <a:ahLst/>
                <a:rect l="l" t="t" r="r" b="b"/>
                <a:pathLst>
                  <a:path w="13010" h="8184">
                    <a:moveTo>
                      <a:pt x="13010" y="3005"/>
                    </a:moveTo>
                    <a:lnTo>
                      <a:pt x="4330" y="0"/>
                    </a:lnTo>
                    <a:lnTo>
                      <a:pt x="0" y="4295"/>
                    </a:lnTo>
                    <a:lnTo>
                      <a:pt x="8198" y="8184"/>
                    </a:lnTo>
                    <a:lnTo>
                      <a:pt x="13010" y="3005"/>
                    </a:lnTo>
                    <a:close/>
                  </a:path>
                </a:pathLst>
              </a:custGeom>
              <a:solidFill>
                <a:srgbClr val="709c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458680" y="5227920"/>
                <a:ext cx="114840" cy="144000"/>
              </a:xfrm>
              <a:custGeom>
                <a:avLst/>
                <a:gdLst/>
                <a:ahLst/>
                <a:rect l="l" t="t" r="r" b="b"/>
                <a:pathLst>
                  <a:path w="4817" h="5426">
                    <a:moveTo>
                      <a:pt x="4815" y="0"/>
                    </a:moveTo>
                    <a:lnTo>
                      <a:pt x="4817" y="397"/>
                    </a:lnTo>
                    <a:lnTo>
                      <a:pt x="0" y="5426"/>
                    </a:lnTo>
                    <a:lnTo>
                      <a:pt x="1" y="5181"/>
                    </a:lnTo>
                    <a:lnTo>
                      <a:pt x="4815" y="0"/>
                    </a:lnTo>
                    <a:close/>
                  </a:path>
                </a:pathLst>
              </a:custGeom>
              <a:solidFill>
                <a:srgbClr val="5382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263200" y="5262120"/>
                <a:ext cx="195120" cy="110160"/>
              </a:xfrm>
              <a:custGeom>
                <a:avLst/>
                <a:gdLst/>
                <a:ahLst/>
                <a:rect l="l" t="t" r="r" b="b"/>
                <a:pathLst>
                  <a:path w="8196" h="4134">
                    <a:moveTo>
                      <a:pt x="0" y="0"/>
                    </a:moveTo>
                    <a:lnTo>
                      <a:pt x="0" y="443"/>
                    </a:lnTo>
                    <a:lnTo>
                      <a:pt x="8195" y="4134"/>
                    </a:lnTo>
                    <a:lnTo>
                      <a:pt x="8196" y="3889"/>
                    </a:lnTo>
                    <a:lnTo>
                      <a:pt x="8104" y="3845"/>
                    </a:lnTo>
                    <a:lnTo>
                      <a:pt x="7843" y="3721"/>
                    </a:lnTo>
                    <a:lnTo>
                      <a:pt x="7438" y="3529"/>
                    </a:lnTo>
                    <a:lnTo>
                      <a:pt x="6913" y="3278"/>
                    </a:lnTo>
                    <a:lnTo>
                      <a:pt x="6291" y="2982"/>
                    </a:lnTo>
                    <a:lnTo>
                      <a:pt x="5597" y="2653"/>
                    </a:lnTo>
                    <a:lnTo>
                      <a:pt x="4856" y="2301"/>
                    </a:lnTo>
                    <a:lnTo>
                      <a:pt x="4091" y="1937"/>
                    </a:lnTo>
                    <a:lnTo>
                      <a:pt x="3325" y="1574"/>
                    </a:lnTo>
                    <a:lnTo>
                      <a:pt x="2585" y="1222"/>
                    </a:lnTo>
                    <a:lnTo>
                      <a:pt x="1892" y="894"/>
                    </a:lnTo>
                    <a:lnTo>
                      <a:pt x="1272" y="599"/>
                    </a:lnTo>
                    <a:lnTo>
                      <a:pt x="749" y="352"/>
                    </a:lnTo>
                    <a:lnTo>
                      <a:pt x="346" y="161"/>
                    </a:lnTo>
                    <a:lnTo>
                      <a:pt x="89" y="41"/>
                    </a:lnTo>
                    <a:lnTo>
                      <a:pt x="0" y="0"/>
                    </a:lnTo>
                    <a:close/>
                  </a:path>
                </a:pathLst>
              </a:custGeom>
              <a:solidFill>
                <a:srgbClr val="315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411880" y="5113440"/>
                <a:ext cx="140760" cy="102240"/>
              </a:xfrm>
              <a:custGeom>
                <a:avLst/>
                <a:gdLst/>
                <a:ahLst/>
                <a:rect l="l" t="t" r="r" b="b"/>
                <a:pathLst>
                  <a:path w="5924" h="3836">
                    <a:moveTo>
                      <a:pt x="5816" y="948"/>
                    </a:moveTo>
                    <a:lnTo>
                      <a:pt x="1541" y="0"/>
                    </a:lnTo>
                    <a:lnTo>
                      <a:pt x="1524" y="0"/>
                    </a:lnTo>
                    <a:lnTo>
                      <a:pt x="1478" y="0"/>
                    </a:lnTo>
                    <a:lnTo>
                      <a:pt x="1445" y="0"/>
                    </a:lnTo>
                    <a:lnTo>
                      <a:pt x="1410" y="2"/>
                    </a:lnTo>
                    <a:lnTo>
                      <a:pt x="1370" y="4"/>
                    </a:lnTo>
                    <a:lnTo>
                      <a:pt x="1328" y="7"/>
                    </a:lnTo>
                    <a:lnTo>
                      <a:pt x="1284" y="12"/>
                    </a:lnTo>
                    <a:lnTo>
                      <a:pt x="1241" y="19"/>
                    </a:lnTo>
                    <a:lnTo>
                      <a:pt x="1219" y="23"/>
                    </a:lnTo>
                    <a:lnTo>
                      <a:pt x="1197" y="27"/>
                    </a:lnTo>
                    <a:lnTo>
                      <a:pt x="1176" y="31"/>
                    </a:lnTo>
                    <a:lnTo>
                      <a:pt x="1155" y="37"/>
                    </a:lnTo>
                    <a:lnTo>
                      <a:pt x="1135" y="43"/>
                    </a:lnTo>
                    <a:lnTo>
                      <a:pt x="1116" y="49"/>
                    </a:lnTo>
                    <a:lnTo>
                      <a:pt x="1098" y="56"/>
                    </a:lnTo>
                    <a:lnTo>
                      <a:pt x="1081" y="64"/>
                    </a:lnTo>
                    <a:lnTo>
                      <a:pt x="1064" y="72"/>
                    </a:lnTo>
                    <a:lnTo>
                      <a:pt x="1049" y="82"/>
                    </a:lnTo>
                    <a:lnTo>
                      <a:pt x="1036" y="91"/>
                    </a:lnTo>
                    <a:lnTo>
                      <a:pt x="1023" y="101"/>
                    </a:lnTo>
                    <a:lnTo>
                      <a:pt x="0" y="2430"/>
                    </a:lnTo>
                    <a:lnTo>
                      <a:pt x="4568" y="3836"/>
                    </a:lnTo>
                    <a:lnTo>
                      <a:pt x="5144" y="3566"/>
                    </a:lnTo>
                    <a:lnTo>
                      <a:pt x="5892" y="1102"/>
                    </a:lnTo>
                    <a:lnTo>
                      <a:pt x="5896" y="1097"/>
                    </a:lnTo>
                    <a:lnTo>
                      <a:pt x="5907" y="1083"/>
                    </a:lnTo>
                    <a:lnTo>
                      <a:pt x="5912" y="1075"/>
                    </a:lnTo>
                    <a:lnTo>
                      <a:pt x="5917" y="1065"/>
                    </a:lnTo>
                    <a:lnTo>
                      <a:pt x="5921" y="1053"/>
                    </a:lnTo>
                    <a:lnTo>
                      <a:pt x="5923" y="1040"/>
                    </a:lnTo>
                    <a:lnTo>
                      <a:pt x="5924" y="1034"/>
                    </a:lnTo>
                    <a:lnTo>
                      <a:pt x="5924" y="1028"/>
                    </a:lnTo>
                    <a:lnTo>
                      <a:pt x="5923" y="1022"/>
                    </a:lnTo>
                    <a:lnTo>
                      <a:pt x="5922" y="1015"/>
                    </a:lnTo>
                    <a:lnTo>
                      <a:pt x="5919" y="1009"/>
                    </a:lnTo>
                    <a:lnTo>
                      <a:pt x="5916" y="1002"/>
                    </a:lnTo>
                    <a:lnTo>
                      <a:pt x="5912" y="995"/>
                    </a:lnTo>
                    <a:lnTo>
                      <a:pt x="5907" y="989"/>
                    </a:lnTo>
                    <a:lnTo>
                      <a:pt x="5899" y="984"/>
                    </a:lnTo>
                    <a:lnTo>
                      <a:pt x="5892" y="978"/>
                    </a:lnTo>
                    <a:lnTo>
                      <a:pt x="5883" y="972"/>
                    </a:lnTo>
                    <a:lnTo>
                      <a:pt x="5872" y="966"/>
                    </a:lnTo>
                    <a:lnTo>
                      <a:pt x="5861" y="962"/>
                    </a:lnTo>
                    <a:lnTo>
                      <a:pt x="5847" y="957"/>
                    </a:lnTo>
                    <a:lnTo>
                      <a:pt x="5832" y="952"/>
                    </a:lnTo>
                    <a:lnTo>
                      <a:pt x="5816" y="948"/>
                    </a:lnTo>
                    <a:close/>
                  </a:path>
                </a:pathLst>
              </a:custGeom>
              <a:solidFill>
                <a:srgbClr val="5382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422680" y="5123520"/>
                <a:ext cx="106920" cy="80280"/>
              </a:xfrm>
              <a:custGeom>
                <a:avLst/>
                <a:gdLst/>
                <a:ahLst/>
                <a:rect l="l" t="t" r="r" b="b"/>
                <a:pathLst>
                  <a:path w="4504" h="3004">
                    <a:moveTo>
                      <a:pt x="792" y="0"/>
                    </a:moveTo>
                    <a:lnTo>
                      <a:pt x="0" y="1791"/>
                    </a:lnTo>
                    <a:lnTo>
                      <a:pt x="3770" y="3004"/>
                    </a:lnTo>
                    <a:lnTo>
                      <a:pt x="4504" y="982"/>
                    </a:lnTo>
                    <a:lnTo>
                      <a:pt x="792" y="0"/>
                    </a:lnTo>
                    <a:close/>
                  </a:path>
                </a:pathLst>
              </a:custGeom>
              <a:solidFill>
                <a:srgbClr val="9abcda"/>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6" name=""/>
              <p:cNvSpPr/>
              <p:nvPr/>
            </p:nvSpPr>
            <p:spPr>
              <a:xfrm>
                <a:off x="5428800" y="5129280"/>
                <a:ext cx="95040" cy="68400"/>
              </a:xfrm>
              <a:custGeom>
                <a:avLst/>
                <a:gdLst/>
                <a:ahLst/>
                <a:rect l="l" t="t" r="r" b="b"/>
                <a:pathLst>
                  <a:path w="4001" h="2591">
                    <a:moveTo>
                      <a:pt x="666" y="0"/>
                    </a:moveTo>
                    <a:lnTo>
                      <a:pt x="0" y="1505"/>
                    </a:lnTo>
                    <a:lnTo>
                      <a:pt x="3384" y="2591"/>
                    </a:lnTo>
                    <a:lnTo>
                      <a:pt x="4001" y="891"/>
                    </a:lnTo>
                    <a:lnTo>
                      <a:pt x="666" y="0"/>
                    </a:lnTo>
                    <a:close/>
                  </a:path>
                </a:pathLst>
              </a:custGeom>
              <a:solidFill>
                <a:srgbClr val="5382a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7" name=""/>
              <p:cNvSpPr/>
              <p:nvPr/>
            </p:nvSpPr>
            <p:spPr>
              <a:xfrm>
                <a:off x="5441040" y="5123520"/>
                <a:ext cx="88560" cy="80280"/>
              </a:xfrm>
              <a:custGeom>
                <a:avLst/>
                <a:gdLst/>
                <a:ahLst/>
                <a:rect l="l" t="t" r="r" b="b"/>
                <a:pathLst>
                  <a:path w="3714" h="3004">
                    <a:moveTo>
                      <a:pt x="2" y="0"/>
                    </a:moveTo>
                    <a:lnTo>
                      <a:pt x="0" y="3"/>
                    </a:lnTo>
                    <a:lnTo>
                      <a:pt x="163" y="214"/>
                    </a:lnTo>
                    <a:lnTo>
                      <a:pt x="3471" y="1098"/>
                    </a:lnTo>
                    <a:lnTo>
                      <a:pt x="2854" y="2798"/>
                    </a:lnTo>
                    <a:lnTo>
                      <a:pt x="2841" y="2793"/>
                    </a:lnTo>
                    <a:lnTo>
                      <a:pt x="2966" y="3000"/>
                    </a:lnTo>
                    <a:lnTo>
                      <a:pt x="2980" y="3004"/>
                    </a:lnTo>
                    <a:lnTo>
                      <a:pt x="3714" y="982"/>
                    </a:lnTo>
                    <a:lnTo>
                      <a:pt x="2" y="0"/>
                    </a:lnTo>
                    <a:close/>
                  </a:path>
                </a:pathLst>
              </a:custGeom>
              <a:solidFill>
                <a:srgbClr val="315575"/>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38" name=""/>
              <p:cNvSpPr/>
              <p:nvPr/>
            </p:nvSpPr>
            <p:spPr>
              <a:xfrm>
                <a:off x="5439600" y="5113440"/>
                <a:ext cx="113040" cy="30240"/>
              </a:xfrm>
              <a:custGeom>
                <a:avLst/>
                <a:gdLst/>
                <a:ahLst/>
                <a:rect l="l" t="t" r="r" b="b"/>
                <a:pathLst>
                  <a:path w="4769" h="1124">
                    <a:moveTo>
                      <a:pt x="4375" y="1124"/>
                    </a:moveTo>
                    <a:lnTo>
                      <a:pt x="4098" y="1057"/>
                    </a:lnTo>
                    <a:lnTo>
                      <a:pt x="3822" y="990"/>
                    </a:lnTo>
                    <a:lnTo>
                      <a:pt x="3548" y="922"/>
                    </a:lnTo>
                    <a:lnTo>
                      <a:pt x="3275" y="854"/>
                    </a:lnTo>
                    <a:lnTo>
                      <a:pt x="3002" y="786"/>
                    </a:lnTo>
                    <a:lnTo>
                      <a:pt x="2730" y="718"/>
                    </a:lnTo>
                    <a:lnTo>
                      <a:pt x="2459" y="650"/>
                    </a:lnTo>
                    <a:lnTo>
                      <a:pt x="2187" y="581"/>
                    </a:lnTo>
                    <a:lnTo>
                      <a:pt x="1916" y="513"/>
                    </a:lnTo>
                    <a:lnTo>
                      <a:pt x="1644" y="444"/>
                    </a:lnTo>
                    <a:lnTo>
                      <a:pt x="1372" y="376"/>
                    </a:lnTo>
                    <a:lnTo>
                      <a:pt x="1100" y="308"/>
                    </a:lnTo>
                    <a:lnTo>
                      <a:pt x="827" y="241"/>
                    </a:lnTo>
                    <a:lnTo>
                      <a:pt x="552" y="173"/>
                    </a:lnTo>
                    <a:lnTo>
                      <a:pt x="277" y="106"/>
                    </a:lnTo>
                    <a:lnTo>
                      <a:pt x="0" y="38"/>
                    </a:lnTo>
                    <a:lnTo>
                      <a:pt x="29" y="30"/>
                    </a:lnTo>
                    <a:lnTo>
                      <a:pt x="58" y="24"/>
                    </a:lnTo>
                    <a:lnTo>
                      <a:pt x="85" y="19"/>
                    </a:lnTo>
                    <a:lnTo>
                      <a:pt x="111" y="14"/>
                    </a:lnTo>
                    <a:lnTo>
                      <a:pt x="136" y="10"/>
                    </a:lnTo>
                    <a:lnTo>
                      <a:pt x="160" y="7"/>
                    </a:lnTo>
                    <a:lnTo>
                      <a:pt x="185" y="5"/>
                    </a:lnTo>
                    <a:lnTo>
                      <a:pt x="208" y="3"/>
                    </a:lnTo>
                    <a:lnTo>
                      <a:pt x="252" y="1"/>
                    </a:lnTo>
                    <a:lnTo>
                      <a:pt x="296" y="0"/>
                    </a:lnTo>
                    <a:lnTo>
                      <a:pt x="341" y="0"/>
                    </a:lnTo>
                    <a:lnTo>
                      <a:pt x="387" y="1"/>
                    </a:lnTo>
                    <a:lnTo>
                      <a:pt x="4769" y="977"/>
                    </a:lnTo>
                    <a:lnTo>
                      <a:pt x="4375" y="1124"/>
                    </a:lnTo>
                    <a:close/>
                  </a:path>
                </a:pathLst>
              </a:custGeom>
              <a:solidFill>
                <a:srgbClr val="709cba"/>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9" name=""/>
              <p:cNvSpPr/>
              <p:nvPr/>
            </p:nvSpPr>
            <p:spPr>
              <a:xfrm>
                <a:off x="5521320" y="5139360"/>
                <a:ext cx="31680" cy="75960"/>
              </a:xfrm>
              <a:custGeom>
                <a:avLst/>
                <a:gdLst/>
                <a:ahLst/>
                <a:rect l="l" t="t" r="r" b="b"/>
                <a:pathLst>
                  <a:path w="1354" h="2860">
                    <a:moveTo>
                      <a:pt x="958" y="148"/>
                    </a:moveTo>
                    <a:lnTo>
                      <a:pt x="0" y="2860"/>
                    </a:lnTo>
                    <a:lnTo>
                      <a:pt x="575" y="2590"/>
                    </a:lnTo>
                    <a:lnTo>
                      <a:pt x="1354" y="0"/>
                    </a:lnTo>
                    <a:lnTo>
                      <a:pt x="958" y="148"/>
                    </a:lnTo>
                    <a:close/>
                  </a:path>
                </a:pathLst>
              </a:custGeom>
              <a:solidFill>
                <a:srgbClr val="32537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0" name=""/>
              <p:cNvSpPr/>
              <p:nvPr/>
            </p:nvSpPr>
            <p:spPr>
              <a:xfrm>
                <a:off x="5331600" y="5191200"/>
                <a:ext cx="79920" cy="72360"/>
              </a:xfrm>
              <a:custGeom>
                <a:avLst/>
                <a:gdLst/>
                <a:ahLst/>
                <a:rect l="l" t="t" r="r" b="b"/>
                <a:pathLst>
                  <a:path w="3375" h="2704">
                    <a:moveTo>
                      <a:pt x="1917" y="0"/>
                    </a:moveTo>
                    <a:lnTo>
                      <a:pt x="3375" y="554"/>
                    </a:lnTo>
                    <a:lnTo>
                      <a:pt x="1391" y="2704"/>
                    </a:lnTo>
                    <a:lnTo>
                      <a:pt x="0" y="2023"/>
                    </a:lnTo>
                    <a:lnTo>
                      <a:pt x="1917" y="0"/>
                    </a:lnTo>
                    <a:close/>
                  </a:path>
                </a:pathLst>
              </a:custGeom>
              <a:solidFill>
                <a:srgbClr val="325373"/>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1" name=""/>
              <p:cNvSpPr/>
              <p:nvPr/>
            </p:nvSpPr>
            <p:spPr>
              <a:xfrm>
                <a:off x="5330160" y="5187240"/>
                <a:ext cx="79920" cy="71640"/>
              </a:xfrm>
              <a:custGeom>
                <a:avLst/>
                <a:gdLst/>
                <a:ahLst/>
                <a:rect l="l" t="t" r="r" b="b"/>
                <a:pathLst>
                  <a:path w="3375" h="2704">
                    <a:moveTo>
                      <a:pt x="1917" y="0"/>
                    </a:moveTo>
                    <a:lnTo>
                      <a:pt x="3375" y="553"/>
                    </a:lnTo>
                    <a:lnTo>
                      <a:pt x="1391" y="2704"/>
                    </a:lnTo>
                    <a:lnTo>
                      <a:pt x="0" y="2023"/>
                    </a:lnTo>
                    <a:lnTo>
                      <a:pt x="1917" y="0"/>
                    </a:lnTo>
                    <a:close/>
                  </a:path>
                </a:pathLst>
              </a:custGeom>
              <a:solidFill>
                <a:srgbClr val="9abcda"/>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2" name=""/>
              <p:cNvSpPr/>
              <p:nvPr/>
            </p:nvSpPr>
            <p:spPr>
              <a:xfrm>
                <a:off x="5420160" y="5209920"/>
                <a:ext cx="31680" cy="23400"/>
              </a:xfrm>
              <a:custGeom>
                <a:avLst/>
                <a:gdLst/>
                <a:ahLst/>
                <a:rect l="l" t="t" r="r" b="b"/>
                <a:pathLst>
                  <a:path w="1336" h="876">
                    <a:moveTo>
                      <a:pt x="1336" y="335"/>
                    </a:moveTo>
                    <a:lnTo>
                      <a:pt x="503" y="0"/>
                    </a:lnTo>
                    <a:lnTo>
                      <a:pt x="0" y="501"/>
                    </a:lnTo>
                    <a:lnTo>
                      <a:pt x="852" y="876"/>
                    </a:lnTo>
                    <a:lnTo>
                      <a:pt x="873" y="853"/>
                    </a:lnTo>
                    <a:lnTo>
                      <a:pt x="928" y="791"/>
                    </a:lnTo>
                    <a:lnTo>
                      <a:pt x="1006" y="704"/>
                    </a:lnTo>
                    <a:lnTo>
                      <a:pt x="1096" y="604"/>
                    </a:lnTo>
                    <a:lnTo>
                      <a:pt x="1185" y="505"/>
                    </a:lnTo>
                    <a:lnTo>
                      <a:pt x="1262" y="418"/>
                    </a:lnTo>
                    <a:lnTo>
                      <a:pt x="1316" y="357"/>
                    </a:lnTo>
                    <a:lnTo>
                      <a:pt x="1336" y="335"/>
                    </a:lnTo>
                    <a:close/>
                  </a:path>
                </a:pathLst>
              </a:custGeom>
              <a:solidFill>
                <a:srgbClr val="32537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3" name=""/>
              <p:cNvSpPr/>
              <p:nvPr/>
            </p:nvSpPr>
            <p:spPr>
              <a:xfrm>
                <a:off x="5447880" y="5224680"/>
                <a:ext cx="31680" cy="23400"/>
              </a:xfrm>
              <a:custGeom>
                <a:avLst/>
                <a:gdLst/>
                <a:ahLst/>
                <a:rect l="l" t="t" r="r" b="b"/>
                <a:pathLst>
                  <a:path w="1337" h="876">
                    <a:moveTo>
                      <a:pt x="1337" y="335"/>
                    </a:moveTo>
                    <a:lnTo>
                      <a:pt x="504" y="0"/>
                    </a:lnTo>
                    <a:lnTo>
                      <a:pt x="0" y="501"/>
                    </a:lnTo>
                    <a:lnTo>
                      <a:pt x="853" y="876"/>
                    </a:lnTo>
                    <a:lnTo>
                      <a:pt x="874" y="852"/>
                    </a:lnTo>
                    <a:lnTo>
                      <a:pt x="929" y="791"/>
                    </a:lnTo>
                    <a:lnTo>
                      <a:pt x="1007" y="704"/>
                    </a:lnTo>
                    <a:lnTo>
                      <a:pt x="1097" y="604"/>
                    </a:lnTo>
                    <a:lnTo>
                      <a:pt x="1186" y="504"/>
                    </a:lnTo>
                    <a:lnTo>
                      <a:pt x="1262" y="418"/>
                    </a:lnTo>
                    <a:lnTo>
                      <a:pt x="1317" y="357"/>
                    </a:lnTo>
                    <a:lnTo>
                      <a:pt x="1337" y="335"/>
                    </a:lnTo>
                    <a:close/>
                  </a:path>
                </a:pathLst>
              </a:custGeom>
              <a:solidFill>
                <a:srgbClr val="32537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4" name=""/>
              <p:cNvSpPr/>
              <p:nvPr/>
            </p:nvSpPr>
            <p:spPr>
              <a:xfrm>
                <a:off x="5477400" y="5236920"/>
                <a:ext cx="31680" cy="23400"/>
              </a:xfrm>
              <a:custGeom>
                <a:avLst/>
                <a:gdLst/>
                <a:ahLst/>
                <a:rect l="l" t="t" r="r" b="b"/>
                <a:pathLst>
                  <a:path w="1337" h="876">
                    <a:moveTo>
                      <a:pt x="1337" y="335"/>
                    </a:moveTo>
                    <a:lnTo>
                      <a:pt x="503" y="0"/>
                    </a:lnTo>
                    <a:lnTo>
                      <a:pt x="0" y="502"/>
                    </a:lnTo>
                    <a:lnTo>
                      <a:pt x="853" y="876"/>
                    </a:lnTo>
                    <a:lnTo>
                      <a:pt x="874" y="853"/>
                    </a:lnTo>
                    <a:lnTo>
                      <a:pt x="928" y="791"/>
                    </a:lnTo>
                    <a:lnTo>
                      <a:pt x="1007" y="704"/>
                    </a:lnTo>
                    <a:lnTo>
                      <a:pt x="1096" y="605"/>
                    </a:lnTo>
                    <a:lnTo>
                      <a:pt x="1185" y="505"/>
                    </a:lnTo>
                    <a:lnTo>
                      <a:pt x="1262" y="418"/>
                    </a:lnTo>
                    <a:lnTo>
                      <a:pt x="1317" y="358"/>
                    </a:lnTo>
                    <a:lnTo>
                      <a:pt x="1337" y="335"/>
                    </a:lnTo>
                    <a:close/>
                  </a:path>
                </a:pathLst>
              </a:custGeom>
              <a:solidFill>
                <a:srgbClr val="32537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5" name=""/>
              <p:cNvSpPr/>
              <p:nvPr/>
            </p:nvSpPr>
            <p:spPr>
              <a:xfrm>
                <a:off x="5402880" y="5229000"/>
                <a:ext cx="31680" cy="23400"/>
              </a:xfrm>
              <a:custGeom>
                <a:avLst/>
                <a:gdLst/>
                <a:ahLst/>
                <a:rect l="l" t="t" r="r" b="b"/>
                <a:pathLst>
                  <a:path w="1337" h="876">
                    <a:moveTo>
                      <a:pt x="1337" y="335"/>
                    </a:moveTo>
                    <a:lnTo>
                      <a:pt x="503" y="0"/>
                    </a:lnTo>
                    <a:lnTo>
                      <a:pt x="0" y="501"/>
                    </a:lnTo>
                    <a:lnTo>
                      <a:pt x="853" y="876"/>
                    </a:lnTo>
                    <a:lnTo>
                      <a:pt x="874" y="853"/>
                    </a:lnTo>
                    <a:lnTo>
                      <a:pt x="928" y="791"/>
                    </a:lnTo>
                    <a:lnTo>
                      <a:pt x="1007" y="704"/>
                    </a:lnTo>
                    <a:lnTo>
                      <a:pt x="1096" y="604"/>
                    </a:lnTo>
                    <a:lnTo>
                      <a:pt x="1185" y="505"/>
                    </a:lnTo>
                    <a:lnTo>
                      <a:pt x="1262" y="418"/>
                    </a:lnTo>
                    <a:lnTo>
                      <a:pt x="1317" y="357"/>
                    </a:lnTo>
                    <a:lnTo>
                      <a:pt x="1337" y="335"/>
                    </a:lnTo>
                    <a:close/>
                  </a:path>
                </a:pathLst>
              </a:custGeom>
              <a:solidFill>
                <a:srgbClr val="32537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6" name=""/>
              <p:cNvSpPr/>
              <p:nvPr/>
            </p:nvSpPr>
            <p:spPr>
              <a:xfrm>
                <a:off x="5430600" y="5244120"/>
                <a:ext cx="31680" cy="22680"/>
              </a:xfrm>
              <a:custGeom>
                <a:avLst/>
                <a:gdLst/>
                <a:ahLst/>
                <a:rect l="l" t="t" r="r" b="b"/>
                <a:pathLst>
                  <a:path w="1336" h="876">
                    <a:moveTo>
                      <a:pt x="1336" y="335"/>
                    </a:moveTo>
                    <a:lnTo>
                      <a:pt x="503" y="0"/>
                    </a:lnTo>
                    <a:lnTo>
                      <a:pt x="0" y="501"/>
                    </a:lnTo>
                    <a:lnTo>
                      <a:pt x="852" y="876"/>
                    </a:lnTo>
                    <a:lnTo>
                      <a:pt x="873" y="852"/>
                    </a:lnTo>
                    <a:lnTo>
                      <a:pt x="928" y="791"/>
                    </a:lnTo>
                    <a:lnTo>
                      <a:pt x="1007" y="704"/>
                    </a:lnTo>
                    <a:lnTo>
                      <a:pt x="1096" y="603"/>
                    </a:lnTo>
                    <a:lnTo>
                      <a:pt x="1185" y="505"/>
                    </a:lnTo>
                    <a:lnTo>
                      <a:pt x="1262" y="418"/>
                    </a:lnTo>
                    <a:lnTo>
                      <a:pt x="1317" y="357"/>
                    </a:lnTo>
                    <a:lnTo>
                      <a:pt x="1336" y="335"/>
                    </a:lnTo>
                    <a:close/>
                  </a:path>
                </a:pathLst>
              </a:custGeom>
              <a:solidFill>
                <a:srgbClr val="325373"/>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7" name=""/>
              <p:cNvSpPr/>
              <p:nvPr/>
            </p:nvSpPr>
            <p:spPr>
              <a:xfrm>
                <a:off x="5460120" y="5256000"/>
                <a:ext cx="31680" cy="22680"/>
              </a:xfrm>
              <a:custGeom>
                <a:avLst/>
                <a:gdLst/>
                <a:ahLst/>
                <a:rect l="l" t="t" r="r" b="b"/>
                <a:pathLst>
                  <a:path w="1337" h="876">
                    <a:moveTo>
                      <a:pt x="1337" y="335"/>
                    </a:moveTo>
                    <a:lnTo>
                      <a:pt x="504" y="0"/>
                    </a:lnTo>
                    <a:lnTo>
                      <a:pt x="0" y="502"/>
                    </a:lnTo>
                    <a:lnTo>
                      <a:pt x="853" y="876"/>
                    </a:lnTo>
                    <a:lnTo>
                      <a:pt x="874" y="853"/>
                    </a:lnTo>
                    <a:lnTo>
                      <a:pt x="929" y="791"/>
                    </a:lnTo>
                    <a:lnTo>
                      <a:pt x="1007" y="704"/>
                    </a:lnTo>
                    <a:lnTo>
                      <a:pt x="1097" y="605"/>
                    </a:lnTo>
                    <a:lnTo>
                      <a:pt x="1186" y="505"/>
                    </a:lnTo>
                    <a:lnTo>
                      <a:pt x="1264" y="419"/>
                    </a:lnTo>
                    <a:lnTo>
                      <a:pt x="1317" y="358"/>
                    </a:lnTo>
                    <a:lnTo>
                      <a:pt x="1337" y="335"/>
                    </a:lnTo>
                    <a:close/>
                  </a:path>
                </a:pathLst>
              </a:custGeom>
              <a:solidFill>
                <a:srgbClr val="325373"/>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8" name=""/>
              <p:cNvSpPr/>
              <p:nvPr/>
            </p:nvSpPr>
            <p:spPr>
              <a:xfrm>
                <a:off x="5386320" y="5247720"/>
                <a:ext cx="31680" cy="23400"/>
              </a:xfrm>
              <a:custGeom>
                <a:avLst/>
                <a:gdLst/>
                <a:ahLst/>
                <a:rect l="l" t="t" r="r" b="b"/>
                <a:pathLst>
                  <a:path w="1336" h="876">
                    <a:moveTo>
                      <a:pt x="1336" y="335"/>
                    </a:moveTo>
                    <a:lnTo>
                      <a:pt x="503" y="0"/>
                    </a:lnTo>
                    <a:lnTo>
                      <a:pt x="0" y="501"/>
                    </a:lnTo>
                    <a:lnTo>
                      <a:pt x="852" y="876"/>
                    </a:lnTo>
                    <a:lnTo>
                      <a:pt x="873" y="852"/>
                    </a:lnTo>
                    <a:lnTo>
                      <a:pt x="929" y="790"/>
                    </a:lnTo>
                    <a:lnTo>
                      <a:pt x="1006" y="703"/>
                    </a:lnTo>
                    <a:lnTo>
                      <a:pt x="1096" y="603"/>
                    </a:lnTo>
                    <a:lnTo>
                      <a:pt x="1185" y="504"/>
                    </a:lnTo>
                    <a:lnTo>
                      <a:pt x="1263" y="418"/>
                    </a:lnTo>
                    <a:lnTo>
                      <a:pt x="1316" y="357"/>
                    </a:lnTo>
                    <a:lnTo>
                      <a:pt x="1336" y="335"/>
                    </a:lnTo>
                    <a:close/>
                  </a:path>
                </a:pathLst>
              </a:custGeom>
              <a:solidFill>
                <a:srgbClr val="32537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9" name=""/>
              <p:cNvSpPr/>
              <p:nvPr/>
            </p:nvSpPr>
            <p:spPr>
              <a:xfrm>
                <a:off x="5414040" y="5262480"/>
                <a:ext cx="31680" cy="22680"/>
              </a:xfrm>
              <a:custGeom>
                <a:avLst/>
                <a:gdLst/>
                <a:ahLst/>
                <a:rect l="l" t="t" r="r" b="b"/>
                <a:pathLst>
                  <a:path w="1337" h="876">
                    <a:moveTo>
                      <a:pt x="1337" y="335"/>
                    </a:moveTo>
                    <a:lnTo>
                      <a:pt x="503" y="0"/>
                    </a:lnTo>
                    <a:lnTo>
                      <a:pt x="0" y="502"/>
                    </a:lnTo>
                    <a:lnTo>
                      <a:pt x="853" y="876"/>
                    </a:lnTo>
                    <a:lnTo>
                      <a:pt x="874" y="853"/>
                    </a:lnTo>
                    <a:lnTo>
                      <a:pt x="929" y="791"/>
                    </a:lnTo>
                    <a:lnTo>
                      <a:pt x="1007" y="704"/>
                    </a:lnTo>
                    <a:lnTo>
                      <a:pt x="1096" y="605"/>
                    </a:lnTo>
                    <a:lnTo>
                      <a:pt x="1185" y="505"/>
                    </a:lnTo>
                    <a:lnTo>
                      <a:pt x="1263" y="419"/>
                    </a:lnTo>
                    <a:lnTo>
                      <a:pt x="1317" y="358"/>
                    </a:lnTo>
                    <a:lnTo>
                      <a:pt x="1337" y="335"/>
                    </a:lnTo>
                    <a:close/>
                  </a:path>
                </a:pathLst>
              </a:custGeom>
              <a:solidFill>
                <a:srgbClr val="325373"/>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0" name=""/>
              <p:cNvSpPr/>
              <p:nvPr/>
            </p:nvSpPr>
            <p:spPr>
              <a:xfrm>
                <a:off x="5443560" y="5274720"/>
                <a:ext cx="31680" cy="22680"/>
              </a:xfrm>
              <a:custGeom>
                <a:avLst/>
                <a:gdLst/>
                <a:ahLst/>
                <a:rect l="l" t="t" r="r" b="b"/>
                <a:pathLst>
                  <a:path w="1335" h="876">
                    <a:moveTo>
                      <a:pt x="1335" y="335"/>
                    </a:moveTo>
                    <a:lnTo>
                      <a:pt x="502" y="0"/>
                    </a:lnTo>
                    <a:lnTo>
                      <a:pt x="0" y="501"/>
                    </a:lnTo>
                    <a:lnTo>
                      <a:pt x="852" y="876"/>
                    </a:lnTo>
                    <a:lnTo>
                      <a:pt x="873" y="853"/>
                    </a:lnTo>
                    <a:lnTo>
                      <a:pt x="928" y="791"/>
                    </a:lnTo>
                    <a:lnTo>
                      <a:pt x="1006" y="704"/>
                    </a:lnTo>
                    <a:lnTo>
                      <a:pt x="1095" y="605"/>
                    </a:lnTo>
                    <a:lnTo>
                      <a:pt x="1184" y="505"/>
                    </a:lnTo>
                    <a:lnTo>
                      <a:pt x="1262" y="418"/>
                    </a:lnTo>
                    <a:lnTo>
                      <a:pt x="1316" y="357"/>
                    </a:lnTo>
                    <a:lnTo>
                      <a:pt x="1335" y="335"/>
                    </a:lnTo>
                    <a:close/>
                  </a:path>
                </a:pathLst>
              </a:custGeom>
              <a:solidFill>
                <a:srgbClr val="325373"/>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1" name=""/>
              <p:cNvSpPr/>
              <p:nvPr/>
            </p:nvSpPr>
            <p:spPr>
              <a:xfrm>
                <a:off x="5371200" y="5265360"/>
                <a:ext cx="31320" cy="23400"/>
              </a:xfrm>
              <a:custGeom>
                <a:avLst/>
                <a:gdLst/>
                <a:ahLst/>
                <a:rect l="l" t="t" r="r" b="b"/>
                <a:pathLst>
                  <a:path w="1337" h="876">
                    <a:moveTo>
                      <a:pt x="1337" y="335"/>
                    </a:moveTo>
                    <a:lnTo>
                      <a:pt x="503" y="0"/>
                    </a:lnTo>
                    <a:lnTo>
                      <a:pt x="0" y="501"/>
                    </a:lnTo>
                    <a:lnTo>
                      <a:pt x="853" y="876"/>
                    </a:lnTo>
                    <a:lnTo>
                      <a:pt x="874" y="853"/>
                    </a:lnTo>
                    <a:lnTo>
                      <a:pt x="928" y="791"/>
                    </a:lnTo>
                    <a:lnTo>
                      <a:pt x="1007" y="704"/>
                    </a:lnTo>
                    <a:lnTo>
                      <a:pt x="1096" y="604"/>
                    </a:lnTo>
                    <a:lnTo>
                      <a:pt x="1185" y="505"/>
                    </a:lnTo>
                    <a:lnTo>
                      <a:pt x="1262" y="418"/>
                    </a:lnTo>
                    <a:lnTo>
                      <a:pt x="1317" y="357"/>
                    </a:lnTo>
                    <a:lnTo>
                      <a:pt x="1337" y="335"/>
                    </a:lnTo>
                    <a:close/>
                  </a:path>
                </a:pathLst>
              </a:custGeom>
              <a:solidFill>
                <a:srgbClr val="32537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2" name=""/>
              <p:cNvSpPr/>
              <p:nvPr/>
            </p:nvSpPr>
            <p:spPr>
              <a:xfrm>
                <a:off x="5398560" y="5279400"/>
                <a:ext cx="31680" cy="23400"/>
              </a:xfrm>
              <a:custGeom>
                <a:avLst/>
                <a:gdLst/>
                <a:ahLst/>
                <a:rect l="l" t="t" r="r" b="b"/>
                <a:pathLst>
                  <a:path w="1336" h="876">
                    <a:moveTo>
                      <a:pt x="1336" y="335"/>
                    </a:moveTo>
                    <a:lnTo>
                      <a:pt x="503" y="0"/>
                    </a:lnTo>
                    <a:lnTo>
                      <a:pt x="0" y="501"/>
                    </a:lnTo>
                    <a:lnTo>
                      <a:pt x="853" y="876"/>
                    </a:lnTo>
                    <a:lnTo>
                      <a:pt x="873" y="853"/>
                    </a:lnTo>
                    <a:lnTo>
                      <a:pt x="928" y="791"/>
                    </a:lnTo>
                    <a:lnTo>
                      <a:pt x="1007" y="704"/>
                    </a:lnTo>
                    <a:lnTo>
                      <a:pt x="1096" y="605"/>
                    </a:lnTo>
                    <a:lnTo>
                      <a:pt x="1185" y="505"/>
                    </a:lnTo>
                    <a:lnTo>
                      <a:pt x="1262" y="418"/>
                    </a:lnTo>
                    <a:lnTo>
                      <a:pt x="1317" y="357"/>
                    </a:lnTo>
                    <a:lnTo>
                      <a:pt x="1336" y="335"/>
                    </a:lnTo>
                    <a:close/>
                  </a:path>
                </a:pathLst>
              </a:custGeom>
              <a:solidFill>
                <a:srgbClr val="32537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3" name=""/>
              <p:cNvSpPr/>
              <p:nvPr/>
            </p:nvSpPr>
            <p:spPr>
              <a:xfrm>
                <a:off x="5428080" y="5292000"/>
                <a:ext cx="31680" cy="23400"/>
              </a:xfrm>
              <a:custGeom>
                <a:avLst/>
                <a:gdLst/>
                <a:ahLst/>
                <a:rect l="l" t="t" r="r" b="b"/>
                <a:pathLst>
                  <a:path w="1337" h="875">
                    <a:moveTo>
                      <a:pt x="1337" y="335"/>
                    </a:moveTo>
                    <a:lnTo>
                      <a:pt x="504" y="0"/>
                    </a:lnTo>
                    <a:lnTo>
                      <a:pt x="0" y="501"/>
                    </a:lnTo>
                    <a:lnTo>
                      <a:pt x="853" y="875"/>
                    </a:lnTo>
                    <a:lnTo>
                      <a:pt x="874" y="852"/>
                    </a:lnTo>
                    <a:lnTo>
                      <a:pt x="929" y="790"/>
                    </a:lnTo>
                    <a:lnTo>
                      <a:pt x="1007" y="703"/>
                    </a:lnTo>
                    <a:lnTo>
                      <a:pt x="1097" y="604"/>
                    </a:lnTo>
                    <a:lnTo>
                      <a:pt x="1186" y="504"/>
                    </a:lnTo>
                    <a:lnTo>
                      <a:pt x="1264" y="418"/>
                    </a:lnTo>
                    <a:lnTo>
                      <a:pt x="1317" y="357"/>
                    </a:lnTo>
                    <a:lnTo>
                      <a:pt x="1337" y="335"/>
                    </a:lnTo>
                    <a:close/>
                  </a:path>
                </a:pathLst>
              </a:custGeom>
              <a:solidFill>
                <a:srgbClr val="325373"/>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4" name=""/>
              <p:cNvSpPr/>
              <p:nvPr/>
            </p:nvSpPr>
            <p:spPr>
              <a:xfrm>
                <a:off x="5420520" y="5207760"/>
                <a:ext cx="31320" cy="23400"/>
              </a:xfrm>
              <a:custGeom>
                <a:avLst/>
                <a:gdLst/>
                <a:ahLst/>
                <a:rect l="l" t="t" r="r" b="b"/>
                <a:pathLst>
                  <a:path w="1336" h="876">
                    <a:moveTo>
                      <a:pt x="1336" y="335"/>
                    </a:moveTo>
                    <a:lnTo>
                      <a:pt x="502" y="0"/>
                    </a:lnTo>
                    <a:lnTo>
                      <a:pt x="0" y="501"/>
                    </a:lnTo>
                    <a:lnTo>
                      <a:pt x="852" y="876"/>
                    </a:lnTo>
                    <a:lnTo>
                      <a:pt x="873" y="853"/>
                    </a:lnTo>
                    <a:lnTo>
                      <a:pt x="929" y="791"/>
                    </a:lnTo>
                    <a:lnTo>
                      <a:pt x="1006" y="704"/>
                    </a:lnTo>
                    <a:lnTo>
                      <a:pt x="1095" y="604"/>
                    </a:lnTo>
                    <a:lnTo>
                      <a:pt x="1184" y="505"/>
                    </a:lnTo>
                    <a:lnTo>
                      <a:pt x="1262" y="418"/>
                    </a:lnTo>
                    <a:lnTo>
                      <a:pt x="1316" y="357"/>
                    </a:lnTo>
                    <a:lnTo>
                      <a:pt x="1336" y="335"/>
                    </a:lnTo>
                    <a:close/>
                  </a:path>
                </a:pathLst>
              </a:custGeom>
              <a:solidFill>
                <a:srgbClr val="9abcd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 name=""/>
              <p:cNvSpPr/>
              <p:nvPr/>
            </p:nvSpPr>
            <p:spPr>
              <a:xfrm>
                <a:off x="5448240" y="5222520"/>
                <a:ext cx="31680" cy="22680"/>
              </a:xfrm>
              <a:custGeom>
                <a:avLst/>
                <a:gdLst/>
                <a:ahLst/>
                <a:rect l="l" t="t" r="r" b="b"/>
                <a:pathLst>
                  <a:path w="1337" h="876">
                    <a:moveTo>
                      <a:pt x="1337" y="336"/>
                    </a:moveTo>
                    <a:lnTo>
                      <a:pt x="503" y="0"/>
                    </a:lnTo>
                    <a:lnTo>
                      <a:pt x="0" y="501"/>
                    </a:lnTo>
                    <a:lnTo>
                      <a:pt x="853" y="876"/>
                    </a:lnTo>
                    <a:lnTo>
                      <a:pt x="874" y="852"/>
                    </a:lnTo>
                    <a:lnTo>
                      <a:pt x="929" y="791"/>
                    </a:lnTo>
                    <a:lnTo>
                      <a:pt x="1007" y="703"/>
                    </a:lnTo>
                    <a:lnTo>
                      <a:pt x="1096" y="604"/>
                    </a:lnTo>
                    <a:lnTo>
                      <a:pt x="1185" y="504"/>
                    </a:lnTo>
                    <a:lnTo>
                      <a:pt x="1263" y="418"/>
                    </a:lnTo>
                    <a:lnTo>
                      <a:pt x="1317" y="358"/>
                    </a:lnTo>
                    <a:lnTo>
                      <a:pt x="1337" y="336"/>
                    </a:lnTo>
                    <a:close/>
                  </a:path>
                </a:pathLst>
              </a:custGeom>
              <a:solidFill>
                <a:srgbClr val="9abcd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6" name=""/>
              <p:cNvSpPr/>
              <p:nvPr/>
            </p:nvSpPr>
            <p:spPr>
              <a:xfrm>
                <a:off x="5477760" y="5234760"/>
                <a:ext cx="31680" cy="22680"/>
              </a:xfrm>
              <a:custGeom>
                <a:avLst/>
                <a:gdLst/>
                <a:ahLst/>
                <a:rect l="l" t="t" r="r" b="b"/>
                <a:pathLst>
                  <a:path w="1335" h="876">
                    <a:moveTo>
                      <a:pt x="1335" y="336"/>
                    </a:moveTo>
                    <a:lnTo>
                      <a:pt x="502" y="0"/>
                    </a:lnTo>
                    <a:lnTo>
                      <a:pt x="0" y="501"/>
                    </a:lnTo>
                    <a:lnTo>
                      <a:pt x="851" y="876"/>
                    </a:lnTo>
                    <a:lnTo>
                      <a:pt x="872" y="853"/>
                    </a:lnTo>
                    <a:lnTo>
                      <a:pt x="928" y="791"/>
                    </a:lnTo>
                    <a:lnTo>
                      <a:pt x="1006" y="705"/>
                    </a:lnTo>
                    <a:lnTo>
                      <a:pt x="1095" y="605"/>
                    </a:lnTo>
                    <a:lnTo>
                      <a:pt x="1184" y="505"/>
                    </a:lnTo>
                    <a:lnTo>
                      <a:pt x="1262" y="418"/>
                    </a:lnTo>
                    <a:lnTo>
                      <a:pt x="1316" y="358"/>
                    </a:lnTo>
                    <a:lnTo>
                      <a:pt x="1335" y="336"/>
                    </a:lnTo>
                    <a:close/>
                  </a:path>
                </a:pathLst>
              </a:custGeom>
              <a:solidFill>
                <a:srgbClr val="9abcd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7" name=""/>
              <p:cNvSpPr/>
              <p:nvPr/>
            </p:nvSpPr>
            <p:spPr>
              <a:xfrm>
                <a:off x="5402880" y="5226840"/>
                <a:ext cx="31680" cy="23400"/>
              </a:xfrm>
              <a:custGeom>
                <a:avLst/>
                <a:gdLst/>
                <a:ahLst/>
                <a:rect l="l" t="t" r="r" b="b"/>
                <a:pathLst>
                  <a:path w="1335" h="876">
                    <a:moveTo>
                      <a:pt x="1335" y="335"/>
                    </a:moveTo>
                    <a:lnTo>
                      <a:pt x="502" y="0"/>
                    </a:lnTo>
                    <a:lnTo>
                      <a:pt x="0" y="501"/>
                    </a:lnTo>
                    <a:lnTo>
                      <a:pt x="851" y="876"/>
                    </a:lnTo>
                    <a:lnTo>
                      <a:pt x="872" y="853"/>
                    </a:lnTo>
                    <a:lnTo>
                      <a:pt x="928" y="791"/>
                    </a:lnTo>
                    <a:lnTo>
                      <a:pt x="1005" y="704"/>
                    </a:lnTo>
                    <a:lnTo>
                      <a:pt x="1095" y="603"/>
                    </a:lnTo>
                    <a:lnTo>
                      <a:pt x="1184" y="505"/>
                    </a:lnTo>
                    <a:lnTo>
                      <a:pt x="1262" y="418"/>
                    </a:lnTo>
                    <a:lnTo>
                      <a:pt x="1315" y="357"/>
                    </a:lnTo>
                    <a:lnTo>
                      <a:pt x="1335" y="335"/>
                    </a:lnTo>
                    <a:close/>
                  </a:path>
                </a:pathLst>
              </a:custGeom>
              <a:solidFill>
                <a:srgbClr val="9abcd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8" name=""/>
              <p:cNvSpPr/>
              <p:nvPr/>
            </p:nvSpPr>
            <p:spPr>
              <a:xfrm>
                <a:off x="5430960" y="5241240"/>
                <a:ext cx="31320" cy="23400"/>
              </a:xfrm>
              <a:custGeom>
                <a:avLst/>
                <a:gdLst/>
                <a:ahLst/>
                <a:rect l="l" t="t" r="r" b="b"/>
                <a:pathLst>
                  <a:path w="1336" h="876">
                    <a:moveTo>
                      <a:pt x="1336" y="335"/>
                    </a:moveTo>
                    <a:lnTo>
                      <a:pt x="503" y="0"/>
                    </a:lnTo>
                    <a:lnTo>
                      <a:pt x="0" y="501"/>
                    </a:lnTo>
                    <a:lnTo>
                      <a:pt x="852" y="876"/>
                    </a:lnTo>
                    <a:lnTo>
                      <a:pt x="873" y="852"/>
                    </a:lnTo>
                    <a:lnTo>
                      <a:pt x="929" y="791"/>
                    </a:lnTo>
                    <a:lnTo>
                      <a:pt x="1006" y="703"/>
                    </a:lnTo>
                    <a:lnTo>
                      <a:pt x="1096" y="604"/>
                    </a:lnTo>
                    <a:lnTo>
                      <a:pt x="1185" y="504"/>
                    </a:lnTo>
                    <a:lnTo>
                      <a:pt x="1262" y="418"/>
                    </a:lnTo>
                    <a:lnTo>
                      <a:pt x="1316" y="357"/>
                    </a:lnTo>
                    <a:lnTo>
                      <a:pt x="1336" y="335"/>
                    </a:lnTo>
                    <a:close/>
                  </a:path>
                </a:pathLst>
              </a:custGeom>
              <a:solidFill>
                <a:srgbClr val="9abcd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9" name=""/>
              <p:cNvSpPr/>
              <p:nvPr/>
            </p:nvSpPr>
            <p:spPr>
              <a:xfrm>
                <a:off x="5460840" y="5253480"/>
                <a:ext cx="31320" cy="23400"/>
              </a:xfrm>
              <a:custGeom>
                <a:avLst/>
                <a:gdLst/>
                <a:ahLst/>
                <a:rect l="l" t="t" r="r" b="b"/>
                <a:pathLst>
                  <a:path w="1336" h="876">
                    <a:moveTo>
                      <a:pt x="1336" y="335"/>
                    </a:moveTo>
                    <a:lnTo>
                      <a:pt x="503" y="0"/>
                    </a:lnTo>
                    <a:lnTo>
                      <a:pt x="0" y="501"/>
                    </a:lnTo>
                    <a:lnTo>
                      <a:pt x="852" y="876"/>
                    </a:lnTo>
                    <a:lnTo>
                      <a:pt x="873" y="853"/>
                    </a:lnTo>
                    <a:lnTo>
                      <a:pt x="928" y="791"/>
                    </a:lnTo>
                    <a:lnTo>
                      <a:pt x="1006" y="704"/>
                    </a:lnTo>
                    <a:lnTo>
                      <a:pt x="1095" y="605"/>
                    </a:lnTo>
                    <a:lnTo>
                      <a:pt x="1184" y="505"/>
                    </a:lnTo>
                    <a:lnTo>
                      <a:pt x="1262" y="418"/>
                    </a:lnTo>
                    <a:lnTo>
                      <a:pt x="1316" y="357"/>
                    </a:lnTo>
                    <a:lnTo>
                      <a:pt x="1336" y="335"/>
                    </a:lnTo>
                    <a:close/>
                  </a:path>
                </a:pathLst>
              </a:custGeom>
              <a:solidFill>
                <a:srgbClr val="9abcd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0" name=""/>
              <p:cNvSpPr/>
              <p:nvPr/>
            </p:nvSpPr>
            <p:spPr>
              <a:xfrm>
                <a:off x="5386320" y="5245560"/>
                <a:ext cx="31680" cy="23400"/>
              </a:xfrm>
              <a:custGeom>
                <a:avLst/>
                <a:gdLst/>
                <a:ahLst/>
                <a:rect l="l" t="t" r="r" b="b"/>
                <a:pathLst>
                  <a:path w="1336" h="876">
                    <a:moveTo>
                      <a:pt x="1336" y="336"/>
                    </a:moveTo>
                    <a:lnTo>
                      <a:pt x="503" y="0"/>
                    </a:lnTo>
                    <a:lnTo>
                      <a:pt x="0" y="502"/>
                    </a:lnTo>
                    <a:lnTo>
                      <a:pt x="852" y="876"/>
                    </a:lnTo>
                    <a:lnTo>
                      <a:pt x="873" y="853"/>
                    </a:lnTo>
                    <a:lnTo>
                      <a:pt x="928" y="791"/>
                    </a:lnTo>
                    <a:lnTo>
                      <a:pt x="1006" y="704"/>
                    </a:lnTo>
                    <a:lnTo>
                      <a:pt x="1096" y="605"/>
                    </a:lnTo>
                    <a:lnTo>
                      <a:pt x="1185" y="505"/>
                    </a:lnTo>
                    <a:lnTo>
                      <a:pt x="1262" y="419"/>
                    </a:lnTo>
                    <a:lnTo>
                      <a:pt x="1317" y="358"/>
                    </a:lnTo>
                    <a:lnTo>
                      <a:pt x="1336" y="336"/>
                    </a:lnTo>
                    <a:close/>
                  </a:path>
                </a:pathLst>
              </a:custGeom>
              <a:solidFill>
                <a:srgbClr val="9abcd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1" name=""/>
              <p:cNvSpPr/>
              <p:nvPr/>
            </p:nvSpPr>
            <p:spPr>
              <a:xfrm>
                <a:off x="5414400" y="5259960"/>
                <a:ext cx="31320" cy="23400"/>
              </a:xfrm>
              <a:custGeom>
                <a:avLst/>
                <a:gdLst/>
                <a:ahLst/>
                <a:rect l="l" t="t" r="r" b="b"/>
                <a:pathLst>
                  <a:path w="1335" h="876">
                    <a:moveTo>
                      <a:pt x="1335" y="335"/>
                    </a:moveTo>
                    <a:lnTo>
                      <a:pt x="503" y="0"/>
                    </a:lnTo>
                    <a:lnTo>
                      <a:pt x="0" y="502"/>
                    </a:lnTo>
                    <a:lnTo>
                      <a:pt x="852" y="876"/>
                    </a:lnTo>
                    <a:lnTo>
                      <a:pt x="873" y="853"/>
                    </a:lnTo>
                    <a:lnTo>
                      <a:pt x="928" y="791"/>
                    </a:lnTo>
                    <a:lnTo>
                      <a:pt x="1006" y="704"/>
                    </a:lnTo>
                    <a:lnTo>
                      <a:pt x="1095" y="605"/>
                    </a:lnTo>
                    <a:lnTo>
                      <a:pt x="1185" y="505"/>
                    </a:lnTo>
                    <a:lnTo>
                      <a:pt x="1262" y="418"/>
                    </a:lnTo>
                    <a:lnTo>
                      <a:pt x="1316" y="359"/>
                    </a:lnTo>
                    <a:lnTo>
                      <a:pt x="1335" y="335"/>
                    </a:lnTo>
                    <a:close/>
                  </a:path>
                </a:pathLst>
              </a:custGeom>
              <a:solidFill>
                <a:srgbClr val="9abcd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2" name=""/>
              <p:cNvSpPr/>
              <p:nvPr/>
            </p:nvSpPr>
            <p:spPr>
              <a:xfrm>
                <a:off x="5443560" y="5272200"/>
                <a:ext cx="31680" cy="23400"/>
              </a:xfrm>
              <a:custGeom>
                <a:avLst/>
                <a:gdLst/>
                <a:ahLst/>
                <a:rect l="l" t="t" r="r" b="b"/>
                <a:pathLst>
                  <a:path w="1335" h="876">
                    <a:moveTo>
                      <a:pt x="1335" y="336"/>
                    </a:moveTo>
                    <a:lnTo>
                      <a:pt x="503" y="0"/>
                    </a:lnTo>
                    <a:lnTo>
                      <a:pt x="0" y="501"/>
                    </a:lnTo>
                    <a:lnTo>
                      <a:pt x="852" y="876"/>
                    </a:lnTo>
                    <a:lnTo>
                      <a:pt x="873" y="853"/>
                    </a:lnTo>
                    <a:lnTo>
                      <a:pt x="928" y="791"/>
                    </a:lnTo>
                    <a:lnTo>
                      <a:pt x="1006" y="704"/>
                    </a:lnTo>
                    <a:lnTo>
                      <a:pt x="1096" y="605"/>
                    </a:lnTo>
                    <a:lnTo>
                      <a:pt x="1185" y="505"/>
                    </a:lnTo>
                    <a:lnTo>
                      <a:pt x="1262" y="418"/>
                    </a:lnTo>
                    <a:lnTo>
                      <a:pt x="1316" y="358"/>
                    </a:lnTo>
                    <a:lnTo>
                      <a:pt x="1335" y="336"/>
                    </a:lnTo>
                    <a:close/>
                  </a:path>
                </a:pathLst>
              </a:custGeom>
              <a:solidFill>
                <a:srgbClr val="9abcd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3" name=""/>
              <p:cNvSpPr/>
              <p:nvPr/>
            </p:nvSpPr>
            <p:spPr>
              <a:xfrm>
                <a:off x="5371200" y="5263200"/>
                <a:ext cx="31680" cy="23400"/>
              </a:xfrm>
              <a:custGeom>
                <a:avLst/>
                <a:gdLst/>
                <a:ahLst/>
                <a:rect l="l" t="t" r="r" b="b"/>
                <a:pathLst>
                  <a:path w="1335" h="876">
                    <a:moveTo>
                      <a:pt x="1335" y="335"/>
                    </a:moveTo>
                    <a:lnTo>
                      <a:pt x="502" y="0"/>
                    </a:lnTo>
                    <a:lnTo>
                      <a:pt x="0" y="501"/>
                    </a:lnTo>
                    <a:lnTo>
                      <a:pt x="851" y="876"/>
                    </a:lnTo>
                    <a:lnTo>
                      <a:pt x="872" y="853"/>
                    </a:lnTo>
                    <a:lnTo>
                      <a:pt x="928" y="791"/>
                    </a:lnTo>
                    <a:lnTo>
                      <a:pt x="1005" y="704"/>
                    </a:lnTo>
                    <a:lnTo>
                      <a:pt x="1095" y="605"/>
                    </a:lnTo>
                    <a:lnTo>
                      <a:pt x="1184" y="505"/>
                    </a:lnTo>
                    <a:lnTo>
                      <a:pt x="1262" y="418"/>
                    </a:lnTo>
                    <a:lnTo>
                      <a:pt x="1315" y="357"/>
                    </a:lnTo>
                    <a:lnTo>
                      <a:pt x="1335" y="335"/>
                    </a:lnTo>
                    <a:close/>
                  </a:path>
                </a:pathLst>
              </a:custGeom>
              <a:solidFill>
                <a:srgbClr val="9abcd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4" name=""/>
              <p:cNvSpPr/>
              <p:nvPr/>
            </p:nvSpPr>
            <p:spPr>
              <a:xfrm>
                <a:off x="5398560" y="5277600"/>
                <a:ext cx="31680" cy="23400"/>
              </a:xfrm>
              <a:custGeom>
                <a:avLst/>
                <a:gdLst/>
                <a:ahLst/>
                <a:rect l="l" t="t" r="r" b="b"/>
                <a:pathLst>
                  <a:path w="1336" h="876">
                    <a:moveTo>
                      <a:pt x="1336" y="336"/>
                    </a:moveTo>
                    <a:lnTo>
                      <a:pt x="503" y="0"/>
                    </a:lnTo>
                    <a:lnTo>
                      <a:pt x="0" y="501"/>
                    </a:lnTo>
                    <a:lnTo>
                      <a:pt x="852" y="876"/>
                    </a:lnTo>
                    <a:lnTo>
                      <a:pt x="873" y="852"/>
                    </a:lnTo>
                    <a:lnTo>
                      <a:pt x="929" y="791"/>
                    </a:lnTo>
                    <a:lnTo>
                      <a:pt x="1006" y="704"/>
                    </a:lnTo>
                    <a:lnTo>
                      <a:pt x="1096" y="604"/>
                    </a:lnTo>
                    <a:lnTo>
                      <a:pt x="1185" y="505"/>
                    </a:lnTo>
                    <a:lnTo>
                      <a:pt x="1262" y="418"/>
                    </a:lnTo>
                    <a:lnTo>
                      <a:pt x="1316" y="358"/>
                    </a:lnTo>
                    <a:lnTo>
                      <a:pt x="1336" y="336"/>
                    </a:lnTo>
                    <a:close/>
                  </a:path>
                </a:pathLst>
              </a:custGeom>
              <a:solidFill>
                <a:srgbClr val="9abcd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5" name=""/>
              <p:cNvSpPr/>
              <p:nvPr/>
            </p:nvSpPr>
            <p:spPr>
              <a:xfrm>
                <a:off x="5428080" y="5289840"/>
                <a:ext cx="31680" cy="23400"/>
              </a:xfrm>
              <a:custGeom>
                <a:avLst/>
                <a:gdLst/>
                <a:ahLst/>
                <a:rect l="l" t="t" r="r" b="b"/>
                <a:pathLst>
                  <a:path w="1336" h="876">
                    <a:moveTo>
                      <a:pt x="1336" y="336"/>
                    </a:moveTo>
                    <a:lnTo>
                      <a:pt x="503" y="0"/>
                    </a:lnTo>
                    <a:lnTo>
                      <a:pt x="0" y="502"/>
                    </a:lnTo>
                    <a:lnTo>
                      <a:pt x="852" y="876"/>
                    </a:lnTo>
                    <a:lnTo>
                      <a:pt x="873" y="853"/>
                    </a:lnTo>
                    <a:lnTo>
                      <a:pt x="928" y="792"/>
                    </a:lnTo>
                    <a:lnTo>
                      <a:pt x="1006" y="705"/>
                    </a:lnTo>
                    <a:lnTo>
                      <a:pt x="1095" y="605"/>
                    </a:lnTo>
                    <a:lnTo>
                      <a:pt x="1184" y="505"/>
                    </a:lnTo>
                    <a:lnTo>
                      <a:pt x="1262" y="419"/>
                    </a:lnTo>
                    <a:lnTo>
                      <a:pt x="1316" y="359"/>
                    </a:lnTo>
                    <a:lnTo>
                      <a:pt x="1336" y="336"/>
                    </a:lnTo>
                    <a:close/>
                  </a:path>
                </a:pathLst>
              </a:custGeom>
              <a:solidFill>
                <a:srgbClr val="9abcda"/>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6" name=""/>
              <p:cNvSpPr/>
              <p:nvPr/>
            </p:nvSpPr>
            <p:spPr>
              <a:xfrm>
                <a:off x="5353920" y="5137920"/>
                <a:ext cx="44640" cy="37080"/>
              </a:xfrm>
              <a:custGeom>
                <a:avLst/>
                <a:gdLst/>
                <a:ahLst/>
                <a:rect l="l" t="t" r="r" b="b"/>
                <a:pathLst>
                  <a:path w="1874" h="1400">
                    <a:moveTo>
                      <a:pt x="1866" y="0"/>
                    </a:moveTo>
                    <a:lnTo>
                      <a:pt x="1874" y="725"/>
                    </a:lnTo>
                    <a:lnTo>
                      <a:pt x="1866" y="737"/>
                    </a:lnTo>
                    <a:lnTo>
                      <a:pt x="1841" y="769"/>
                    </a:lnTo>
                    <a:lnTo>
                      <a:pt x="1822" y="792"/>
                    </a:lnTo>
                    <a:lnTo>
                      <a:pt x="1800" y="818"/>
                    </a:lnTo>
                    <a:lnTo>
                      <a:pt x="1773" y="849"/>
                    </a:lnTo>
                    <a:lnTo>
                      <a:pt x="1743" y="881"/>
                    </a:lnTo>
                    <a:lnTo>
                      <a:pt x="1710" y="916"/>
                    </a:lnTo>
                    <a:lnTo>
                      <a:pt x="1672" y="954"/>
                    </a:lnTo>
                    <a:lnTo>
                      <a:pt x="1630" y="991"/>
                    </a:lnTo>
                    <a:lnTo>
                      <a:pt x="1585" y="1030"/>
                    </a:lnTo>
                    <a:lnTo>
                      <a:pt x="1537" y="1070"/>
                    </a:lnTo>
                    <a:lnTo>
                      <a:pt x="1484" y="1109"/>
                    </a:lnTo>
                    <a:lnTo>
                      <a:pt x="1429" y="1147"/>
                    </a:lnTo>
                    <a:lnTo>
                      <a:pt x="1370" y="1185"/>
                    </a:lnTo>
                    <a:lnTo>
                      <a:pt x="1307" y="1222"/>
                    </a:lnTo>
                    <a:lnTo>
                      <a:pt x="1241" y="1256"/>
                    </a:lnTo>
                    <a:lnTo>
                      <a:pt x="1172" y="1288"/>
                    </a:lnTo>
                    <a:lnTo>
                      <a:pt x="1101" y="1316"/>
                    </a:lnTo>
                    <a:lnTo>
                      <a:pt x="1025" y="1342"/>
                    </a:lnTo>
                    <a:lnTo>
                      <a:pt x="946" y="1363"/>
                    </a:lnTo>
                    <a:lnTo>
                      <a:pt x="864" y="1380"/>
                    </a:lnTo>
                    <a:lnTo>
                      <a:pt x="780" y="1393"/>
                    </a:lnTo>
                    <a:lnTo>
                      <a:pt x="692" y="1399"/>
                    </a:lnTo>
                    <a:lnTo>
                      <a:pt x="602" y="1400"/>
                    </a:lnTo>
                    <a:lnTo>
                      <a:pt x="508" y="1395"/>
                    </a:lnTo>
                    <a:lnTo>
                      <a:pt x="413" y="1382"/>
                    </a:lnTo>
                    <a:lnTo>
                      <a:pt x="313" y="1363"/>
                    </a:lnTo>
                    <a:lnTo>
                      <a:pt x="212" y="1336"/>
                    </a:lnTo>
                    <a:lnTo>
                      <a:pt x="107" y="1300"/>
                    </a:lnTo>
                    <a:lnTo>
                      <a:pt x="0" y="1256"/>
                    </a:lnTo>
                    <a:lnTo>
                      <a:pt x="954" y="157"/>
                    </a:lnTo>
                    <a:lnTo>
                      <a:pt x="1866" y="0"/>
                    </a:lnTo>
                    <a:close/>
                  </a:path>
                </a:pathLst>
              </a:custGeom>
              <a:solidFill>
                <a:srgbClr val="315575"/>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7" name=""/>
              <p:cNvSpPr/>
              <p:nvPr/>
            </p:nvSpPr>
            <p:spPr>
              <a:xfrm>
                <a:off x="5245200" y="5123160"/>
                <a:ext cx="153000" cy="157320"/>
              </a:xfrm>
              <a:custGeom>
                <a:avLst/>
                <a:gdLst/>
                <a:ahLst/>
                <a:rect l="l" t="t" r="r" b="b"/>
                <a:pathLst>
                  <a:path w="6423" h="5939">
                    <a:moveTo>
                      <a:pt x="5471" y="1173"/>
                    </a:moveTo>
                    <a:lnTo>
                      <a:pt x="5462" y="1179"/>
                    </a:lnTo>
                    <a:lnTo>
                      <a:pt x="5438" y="1194"/>
                    </a:lnTo>
                    <a:lnTo>
                      <a:pt x="5399" y="1219"/>
                    </a:lnTo>
                    <a:lnTo>
                      <a:pt x="5347" y="1255"/>
                    </a:lnTo>
                    <a:lnTo>
                      <a:pt x="5282" y="1299"/>
                    </a:lnTo>
                    <a:lnTo>
                      <a:pt x="5206" y="1353"/>
                    </a:lnTo>
                    <a:lnTo>
                      <a:pt x="5119" y="1414"/>
                    </a:lnTo>
                    <a:lnTo>
                      <a:pt x="5022" y="1484"/>
                    </a:lnTo>
                    <a:lnTo>
                      <a:pt x="4918" y="1561"/>
                    </a:lnTo>
                    <a:lnTo>
                      <a:pt x="4805" y="1645"/>
                    </a:lnTo>
                    <a:lnTo>
                      <a:pt x="4687" y="1736"/>
                    </a:lnTo>
                    <a:lnTo>
                      <a:pt x="4564" y="1834"/>
                    </a:lnTo>
                    <a:lnTo>
                      <a:pt x="4501" y="1885"/>
                    </a:lnTo>
                    <a:lnTo>
                      <a:pt x="4437" y="1937"/>
                    </a:lnTo>
                    <a:lnTo>
                      <a:pt x="4372" y="1991"/>
                    </a:lnTo>
                    <a:lnTo>
                      <a:pt x="4306" y="2046"/>
                    </a:lnTo>
                    <a:lnTo>
                      <a:pt x="4240" y="2102"/>
                    </a:lnTo>
                    <a:lnTo>
                      <a:pt x="4174" y="2160"/>
                    </a:lnTo>
                    <a:lnTo>
                      <a:pt x="4107" y="2218"/>
                    </a:lnTo>
                    <a:lnTo>
                      <a:pt x="4040" y="2279"/>
                    </a:lnTo>
                    <a:lnTo>
                      <a:pt x="3996" y="2319"/>
                    </a:lnTo>
                    <a:lnTo>
                      <a:pt x="3952" y="2360"/>
                    </a:lnTo>
                    <a:lnTo>
                      <a:pt x="3909" y="2401"/>
                    </a:lnTo>
                    <a:lnTo>
                      <a:pt x="3866" y="2443"/>
                    </a:lnTo>
                    <a:lnTo>
                      <a:pt x="3781" y="2527"/>
                    </a:lnTo>
                    <a:lnTo>
                      <a:pt x="3697" y="2613"/>
                    </a:lnTo>
                    <a:lnTo>
                      <a:pt x="3614" y="2700"/>
                    </a:lnTo>
                    <a:lnTo>
                      <a:pt x="3533" y="2789"/>
                    </a:lnTo>
                    <a:lnTo>
                      <a:pt x="3452" y="2880"/>
                    </a:lnTo>
                    <a:lnTo>
                      <a:pt x="3371" y="2971"/>
                    </a:lnTo>
                    <a:lnTo>
                      <a:pt x="3292" y="3062"/>
                    </a:lnTo>
                    <a:lnTo>
                      <a:pt x="3212" y="3155"/>
                    </a:lnTo>
                    <a:lnTo>
                      <a:pt x="3133" y="3249"/>
                    </a:lnTo>
                    <a:lnTo>
                      <a:pt x="3054" y="3343"/>
                    </a:lnTo>
                    <a:lnTo>
                      <a:pt x="2974" y="3437"/>
                    </a:lnTo>
                    <a:lnTo>
                      <a:pt x="2895" y="3533"/>
                    </a:lnTo>
                    <a:lnTo>
                      <a:pt x="2815" y="3628"/>
                    </a:lnTo>
                    <a:lnTo>
                      <a:pt x="2736" y="3723"/>
                    </a:lnTo>
                    <a:lnTo>
                      <a:pt x="2692" y="3776"/>
                    </a:lnTo>
                    <a:lnTo>
                      <a:pt x="2649" y="3828"/>
                    </a:lnTo>
                    <a:lnTo>
                      <a:pt x="2607" y="3882"/>
                    </a:lnTo>
                    <a:lnTo>
                      <a:pt x="2566" y="3935"/>
                    </a:lnTo>
                    <a:lnTo>
                      <a:pt x="2524" y="3988"/>
                    </a:lnTo>
                    <a:lnTo>
                      <a:pt x="2484" y="4042"/>
                    </a:lnTo>
                    <a:lnTo>
                      <a:pt x="2444" y="4095"/>
                    </a:lnTo>
                    <a:lnTo>
                      <a:pt x="2406" y="4149"/>
                    </a:lnTo>
                    <a:lnTo>
                      <a:pt x="2329" y="4257"/>
                    </a:lnTo>
                    <a:lnTo>
                      <a:pt x="2255" y="4364"/>
                    </a:lnTo>
                    <a:lnTo>
                      <a:pt x="2183" y="4470"/>
                    </a:lnTo>
                    <a:lnTo>
                      <a:pt x="2111" y="4574"/>
                    </a:lnTo>
                    <a:lnTo>
                      <a:pt x="2042" y="4677"/>
                    </a:lnTo>
                    <a:lnTo>
                      <a:pt x="1974" y="4778"/>
                    </a:lnTo>
                    <a:lnTo>
                      <a:pt x="1906" y="4876"/>
                    </a:lnTo>
                    <a:lnTo>
                      <a:pt x="1840" y="4972"/>
                    </a:lnTo>
                    <a:lnTo>
                      <a:pt x="1774" y="5064"/>
                    </a:lnTo>
                    <a:lnTo>
                      <a:pt x="1709" y="5152"/>
                    </a:lnTo>
                    <a:lnTo>
                      <a:pt x="1677" y="5195"/>
                    </a:lnTo>
                    <a:lnTo>
                      <a:pt x="1644" y="5237"/>
                    </a:lnTo>
                    <a:lnTo>
                      <a:pt x="1612" y="5277"/>
                    </a:lnTo>
                    <a:lnTo>
                      <a:pt x="1579" y="5315"/>
                    </a:lnTo>
                    <a:lnTo>
                      <a:pt x="1529" y="5375"/>
                    </a:lnTo>
                    <a:lnTo>
                      <a:pt x="1479" y="5432"/>
                    </a:lnTo>
                    <a:lnTo>
                      <a:pt x="1429" y="5485"/>
                    </a:lnTo>
                    <a:lnTo>
                      <a:pt x="1379" y="5536"/>
                    </a:lnTo>
                    <a:lnTo>
                      <a:pt x="1330" y="5585"/>
                    </a:lnTo>
                    <a:lnTo>
                      <a:pt x="1281" y="5631"/>
                    </a:lnTo>
                    <a:lnTo>
                      <a:pt x="1232" y="5674"/>
                    </a:lnTo>
                    <a:lnTo>
                      <a:pt x="1184" y="5714"/>
                    </a:lnTo>
                    <a:lnTo>
                      <a:pt x="1135" y="5750"/>
                    </a:lnTo>
                    <a:lnTo>
                      <a:pt x="1088" y="5784"/>
                    </a:lnTo>
                    <a:lnTo>
                      <a:pt x="1040" y="5815"/>
                    </a:lnTo>
                    <a:lnTo>
                      <a:pt x="993" y="5842"/>
                    </a:lnTo>
                    <a:lnTo>
                      <a:pt x="944" y="5867"/>
                    </a:lnTo>
                    <a:lnTo>
                      <a:pt x="897" y="5888"/>
                    </a:lnTo>
                    <a:lnTo>
                      <a:pt x="850" y="5904"/>
                    </a:lnTo>
                    <a:lnTo>
                      <a:pt x="804" y="5919"/>
                    </a:lnTo>
                    <a:lnTo>
                      <a:pt x="757" y="5929"/>
                    </a:lnTo>
                    <a:lnTo>
                      <a:pt x="710" y="5936"/>
                    </a:lnTo>
                    <a:lnTo>
                      <a:pt x="664" y="5939"/>
                    </a:lnTo>
                    <a:lnTo>
                      <a:pt x="618" y="5938"/>
                    </a:lnTo>
                    <a:lnTo>
                      <a:pt x="571" y="5934"/>
                    </a:lnTo>
                    <a:lnTo>
                      <a:pt x="525" y="5925"/>
                    </a:lnTo>
                    <a:lnTo>
                      <a:pt x="479" y="5913"/>
                    </a:lnTo>
                    <a:lnTo>
                      <a:pt x="433" y="5896"/>
                    </a:lnTo>
                    <a:lnTo>
                      <a:pt x="387" y="5875"/>
                    </a:lnTo>
                    <a:lnTo>
                      <a:pt x="342" y="5850"/>
                    </a:lnTo>
                    <a:lnTo>
                      <a:pt x="296" y="5822"/>
                    </a:lnTo>
                    <a:lnTo>
                      <a:pt x="251" y="5788"/>
                    </a:lnTo>
                    <a:lnTo>
                      <a:pt x="205" y="5750"/>
                    </a:lnTo>
                    <a:lnTo>
                      <a:pt x="160" y="5707"/>
                    </a:lnTo>
                    <a:lnTo>
                      <a:pt x="114" y="5660"/>
                    </a:lnTo>
                    <a:lnTo>
                      <a:pt x="69" y="5609"/>
                    </a:lnTo>
                    <a:lnTo>
                      <a:pt x="67" y="5609"/>
                    </a:lnTo>
                    <a:lnTo>
                      <a:pt x="63" y="5607"/>
                    </a:lnTo>
                    <a:lnTo>
                      <a:pt x="59" y="5604"/>
                    </a:lnTo>
                    <a:lnTo>
                      <a:pt x="55" y="5598"/>
                    </a:lnTo>
                    <a:lnTo>
                      <a:pt x="50" y="5592"/>
                    </a:lnTo>
                    <a:lnTo>
                      <a:pt x="45" y="5584"/>
                    </a:lnTo>
                    <a:lnTo>
                      <a:pt x="38" y="5574"/>
                    </a:lnTo>
                    <a:lnTo>
                      <a:pt x="32" y="5562"/>
                    </a:lnTo>
                    <a:lnTo>
                      <a:pt x="26" y="5548"/>
                    </a:lnTo>
                    <a:lnTo>
                      <a:pt x="20" y="5532"/>
                    </a:lnTo>
                    <a:lnTo>
                      <a:pt x="15" y="5513"/>
                    </a:lnTo>
                    <a:lnTo>
                      <a:pt x="10" y="5493"/>
                    </a:lnTo>
                    <a:lnTo>
                      <a:pt x="6" y="5470"/>
                    </a:lnTo>
                    <a:lnTo>
                      <a:pt x="3" y="5445"/>
                    </a:lnTo>
                    <a:lnTo>
                      <a:pt x="1" y="5417"/>
                    </a:lnTo>
                    <a:lnTo>
                      <a:pt x="0" y="5387"/>
                    </a:lnTo>
                    <a:lnTo>
                      <a:pt x="1" y="5353"/>
                    </a:lnTo>
                    <a:lnTo>
                      <a:pt x="3" y="5316"/>
                    </a:lnTo>
                    <a:lnTo>
                      <a:pt x="6" y="5277"/>
                    </a:lnTo>
                    <a:lnTo>
                      <a:pt x="11" y="5235"/>
                    </a:lnTo>
                    <a:lnTo>
                      <a:pt x="18" y="5188"/>
                    </a:lnTo>
                    <a:lnTo>
                      <a:pt x="29" y="5139"/>
                    </a:lnTo>
                    <a:lnTo>
                      <a:pt x="40" y="5087"/>
                    </a:lnTo>
                    <a:lnTo>
                      <a:pt x="55" y="5031"/>
                    </a:lnTo>
                    <a:lnTo>
                      <a:pt x="73" y="4972"/>
                    </a:lnTo>
                    <a:lnTo>
                      <a:pt x="93" y="4908"/>
                    </a:lnTo>
                    <a:lnTo>
                      <a:pt x="116" y="4841"/>
                    </a:lnTo>
                    <a:lnTo>
                      <a:pt x="142" y="4770"/>
                    </a:lnTo>
                    <a:lnTo>
                      <a:pt x="172" y="4695"/>
                    </a:lnTo>
                    <a:lnTo>
                      <a:pt x="205" y="4616"/>
                    </a:lnTo>
                    <a:lnTo>
                      <a:pt x="243" y="4532"/>
                    </a:lnTo>
                    <a:lnTo>
                      <a:pt x="282" y="4445"/>
                    </a:lnTo>
                    <a:lnTo>
                      <a:pt x="319" y="4372"/>
                    </a:lnTo>
                    <a:lnTo>
                      <a:pt x="359" y="4296"/>
                    </a:lnTo>
                    <a:lnTo>
                      <a:pt x="404" y="4216"/>
                    </a:lnTo>
                    <a:lnTo>
                      <a:pt x="453" y="4132"/>
                    </a:lnTo>
                    <a:lnTo>
                      <a:pt x="507" y="4046"/>
                    </a:lnTo>
                    <a:lnTo>
                      <a:pt x="563" y="3956"/>
                    </a:lnTo>
                    <a:lnTo>
                      <a:pt x="625" y="3864"/>
                    </a:lnTo>
                    <a:lnTo>
                      <a:pt x="690" y="3768"/>
                    </a:lnTo>
                    <a:lnTo>
                      <a:pt x="758" y="3671"/>
                    </a:lnTo>
                    <a:lnTo>
                      <a:pt x="830" y="3571"/>
                    </a:lnTo>
                    <a:lnTo>
                      <a:pt x="907" y="3470"/>
                    </a:lnTo>
                    <a:lnTo>
                      <a:pt x="985" y="3366"/>
                    </a:lnTo>
                    <a:lnTo>
                      <a:pt x="1068" y="3261"/>
                    </a:lnTo>
                    <a:lnTo>
                      <a:pt x="1153" y="3154"/>
                    </a:lnTo>
                    <a:lnTo>
                      <a:pt x="1241" y="3046"/>
                    </a:lnTo>
                    <a:lnTo>
                      <a:pt x="1332" y="2938"/>
                    </a:lnTo>
                    <a:lnTo>
                      <a:pt x="1426" y="2828"/>
                    </a:lnTo>
                    <a:lnTo>
                      <a:pt x="1523" y="2718"/>
                    </a:lnTo>
                    <a:lnTo>
                      <a:pt x="1621" y="2607"/>
                    </a:lnTo>
                    <a:lnTo>
                      <a:pt x="1723" y="2497"/>
                    </a:lnTo>
                    <a:lnTo>
                      <a:pt x="1826" y="2386"/>
                    </a:lnTo>
                    <a:lnTo>
                      <a:pt x="1932" y="2275"/>
                    </a:lnTo>
                    <a:lnTo>
                      <a:pt x="2040" y="2165"/>
                    </a:lnTo>
                    <a:lnTo>
                      <a:pt x="2149" y="2056"/>
                    </a:lnTo>
                    <a:lnTo>
                      <a:pt x="2260" y="1947"/>
                    </a:lnTo>
                    <a:lnTo>
                      <a:pt x="2373" y="1839"/>
                    </a:lnTo>
                    <a:lnTo>
                      <a:pt x="2488" y="1732"/>
                    </a:lnTo>
                    <a:lnTo>
                      <a:pt x="2604" y="1627"/>
                    </a:lnTo>
                    <a:lnTo>
                      <a:pt x="2721" y="1523"/>
                    </a:lnTo>
                    <a:lnTo>
                      <a:pt x="2839" y="1422"/>
                    </a:lnTo>
                    <a:lnTo>
                      <a:pt x="2959" y="1322"/>
                    </a:lnTo>
                    <a:lnTo>
                      <a:pt x="3079" y="1224"/>
                    </a:lnTo>
                    <a:lnTo>
                      <a:pt x="3195" y="1132"/>
                    </a:lnTo>
                    <a:lnTo>
                      <a:pt x="3312" y="1043"/>
                    </a:lnTo>
                    <a:lnTo>
                      <a:pt x="3429" y="957"/>
                    </a:lnTo>
                    <a:lnTo>
                      <a:pt x="3546" y="874"/>
                    </a:lnTo>
                    <a:lnTo>
                      <a:pt x="3664" y="793"/>
                    </a:lnTo>
                    <a:lnTo>
                      <a:pt x="3782" y="715"/>
                    </a:lnTo>
                    <a:lnTo>
                      <a:pt x="3899" y="640"/>
                    </a:lnTo>
                    <a:lnTo>
                      <a:pt x="4017" y="569"/>
                    </a:lnTo>
                    <a:lnTo>
                      <a:pt x="4133" y="500"/>
                    </a:lnTo>
                    <a:lnTo>
                      <a:pt x="4248" y="437"/>
                    </a:lnTo>
                    <a:lnTo>
                      <a:pt x="4363" y="376"/>
                    </a:lnTo>
                    <a:lnTo>
                      <a:pt x="4478" y="319"/>
                    </a:lnTo>
                    <a:lnTo>
                      <a:pt x="4591" y="267"/>
                    </a:lnTo>
                    <a:lnTo>
                      <a:pt x="4702" y="219"/>
                    </a:lnTo>
                    <a:lnTo>
                      <a:pt x="4812" y="175"/>
                    </a:lnTo>
                    <a:lnTo>
                      <a:pt x="4921" y="135"/>
                    </a:lnTo>
                    <a:lnTo>
                      <a:pt x="5027" y="100"/>
                    </a:lnTo>
                    <a:lnTo>
                      <a:pt x="5131" y="71"/>
                    </a:lnTo>
                    <a:lnTo>
                      <a:pt x="5234" y="46"/>
                    </a:lnTo>
                    <a:lnTo>
                      <a:pt x="5333" y="26"/>
                    </a:lnTo>
                    <a:lnTo>
                      <a:pt x="5432" y="12"/>
                    </a:lnTo>
                    <a:lnTo>
                      <a:pt x="5526" y="3"/>
                    </a:lnTo>
                    <a:lnTo>
                      <a:pt x="5618" y="0"/>
                    </a:lnTo>
                    <a:lnTo>
                      <a:pt x="5708" y="2"/>
                    </a:lnTo>
                    <a:lnTo>
                      <a:pt x="5794" y="11"/>
                    </a:lnTo>
                    <a:lnTo>
                      <a:pt x="5877" y="25"/>
                    </a:lnTo>
                    <a:lnTo>
                      <a:pt x="5957" y="46"/>
                    </a:lnTo>
                    <a:lnTo>
                      <a:pt x="6033" y="73"/>
                    </a:lnTo>
                    <a:lnTo>
                      <a:pt x="6105" y="107"/>
                    </a:lnTo>
                    <a:lnTo>
                      <a:pt x="6174" y="147"/>
                    </a:lnTo>
                    <a:lnTo>
                      <a:pt x="6237" y="194"/>
                    </a:lnTo>
                    <a:lnTo>
                      <a:pt x="6297" y="249"/>
                    </a:lnTo>
                    <a:lnTo>
                      <a:pt x="6335" y="291"/>
                    </a:lnTo>
                    <a:lnTo>
                      <a:pt x="6366" y="334"/>
                    </a:lnTo>
                    <a:lnTo>
                      <a:pt x="6389" y="376"/>
                    </a:lnTo>
                    <a:lnTo>
                      <a:pt x="6407" y="418"/>
                    </a:lnTo>
                    <a:lnTo>
                      <a:pt x="6418" y="461"/>
                    </a:lnTo>
                    <a:lnTo>
                      <a:pt x="6423" y="503"/>
                    </a:lnTo>
                    <a:lnTo>
                      <a:pt x="6422" y="543"/>
                    </a:lnTo>
                    <a:lnTo>
                      <a:pt x="6415" y="585"/>
                    </a:lnTo>
                    <a:lnTo>
                      <a:pt x="6404" y="626"/>
                    </a:lnTo>
                    <a:lnTo>
                      <a:pt x="6388" y="666"/>
                    </a:lnTo>
                    <a:lnTo>
                      <a:pt x="6368" y="705"/>
                    </a:lnTo>
                    <a:lnTo>
                      <a:pt x="6343" y="744"/>
                    </a:lnTo>
                    <a:lnTo>
                      <a:pt x="6315" y="781"/>
                    </a:lnTo>
                    <a:lnTo>
                      <a:pt x="6284" y="818"/>
                    </a:lnTo>
                    <a:lnTo>
                      <a:pt x="6248" y="853"/>
                    </a:lnTo>
                    <a:lnTo>
                      <a:pt x="6210" y="887"/>
                    </a:lnTo>
                    <a:lnTo>
                      <a:pt x="6170" y="920"/>
                    </a:lnTo>
                    <a:lnTo>
                      <a:pt x="6127" y="951"/>
                    </a:lnTo>
                    <a:lnTo>
                      <a:pt x="6083" y="981"/>
                    </a:lnTo>
                    <a:lnTo>
                      <a:pt x="6037" y="1009"/>
                    </a:lnTo>
                    <a:lnTo>
                      <a:pt x="5989" y="1035"/>
                    </a:lnTo>
                    <a:lnTo>
                      <a:pt x="5941" y="1059"/>
                    </a:lnTo>
                    <a:lnTo>
                      <a:pt x="5892" y="1081"/>
                    </a:lnTo>
                    <a:lnTo>
                      <a:pt x="5843" y="1101"/>
                    </a:lnTo>
                    <a:lnTo>
                      <a:pt x="5792" y="1119"/>
                    </a:lnTo>
                    <a:lnTo>
                      <a:pt x="5743" y="1135"/>
                    </a:lnTo>
                    <a:lnTo>
                      <a:pt x="5695" y="1148"/>
                    </a:lnTo>
                    <a:lnTo>
                      <a:pt x="5647" y="1159"/>
                    </a:lnTo>
                    <a:lnTo>
                      <a:pt x="5601" y="1166"/>
                    </a:lnTo>
                    <a:lnTo>
                      <a:pt x="5555" y="1171"/>
                    </a:lnTo>
                    <a:lnTo>
                      <a:pt x="5511" y="1173"/>
                    </a:lnTo>
                    <a:lnTo>
                      <a:pt x="5471" y="1173"/>
                    </a:lnTo>
                    <a:close/>
                  </a:path>
                </a:pathLst>
              </a:custGeom>
              <a:solidFill>
                <a:srgbClr val="5382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223960" y="5273640"/>
                <a:ext cx="59400" cy="83520"/>
              </a:xfrm>
              <a:custGeom>
                <a:avLst/>
                <a:gdLst/>
                <a:ahLst/>
                <a:rect l="l" t="t" r="r" b="b"/>
                <a:pathLst>
                  <a:path w="2495" h="3129">
                    <a:moveTo>
                      <a:pt x="2144" y="0"/>
                    </a:moveTo>
                    <a:lnTo>
                      <a:pt x="2149" y="5"/>
                    </a:lnTo>
                    <a:lnTo>
                      <a:pt x="2166" y="21"/>
                    </a:lnTo>
                    <a:lnTo>
                      <a:pt x="2189" y="45"/>
                    </a:lnTo>
                    <a:lnTo>
                      <a:pt x="2216" y="77"/>
                    </a:lnTo>
                    <a:lnTo>
                      <a:pt x="2230" y="95"/>
                    </a:lnTo>
                    <a:lnTo>
                      <a:pt x="2243" y="115"/>
                    </a:lnTo>
                    <a:lnTo>
                      <a:pt x="2257" y="136"/>
                    </a:lnTo>
                    <a:lnTo>
                      <a:pt x="2269" y="158"/>
                    </a:lnTo>
                    <a:lnTo>
                      <a:pt x="2280" y="181"/>
                    </a:lnTo>
                    <a:lnTo>
                      <a:pt x="2289" y="204"/>
                    </a:lnTo>
                    <a:lnTo>
                      <a:pt x="2297" y="228"/>
                    </a:lnTo>
                    <a:lnTo>
                      <a:pt x="2302" y="252"/>
                    </a:lnTo>
                    <a:lnTo>
                      <a:pt x="2303" y="278"/>
                    </a:lnTo>
                    <a:lnTo>
                      <a:pt x="2302" y="303"/>
                    </a:lnTo>
                    <a:lnTo>
                      <a:pt x="2297" y="327"/>
                    </a:lnTo>
                    <a:lnTo>
                      <a:pt x="2287" y="351"/>
                    </a:lnTo>
                    <a:lnTo>
                      <a:pt x="2274" y="375"/>
                    </a:lnTo>
                    <a:lnTo>
                      <a:pt x="2256" y="399"/>
                    </a:lnTo>
                    <a:lnTo>
                      <a:pt x="2232" y="421"/>
                    </a:lnTo>
                    <a:lnTo>
                      <a:pt x="2202" y="443"/>
                    </a:lnTo>
                    <a:lnTo>
                      <a:pt x="2168" y="463"/>
                    </a:lnTo>
                    <a:lnTo>
                      <a:pt x="2126" y="483"/>
                    </a:lnTo>
                    <a:lnTo>
                      <a:pt x="2078" y="501"/>
                    </a:lnTo>
                    <a:lnTo>
                      <a:pt x="2022" y="517"/>
                    </a:lnTo>
                    <a:lnTo>
                      <a:pt x="1959" y="531"/>
                    </a:lnTo>
                    <a:lnTo>
                      <a:pt x="1888" y="544"/>
                    </a:lnTo>
                    <a:lnTo>
                      <a:pt x="1810" y="554"/>
                    </a:lnTo>
                    <a:lnTo>
                      <a:pt x="1722" y="563"/>
                    </a:lnTo>
                    <a:lnTo>
                      <a:pt x="1731" y="568"/>
                    </a:lnTo>
                    <a:lnTo>
                      <a:pt x="1759" y="583"/>
                    </a:lnTo>
                    <a:lnTo>
                      <a:pt x="1802" y="608"/>
                    </a:lnTo>
                    <a:lnTo>
                      <a:pt x="1859" y="642"/>
                    </a:lnTo>
                    <a:lnTo>
                      <a:pt x="1890" y="663"/>
                    </a:lnTo>
                    <a:lnTo>
                      <a:pt x="1924" y="687"/>
                    </a:lnTo>
                    <a:lnTo>
                      <a:pt x="1959" y="714"/>
                    </a:lnTo>
                    <a:lnTo>
                      <a:pt x="1996" y="742"/>
                    </a:lnTo>
                    <a:lnTo>
                      <a:pt x="2034" y="773"/>
                    </a:lnTo>
                    <a:lnTo>
                      <a:pt x="2073" y="807"/>
                    </a:lnTo>
                    <a:lnTo>
                      <a:pt x="2111" y="844"/>
                    </a:lnTo>
                    <a:lnTo>
                      <a:pt x="2150" y="882"/>
                    </a:lnTo>
                    <a:lnTo>
                      <a:pt x="2189" y="923"/>
                    </a:lnTo>
                    <a:lnTo>
                      <a:pt x="2227" y="967"/>
                    </a:lnTo>
                    <a:lnTo>
                      <a:pt x="2263" y="1013"/>
                    </a:lnTo>
                    <a:lnTo>
                      <a:pt x="2298" y="1063"/>
                    </a:lnTo>
                    <a:lnTo>
                      <a:pt x="2331" y="1114"/>
                    </a:lnTo>
                    <a:lnTo>
                      <a:pt x="2363" y="1168"/>
                    </a:lnTo>
                    <a:lnTo>
                      <a:pt x="2391" y="1225"/>
                    </a:lnTo>
                    <a:lnTo>
                      <a:pt x="2417" y="1284"/>
                    </a:lnTo>
                    <a:lnTo>
                      <a:pt x="2440" y="1346"/>
                    </a:lnTo>
                    <a:lnTo>
                      <a:pt x="2459" y="1410"/>
                    </a:lnTo>
                    <a:lnTo>
                      <a:pt x="2475" y="1477"/>
                    </a:lnTo>
                    <a:lnTo>
                      <a:pt x="2486" y="1546"/>
                    </a:lnTo>
                    <a:lnTo>
                      <a:pt x="2493" y="1618"/>
                    </a:lnTo>
                    <a:lnTo>
                      <a:pt x="2495" y="1693"/>
                    </a:lnTo>
                    <a:lnTo>
                      <a:pt x="2491" y="1770"/>
                    </a:lnTo>
                    <a:lnTo>
                      <a:pt x="2481" y="1850"/>
                    </a:lnTo>
                    <a:lnTo>
                      <a:pt x="2471" y="1911"/>
                    </a:lnTo>
                    <a:lnTo>
                      <a:pt x="2455" y="1971"/>
                    </a:lnTo>
                    <a:lnTo>
                      <a:pt x="2435" y="2032"/>
                    </a:lnTo>
                    <a:lnTo>
                      <a:pt x="2412" y="2092"/>
                    </a:lnTo>
                    <a:lnTo>
                      <a:pt x="2386" y="2152"/>
                    </a:lnTo>
                    <a:lnTo>
                      <a:pt x="2356" y="2210"/>
                    </a:lnTo>
                    <a:lnTo>
                      <a:pt x="2323" y="2268"/>
                    </a:lnTo>
                    <a:lnTo>
                      <a:pt x="2287" y="2324"/>
                    </a:lnTo>
                    <a:lnTo>
                      <a:pt x="2250" y="2380"/>
                    </a:lnTo>
                    <a:lnTo>
                      <a:pt x="2209" y="2435"/>
                    </a:lnTo>
                    <a:lnTo>
                      <a:pt x="2166" y="2488"/>
                    </a:lnTo>
                    <a:lnTo>
                      <a:pt x="2121" y="2540"/>
                    </a:lnTo>
                    <a:lnTo>
                      <a:pt x="2074" y="2591"/>
                    </a:lnTo>
                    <a:lnTo>
                      <a:pt x="2025" y="2640"/>
                    </a:lnTo>
                    <a:lnTo>
                      <a:pt x="1976" y="2687"/>
                    </a:lnTo>
                    <a:lnTo>
                      <a:pt x="1926" y="2732"/>
                    </a:lnTo>
                    <a:lnTo>
                      <a:pt x="1874" y="2775"/>
                    </a:lnTo>
                    <a:lnTo>
                      <a:pt x="1821" y="2817"/>
                    </a:lnTo>
                    <a:lnTo>
                      <a:pt x="1768" y="2857"/>
                    </a:lnTo>
                    <a:lnTo>
                      <a:pt x="1714" y="2894"/>
                    </a:lnTo>
                    <a:lnTo>
                      <a:pt x="1661" y="2928"/>
                    </a:lnTo>
                    <a:lnTo>
                      <a:pt x="1607" y="2961"/>
                    </a:lnTo>
                    <a:lnTo>
                      <a:pt x="1555" y="2991"/>
                    </a:lnTo>
                    <a:lnTo>
                      <a:pt x="1503" y="3018"/>
                    </a:lnTo>
                    <a:lnTo>
                      <a:pt x="1450" y="3042"/>
                    </a:lnTo>
                    <a:lnTo>
                      <a:pt x="1400" y="3064"/>
                    </a:lnTo>
                    <a:lnTo>
                      <a:pt x="1350" y="3083"/>
                    </a:lnTo>
                    <a:lnTo>
                      <a:pt x="1302" y="3099"/>
                    </a:lnTo>
                    <a:lnTo>
                      <a:pt x="1256" y="3111"/>
                    </a:lnTo>
                    <a:lnTo>
                      <a:pt x="1210" y="3120"/>
                    </a:lnTo>
                    <a:lnTo>
                      <a:pt x="1168" y="3126"/>
                    </a:lnTo>
                    <a:lnTo>
                      <a:pt x="1127" y="3128"/>
                    </a:lnTo>
                    <a:lnTo>
                      <a:pt x="1112" y="3129"/>
                    </a:lnTo>
                    <a:lnTo>
                      <a:pt x="1072" y="3129"/>
                    </a:lnTo>
                    <a:lnTo>
                      <a:pt x="1044" y="3129"/>
                    </a:lnTo>
                    <a:lnTo>
                      <a:pt x="1010" y="3128"/>
                    </a:lnTo>
                    <a:lnTo>
                      <a:pt x="973" y="3126"/>
                    </a:lnTo>
                    <a:lnTo>
                      <a:pt x="931" y="3123"/>
                    </a:lnTo>
                    <a:lnTo>
                      <a:pt x="886" y="3118"/>
                    </a:lnTo>
                    <a:lnTo>
                      <a:pt x="838" y="3111"/>
                    </a:lnTo>
                    <a:lnTo>
                      <a:pt x="786" y="3102"/>
                    </a:lnTo>
                    <a:lnTo>
                      <a:pt x="734" y="3091"/>
                    </a:lnTo>
                    <a:lnTo>
                      <a:pt x="679" y="3078"/>
                    </a:lnTo>
                    <a:lnTo>
                      <a:pt x="624" y="3061"/>
                    </a:lnTo>
                    <a:lnTo>
                      <a:pt x="568" y="3041"/>
                    </a:lnTo>
                    <a:lnTo>
                      <a:pt x="513" y="3018"/>
                    </a:lnTo>
                    <a:lnTo>
                      <a:pt x="457" y="2992"/>
                    </a:lnTo>
                    <a:lnTo>
                      <a:pt x="403" y="2962"/>
                    </a:lnTo>
                    <a:lnTo>
                      <a:pt x="349" y="2927"/>
                    </a:lnTo>
                    <a:lnTo>
                      <a:pt x="298" y="2888"/>
                    </a:lnTo>
                    <a:lnTo>
                      <a:pt x="249" y="2845"/>
                    </a:lnTo>
                    <a:lnTo>
                      <a:pt x="204" y="2797"/>
                    </a:lnTo>
                    <a:lnTo>
                      <a:pt x="161" y="2744"/>
                    </a:lnTo>
                    <a:lnTo>
                      <a:pt x="122" y="2685"/>
                    </a:lnTo>
                    <a:lnTo>
                      <a:pt x="88" y="2621"/>
                    </a:lnTo>
                    <a:lnTo>
                      <a:pt x="58" y="2551"/>
                    </a:lnTo>
                    <a:lnTo>
                      <a:pt x="34" y="2474"/>
                    </a:lnTo>
                    <a:lnTo>
                      <a:pt x="16" y="2392"/>
                    </a:lnTo>
                    <a:lnTo>
                      <a:pt x="5" y="2302"/>
                    </a:lnTo>
                    <a:lnTo>
                      <a:pt x="0" y="2206"/>
                    </a:lnTo>
                    <a:lnTo>
                      <a:pt x="2" y="2102"/>
                    </a:lnTo>
                    <a:lnTo>
                      <a:pt x="12" y="1991"/>
                    </a:lnTo>
                    <a:lnTo>
                      <a:pt x="15" y="1982"/>
                    </a:lnTo>
                    <a:lnTo>
                      <a:pt x="24" y="1955"/>
                    </a:lnTo>
                    <a:lnTo>
                      <a:pt x="37" y="1911"/>
                    </a:lnTo>
                    <a:lnTo>
                      <a:pt x="57" y="1854"/>
                    </a:lnTo>
                    <a:lnTo>
                      <a:pt x="82" y="1786"/>
                    </a:lnTo>
                    <a:lnTo>
                      <a:pt x="113" y="1708"/>
                    </a:lnTo>
                    <a:lnTo>
                      <a:pt x="129" y="1667"/>
                    </a:lnTo>
                    <a:lnTo>
                      <a:pt x="147" y="1625"/>
                    </a:lnTo>
                    <a:lnTo>
                      <a:pt x="167" y="1581"/>
                    </a:lnTo>
                    <a:lnTo>
                      <a:pt x="188" y="1537"/>
                    </a:lnTo>
                    <a:lnTo>
                      <a:pt x="210" y="1492"/>
                    </a:lnTo>
                    <a:lnTo>
                      <a:pt x="233" y="1447"/>
                    </a:lnTo>
                    <a:lnTo>
                      <a:pt x="257" y="1402"/>
                    </a:lnTo>
                    <a:lnTo>
                      <a:pt x="282" y="1357"/>
                    </a:lnTo>
                    <a:lnTo>
                      <a:pt x="309" y="1313"/>
                    </a:lnTo>
                    <a:lnTo>
                      <a:pt x="337" y="1270"/>
                    </a:lnTo>
                    <a:lnTo>
                      <a:pt x="365" y="1228"/>
                    </a:lnTo>
                    <a:lnTo>
                      <a:pt x="396" y="1188"/>
                    </a:lnTo>
                    <a:lnTo>
                      <a:pt x="426" y="1150"/>
                    </a:lnTo>
                    <a:lnTo>
                      <a:pt x="458" y="1113"/>
                    </a:lnTo>
                    <a:lnTo>
                      <a:pt x="492" y="1078"/>
                    </a:lnTo>
                    <a:lnTo>
                      <a:pt x="525" y="1047"/>
                    </a:lnTo>
                    <a:lnTo>
                      <a:pt x="561" y="1019"/>
                    </a:lnTo>
                    <a:lnTo>
                      <a:pt x="597" y="992"/>
                    </a:lnTo>
                    <a:lnTo>
                      <a:pt x="634" y="970"/>
                    </a:lnTo>
                    <a:lnTo>
                      <a:pt x="672" y="953"/>
                    </a:lnTo>
                    <a:lnTo>
                      <a:pt x="677" y="892"/>
                    </a:lnTo>
                    <a:lnTo>
                      <a:pt x="685" y="827"/>
                    </a:lnTo>
                    <a:lnTo>
                      <a:pt x="689" y="793"/>
                    </a:lnTo>
                    <a:lnTo>
                      <a:pt x="694" y="760"/>
                    </a:lnTo>
                    <a:lnTo>
                      <a:pt x="700" y="725"/>
                    </a:lnTo>
                    <a:lnTo>
                      <a:pt x="708" y="691"/>
                    </a:lnTo>
                    <a:lnTo>
                      <a:pt x="715" y="655"/>
                    </a:lnTo>
                    <a:lnTo>
                      <a:pt x="723" y="620"/>
                    </a:lnTo>
                    <a:lnTo>
                      <a:pt x="733" y="585"/>
                    </a:lnTo>
                    <a:lnTo>
                      <a:pt x="743" y="550"/>
                    </a:lnTo>
                    <a:lnTo>
                      <a:pt x="755" y="516"/>
                    </a:lnTo>
                    <a:lnTo>
                      <a:pt x="767" y="482"/>
                    </a:lnTo>
                    <a:lnTo>
                      <a:pt x="781" y="448"/>
                    </a:lnTo>
                    <a:lnTo>
                      <a:pt x="796" y="416"/>
                    </a:lnTo>
                    <a:lnTo>
                      <a:pt x="812" y="383"/>
                    </a:lnTo>
                    <a:lnTo>
                      <a:pt x="830" y="353"/>
                    </a:lnTo>
                    <a:lnTo>
                      <a:pt x="849" y="324"/>
                    </a:lnTo>
                    <a:lnTo>
                      <a:pt x="870" y="294"/>
                    </a:lnTo>
                    <a:lnTo>
                      <a:pt x="892" y="267"/>
                    </a:lnTo>
                    <a:lnTo>
                      <a:pt x="916" y="242"/>
                    </a:lnTo>
                    <a:lnTo>
                      <a:pt x="941" y="218"/>
                    </a:lnTo>
                    <a:lnTo>
                      <a:pt x="968" y="196"/>
                    </a:lnTo>
                    <a:lnTo>
                      <a:pt x="998" y="176"/>
                    </a:lnTo>
                    <a:lnTo>
                      <a:pt x="1028" y="157"/>
                    </a:lnTo>
                    <a:lnTo>
                      <a:pt x="1062" y="141"/>
                    </a:lnTo>
                    <a:lnTo>
                      <a:pt x="1096" y="127"/>
                    </a:lnTo>
                    <a:lnTo>
                      <a:pt x="1133" y="116"/>
                    </a:lnTo>
                    <a:lnTo>
                      <a:pt x="1172" y="107"/>
                    </a:lnTo>
                    <a:lnTo>
                      <a:pt x="1213" y="100"/>
                    </a:lnTo>
                    <a:lnTo>
                      <a:pt x="1257" y="97"/>
                    </a:lnTo>
                    <a:lnTo>
                      <a:pt x="1237" y="98"/>
                    </a:lnTo>
                    <a:lnTo>
                      <a:pt x="1225" y="98"/>
                    </a:lnTo>
                    <a:lnTo>
                      <a:pt x="1221" y="97"/>
                    </a:lnTo>
                    <a:lnTo>
                      <a:pt x="1223" y="96"/>
                    </a:lnTo>
                    <a:lnTo>
                      <a:pt x="1246" y="92"/>
                    </a:lnTo>
                    <a:lnTo>
                      <a:pt x="1290" y="87"/>
                    </a:lnTo>
                    <a:lnTo>
                      <a:pt x="1352" y="80"/>
                    </a:lnTo>
                    <a:lnTo>
                      <a:pt x="1427" y="71"/>
                    </a:lnTo>
                    <a:lnTo>
                      <a:pt x="1513" y="63"/>
                    </a:lnTo>
                    <a:lnTo>
                      <a:pt x="1606" y="52"/>
                    </a:lnTo>
                    <a:lnTo>
                      <a:pt x="1702" y="43"/>
                    </a:lnTo>
                    <a:lnTo>
                      <a:pt x="1797" y="33"/>
                    </a:lnTo>
                    <a:lnTo>
                      <a:pt x="1887" y="25"/>
                    </a:lnTo>
                    <a:lnTo>
                      <a:pt x="1970" y="17"/>
                    </a:lnTo>
                    <a:lnTo>
                      <a:pt x="2040" y="10"/>
                    </a:lnTo>
                    <a:lnTo>
                      <a:pt x="2095" y="4"/>
                    </a:lnTo>
                    <a:lnTo>
                      <a:pt x="2130" y="1"/>
                    </a:lnTo>
                    <a:lnTo>
                      <a:pt x="2144" y="0"/>
                    </a:lnTo>
                    <a:close/>
                    <a:moveTo>
                      <a:pt x="1589" y="1597"/>
                    </a:moveTo>
                    <a:lnTo>
                      <a:pt x="1605" y="1701"/>
                    </a:lnTo>
                    <a:lnTo>
                      <a:pt x="1610" y="1796"/>
                    </a:lnTo>
                    <a:lnTo>
                      <a:pt x="1602" y="1885"/>
                    </a:lnTo>
                    <a:lnTo>
                      <a:pt x="1585" y="1966"/>
                    </a:lnTo>
                    <a:lnTo>
                      <a:pt x="1558" y="2039"/>
                    </a:lnTo>
                    <a:lnTo>
                      <a:pt x="1524" y="2105"/>
                    </a:lnTo>
                    <a:lnTo>
                      <a:pt x="1481" y="2164"/>
                    </a:lnTo>
                    <a:lnTo>
                      <a:pt x="1433" y="2215"/>
                    </a:lnTo>
                    <a:lnTo>
                      <a:pt x="1379" y="2260"/>
                    </a:lnTo>
                    <a:lnTo>
                      <a:pt x="1320" y="2296"/>
                    </a:lnTo>
                    <a:lnTo>
                      <a:pt x="1260" y="2327"/>
                    </a:lnTo>
                    <a:lnTo>
                      <a:pt x="1196" y="2349"/>
                    </a:lnTo>
                    <a:lnTo>
                      <a:pt x="1131" y="2364"/>
                    </a:lnTo>
                    <a:lnTo>
                      <a:pt x="1066" y="2373"/>
                    </a:lnTo>
                    <a:lnTo>
                      <a:pt x="1002" y="2375"/>
                    </a:lnTo>
                    <a:lnTo>
                      <a:pt x="940" y="2369"/>
                    </a:lnTo>
                    <a:lnTo>
                      <a:pt x="881" y="2357"/>
                    </a:lnTo>
                    <a:lnTo>
                      <a:pt x="825" y="2337"/>
                    </a:lnTo>
                    <a:lnTo>
                      <a:pt x="775" y="2311"/>
                    </a:lnTo>
                    <a:lnTo>
                      <a:pt x="731" y="2278"/>
                    </a:lnTo>
                    <a:lnTo>
                      <a:pt x="693" y="2239"/>
                    </a:lnTo>
                    <a:lnTo>
                      <a:pt x="663" y="2192"/>
                    </a:lnTo>
                    <a:lnTo>
                      <a:pt x="643" y="2140"/>
                    </a:lnTo>
                    <a:lnTo>
                      <a:pt x="632" y="2080"/>
                    </a:lnTo>
                    <a:lnTo>
                      <a:pt x="632" y="2015"/>
                    </a:lnTo>
                    <a:lnTo>
                      <a:pt x="645" y="1942"/>
                    </a:lnTo>
                    <a:lnTo>
                      <a:pt x="670" y="1863"/>
                    </a:lnTo>
                    <a:lnTo>
                      <a:pt x="710" y="1778"/>
                    </a:lnTo>
                    <a:lnTo>
                      <a:pt x="764" y="1687"/>
                    </a:lnTo>
                    <a:lnTo>
                      <a:pt x="835" y="1589"/>
                    </a:lnTo>
                    <a:lnTo>
                      <a:pt x="923" y="1485"/>
                    </a:lnTo>
                    <a:lnTo>
                      <a:pt x="1029" y="1375"/>
                    </a:lnTo>
                    <a:lnTo>
                      <a:pt x="1046" y="1356"/>
                    </a:lnTo>
                    <a:lnTo>
                      <a:pt x="1064" y="1337"/>
                    </a:lnTo>
                    <a:lnTo>
                      <a:pt x="1082" y="1320"/>
                    </a:lnTo>
                    <a:lnTo>
                      <a:pt x="1099" y="1304"/>
                    </a:lnTo>
                    <a:lnTo>
                      <a:pt x="1118" y="1289"/>
                    </a:lnTo>
                    <a:lnTo>
                      <a:pt x="1137" y="1275"/>
                    </a:lnTo>
                    <a:lnTo>
                      <a:pt x="1156" y="1263"/>
                    </a:lnTo>
                    <a:lnTo>
                      <a:pt x="1176" y="1251"/>
                    </a:lnTo>
                    <a:lnTo>
                      <a:pt x="1196" y="1242"/>
                    </a:lnTo>
                    <a:lnTo>
                      <a:pt x="1216" y="1233"/>
                    </a:lnTo>
                    <a:lnTo>
                      <a:pt x="1236" y="1226"/>
                    </a:lnTo>
                    <a:lnTo>
                      <a:pt x="1256" y="1222"/>
                    </a:lnTo>
                    <a:lnTo>
                      <a:pt x="1275" y="1219"/>
                    </a:lnTo>
                    <a:lnTo>
                      <a:pt x="1295" y="1217"/>
                    </a:lnTo>
                    <a:lnTo>
                      <a:pt x="1315" y="1218"/>
                    </a:lnTo>
                    <a:lnTo>
                      <a:pt x="1334" y="1220"/>
                    </a:lnTo>
                    <a:lnTo>
                      <a:pt x="1354" y="1224"/>
                    </a:lnTo>
                    <a:lnTo>
                      <a:pt x="1373" y="1231"/>
                    </a:lnTo>
                    <a:lnTo>
                      <a:pt x="1392" y="1240"/>
                    </a:lnTo>
                    <a:lnTo>
                      <a:pt x="1411" y="1251"/>
                    </a:lnTo>
                    <a:lnTo>
                      <a:pt x="1428" y="1265"/>
                    </a:lnTo>
                    <a:lnTo>
                      <a:pt x="1446" y="1282"/>
                    </a:lnTo>
                    <a:lnTo>
                      <a:pt x="1463" y="1301"/>
                    </a:lnTo>
                    <a:lnTo>
                      <a:pt x="1480" y="1321"/>
                    </a:lnTo>
                    <a:lnTo>
                      <a:pt x="1496" y="1346"/>
                    </a:lnTo>
                    <a:lnTo>
                      <a:pt x="1511" y="1373"/>
                    </a:lnTo>
                    <a:lnTo>
                      <a:pt x="1527" y="1402"/>
                    </a:lnTo>
                    <a:lnTo>
                      <a:pt x="1540" y="1435"/>
                    </a:lnTo>
                    <a:lnTo>
                      <a:pt x="1554" y="1470"/>
                    </a:lnTo>
                    <a:lnTo>
                      <a:pt x="1567" y="1509"/>
                    </a:lnTo>
                    <a:lnTo>
                      <a:pt x="1578" y="1551"/>
                    </a:lnTo>
                    <a:lnTo>
                      <a:pt x="1589" y="1597"/>
                    </a:lnTo>
                    <a:close/>
                  </a:path>
                </a:pathLst>
              </a:custGeom>
              <a:solidFill>
                <a:srgbClr val="5382aa"/>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9" name=""/>
              <p:cNvSpPr/>
              <p:nvPr/>
            </p:nvSpPr>
            <p:spPr>
              <a:xfrm>
                <a:off x="5258520" y="5294880"/>
                <a:ext cx="12240" cy="5040"/>
              </a:xfrm>
              <a:custGeom>
                <a:avLst/>
                <a:gdLst/>
                <a:ahLst/>
                <a:rect l="l" t="t" r="r" b="b"/>
                <a:pathLst>
                  <a:path w="519" h="192">
                    <a:moveTo>
                      <a:pt x="86" y="192"/>
                    </a:moveTo>
                    <a:lnTo>
                      <a:pt x="89" y="182"/>
                    </a:lnTo>
                    <a:lnTo>
                      <a:pt x="100" y="155"/>
                    </a:lnTo>
                    <a:lnTo>
                      <a:pt x="104" y="148"/>
                    </a:lnTo>
                    <a:lnTo>
                      <a:pt x="109" y="140"/>
                    </a:lnTo>
                    <a:lnTo>
                      <a:pt x="115" y="131"/>
                    </a:lnTo>
                    <a:lnTo>
                      <a:pt x="121" y="123"/>
                    </a:lnTo>
                    <a:lnTo>
                      <a:pt x="129" y="115"/>
                    </a:lnTo>
                    <a:lnTo>
                      <a:pt x="138" y="106"/>
                    </a:lnTo>
                    <a:lnTo>
                      <a:pt x="147" y="98"/>
                    </a:lnTo>
                    <a:lnTo>
                      <a:pt x="158" y="90"/>
                    </a:lnTo>
                    <a:lnTo>
                      <a:pt x="169" y="83"/>
                    </a:lnTo>
                    <a:lnTo>
                      <a:pt x="183" y="77"/>
                    </a:lnTo>
                    <a:lnTo>
                      <a:pt x="196" y="72"/>
                    </a:lnTo>
                    <a:lnTo>
                      <a:pt x="212" y="66"/>
                    </a:lnTo>
                    <a:lnTo>
                      <a:pt x="229" y="63"/>
                    </a:lnTo>
                    <a:lnTo>
                      <a:pt x="248" y="60"/>
                    </a:lnTo>
                    <a:lnTo>
                      <a:pt x="268" y="59"/>
                    </a:lnTo>
                    <a:lnTo>
                      <a:pt x="288" y="59"/>
                    </a:lnTo>
                    <a:lnTo>
                      <a:pt x="311" y="61"/>
                    </a:lnTo>
                    <a:lnTo>
                      <a:pt x="336" y="64"/>
                    </a:lnTo>
                    <a:lnTo>
                      <a:pt x="362" y="69"/>
                    </a:lnTo>
                    <a:lnTo>
                      <a:pt x="389" y="77"/>
                    </a:lnTo>
                    <a:lnTo>
                      <a:pt x="419" y="86"/>
                    </a:lnTo>
                    <a:lnTo>
                      <a:pt x="451" y="98"/>
                    </a:lnTo>
                    <a:lnTo>
                      <a:pt x="484" y="111"/>
                    </a:lnTo>
                    <a:lnTo>
                      <a:pt x="519" y="127"/>
                    </a:lnTo>
                    <a:lnTo>
                      <a:pt x="505" y="115"/>
                    </a:lnTo>
                    <a:lnTo>
                      <a:pt x="467" y="86"/>
                    </a:lnTo>
                    <a:lnTo>
                      <a:pt x="439" y="68"/>
                    </a:lnTo>
                    <a:lnTo>
                      <a:pt x="408" y="51"/>
                    </a:lnTo>
                    <a:lnTo>
                      <a:pt x="391" y="41"/>
                    </a:lnTo>
                    <a:lnTo>
                      <a:pt x="373" y="33"/>
                    </a:lnTo>
                    <a:lnTo>
                      <a:pt x="354" y="25"/>
                    </a:lnTo>
                    <a:lnTo>
                      <a:pt x="336" y="18"/>
                    </a:lnTo>
                    <a:lnTo>
                      <a:pt x="316" y="12"/>
                    </a:lnTo>
                    <a:lnTo>
                      <a:pt x="295" y="8"/>
                    </a:lnTo>
                    <a:lnTo>
                      <a:pt x="275" y="3"/>
                    </a:lnTo>
                    <a:lnTo>
                      <a:pt x="253" y="1"/>
                    </a:lnTo>
                    <a:lnTo>
                      <a:pt x="232" y="0"/>
                    </a:lnTo>
                    <a:lnTo>
                      <a:pt x="210" y="0"/>
                    </a:lnTo>
                    <a:lnTo>
                      <a:pt x="188" y="3"/>
                    </a:lnTo>
                    <a:lnTo>
                      <a:pt x="167" y="8"/>
                    </a:lnTo>
                    <a:lnTo>
                      <a:pt x="145" y="15"/>
                    </a:lnTo>
                    <a:lnTo>
                      <a:pt x="123" y="24"/>
                    </a:lnTo>
                    <a:lnTo>
                      <a:pt x="102" y="36"/>
                    </a:lnTo>
                    <a:lnTo>
                      <a:pt x="80" y="51"/>
                    </a:lnTo>
                    <a:lnTo>
                      <a:pt x="59" y="67"/>
                    </a:lnTo>
                    <a:lnTo>
                      <a:pt x="39" y="87"/>
                    </a:lnTo>
                    <a:lnTo>
                      <a:pt x="19" y="111"/>
                    </a:lnTo>
                    <a:lnTo>
                      <a:pt x="0" y="138"/>
                    </a:lnTo>
                    <a:lnTo>
                      <a:pt x="86" y="192"/>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70" name=""/>
              <p:cNvSpPr/>
              <p:nvPr/>
            </p:nvSpPr>
            <p:spPr>
              <a:xfrm>
                <a:off x="5262480" y="5304240"/>
                <a:ext cx="13320" cy="5760"/>
              </a:xfrm>
              <a:custGeom>
                <a:avLst/>
                <a:gdLst/>
                <a:ahLst/>
                <a:rect l="l" t="t" r="r" b="b"/>
                <a:pathLst>
                  <a:path w="563" h="223">
                    <a:moveTo>
                      <a:pt x="5" y="223"/>
                    </a:moveTo>
                    <a:lnTo>
                      <a:pt x="6" y="219"/>
                    </a:lnTo>
                    <a:lnTo>
                      <a:pt x="9" y="212"/>
                    </a:lnTo>
                    <a:lnTo>
                      <a:pt x="14" y="202"/>
                    </a:lnTo>
                    <a:lnTo>
                      <a:pt x="23" y="187"/>
                    </a:lnTo>
                    <a:lnTo>
                      <a:pt x="28" y="180"/>
                    </a:lnTo>
                    <a:lnTo>
                      <a:pt x="35" y="171"/>
                    </a:lnTo>
                    <a:lnTo>
                      <a:pt x="43" y="163"/>
                    </a:lnTo>
                    <a:lnTo>
                      <a:pt x="51" y="153"/>
                    </a:lnTo>
                    <a:lnTo>
                      <a:pt x="62" y="145"/>
                    </a:lnTo>
                    <a:lnTo>
                      <a:pt x="72" y="136"/>
                    </a:lnTo>
                    <a:lnTo>
                      <a:pt x="85" y="127"/>
                    </a:lnTo>
                    <a:lnTo>
                      <a:pt x="99" y="119"/>
                    </a:lnTo>
                    <a:lnTo>
                      <a:pt x="114" y="111"/>
                    </a:lnTo>
                    <a:lnTo>
                      <a:pt x="131" y="102"/>
                    </a:lnTo>
                    <a:lnTo>
                      <a:pt x="150" y="95"/>
                    </a:lnTo>
                    <a:lnTo>
                      <a:pt x="169" y="88"/>
                    </a:lnTo>
                    <a:lnTo>
                      <a:pt x="191" y="82"/>
                    </a:lnTo>
                    <a:lnTo>
                      <a:pt x="214" y="77"/>
                    </a:lnTo>
                    <a:lnTo>
                      <a:pt x="241" y="74"/>
                    </a:lnTo>
                    <a:lnTo>
                      <a:pt x="268" y="71"/>
                    </a:lnTo>
                    <a:lnTo>
                      <a:pt x="297" y="69"/>
                    </a:lnTo>
                    <a:lnTo>
                      <a:pt x="329" y="68"/>
                    </a:lnTo>
                    <a:lnTo>
                      <a:pt x="361" y="69"/>
                    </a:lnTo>
                    <a:lnTo>
                      <a:pt x="397" y="71"/>
                    </a:lnTo>
                    <a:lnTo>
                      <a:pt x="436" y="75"/>
                    </a:lnTo>
                    <a:lnTo>
                      <a:pt x="475" y="80"/>
                    </a:lnTo>
                    <a:lnTo>
                      <a:pt x="518" y="87"/>
                    </a:lnTo>
                    <a:lnTo>
                      <a:pt x="563" y="97"/>
                    </a:lnTo>
                    <a:lnTo>
                      <a:pt x="555" y="8"/>
                    </a:lnTo>
                    <a:lnTo>
                      <a:pt x="538" y="5"/>
                    </a:lnTo>
                    <a:lnTo>
                      <a:pt x="492" y="2"/>
                    </a:lnTo>
                    <a:lnTo>
                      <a:pt x="461" y="0"/>
                    </a:lnTo>
                    <a:lnTo>
                      <a:pt x="425" y="0"/>
                    </a:lnTo>
                    <a:lnTo>
                      <a:pt x="405" y="2"/>
                    </a:lnTo>
                    <a:lnTo>
                      <a:pt x="385" y="3"/>
                    </a:lnTo>
                    <a:lnTo>
                      <a:pt x="364" y="5"/>
                    </a:lnTo>
                    <a:lnTo>
                      <a:pt x="342" y="8"/>
                    </a:lnTo>
                    <a:lnTo>
                      <a:pt x="320" y="11"/>
                    </a:lnTo>
                    <a:lnTo>
                      <a:pt x="297" y="15"/>
                    </a:lnTo>
                    <a:lnTo>
                      <a:pt x="274" y="21"/>
                    </a:lnTo>
                    <a:lnTo>
                      <a:pt x="251" y="28"/>
                    </a:lnTo>
                    <a:lnTo>
                      <a:pt x="228" y="35"/>
                    </a:lnTo>
                    <a:lnTo>
                      <a:pt x="205" y="43"/>
                    </a:lnTo>
                    <a:lnTo>
                      <a:pt x="182" y="53"/>
                    </a:lnTo>
                    <a:lnTo>
                      <a:pt x="159" y="64"/>
                    </a:lnTo>
                    <a:lnTo>
                      <a:pt x="137" y="77"/>
                    </a:lnTo>
                    <a:lnTo>
                      <a:pt x="115" y="91"/>
                    </a:lnTo>
                    <a:lnTo>
                      <a:pt x="94" y="106"/>
                    </a:lnTo>
                    <a:lnTo>
                      <a:pt x="73" y="123"/>
                    </a:lnTo>
                    <a:lnTo>
                      <a:pt x="53" y="142"/>
                    </a:lnTo>
                    <a:lnTo>
                      <a:pt x="34" y="162"/>
                    </a:lnTo>
                    <a:lnTo>
                      <a:pt x="17" y="184"/>
                    </a:lnTo>
                    <a:lnTo>
                      <a:pt x="0" y="208"/>
                    </a:lnTo>
                    <a:lnTo>
                      <a:pt x="5" y="223"/>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71" name=""/>
              <p:cNvSpPr/>
              <p:nvPr/>
            </p:nvSpPr>
            <p:spPr>
              <a:xfrm>
                <a:off x="5265360" y="5313600"/>
                <a:ext cx="11880" cy="1440"/>
              </a:xfrm>
              <a:custGeom>
                <a:avLst/>
                <a:gdLst/>
                <a:ahLst/>
                <a:rect l="l" t="t" r="r" b="b"/>
                <a:pathLst>
                  <a:path w="498" h="77">
                    <a:moveTo>
                      <a:pt x="15" y="44"/>
                    </a:moveTo>
                    <a:lnTo>
                      <a:pt x="29" y="41"/>
                    </a:lnTo>
                    <a:lnTo>
                      <a:pt x="66" y="33"/>
                    </a:lnTo>
                    <a:lnTo>
                      <a:pt x="123" y="23"/>
                    </a:lnTo>
                    <a:lnTo>
                      <a:pt x="191" y="13"/>
                    </a:lnTo>
                    <a:lnTo>
                      <a:pt x="229" y="8"/>
                    </a:lnTo>
                    <a:lnTo>
                      <a:pt x="267" y="5"/>
                    </a:lnTo>
                    <a:lnTo>
                      <a:pt x="306" y="2"/>
                    </a:lnTo>
                    <a:lnTo>
                      <a:pt x="345" y="0"/>
                    </a:lnTo>
                    <a:lnTo>
                      <a:pt x="383" y="0"/>
                    </a:lnTo>
                    <a:lnTo>
                      <a:pt x="418" y="2"/>
                    </a:lnTo>
                    <a:lnTo>
                      <a:pt x="435" y="3"/>
                    </a:lnTo>
                    <a:lnTo>
                      <a:pt x="452" y="5"/>
                    </a:lnTo>
                    <a:lnTo>
                      <a:pt x="466" y="8"/>
                    </a:lnTo>
                    <a:lnTo>
                      <a:pt x="481" y="11"/>
                    </a:lnTo>
                    <a:lnTo>
                      <a:pt x="498" y="77"/>
                    </a:lnTo>
                    <a:lnTo>
                      <a:pt x="478" y="75"/>
                    </a:lnTo>
                    <a:lnTo>
                      <a:pt x="425" y="70"/>
                    </a:lnTo>
                    <a:lnTo>
                      <a:pt x="350" y="63"/>
                    </a:lnTo>
                    <a:lnTo>
                      <a:pt x="262" y="57"/>
                    </a:lnTo>
                    <a:lnTo>
                      <a:pt x="217" y="54"/>
                    </a:lnTo>
                    <a:lnTo>
                      <a:pt x="173" y="52"/>
                    </a:lnTo>
                    <a:lnTo>
                      <a:pt x="131" y="51"/>
                    </a:lnTo>
                    <a:lnTo>
                      <a:pt x="94" y="51"/>
                    </a:lnTo>
                    <a:lnTo>
                      <a:pt x="60" y="53"/>
                    </a:lnTo>
                    <a:lnTo>
                      <a:pt x="32" y="57"/>
                    </a:lnTo>
                    <a:lnTo>
                      <a:pt x="21" y="60"/>
                    </a:lnTo>
                    <a:lnTo>
                      <a:pt x="12" y="62"/>
                    </a:lnTo>
                    <a:lnTo>
                      <a:pt x="5" y="65"/>
                    </a:lnTo>
                    <a:lnTo>
                      <a:pt x="0" y="69"/>
                    </a:lnTo>
                    <a:lnTo>
                      <a:pt x="15" y="44"/>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a:off x="5266800" y="5319000"/>
                <a:ext cx="11160" cy="6840"/>
              </a:xfrm>
              <a:custGeom>
                <a:avLst/>
                <a:gdLst/>
                <a:ahLst/>
                <a:rect l="l" t="t" r="r" b="b"/>
                <a:pathLst>
                  <a:path w="482" h="248">
                    <a:moveTo>
                      <a:pt x="0" y="13"/>
                    </a:moveTo>
                    <a:lnTo>
                      <a:pt x="11" y="10"/>
                    </a:lnTo>
                    <a:lnTo>
                      <a:pt x="41" y="4"/>
                    </a:lnTo>
                    <a:lnTo>
                      <a:pt x="63" y="1"/>
                    </a:lnTo>
                    <a:lnTo>
                      <a:pt x="88" y="0"/>
                    </a:lnTo>
                    <a:lnTo>
                      <a:pt x="103" y="1"/>
                    </a:lnTo>
                    <a:lnTo>
                      <a:pt x="117" y="2"/>
                    </a:lnTo>
                    <a:lnTo>
                      <a:pt x="133" y="4"/>
                    </a:lnTo>
                    <a:lnTo>
                      <a:pt x="150" y="6"/>
                    </a:lnTo>
                    <a:lnTo>
                      <a:pt x="167" y="10"/>
                    </a:lnTo>
                    <a:lnTo>
                      <a:pt x="184" y="14"/>
                    </a:lnTo>
                    <a:lnTo>
                      <a:pt x="203" y="21"/>
                    </a:lnTo>
                    <a:lnTo>
                      <a:pt x="222" y="28"/>
                    </a:lnTo>
                    <a:lnTo>
                      <a:pt x="242" y="36"/>
                    </a:lnTo>
                    <a:lnTo>
                      <a:pt x="262" y="47"/>
                    </a:lnTo>
                    <a:lnTo>
                      <a:pt x="283" y="58"/>
                    </a:lnTo>
                    <a:lnTo>
                      <a:pt x="304" y="72"/>
                    </a:lnTo>
                    <a:lnTo>
                      <a:pt x="325" y="87"/>
                    </a:lnTo>
                    <a:lnTo>
                      <a:pt x="347" y="104"/>
                    </a:lnTo>
                    <a:lnTo>
                      <a:pt x="369" y="122"/>
                    </a:lnTo>
                    <a:lnTo>
                      <a:pt x="391" y="143"/>
                    </a:lnTo>
                    <a:lnTo>
                      <a:pt x="413" y="166"/>
                    </a:lnTo>
                    <a:lnTo>
                      <a:pt x="436" y="192"/>
                    </a:lnTo>
                    <a:lnTo>
                      <a:pt x="458" y="219"/>
                    </a:lnTo>
                    <a:lnTo>
                      <a:pt x="481" y="248"/>
                    </a:lnTo>
                    <a:lnTo>
                      <a:pt x="482" y="248"/>
                    </a:lnTo>
                    <a:lnTo>
                      <a:pt x="471" y="239"/>
                    </a:lnTo>
                    <a:lnTo>
                      <a:pt x="440" y="214"/>
                    </a:lnTo>
                    <a:lnTo>
                      <a:pt x="418" y="197"/>
                    </a:lnTo>
                    <a:lnTo>
                      <a:pt x="392" y="178"/>
                    </a:lnTo>
                    <a:lnTo>
                      <a:pt x="363" y="158"/>
                    </a:lnTo>
                    <a:lnTo>
                      <a:pt x="330" y="138"/>
                    </a:lnTo>
                    <a:lnTo>
                      <a:pt x="313" y="129"/>
                    </a:lnTo>
                    <a:lnTo>
                      <a:pt x="294" y="119"/>
                    </a:lnTo>
                    <a:lnTo>
                      <a:pt x="277" y="110"/>
                    </a:lnTo>
                    <a:lnTo>
                      <a:pt x="257" y="101"/>
                    </a:lnTo>
                    <a:lnTo>
                      <a:pt x="238" y="93"/>
                    </a:lnTo>
                    <a:lnTo>
                      <a:pt x="217" y="86"/>
                    </a:lnTo>
                    <a:lnTo>
                      <a:pt x="197" y="78"/>
                    </a:lnTo>
                    <a:lnTo>
                      <a:pt x="176" y="72"/>
                    </a:lnTo>
                    <a:lnTo>
                      <a:pt x="154" y="67"/>
                    </a:lnTo>
                    <a:lnTo>
                      <a:pt x="133" y="63"/>
                    </a:lnTo>
                    <a:lnTo>
                      <a:pt x="111" y="59"/>
                    </a:lnTo>
                    <a:lnTo>
                      <a:pt x="89" y="57"/>
                    </a:lnTo>
                    <a:lnTo>
                      <a:pt x="67" y="56"/>
                    </a:lnTo>
                    <a:lnTo>
                      <a:pt x="44" y="56"/>
                    </a:lnTo>
                    <a:lnTo>
                      <a:pt x="22" y="58"/>
                    </a:lnTo>
                    <a:lnTo>
                      <a:pt x="0" y="62"/>
                    </a:lnTo>
                    <a:lnTo>
                      <a:pt x="0" y="13"/>
                    </a:lnTo>
                    <a:close/>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73" name=""/>
              <p:cNvSpPr/>
              <p:nvPr/>
            </p:nvSpPr>
            <p:spPr>
              <a:xfrm>
                <a:off x="5264280" y="5324400"/>
                <a:ext cx="9720" cy="15120"/>
              </a:xfrm>
              <a:custGeom>
                <a:avLst/>
                <a:gdLst/>
                <a:ahLst/>
                <a:rect l="l" t="t" r="r" b="b"/>
                <a:pathLst>
                  <a:path w="430" h="582">
                    <a:moveTo>
                      <a:pt x="0" y="0"/>
                    </a:moveTo>
                    <a:lnTo>
                      <a:pt x="6" y="0"/>
                    </a:lnTo>
                    <a:lnTo>
                      <a:pt x="19" y="1"/>
                    </a:lnTo>
                    <a:lnTo>
                      <a:pt x="41" y="3"/>
                    </a:lnTo>
                    <a:lnTo>
                      <a:pt x="68" y="7"/>
                    </a:lnTo>
                    <a:lnTo>
                      <a:pt x="84" y="11"/>
                    </a:lnTo>
                    <a:lnTo>
                      <a:pt x="102" y="15"/>
                    </a:lnTo>
                    <a:lnTo>
                      <a:pt x="120" y="21"/>
                    </a:lnTo>
                    <a:lnTo>
                      <a:pt x="139" y="28"/>
                    </a:lnTo>
                    <a:lnTo>
                      <a:pt x="157" y="35"/>
                    </a:lnTo>
                    <a:lnTo>
                      <a:pt x="177" y="45"/>
                    </a:lnTo>
                    <a:lnTo>
                      <a:pt x="197" y="55"/>
                    </a:lnTo>
                    <a:lnTo>
                      <a:pt x="217" y="68"/>
                    </a:lnTo>
                    <a:lnTo>
                      <a:pt x="238" y="83"/>
                    </a:lnTo>
                    <a:lnTo>
                      <a:pt x="258" y="98"/>
                    </a:lnTo>
                    <a:lnTo>
                      <a:pt x="278" y="116"/>
                    </a:lnTo>
                    <a:lnTo>
                      <a:pt x="297" y="136"/>
                    </a:lnTo>
                    <a:lnTo>
                      <a:pt x="316" y="158"/>
                    </a:lnTo>
                    <a:lnTo>
                      <a:pt x="332" y="183"/>
                    </a:lnTo>
                    <a:lnTo>
                      <a:pt x="349" y="209"/>
                    </a:lnTo>
                    <a:lnTo>
                      <a:pt x="365" y="239"/>
                    </a:lnTo>
                    <a:lnTo>
                      <a:pt x="379" y="271"/>
                    </a:lnTo>
                    <a:lnTo>
                      <a:pt x="392" y="305"/>
                    </a:lnTo>
                    <a:lnTo>
                      <a:pt x="404" y="342"/>
                    </a:lnTo>
                    <a:lnTo>
                      <a:pt x="413" y="383"/>
                    </a:lnTo>
                    <a:lnTo>
                      <a:pt x="420" y="426"/>
                    </a:lnTo>
                    <a:lnTo>
                      <a:pt x="426" y="472"/>
                    </a:lnTo>
                    <a:lnTo>
                      <a:pt x="429" y="523"/>
                    </a:lnTo>
                    <a:lnTo>
                      <a:pt x="430" y="576"/>
                    </a:lnTo>
                    <a:lnTo>
                      <a:pt x="419" y="582"/>
                    </a:lnTo>
                    <a:lnTo>
                      <a:pt x="420" y="565"/>
                    </a:lnTo>
                    <a:lnTo>
                      <a:pt x="417" y="515"/>
                    </a:lnTo>
                    <a:lnTo>
                      <a:pt x="415" y="500"/>
                    </a:lnTo>
                    <a:lnTo>
                      <a:pt x="413" y="482"/>
                    </a:lnTo>
                    <a:lnTo>
                      <a:pt x="410" y="464"/>
                    </a:lnTo>
                    <a:lnTo>
                      <a:pt x="406" y="445"/>
                    </a:lnTo>
                    <a:lnTo>
                      <a:pt x="400" y="425"/>
                    </a:lnTo>
                    <a:lnTo>
                      <a:pt x="395" y="404"/>
                    </a:lnTo>
                    <a:lnTo>
                      <a:pt x="388" y="383"/>
                    </a:lnTo>
                    <a:lnTo>
                      <a:pt x="379" y="362"/>
                    </a:lnTo>
                    <a:lnTo>
                      <a:pt x="369" y="341"/>
                    </a:lnTo>
                    <a:lnTo>
                      <a:pt x="359" y="320"/>
                    </a:lnTo>
                    <a:lnTo>
                      <a:pt x="346" y="299"/>
                    </a:lnTo>
                    <a:lnTo>
                      <a:pt x="331" y="279"/>
                    </a:lnTo>
                    <a:lnTo>
                      <a:pt x="316" y="258"/>
                    </a:lnTo>
                    <a:lnTo>
                      <a:pt x="298" y="238"/>
                    </a:lnTo>
                    <a:lnTo>
                      <a:pt x="278" y="219"/>
                    </a:lnTo>
                    <a:lnTo>
                      <a:pt x="256" y="201"/>
                    </a:lnTo>
                    <a:lnTo>
                      <a:pt x="233" y="184"/>
                    </a:lnTo>
                    <a:lnTo>
                      <a:pt x="207" y="167"/>
                    </a:lnTo>
                    <a:lnTo>
                      <a:pt x="178" y="154"/>
                    </a:lnTo>
                    <a:lnTo>
                      <a:pt x="148" y="140"/>
                    </a:lnTo>
                    <a:lnTo>
                      <a:pt x="115" y="129"/>
                    </a:lnTo>
                    <a:lnTo>
                      <a:pt x="80" y="119"/>
                    </a:lnTo>
                    <a:lnTo>
                      <a:pt x="41" y="111"/>
                    </a:lnTo>
                    <a:lnTo>
                      <a:pt x="0" y="106"/>
                    </a:lnTo>
                    <a:lnTo>
                      <a:pt x="0" y="0"/>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4" name=""/>
              <p:cNvSpPr/>
              <p:nvPr/>
            </p:nvSpPr>
            <p:spPr>
              <a:xfrm>
                <a:off x="5261400" y="5329800"/>
                <a:ext cx="7920" cy="11880"/>
              </a:xfrm>
              <a:custGeom>
                <a:avLst/>
                <a:gdLst/>
                <a:ahLst/>
                <a:rect l="l" t="t" r="r" b="b"/>
                <a:pathLst>
                  <a:path w="332" h="458">
                    <a:moveTo>
                      <a:pt x="65" y="0"/>
                    </a:moveTo>
                    <a:lnTo>
                      <a:pt x="76" y="12"/>
                    </a:lnTo>
                    <a:lnTo>
                      <a:pt x="103" y="41"/>
                    </a:lnTo>
                    <a:lnTo>
                      <a:pt x="122" y="62"/>
                    </a:lnTo>
                    <a:lnTo>
                      <a:pt x="143" y="86"/>
                    </a:lnTo>
                    <a:lnTo>
                      <a:pt x="166" y="114"/>
                    </a:lnTo>
                    <a:lnTo>
                      <a:pt x="189" y="145"/>
                    </a:lnTo>
                    <a:lnTo>
                      <a:pt x="213" y="177"/>
                    </a:lnTo>
                    <a:lnTo>
                      <a:pt x="236" y="213"/>
                    </a:lnTo>
                    <a:lnTo>
                      <a:pt x="259" y="250"/>
                    </a:lnTo>
                    <a:lnTo>
                      <a:pt x="280" y="287"/>
                    </a:lnTo>
                    <a:lnTo>
                      <a:pt x="289" y="306"/>
                    </a:lnTo>
                    <a:lnTo>
                      <a:pt x="298" y="326"/>
                    </a:lnTo>
                    <a:lnTo>
                      <a:pt x="306" y="345"/>
                    </a:lnTo>
                    <a:lnTo>
                      <a:pt x="314" y="365"/>
                    </a:lnTo>
                    <a:lnTo>
                      <a:pt x="320" y="385"/>
                    </a:lnTo>
                    <a:lnTo>
                      <a:pt x="325" y="404"/>
                    </a:lnTo>
                    <a:lnTo>
                      <a:pt x="329" y="424"/>
                    </a:lnTo>
                    <a:lnTo>
                      <a:pt x="332" y="442"/>
                    </a:lnTo>
                    <a:lnTo>
                      <a:pt x="314" y="458"/>
                    </a:lnTo>
                    <a:lnTo>
                      <a:pt x="309" y="446"/>
                    </a:lnTo>
                    <a:lnTo>
                      <a:pt x="296" y="412"/>
                    </a:lnTo>
                    <a:lnTo>
                      <a:pt x="285" y="390"/>
                    </a:lnTo>
                    <a:lnTo>
                      <a:pt x="272" y="365"/>
                    </a:lnTo>
                    <a:lnTo>
                      <a:pt x="257" y="338"/>
                    </a:lnTo>
                    <a:lnTo>
                      <a:pt x="239" y="309"/>
                    </a:lnTo>
                    <a:lnTo>
                      <a:pt x="229" y="296"/>
                    </a:lnTo>
                    <a:lnTo>
                      <a:pt x="218" y="282"/>
                    </a:lnTo>
                    <a:lnTo>
                      <a:pt x="208" y="269"/>
                    </a:lnTo>
                    <a:lnTo>
                      <a:pt x="195" y="255"/>
                    </a:lnTo>
                    <a:lnTo>
                      <a:pt x="183" y="241"/>
                    </a:lnTo>
                    <a:lnTo>
                      <a:pt x="170" y="229"/>
                    </a:lnTo>
                    <a:lnTo>
                      <a:pt x="156" y="216"/>
                    </a:lnTo>
                    <a:lnTo>
                      <a:pt x="142" y="205"/>
                    </a:lnTo>
                    <a:lnTo>
                      <a:pt x="126" y="194"/>
                    </a:lnTo>
                    <a:lnTo>
                      <a:pt x="110" y="185"/>
                    </a:lnTo>
                    <a:lnTo>
                      <a:pt x="94" y="176"/>
                    </a:lnTo>
                    <a:lnTo>
                      <a:pt x="77" y="168"/>
                    </a:lnTo>
                    <a:lnTo>
                      <a:pt x="59" y="162"/>
                    </a:lnTo>
                    <a:lnTo>
                      <a:pt x="40" y="156"/>
                    </a:lnTo>
                    <a:lnTo>
                      <a:pt x="20" y="153"/>
                    </a:lnTo>
                    <a:lnTo>
                      <a:pt x="0" y="151"/>
                    </a:lnTo>
                    <a:lnTo>
                      <a:pt x="65" y="0"/>
                    </a:lnTo>
                    <a:close/>
                  </a:path>
                </a:pathLst>
              </a:custGeom>
              <a:solidFill>
                <a:srgbClr val="fffff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75" name=""/>
              <p:cNvSpPr/>
              <p:nvPr/>
            </p:nvSpPr>
            <p:spPr>
              <a:xfrm>
                <a:off x="5258520" y="5336280"/>
                <a:ext cx="6840" cy="8280"/>
              </a:xfrm>
              <a:custGeom>
                <a:avLst/>
                <a:gdLst/>
                <a:ahLst/>
                <a:rect l="l" t="t" r="r" b="b"/>
                <a:pathLst>
                  <a:path w="309" h="317">
                    <a:moveTo>
                      <a:pt x="34" y="0"/>
                    </a:moveTo>
                    <a:lnTo>
                      <a:pt x="37" y="8"/>
                    </a:lnTo>
                    <a:lnTo>
                      <a:pt x="48" y="33"/>
                    </a:lnTo>
                    <a:lnTo>
                      <a:pt x="56" y="50"/>
                    </a:lnTo>
                    <a:lnTo>
                      <a:pt x="65" y="69"/>
                    </a:lnTo>
                    <a:lnTo>
                      <a:pt x="78" y="91"/>
                    </a:lnTo>
                    <a:lnTo>
                      <a:pt x="94" y="113"/>
                    </a:lnTo>
                    <a:lnTo>
                      <a:pt x="110" y="137"/>
                    </a:lnTo>
                    <a:lnTo>
                      <a:pt x="130" y="161"/>
                    </a:lnTo>
                    <a:lnTo>
                      <a:pt x="141" y="174"/>
                    </a:lnTo>
                    <a:lnTo>
                      <a:pt x="152" y="185"/>
                    </a:lnTo>
                    <a:lnTo>
                      <a:pt x="165" y="198"/>
                    </a:lnTo>
                    <a:lnTo>
                      <a:pt x="177" y="209"/>
                    </a:lnTo>
                    <a:lnTo>
                      <a:pt x="191" y="221"/>
                    </a:lnTo>
                    <a:lnTo>
                      <a:pt x="206" y="231"/>
                    </a:lnTo>
                    <a:lnTo>
                      <a:pt x="220" y="243"/>
                    </a:lnTo>
                    <a:lnTo>
                      <a:pt x="237" y="253"/>
                    </a:lnTo>
                    <a:lnTo>
                      <a:pt x="253" y="263"/>
                    </a:lnTo>
                    <a:lnTo>
                      <a:pt x="271" y="272"/>
                    </a:lnTo>
                    <a:lnTo>
                      <a:pt x="290" y="280"/>
                    </a:lnTo>
                    <a:lnTo>
                      <a:pt x="308" y="289"/>
                    </a:lnTo>
                    <a:lnTo>
                      <a:pt x="309" y="317"/>
                    </a:lnTo>
                    <a:lnTo>
                      <a:pt x="299" y="313"/>
                    </a:lnTo>
                    <a:lnTo>
                      <a:pt x="271" y="300"/>
                    </a:lnTo>
                    <a:lnTo>
                      <a:pt x="251" y="291"/>
                    </a:lnTo>
                    <a:lnTo>
                      <a:pt x="229" y="280"/>
                    </a:lnTo>
                    <a:lnTo>
                      <a:pt x="206" y="267"/>
                    </a:lnTo>
                    <a:lnTo>
                      <a:pt x="180" y="252"/>
                    </a:lnTo>
                    <a:lnTo>
                      <a:pt x="154" y="236"/>
                    </a:lnTo>
                    <a:lnTo>
                      <a:pt x="127" y="218"/>
                    </a:lnTo>
                    <a:lnTo>
                      <a:pt x="102" y="199"/>
                    </a:lnTo>
                    <a:lnTo>
                      <a:pt x="77" y="177"/>
                    </a:lnTo>
                    <a:lnTo>
                      <a:pt x="65" y="166"/>
                    </a:lnTo>
                    <a:lnTo>
                      <a:pt x="54" y="155"/>
                    </a:lnTo>
                    <a:lnTo>
                      <a:pt x="43" y="142"/>
                    </a:lnTo>
                    <a:lnTo>
                      <a:pt x="33" y="131"/>
                    </a:lnTo>
                    <a:lnTo>
                      <a:pt x="23" y="118"/>
                    </a:lnTo>
                    <a:lnTo>
                      <a:pt x="15" y="105"/>
                    </a:lnTo>
                    <a:lnTo>
                      <a:pt x="7" y="92"/>
                    </a:lnTo>
                    <a:lnTo>
                      <a:pt x="0" y="78"/>
                    </a:lnTo>
                    <a:lnTo>
                      <a:pt x="34" y="0"/>
                    </a:lnTo>
                    <a:close/>
                  </a:path>
                </a:pathLst>
              </a:custGeom>
              <a:solidFill>
                <a:srgbClr val="ffffff"/>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76" name=""/>
              <p:cNvSpPr/>
              <p:nvPr/>
            </p:nvSpPr>
            <p:spPr>
              <a:xfrm>
                <a:off x="5254200" y="5338080"/>
                <a:ext cx="6120" cy="10440"/>
              </a:xfrm>
              <a:custGeom>
                <a:avLst/>
                <a:gdLst/>
                <a:ahLst/>
                <a:rect l="l" t="t" r="r" b="b"/>
                <a:pathLst>
                  <a:path w="266" h="389">
                    <a:moveTo>
                      <a:pt x="84" y="0"/>
                    </a:moveTo>
                    <a:lnTo>
                      <a:pt x="80" y="11"/>
                    </a:lnTo>
                    <a:lnTo>
                      <a:pt x="73" y="43"/>
                    </a:lnTo>
                    <a:lnTo>
                      <a:pt x="69" y="64"/>
                    </a:lnTo>
                    <a:lnTo>
                      <a:pt x="67" y="89"/>
                    </a:lnTo>
                    <a:lnTo>
                      <a:pt x="67" y="101"/>
                    </a:lnTo>
                    <a:lnTo>
                      <a:pt x="67" y="115"/>
                    </a:lnTo>
                    <a:lnTo>
                      <a:pt x="68" y="130"/>
                    </a:lnTo>
                    <a:lnTo>
                      <a:pt x="71" y="144"/>
                    </a:lnTo>
                    <a:lnTo>
                      <a:pt x="73" y="160"/>
                    </a:lnTo>
                    <a:lnTo>
                      <a:pt x="76" y="175"/>
                    </a:lnTo>
                    <a:lnTo>
                      <a:pt x="80" y="190"/>
                    </a:lnTo>
                    <a:lnTo>
                      <a:pt x="85" y="206"/>
                    </a:lnTo>
                    <a:lnTo>
                      <a:pt x="93" y="222"/>
                    </a:lnTo>
                    <a:lnTo>
                      <a:pt x="100" y="238"/>
                    </a:lnTo>
                    <a:lnTo>
                      <a:pt x="109" y="253"/>
                    </a:lnTo>
                    <a:lnTo>
                      <a:pt x="120" y="268"/>
                    </a:lnTo>
                    <a:lnTo>
                      <a:pt x="132" y="284"/>
                    </a:lnTo>
                    <a:lnTo>
                      <a:pt x="146" y="298"/>
                    </a:lnTo>
                    <a:lnTo>
                      <a:pt x="161" y="312"/>
                    </a:lnTo>
                    <a:lnTo>
                      <a:pt x="178" y="326"/>
                    </a:lnTo>
                    <a:lnTo>
                      <a:pt x="197" y="339"/>
                    </a:lnTo>
                    <a:lnTo>
                      <a:pt x="218" y="352"/>
                    </a:lnTo>
                    <a:lnTo>
                      <a:pt x="241" y="363"/>
                    </a:lnTo>
                    <a:lnTo>
                      <a:pt x="266" y="375"/>
                    </a:lnTo>
                    <a:lnTo>
                      <a:pt x="203" y="389"/>
                    </a:lnTo>
                    <a:lnTo>
                      <a:pt x="192" y="382"/>
                    </a:lnTo>
                    <a:lnTo>
                      <a:pt x="164" y="359"/>
                    </a:lnTo>
                    <a:lnTo>
                      <a:pt x="145" y="342"/>
                    </a:lnTo>
                    <a:lnTo>
                      <a:pt x="125" y="322"/>
                    </a:lnTo>
                    <a:lnTo>
                      <a:pt x="104" y="299"/>
                    </a:lnTo>
                    <a:lnTo>
                      <a:pt x="83" y="274"/>
                    </a:lnTo>
                    <a:lnTo>
                      <a:pt x="73" y="261"/>
                    </a:lnTo>
                    <a:lnTo>
                      <a:pt x="62" y="247"/>
                    </a:lnTo>
                    <a:lnTo>
                      <a:pt x="53" y="232"/>
                    </a:lnTo>
                    <a:lnTo>
                      <a:pt x="43" y="217"/>
                    </a:lnTo>
                    <a:lnTo>
                      <a:pt x="35" y="202"/>
                    </a:lnTo>
                    <a:lnTo>
                      <a:pt x="27" y="185"/>
                    </a:lnTo>
                    <a:lnTo>
                      <a:pt x="19" y="169"/>
                    </a:lnTo>
                    <a:lnTo>
                      <a:pt x="14" y="152"/>
                    </a:lnTo>
                    <a:lnTo>
                      <a:pt x="9" y="135"/>
                    </a:lnTo>
                    <a:lnTo>
                      <a:pt x="5" y="117"/>
                    </a:lnTo>
                    <a:lnTo>
                      <a:pt x="1" y="99"/>
                    </a:lnTo>
                    <a:lnTo>
                      <a:pt x="0" y="81"/>
                    </a:lnTo>
                    <a:lnTo>
                      <a:pt x="0" y="63"/>
                    </a:lnTo>
                    <a:lnTo>
                      <a:pt x="2" y="44"/>
                    </a:lnTo>
                    <a:lnTo>
                      <a:pt x="6" y="25"/>
                    </a:lnTo>
                    <a:lnTo>
                      <a:pt x="11" y="6"/>
                    </a:lnTo>
                    <a:lnTo>
                      <a:pt x="84"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77" name=""/>
              <p:cNvSpPr/>
              <p:nvPr/>
            </p:nvSpPr>
            <p:spPr>
              <a:xfrm>
                <a:off x="5248440" y="5340240"/>
                <a:ext cx="6480" cy="11520"/>
              </a:xfrm>
              <a:custGeom>
                <a:avLst/>
                <a:gdLst/>
                <a:ahLst/>
                <a:rect l="l" t="t" r="r" b="b"/>
                <a:pathLst>
                  <a:path w="267" h="442">
                    <a:moveTo>
                      <a:pt x="125" y="0"/>
                    </a:moveTo>
                    <a:lnTo>
                      <a:pt x="118" y="12"/>
                    </a:lnTo>
                    <a:lnTo>
                      <a:pt x="100" y="44"/>
                    </a:lnTo>
                    <a:lnTo>
                      <a:pt x="91" y="67"/>
                    </a:lnTo>
                    <a:lnTo>
                      <a:pt x="82" y="94"/>
                    </a:lnTo>
                    <a:lnTo>
                      <a:pt x="78" y="108"/>
                    </a:lnTo>
                    <a:lnTo>
                      <a:pt x="75" y="123"/>
                    </a:lnTo>
                    <a:lnTo>
                      <a:pt x="73" y="139"/>
                    </a:lnTo>
                    <a:lnTo>
                      <a:pt x="71" y="154"/>
                    </a:lnTo>
                    <a:lnTo>
                      <a:pt x="70" y="171"/>
                    </a:lnTo>
                    <a:lnTo>
                      <a:pt x="71" y="188"/>
                    </a:lnTo>
                    <a:lnTo>
                      <a:pt x="72" y="206"/>
                    </a:lnTo>
                    <a:lnTo>
                      <a:pt x="75" y="222"/>
                    </a:lnTo>
                    <a:lnTo>
                      <a:pt x="79" y="240"/>
                    </a:lnTo>
                    <a:lnTo>
                      <a:pt x="86" y="258"/>
                    </a:lnTo>
                    <a:lnTo>
                      <a:pt x="94" y="276"/>
                    </a:lnTo>
                    <a:lnTo>
                      <a:pt x="103" y="294"/>
                    </a:lnTo>
                    <a:lnTo>
                      <a:pt x="116" y="312"/>
                    </a:lnTo>
                    <a:lnTo>
                      <a:pt x="130" y="329"/>
                    </a:lnTo>
                    <a:lnTo>
                      <a:pt x="145" y="346"/>
                    </a:lnTo>
                    <a:lnTo>
                      <a:pt x="164" y="363"/>
                    </a:lnTo>
                    <a:lnTo>
                      <a:pt x="186" y="380"/>
                    </a:lnTo>
                    <a:lnTo>
                      <a:pt x="210" y="395"/>
                    </a:lnTo>
                    <a:lnTo>
                      <a:pt x="236" y="411"/>
                    </a:lnTo>
                    <a:lnTo>
                      <a:pt x="267" y="426"/>
                    </a:lnTo>
                    <a:lnTo>
                      <a:pt x="204" y="442"/>
                    </a:lnTo>
                    <a:lnTo>
                      <a:pt x="192" y="433"/>
                    </a:lnTo>
                    <a:lnTo>
                      <a:pt x="161" y="407"/>
                    </a:lnTo>
                    <a:lnTo>
                      <a:pt x="141" y="389"/>
                    </a:lnTo>
                    <a:lnTo>
                      <a:pt x="119" y="366"/>
                    </a:lnTo>
                    <a:lnTo>
                      <a:pt x="108" y="355"/>
                    </a:lnTo>
                    <a:lnTo>
                      <a:pt x="96" y="341"/>
                    </a:lnTo>
                    <a:lnTo>
                      <a:pt x="86" y="327"/>
                    </a:lnTo>
                    <a:lnTo>
                      <a:pt x="74" y="313"/>
                    </a:lnTo>
                    <a:lnTo>
                      <a:pt x="64" y="298"/>
                    </a:lnTo>
                    <a:lnTo>
                      <a:pt x="53" y="281"/>
                    </a:lnTo>
                    <a:lnTo>
                      <a:pt x="44" y="265"/>
                    </a:lnTo>
                    <a:lnTo>
                      <a:pt x="34" y="248"/>
                    </a:lnTo>
                    <a:lnTo>
                      <a:pt x="26" y="230"/>
                    </a:lnTo>
                    <a:lnTo>
                      <a:pt x="19" y="212"/>
                    </a:lnTo>
                    <a:lnTo>
                      <a:pt x="12" y="193"/>
                    </a:lnTo>
                    <a:lnTo>
                      <a:pt x="7" y="173"/>
                    </a:lnTo>
                    <a:lnTo>
                      <a:pt x="3" y="153"/>
                    </a:lnTo>
                    <a:lnTo>
                      <a:pt x="1" y="133"/>
                    </a:lnTo>
                    <a:lnTo>
                      <a:pt x="0" y="112"/>
                    </a:lnTo>
                    <a:lnTo>
                      <a:pt x="0" y="91"/>
                    </a:lnTo>
                    <a:lnTo>
                      <a:pt x="3" y="69"/>
                    </a:lnTo>
                    <a:lnTo>
                      <a:pt x="7" y="47"/>
                    </a:lnTo>
                    <a:lnTo>
                      <a:pt x="13" y="25"/>
                    </a:lnTo>
                    <a:lnTo>
                      <a:pt x="22" y="2"/>
                    </a:lnTo>
                    <a:lnTo>
                      <a:pt x="125" y="0"/>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8" name=""/>
              <p:cNvSpPr/>
              <p:nvPr/>
            </p:nvSpPr>
            <p:spPr>
              <a:xfrm>
                <a:off x="5243760" y="5339880"/>
                <a:ext cx="3600" cy="13680"/>
              </a:xfrm>
              <a:custGeom>
                <a:avLst/>
                <a:gdLst/>
                <a:ahLst/>
                <a:rect l="l" t="t" r="r" b="b"/>
                <a:pathLst>
                  <a:path w="150" h="526">
                    <a:moveTo>
                      <a:pt x="95" y="1"/>
                    </a:moveTo>
                    <a:lnTo>
                      <a:pt x="92" y="23"/>
                    </a:lnTo>
                    <a:lnTo>
                      <a:pt x="85" y="79"/>
                    </a:lnTo>
                    <a:lnTo>
                      <a:pt x="80" y="116"/>
                    </a:lnTo>
                    <a:lnTo>
                      <a:pt x="76" y="158"/>
                    </a:lnTo>
                    <a:lnTo>
                      <a:pt x="73" y="204"/>
                    </a:lnTo>
                    <a:lnTo>
                      <a:pt x="71" y="252"/>
                    </a:lnTo>
                    <a:lnTo>
                      <a:pt x="71" y="275"/>
                    </a:lnTo>
                    <a:lnTo>
                      <a:pt x="71" y="299"/>
                    </a:lnTo>
                    <a:lnTo>
                      <a:pt x="71" y="322"/>
                    </a:lnTo>
                    <a:lnTo>
                      <a:pt x="72" y="345"/>
                    </a:lnTo>
                    <a:lnTo>
                      <a:pt x="74" y="368"/>
                    </a:lnTo>
                    <a:lnTo>
                      <a:pt x="76" y="390"/>
                    </a:lnTo>
                    <a:lnTo>
                      <a:pt x="79" y="411"/>
                    </a:lnTo>
                    <a:lnTo>
                      <a:pt x="84" y="430"/>
                    </a:lnTo>
                    <a:lnTo>
                      <a:pt x="88" y="449"/>
                    </a:lnTo>
                    <a:lnTo>
                      <a:pt x="94" y="465"/>
                    </a:lnTo>
                    <a:lnTo>
                      <a:pt x="100" y="480"/>
                    </a:lnTo>
                    <a:lnTo>
                      <a:pt x="108" y="494"/>
                    </a:lnTo>
                    <a:lnTo>
                      <a:pt x="117" y="505"/>
                    </a:lnTo>
                    <a:lnTo>
                      <a:pt x="126" y="515"/>
                    </a:lnTo>
                    <a:lnTo>
                      <a:pt x="138" y="522"/>
                    </a:lnTo>
                    <a:lnTo>
                      <a:pt x="150" y="526"/>
                    </a:lnTo>
                    <a:lnTo>
                      <a:pt x="143" y="522"/>
                    </a:lnTo>
                    <a:lnTo>
                      <a:pt x="124" y="509"/>
                    </a:lnTo>
                    <a:lnTo>
                      <a:pt x="99" y="491"/>
                    </a:lnTo>
                    <a:lnTo>
                      <a:pt x="71" y="468"/>
                    </a:lnTo>
                    <a:lnTo>
                      <a:pt x="56" y="455"/>
                    </a:lnTo>
                    <a:lnTo>
                      <a:pt x="42" y="441"/>
                    </a:lnTo>
                    <a:lnTo>
                      <a:pt x="29" y="428"/>
                    </a:lnTo>
                    <a:lnTo>
                      <a:pt x="19" y="413"/>
                    </a:lnTo>
                    <a:lnTo>
                      <a:pt x="13" y="406"/>
                    </a:lnTo>
                    <a:lnTo>
                      <a:pt x="9" y="399"/>
                    </a:lnTo>
                    <a:lnTo>
                      <a:pt x="6" y="392"/>
                    </a:lnTo>
                    <a:lnTo>
                      <a:pt x="3" y="385"/>
                    </a:lnTo>
                    <a:lnTo>
                      <a:pt x="1" y="378"/>
                    </a:lnTo>
                    <a:lnTo>
                      <a:pt x="0" y="372"/>
                    </a:lnTo>
                    <a:lnTo>
                      <a:pt x="0" y="365"/>
                    </a:lnTo>
                    <a:lnTo>
                      <a:pt x="0" y="359"/>
                    </a:lnTo>
                    <a:lnTo>
                      <a:pt x="1" y="346"/>
                    </a:lnTo>
                    <a:lnTo>
                      <a:pt x="2" y="311"/>
                    </a:lnTo>
                    <a:lnTo>
                      <a:pt x="4" y="261"/>
                    </a:lnTo>
                    <a:lnTo>
                      <a:pt x="8" y="203"/>
                    </a:lnTo>
                    <a:lnTo>
                      <a:pt x="11" y="174"/>
                    </a:lnTo>
                    <a:lnTo>
                      <a:pt x="15" y="144"/>
                    </a:lnTo>
                    <a:lnTo>
                      <a:pt x="21" y="115"/>
                    </a:lnTo>
                    <a:lnTo>
                      <a:pt x="27" y="89"/>
                    </a:lnTo>
                    <a:lnTo>
                      <a:pt x="30" y="78"/>
                    </a:lnTo>
                    <a:lnTo>
                      <a:pt x="33" y="66"/>
                    </a:lnTo>
                    <a:lnTo>
                      <a:pt x="37" y="57"/>
                    </a:lnTo>
                    <a:lnTo>
                      <a:pt x="41" y="47"/>
                    </a:lnTo>
                    <a:lnTo>
                      <a:pt x="46" y="39"/>
                    </a:lnTo>
                    <a:lnTo>
                      <a:pt x="50" y="33"/>
                    </a:lnTo>
                    <a:lnTo>
                      <a:pt x="55" y="27"/>
                    </a:lnTo>
                    <a:lnTo>
                      <a:pt x="61" y="23"/>
                    </a:lnTo>
                    <a:lnTo>
                      <a:pt x="90" y="5"/>
                    </a:lnTo>
                    <a:lnTo>
                      <a:pt x="99" y="0"/>
                    </a:lnTo>
                    <a:lnTo>
                      <a:pt x="98" y="0"/>
                    </a:lnTo>
                    <a:lnTo>
                      <a:pt x="95" y="1"/>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79" name=""/>
              <p:cNvSpPr/>
              <p:nvPr/>
            </p:nvSpPr>
            <p:spPr>
              <a:xfrm>
                <a:off x="5238720" y="5339160"/>
                <a:ext cx="2520" cy="12240"/>
              </a:xfrm>
              <a:custGeom>
                <a:avLst/>
                <a:gdLst/>
                <a:ahLst/>
                <a:rect l="l" t="t" r="r" b="b"/>
                <a:pathLst>
                  <a:path w="121" h="457">
                    <a:moveTo>
                      <a:pt x="118" y="8"/>
                    </a:moveTo>
                    <a:lnTo>
                      <a:pt x="115" y="25"/>
                    </a:lnTo>
                    <a:lnTo>
                      <a:pt x="107" y="70"/>
                    </a:lnTo>
                    <a:lnTo>
                      <a:pt x="102" y="100"/>
                    </a:lnTo>
                    <a:lnTo>
                      <a:pt x="98" y="135"/>
                    </a:lnTo>
                    <a:lnTo>
                      <a:pt x="94" y="172"/>
                    </a:lnTo>
                    <a:lnTo>
                      <a:pt x="90" y="210"/>
                    </a:lnTo>
                    <a:lnTo>
                      <a:pt x="86" y="249"/>
                    </a:lnTo>
                    <a:lnTo>
                      <a:pt x="85" y="289"/>
                    </a:lnTo>
                    <a:lnTo>
                      <a:pt x="84" y="308"/>
                    </a:lnTo>
                    <a:lnTo>
                      <a:pt x="85" y="327"/>
                    </a:lnTo>
                    <a:lnTo>
                      <a:pt x="85" y="345"/>
                    </a:lnTo>
                    <a:lnTo>
                      <a:pt x="87" y="361"/>
                    </a:lnTo>
                    <a:lnTo>
                      <a:pt x="88" y="378"/>
                    </a:lnTo>
                    <a:lnTo>
                      <a:pt x="92" y="393"/>
                    </a:lnTo>
                    <a:lnTo>
                      <a:pt x="95" y="407"/>
                    </a:lnTo>
                    <a:lnTo>
                      <a:pt x="98" y="420"/>
                    </a:lnTo>
                    <a:lnTo>
                      <a:pt x="102" y="432"/>
                    </a:lnTo>
                    <a:lnTo>
                      <a:pt x="108" y="442"/>
                    </a:lnTo>
                    <a:lnTo>
                      <a:pt x="114" y="450"/>
                    </a:lnTo>
                    <a:lnTo>
                      <a:pt x="121" y="457"/>
                    </a:lnTo>
                    <a:lnTo>
                      <a:pt x="114" y="449"/>
                    </a:lnTo>
                    <a:lnTo>
                      <a:pt x="94" y="426"/>
                    </a:lnTo>
                    <a:lnTo>
                      <a:pt x="81" y="410"/>
                    </a:lnTo>
                    <a:lnTo>
                      <a:pt x="69" y="390"/>
                    </a:lnTo>
                    <a:lnTo>
                      <a:pt x="54" y="366"/>
                    </a:lnTo>
                    <a:lnTo>
                      <a:pt x="41" y="338"/>
                    </a:lnTo>
                    <a:lnTo>
                      <a:pt x="34" y="323"/>
                    </a:lnTo>
                    <a:lnTo>
                      <a:pt x="29" y="307"/>
                    </a:lnTo>
                    <a:lnTo>
                      <a:pt x="22" y="290"/>
                    </a:lnTo>
                    <a:lnTo>
                      <a:pt x="17" y="273"/>
                    </a:lnTo>
                    <a:lnTo>
                      <a:pt x="12" y="254"/>
                    </a:lnTo>
                    <a:lnTo>
                      <a:pt x="9" y="236"/>
                    </a:lnTo>
                    <a:lnTo>
                      <a:pt x="5" y="216"/>
                    </a:lnTo>
                    <a:lnTo>
                      <a:pt x="3" y="195"/>
                    </a:lnTo>
                    <a:lnTo>
                      <a:pt x="0" y="173"/>
                    </a:lnTo>
                    <a:lnTo>
                      <a:pt x="0" y="151"/>
                    </a:lnTo>
                    <a:lnTo>
                      <a:pt x="0" y="128"/>
                    </a:lnTo>
                    <a:lnTo>
                      <a:pt x="2" y="103"/>
                    </a:lnTo>
                    <a:lnTo>
                      <a:pt x="5" y="78"/>
                    </a:lnTo>
                    <a:lnTo>
                      <a:pt x="8" y="53"/>
                    </a:lnTo>
                    <a:lnTo>
                      <a:pt x="14" y="26"/>
                    </a:lnTo>
                    <a:lnTo>
                      <a:pt x="20" y="0"/>
                    </a:lnTo>
                    <a:lnTo>
                      <a:pt x="118" y="8"/>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0" name=""/>
              <p:cNvSpPr/>
              <p:nvPr/>
            </p:nvSpPr>
            <p:spPr>
              <a:xfrm>
                <a:off x="5233680" y="5334840"/>
                <a:ext cx="5400" cy="12960"/>
              </a:xfrm>
              <a:custGeom>
                <a:avLst/>
                <a:gdLst/>
                <a:ahLst/>
                <a:rect l="l" t="t" r="r" b="b"/>
                <a:pathLst>
                  <a:path w="247" h="497">
                    <a:moveTo>
                      <a:pt x="247" y="67"/>
                    </a:moveTo>
                    <a:lnTo>
                      <a:pt x="236" y="75"/>
                    </a:lnTo>
                    <a:lnTo>
                      <a:pt x="201" y="98"/>
                    </a:lnTo>
                    <a:lnTo>
                      <a:pt x="179" y="115"/>
                    </a:lnTo>
                    <a:lnTo>
                      <a:pt x="155" y="134"/>
                    </a:lnTo>
                    <a:lnTo>
                      <a:pt x="143" y="146"/>
                    </a:lnTo>
                    <a:lnTo>
                      <a:pt x="130" y="157"/>
                    </a:lnTo>
                    <a:lnTo>
                      <a:pt x="118" y="170"/>
                    </a:lnTo>
                    <a:lnTo>
                      <a:pt x="107" y="183"/>
                    </a:lnTo>
                    <a:lnTo>
                      <a:pt x="94" y="198"/>
                    </a:lnTo>
                    <a:lnTo>
                      <a:pt x="84" y="213"/>
                    </a:lnTo>
                    <a:lnTo>
                      <a:pt x="73" y="228"/>
                    </a:lnTo>
                    <a:lnTo>
                      <a:pt x="65" y="245"/>
                    </a:lnTo>
                    <a:lnTo>
                      <a:pt x="57" y="262"/>
                    </a:lnTo>
                    <a:lnTo>
                      <a:pt x="49" y="280"/>
                    </a:lnTo>
                    <a:lnTo>
                      <a:pt x="44" y="299"/>
                    </a:lnTo>
                    <a:lnTo>
                      <a:pt x="40" y="319"/>
                    </a:lnTo>
                    <a:lnTo>
                      <a:pt x="38" y="338"/>
                    </a:lnTo>
                    <a:lnTo>
                      <a:pt x="37" y="358"/>
                    </a:lnTo>
                    <a:lnTo>
                      <a:pt x="38" y="380"/>
                    </a:lnTo>
                    <a:lnTo>
                      <a:pt x="42" y="402"/>
                    </a:lnTo>
                    <a:lnTo>
                      <a:pt x="47" y="424"/>
                    </a:lnTo>
                    <a:lnTo>
                      <a:pt x="56" y="448"/>
                    </a:lnTo>
                    <a:lnTo>
                      <a:pt x="66" y="473"/>
                    </a:lnTo>
                    <a:lnTo>
                      <a:pt x="80" y="497"/>
                    </a:lnTo>
                    <a:lnTo>
                      <a:pt x="71" y="485"/>
                    </a:lnTo>
                    <a:lnTo>
                      <a:pt x="50" y="453"/>
                    </a:lnTo>
                    <a:lnTo>
                      <a:pt x="38" y="430"/>
                    </a:lnTo>
                    <a:lnTo>
                      <a:pt x="25" y="403"/>
                    </a:lnTo>
                    <a:lnTo>
                      <a:pt x="20" y="388"/>
                    </a:lnTo>
                    <a:lnTo>
                      <a:pt x="15" y="372"/>
                    </a:lnTo>
                    <a:lnTo>
                      <a:pt x="11" y="356"/>
                    </a:lnTo>
                    <a:lnTo>
                      <a:pt x="6" y="338"/>
                    </a:lnTo>
                    <a:lnTo>
                      <a:pt x="3" y="321"/>
                    </a:lnTo>
                    <a:lnTo>
                      <a:pt x="1" y="302"/>
                    </a:lnTo>
                    <a:lnTo>
                      <a:pt x="0" y="283"/>
                    </a:lnTo>
                    <a:lnTo>
                      <a:pt x="0" y="263"/>
                    </a:lnTo>
                    <a:lnTo>
                      <a:pt x="2" y="242"/>
                    </a:lnTo>
                    <a:lnTo>
                      <a:pt x="5" y="222"/>
                    </a:lnTo>
                    <a:lnTo>
                      <a:pt x="11" y="200"/>
                    </a:lnTo>
                    <a:lnTo>
                      <a:pt x="17" y="179"/>
                    </a:lnTo>
                    <a:lnTo>
                      <a:pt x="25" y="157"/>
                    </a:lnTo>
                    <a:lnTo>
                      <a:pt x="36" y="135"/>
                    </a:lnTo>
                    <a:lnTo>
                      <a:pt x="48" y="113"/>
                    </a:lnTo>
                    <a:lnTo>
                      <a:pt x="64" y="90"/>
                    </a:lnTo>
                    <a:lnTo>
                      <a:pt x="82" y="68"/>
                    </a:lnTo>
                    <a:lnTo>
                      <a:pt x="102" y="45"/>
                    </a:lnTo>
                    <a:lnTo>
                      <a:pt x="125" y="22"/>
                    </a:lnTo>
                    <a:lnTo>
                      <a:pt x="150" y="0"/>
                    </a:lnTo>
                    <a:lnTo>
                      <a:pt x="247" y="67"/>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81" name=""/>
              <p:cNvSpPr/>
              <p:nvPr/>
            </p:nvSpPr>
            <p:spPr>
              <a:xfrm>
                <a:off x="5229360" y="5329080"/>
                <a:ext cx="6840" cy="11520"/>
              </a:xfrm>
              <a:custGeom>
                <a:avLst/>
                <a:gdLst/>
                <a:ahLst/>
                <a:rect l="l" t="t" r="r" b="b"/>
                <a:pathLst>
                  <a:path w="310" h="443">
                    <a:moveTo>
                      <a:pt x="310" y="79"/>
                    </a:moveTo>
                    <a:lnTo>
                      <a:pt x="310" y="81"/>
                    </a:lnTo>
                    <a:lnTo>
                      <a:pt x="308" y="84"/>
                    </a:lnTo>
                    <a:lnTo>
                      <a:pt x="304" y="88"/>
                    </a:lnTo>
                    <a:lnTo>
                      <a:pt x="299" y="94"/>
                    </a:lnTo>
                    <a:lnTo>
                      <a:pt x="283" y="105"/>
                    </a:lnTo>
                    <a:lnTo>
                      <a:pt x="262" y="121"/>
                    </a:lnTo>
                    <a:lnTo>
                      <a:pt x="237" y="139"/>
                    </a:lnTo>
                    <a:lnTo>
                      <a:pt x="210" y="160"/>
                    </a:lnTo>
                    <a:lnTo>
                      <a:pt x="180" y="183"/>
                    </a:lnTo>
                    <a:lnTo>
                      <a:pt x="150" y="208"/>
                    </a:lnTo>
                    <a:lnTo>
                      <a:pt x="119" y="234"/>
                    </a:lnTo>
                    <a:lnTo>
                      <a:pt x="90" y="262"/>
                    </a:lnTo>
                    <a:lnTo>
                      <a:pt x="77" y="277"/>
                    </a:lnTo>
                    <a:lnTo>
                      <a:pt x="64" y="292"/>
                    </a:lnTo>
                    <a:lnTo>
                      <a:pt x="52" y="306"/>
                    </a:lnTo>
                    <a:lnTo>
                      <a:pt x="41" y="321"/>
                    </a:lnTo>
                    <a:lnTo>
                      <a:pt x="31" y="337"/>
                    </a:lnTo>
                    <a:lnTo>
                      <a:pt x="22" y="351"/>
                    </a:lnTo>
                    <a:lnTo>
                      <a:pt x="16" y="367"/>
                    </a:lnTo>
                    <a:lnTo>
                      <a:pt x="9" y="382"/>
                    </a:lnTo>
                    <a:lnTo>
                      <a:pt x="5" y="397"/>
                    </a:lnTo>
                    <a:lnTo>
                      <a:pt x="3" y="412"/>
                    </a:lnTo>
                    <a:lnTo>
                      <a:pt x="3" y="428"/>
                    </a:lnTo>
                    <a:lnTo>
                      <a:pt x="5" y="443"/>
                    </a:lnTo>
                    <a:lnTo>
                      <a:pt x="3" y="429"/>
                    </a:lnTo>
                    <a:lnTo>
                      <a:pt x="0" y="391"/>
                    </a:lnTo>
                    <a:lnTo>
                      <a:pt x="0" y="366"/>
                    </a:lnTo>
                    <a:lnTo>
                      <a:pt x="2" y="337"/>
                    </a:lnTo>
                    <a:lnTo>
                      <a:pt x="4" y="320"/>
                    </a:lnTo>
                    <a:lnTo>
                      <a:pt x="7" y="304"/>
                    </a:lnTo>
                    <a:lnTo>
                      <a:pt x="11" y="286"/>
                    </a:lnTo>
                    <a:lnTo>
                      <a:pt x="15" y="270"/>
                    </a:lnTo>
                    <a:lnTo>
                      <a:pt x="20" y="252"/>
                    </a:lnTo>
                    <a:lnTo>
                      <a:pt x="26" y="233"/>
                    </a:lnTo>
                    <a:lnTo>
                      <a:pt x="33" y="215"/>
                    </a:lnTo>
                    <a:lnTo>
                      <a:pt x="41" y="196"/>
                    </a:lnTo>
                    <a:lnTo>
                      <a:pt x="51" y="177"/>
                    </a:lnTo>
                    <a:lnTo>
                      <a:pt x="62" y="160"/>
                    </a:lnTo>
                    <a:lnTo>
                      <a:pt x="74" y="142"/>
                    </a:lnTo>
                    <a:lnTo>
                      <a:pt x="89" y="123"/>
                    </a:lnTo>
                    <a:lnTo>
                      <a:pt x="104" y="106"/>
                    </a:lnTo>
                    <a:lnTo>
                      <a:pt x="122" y="88"/>
                    </a:lnTo>
                    <a:lnTo>
                      <a:pt x="140" y="72"/>
                    </a:lnTo>
                    <a:lnTo>
                      <a:pt x="161" y="56"/>
                    </a:lnTo>
                    <a:lnTo>
                      <a:pt x="183" y="41"/>
                    </a:lnTo>
                    <a:lnTo>
                      <a:pt x="209" y="26"/>
                    </a:lnTo>
                    <a:lnTo>
                      <a:pt x="235" y="13"/>
                    </a:lnTo>
                    <a:lnTo>
                      <a:pt x="264" y="0"/>
                    </a:lnTo>
                    <a:lnTo>
                      <a:pt x="310" y="79"/>
                    </a:lnTo>
                    <a:close/>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2" name=""/>
              <p:cNvSpPr/>
              <p:nvPr/>
            </p:nvSpPr>
            <p:spPr>
              <a:xfrm>
                <a:off x="5476320" y="5097960"/>
                <a:ext cx="30240" cy="21240"/>
              </a:xfrm>
              <a:custGeom>
                <a:avLst/>
                <a:gdLst/>
                <a:ahLst/>
                <a:rect l="l" t="t" r="r" b="b"/>
                <a:pathLst>
                  <a:path w="1284" h="792">
                    <a:moveTo>
                      <a:pt x="1284" y="210"/>
                    </a:moveTo>
                    <a:lnTo>
                      <a:pt x="1282" y="206"/>
                    </a:lnTo>
                    <a:lnTo>
                      <a:pt x="1278" y="203"/>
                    </a:lnTo>
                    <a:lnTo>
                      <a:pt x="1269" y="198"/>
                    </a:lnTo>
                    <a:lnTo>
                      <a:pt x="1259" y="192"/>
                    </a:lnTo>
                    <a:lnTo>
                      <a:pt x="1231" y="177"/>
                    </a:lnTo>
                    <a:lnTo>
                      <a:pt x="1191" y="159"/>
                    </a:lnTo>
                    <a:lnTo>
                      <a:pt x="1142" y="139"/>
                    </a:lnTo>
                    <a:lnTo>
                      <a:pt x="1084" y="117"/>
                    </a:lnTo>
                    <a:lnTo>
                      <a:pt x="1052" y="107"/>
                    </a:lnTo>
                    <a:lnTo>
                      <a:pt x="1018" y="95"/>
                    </a:lnTo>
                    <a:lnTo>
                      <a:pt x="981" y="85"/>
                    </a:lnTo>
                    <a:lnTo>
                      <a:pt x="945" y="74"/>
                    </a:lnTo>
                    <a:lnTo>
                      <a:pt x="905" y="64"/>
                    </a:lnTo>
                    <a:lnTo>
                      <a:pt x="864" y="54"/>
                    </a:lnTo>
                    <a:lnTo>
                      <a:pt x="822" y="45"/>
                    </a:lnTo>
                    <a:lnTo>
                      <a:pt x="779" y="36"/>
                    </a:lnTo>
                    <a:lnTo>
                      <a:pt x="734" y="28"/>
                    </a:lnTo>
                    <a:lnTo>
                      <a:pt x="688" y="21"/>
                    </a:lnTo>
                    <a:lnTo>
                      <a:pt x="641" y="15"/>
                    </a:lnTo>
                    <a:lnTo>
                      <a:pt x="594" y="9"/>
                    </a:lnTo>
                    <a:lnTo>
                      <a:pt x="545" y="4"/>
                    </a:lnTo>
                    <a:lnTo>
                      <a:pt x="495" y="2"/>
                    </a:lnTo>
                    <a:lnTo>
                      <a:pt x="445" y="0"/>
                    </a:lnTo>
                    <a:lnTo>
                      <a:pt x="394" y="0"/>
                    </a:lnTo>
                    <a:lnTo>
                      <a:pt x="342" y="1"/>
                    </a:lnTo>
                    <a:lnTo>
                      <a:pt x="291" y="3"/>
                    </a:lnTo>
                    <a:lnTo>
                      <a:pt x="239" y="8"/>
                    </a:lnTo>
                    <a:lnTo>
                      <a:pt x="186" y="15"/>
                    </a:lnTo>
                    <a:lnTo>
                      <a:pt x="182" y="18"/>
                    </a:lnTo>
                    <a:lnTo>
                      <a:pt x="169" y="28"/>
                    </a:lnTo>
                    <a:lnTo>
                      <a:pt x="148" y="44"/>
                    </a:lnTo>
                    <a:lnTo>
                      <a:pt x="123" y="67"/>
                    </a:lnTo>
                    <a:lnTo>
                      <a:pt x="110" y="81"/>
                    </a:lnTo>
                    <a:lnTo>
                      <a:pt x="96" y="95"/>
                    </a:lnTo>
                    <a:lnTo>
                      <a:pt x="83" y="111"/>
                    </a:lnTo>
                    <a:lnTo>
                      <a:pt x="69" y="129"/>
                    </a:lnTo>
                    <a:lnTo>
                      <a:pt x="55" y="148"/>
                    </a:lnTo>
                    <a:lnTo>
                      <a:pt x="44" y="168"/>
                    </a:lnTo>
                    <a:lnTo>
                      <a:pt x="32" y="190"/>
                    </a:lnTo>
                    <a:lnTo>
                      <a:pt x="22" y="212"/>
                    </a:lnTo>
                    <a:lnTo>
                      <a:pt x="13" y="236"/>
                    </a:lnTo>
                    <a:lnTo>
                      <a:pt x="7" y="260"/>
                    </a:lnTo>
                    <a:lnTo>
                      <a:pt x="2" y="286"/>
                    </a:lnTo>
                    <a:lnTo>
                      <a:pt x="0" y="312"/>
                    </a:lnTo>
                    <a:lnTo>
                      <a:pt x="0" y="341"/>
                    </a:lnTo>
                    <a:lnTo>
                      <a:pt x="3" y="369"/>
                    </a:lnTo>
                    <a:lnTo>
                      <a:pt x="9" y="399"/>
                    </a:lnTo>
                    <a:lnTo>
                      <a:pt x="20" y="430"/>
                    </a:lnTo>
                    <a:lnTo>
                      <a:pt x="32" y="461"/>
                    </a:lnTo>
                    <a:lnTo>
                      <a:pt x="50" y="494"/>
                    </a:lnTo>
                    <a:lnTo>
                      <a:pt x="71" y="526"/>
                    </a:lnTo>
                    <a:lnTo>
                      <a:pt x="96" y="560"/>
                    </a:lnTo>
                    <a:lnTo>
                      <a:pt x="128" y="594"/>
                    </a:lnTo>
                    <a:lnTo>
                      <a:pt x="162" y="629"/>
                    </a:lnTo>
                    <a:lnTo>
                      <a:pt x="203" y="664"/>
                    </a:lnTo>
                    <a:lnTo>
                      <a:pt x="249" y="701"/>
                    </a:lnTo>
                    <a:lnTo>
                      <a:pt x="259" y="703"/>
                    </a:lnTo>
                    <a:lnTo>
                      <a:pt x="285" y="707"/>
                    </a:lnTo>
                    <a:lnTo>
                      <a:pt x="327" y="716"/>
                    </a:lnTo>
                    <a:lnTo>
                      <a:pt x="381" y="725"/>
                    </a:lnTo>
                    <a:lnTo>
                      <a:pt x="447" y="736"/>
                    </a:lnTo>
                    <a:lnTo>
                      <a:pt x="520" y="747"/>
                    </a:lnTo>
                    <a:lnTo>
                      <a:pt x="601" y="759"/>
                    </a:lnTo>
                    <a:lnTo>
                      <a:pt x="686" y="769"/>
                    </a:lnTo>
                    <a:lnTo>
                      <a:pt x="730" y="774"/>
                    </a:lnTo>
                    <a:lnTo>
                      <a:pt x="774" y="779"/>
                    </a:lnTo>
                    <a:lnTo>
                      <a:pt x="817" y="783"/>
                    </a:lnTo>
                    <a:lnTo>
                      <a:pt x="861" y="786"/>
                    </a:lnTo>
                    <a:lnTo>
                      <a:pt x="904" y="789"/>
                    </a:lnTo>
                    <a:lnTo>
                      <a:pt x="947" y="790"/>
                    </a:lnTo>
                    <a:lnTo>
                      <a:pt x="988" y="792"/>
                    </a:lnTo>
                    <a:lnTo>
                      <a:pt x="1027" y="792"/>
                    </a:lnTo>
                    <a:lnTo>
                      <a:pt x="1066" y="791"/>
                    </a:lnTo>
                    <a:lnTo>
                      <a:pt x="1103" y="789"/>
                    </a:lnTo>
                    <a:lnTo>
                      <a:pt x="1137" y="787"/>
                    </a:lnTo>
                    <a:lnTo>
                      <a:pt x="1170" y="783"/>
                    </a:lnTo>
                    <a:lnTo>
                      <a:pt x="1199" y="778"/>
                    </a:lnTo>
                    <a:lnTo>
                      <a:pt x="1225" y="770"/>
                    </a:lnTo>
                    <a:lnTo>
                      <a:pt x="1250" y="762"/>
                    </a:lnTo>
                    <a:lnTo>
                      <a:pt x="1269" y="752"/>
                    </a:lnTo>
                    <a:lnTo>
                      <a:pt x="1284" y="210"/>
                    </a:lnTo>
                    <a:close/>
                  </a:path>
                </a:pathLst>
              </a:custGeom>
              <a:solidFill>
                <a:srgbClr val="5382aa"/>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83" name=""/>
              <p:cNvSpPr/>
              <p:nvPr/>
            </p:nvSpPr>
            <p:spPr>
              <a:xfrm>
                <a:off x="5483880" y="5102640"/>
                <a:ext cx="10800" cy="11520"/>
              </a:xfrm>
              <a:custGeom>
                <a:avLst/>
                <a:gdLst/>
                <a:ahLst/>
                <a:rect l="l" t="t" r="r" b="b"/>
                <a:pathLst>
                  <a:path w="445" h="446">
                    <a:moveTo>
                      <a:pt x="222" y="446"/>
                    </a:moveTo>
                    <a:lnTo>
                      <a:pt x="233" y="445"/>
                    </a:lnTo>
                    <a:lnTo>
                      <a:pt x="245" y="445"/>
                    </a:lnTo>
                    <a:lnTo>
                      <a:pt x="255" y="443"/>
                    </a:lnTo>
                    <a:lnTo>
                      <a:pt x="267" y="441"/>
                    </a:lnTo>
                    <a:lnTo>
                      <a:pt x="277" y="439"/>
                    </a:lnTo>
                    <a:lnTo>
                      <a:pt x="288" y="436"/>
                    </a:lnTo>
                    <a:lnTo>
                      <a:pt x="298" y="433"/>
                    </a:lnTo>
                    <a:lnTo>
                      <a:pt x="309" y="428"/>
                    </a:lnTo>
                    <a:lnTo>
                      <a:pt x="318" y="424"/>
                    </a:lnTo>
                    <a:lnTo>
                      <a:pt x="328" y="419"/>
                    </a:lnTo>
                    <a:lnTo>
                      <a:pt x="337" y="414"/>
                    </a:lnTo>
                    <a:lnTo>
                      <a:pt x="347" y="407"/>
                    </a:lnTo>
                    <a:lnTo>
                      <a:pt x="363" y="395"/>
                    </a:lnTo>
                    <a:lnTo>
                      <a:pt x="380" y="380"/>
                    </a:lnTo>
                    <a:lnTo>
                      <a:pt x="394" y="364"/>
                    </a:lnTo>
                    <a:lnTo>
                      <a:pt x="406" y="348"/>
                    </a:lnTo>
                    <a:lnTo>
                      <a:pt x="418" y="329"/>
                    </a:lnTo>
                    <a:lnTo>
                      <a:pt x="427" y="310"/>
                    </a:lnTo>
                    <a:lnTo>
                      <a:pt x="431" y="299"/>
                    </a:lnTo>
                    <a:lnTo>
                      <a:pt x="435" y="289"/>
                    </a:lnTo>
                    <a:lnTo>
                      <a:pt x="438" y="278"/>
                    </a:lnTo>
                    <a:lnTo>
                      <a:pt x="441" y="268"/>
                    </a:lnTo>
                    <a:lnTo>
                      <a:pt x="442" y="256"/>
                    </a:lnTo>
                    <a:lnTo>
                      <a:pt x="444" y="246"/>
                    </a:lnTo>
                    <a:lnTo>
                      <a:pt x="445" y="234"/>
                    </a:lnTo>
                    <a:lnTo>
                      <a:pt x="445" y="223"/>
                    </a:lnTo>
                    <a:lnTo>
                      <a:pt x="445" y="211"/>
                    </a:lnTo>
                    <a:lnTo>
                      <a:pt x="444" y="200"/>
                    </a:lnTo>
                    <a:lnTo>
                      <a:pt x="442" y="189"/>
                    </a:lnTo>
                    <a:lnTo>
                      <a:pt x="441" y="178"/>
                    </a:lnTo>
                    <a:lnTo>
                      <a:pt x="438" y="167"/>
                    </a:lnTo>
                    <a:lnTo>
                      <a:pt x="435" y="157"/>
                    </a:lnTo>
                    <a:lnTo>
                      <a:pt x="431" y="146"/>
                    </a:lnTo>
                    <a:lnTo>
                      <a:pt x="427" y="136"/>
                    </a:lnTo>
                    <a:lnTo>
                      <a:pt x="418" y="117"/>
                    </a:lnTo>
                    <a:lnTo>
                      <a:pt x="406" y="98"/>
                    </a:lnTo>
                    <a:lnTo>
                      <a:pt x="394" y="81"/>
                    </a:lnTo>
                    <a:lnTo>
                      <a:pt x="380" y="66"/>
                    </a:lnTo>
                    <a:lnTo>
                      <a:pt x="363" y="51"/>
                    </a:lnTo>
                    <a:lnTo>
                      <a:pt x="347" y="38"/>
                    </a:lnTo>
                    <a:lnTo>
                      <a:pt x="328" y="27"/>
                    </a:lnTo>
                    <a:lnTo>
                      <a:pt x="309" y="17"/>
                    </a:lnTo>
                    <a:lnTo>
                      <a:pt x="298" y="13"/>
                    </a:lnTo>
                    <a:lnTo>
                      <a:pt x="288" y="10"/>
                    </a:lnTo>
                    <a:lnTo>
                      <a:pt x="277" y="7"/>
                    </a:lnTo>
                    <a:lnTo>
                      <a:pt x="267" y="5"/>
                    </a:lnTo>
                    <a:lnTo>
                      <a:pt x="255" y="3"/>
                    </a:lnTo>
                    <a:lnTo>
                      <a:pt x="245" y="1"/>
                    </a:lnTo>
                    <a:lnTo>
                      <a:pt x="233" y="1"/>
                    </a:lnTo>
                    <a:lnTo>
                      <a:pt x="222" y="0"/>
                    </a:lnTo>
                    <a:lnTo>
                      <a:pt x="210" y="1"/>
                    </a:lnTo>
                    <a:lnTo>
                      <a:pt x="199" y="1"/>
                    </a:lnTo>
                    <a:lnTo>
                      <a:pt x="188" y="3"/>
                    </a:lnTo>
                    <a:lnTo>
                      <a:pt x="177" y="5"/>
                    </a:lnTo>
                    <a:lnTo>
                      <a:pt x="166" y="7"/>
                    </a:lnTo>
                    <a:lnTo>
                      <a:pt x="156" y="10"/>
                    </a:lnTo>
                    <a:lnTo>
                      <a:pt x="145" y="13"/>
                    </a:lnTo>
                    <a:lnTo>
                      <a:pt x="136" y="17"/>
                    </a:lnTo>
                    <a:lnTo>
                      <a:pt x="116" y="27"/>
                    </a:lnTo>
                    <a:lnTo>
                      <a:pt x="97" y="38"/>
                    </a:lnTo>
                    <a:lnTo>
                      <a:pt x="81" y="51"/>
                    </a:lnTo>
                    <a:lnTo>
                      <a:pt x="65" y="66"/>
                    </a:lnTo>
                    <a:lnTo>
                      <a:pt x="50" y="81"/>
                    </a:lnTo>
                    <a:lnTo>
                      <a:pt x="38" y="98"/>
                    </a:lnTo>
                    <a:lnTo>
                      <a:pt x="31" y="108"/>
                    </a:lnTo>
                    <a:lnTo>
                      <a:pt x="26" y="117"/>
                    </a:lnTo>
                    <a:lnTo>
                      <a:pt x="21" y="126"/>
                    </a:lnTo>
                    <a:lnTo>
                      <a:pt x="17" y="136"/>
                    </a:lnTo>
                    <a:lnTo>
                      <a:pt x="12" y="146"/>
                    </a:lnTo>
                    <a:lnTo>
                      <a:pt x="9" y="157"/>
                    </a:lnTo>
                    <a:lnTo>
                      <a:pt x="6" y="167"/>
                    </a:lnTo>
                    <a:lnTo>
                      <a:pt x="4" y="178"/>
                    </a:lnTo>
                    <a:lnTo>
                      <a:pt x="2" y="189"/>
                    </a:lnTo>
                    <a:lnTo>
                      <a:pt x="1" y="200"/>
                    </a:lnTo>
                    <a:lnTo>
                      <a:pt x="0" y="211"/>
                    </a:lnTo>
                    <a:lnTo>
                      <a:pt x="0" y="223"/>
                    </a:lnTo>
                    <a:lnTo>
                      <a:pt x="0" y="234"/>
                    </a:lnTo>
                    <a:lnTo>
                      <a:pt x="1" y="246"/>
                    </a:lnTo>
                    <a:lnTo>
                      <a:pt x="2" y="256"/>
                    </a:lnTo>
                    <a:lnTo>
                      <a:pt x="4" y="268"/>
                    </a:lnTo>
                    <a:lnTo>
                      <a:pt x="6" y="278"/>
                    </a:lnTo>
                    <a:lnTo>
                      <a:pt x="9" y="289"/>
                    </a:lnTo>
                    <a:lnTo>
                      <a:pt x="12" y="299"/>
                    </a:lnTo>
                    <a:lnTo>
                      <a:pt x="17" y="310"/>
                    </a:lnTo>
                    <a:lnTo>
                      <a:pt x="21" y="319"/>
                    </a:lnTo>
                    <a:lnTo>
                      <a:pt x="26" y="329"/>
                    </a:lnTo>
                    <a:lnTo>
                      <a:pt x="31" y="338"/>
                    </a:lnTo>
                    <a:lnTo>
                      <a:pt x="38" y="348"/>
                    </a:lnTo>
                    <a:lnTo>
                      <a:pt x="44" y="356"/>
                    </a:lnTo>
                    <a:lnTo>
                      <a:pt x="50" y="364"/>
                    </a:lnTo>
                    <a:lnTo>
                      <a:pt x="57" y="373"/>
                    </a:lnTo>
                    <a:lnTo>
                      <a:pt x="65" y="380"/>
                    </a:lnTo>
                    <a:lnTo>
                      <a:pt x="72" y="387"/>
                    </a:lnTo>
                    <a:lnTo>
                      <a:pt x="81" y="395"/>
                    </a:lnTo>
                    <a:lnTo>
                      <a:pt x="89" y="402"/>
                    </a:lnTo>
                    <a:lnTo>
                      <a:pt x="97" y="407"/>
                    </a:lnTo>
                    <a:lnTo>
                      <a:pt x="107" y="414"/>
                    </a:lnTo>
                    <a:lnTo>
                      <a:pt x="116" y="419"/>
                    </a:lnTo>
                    <a:lnTo>
                      <a:pt x="126" y="424"/>
                    </a:lnTo>
                    <a:lnTo>
                      <a:pt x="136" y="428"/>
                    </a:lnTo>
                    <a:lnTo>
                      <a:pt x="145" y="433"/>
                    </a:lnTo>
                    <a:lnTo>
                      <a:pt x="156" y="436"/>
                    </a:lnTo>
                    <a:lnTo>
                      <a:pt x="166" y="439"/>
                    </a:lnTo>
                    <a:lnTo>
                      <a:pt x="177" y="441"/>
                    </a:lnTo>
                    <a:lnTo>
                      <a:pt x="188" y="443"/>
                    </a:lnTo>
                    <a:lnTo>
                      <a:pt x="199" y="445"/>
                    </a:lnTo>
                    <a:lnTo>
                      <a:pt x="210" y="445"/>
                    </a:lnTo>
                    <a:lnTo>
                      <a:pt x="222" y="446"/>
                    </a:lnTo>
                    <a:close/>
                  </a:path>
                </a:pathLst>
              </a:custGeom>
              <a:solidFill>
                <a:srgbClr val="9abcda"/>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4" name=""/>
              <p:cNvSpPr/>
              <p:nvPr/>
            </p:nvSpPr>
            <p:spPr>
              <a:xfrm>
                <a:off x="5245560" y="5131080"/>
                <a:ext cx="152640" cy="150120"/>
              </a:xfrm>
              <a:custGeom>
                <a:avLst/>
                <a:gdLst/>
                <a:ahLst/>
                <a:rect l="l" t="t" r="r" b="b"/>
                <a:pathLst>
                  <a:path w="6418" h="5629">
                    <a:moveTo>
                      <a:pt x="5467" y="863"/>
                    </a:moveTo>
                    <a:lnTo>
                      <a:pt x="5458" y="869"/>
                    </a:lnTo>
                    <a:lnTo>
                      <a:pt x="5434" y="884"/>
                    </a:lnTo>
                    <a:lnTo>
                      <a:pt x="5396" y="911"/>
                    </a:lnTo>
                    <a:lnTo>
                      <a:pt x="5343" y="945"/>
                    </a:lnTo>
                    <a:lnTo>
                      <a:pt x="5278" y="990"/>
                    </a:lnTo>
                    <a:lnTo>
                      <a:pt x="5202" y="1043"/>
                    </a:lnTo>
                    <a:lnTo>
                      <a:pt x="5115" y="1104"/>
                    </a:lnTo>
                    <a:lnTo>
                      <a:pt x="5018" y="1175"/>
                    </a:lnTo>
                    <a:lnTo>
                      <a:pt x="4914" y="1251"/>
                    </a:lnTo>
                    <a:lnTo>
                      <a:pt x="4802" y="1336"/>
                    </a:lnTo>
                    <a:lnTo>
                      <a:pt x="4683" y="1426"/>
                    </a:lnTo>
                    <a:lnTo>
                      <a:pt x="4560" y="1524"/>
                    </a:lnTo>
                    <a:lnTo>
                      <a:pt x="4497" y="1575"/>
                    </a:lnTo>
                    <a:lnTo>
                      <a:pt x="4432" y="1627"/>
                    </a:lnTo>
                    <a:lnTo>
                      <a:pt x="4367" y="1681"/>
                    </a:lnTo>
                    <a:lnTo>
                      <a:pt x="4302" y="1736"/>
                    </a:lnTo>
                    <a:lnTo>
                      <a:pt x="4236" y="1792"/>
                    </a:lnTo>
                    <a:lnTo>
                      <a:pt x="4169" y="1850"/>
                    </a:lnTo>
                    <a:lnTo>
                      <a:pt x="4103" y="1909"/>
                    </a:lnTo>
                    <a:lnTo>
                      <a:pt x="4036" y="1969"/>
                    </a:lnTo>
                    <a:lnTo>
                      <a:pt x="3992" y="2009"/>
                    </a:lnTo>
                    <a:lnTo>
                      <a:pt x="3948" y="2050"/>
                    </a:lnTo>
                    <a:lnTo>
                      <a:pt x="3905" y="2091"/>
                    </a:lnTo>
                    <a:lnTo>
                      <a:pt x="3862" y="2133"/>
                    </a:lnTo>
                    <a:lnTo>
                      <a:pt x="3777" y="2217"/>
                    </a:lnTo>
                    <a:lnTo>
                      <a:pt x="3693" y="2303"/>
                    </a:lnTo>
                    <a:lnTo>
                      <a:pt x="3611" y="2390"/>
                    </a:lnTo>
                    <a:lnTo>
                      <a:pt x="3529" y="2480"/>
                    </a:lnTo>
                    <a:lnTo>
                      <a:pt x="3447" y="2570"/>
                    </a:lnTo>
                    <a:lnTo>
                      <a:pt x="3368" y="2661"/>
                    </a:lnTo>
                    <a:lnTo>
                      <a:pt x="3287" y="2752"/>
                    </a:lnTo>
                    <a:lnTo>
                      <a:pt x="3208" y="2845"/>
                    </a:lnTo>
                    <a:lnTo>
                      <a:pt x="3129" y="2939"/>
                    </a:lnTo>
                    <a:lnTo>
                      <a:pt x="3049" y="3033"/>
                    </a:lnTo>
                    <a:lnTo>
                      <a:pt x="2971" y="3127"/>
                    </a:lnTo>
                    <a:lnTo>
                      <a:pt x="2891" y="3223"/>
                    </a:lnTo>
                    <a:lnTo>
                      <a:pt x="2811" y="3318"/>
                    </a:lnTo>
                    <a:lnTo>
                      <a:pt x="2732" y="3413"/>
                    </a:lnTo>
                    <a:lnTo>
                      <a:pt x="2688" y="3466"/>
                    </a:lnTo>
                    <a:lnTo>
                      <a:pt x="2645" y="3518"/>
                    </a:lnTo>
                    <a:lnTo>
                      <a:pt x="2603" y="3572"/>
                    </a:lnTo>
                    <a:lnTo>
                      <a:pt x="2561" y="3625"/>
                    </a:lnTo>
                    <a:lnTo>
                      <a:pt x="2520" y="3679"/>
                    </a:lnTo>
                    <a:lnTo>
                      <a:pt x="2480" y="3732"/>
                    </a:lnTo>
                    <a:lnTo>
                      <a:pt x="2441" y="3785"/>
                    </a:lnTo>
                    <a:lnTo>
                      <a:pt x="2402" y="3839"/>
                    </a:lnTo>
                    <a:lnTo>
                      <a:pt x="2325" y="3947"/>
                    </a:lnTo>
                    <a:lnTo>
                      <a:pt x="2251" y="4054"/>
                    </a:lnTo>
                    <a:lnTo>
                      <a:pt x="2178" y="4160"/>
                    </a:lnTo>
                    <a:lnTo>
                      <a:pt x="2107" y="4264"/>
                    </a:lnTo>
                    <a:lnTo>
                      <a:pt x="2037" y="4367"/>
                    </a:lnTo>
                    <a:lnTo>
                      <a:pt x="1969" y="4468"/>
                    </a:lnTo>
                    <a:lnTo>
                      <a:pt x="1902" y="4566"/>
                    </a:lnTo>
                    <a:lnTo>
                      <a:pt x="1836" y="4662"/>
                    </a:lnTo>
                    <a:lnTo>
                      <a:pt x="1770" y="4754"/>
                    </a:lnTo>
                    <a:lnTo>
                      <a:pt x="1705" y="4842"/>
                    </a:lnTo>
                    <a:lnTo>
                      <a:pt x="1673" y="4885"/>
                    </a:lnTo>
                    <a:lnTo>
                      <a:pt x="1640" y="4927"/>
                    </a:lnTo>
                    <a:lnTo>
                      <a:pt x="1608" y="4967"/>
                    </a:lnTo>
                    <a:lnTo>
                      <a:pt x="1575" y="5006"/>
                    </a:lnTo>
                    <a:lnTo>
                      <a:pt x="1525" y="5065"/>
                    </a:lnTo>
                    <a:lnTo>
                      <a:pt x="1475" y="5122"/>
                    </a:lnTo>
                    <a:lnTo>
                      <a:pt x="1424" y="5175"/>
                    </a:lnTo>
                    <a:lnTo>
                      <a:pt x="1375" y="5226"/>
                    </a:lnTo>
                    <a:lnTo>
                      <a:pt x="1326" y="5275"/>
                    </a:lnTo>
                    <a:lnTo>
                      <a:pt x="1277" y="5321"/>
                    </a:lnTo>
                    <a:lnTo>
                      <a:pt x="1228" y="5364"/>
                    </a:lnTo>
                    <a:lnTo>
                      <a:pt x="1179" y="5404"/>
                    </a:lnTo>
                    <a:lnTo>
                      <a:pt x="1131" y="5440"/>
                    </a:lnTo>
                    <a:lnTo>
                      <a:pt x="1083" y="5474"/>
                    </a:lnTo>
                    <a:lnTo>
                      <a:pt x="1036" y="5505"/>
                    </a:lnTo>
                    <a:lnTo>
                      <a:pt x="988" y="5533"/>
                    </a:lnTo>
                    <a:lnTo>
                      <a:pt x="940" y="5557"/>
                    </a:lnTo>
                    <a:lnTo>
                      <a:pt x="893" y="5578"/>
                    </a:lnTo>
                    <a:lnTo>
                      <a:pt x="846" y="5595"/>
                    </a:lnTo>
                    <a:lnTo>
                      <a:pt x="799" y="5609"/>
                    </a:lnTo>
                    <a:lnTo>
                      <a:pt x="753" y="5620"/>
                    </a:lnTo>
                    <a:lnTo>
                      <a:pt x="706" y="5626"/>
                    </a:lnTo>
                    <a:lnTo>
                      <a:pt x="660" y="5629"/>
                    </a:lnTo>
                    <a:lnTo>
                      <a:pt x="614" y="5628"/>
                    </a:lnTo>
                    <a:lnTo>
                      <a:pt x="568" y="5624"/>
                    </a:lnTo>
                    <a:lnTo>
                      <a:pt x="521" y="5615"/>
                    </a:lnTo>
                    <a:lnTo>
                      <a:pt x="475" y="5603"/>
                    </a:lnTo>
                    <a:lnTo>
                      <a:pt x="429" y="5586"/>
                    </a:lnTo>
                    <a:lnTo>
                      <a:pt x="383" y="5565"/>
                    </a:lnTo>
                    <a:lnTo>
                      <a:pt x="338" y="5541"/>
                    </a:lnTo>
                    <a:lnTo>
                      <a:pt x="292" y="5512"/>
                    </a:lnTo>
                    <a:lnTo>
                      <a:pt x="246" y="5478"/>
                    </a:lnTo>
                    <a:lnTo>
                      <a:pt x="201" y="5440"/>
                    </a:lnTo>
                    <a:lnTo>
                      <a:pt x="156" y="5397"/>
                    </a:lnTo>
                    <a:lnTo>
                      <a:pt x="110" y="5350"/>
                    </a:lnTo>
                    <a:lnTo>
                      <a:pt x="65" y="5299"/>
                    </a:lnTo>
                    <a:lnTo>
                      <a:pt x="61" y="5297"/>
                    </a:lnTo>
                    <a:lnTo>
                      <a:pt x="53" y="5291"/>
                    </a:lnTo>
                    <a:lnTo>
                      <a:pt x="45" y="5281"/>
                    </a:lnTo>
                    <a:lnTo>
                      <a:pt x="34" y="5265"/>
                    </a:lnTo>
                    <a:lnTo>
                      <a:pt x="29" y="5255"/>
                    </a:lnTo>
                    <a:lnTo>
                      <a:pt x="25" y="5243"/>
                    </a:lnTo>
                    <a:lnTo>
                      <a:pt x="20" y="5231"/>
                    </a:lnTo>
                    <a:lnTo>
                      <a:pt x="14" y="5216"/>
                    </a:lnTo>
                    <a:lnTo>
                      <a:pt x="10" y="5200"/>
                    </a:lnTo>
                    <a:lnTo>
                      <a:pt x="6" y="5182"/>
                    </a:lnTo>
                    <a:lnTo>
                      <a:pt x="3" y="5163"/>
                    </a:lnTo>
                    <a:lnTo>
                      <a:pt x="0" y="5141"/>
                    </a:lnTo>
                    <a:lnTo>
                      <a:pt x="45" y="5192"/>
                    </a:lnTo>
                    <a:lnTo>
                      <a:pt x="90" y="5238"/>
                    </a:lnTo>
                    <a:lnTo>
                      <a:pt x="136" y="5280"/>
                    </a:lnTo>
                    <a:lnTo>
                      <a:pt x="181" y="5317"/>
                    </a:lnTo>
                    <a:lnTo>
                      <a:pt x="226" y="5350"/>
                    </a:lnTo>
                    <a:lnTo>
                      <a:pt x="272" y="5378"/>
                    </a:lnTo>
                    <a:lnTo>
                      <a:pt x="317" y="5403"/>
                    </a:lnTo>
                    <a:lnTo>
                      <a:pt x="363" y="5422"/>
                    </a:lnTo>
                    <a:lnTo>
                      <a:pt x="408" y="5439"/>
                    </a:lnTo>
                    <a:lnTo>
                      <a:pt x="454" y="5451"/>
                    </a:lnTo>
                    <a:lnTo>
                      <a:pt x="501" y="5459"/>
                    </a:lnTo>
                    <a:lnTo>
                      <a:pt x="547" y="5463"/>
                    </a:lnTo>
                    <a:lnTo>
                      <a:pt x="593" y="5463"/>
                    </a:lnTo>
                    <a:lnTo>
                      <a:pt x="639" y="5460"/>
                    </a:lnTo>
                    <a:lnTo>
                      <a:pt x="685" y="5454"/>
                    </a:lnTo>
                    <a:lnTo>
                      <a:pt x="732" y="5443"/>
                    </a:lnTo>
                    <a:lnTo>
                      <a:pt x="778" y="5429"/>
                    </a:lnTo>
                    <a:lnTo>
                      <a:pt x="825" y="5411"/>
                    </a:lnTo>
                    <a:lnTo>
                      <a:pt x="872" y="5390"/>
                    </a:lnTo>
                    <a:lnTo>
                      <a:pt x="920" y="5366"/>
                    </a:lnTo>
                    <a:lnTo>
                      <a:pt x="967" y="5339"/>
                    </a:lnTo>
                    <a:lnTo>
                      <a:pt x="1015" y="5308"/>
                    </a:lnTo>
                    <a:lnTo>
                      <a:pt x="1062" y="5274"/>
                    </a:lnTo>
                    <a:lnTo>
                      <a:pt x="1110" y="5237"/>
                    </a:lnTo>
                    <a:lnTo>
                      <a:pt x="1158" y="5197"/>
                    </a:lnTo>
                    <a:lnTo>
                      <a:pt x="1208" y="5155"/>
                    </a:lnTo>
                    <a:lnTo>
                      <a:pt x="1256" y="5109"/>
                    </a:lnTo>
                    <a:lnTo>
                      <a:pt x="1305" y="5061"/>
                    </a:lnTo>
                    <a:lnTo>
                      <a:pt x="1354" y="5010"/>
                    </a:lnTo>
                    <a:lnTo>
                      <a:pt x="1405" y="4956"/>
                    </a:lnTo>
                    <a:lnTo>
                      <a:pt x="1455" y="4899"/>
                    </a:lnTo>
                    <a:lnTo>
                      <a:pt x="1505" y="4841"/>
                    </a:lnTo>
                    <a:lnTo>
                      <a:pt x="1537" y="4802"/>
                    </a:lnTo>
                    <a:lnTo>
                      <a:pt x="1569" y="4761"/>
                    </a:lnTo>
                    <a:lnTo>
                      <a:pt x="1601" y="4720"/>
                    </a:lnTo>
                    <a:lnTo>
                      <a:pt x="1634" y="4677"/>
                    </a:lnTo>
                    <a:lnTo>
                      <a:pt x="1700" y="4589"/>
                    </a:lnTo>
                    <a:lnTo>
                      <a:pt x="1765" y="4497"/>
                    </a:lnTo>
                    <a:lnTo>
                      <a:pt x="1832" y="4402"/>
                    </a:lnTo>
                    <a:lnTo>
                      <a:pt x="1899" y="4303"/>
                    </a:lnTo>
                    <a:lnTo>
                      <a:pt x="1967" y="4203"/>
                    </a:lnTo>
                    <a:lnTo>
                      <a:pt x="2036" y="4099"/>
                    </a:lnTo>
                    <a:lnTo>
                      <a:pt x="2107" y="3995"/>
                    </a:lnTo>
                    <a:lnTo>
                      <a:pt x="2180" y="3888"/>
                    </a:lnTo>
                    <a:lnTo>
                      <a:pt x="2254" y="3781"/>
                    </a:lnTo>
                    <a:lnTo>
                      <a:pt x="2331" y="3674"/>
                    </a:lnTo>
                    <a:lnTo>
                      <a:pt x="2370" y="3621"/>
                    </a:lnTo>
                    <a:lnTo>
                      <a:pt x="2409" y="3566"/>
                    </a:lnTo>
                    <a:lnTo>
                      <a:pt x="2450" y="3513"/>
                    </a:lnTo>
                    <a:lnTo>
                      <a:pt x="2491" y="3459"/>
                    </a:lnTo>
                    <a:lnTo>
                      <a:pt x="2532" y="3407"/>
                    </a:lnTo>
                    <a:lnTo>
                      <a:pt x="2575" y="3354"/>
                    </a:lnTo>
                    <a:lnTo>
                      <a:pt x="2618" y="3301"/>
                    </a:lnTo>
                    <a:lnTo>
                      <a:pt x="2660" y="3249"/>
                    </a:lnTo>
                    <a:lnTo>
                      <a:pt x="2741" y="3153"/>
                    </a:lnTo>
                    <a:lnTo>
                      <a:pt x="2821" y="3058"/>
                    </a:lnTo>
                    <a:lnTo>
                      <a:pt x="2899" y="2963"/>
                    </a:lnTo>
                    <a:lnTo>
                      <a:pt x="2979" y="2868"/>
                    </a:lnTo>
                    <a:lnTo>
                      <a:pt x="3057" y="2774"/>
                    </a:lnTo>
                    <a:lnTo>
                      <a:pt x="3137" y="2681"/>
                    </a:lnTo>
                    <a:lnTo>
                      <a:pt x="3217" y="2587"/>
                    </a:lnTo>
                    <a:lnTo>
                      <a:pt x="3296" y="2495"/>
                    </a:lnTo>
                    <a:lnTo>
                      <a:pt x="3377" y="2404"/>
                    </a:lnTo>
                    <a:lnTo>
                      <a:pt x="3458" y="2315"/>
                    </a:lnTo>
                    <a:lnTo>
                      <a:pt x="3539" y="2226"/>
                    </a:lnTo>
                    <a:lnTo>
                      <a:pt x="3622" y="2138"/>
                    </a:lnTo>
                    <a:lnTo>
                      <a:pt x="3706" y="2052"/>
                    </a:lnTo>
                    <a:lnTo>
                      <a:pt x="3791" y="1968"/>
                    </a:lnTo>
                    <a:lnTo>
                      <a:pt x="3834" y="1926"/>
                    </a:lnTo>
                    <a:lnTo>
                      <a:pt x="3878" y="1885"/>
                    </a:lnTo>
                    <a:lnTo>
                      <a:pt x="3921" y="1844"/>
                    </a:lnTo>
                    <a:lnTo>
                      <a:pt x="3965" y="1804"/>
                    </a:lnTo>
                    <a:lnTo>
                      <a:pt x="4032" y="1744"/>
                    </a:lnTo>
                    <a:lnTo>
                      <a:pt x="4099" y="1685"/>
                    </a:lnTo>
                    <a:lnTo>
                      <a:pt x="4165" y="1627"/>
                    </a:lnTo>
                    <a:lnTo>
                      <a:pt x="4231" y="1571"/>
                    </a:lnTo>
                    <a:lnTo>
                      <a:pt x="4297" y="1516"/>
                    </a:lnTo>
                    <a:lnTo>
                      <a:pt x="4362" y="1462"/>
                    </a:lnTo>
                    <a:lnTo>
                      <a:pt x="4426" y="1410"/>
                    </a:lnTo>
                    <a:lnTo>
                      <a:pt x="4489" y="1359"/>
                    </a:lnTo>
                    <a:lnTo>
                      <a:pt x="4613" y="1262"/>
                    </a:lnTo>
                    <a:lnTo>
                      <a:pt x="4730" y="1170"/>
                    </a:lnTo>
                    <a:lnTo>
                      <a:pt x="4842" y="1087"/>
                    </a:lnTo>
                    <a:lnTo>
                      <a:pt x="4947" y="1009"/>
                    </a:lnTo>
                    <a:lnTo>
                      <a:pt x="5044" y="940"/>
                    </a:lnTo>
                    <a:lnTo>
                      <a:pt x="5130" y="878"/>
                    </a:lnTo>
                    <a:lnTo>
                      <a:pt x="5207" y="825"/>
                    </a:lnTo>
                    <a:lnTo>
                      <a:pt x="5272" y="781"/>
                    </a:lnTo>
                    <a:lnTo>
                      <a:pt x="5324" y="745"/>
                    </a:lnTo>
                    <a:lnTo>
                      <a:pt x="5363" y="720"/>
                    </a:lnTo>
                    <a:lnTo>
                      <a:pt x="5387" y="704"/>
                    </a:lnTo>
                    <a:lnTo>
                      <a:pt x="5396" y="698"/>
                    </a:lnTo>
                    <a:lnTo>
                      <a:pt x="5430" y="699"/>
                    </a:lnTo>
                    <a:lnTo>
                      <a:pt x="5466" y="698"/>
                    </a:lnTo>
                    <a:lnTo>
                      <a:pt x="5502" y="695"/>
                    </a:lnTo>
                    <a:lnTo>
                      <a:pt x="5541" y="689"/>
                    </a:lnTo>
                    <a:lnTo>
                      <a:pt x="5580" y="682"/>
                    </a:lnTo>
                    <a:lnTo>
                      <a:pt x="5620" y="674"/>
                    </a:lnTo>
                    <a:lnTo>
                      <a:pt x="5661" y="662"/>
                    </a:lnTo>
                    <a:lnTo>
                      <a:pt x="5701" y="650"/>
                    </a:lnTo>
                    <a:lnTo>
                      <a:pt x="5742" y="636"/>
                    </a:lnTo>
                    <a:lnTo>
                      <a:pt x="5784" y="620"/>
                    </a:lnTo>
                    <a:lnTo>
                      <a:pt x="5825" y="603"/>
                    </a:lnTo>
                    <a:lnTo>
                      <a:pt x="5866" y="585"/>
                    </a:lnTo>
                    <a:lnTo>
                      <a:pt x="5907" y="565"/>
                    </a:lnTo>
                    <a:lnTo>
                      <a:pt x="5946" y="543"/>
                    </a:lnTo>
                    <a:lnTo>
                      <a:pt x="5985" y="521"/>
                    </a:lnTo>
                    <a:lnTo>
                      <a:pt x="6023" y="497"/>
                    </a:lnTo>
                    <a:lnTo>
                      <a:pt x="6060" y="471"/>
                    </a:lnTo>
                    <a:lnTo>
                      <a:pt x="6095" y="445"/>
                    </a:lnTo>
                    <a:lnTo>
                      <a:pt x="6129" y="418"/>
                    </a:lnTo>
                    <a:lnTo>
                      <a:pt x="6161" y="390"/>
                    </a:lnTo>
                    <a:lnTo>
                      <a:pt x="6192" y="361"/>
                    </a:lnTo>
                    <a:lnTo>
                      <a:pt x="6219" y="331"/>
                    </a:lnTo>
                    <a:lnTo>
                      <a:pt x="6245" y="301"/>
                    </a:lnTo>
                    <a:lnTo>
                      <a:pt x="6268" y="269"/>
                    </a:lnTo>
                    <a:lnTo>
                      <a:pt x="6289" y="237"/>
                    </a:lnTo>
                    <a:lnTo>
                      <a:pt x="6307" y="204"/>
                    </a:lnTo>
                    <a:lnTo>
                      <a:pt x="6321" y="172"/>
                    </a:lnTo>
                    <a:lnTo>
                      <a:pt x="6333" y="137"/>
                    </a:lnTo>
                    <a:lnTo>
                      <a:pt x="6341" y="104"/>
                    </a:lnTo>
                    <a:lnTo>
                      <a:pt x="6347" y="69"/>
                    </a:lnTo>
                    <a:lnTo>
                      <a:pt x="6348" y="34"/>
                    </a:lnTo>
                    <a:lnTo>
                      <a:pt x="6345" y="0"/>
                    </a:lnTo>
                    <a:lnTo>
                      <a:pt x="6372" y="40"/>
                    </a:lnTo>
                    <a:lnTo>
                      <a:pt x="6392" y="80"/>
                    </a:lnTo>
                    <a:lnTo>
                      <a:pt x="6406" y="120"/>
                    </a:lnTo>
                    <a:lnTo>
                      <a:pt x="6415" y="161"/>
                    </a:lnTo>
                    <a:lnTo>
                      <a:pt x="6418" y="201"/>
                    </a:lnTo>
                    <a:lnTo>
                      <a:pt x="6417" y="241"/>
                    </a:lnTo>
                    <a:lnTo>
                      <a:pt x="6411" y="280"/>
                    </a:lnTo>
                    <a:lnTo>
                      <a:pt x="6399" y="318"/>
                    </a:lnTo>
                    <a:lnTo>
                      <a:pt x="6383" y="357"/>
                    </a:lnTo>
                    <a:lnTo>
                      <a:pt x="6364" y="395"/>
                    </a:lnTo>
                    <a:lnTo>
                      <a:pt x="6340" y="432"/>
                    </a:lnTo>
                    <a:lnTo>
                      <a:pt x="6314" y="467"/>
                    </a:lnTo>
                    <a:lnTo>
                      <a:pt x="6284" y="503"/>
                    </a:lnTo>
                    <a:lnTo>
                      <a:pt x="6251" y="536"/>
                    </a:lnTo>
                    <a:lnTo>
                      <a:pt x="6216" y="569"/>
                    </a:lnTo>
                    <a:lnTo>
                      <a:pt x="6178" y="600"/>
                    </a:lnTo>
                    <a:lnTo>
                      <a:pt x="6137" y="631"/>
                    </a:lnTo>
                    <a:lnTo>
                      <a:pt x="6095" y="660"/>
                    </a:lnTo>
                    <a:lnTo>
                      <a:pt x="6052" y="687"/>
                    </a:lnTo>
                    <a:lnTo>
                      <a:pt x="6007" y="714"/>
                    </a:lnTo>
                    <a:lnTo>
                      <a:pt x="5961" y="738"/>
                    </a:lnTo>
                    <a:lnTo>
                      <a:pt x="5915" y="760"/>
                    </a:lnTo>
                    <a:lnTo>
                      <a:pt x="5868" y="780"/>
                    </a:lnTo>
                    <a:lnTo>
                      <a:pt x="5821" y="798"/>
                    </a:lnTo>
                    <a:lnTo>
                      <a:pt x="5773" y="814"/>
                    </a:lnTo>
                    <a:lnTo>
                      <a:pt x="5727" y="829"/>
                    </a:lnTo>
                    <a:lnTo>
                      <a:pt x="5679" y="840"/>
                    </a:lnTo>
                    <a:lnTo>
                      <a:pt x="5634" y="850"/>
                    </a:lnTo>
                    <a:lnTo>
                      <a:pt x="5590" y="857"/>
                    </a:lnTo>
                    <a:lnTo>
                      <a:pt x="5547" y="862"/>
                    </a:lnTo>
                    <a:lnTo>
                      <a:pt x="5505" y="864"/>
                    </a:lnTo>
                    <a:lnTo>
                      <a:pt x="5467" y="863"/>
                    </a:lnTo>
                    <a:close/>
                  </a:path>
                </a:pathLst>
              </a:custGeom>
              <a:solidFill>
                <a:srgbClr val="315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5" name="" descr=""/>
            <p:cNvPicPr/>
            <p:nvPr/>
          </p:nvPicPr>
          <p:blipFill>
            <a:blip r:embed="rId7"/>
            <a:stretch/>
          </p:blipFill>
          <p:spPr>
            <a:xfrm>
              <a:off x="3066120" y="5120640"/>
              <a:ext cx="576360" cy="219240"/>
            </a:xfrm>
            <a:prstGeom prst="rect">
              <a:avLst/>
            </a:prstGeom>
            <a:ln w="0">
              <a:noFill/>
            </a:ln>
          </p:spPr>
        </p:pic>
        <p:grpSp>
          <p:nvGrpSpPr>
            <p:cNvPr id="186" name=""/>
            <p:cNvGrpSpPr/>
            <p:nvPr/>
          </p:nvGrpSpPr>
          <p:grpSpPr>
            <a:xfrm>
              <a:off x="4640400" y="1927800"/>
              <a:ext cx="320760" cy="371520"/>
              <a:chOff x="4640400" y="1927800"/>
              <a:chExt cx="320760" cy="371520"/>
            </a:xfrm>
          </p:grpSpPr>
          <p:sp>
            <p:nvSpPr>
              <p:cNvPr id="187" name=""/>
              <p:cNvSpPr/>
              <p:nvPr/>
            </p:nvSpPr>
            <p:spPr>
              <a:xfrm>
                <a:off x="4642200" y="2061360"/>
                <a:ext cx="317880" cy="24480"/>
              </a:xfrm>
              <a:custGeom>
                <a:avLst/>
                <a:gdLst/>
                <a:ahLst/>
                <a:rect l="l" t="t" r="r" b="b"/>
                <a:pathLst>
                  <a:path w="127" h="13">
                    <a:moveTo>
                      <a:pt x="0" y="13"/>
                    </a:moveTo>
                    <a:lnTo>
                      <a:pt x="14" y="0"/>
                    </a:lnTo>
                    <a:lnTo>
                      <a:pt x="127" y="0"/>
                    </a:lnTo>
                    <a:lnTo>
                      <a:pt x="113" y="13"/>
                    </a:lnTo>
                    <a:lnTo>
                      <a:pt x="0" y="13"/>
                    </a:lnTo>
                  </a:path>
                </a:pathLst>
              </a:custGeom>
              <a:solidFill>
                <a:srgbClr val="bcb1d5"/>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88" name=""/>
              <p:cNvSpPr/>
              <p:nvPr/>
            </p:nvSpPr>
            <p:spPr>
              <a:xfrm>
                <a:off x="4640400" y="1960560"/>
                <a:ext cx="286200" cy="123840"/>
              </a:xfrm>
              <a:prstGeom prst="rect">
                <a:avLst/>
              </a:pr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926600" y="1927800"/>
                <a:ext cx="32040" cy="159480"/>
              </a:xfrm>
              <a:custGeom>
                <a:avLst/>
                <a:gdLst/>
                <a:ahLst/>
                <a:rect l="l" t="t" r="r" b="b"/>
                <a:pathLst>
                  <a:path w="37" h="234">
                    <a:moveTo>
                      <a:pt x="4" y="229"/>
                    </a:moveTo>
                    <a:lnTo>
                      <a:pt x="37" y="199"/>
                    </a:lnTo>
                    <a:lnTo>
                      <a:pt x="37" y="0"/>
                    </a:lnTo>
                    <a:lnTo>
                      <a:pt x="1" y="44"/>
                    </a:lnTo>
                    <a:lnTo>
                      <a:pt x="0" y="234"/>
                    </a:lnTo>
                  </a:path>
                </a:pathLst>
              </a:custGeom>
              <a:solidFill>
                <a:srgbClr val="60c2ca"/>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0" name=""/>
              <p:cNvSpPr/>
              <p:nvPr/>
            </p:nvSpPr>
            <p:spPr>
              <a:xfrm>
                <a:off x="4640400" y="1927800"/>
                <a:ext cx="320760" cy="31680"/>
              </a:xfrm>
              <a:custGeom>
                <a:avLst/>
                <a:gdLst/>
                <a:ahLst/>
                <a:rect l="l" t="t" r="r" b="b"/>
                <a:pathLst>
                  <a:path w="358" h="47">
                    <a:moveTo>
                      <a:pt x="320" y="46"/>
                    </a:moveTo>
                    <a:lnTo>
                      <a:pt x="358" y="0"/>
                    </a:lnTo>
                    <a:lnTo>
                      <a:pt x="60" y="0"/>
                    </a:lnTo>
                    <a:lnTo>
                      <a:pt x="0" y="47"/>
                    </a:lnTo>
                    <a:lnTo>
                      <a:pt x="312" y="47"/>
                    </a:lnTo>
                  </a:path>
                </a:pathLst>
              </a:custGeom>
              <a:solidFill>
                <a:srgbClr val="60c2ca"/>
              </a:solidFill>
              <a:ln w="0">
                <a:noFill/>
              </a:ln>
            </p:spPr>
            <p:style>
              <a:lnRef idx="0"/>
              <a:fillRef idx="0"/>
              <a:effectRef idx="0"/>
              <a:fontRef idx="minor"/>
            </p:style>
            <p:txBody>
              <a:bodyPr tIns="-14040" bIns="-14040" anchor="t">
                <a:noAutofit/>
              </a:bodyPr>
              <a:p>
                <a:endParaRPr b="0" lang="en-US" sz="1800" spc="-1" strike="noStrike">
                  <a:solidFill>
                    <a:srgbClr val="000000"/>
                  </a:solidFill>
                  <a:latin typeface="Arial"/>
                </a:endParaRPr>
              </a:p>
            </p:txBody>
          </p:sp>
          <p:grpSp>
            <p:nvGrpSpPr>
              <p:cNvPr id="191" name=""/>
              <p:cNvGrpSpPr/>
              <p:nvPr/>
            </p:nvGrpSpPr>
            <p:grpSpPr>
              <a:xfrm>
                <a:off x="4668840" y="1969560"/>
                <a:ext cx="230400" cy="110160"/>
                <a:chOff x="4668840" y="1969560"/>
                <a:chExt cx="230400" cy="110160"/>
              </a:xfrm>
            </p:grpSpPr>
            <p:sp>
              <p:nvSpPr>
                <p:cNvPr id="192" name=""/>
                <p:cNvSpPr/>
                <p:nvPr/>
              </p:nvSpPr>
              <p:spPr>
                <a:xfrm>
                  <a:off x="4787280" y="2025720"/>
                  <a:ext cx="70200" cy="54000"/>
                </a:xfrm>
                <a:custGeom>
                  <a:avLst/>
                  <a:gdLst/>
                  <a:ahLst/>
                  <a:rect l="l" t="t" r="r" b="b"/>
                  <a:pathLst>
                    <a:path w="91" h="92">
                      <a:moveTo>
                        <a:pt x="0" y="92"/>
                      </a:moveTo>
                      <a:lnTo>
                        <a:pt x="0" y="92"/>
                      </a:lnTo>
                      <a:lnTo>
                        <a:pt x="10" y="91"/>
                      </a:lnTo>
                      <a:lnTo>
                        <a:pt x="18" y="90"/>
                      </a:lnTo>
                      <a:lnTo>
                        <a:pt x="28" y="87"/>
                      </a:lnTo>
                      <a:lnTo>
                        <a:pt x="35" y="84"/>
                      </a:lnTo>
                      <a:lnTo>
                        <a:pt x="43" y="80"/>
                      </a:lnTo>
                      <a:lnTo>
                        <a:pt x="51" y="76"/>
                      </a:lnTo>
                      <a:lnTo>
                        <a:pt x="58" y="71"/>
                      </a:lnTo>
                      <a:lnTo>
                        <a:pt x="65" y="64"/>
                      </a:lnTo>
                      <a:lnTo>
                        <a:pt x="70" y="58"/>
                      </a:lnTo>
                      <a:lnTo>
                        <a:pt x="75" y="50"/>
                      </a:lnTo>
                      <a:lnTo>
                        <a:pt x="80" y="43"/>
                      </a:lnTo>
                      <a:lnTo>
                        <a:pt x="84" y="36"/>
                      </a:lnTo>
                      <a:lnTo>
                        <a:pt x="87" y="27"/>
                      </a:lnTo>
                      <a:lnTo>
                        <a:pt x="89" y="19"/>
                      </a:lnTo>
                      <a:lnTo>
                        <a:pt x="91" y="9"/>
                      </a:lnTo>
                      <a:lnTo>
                        <a:pt x="91" y="0"/>
                      </a:lnTo>
                      <a:lnTo>
                        <a:pt x="73" y="0"/>
                      </a:lnTo>
                      <a:lnTo>
                        <a:pt x="72" y="7"/>
                      </a:lnTo>
                      <a:lnTo>
                        <a:pt x="71" y="15"/>
                      </a:lnTo>
                      <a:lnTo>
                        <a:pt x="70" y="22"/>
                      </a:lnTo>
                      <a:lnTo>
                        <a:pt x="67" y="28"/>
                      </a:lnTo>
                      <a:lnTo>
                        <a:pt x="63" y="35"/>
                      </a:lnTo>
                      <a:lnTo>
                        <a:pt x="60" y="41"/>
                      </a:lnTo>
                      <a:lnTo>
                        <a:pt x="56" y="46"/>
                      </a:lnTo>
                      <a:lnTo>
                        <a:pt x="51" y="52"/>
                      </a:lnTo>
                      <a:lnTo>
                        <a:pt x="47" y="56"/>
                      </a:lnTo>
                      <a:lnTo>
                        <a:pt x="40" y="60"/>
                      </a:lnTo>
                      <a:lnTo>
                        <a:pt x="35" y="64"/>
                      </a:lnTo>
                      <a:lnTo>
                        <a:pt x="29" y="67"/>
                      </a:lnTo>
                      <a:lnTo>
                        <a:pt x="21" y="69"/>
                      </a:lnTo>
                      <a:lnTo>
                        <a:pt x="15" y="72"/>
                      </a:lnTo>
                      <a:lnTo>
                        <a:pt x="7" y="73"/>
                      </a:lnTo>
                      <a:lnTo>
                        <a:pt x="0" y="73"/>
                      </a:lnTo>
                      <a:lnTo>
                        <a:pt x="0" y="73"/>
                      </a:lnTo>
                      <a:lnTo>
                        <a:pt x="0" y="92"/>
                      </a:lnTo>
                      <a:close/>
                    </a:path>
                  </a:pathLst>
                </a:custGeom>
                <a:solidFill>
                  <a:srgbClr val="24272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3" name=""/>
                <p:cNvSpPr/>
                <p:nvPr/>
              </p:nvSpPr>
              <p:spPr>
                <a:xfrm>
                  <a:off x="4714200" y="2025720"/>
                  <a:ext cx="72720" cy="54000"/>
                </a:xfrm>
                <a:custGeom>
                  <a:avLst/>
                  <a:gdLst/>
                  <a:ahLst/>
                  <a:rect l="l" t="t" r="r" b="b"/>
                  <a:pathLst>
                    <a:path w="94" h="92">
                      <a:moveTo>
                        <a:pt x="0" y="0"/>
                      </a:moveTo>
                      <a:lnTo>
                        <a:pt x="0" y="0"/>
                      </a:lnTo>
                      <a:lnTo>
                        <a:pt x="1" y="9"/>
                      </a:lnTo>
                      <a:lnTo>
                        <a:pt x="2" y="19"/>
                      </a:lnTo>
                      <a:lnTo>
                        <a:pt x="4" y="27"/>
                      </a:lnTo>
                      <a:lnTo>
                        <a:pt x="7" y="36"/>
                      </a:lnTo>
                      <a:lnTo>
                        <a:pt x="12" y="43"/>
                      </a:lnTo>
                      <a:lnTo>
                        <a:pt x="16" y="52"/>
                      </a:lnTo>
                      <a:lnTo>
                        <a:pt x="21" y="58"/>
                      </a:lnTo>
                      <a:lnTo>
                        <a:pt x="28" y="64"/>
                      </a:lnTo>
                      <a:lnTo>
                        <a:pt x="34" y="71"/>
                      </a:lnTo>
                      <a:lnTo>
                        <a:pt x="41" y="76"/>
                      </a:lnTo>
                      <a:lnTo>
                        <a:pt x="49" y="80"/>
                      </a:lnTo>
                      <a:lnTo>
                        <a:pt x="57" y="84"/>
                      </a:lnTo>
                      <a:lnTo>
                        <a:pt x="66" y="87"/>
                      </a:lnTo>
                      <a:lnTo>
                        <a:pt x="75" y="90"/>
                      </a:lnTo>
                      <a:lnTo>
                        <a:pt x="85" y="91"/>
                      </a:lnTo>
                      <a:lnTo>
                        <a:pt x="94" y="92"/>
                      </a:lnTo>
                      <a:lnTo>
                        <a:pt x="94" y="73"/>
                      </a:lnTo>
                      <a:lnTo>
                        <a:pt x="87" y="73"/>
                      </a:lnTo>
                      <a:lnTo>
                        <a:pt x="78" y="72"/>
                      </a:lnTo>
                      <a:lnTo>
                        <a:pt x="71" y="69"/>
                      </a:lnTo>
                      <a:lnTo>
                        <a:pt x="65" y="67"/>
                      </a:lnTo>
                      <a:lnTo>
                        <a:pt x="58" y="64"/>
                      </a:lnTo>
                      <a:lnTo>
                        <a:pt x="52" y="60"/>
                      </a:lnTo>
                      <a:lnTo>
                        <a:pt x="46" y="56"/>
                      </a:lnTo>
                      <a:lnTo>
                        <a:pt x="40" y="52"/>
                      </a:lnTo>
                      <a:lnTo>
                        <a:pt x="36" y="46"/>
                      </a:lnTo>
                      <a:lnTo>
                        <a:pt x="32" y="41"/>
                      </a:lnTo>
                      <a:lnTo>
                        <a:pt x="28" y="35"/>
                      </a:lnTo>
                      <a:lnTo>
                        <a:pt x="24" y="28"/>
                      </a:lnTo>
                      <a:lnTo>
                        <a:pt x="22" y="22"/>
                      </a:lnTo>
                      <a:lnTo>
                        <a:pt x="20" y="15"/>
                      </a:lnTo>
                      <a:lnTo>
                        <a:pt x="19" y="7"/>
                      </a:lnTo>
                      <a:lnTo>
                        <a:pt x="19" y="0"/>
                      </a:lnTo>
                      <a:lnTo>
                        <a:pt x="19" y="0"/>
                      </a:lnTo>
                      <a:lnTo>
                        <a:pt x="0" y="0"/>
                      </a:lnTo>
                      <a:close/>
                    </a:path>
                  </a:pathLst>
                </a:custGeom>
                <a:solidFill>
                  <a:srgbClr val="24272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4" name=""/>
                <p:cNvSpPr/>
                <p:nvPr/>
              </p:nvSpPr>
              <p:spPr>
                <a:xfrm>
                  <a:off x="4714200" y="1971000"/>
                  <a:ext cx="72720" cy="54360"/>
                </a:xfrm>
                <a:custGeom>
                  <a:avLst/>
                  <a:gdLst/>
                  <a:ahLst/>
                  <a:rect l="l" t="t" r="r" b="b"/>
                  <a:pathLst>
                    <a:path w="94" h="93">
                      <a:moveTo>
                        <a:pt x="94" y="0"/>
                      </a:moveTo>
                      <a:lnTo>
                        <a:pt x="94" y="0"/>
                      </a:lnTo>
                      <a:lnTo>
                        <a:pt x="85" y="0"/>
                      </a:lnTo>
                      <a:lnTo>
                        <a:pt x="75" y="1"/>
                      </a:lnTo>
                      <a:lnTo>
                        <a:pt x="66" y="4"/>
                      </a:lnTo>
                      <a:lnTo>
                        <a:pt x="57" y="7"/>
                      </a:lnTo>
                      <a:lnTo>
                        <a:pt x="49" y="11"/>
                      </a:lnTo>
                      <a:lnTo>
                        <a:pt x="41" y="16"/>
                      </a:lnTo>
                      <a:lnTo>
                        <a:pt x="34" y="21"/>
                      </a:lnTo>
                      <a:lnTo>
                        <a:pt x="28" y="26"/>
                      </a:lnTo>
                      <a:lnTo>
                        <a:pt x="21" y="34"/>
                      </a:lnTo>
                      <a:lnTo>
                        <a:pt x="16" y="41"/>
                      </a:lnTo>
                      <a:lnTo>
                        <a:pt x="12" y="49"/>
                      </a:lnTo>
                      <a:lnTo>
                        <a:pt x="7" y="57"/>
                      </a:lnTo>
                      <a:lnTo>
                        <a:pt x="4" y="65"/>
                      </a:lnTo>
                      <a:lnTo>
                        <a:pt x="2" y="74"/>
                      </a:lnTo>
                      <a:lnTo>
                        <a:pt x="1" y="83"/>
                      </a:lnTo>
                      <a:lnTo>
                        <a:pt x="0" y="93"/>
                      </a:lnTo>
                      <a:lnTo>
                        <a:pt x="19" y="93"/>
                      </a:lnTo>
                      <a:lnTo>
                        <a:pt x="19" y="86"/>
                      </a:lnTo>
                      <a:lnTo>
                        <a:pt x="20" y="78"/>
                      </a:lnTo>
                      <a:lnTo>
                        <a:pt x="22" y="71"/>
                      </a:lnTo>
                      <a:lnTo>
                        <a:pt x="24" y="63"/>
                      </a:lnTo>
                      <a:lnTo>
                        <a:pt x="28" y="57"/>
                      </a:lnTo>
                      <a:lnTo>
                        <a:pt x="32" y="51"/>
                      </a:lnTo>
                      <a:lnTo>
                        <a:pt x="36" y="45"/>
                      </a:lnTo>
                      <a:lnTo>
                        <a:pt x="40" y="40"/>
                      </a:lnTo>
                      <a:lnTo>
                        <a:pt x="46" y="35"/>
                      </a:lnTo>
                      <a:lnTo>
                        <a:pt x="52" y="31"/>
                      </a:lnTo>
                      <a:lnTo>
                        <a:pt x="58" y="28"/>
                      </a:lnTo>
                      <a:lnTo>
                        <a:pt x="65" y="24"/>
                      </a:lnTo>
                      <a:lnTo>
                        <a:pt x="71" y="21"/>
                      </a:lnTo>
                      <a:lnTo>
                        <a:pt x="78" y="20"/>
                      </a:lnTo>
                      <a:lnTo>
                        <a:pt x="87" y="19"/>
                      </a:lnTo>
                      <a:lnTo>
                        <a:pt x="94" y="18"/>
                      </a:lnTo>
                      <a:lnTo>
                        <a:pt x="94" y="18"/>
                      </a:lnTo>
                      <a:lnTo>
                        <a:pt x="94" y="0"/>
                      </a:lnTo>
                      <a:close/>
                    </a:path>
                  </a:pathLst>
                </a:custGeom>
                <a:solidFill>
                  <a:srgbClr val="242729"/>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787280" y="1971000"/>
                  <a:ext cx="70200" cy="54360"/>
                </a:xfrm>
                <a:custGeom>
                  <a:avLst/>
                  <a:gdLst/>
                  <a:ahLst/>
                  <a:rect l="l" t="t" r="r" b="b"/>
                  <a:pathLst>
                    <a:path w="91" h="93">
                      <a:moveTo>
                        <a:pt x="91" y="93"/>
                      </a:moveTo>
                      <a:lnTo>
                        <a:pt x="91" y="93"/>
                      </a:lnTo>
                      <a:lnTo>
                        <a:pt x="91" y="83"/>
                      </a:lnTo>
                      <a:lnTo>
                        <a:pt x="89" y="74"/>
                      </a:lnTo>
                      <a:lnTo>
                        <a:pt x="87" y="65"/>
                      </a:lnTo>
                      <a:lnTo>
                        <a:pt x="84" y="57"/>
                      </a:lnTo>
                      <a:lnTo>
                        <a:pt x="80" y="49"/>
                      </a:lnTo>
                      <a:lnTo>
                        <a:pt x="75" y="41"/>
                      </a:lnTo>
                      <a:lnTo>
                        <a:pt x="71" y="34"/>
                      </a:lnTo>
                      <a:lnTo>
                        <a:pt x="65" y="26"/>
                      </a:lnTo>
                      <a:lnTo>
                        <a:pt x="58" y="21"/>
                      </a:lnTo>
                      <a:lnTo>
                        <a:pt x="51" y="16"/>
                      </a:lnTo>
                      <a:lnTo>
                        <a:pt x="43" y="11"/>
                      </a:lnTo>
                      <a:lnTo>
                        <a:pt x="35" y="7"/>
                      </a:lnTo>
                      <a:lnTo>
                        <a:pt x="28" y="4"/>
                      </a:lnTo>
                      <a:lnTo>
                        <a:pt x="18" y="2"/>
                      </a:lnTo>
                      <a:lnTo>
                        <a:pt x="10" y="0"/>
                      </a:lnTo>
                      <a:lnTo>
                        <a:pt x="0" y="0"/>
                      </a:lnTo>
                      <a:lnTo>
                        <a:pt x="0" y="18"/>
                      </a:lnTo>
                      <a:lnTo>
                        <a:pt x="7" y="19"/>
                      </a:lnTo>
                      <a:lnTo>
                        <a:pt x="15" y="20"/>
                      </a:lnTo>
                      <a:lnTo>
                        <a:pt x="21" y="21"/>
                      </a:lnTo>
                      <a:lnTo>
                        <a:pt x="29" y="24"/>
                      </a:lnTo>
                      <a:lnTo>
                        <a:pt x="35" y="28"/>
                      </a:lnTo>
                      <a:lnTo>
                        <a:pt x="40" y="31"/>
                      </a:lnTo>
                      <a:lnTo>
                        <a:pt x="47" y="35"/>
                      </a:lnTo>
                      <a:lnTo>
                        <a:pt x="51" y="40"/>
                      </a:lnTo>
                      <a:lnTo>
                        <a:pt x="56" y="45"/>
                      </a:lnTo>
                      <a:lnTo>
                        <a:pt x="60" y="51"/>
                      </a:lnTo>
                      <a:lnTo>
                        <a:pt x="63" y="57"/>
                      </a:lnTo>
                      <a:lnTo>
                        <a:pt x="67" y="63"/>
                      </a:lnTo>
                      <a:lnTo>
                        <a:pt x="70" y="71"/>
                      </a:lnTo>
                      <a:lnTo>
                        <a:pt x="71" y="78"/>
                      </a:lnTo>
                      <a:lnTo>
                        <a:pt x="72" y="86"/>
                      </a:lnTo>
                      <a:lnTo>
                        <a:pt x="73" y="93"/>
                      </a:lnTo>
                      <a:lnTo>
                        <a:pt x="73" y="93"/>
                      </a:lnTo>
                      <a:lnTo>
                        <a:pt x="91" y="93"/>
                      </a:lnTo>
                      <a:close/>
                    </a:path>
                  </a:pathLst>
                </a:custGeom>
                <a:solidFill>
                  <a:srgbClr val="242729"/>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6" name=""/>
                <p:cNvSpPr/>
                <p:nvPr/>
              </p:nvSpPr>
              <p:spPr>
                <a:xfrm>
                  <a:off x="4785480" y="2024640"/>
                  <a:ext cx="70200" cy="52560"/>
                </a:xfrm>
                <a:custGeom>
                  <a:avLst/>
                  <a:gdLst/>
                  <a:ahLst/>
                  <a:rect l="l" t="t" r="r" b="b"/>
                  <a:pathLst>
                    <a:path w="91" h="90">
                      <a:moveTo>
                        <a:pt x="0" y="90"/>
                      </a:moveTo>
                      <a:lnTo>
                        <a:pt x="0" y="90"/>
                      </a:lnTo>
                      <a:lnTo>
                        <a:pt x="8" y="90"/>
                      </a:lnTo>
                      <a:lnTo>
                        <a:pt x="18" y="88"/>
                      </a:lnTo>
                      <a:lnTo>
                        <a:pt x="26" y="86"/>
                      </a:lnTo>
                      <a:lnTo>
                        <a:pt x="35" y="83"/>
                      </a:lnTo>
                      <a:lnTo>
                        <a:pt x="42" y="80"/>
                      </a:lnTo>
                      <a:lnTo>
                        <a:pt x="51" y="75"/>
                      </a:lnTo>
                      <a:lnTo>
                        <a:pt x="57" y="69"/>
                      </a:lnTo>
                      <a:lnTo>
                        <a:pt x="63" y="64"/>
                      </a:lnTo>
                      <a:lnTo>
                        <a:pt x="70" y="58"/>
                      </a:lnTo>
                      <a:lnTo>
                        <a:pt x="75" y="50"/>
                      </a:lnTo>
                      <a:lnTo>
                        <a:pt x="79" y="43"/>
                      </a:lnTo>
                      <a:lnTo>
                        <a:pt x="83" y="35"/>
                      </a:lnTo>
                      <a:lnTo>
                        <a:pt x="87" y="26"/>
                      </a:lnTo>
                      <a:lnTo>
                        <a:pt x="89" y="18"/>
                      </a:lnTo>
                      <a:lnTo>
                        <a:pt x="90" y="9"/>
                      </a:lnTo>
                      <a:lnTo>
                        <a:pt x="91" y="0"/>
                      </a:lnTo>
                      <a:lnTo>
                        <a:pt x="72" y="0"/>
                      </a:lnTo>
                      <a:lnTo>
                        <a:pt x="72" y="7"/>
                      </a:lnTo>
                      <a:lnTo>
                        <a:pt x="71" y="15"/>
                      </a:lnTo>
                      <a:lnTo>
                        <a:pt x="69" y="21"/>
                      </a:lnTo>
                      <a:lnTo>
                        <a:pt x="67" y="28"/>
                      </a:lnTo>
                      <a:lnTo>
                        <a:pt x="63" y="35"/>
                      </a:lnTo>
                      <a:lnTo>
                        <a:pt x="59" y="40"/>
                      </a:lnTo>
                      <a:lnTo>
                        <a:pt x="55" y="46"/>
                      </a:lnTo>
                      <a:lnTo>
                        <a:pt x="51" y="50"/>
                      </a:lnTo>
                      <a:lnTo>
                        <a:pt x="45" y="56"/>
                      </a:lnTo>
                      <a:lnTo>
                        <a:pt x="40" y="60"/>
                      </a:lnTo>
                      <a:lnTo>
                        <a:pt x="34" y="63"/>
                      </a:lnTo>
                      <a:lnTo>
                        <a:pt x="27" y="66"/>
                      </a:lnTo>
                      <a:lnTo>
                        <a:pt x="21" y="69"/>
                      </a:lnTo>
                      <a:lnTo>
                        <a:pt x="14" y="70"/>
                      </a:lnTo>
                      <a:lnTo>
                        <a:pt x="6" y="71"/>
                      </a:lnTo>
                      <a:lnTo>
                        <a:pt x="0" y="73"/>
                      </a:lnTo>
                      <a:lnTo>
                        <a:pt x="0" y="73"/>
                      </a:lnTo>
                      <a:lnTo>
                        <a:pt x="0" y="9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7" name=""/>
                <p:cNvSpPr/>
                <p:nvPr/>
              </p:nvSpPr>
              <p:spPr>
                <a:xfrm>
                  <a:off x="4712760" y="2024640"/>
                  <a:ext cx="72720" cy="52560"/>
                </a:xfrm>
                <a:custGeom>
                  <a:avLst/>
                  <a:gdLst/>
                  <a:ahLst/>
                  <a:rect l="l" t="t" r="r" b="b"/>
                  <a:pathLst>
                    <a:path w="94" h="90">
                      <a:moveTo>
                        <a:pt x="0" y="0"/>
                      </a:moveTo>
                      <a:lnTo>
                        <a:pt x="0" y="0"/>
                      </a:lnTo>
                      <a:lnTo>
                        <a:pt x="0" y="9"/>
                      </a:lnTo>
                      <a:lnTo>
                        <a:pt x="2" y="18"/>
                      </a:lnTo>
                      <a:lnTo>
                        <a:pt x="4" y="26"/>
                      </a:lnTo>
                      <a:lnTo>
                        <a:pt x="7" y="35"/>
                      </a:lnTo>
                      <a:lnTo>
                        <a:pt x="11" y="43"/>
                      </a:lnTo>
                      <a:lnTo>
                        <a:pt x="16" y="50"/>
                      </a:lnTo>
                      <a:lnTo>
                        <a:pt x="21" y="58"/>
                      </a:lnTo>
                      <a:lnTo>
                        <a:pt x="27" y="64"/>
                      </a:lnTo>
                      <a:lnTo>
                        <a:pt x="34" y="69"/>
                      </a:lnTo>
                      <a:lnTo>
                        <a:pt x="41" y="75"/>
                      </a:lnTo>
                      <a:lnTo>
                        <a:pt x="49" y="80"/>
                      </a:lnTo>
                      <a:lnTo>
                        <a:pt x="57" y="83"/>
                      </a:lnTo>
                      <a:lnTo>
                        <a:pt x="65" y="86"/>
                      </a:lnTo>
                      <a:lnTo>
                        <a:pt x="74" y="88"/>
                      </a:lnTo>
                      <a:lnTo>
                        <a:pt x="83" y="90"/>
                      </a:lnTo>
                      <a:lnTo>
                        <a:pt x="94" y="90"/>
                      </a:lnTo>
                      <a:lnTo>
                        <a:pt x="94" y="73"/>
                      </a:lnTo>
                      <a:lnTo>
                        <a:pt x="86" y="71"/>
                      </a:lnTo>
                      <a:lnTo>
                        <a:pt x="78" y="70"/>
                      </a:lnTo>
                      <a:lnTo>
                        <a:pt x="71" y="69"/>
                      </a:lnTo>
                      <a:lnTo>
                        <a:pt x="63" y="66"/>
                      </a:lnTo>
                      <a:lnTo>
                        <a:pt x="57" y="63"/>
                      </a:lnTo>
                      <a:lnTo>
                        <a:pt x="51" y="60"/>
                      </a:lnTo>
                      <a:lnTo>
                        <a:pt x="45" y="56"/>
                      </a:lnTo>
                      <a:lnTo>
                        <a:pt x="40" y="50"/>
                      </a:lnTo>
                      <a:lnTo>
                        <a:pt x="35" y="45"/>
                      </a:lnTo>
                      <a:lnTo>
                        <a:pt x="31" y="40"/>
                      </a:lnTo>
                      <a:lnTo>
                        <a:pt x="27" y="35"/>
                      </a:lnTo>
                      <a:lnTo>
                        <a:pt x="24" y="28"/>
                      </a:lnTo>
                      <a:lnTo>
                        <a:pt x="21" y="21"/>
                      </a:lnTo>
                      <a:lnTo>
                        <a:pt x="20" y="15"/>
                      </a:lnTo>
                      <a:lnTo>
                        <a:pt x="19" y="7"/>
                      </a:lnTo>
                      <a:lnTo>
                        <a:pt x="18" y="0"/>
                      </a:lnTo>
                      <a:lnTo>
                        <a:pt x="18" y="0"/>
                      </a:lnTo>
                      <a:lnTo>
                        <a:pt x="0"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8" name=""/>
                <p:cNvSpPr/>
                <p:nvPr/>
              </p:nvSpPr>
              <p:spPr>
                <a:xfrm>
                  <a:off x="4712760" y="1969560"/>
                  <a:ext cx="72720" cy="55080"/>
                </a:xfrm>
                <a:custGeom>
                  <a:avLst/>
                  <a:gdLst/>
                  <a:ahLst/>
                  <a:rect l="l" t="t" r="r" b="b"/>
                  <a:pathLst>
                    <a:path w="94" h="94">
                      <a:moveTo>
                        <a:pt x="94" y="0"/>
                      </a:moveTo>
                      <a:lnTo>
                        <a:pt x="94" y="0"/>
                      </a:lnTo>
                      <a:lnTo>
                        <a:pt x="83" y="1"/>
                      </a:lnTo>
                      <a:lnTo>
                        <a:pt x="74" y="2"/>
                      </a:lnTo>
                      <a:lnTo>
                        <a:pt x="65" y="4"/>
                      </a:lnTo>
                      <a:lnTo>
                        <a:pt x="57" y="7"/>
                      </a:lnTo>
                      <a:lnTo>
                        <a:pt x="49" y="12"/>
                      </a:lnTo>
                      <a:lnTo>
                        <a:pt x="41" y="16"/>
                      </a:lnTo>
                      <a:lnTo>
                        <a:pt x="34" y="21"/>
                      </a:lnTo>
                      <a:lnTo>
                        <a:pt x="26" y="27"/>
                      </a:lnTo>
                      <a:lnTo>
                        <a:pt x="21" y="34"/>
                      </a:lnTo>
                      <a:lnTo>
                        <a:pt x="16" y="41"/>
                      </a:lnTo>
                      <a:lnTo>
                        <a:pt x="11" y="48"/>
                      </a:lnTo>
                      <a:lnTo>
                        <a:pt x="7" y="57"/>
                      </a:lnTo>
                      <a:lnTo>
                        <a:pt x="4" y="65"/>
                      </a:lnTo>
                      <a:lnTo>
                        <a:pt x="2" y="75"/>
                      </a:lnTo>
                      <a:lnTo>
                        <a:pt x="0" y="84"/>
                      </a:lnTo>
                      <a:lnTo>
                        <a:pt x="0" y="94"/>
                      </a:lnTo>
                      <a:lnTo>
                        <a:pt x="18" y="94"/>
                      </a:lnTo>
                      <a:lnTo>
                        <a:pt x="19" y="85"/>
                      </a:lnTo>
                      <a:lnTo>
                        <a:pt x="20" y="78"/>
                      </a:lnTo>
                      <a:lnTo>
                        <a:pt x="21" y="71"/>
                      </a:lnTo>
                      <a:lnTo>
                        <a:pt x="24" y="64"/>
                      </a:lnTo>
                      <a:lnTo>
                        <a:pt x="27" y="58"/>
                      </a:lnTo>
                      <a:lnTo>
                        <a:pt x="31" y="52"/>
                      </a:lnTo>
                      <a:lnTo>
                        <a:pt x="35" y="45"/>
                      </a:lnTo>
                      <a:lnTo>
                        <a:pt x="40" y="40"/>
                      </a:lnTo>
                      <a:lnTo>
                        <a:pt x="45" y="36"/>
                      </a:lnTo>
                      <a:lnTo>
                        <a:pt x="51" y="32"/>
                      </a:lnTo>
                      <a:lnTo>
                        <a:pt x="57" y="27"/>
                      </a:lnTo>
                      <a:lnTo>
                        <a:pt x="63" y="24"/>
                      </a:lnTo>
                      <a:lnTo>
                        <a:pt x="71" y="22"/>
                      </a:lnTo>
                      <a:lnTo>
                        <a:pt x="78" y="20"/>
                      </a:lnTo>
                      <a:lnTo>
                        <a:pt x="86" y="19"/>
                      </a:lnTo>
                      <a:lnTo>
                        <a:pt x="94" y="19"/>
                      </a:lnTo>
                      <a:lnTo>
                        <a:pt x="94" y="19"/>
                      </a:lnTo>
                      <a:lnTo>
                        <a:pt x="94"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9" name=""/>
                <p:cNvSpPr/>
                <p:nvPr/>
              </p:nvSpPr>
              <p:spPr>
                <a:xfrm>
                  <a:off x="4785480" y="1969560"/>
                  <a:ext cx="70200" cy="55080"/>
                </a:xfrm>
                <a:custGeom>
                  <a:avLst/>
                  <a:gdLst/>
                  <a:ahLst/>
                  <a:rect l="l" t="t" r="r" b="b"/>
                  <a:pathLst>
                    <a:path w="91" h="94">
                      <a:moveTo>
                        <a:pt x="91" y="94"/>
                      </a:moveTo>
                      <a:lnTo>
                        <a:pt x="91" y="94"/>
                      </a:lnTo>
                      <a:lnTo>
                        <a:pt x="90" y="84"/>
                      </a:lnTo>
                      <a:lnTo>
                        <a:pt x="89" y="75"/>
                      </a:lnTo>
                      <a:lnTo>
                        <a:pt x="87" y="65"/>
                      </a:lnTo>
                      <a:lnTo>
                        <a:pt x="83" y="57"/>
                      </a:lnTo>
                      <a:lnTo>
                        <a:pt x="79" y="48"/>
                      </a:lnTo>
                      <a:lnTo>
                        <a:pt x="75" y="41"/>
                      </a:lnTo>
                      <a:lnTo>
                        <a:pt x="70" y="34"/>
                      </a:lnTo>
                      <a:lnTo>
                        <a:pt x="63" y="27"/>
                      </a:lnTo>
                      <a:lnTo>
                        <a:pt x="57" y="21"/>
                      </a:lnTo>
                      <a:lnTo>
                        <a:pt x="51" y="16"/>
                      </a:lnTo>
                      <a:lnTo>
                        <a:pt x="43" y="12"/>
                      </a:lnTo>
                      <a:lnTo>
                        <a:pt x="35" y="7"/>
                      </a:lnTo>
                      <a:lnTo>
                        <a:pt x="26" y="4"/>
                      </a:lnTo>
                      <a:lnTo>
                        <a:pt x="18" y="2"/>
                      </a:lnTo>
                      <a:lnTo>
                        <a:pt x="8" y="1"/>
                      </a:lnTo>
                      <a:lnTo>
                        <a:pt x="0" y="0"/>
                      </a:lnTo>
                      <a:lnTo>
                        <a:pt x="0" y="19"/>
                      </a:lnTo>
                      <a:lnTo>
                        <a:pt x="6" y="19"/>
                      </a:lnTo>
                      <a:lnTo>
                        <a:pt x="14" y="20"/>
                      </a:lnTo>
                      <a:lnTo>
                        <a:pt x="21" y="22"/>
                      </a:lnTo>
                      <a:lnTo>
                        <a:pt x="27" y="24"/>
                      </a:lnTo>
                      <a:lnTo>
                        <a:pt x="34" y="27"/>
                      </a:lnTo>
                      <a:lnTo>
                        <a:pt x="40" y="32"/>
                      </a:lnTo>
                      <a:lnTo>
                        <a:pt x="45" y="36"/>
                      </a:lnTo>
                      <a:lnTo>
                        <a:pt x="51" y="40"/>
                      </a:lnTo>
                      <a:lnTo>
                        <a:pt x="55" y="45"/>
                      </a:lnTo>
                      <a:lnTo>
                        <a:pt x="59" y="52"/>
                      </a:lnTo>
                      <a:lnTo>
                        <a:pt x="63" y="58"/>
                      </a:lnTo>
                      <a:lnTo>
                        <a:pt x="67" y="64"/>
                      </a:lnTo>
                      <a:lnTo>
                        <a:pt x="69" y="71"/>
                      </a:lnTo>
                      <a:lnTo>
                        <a:pt x="71" y="78"/>
                      </a:lnTo>
                      <a:lnTo>
                        <a:pt x="72" y="85"/>
                      </a:lnTo>
                      <a:lnTo>
                        <a:pt x="72" y="94"/>
                      </a:lnTo>
                      <a:lnTo>
                        <a:pt x="72" y="94"/>
                      </a:lnTo>
                      <a:lnTo>
                        <a:pt x="91" y="94"/>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00" name=""/>
                <p:cNvSpPr/>
                <p:nvPr/>
              </p:nvSpPr>
              <p:spPr>
                <a:xfrm>
                  <a:off x="4668840" y="1987560"/>
                  <a:ext cx="228960" cy="25560"/>
                </a:xfrm>
                <a:custGeom>
                  <a:avLst/>
                  <a:gdLst/>
                  <a:ahLst/>
                  <a:rect l="l" t="t" r="r" b="b"/>
                  <a:pathLst>
                    <a:path w="280" h="42">
                      <a:moveTo>
                        <a:pt x="0" y="12"/>
                      </a:moveTo>
                      <a:lnTo>
                        <a:pt x="0" y="30"/>
                      </a:lnTo>
                      <a:lnTo>
                        <a:pt x="260" y="30"/>
                      </a:lnTo>
                      <a:lnTo>
                        <a:pt x="260" y="42"/>
                      </a:lnTo>
                      <a:lnTo>
                        <a:pt x="280" y="20"/>
                      </a:lnTo>
                      <a:lnTo>
                        <a:pt x="260" y="0"/>
                      </a:lnTo>
                      <a:lnTo>
                        <a:pt x="260" y="12"/>
                      </a:lnTo>
                      <a:lnTo>
                        <a:pt x="0" y="12"/>
                      </a:lnTo>
                    </a:path>
                  </a:pathLst>
                </a:custGeom>
                <a:solidFill>
                  <a:srgbClr val="24272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1" name=""/>
                <p:cNvSpPr/>
                <p:nvPr/>
              </p:nvSpPr>
              <p:spPr>
                <a:xfrm>
                  <a:off x="4668840" y="1987560"/>
                  <a:ext cx="228960" cy="25560"/>
                </a:xfrm>
                <a:custGeom>
                  <a:avLst/>
                  <a:gdLst/>
                  <a:ahLst/>
                  <a:rect l="l" t="t" r="r" b="b"/>
                  <a:pathLst>
                    <a:path w="280" h="42">
                      <a:moveTo>
                        <a:pt x="0" y="12"/>
                      </a:moveTo>
                      <a:lnTo>
                        <a:pt x="0" y="30"/>
                      </a:lnTo>
                      <a:lnTo>
                        <a:pt x="260" y="30"/>
                      </a:lnTo>
                      <a:lnTo>
                        <a:pt x="260" y="42"/>
                      </a:lnTo>
                      <a:lnTo>
                        <a:pt x="280" y="20"/>
                      </a:lnTo>
                      <a:lnTo>
                        <a:pt x="260" y="0"/>
                      </a:lnTo>
                      <a:lnTo>
                        <a:pt x="260" y="12"/>
                      </a:lnTo>
                      <a:lnTo>
                        <a:pt x="0" y="12"/>
                      </a:lnTo>
                    </a:path>
                  </a:pathLst>
                </a:custGeom>
                <a:solidFill>
                  <a:srgbClr val="24272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202" name=""/>
                <p:cNvGrpSpPr/>
                <p:nvPr/>
              </p:nvGrpSpPr>
              <p:grpSpPr>
                <a:xfrm>
                  <a:off x="4668840" y="2034000"/>
                  <a:ext cx="230400" cy="27360"/>
                  <a:chOff x="4668840" y="2034000"/>
                  <a:chExt cx="230400" cy="27360"/>
                </a:xfrm>
              </p:grpSpPr>
              <p:sp>
                <p:nvSpPr>
                  <p:cNvPr id="203" name=""/>
                  <p:cNvSpPr/>
                  <p:nvPr/>
                </p:nvSpPr>
                <p:spPr>
                  <a:xfrm>
                    <a:off x="4668840" y="2034000"/>
                    <a:ext cx="228960" cy="25560"/>
                  </a:xfrm>
                  <a:custGeom>
                    <a:avLst/>
                    <a:gdLst/>
                    <a:ahLst/>
                    <a:rect l="l" t="t" r="r" b="b"/>
                    <a:pathLst>
                      <a:path w="280" h="42">
                        <a:moveTo>
                          <a:pt x="280" y="12"/>
                        </a:moveTo>
                        <a:lnTo>
                          <a:pt x="280" y="30"/>
                        </a:lnTo>
                        <a:lnTo>
                          <a:pt x="23" y="30"/>
                        </a:lnTo>
                        <a:lnTo>
                          <a:pt x="23" y="42"/>
                        </a:lnTo>
                        <a:lnTo>
                          <a:pt x="0" y="20"/>
                        </a:lnTo>
                        <a:lnTo>
                          <a:pt x="23" y="0"/>
                        </a:lnTo>
                        <a:lnTo>
                          <a:pt x="23" y="12"/>
                        </a:lnTo>
                        <a:lnTo>
                          <a:pt x="280" y="12"/>
                        </a:lnTo>
                      </a:path>
                    </a:pathLst>
                  </a:custGeom>
                  <a:solidFill>
                    <a:srgbClr val="24272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4" name=""/>
                  <p:cNvSpPr/>
                  <p:nvPr/>
                </p:nvSpPr>
                <p:spPr>
                  <a:xfrm>
                    <a:off x="4668840" y="2034000"/>
                    <a:ext cx="228960" cy="25560"/>
                  </a:xfrm>
                  <a:custGeom>
                    <a:avLst/>
                    <a:gdLst/>
                    <a:ahLst/>
                    <a:rect l="l" t="t" r="r" b="b"/>
                    <a:pathLst>
                      <a:path w="280" h="42">
                        <a:moveTo>
                          <a:pt x="280" y="12"/>
                        </a:moveTo>
                        <a:lnTo>
                          <a:pt x="280" y="30"/>
                        </a:lnTo>
                        <a:lnTo>
                          <a:pt x="23" y="30"/>
                        </a:lnTo>
                        <a:lnTo>
                          <a:pt x="23" y="42"/>
                        </a:lnTo>
                        <a:lnTo>
                          <a:pt x="0" y="20"/>
                        </a:lnTo>
                        <a:lnTo>
                          <a:pt x="23" y="0"/>
                        </a:lnTo>
                        <a:lnTo>
                          <a:pt x="23" y="12"/>
                        </a:lnTo>
                        <a:lnTo>
                          <a:pt x="280" y="12"/>
                        </a:lnTo>
                      </a:path>
                    </a:pathLst>
                  </a:custGeom>
                  <a:solidFill>
                    <a:srgbClr val="242729"/>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05" name=""/>
                  <p:cNvSpPr/>
                  <p:nvPr/>
                </p:nvSpPr>
                <p:spPr>
                  <a:xfrm>
                    <a:off x="4671000" y="2035080"/>
                    <a:ext cx="228240" cy="26280"/>
                  </a:xfrm>
                  <a:custGeom>
                    <a:avLst/>
                    <a:gdLst/>
                    <a:ahLst/>
                    <a:rect l="l" t="t" r="r" b="b"/>
                    <a:pathLst>
                      <a:path w="279" h="43">
                        <a:moveTo>
                          <a:pt x="279" y="13"/>
                        </a:moveTo>
                        <a:lnTo>
                          <a:pt x="279" y="30"/>
                        </a:lnTo>
                        <a:lnTo>
                          <a:pt x="22" y="30"/>
                        </a:lnTo>
                        <a:lnTo>
                          <a:pt x="22" y="43"/>
                        </a:lnTo>
                        <a:lnTo>
                          <a:pt x="0" y="20"/>
                        </a:lnTo>
                        <a:lnTo>
                          <a:pt x="22" y="0"/>
                        </a:lnTo>
                        <a:lnTo>
                          <a:pt x="22" y="13"/>
                        </a:lnTo>
                        <a:lnTo>
                          <a:pt x="279" y="13"/>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6" name=""/>
                  <p:cNvSpPr/>
                  <p:nvPr/>
                </p:nvSpPr>
                <p:spPr>
                  <a:xfrm>
                    <a:off x="4671000" y="2035080"/>
                    <a:ext cx="228240" cy="26280"/>
                  </a:xfrm>
                  <a:custGeom>
                    <a:avLst/>
                    <a:gdLst/>
                    <a:ahLst/>
                    <a:rect l="l" t="t" r="r" b="b"/>
                    <a:pathLst>
                      <a:path w="279" h="43">
                        <a:moveTo>
                          <a:pt x="279" y="13"/>
                        </a:moveTo>
                        <a:lnTo>
                          <a:pt x="279" y="30"/>
                        </a:lnTo>
                        <a:lnTo>
                          <a:pt x="22" y="30"/>
                        </a:lnTo>
                        <a:lnTo>
                          <a:pt x="22" y="43"/>
                        </a:lnTo>
                        <a:lnTo>
                          <a:pt x="0" y="20"/>
                        </a:lnTo>
                        <a:lnTo>
                          <a:pt x="22" y="0"/>
                        </a:lnTo>
                        <a:lnTo>
                          <a:pt x="22" y="13"/>
                        </a:lnTo>
                        <a:lnTo>
                          <a:pt x="279" y="13"/>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sp>
              <p:nvSpPr>
                <p:cNvPr id="207" name=""/>
                <p:cNvSpPr/>
                <p:nvPr/>
              </p:nvSpPr>
              <p:spPr>
                <a:xfrm>
                  <a:off x="4671000" y="1989000"/>
                  <a:ext cx="228240" cy="26280"/>
                </a:xfrm>
                <a:custGeom>
                  <a:avLst/>
                  <a:gdLst/>
                  <a:ahLst/>
                  <a:rect l="l" t="t" r="r" b="b"/>
                  <a:pathLst>
                    <a:path w="279" h="43">
                      <a:moveTo>
                        <a:pt x="0" y="13"/>
                      </a:moveTo>
                      <a:lnTo>
                        <a:pt x="0" y="30"/>
                      </a:lnTo>
                      <a:lnTo>
                        <a:pt x="259" y="30"/>
                      </a:lnTo>
                      <a:lnTo>
                        <a:pt x="259" y="43"/>
                      </a:lnTo>
                      <a:lnTo>
                        <a:pt x="279" y="20"/>
                      </a:lnTo>
                      <a:lnTo>
                        <a:pt x="259" y="0"/>
                      </a:lnTo>
                      <a:lnTo>
                        <a:pt x="259" y="13"/>
                      </a:lnTo>
                      <a:lnTo>
                        <a:pt x="0" y="13"/>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208" name=""/>
                <p:cNvSpPr/>
                <p:nvPr/>
              </p:nvSpPr>
              <p:spPr>
                <a:xfrm>
                  <a:off x="4671000" y="1989000"/>
                  <a:ext cx="228240" cy="26280"/>
                </a:xfrm>
                <a:custGeom>
                  <a:avLst/>
                  <a:gdLst/>
                  <a:ahLst/>
                  <a:rect l="l" t="t" r="r" b="b"/>
                  <a:pathLst>
                    <a:path w="279" h="43">
                      <a:moveTo>
                        <a:pt x="0" y="13"/>
                      </a:moveTo>
                      <a:lnTo>
                        <a:pt x="0" y="30"/>
                      </a:lnTo>
                      <a:lnTo>
                        <a:pt x="259" y="30"/>
                      </a:lnTo>
                      <a:lnTo>
                        <a:pt x="259" y="43"/>
                      </a:lnTo>
                      <a:lnTo>
                        <a:pt x="279" y="20"/>
                      </a:lnTo>
                      <a:lnTo>
                        <a:pt x="259" y="0"/>
                      </a:lnTo>
                      <a:lnTo>
                        <a:pt x="259" y="13"/>
                      </a:lnTo>
                      <a:lnTo>
                        <a:pt x="0" y="13"/>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sp>
            <p:nvSpPr>
              <p:cNvPr id="209" name=""/>
              <p:cNvSpPr/>
              <p:nvPr/>
            </p:nvSpPr>
            <p:spPr>
              <a:xfrm>
                <a:off x="4640400" y="2082600"/>
                <a:ext cx="285480" cy="21672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925880" y="2061360"/>
                <a:ext cx="35280" cy="236880"/>
              </a:xfrm>
              <a:custGeom>
                <a:avLst/>
                <a:gdLst/>
                <a:ahLst/>
                <a:rect l="l" t="t" r="r" b="b"/>
                <a:pathLst>
                  <a:path w="40" h="347">
                    <a:moveTo>
                      <a:pt x="3" y="30"/>
                    </a:moveTo>
                    <a:lnTo>
                      <a:pt x="40" y="0"/>
                    </a:lnTo>
                    <a:lnTo>
                      <a:pt x="40" y="311"/>
                    </a:lnTo>
                    <a:lnTo>
                      <a:pt x="0" y="347"/>
                    </a:lnTo>
                    <a:lnTo>
                      <a:pt x="0" y="36"/>
                    </a:lnTo>
                  </a:path>
                </a:pathLst>
              </a:custGeom>
              <a:solidFill>
                <a:srgbClr val="33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
              <p:cNvGrpSpPr/>
              <p:nvPr/>
            </p:nvGrpSpPr>
            <p:grpSpPr>
              <a:xfrm>
                <a:off x="4682520" y="2107080"/>
                <a:ext cx="204480" cy="154800"/>
                <a:chOff x="4682520" y="2107080"/>
                <a:chExt cx="204480" cy="154800"/>
              </a:xfrm>
            </p:grpSpPr>
            <p:grpSp>
              <p:nvGrpSpPr>
                <p:cNvPr id="212" name=""/>
                <p:cNvGrpSpPr/>
                <p:nvPr/>
              </p:nvGrpSpPr>
              <p:grpSpPr>
                <a:xfrm>
                  <a:off x="4682520" y="2107080"/>
                  <a:ext cx="204480" cy="154800"/>
                  <a:chOff x="4682520" y="2107080"/>
                  <a:chExt cx="204480" cy="154800"/>
                </a:xfrm>
              </p:grpSpPr>
              <p:sp>
                <p:nvSpPr>
                  <p:cNvPr id="213" name=""/>
                  <p:cNvSpPr/>
                  <p:nvPr/>
                </p:nvSpPr>
                <p:spPr>
                  <a:xfrm>
                    <a:off x="4682520" y="2107080"/>
                    <a:ext cx="204480" cy="150480"/>
                  </a:xfrm>
                  <a:custGeom>
                    <a:avLst/>
                    <a:gdLst/>
                    <a:ahLst/>
                    <a:rect l="l" t="t" r="r" b="b"/>
                    <a:pathLst>
                      <a:path w="109" h="105">
                        <a:moveTo>
                          <a:pt x="16" y="0"/>
                        </a:moveTo>
                        <a:lnTo>
                          <a:pt x="16" y="13"/>
                        </a:lnTo>
                        <a:lnTo>
                          <a:pt x="41" y="13"/>
                        </a:lnTo>
                        <a:lnTo>
                          <a:pt x="46" y="24"/>
                        </a:lnTo>
                        <a:lnTo>
                          <a:pt x="39" y="32"/>
                        </a:lnTo>
                        <a:lnTo>
                          <a:pt x="34" y="22"/>
                        </a:lnTo>
                        <a:lnTo>
                          <a:pt x="16" y="22"/>
                        </a:lnTo>
                        <a:lnTo>
                          <a:pt x="16" y="32"/>
                        </a:lnTo>
                        <a:lnTo>
                          <a:pt x="0" y="16"/>
                        </a:lnTo>
                        <a:lnTo>
                          <a:pt x="16" y="0"/>
                        </a:lnTo>
                        <a:moveTo>
                          <a:pt x="62" y="25"/>
                        </a:moveTo>
                        <a:lnTo>
                          <a:pt x="68" y="13"/>
                        </a:lnTo>
                        <a:lnTo>
                          <a:pt x="93" y="13"/>
                        </a:lnTo>
                        <a:lnTo>
                          <a:pt x="93" y="1"/>
                        </a:lnTo>
                        <a:lnTo>
                          <a:pt x="109" y="17"/>
                        </a:lnTo>
                        <a:lnTo>
                          <a:pt x="93" y="33"/>
                        </a:lnTo>
                        <a:lnTo>
                          <a:pt x="93" y="22"/>
                        </a:lnTo>
                        <a:lnTo>
                          <a:pt x="75" y="22"/>
                        </a:lnTo>
                        <a:lnTo>
                          <a:pt x="69" y="34"/>
                        </a:lnTo>
                        <a:lnTo>
                          <a:pt x="62" y="25"/>
                        </a:lnTo>
                        <a:moveTo>
                          <a:pt x="69" y="72"/>
                        </a:moveTo>
                        <a:lnTo>
                          <a:pt x="75" y="84"/>
                        </a:lnTo>
                        <a:lnTo>
                          <a:pt x="93" y="84"/>
                        </a:lnTo>
                        <a:lnTo>
                          <a:pt x="93" y="73"/>
                        </a:lnTo>
                        <a:lnTo>
                          <a:pt x="109" y="89"/>
                        </a:lnTo>
                        <a:lnTo>
                          <a:pt x="93" y="105"/>
                        </a:lnTo>
                        <a:lnTo>
                          <a:pt x="93" y="93"/>
                        </a:lnTo>
                        <a:lnTo>
                          <a:pt x="68" y="93"/>
                        </a:lnTo>
                        <a:lnTo>
                          <a:pt x="62" y="81"/>
                        </a:lnTo>
                        <a:lnTo>
                          <a:pt x="69" y="72"/>
                        </a:lnTo>
                        <a:moveTo>
                          <a:pt x="46" y="82"/>
                        </a:moveTo>
                        <a:lnTo>
                          <a:pt x="41" y="93"/>
                        </a:lnTo>
                        <a:lnTo>
                          <a:pt x="16" y="93"/>
                        </a:lnTo>
                        <a:lnTo>
                          <a:pt x="16" y="105"/>
                        </a:lnTo>
                        <a:lnTo>
                          <a:pt x="0" y="89"/>
                        </a:lnTo>
                        <a:lnTo>
                          <a:pt x="16" y="73"/>
                        </a:lnTo>
                        <a:lnTo>
                          <a:pt x="16" y="84"/>
                        </a:lnTo>
                        <a:lnTo>
                          <a:pt x="34" y="84"/>
                        </a:lnTo>
                        <a:lnTo>
                          <a:pt x="37" y="77"/>
                        </a:lnTo>
                        <a:lnTo>
                          <a:pt x="46" y="82"/>
                        </a:lnTo>
                      </a:path>
                    </a:pathLst>
                  </a:custGeom>
                  <a:solidFill>
                    <a:srgbClr val="2522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682520" y="2112480"/>
                    <a:ext cx="204480" cy="149400"/>
                  </a:xfrm>
                  <a:custGeom>
                    <a:avLst/>
                    <a:gdLst/>
                    <a:ahLst/>
                    <a:rect l="l" t="t" r="r" b="b"/>
                    <a:pathLst>
                      <a:path w="109" h="104">
                        <a:moveTo>
                          <a:pt x="16" y="0"/>
                        </a:moveTo>
                        <a:lnTo>
                          <a:pt x="16" y="12"/>
                        </a:lnTo>
                        <a:lnTo>
                          <a:pt x="41" y="12"/>
                        </a:lnTo>
                        <a:lnTo>
                          <a:pt x="46" y="23"/>
                        </a:lnTo>
                        <a:lnTo>
                          <a:pt x="39" y="31"/>
                        </a:lnTo>
                        <a:lnTo>
                          <a:pt x="34" y="21"/>
                        </a:lnTo>
                        <a:lnTo>
                          <a:pt x="16" y="21"/>
                        </a:lnTo>
                        <a:lnTo>
                          <a:pt x="16" y="32"/>
                        </a:lnTo>
                        <a:lnTo>
                          <a:pt x="0" y="16"/>
                        </a:lnTo>
                        <a:lnTo>
                          <a:pt x="16" y="0"/>
                        </a:lnTo>
                        <a:moveTo>
                          <a:pt x="62" y="25"/>
                        </a:moveTo>
                        <a:lnTo>
                          <a:pt x="68" y="13"/>
                        </a:lnTo>
                        <a:lnTo>
                          <a:pt x="93" y="13"/>
                        </a:lnTo>
                        <a:lnTo>
                          <a:pt x="93" y="0"/>
                        </a:lnTo>
                        <a:lnTo>
                          <a:pt x="109" y="16"/>
                        </a:lnTo>
                        <a:lnTo>
                          <a:pt x="93" y="32"/>
                        </a:lnTo>
                        <a:lnTo>
                          <a:pt x="93" y="21"/>
                        </a:lnTo>
                        <a:lnTo>
                          <a:pt x="75" y="21"/>
                        </a:lnTo>
                        <a:lnTo>
                          <a:pt x="69" y="33"/>
                        </a:lnTo>
                        <a:lnTo>
                          <a:pt x="62" y="25"/>
                        </a:lnTo>
                        <a:moveTo>
                          <a:pt x="69" y="71"/>
                        </a:moveTo>
                        <a:lnTo>
                          <a:pt x="75" y="84"/>
                        </a:lnTo>
                        <a:lnTo>
                          <a:pt x="93" y="84"/>
                        </a:lnTo>
                        <a:lnTo>
                          <a:pt x="93" y="72"/>
                        </a:lnTo>
                        <a:lnTo>
                          <a:pt x="109" y="88"/>
                        </a:lnTo>
                        <a:lnTo>
                          <a:pt x="93" y="104"/>
                        </a:lnTo>
                        <a:lnTo>
                          <a:pt x="93" y="92"/>
                        </a:lnTo>
                        <a:lnTo>
                          <a:pt x="68" y="92"/>
                        </a:lnTo>
                        <a:lnTo>
                          <a:pt x="62" y="80"/>
                        </a:lnTo>
                        <a:lnTo>
                          <a:pt x="69" y="71"/>
                        </a:lnTo>
                        <a:moveTo>
                          <a:pt x="46" y="82"/>
                        </a:moveTo>
                        <a:lnTo>
                          <a:pt x="41" y="93"/>
                        </a:lnTo>
                        <a:lnTo>
                          <a:pt x="16" y="93"/>
                        </a:lnTo>
                        <a:lnTo>
                          <a:pt x="16" y="104"/>
                        </a:lnTo>
                        <a:lnTo>
                          <a:pt x="0" y="88"/>
                        </a:lnTo>
                        <a:lnTo>
                          <a:pt x="16" y="72"/>
                        </a:lnTo>
                        <a:lnTo>
                          <a:pt x="16" y="84"/>
                        </a:lnTo>
                        <a:lnTo>
                          <a:pt x="34" y="84"/>
                        </a:lnTo>
                        <a:lnTo>
                          <a:pt x="37" y="77"/>
                        </a:lnTo>
                        <a:lnTo>
                          <a:pt x="46" y="8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
                <p:cNvGrpSpPr/>
                <p:nvPr/>
              </p:nvGrpSpPr>
              <p:grpSpPr>
                <a:xfrm>
                  <a:off x="4719960" y="2136240"/>
                  <a:ext cx="117360" cy="94320"/>
                  <a:chOff x="4719960" y="2136240"/>
                  <a:chExt cx="117360" cy="94320"/>
                </a:xfrm>
              </p:grpSpPr>
              <p:sp>
                <p:nvSpPr>
                  <p:cNvPr id="216" name=""/>
                  <p:cNvSpPr/>
                  <p:nvPr/>
                </p:nvSpPr>
                <p:spPr>
                  <a:xfrm>
                    <a:off x="4777200" y="2182680"/>
                    <a:ext cx="57600" cy="45720"/>
                  </a:xfrm>
                  <a:custGeom>
                    <a:avLst/>
                    <a:gdLst/>
                    <a:ahLst/>
                    <a:rect l="l" t="t" r="r" b="b"/>
                    <a:pathLst>
                      <a:path w="99" h="103">
                        <a:moveTo>
                          <a:pt x="0" y="103"/>
                        </a:moveTo>
                        <a:lnTo>
                          <a:pt x="0" y="103"/>
                        </a:lnTo>
                        <a:lnTo>
                          <a:pt x="11" y="103"/>
                        </a:lnTo>
                        <a:lnTo>
                          <a:pt x="20" y="101"/>
                        </a:lnTo>
                        <a:lnTo>
                          <a:pt x="30" y="99"/>
                        </a:lnTo>
                        <a:lnTo>
                          <a:pt x="39" y="95"/>
                        </a:lnTo>
                        <a:lnTo>
                          <a:pt x="48" y="91"/>
                        </a:lnTo>
                        <a:lnTo>
                          <a:pt x="56" y="85"/>
                        </a:lnTo>
                        <a:lnTo>
                          <a:pt x="63" y="79"/>
                        </a:lnTo>
                        <a:lnTo>
                          <a:pt x="70" y="73"/>
                        </a:lnTo>
                        <a:lnTo>
                          <a:pt x="77" y="65"/>
                        </a:lnTo>
                        <a:lnTo>
                          <a:pt x="82" y="57"/>
                        </a:lnTo>
                        <a:lnTo>
                          <a:pt x="87" y="49"/>
                        </a:lnTo>
                        <a:lnTo>
                          <a:pt x="91" y="40"/>
                        </a:lnTo>
                        <a:lnTo>
                          <a:pt x="95" y="30"/>
                        </a:lnTo>
                        <a:lnTo>
                          <a:pt x="97" y="20"/>
                        </a:lnTo>
                        <a:lnTo>
                          <a:pt x="98" y="10"/>
                        </a:lnTo>
                        <a:lnTo>
                          <a:pt x="99" y="0"/>
                        </a:lnTo>
                        <a:lnTo>
                          <a:pt x="75" y="0"/>
                        </a:lnTo>
                        <a:lnTo>
                          <a:pt x="74" y="8"/>
                        </a:lnTo>
                        <a:lnTo>
                          <a:pt x="73" y="15"/>
                        </a:lnTo>
                        <a:lnTo>
                          <a:pt x="71" y="23"/>
                        </a:lnTo>
                        <a:lnTo>
                          <a:pt x="69" y="30"/>
                        </a:lnTo>
                        <a:lnTo>
                          <a:pt x="66" y="37"/>
                        </a:lnTo>
                        <a:lnTo>
                          <a:pt x="62" y="44"/>
                        </a:lnTo>
                        <a:lnTo>
                          <a:pt x="58" y="50"/>
                        </a:lnTo>
                        <a:lnTo>
                          <a:pt x="53" y="55"/>
                        </a:lnTo>
                        <a:lnTo>
                          <a:pt x="48" y="60"/>
                        </a:lnTo>
                        <a:lnTo>
                          <a:pt x="42" y="65"/>
                        </a:lnTo>
                        <a:lnTo>
                          <a:pt x="36" y="69"/>
                        </a:lnTo>
                        <a:lnTo>
                          <a:pt x="29" y="72"/>
                        </a:lnTo>
                        <a:lnTo>
                          <a:pt x="22" y="75"/>
                        </a:lnTo>
                        <a:lnTo>
                          <a:pt x="15" y="77"/>
                        </a:lnTo>
                        <a:lnTo>
                          <a:pt x="8" y="78"/>
                        </a:lnTo>
                        <a:lnTo>
                          <a:pt x="0" y="79"/>
                        </a:lnTo>
                        <a:lnTo>
                          <a:pt x="0" y="79"/>
                        </a:lnTo>
                        <a:lnTo>
                          <a:pt x="0" y="103"/>
                        </a:lnTo>
                        <a:close/>
                      </a:path>
                    </a:pathLst>
                  </a:custGeom>
                  <a:solidFill>
                    <a:srgbClr val="242729"/>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7" name=""/>
                  <p:cNvSpPr/>
                  <p:nvPr/>
                </p:nvSpPr>
                <p:spPr>
                  <a:xfrm>
                    <a:off x="4719960" y="2182680"/>
                    <a:ext cx="57240" cy="45720"/>
                  </a:xfrm>
                  <a:custGeom>
                    <a:avLst/>
                    <a:gdLst/>
                    <a:ahLst/>
                    <a:rect l="l" t="t" r="r" b="b"/>
                    <a:pathLst>
                      <a:path w="98" h="103">
                        <a:moveTo>
                          <a:pt x="0" y="0"/>
                        </a:moveTo>
                        <a:lnTo>
                          <a:pt x="0" y="0"/>
                        </a:lnTo>
                        <a:lnTo>
                          <a:pt x="1" y="10"/>
                        </a:lnTo>
                        <a:lnTo>
                          <a:pt x="2" y="20"/>
                        </a:lnTo>
                        <a:lnTo>
                          <a:pt x="4" y="30"/>
                        </a:lnTo>
                        <a:lnTo>
                          <a:pt x="8" y="40"/>
                        </a:lnTo>
                        <a:lnTo>
                          <a:pt x="12" y="49"/>
                        </a:lnTo>
                        <a:lnTo>
                          <a:pt x="17" y="57"/>
                        </a:lnTo>
                        <a:lnTo>
                          <a:pt x="22" y="65"/>
                        </a:lnTo>
                        <a:lnTo>
                          <a:pt x="29" y="73"/>
                        </a:lnTo>
                        <a:lnTo>
                          <a:pt x="36" y="79"/>
                        </a:lnTo>
                        <a:lnTo>
                          <a:pt x="43" y="85"/>
                        </a:lnTo>
                        <a:lnTo>
                          <a:pt x="51" y="91"/>
                        </a:lnTo>
                        <a:lnTo>
                          <a:pt x="60" y="95"/>
                        </a:lnTo>
                        <a:lnTo>
                          <a:pt x="69" y="99"/>
                        </a:lnTo>
                        <a:lnTo>
                          <a:pt x="79" y="101"/>
                        </a:lnTo>
                        <a:lnTo>
                          <a:pt x="88" y="103"/>
                        </a:lnTo>
                        <a:lnTo>
                          <a:pt x="98" y="103"/>
                        </a:lnTo>
                        <a:lnTo>
                          <a:pt x="98" y="79"/>
                        </a:lnTo>
                        <a:lnTo>
                          <a:pt x="91" y="78"/>
                        </a:lnTo>
                        <a:lnTo>
                          <a:pt x="84" y="77"/>
                        </a:lnTo>
                        <a:lnTo>
                          <a:pt x="77" y="75"/>
                        </a:lnTo>
                        <a:lnTo>
                          <a:pt x="70" y="72"/>
                        </a:lnTo>
                        <a:lnTo>
                          <a:pt x="63" y="69"/>
                        </a:lnTo>
                        <a:lnTo>
                          <a:pt x="57" y="65"/>
                        </a:lnTo>
                        <a:lnTo>
                          <a:pt x="51" y="60"/>
                        </a:lnTo>
                        <a:lnTo>
                          <a:pt x="46" y="55"/>
                        </a:lnTo>
                        <a:lnTo>
                          <a:pt x="41" y="50"/>
                        </a:lnTo>
                        <a:lnTo>
                          <a:pt x="37" y="44"/>
                        </a:lnTo>
                        <a:lnTo>
                          <a:pt x="33" y="37"/>
                        </a:lnTo>
                        <a:lnTo>
                          <a:pt x="30" y="30"/>
                        </a:lnTo>
                        <a:lnTo>
                          <a:pt x="28" y="23"/>
                        </a:lnTo>
                        <a:lnTo>
                          <a:pt x="26" y="15"/>
                        </a:lnTo>
                        <a:lnTo>
                          <a:pt x="25" y="8"/>
                        </a:lnTo>
                        <a:lnTo>
                          <a:pt x="24" y="0"/>
                        </a:lnTo>
                        <a:lnTo>
                          <a:pt x="24" y="0"/>
                        </a:lnTo>
                        <a:lnTo>
                          <a:pt x="0" y="0"/>
                        </a:lnTo>
                        <a:close/>
                      </a:path>
                    </a:pathLst>
                  </a:custGeom>
                  <a:solidFill>
                    <a:srgbClr val="242729"/>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8" name=""/>
                  <p:cNvSpPr/>
                  <p:nvPr/>
                </p:nvSpPr>
                <p:spPr>
                  <a:xfrm>
                    <a:off x="4719960" y="2136240"/>
                    <a:ext cx="57240" cy="46440"/>
                  </a:xfrm>
                  <a:custGeom>
                    <a:avLst/>
                    <a:gdLst/>
                    <a:ahLst/>
                    <a:rect l="l" t="t" r="r" b="b"/>
                    <a:pathLst>
                      <a:path w="98" h="105">
                        <a:moveTo>
                          <a:pt x="98" y="0"/>
                        </a:moveTo>
                        <a:lnTo>
                          <a:pt x="98" y="0"/>
                        </a:lnTo>
                        <a:lnTo>
                          <a:pt x="88" y="0"/>
                        </a:lnTo>
                        <a:lnTo>
                          <a:pt x="79" y="2"/>
                        </a:lnTo>
                        <a:lnTo>
                          <a:pt x="69" y="5"/>
                        </a:lnTo>
                        <a:lnTo>
                          <a:pt x="60" y="8"/>
                        </a:lnTo>
                        <a:lnTo>
                          <a:pt x="51" y="13"/>
                        </a:lnTo>
                        <a:lnTo>
                          <a:pt x="43" y="18"/>
                        </a:lnTo>
                        <a:lnTo>
                          <a:pt x="36" y="24"/>
                        </a:lnTo>
                        <a:lnTo>
                          <a:pt x="29" y="31"/>
                        </a:lnTo>
                        <a:lnTo>
                          <a:pt x="22" y="38"/>
                        </a:lnTo>
                        <a:lnTo>
                          <a:pt x="17" y="46"/>
                        </a:lnTo>
                        <a:lnTo>
                          <a:pt x="12" y="55"/>
                        </a:lnTo>
                        <a:lnTo>
                          <a:pt x="8" y="64"/>
                        </a:lnTo>
                        <a:lnTo>
                          <a:pt x="4" y="74"/>
                        </a:lnTo>
                        <a:lnTo>
                          <a:pt x="2" y="84"/>
                        </a:lnTo>
                        <a:lnTo>
                          <a:pt x="1" y="94"/>
                        </a:lnTo>
                        <a:lnTo>
                          <a:pt x="0" y="105"/>
                        </a:lnTo>
                        <a:lnTo>
                          <a:pt x="24" y="105"/>
                        </a:lnTo>
                        <a:lnTo>
                          <a:pt x="25" y="96"/>
                        </a:lnTo>
                        <a:lnTo>
                          <a:pt x="26" y="88"/>
                        </a:lnTo>
                        <a:lnTo>
                          <a:pt x="28" y="81"/>
                        </a:lnTo>
                        <a:lnTo>
                          <a:pt x="30" y="73"/>
                        </a:lnTo>
                        <a:lnTo>
                          <a:pt x="33" y="66"/>
                        </a:lnTo>
                        <a:lnTo>
                          <a:pt x="37" y="60"/>
                        </a:lnTo>
                        <a:lnTo>
                          <a:pt x="41" y="54"/>
                        </a:lnTo>
                        <a:lnTo>
                          <a:pt x="46" y="48"/>
                        </a:lnTo>
                        <a:lnTo>
                          <a:pt x="52" y="43"/>
                        </a:lnTo>
                        <a:lnTo>
                          <a:pt x="57" y="38"/>
                        </a:lnTo>
                        <a:lnTo>
                          <a:pt x="63" y="34"/>
                        </a:lnTo>
                        <a:lnTo>
                          <a:pt x="70" y="31"/>
                        </a:lnTo>
                        <a:lnTo>
                          <a:pt x="77" y="28"/>
                        </a:lnTo>
                        <a:lnTo>
                          <a:pt x="84" y="26"/>
                        </a:lnTo>
                        <a:lnTo>
                          <a:pt x="91" y="25"/>
                        </a:lnTo>
                        <a:lnTo>
                          <a:pt x="98" y="25"/>
                        </a:lnTo>
                        <a:lnTo>
                          <a:pt x="98" y="25"/>
                        </a:lnTo>
                        <a:lnTo>
                          <a:pt x="98" y="0"/>
                        </a:lnTo>
                        <a:close/>
                      </a:path>
                    </a:pathLst>
                  </a:custGeom>
                  <a:solidFill>
                    <a:srgbClr val="24272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19" name=""/>
                  <p:cNvSpPr/>
                  <p:nvPr/>
                </p:nvSpPr>
                <p:spPr>
                  <a:xfrm>
                    <a:off x="4777200" y="2136240"/>
                    <a:ext cx="57600" cy="46440"/>
                  </a:xfrm>
                  <a:custGeom>
                    <a:avLst/>
                    <a:gdLst/>
                    <a:ahLst/>
                    <a:rect l="l" t="t" r="r" b="b"/>
                    <a:pathLst>
                      <a:path w="99" h="105">
                        <a:moveTo>
                          <a:pt x="99" y="105"/>
                        </a:moveTo>
                        <a:lnTo>
                          <a:pt x="99" y="105"/>
                        </a:lnTo>
                        <a:lnTo>
                          <a:pt x="98" y="94"/>
                        </a:lnTo>
                        <a:lnTo>
                          <a:pt x="97" y="84"/>
                        </a:lnTo>
                        <a:lnTo>
                          <a:pt x="95" y="74"/>
                        </a:lnTo>
                        <a:lnTo>
                          <a:pt x="91" y="64"/>
                        </a:lnTo>
                        <a:lnTo>
                          <a:pt x="87" y="55"/>
                        </a:lnTo>
                        <a:lnTo>
                          <a:pt x="82" y="46"/>
                        </a:lnTo>
                        <a:lnTo>
                          <a:pt x="77" y="38"/>
                        </a:lnTo>
                        <a:lnTo>
                          <a:pt x="70" y="31"/>
                        </a:lnTo>
                        <a:lnTo>
                          <a:pt x="63" y="24"/>
                        </a:lnTo>
                        <a:lnTo>
                          <a:pt x="56" y="18"/>
                        </a:lnTo>
                        <a:lnTo>
                          <a:pt x="48" y="13"/>
                        </a:lnTo>
                        <a:lnTo>
                          <a:pt x="39" y="8"/>
                        </a:lnTo>
                        <a:lnTo>
                          <a:pt x="30" y="5"/>
                        </a:lnTo>
                        <a:lnTo>
                          <a:pt x="20" y="2"/>
                        </a:lnTo>
                        <a:lnTo>
                          <a:pt x="11" y="0"/>
                        </a:lnTo>
                        <a:lnTo>
                          <a:pt x="0" y="0"/>
                        </a:lnTo>
                        <a:lnTo>
                          <a:pt x="0" y="25"/>
                        </a:lnTo>
                        <a:lnTo>
                          <a:pt x="8" y="25"/>
                        </a:lnTo>
                        <a:lnTo>
                          <a:pt x="15" y="26"/>
                        </a:lnTo>
                        <a:lnTo>
                          <a:pt x="22" y="28"/>
                        </a:lnTo>
                        <a:lnTo>
                          <a:pt x="29" y="31"/>
                        </a:lnTo>
                        <a:lnTo>
                          <a:pt x="36" y="34"/>
                        </a:lnTo>
                        <a:lnTo>
                          <a:pt x="42" y="38"/>
                        </a:lnTo>
                        <a:lnTo>
                          <a:pt x="47" y="43"/>
                        </a:lnTo>
                        <a:lnTo>
                          <a:pt x="53" y="48"/>
                        </a:lnTo>
                        <a:lnTo>
                          <a:pt x="58" y="54"/>
                        </a:lnTo>
                        <a:lnTo>
                          <a:pt x="62" y="60"/>
                        </a:lnTo>
                        <a:lnTo>
                          <a:pt x="66" y="66"/>
                        </a:lnTo>
                        <a:lnTo>
                          <a:pt x="69" y="73"/>
                        </a:lnTo>
                        <a:lnTo>
                          <a:pt x="71" y="81"/>
                        </a:lnTo>
                        <a:lnTo>
                          <a:pt x="73" y="88"/>
                        </a:lnTo>
                        <a:lnTo>
                          <a:pt x="74" y="96"/>
                        </a:lnTo>
                        <a:lnTo>
                          <a:pt x="75" y="105"/>
                        </a:lnTo>
                        <a:lnTo>
                          <a:pt x="75" y="105"/>
                        </a:lnTo>
                        <a:lnTo>
                          <a:pt x="99" y="105"/>
                        </a:lnTo>
                        <a:close/>
                      </a:path>
                    </a:pathLst>
                  </a:custGeom>
                  <a:solidFill>
                    <a:srgbClr val="242729"/>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20" name=""/>
                  <p:cNvSpPr/>
                  <p:nvPr/>
                </p:nvSpPr>
                <p:spPr>
                  <a:xfrm>
                    <a:off x="4780080" y="2184480"/>
                    <a:ext cx="57240" cy="46080"/>
                  </a:xfrm>
                  <a:custGeom>
                    <a:avLst/>
                    <a:gdLst/>
                    <a:ahLst/>
                    <a:rect l="l" t="t" r="r" b="b"/>
                    <a:pathLst>
                      <a:path w="98" h="104">
                        <a:moveTo>
                          <a:pt x="0" y="104"/>
                        </a:moveTo>
                        <a:lnTo>
                          <a:pt x="0" y="104"/>
                        </a:lnTo>
                        <a:lnTo>
                          <a:pt x="10" y="103"/>
                        </a:lnTo>
                        <a:lnTo>
                          <a:pt x="19" y="101"/>
                        </a:lnTo>
                        <a:lnTo>
                          <a:pt x="29" y="99"/>
                        </a:lnTo>
                        <a:lnTo>
                          <a:pt x="38" y="95"/>
                        </a:lnTo>
                        <a:lnTo>
                          <a:pt x="47" y="91"/>
                        </a:lnTo>
                        <a:lnTo>
                          <a:pt x="55" y="86"/>
                        </a:lnTo>
                        <a:lnTo>
                          <a:pt x="62" y="80"/>
                        </a:lnTo>
                        <a:lnTo>
                          <a:pt x="69" y="73"/>
                        </a:lnTo>
                        <a:lnTo>
                          <a:pt x="76" y="65"/>
                        </a:lnTo>
                        <a:lnTo>
                          <a:pt x="81" y="57"/>
                        </a:lnTo>
                        <a:lnTo>
                          <a:pt x="86" y="49"/>
                        </a:lnTo>
                        <a:lnTo>
                          <a:pt x="90" y="40"/>
                        </a:lnTo>
                        <a:lnTo>
                          <a:pt x="94" y="30"/>
                        </a:lnTo>
                        <a:lnTo>
                          <a:pt x="96" y="20"/>
                        </a:lnTo>
                        <a:lnTo>
                          <a:pt x="97" y="10"/>
                        </a:lnTo>
                        <a:lnTo>
                          <a:pt x="98" y="0"/>
                        </a:lnTo>
                        <a:lnTo>
                          <a:pt x="74" y="0"/>
                        </a:lnTo>
                        <a:lnTo>
                          <a:pt x="73" y="8"/>
                        </a:lnTo>
                        <a:lnTo>
                          <a:pt x="72" y="16"/>
                        </a:lnTo>
                        <a:lnTo>
                          <a:pt x="70" y="23"/>
                        </a:lnTo>
                        <a:lnTo>
                          <a:pt x="68" y="30"/>
                        </a:lnTo>
                        <a:lnTo>
                          <a:pt x="65" y="37"/>
                        </a:lnTo>
                        <a:lnTo>
                          <a:pt x="61" y="44"/>
                        </a:lnTo>
                        <a:lnTo>
                          <a:pt x="57" y="50"/>
                        </a:lnTo>
                        <a:lnTo>
                          <a:pt x="52" y="56"/>
                        </a:lnTo>
                        <a:lnTo>
                          <a:pt x="47" y="61"/>
                        </a:lnTo>
                        <a:lnTo>
                          <a:pt x="41" y="65"/>
                        </a:lnTo>
                        <a:lnTo>
                          <a:pt x="35" y="69"/>
                        </a:lnTo>
                        <a:lnTo>
                          <a:pt x="28" y="73"/>
                        </a:lnTo>
                        <a:lnTo>
                          <a:pt x="21" y="75"/>
                        </a:lnTo>
                        <a:lnTo>
                          <a:pt x="14" y="77"/>
                        </a:lnTo>
                        <a:lnTo>
                          <a:pt x="7" y="78"/>
                        </a:lnTo>
                        <a:lnTo>
                          <a:pt x="0" y="79"/>
                        </a:lnTo>
                        <a:lnTo>
                          <a:pt x="0" y="79"/>
                        </a:lnTo>
                        <a:lnTo>
                          <a:pt x="0" y="104"/>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1" name=""/>
                  <p:cNvSpPr/>
                  <p:nvPr/>
                </p:nvSpPr>
                <p:spPr>
                  <a:xfrm>
                    <a:off x="4722120" y="2184480"/>
                    <a:ext cx="57960" cy="46080"/>
                  </a:xfrm>
                  <a:custGeom>
                    <a:avLst/>
                    <a:gdLst/>
                    <a:ahLst/>
                    <a:rect l="l" t="t" r="r" b="b"/>
                    <a:pathLst>
                      <a:path w="99" h="104">
                        <a:moveTo>
                          <a:pt x="0" y="0"/>
                        </a:moveTo>
                        <a:lnTo>
                          <a:pt x="0" y="0"/>
                        </a:lnTo>
                        <a:lnTo>
                          <a:pt x="1" y="10"/>
                        </a:lnTo>
                        <a:lnTo>
                          <a:pt x="2" y="20"/>
                        </a:lnTo>
                        <a:lnTo>
                          <a:pt x="4" y="30"/>
                        </a:lnTo>
                        <a:lnTo>
                          <a:pt x="8" y="40"/>
                        </a:lnTo>
                        <a:lnTo>
                          <a:pt x="12" y="49"/>
                        </a:lnTo>
                        <a:lnTo>
                          <a:pt x="17" y="57"/>
                        </a:lnTo>
                        <a:lnTo>
                          <a:pt x="22" y="65"/>
                        </a:lnTo>
                        <a:lnTo>
                          <a:pt x="29" y="73"/>
                        </a:lnTo>
                        <a:lnTo>
                          <a:pt x="36" y="80"/>
                        </a:lnTo>
                        <a:lnTo>
                          <a:pt x="43" y="86"/>
                        </a:lnTo>
                        <a:lnTo>
                          <a:pt x="51" y="91"/>
                        </a:lnTo>
                        <a:lnTo>
                          <a:pt x="60" y="95"/>
                        </a:lnTo>
                        <a:lnTo>
                          <a:pt x="69" y="99"/>
                        </a:lnTo>
                        <a:lnTo>
                          <a:pt x="79" y="101"/>
                        </a:lnTo>
                        <a:lnTo>
                          <a:pt x="88" y="103"/>
                        </a:lnTo>
                        <a:lnTo>
                          <a:pt x="99" y="104"/>
                        </a:lnTo>
                        <a:lnTo>
                          <a:pt x="99" y="79"/>
                        </a:lnTo>
                        <a:lnTo>
                          <a:pt x="91" y="78"/>
                        </a:lnTo>
                        <a:lnTo>
                          <a:pt x="84" y="77"/>
                        </a:lnTo>
                        <a:lnTo>
                          <a:pt x="77" y="75"/>
                        </a:lnTo>
                        <a:lnTo>
                          <a:pt x="70" y="73"/>
                        </a:lnTo>
                        <a:lnTo>
                          <a:pt x="63" y="69"/>
                        </a:lnTo>
                        <a:lnTo>
                          <a:pt x="57" y="65"/>
                        </a:lnTo>
                        <a:lnTo>
                          <a:pt x="52" y="61"/>
                        </a:lnTo>
                        <a:lnTo>
                          <a:pt x="46" y="56"/>
                        </a:lnTo>
                        <a:lnTo>
                          <a:pt x="41" y="50"/>
                        </a:lnTo>
                        <a:lnTo>
                          <a:pt x="37" y="44"/>
                        </a:lnTo>
                        <a:lnTo>
                          <a:pt x="33" y="37"/>
                        </a:lnTo>
                        <a:lnTo>
                          <a:pt x="30" y="30"/>
                        </a:lnTo>
                        <a:lnTo>
                          <a:pt x="28" y="23"/>
                        </a:lnTo>
                        <a:lnTo>
                          <a:pt x="26" y="16"/>
                        </a:lnTo>
                        <a:lnTo>
                          <a:pt x="25" y="8"/>
                        </a:lnTo>
                        <a:lnTo>
                          <a:pt x="24" y="0"/>
                        </a:lnTo>
                        <a:lnTo>
                          <a:pt x="24" y="0"/>
                        </a:lnTo>
                        <a:lnTo>
                          <a:pt x="0"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2" name=""/>
                  <p:cNvSpPr/>
                  <p:nvPr/>
                </p:nvSpPr>
                <p:spPr>
                  <a:xfrm>
                    <a:off x="4722120" y="2137680"/>
                    <a:ext cx="57960" cy="46440"/>
                  </a:xfrm>
                  <a:custGeom>
                    <a:avLst/>
                    <a:gdLst/>
                    <a:ahLst/>
                    <a:rect l="l" t="t" r="r" b="b"/>
                    <a:pathLst>
                      <a:path w="99" h="105">
                        <a:moveTo>
                          <a:pt x="99" y="0"/>
                        </a:moveTo>
                        <a:lnTo>
                          <a:pt x="99" y="0"/>
                        </a:lnTo>
                        <a:lnTo>
                          <a:pt x="88" y="0"/>
                        </a:lnTo>
                        <a:lnTo>
                          <a:pt x="79" y="2"/>
                        </a:lnTo>
                        <a:lnTo>
                          <a:pt x="69" y="5"/>
                        </a:lnTo>
                        <a:lnTo>
                          <a:pt x="60" y="8"/>
                        </a:lnTo>
                        <a:lnTo>
                          <a:pt x="51" y="13"/>
                        </a:lnTo>
                        <a:lnTo>
                          <a:pt x="43" y="18"/>
                        </a:lnTo>
                        <a:lnTo>
                          <a:pt x="36" y="24"/>
                        </a:lnTo>
                        <a:lnTo>
                          <a:pt x="29" y="31"/>
                        </a:lnTo>
                        <a:lnTo>
                          <a:pt x="22" y="38"/>
                        </a:lnTo>
                        <a:lnTo>
                          <a:pt x="17" y="46"/>
                        </a:lnTo>
                        <a:lnTo>
                          <a:pt x="12" y="55"/>
                        </a:lnTo>
                        <a:lnTo>
                          <a:pt x="8" y="64"/>
                        </a:lnTo>
                        <a:lnTo>
                          <a:pt x="4" y="74"/>
                        </a:lnTo>
                        <a:lnTo>
                          <a:pt x="2" y="84"/>
                        </a:lnTo>
                        <a:lnTo>
                          <a:pt x="1" y="94"/>
                        </a:lnTo>
                        <a:lnTo>
                          <a:pt x="0" y="105"/>
                        </a:lnTo>
                        <a:lnTo>
                          <a:pt x="24" y="105"/>
                        </a:lnTo>
                        <a:lnTo>
                          <a:pt x="25" y="97"/>
                        </a:lnTo>
                        <a:lnTo>
                          <a:pt x="26" y="89"/>
                        </a:lnTo>
                        <a:lnTo>
                          <a:pt x="28" y="81"/>
                        </a:lnTo>
                        <a:lnTo>
                          <a:pt x="30" y="73"/>
                        </a:lnTo>
                        <a:lnTo>
                          <a:pt x="33" y="66"/>
                        </a:lnTo>
                        <a:lnTo>
                          <a:pt x="37" y="60"/>
                        </a:lnTo>
                        <a:lnTo>
                          <a:pt x="42" y="54"/>
                        </a:lnTo>
                        <a:lnTo>
                          <a:pt x="46" y="48"/>
                        </a:lnTo>
                        <a:lnTo>
                          <a:pt x="52" y="43"/>
                        </a:lnTo>
                        <a:lnTo>
                          <a:pt x="57" y="38"/>
                        </a:lnTo>
                        <a:lnTo>
                          <a:pt x="63" y="34"/>
                        </a:lnTo>
                        <a:lnTo>
                          <a:pt x="70" y="31"/>
                        </a:lnTo>
                        <a:lnTo>
                          <a:pt x="77" y="28"/>
                        </a:lnTo>
                        <a:lnTo>
                          <a:pt x="84" y="26"/>
                        </a:lnTo>
                        <a:lnTo>
                          <a:pt x="91" y="25"/>
                        </a:lnTo>
                        <a:lnTo>
                          <a:pt x="99" y="25"/>
                        </a:lnTo>
                        <a:lnTo>
                          <a:pt x="99" y="25"/>
                        </a:lnTo>
                        <a:lnTo>
                          <a:pt x="99"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23" name=""/>
                  <p:cNvSpPr/>
                  <p:nvPr/>
                </p:nvSpPr>
                <p:spPr>
                  <a:xfrm>
                    <a:off x="4780080" y="2137680"/>
                    <a:ext cx="57240" cy="46440"/>
                  </a:xfrm>
                  <a:custGeom>
                    <a:avLst/>
                    <a:gdLst/>
                    <a:ahLst/>
                    <a:rect l="l" t="t" r="r" b="b"/>
                    <a:pathLst>
                      <a:path w="98" h="105">
                        <a:moveTo>
                          <a:pt x="98" y="105"/>
                        </a:moveTo>
                        <a:lnTo>
                          <a:pt x="98" y="105"/>
                        </a:lnTo>
                        <a:lnTo>
                          <a:pt x="97" y="94"/>
                        </a:lnTo>
                        <a:lnTo>
                          <a:pt x="96" y="84"/>
                        </a:lnTo>
                        <a:lnTo>
                          <a:pt x="94" y="74"/>
                        </a:lnTo>
                        <a:lnTo>
                          <a:pt x="90" y="64"/>
                        </a:lnTo>
                        <a:lnTo>
                          <a:pt x="86" y="55"/>
                        </a:lnTo>
                        <a:lnTo>
                          <a:pt x="81" y="46"/>
                        </a:lnTo>
                        <a:lnTo>
                          <a:pt x="76" y="38"/>
                        </a:lnTo>
                        <a:lnTo>
                          <a:pt x="69" y="31"/>
                        </a:lnTo>
                        <a:lnTo>
                          <a:pt x="62" y="24"/>
                        </a:lnTo>
                        <a:lnTo>
                          <a:pt x="55" y="18"/>
                        </a:lnTo>
                        <a:lnTo>
                          <a:pt x="47" y="13"/>
                        </a:lnTo>
                        <a:lnTo>
                          <a:pt x="38" y="8"/>
                        </a:lnTo>
                        <a:lnTo>
                          <a:pt x="29" y="5"/>
                        </a:lnTo>
                        <a:lnTo>
                          <a:pt x="19" y="2"/>
                        </a:lnTo>
                        <a:lnTo>
                          <a:pt x="10" y="0"/>
                        </a:lnTo>
                        <a:lnTo>
                          <a:pt x="0" y="0"/>
                        </a:lnTo>
                        <a:lnTo>
                          <a:pt x="0" y="25"/>
                        </a:lnTo>
                        <a:lnTo>
                          <a:pt x="7" y="25"/>
                        </a:lnTo>
                        <a:lnTo>
                          <a:pt x="14" y="26"/>
                        </a:lnTo>
                        <a:lnTo>
                          <a:pt x="21" y="28"/>
                        </a:lnTo>
                        <a:lnTo>
                          <a:pt x="28" y="31"/>
                        </a:lnTo>
                        <a:lnTo>
                          <a:pt x="35" y="34"/>
                        </a:lnTo>
                        <a:lnTo>
                          <a:pt x="41" y="38"/>
                        </a:lnTo>
                        <a:lnTo>
                          <a:pt x="47" y="43"/>
                        </a:lnTo>
                        <a:lnTo>
                          <a:pt x="52" y="48"/>
                        </a:lnTo>
                        <a:lnTo>
                          <a:pt x="57" y="54"/>
                        </a:lnTo>
                        <a:lnTo>
                          <a:pt x="61" y="60"/>
                        </a:lnTo>
                        <a:lnTo>
                          <a:pt x="65" y="66"/>
                        </a:lnTo>
                        <a:lnTo>
                          <a:pt x="68" y="73"/>
                        </a:lnTo>
                        <a:lnTo>
                          <a:pt x="70" y="81"/>
                        </a:lnTo>
                        <a:lnTo>
                          <a:pt x="72" y="89"/>
                        </a:lnTo>
                        <a:lnTo>
                          <a:pt x="73" y="97"/>
                        </a:lnTo>
                        <a:lnTo>
                          <a:pt x="74" y="105"/>
                        </a:lnTo>
                        <a:lnTo>
                          <a:pt x="74" y="105"/>
                        </a:lnTo>
                        <a:lnTo>
                          <a:pt x="98" y="105"/>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grpSp>
        </p:grpSp>
        <p:sp>
          <p:nvSpPr>
            <p:cNvPr id="224" name=""/>
            <p:cNvSpPr/>
            <p:nvPr/>
          </p:nvSpPr>
          <p:spPr>
            <a:xfrm>
              <a:off x="4582440" y="2340720"/>
              <a:ext cx="542160" cy="367920"/>
            </a:xfrm>
            <a:prstGeom prst="rect">
              <a:avLst/>
            </a:prstGeom>
            <a:noFill/>
            <a:ln w="0">
              <a:noFill/>
            </a:ln>
          </p:spPr>
          <p:style>
            <a:lnRef idx="0"/>
            <a:fillRef idx="0"/>
            <a:effectRef idx="0"/>
            <a:fontRef idx="minor"/>
          </p:style>
          <p:txBody>
            <a:bodyPr lIns="57600" rIns="576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RAS</a:t>
              </a:r>
              <a:endParaRPr b="0" lang="en-US" sz="900" spc="-1" strike="noStrike">
                <a:solidFill>
                  <a:srgbClr val="000000"/>
                </a:solidFill>
                <a:latin typeface="Arial"/>
              </a:endParaRPr>
            </a:p>
          </p:txBody>
        </p:sp>
        <p:sp>
          <p:nvSpPr>
            <p:cNvPr id="225" name=""/>
            <p:cNvSpPr/>
            <p:nvPr/>
          </p:nvSpPr>
          <p:spPr>
            <a:xfrm>
              <a:off x="5807160" y="2826720"/>
              <a:ext cx="308520" cy="368640"/>
            </a:xfrm>
            <a:prstGeom prst="rect">
              <a:avLst/>
            </a:prstGeom>
            <a:noFill/>
            <a:ln w="0">
              <a:noFill/>
            </a:ln>
          </p:spPr>
          <p:style>
            <a:lnRef idx="0"/>
            <a:fillRef idx="0"/>
            <a:effectRef idx="0"/>
            <a:fontRef idx="minor"/>
          </p:style>
          <p:txBody>
            <a:bodyPr lIns="57600" rIns="57600" tIns="28800" bIns="28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3</a:t>
              </a:r>
              <a:endParaRPr b="0" lang="en-US" sz="900" spc="-1" strike="noStrike">
                <a:solidFill>
                  <a:srgbClr val="000000"/>
                </a:solidFill>
                <a:latin typeface="Arial"/>
              </a:endParaRPr>
            </a:p>
          </p:txBody>
        </p:sp>
        <p:pic>
          <p:nvPicPr>
            <p:cNvPr id="226" name="" descr=""/>
            <p:cNvPicPr/>
            <p:nvPr/>
          </p:nvPicPr>
          <p:blipFill>
            <a:blip r:embed="rId8"/>
            <a:stretch/>
          </p:blipFill>
          <p:spPr>
            <a:xfrm>
              <a:off x="2595600" y="5028480"/>
              <a:ext cx="436680" cy="311400"/>
            </a:xfrm>
            <a:prstGeom prst="rect">
              <a:avLst/>
            </a:prstGeom>
            <a:ln w="0">
              <a:noFill/>
            </a:ln>
          </p:spPr>
        </p:pic>
        <p:pic>
          <p:nvPicPr>
            <p:cNvPr id="227" name="" descr=""/>
            <p:cNvPicPr/>
            <p:nvPr/>
          </p:nvPicPr>
          <p:blipFill>
            <a:blip r:embed="rId9"/>
            <a:stretch/>
          </p:blipFill>
          <p:spPr>
            <a:xfrm>
              <a:off x="6568200" y="5077800"/>
              <a:ext cx="504720" cy="268560"/>
            </a:xfrm>
            <a:prstGeom prst="rect">
              <a:avLst/>
            </a:prstGeom>
            <a:ln w="0">
              <a:noFill/>
            </a:ln>
          </p:spPr>
        </p:pic>
        <p:sp>
          <p:nvSpPr>
            <p:cNvPr id="228" name=""/>
            <p:cNvSpPr/>
            <p:nvPr/>
          </p:nvSpPr>
          <p:spPr>
            <a:xfrm>
              <a:off x="6496920" y="5378760"/>
              <a:ext cx="667440" cy="463680"/>
            </a:xfrm>
            <a:prstGeom prst="rect">
              <a:avLst/>
            </a:prstGeom>
            <a:noFill/>
            <a:ln w="0">
              <a:noFill/>
            </a:ln>
          </p:spPr>
          <p:style>
            <a:lnRef idx="0"/>
            <a:fillRef idx="0"/>
            <a:effectRef idx="0"/>
            <a:fontRef idx="minor"/>
          </p:style>
          <p:txBody>
            <a:bodyPr lIns="57600" rIns="576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alogni</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dem</a:t>
              </a:r>
              <a:endParaRPr b="0" lang="en-US" sz="700" spc="-1" strike="noStrike">
                <a:solidFill>
                  <a:srgbClr val="000000"/>
                </a:solidFill>
                <a:latin typeface="Arial"/>
              </a:endParaRPr>
            </a:p>
          </p:txBody>
        </p:sp>
        <p:sp>
          <p:nvSpPr>
            <p:cNvPr id="229" name=""/>
            <p:cNvSpPr/>
            <p:nvPr/>
          </p:nvSpPr>
          <p:spPr>
            <a:xfrm>
              <a:off x="2541240" y="5393880"/>
              <a:ext cx="513360" cy="465480"/>
            </a:xfrm>
            <a:prstGeom prst="rect">
              <a:avLst/>
            </a:prstGeom>
            <a:noFill/>
            <a:ln w="0">
              <a:noFill/>
            </a:ln>
          </p:spPr>
          <p:style>
            <a:lnRef idx="0"/>
            <a:fillRef idx="0"/>
            <a:effectRef idx="0"/>
            <a:fontRef idx="minor"/>
          </p:style>
          <p:txBody>
            <a:bodyPr lIns="57600" rIns="576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PON</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PON</a:t>
              </a:r>
              <a:endParaRPr b="0" lang="en-US" sz="700" spc="-1" strike="noStrike">
                <a:solidFill>
                  <a:srgbClr val="000000"/>
                </a:solidFill>
                <a:latin typeface="Arial"/>
              </a:endParaRPr>
            </a:p>
          </p:txBody>
        </p:sp>
        <p:pic>
          <p:nvPicPr>
            <p:cNvPr id="230" name="" descr=""/>
            <p:cNvPicPr/>
            <p:nvPr/>
          </p:nvPicPr>
          <p:blipFill>
            <a:blip r:embed="rId10"/>
            <a:stretch/>
          </p:blipFill>
          <p:spPr>
            <a:xfrm>
              <a:off x="3708000" y="5120640"/>
              <a:ext cx="466560" cy="316800"/>
            </a:xfrm>
            <a:prstGeom prst="rect">
              <a:avLst/>
            </a:prstGeom>
            <a:ln w="0">
              <a:noFill/>
            </a:ln>
          </p:spPr>
        </p:pic>
        <p:sp>
          <p:nvSpPr>
            <p:cNvPr id="231" name=""/>
            <p:cNvSpPr/>
            <p:nvPr/>
          </p:nvSpPr>
          <p:spPr>
            <a:xfrm>
              <a:off x="3708000" y="5464800"/>
              <a:ext cx="524520" cy="441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m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teway </a:t>
              </a:r>
              <a:endParaRPr b="0" lang="en-US" sz="700" spc="-1" strike="noStrike">
                <a:solidFill>
                  <a:srgbClr val="000000"/>
                </a:solidFill>
                <a:latin typeface="Arial"/>
              </a:endParaRPr>
            </a:p>
          </p:txBody>
        </p:sp>
        <p:grpSp>
          <p:nvGrpSpPr>
            <p:cNvPr id="232" name=""/>
            <p:cNvGrpSpPr/>
            <p:nvPr/>
          </p:nvGrpSpPr>
          <p:grpSpPr>
            <a:xfrm>
              <a:off x="6098400" y="5096520"/>
              <a:ext cx="233640" cy="324000"/>
              <a:chOff x="6098400" y="5096520"/>
              <a:chExt cx="233640" cy="324000"/>
            </a:xfrm>
          </p:grpSpPr>
          <p:sp>
            <p:nvSpPr>
              <p:cNvPr id="233" name=""/>
              <p:cNvSpPr/>
              <p:nvPr/>
            </p:nvSpPr>
            <p:spPr>
              <a:xfrm>
                <a:off x="6098400" y="5096520"/>
                <a:ext cx="233640" cy="324000"/>
              </a:xfrm>
              <a:custGeom>
                <a:avLst/>
                <a:gdLst/>
                <a:ahLst/>
                <a:rect l="l" t="t" r="r" b="b"/>
                <a:pathLst>
                  <a:path w="1626" h="2489">
                    <a:moveTo>
                      <a:pt x="1626" y="0"/>
                    </a:moveTo>
                    <a:lnTo>
                      <a:pt x="1626" y="2311"/>
                    </a:lnTo>
                    <a:lnTo>
                      <a:pt x="1346" y="2489"/>
                    </a:lnTo>
                    <a:lnTo>
                      <a:pt x="0" y="2489"/>
                    </a:lnTo>
                    <a:lnTo>
                      <a:pt x="0" y="178"/>
                    </a:lnTo>
                    <a:lnTo>
                      <a:pt x="280" y="0"/>
                    </a:lnTo>
                    <a:lnTo>
                      <a:pt x="1626" y="0"/>
                    </a:lnTo>
                    <a:lnTo>
                      <a:pt x="1626" y="0"/>
                    </a:lnTo>
                    <a:lnTo>
                      <a:pt x="1626" y="0"/>
                    </a:lnTo>
                    <a:close/>
                  </a:path>
                </a:pathLst>
              </a:custGeom>
              <a:solidFill>
                <a:srgbClr val="7fa6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098400" y="5119200"/>
                <a:ext cx="193320" cy="300960"/>
              </a:xfrm>
              <a:prstGeom prst="rect">
                <a:avLst/>
              </a:prstGeom>
              <a:solidFill>
                <a:srgbClr val="7fa6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6291720" y="5096520"/>
                <a:ext cx="39960" cy="324000"/>
              </a:xfrm>
              <a:custGeom>
                <a:avLst/>
                <a:gdLst/>
                <a:ahLst/>
                <a:rect l="l" t="t" r="r" b="b"/>
                <a:pathLst>
                  <a:path w="280" h="2489">
                    <a:moveTo>
                      <a:pt x="280" y="0"/>
                    </a:moveTo>
                    <a:lnTo>
                      <a:pt x="0" y="178"/>
                    </a:lnTo>
                    <a:lnTo>
                      <a:pt x="0" y="2489"/>
                    </a:lnTo>
                    <a:lnTo>
                      <a:pt x="280" y="2311"/>
                    </a:lnTo>
                    <a:lnTo>
                      <a:pt x="280" y="0"/>
                    </a:lnTo>
                    <a:close/>
                  </a:path>
                </a:pathLst>
              </a:custGeom>
              <a:solidFill>
                <a:srgbClr val="00426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098400" y="5096520"/>
                <a:ext cx="233640" cy="22680"/>
              </a:xfrm>
              <a:custGeom>
                <a:avLst/>
                <a:gdLst/>
                <a:ahLst/>
                <a:rect l="l" t="t" r="r" b="b"/>
                <a:pathLst>
                  <a:path w="1626" h="178">
                    <a:moveTo>
                      <a:pt x="0" y="178"/>
                    </a:moveTo>
                    <a:lnTo>
                      <a:pt x="1346" y="178"/>
                    </a:lnTo>
                    <a:lnTo>
                      <a:pt x="1626" y="0"/>
                    </a:lnTo>
                    <a:lnTo>
                      <a:pt x="280" y="0"/>
                    </a:lnTo>
                    <a:lnTo>
                      <a:pt x="0" y="178"/>
                    </a:lnTo>
                    <a:close/>
                  </a:path>
                </a:pathLst>
              </a:custGeom>
              <a:solidFill>
                <a:srgbClr val="4d7299"/>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37" name=""/>
              <p:cNvSpPr/>
              <p:nvPr/>
            </p:nvSpPr>
            <p:spPr>
              <a:xfrm>
                <a:off x="6098400" y="5221440"/>
                <a:ext cx="193320" cy="13320"/>
              </a:xfrm>
              <a:prstGeom prst="rect">
                <a:avLst/>
              </a:pr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38" name=""/>
              <p:cNvSpPr/>
              <p:nvPr/>
            </p:nvSpPr>
            <p:spPr>
              <a:xfrm>
                <a:off x="6098400" y="5234400"/>
                <a:ext cx="193320" cy="13320"/>
              </a:xfrm>
              <a:prstGeom prst="rect">
                <a:avLst/>
              </a:prstGeom>
              <a:solidFill>
                <a:srgbClr val="a7cded"/>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39" name=""/>
              <p:cNvSpPr/>
              <p:nvPr/>
            </p:nvSpPr>
            <p:spPr>
              <a:xfrm>
                <a:off x="6098400" y="5159520"/>
                <a:ext cx="193320" cy="13320"/>
              </a:xfrm>
              <a:prstGeom prst="rect">
                <a:avLst/>
              </a:prstGeom>
              <a:solidFill>
                <a:srgbClr val="1f1a17"/>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40" name=""/>
              <p:cNvSpPr/>
              <p:nvPr/>
            </p:nvSpPr>
            <p:spPr>
              <a:xfrm>
                <a:off x="6098400" y="5172840"/>
                <a:ext cx="193320" cy="13320"/>
              </a:xfrm>
              <a:prstGeom prst="rect">
                <a:avLst/>
              </a:prstGeom>
              <a:solidFill>
                <a:srgbClr val="a7cded"/>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41" name=""/>
              <p:cNvSpPr/>
              <p:nvPr/>
            </p:nvSpPr>
            <p:spPr>
              <a:xfrm>
                <a:off x="6118920" y="5271840"/>
                <a:ext cx="129240" cy="127440"/>
              </a:xfrm>
              <a:custGeom>
                <a:avLst/>
                <a:gdLst/>
                <a:ahLst/>
                <a:rect l="l" t="t" r="r" b="b"/>
                <a:pathLst>
                  <a:path w="898" h="980">
                    <a:moveTo>
                      <a:pt x="609" y="234"/>
                    </a:moveTo>
                    <a:lnTo>
                      <a:pt x="709" y="0"/>
                    </a:lnTo>
                    <a:lnTo>
                      <a:pt x="730" y="16"/>
                    </a:lnTo>
                    <a:lnTo>
                      <a:pt x="781" y="59"/>
                    </a:lnTo>
                    <a:lnTo>
                      <a:pt x="839" y="106"/>
                    </a:lnTo>
                    <a:lnTo>
                      <a:pt x="887" y="146"/>
                    </a:lnTo>
                    <a:lnTo>
                      <a:pt x="892" y="158"/>
                    </a:lnTo>
                    <a:lnTo>
                      <a:pt x="895" y="171"/>
                    </a:lnTo>
                    <a:lnTo>
                      <a:pt x="897" y="186"/>
                    </a:lnTo>
                    <a:lnTo>
                      <a:pt x="898" y="203"/>
                    </a:lnTo>
                    <a:lnTo>
                      <a:pt x="897" y="221"/>
                    </a:lnTo>
                    <a:lnTo>
                      <a:pt x="896" y="240"/>
                    </a:lnTo>
                    <a:lnTo>
                      <a:pt x="893" y="262"/>
                    </a:lnTo>
                    <a:lnTo>
                      <a:pt x="888" y="284"/>
                    </a:lnTo>
                    <a:lnTo>
                      <a:pt x="882" y="307"/>
                    </a:lnTo>
                    <a:lnTo>
                      <a:pt x="875" y="332"/>
                    </a:lnTo>
                    <a:lnTo>
                      <a:pt x="866" y="357"/>
                    </a:lnTo>
                    <a:lnTo>
                      <a:pt x="856" y="384"/>
                    </a:lnTo>
                    <a:lnTo>
                      <a:pt x="843" y="411"/>
                    </a:lnTo>
                    <a:lnTo>
                      <a:pt x="830" y="440"/>
                    </a:lnTo>
                    <a:lnTo>
                      <a:pt x="815" y="469"/>
                    </a:lnTo>
                    <a:lnTo>
                      <a:pt x="798" y="499"/>
                    </a:lnTo>
                    <a:lnTo>
                      <a:pt x="780" y="528"/>
                    </a:lnTo>
                    <a:lnTo>
                      <a:pt x="759" y="559"/>
                    </a:lnTo>
                    <a:lnTo>
                      <a:pt x="738" y="590"/>
                    </a:lnTo>
                    <a:lnTo>
                      <a:pt x="714" y="621"/>
                    </a:lnTo>
                    <a:lnTo>
                      <a:pt x="689" y="652"/>
                    </a:lnTo>
                    <a:lnTo>
                      <a:pt x="660" y="683"/>
                    </a:lnTo>
                    <a:lnTo>
                      <a:pt x="632" y="714"/>
                    </a:lnTo>
                    <a:lnTo>
                      <a:pt x="601" y="746"/>
                    </a:lnTo>
                    <a:lnTo>
                      <a:pt x="568" y="777"/>
                    </a:lnTo>
                    <a:lnTo>
                      <a:pt x="533" y="806"/>
                    </a:lnTo>
                    <a:lnTo>
                      <a:pt x="496" y="837"/>
                    </a:lnTo>
                    <a:lnTo>
                      <a:pt x="457" y="867"/>
                    </a:lnTo>
                    <a:lnTo>
                      <a:pt x="416" y="896"/>
                    </a:lnTo>
                    <a:lnTo>
                      <a:pt x="372" y="925"/>
                    </a:lnTo>
                    <a:lnTo>
                      <a:pt x="327" y="953"/>
                    </a:lnTo>
                    <a:lnTo>
                      <a:pt x="279" y="980"/>
                    </a:lnTo>
                    <a:lnTo>
                      <a:pt x="243" y="979"/>
                    </a:lnTo>
                    <a:lnTo>
                      <a:pt x="211" y="977"/>
                    </a:lnTo>
                    <a:lnTo>
                      <a:pt x="184" y="975"/>
                    </a:lnTo>
                    <a:lnTo>
                      <a:pt x="161" y="972"/>
                    </a:lnTo>
                    <a:lnTo>
                      <a:pt x="129" y="968"/>
                    </a:lnTo>
                    <a:lnTo>
                      <a:pt x="119" y="966"/>
                    </a:lnTo>
                    <a:lnTo>
                      <a:pt x="0" y="850"/>
                    </a:lnTo>
                    <a:lnTo>
                      <a:pt x="188" y="678"/>
                    </a:lnTo>
                    <a:lnTo>
                      <a:pt x="326" y="782"/>
                    </a:lnTo>
                    <a:lnTo>
                      <a:pt x="341" y="770"/>
                    </a:lnTo>
                    <a:lnTo>
                      <a:pt x="381" y="737"/>
                    </a:lnTo>
                    <a:lnTo>
                      <a:pt x="409" y="714"/>
                    </a:lnTo>
                    <a:lnTo>
                      <a:pt x="439" y="685"/>
                    </a:lnTo>
                    <a:lnTo>
                      <a:pt x="472" y="656"/>
                    </a:lnTo>
                    <a:lnTo>
                      <a:pt x="507" y="622"/>
                    </a:lnTo>
                    <a:lnTo>
                      <a:pt x="542" y="588"/>
                    </a:lnTo>
                    <a:lnTo>
                      <a:pt x="575" y="552"/>
                    </a:lnTo>
                    <a:lnTo>
                      <a:pt x="608" y="513"/>
                    </a:lnTo>
                    <a:lnTo>
                      <a:pt x="637" y="476"/>
                    </a:lnTo>
                    <a:lnTo>
                      <a:pt x="651" y="456"/>
                    </a:lnTo>
                    <a:lnTo>
                      <a:pt x="664" y="437"/>
                    </a:lnTo>
                    <a:lnTo>
                      <a:pt x="676" y="419"/>
                    </a:lnTo>
                    <a:lnTo>
                      <a:pt x="686" y="400"/>
                    </a:lnTo>
                    <a:lnTo>
                      <a:pt x="695" y="382"/>
                    </a:lnTo>
                    <a:lnTo>
                      <a:pt x="702" y="364"/>
                    </a:lnTo>
                    <a:lnTo>
                      <a:pt x="708" y="347"/>
                    </a:lnTo>
                    <a:lnTo>
                      <a:pt x="712" y="330"/>
                    </a:lnTo>
                    <a:lnTo>
                      <a:pt x="609" y="23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113880" y="5265720"/>
                <a:ext cx="128520" cy="127440"/>
              </a:xfrm>
              <a:custGeom>
                <a:avLst/>
                <a:gdLst/>
                <a:ahLst/>
                <a:rect l="l" t="t" r="r" b="b"/>
                <a:pathLst>
                  <a:path w="898" h="981">
                    <a:moveTo>
                      <a:pt x="609" y="234"/>
                    </a:moveTo>
                    <a:lnTo>
                      <a:pt x="709" y="0"/>
                    </a:lnTo>
                    <a:lnTo>
                      <a:pt x="731" y="17"/>
                    </a:lnTo>
                    <a:lnTo>
                      <a:pt x="781" y="59"/>
                    </a:lnTo>
                    <a:lnTo>
                      <a:pt x="840" y="107"/>
                    </a:lnTo>
                    <a:lnTo>
                      <a:pt x="888" y="147"/>
                    </a:lnTo>
                    <a:lnTo>
                      <a:pt x="892" y="158"/>
                    </a:lnTo>
                    <a:lnTo>
                      <a:pt x="896" y="171"/>
                    </a:lnTo>
                    <a:lnTo>
                      <a:pt x="897" y="187"/>
                    </a:lnTo>
                    <a:lnTo>
                      <a:pt x="898" y="204"/>
                    </a:lnTo>
                    <a:lnTo>
                      <a:pt x="898" y="222"/>
                    </a:lnTo>
                    <a:lnTo>
                      <a:pt x="896" y="241"/>
                    </a:lnTo>
                    <a:lnTo>
                      <a:pt x="893" y="263"/>
                    </a:lnTo>
                    <a:lnTo>
                      <a:pt x="888" y="285"/>
                    </a:lnTo>
                    <a:lnTo>
                      <a:pt x="883" y="308"/>
                    </a:lnTo>
                    <a:lnTo>
                      <a:pt x="875" y="332"/>
                    </a:lnTo>
                    <a:lnTo>
                      <a:pt x="866" y="358"/>
                    </a:lnTo>
                    <a:lnTo>
                      <a:pt x="856" y="385"/>
                    </a:lnTo>
                    <a:lnTo>
                      <a:pt x="844" y="412"/>
                    </a:lnTo>
                    <a:lnTo>
                      <a:pt x="830" y="440"/>
                    </a:lnTo>
                    <a:lnTo>
                      <a:pt x="814" y="470"/>
                    </a:lnTo>
                    <a:lnTo>
                      <a:pt x="798" y="499"/>
                    </a:lnTo>
                    <a:lnTo>
                      <a:pt x="780" y="529"/>
                    </a:lnTo>
                    <a:lnTo>
                      <a:pt x="759" y="560"/>
                    </a:lnTo>
                    <a:lnTo>
                      <a:pt x="737" y="591"/>
                    </a:lnTo>
                    <a:lnTo>
                      <a:pt x="714" y="622"/>
                    </a:lnTo>
                    <a:lnTo>
                      <a:pt x="688" y="653"/>
                    </a:lnTo>
                    <a:lnTo>
                      <a:pt x="661" y="683"/>
                    </a:lnTo>
                    <a:lnTo>
                      <a:pt x="632" y="714"/>
                    </a:lnTo>
                    <a:lnTo>
                      <a:pt x="601" y="747"/>
                    </a:lnTo>
                    <a:lnTo>
                      <a:pt x="567" y="777"/>
                    </a:lnTo>
                    <a:lnTo>
                      <a:pt x="533" y="807"/>
                    </a:lnTo>
                    <a:lnTo>
                      <a:pt x="495" y="838"/>
                    </a:lnTo>
                    <a:lnTo>
                      <a:pt x="457" y="867"/>
                    </a:lnTo>
                    <a:lnTo>
                      <a:pt x="416" y="897"/>
                    </a:lnTo>
                    <a:lnTo>
                      <a:pt x="372" y="925"/>
                    </a:lnTo>
                    <a:lnTo>
                      <a:pt x="327" y="954"/>
                    </a:lnTo>
                    <a:lnTo>
                      <a:pt x="279" y="981"/>
                    </a:lnTo>
                    <a:lnTo>
                      <a:pt x="243" y="979"/>
                    </a:lnTo>
                    <a:lnTo>
                      <a:pt x="211" y="978"/>
                    </a:lnTo>
                    <a:lnTo>
                      <a:pt x="184" y="976"/>
                    </a:lnTo>
                    <a:lnTo>
                      <a:pt x="161" y="973"/>
                    </a:lnTo>
                    <a:lnTo>
                      <a:pt x="130" y="969"/>
                    </a:lnTo>
                    <a:lnTo>
                      <a:pt x="118" y="967"/>
                    </a:lnTo>
                    <a:lnTo>
                      <a:pt x="0" y="851"/>
                    </a:lnTo>
                    <a:lnTo>
                      <a:pt x="188" y="678"/>
                    </a:lnTo>
                    <a:lnTo>
                      <a:pt x="325" y="783"/>
                    </a:lnTo>
                    <a:lnTo>
                      <a:pt x="341" y="771"/>
                    </a:lnTo>
                    <a:lnTo>
                      <a:pt x="382" y="738"/>
                    </a:lnTo>
                    <a:lnTo>
                      <a:pt x="409" y="714"/>
                    </a:lnTo>
                    <a:lnTo>
                      <a:pt x="440" y="686"/>
                    </a:lnTo>
                    <a:lnTo>
                      <a:pt x="472" y="656"/>
                    </a:lnTo>
                    <a:lnTo>
                      <a:pt x="507" y="623"/>
                    </a:lnTo>
                    <a:lnTo>
                      <a:pt x="542" y="588"/>
                    </a:lnTo>
                    <a:lnTo>
                      <a:pt x="575" y="552"/>
                    </a:lnTo>
                    <a:lnTo>
                      <a:pt x="607" y="514"/>
                    </a:lnTo>
                    <a:lnTo>
                      <a:pt x="638" y="476"/>
                    </a:lnTo>
                    <a:lnTo>
                      <a:pt x="651" y="457"/>
                    </a:lnTo>
                    <a:lnTo>
                      <a:pt x="664" y="438"/>
                    </a:lnTo>
                    <a:lnTo>
                      <a:pt x="675" y="420"/>
                    </a:lnTo>
                    <a:lnTo>
                      <a:pt x="686" y="400"/>
                    </a:lnTo>
                    <a:lnTo>
                      <a:pt x="695" y="382"/>
                    </a:lnTo>
                    <a:lnTo>
                      <a:pt x="702" y="364"/>
                    </a:lnTo>
                    <a:lnTo>
                      <a:pt x="708" y="348"/>
                    </a:lnTo>
                    <a:lnTo>
                      <a:pt x="712" y="331"/>
                    </a:lnTo>
                    <a:lnTo>
                      <a:pt x="609" y="2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 name=""/>
            <p:cNvSpPr/>
            <p:nvPr/>
          </p:nvSpPr>
          <p:spPr>
            <a:xfrm>
              <a:off x="6040800" y="5411880"/>
              <a:ext cx="395640" cy="288000"/>
            </a:xfrm>
            <a:prstGeom prst="rect">
              <a:avLst/>
            </a:prstGeom>
            <a:noFill/>
            <a:ln w="0">
              <a:noFill/>
            </a:ln>
          </p:spPr>
          <p:style>
            <a:lnRef idx="0"/>
            <a:fillRef idx="0"/>
            <a:effectRef idx="0"/>
            <a:fontRef idx="minor"/>
          </p:style>
          <p:txBody>
            <a:bodyPr lIns="57600" rIns="576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BX</a:t>
              </a:r>
              <a:endParaRPr b="0" lang="en-US" sz="700" spc="-1" strike="noStrike">
                <a:solidFill>
                  <a:srgbClr val="000000"/>
                </a:solidFill>
                <a:latin typeface="Arial"/>
              </a:endParaRPr>
            </a:p>
          </p:txBody>
        </p:sp>
        <p:sp>
          <p:nvSpPr>
            <p:cNvPr id="244" name=""/>
            <p:cNvSpPr/>
            <p:nvPr/>
          </p:nvSpPr>
          <p:spPr>
            <a:xfrm flipV="1">
              <a:off x="2250000" y="4271760"/>
              <a:ext cx="2215080" cy="7563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2774520" y="4272120"/>
              <a:ext cx="1749600" cy="82440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3299400" y="4272120"/>
              <a:ext cx="1283040" cy="824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flipV="1">
              <a:off x="4582440" y="4272120"/>
              <a:ext cx="57600" cy="824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flipV="1">
              <a:off x="4640040" y="4272120"/>
              <a:ext cx="758520" cy="8942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H="1" flipV="1">
              <a:off x="4640040" y="4272120"/>
              <a:ext cx="1575000" cy="824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flipV="1">
              <a:off x="4640040" y="4272120"/>
              <a:ext cx="2041560" cy="824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flipV="1">
              <a:off x="4698720" y="4272120"/>
              <a:ext cx="2799720" cy="8244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52" name=""/>
            <p:cNvGrpSpPr/>
            <p:nvPr/>
          </p:nvGrpSpPr>
          <p:grpSpPr>
            <a:xfrm>
              <a:off x="3765960" y="4547880"/>
              <a:ext cx="97200" cy="114480"/>
              <a:chOff x="3765960" y="4547880"/>
              <a:chExt cx="97200" cy="114480"/>
            </a:xfrm>
          </p:grpSpPr>
          <p:sp>
            <p:nvSpPr>
              <p:cNvPr id="253" name=""/>
              <p:cNvSpPr/>
              <p:nvPr/>
            </p:nvSpPr>
            <p:spPr>
              <a:xfrm>
                <a:off x="3765960" y="4547880"/>
                <a:ext cx="97200" cy="114480"/>
              </a:xfrm>
              <a:prstGeom prst="ellipse">
                <a:avLst/>
              </a:prstGeom>
              <a:solidFill>
                <a:srgbClr val="000000"/>
              </a:solidFill>
              <a:ln w="12600">
                <a:solidFill>
                  <a:srgbClr val="000000"/>
                </a:solidFill>
                <a:miter/>
              </a:ln>
            </p:spPr>
            <p:style>
              <a:lnRef idx="0"/>
              <a:fillRef idx="0"/>
              <a:effectRef idx="0"/>
              <a:fontRef idx="minor"/>
            </p:style>
            <p:txBody>
              <a:bodyPr lIns="90000" rIns="90000" tIns="34560" bIns="34560" anchor="ctr">
                <a:noAutofit/>
              </a:bodyPr>
              <a:p>
                <a:endParaRPr b="0" lang="en-US" sz="1800" spc="-1" strike="noStrike">
                  <a:solidFill>
                    <a:srgbClr val="000000"/>
                  </a:solidFill>
                  <a:latin typeface="Arial"/>
                </a:endParaRPr>
              </a:p>
            </p:txBody>
          </p:sp>
          <p:sp>
            <p:nvSpPr>
              <p:cNvPr id="254" name=""/>
              <p:cNvSpPr/>
              <p:nvPr/>
            </p:nvSpPr>
            <p:spPr>
              <a:xfrm flipV="1">
                <a:off x="3772440" y="4555440"/>
                <a:ext cx="57600" cy="67680"/>
              </a:xfrm>
              <a:prstGeom prst="line">
                <a:avLst/>
              </a:prstGeom>
              <a:ln w="12600">
                <a:solidFill>
                  <a:srgbClr val="ffcc00"/>
                </a:solidFill>
                <a:miter/>
                <a:tailEnd len="sm" type="triangle" w="sm"/>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55" name=""/>
              <p:cNvSpPr/>
              <p:nvPr/>
            </p:nvSpPr>
            <p:spPr>
              <a:xfrm flipV="1">
                <a:off x="3797640" y="4586760"/>
                <a:ext cx="57960" cy="67680"/>
              </a:xfrm>
              <a:prstGeom prst="line">
                <a:avLst/>
              </a:prstGeom>
              <a:ln w="12600">
                <a:solidFill>
                  <a:srgbClr val="ffcc00"/>
                </a:solidFill>
                <a:miter/>
                <a:tailEnd len="sm" type="triangle" w="sm"/>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256" name=""/>
            <p:cNvGrpSpPr/>
            <p:nvPr/>
          </p:nvGrpSpPr>
          <p:grpSpPr>
            <a:xfrm>
              <a:off x="3883680" y="4350240"/>
              <a:ext cx="683280" cy="659880"/>
              <a:chOff x="3883680" y="4350240"/>
              <a:chExt cx="683280" cy="659880"/>
            </a:xfrm>
          </p:grpSpPr>
          <p:sp>
            <p:nvSpPr>
              <p:cNvPr id="257" name=""/>
              <p:cNvSpPr/>
              <p:nvPr/>
            </p:nvSpPr>
            <p:spPr>
              <a:xfrm flipH="1" flipV="1" rot="9814200">
                <a:off x="3912120" y="4702680"/>
                <a:ext cx="389520" cy="257040"/>
              </a:xfrm>
              <a:custGeom>
                <a:avLst/>
                <a:gdLst/>
                <a:ahLst/>
                <a:rect l="l" t="t" r="r" b="b"/>
                <a:pathLst>
                  <a:path w="379" h="180">
                    <a:moveTo>
                      <a:pt x="333" y="14"/>
                    </a:moveTo>
                    <a:lnTo>
                      <a:pt x="335" y="17"/>
                    </a:lnTo>
                    <a:lnTo>
                      <a:pt x="368" y="0"/>
                    </a:lnTo>
                    <a:lnTo>
                      <a:pt x="379" y="19"/>
                    </a:lnTo>
                    <a:lnTo>
                      <a:pt x="0" y="180"/>
                    </a:lnTo>
                    <a:lnTo>
                      <a:pt x="333" y="14"/>
                    </a:lnTo>
                    <a:close/>
                  </a:path>
                </a:pathLst>
              </a:custGeom>
              <a:solidFill>
                <a:srgbClr val="f2bd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flipV="1" rot="9814200">
                <a:off x="4163040" y="4398120"/>
                <a:ext cx="376920" cy="242640"/>
              </a:xfrm>
              <a:custGeom>
                <a:avLst/>
                <a:gdLst/>
                <a:ahLst/>
                <a:rect l="l" t="t" r="r" b="b"/>
                <a:pathLst>
                  <a:path w="367" h="170">
                    <a:moveTo>
                      <a:pt x="0" y="152"/>
                    </a:moveTo>
                    <a:lnTo>
                      <a:pt x="367" y="0"/>
                    </a:lnTo>
                    <a:lnTo>
                      <a:pt x="47" y="156"/>
                    </a:lnTo>
                    <a:lnTo>
                      <a:pt x="44" y="154"/>
                    </a:lnTo>
                    <a:lnTo>
                      <a:pt x="12" y="170"/>
                    </a:lnTo>
                    <a:lnTo>
                      <a:pt x="0" y="152"/>
                    </a:lnTo>
                    <a:close/>
                  </a:path>
                </a:pathLst>
              </a:custGeom>
              <a:solidFill>
                <a:srgbClr val="f2bd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rot="9814200">
                <a:off x="4214160" y="4658040"/>
                <a:ext cx="35640" cy="26640"/>
              </a:xfrm>
              <a:custGeom>
                <a:avLst/>
                <a:gdLst/>
                <a:ahLst/>
                <a:rect l="l" t="t" r="r" b="b"/>
                <a:pathLst>
                  <a:path w="35" h="19">
                    <a:moveTo>
                      <a:pt x="0" y="16"/>
                    </a:moveTo>
                    <a:lnTo>
                      <a:pt x="32" y="0"/>
                    </a:lnTo>
                    <a:lnTo>
                      <a:pt x="35" y="2"/>
                    </a:lnTo>
                    <a:lnTo>
                      <a:pt x="2" y="19"/>
                    </a:lnTo>
                    <a:lnTo>
                      <a:pt x="0" y="16"/>
                    </a:lnTo>
                    <a:close/>
                  </a:path>
                </a:pathLst>
              </a:custGeom>
              <a:solidFill>
                <a:srgbClr val="f2bd1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sp>
          <p:nvSpPr>
            <p:cNvPr id="260" name=""/>
            <p:cNvSpPr/>
            <p:nvPr/>
          </p:nvSpPr>
          <p:spPr>
            <a:xfrm>
              <a:off x="4815000" y="2140920"/>
              <a:ext cx="718920" cy="1442160"/>
            </a:xfrm>
            <a:custGeom>
              <a:avLst/>
              <a:gdLst/>
              <a:ahLst/>
              <a:rect l="l" t="t" r="r" b="b"/>
              <a:pathLst>
                <a:path w="604" h="952">
                  <a:moveTo>
                    <a:pt x="0" y="952"/>
                  </a:moveTo>
                  <a:cubicBezTo>
                    <a:pt x="287" y="691"/>
                    <a:pt x="574" y="431"/>
                    <a:pt x="589" y="272"/>
                  </a:cubicBezTo>
                  <a:cubicBezTo>
                    <a:pt x="604" y="113"/>
                    <a:pt x="174" y="53"/>
                    <a:pt x="91" y="0"/>
                  </a:cubicBezTo>
                </a:path>
              </a:pathLst>
            </a:custGeom>
            <a:noFill/>
            <a:ln w="9360">
              <a:solidFill>
                <a:srgbClr val="ff0000"/>
              </a:solidFill>
              <a:prstDash val="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Kablovski modemi</a:t>
            </a:r>
            <a:endParaRPr b="0" lang="en-US" sz="4400" spc="-1" strike="noStrike">
              <a:solidFill>
                <a:srgbClr val="000000"/>
              </a:solidFill>
              <a:latin typeface="Arial"/>
            </a:endParaRPr>
          </a:p>
        </p:txBody>
      </p:sp>
      <p:graphicFrame>
        <p:nvGraphicFramePr>
          <p:cNvPr id="262" name=""/>
          <p:cNvGraphicFramePr/>
          <p:nvPr/>
        </p:nvGraphicFramePr>
        <p:xfrm>
          <a:off x="1289160" y="1981080"/>
          <a:ext cx="6564240" cy="3733920"/>
        </p:xfrm>
        <a:graphic>
          <a:graphicData uri="http://schemas.openxmlformats.org/presentationml/2006/ole">
            <p:oleObj r:id="rId1" spid="">
              <p:embed/>
              <p:pic>
                <p:nvPicPr>
                  <p:cNvPr id="263" name="" descr=""/>
                  <p:cNvPicPr/>
                  <p:nvPr/>
                </p:nvPicPr>
                <p:blipFill>
                  <a:blip r:embed="rId2"/>
                  <a:stretch/>
                </p:blipFill>
                <p:spPr>
                  <a:xfrm>
                    <a:off x="1289160" y="1981080"/>
                    <a:ext cx="6564240" cy="37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Kablovski modemi</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Koristi se HFC (hybrid-fiber-coax) ili kompletno koaksijala infrastruktura radi povezivanja na lokalnog operator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Pokrenuto je na osnovu DOCSIS </a:t>
            </a:r>
            <a:r>
              <a:rPr b="0" lang="en-US" sz="2000" spc="-1" strike="noStrike">
                <a:solidFill>
                  <a:srgbClr val="000000"/>
                </a:solidFill>
                <a:latin typeface="Arial"/>
              </a:rPr>
              <a:t>inicijativ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0" lang="sr-Latn-CS" sz="2000" spc="-1" strike="noStrike">
                <a:solidFill>
                  <a:srgbClr val="000000"/>
                </a:solidFill>
                <a:latin typeface="Arial"/>
              </a:rPr>
              <a:t>(Data Over Cable Service Interface Syst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Kablovski modem sadrži Ethernet port radi povezivanja pretlatničkog PC ili </a:t>
            </a:r>
            <a:r>
              <a:rPr b="0" lang="en-US" sz="2000" spc="-1" strike="noStrike">
                <a:solidFill>
                  <a:srgbClr val="000000"/>
                </a:solidFill>
                <a:latin typeface="Arial"/>
              </a:rPr>
              <a:t>L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Evolucija protoka: 55 kb/s, 4 Mb/s, 10 Mb/s i sada 30 Mb/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Svi pretplatnici dele kapacite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0" lang="sr-Latn-CS" sz="2000" spc="-1" strike="noStrike">
                <a:solidFill>
                  <a:srgbClr val="000000"/>
                </a:solidFill>
                <a:latin typeface="Arial"/>
              </a:rPr>
              <a:t>npr. 30 Mb/s na 800 pretplatnika </a:t>
            </a:r>
            <a:r>
              <a:rPr b="0" lang="en-US" sz="2000" spc="-1" strike="noStrike">
                <a:solidFill>
                  <a:srgbClr val="000000"/>
                </a:solidFill>
                <a:latin typeface="Arial"/>
              </a:rPr>
              <a:t>&lt; 400 kb/s po pretplatniku</a:t>
            </a:r>
            <a:r>
              <a:rPr b="0" lang="sr-Latn-C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a:t>
            </a:r>
            <a:r>
              <a:rPr b="0" lang="sr-Latn-CS" sz="2000" spc="-1" strike="noStrike">
                <a:solidFill>
                  <a:srgbClr val="000000"/>
                </a:solidFill>
                <a:latin typeface="Arial"/>
              </a:rPr>
              <a:t>ćina kablovske infrastrukture je jednosmerna pa povratni kanal mora da bude preko telefonske mreže (modem sa 56 kb/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Kod dvosmernih kablovaprotok je asimetrič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     </a:t>
            </a:r>
            <a:r>
              <a:rPr b="0" lang="sr-Latn-CS" sz="2000" spc="-1" strike="noStrike">
                <a:solidFill>
                  <a:srgbClr val="000000"/>
                </a:solidFill>
                <a:latin typeface="Arial"/>
              </a:rPr>
              <a:t>ka pretplatniku 700 kb/s, od pretplatnika 100 kb/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asivne optičke mreže - PON</a:t>
            </a:r>
            <a:endParaRPr b="0" lang="en-US" sz="4400" spc="-1" strike="noStrike">
              <a:solidFill>
                <a:srgbClr val="000000"/>
              </a:solidFill>
              <a:latin typeface="Arial"/>
            </a:endParaRPr>
          </a:p>
        </p:txBody>
      </p:sp>
      <p:graphicFrame>
        <p:nvGraphicFramePr>
          <p:cNvPr id="267" name=""/>
          <p:cNvGraphicFramePr/>
          <p:nvPr/>
        </p:nvGraphicFramePr>
        <p:xfrm>
          <a:off x="457200" y="1606680"/>
          <a:ext cx="8229600" cy="4511520"/>
        </p:xfrm>
        <a:graphic>
          <a:graphicData uri="http://schemas.openxmlformats.org/presentationml/2006/ole">
            <p:oleObj r:id="rId1" spid="">
              <p:embed/>
              <p:pic>
                <p:nvPicPr>
                  <p:cNvPr id="268" name="" descr=""/>
                  <p:cNvPicPr/>
                  <p:nvPr/>
                </p:nvPicPr>
                <p:blipFill>
                  <a:blip r:embed="rId2"/>
                  <a:stretch/>
                </p:blipFill>
                <p:spPr>
                  <a:xfrm>
                    <a:off x="457200" y="1606680"/>
                    <a:ext cx="8229600" cy="451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5T11:56:49Z</dcterms:created>
  <dc:creator>Korisnik</dc:creator>
  <dc:description/>
  <dc:language>en-US</dc:language>
  <cp:lastModifiedBy>Korisnik</cp:lastModifiedBy>
  <dcterms:modified xsi:type="dcterms:W3CDTF">2007-01-10T14:07:20Z</dcterms:modified>
  <cp:revision>75</cp:revision>
  <dc:subject/>
  <dc:title>Model telekomunikacionog kanala</dc:title>
</cp:coreProperties>
</file>