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18CB-B9AC-4080-BCA0-1493A662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774A-D06E-4876-9F93-277AFFED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ED30-1313-47D5-A1BC-6FBF515B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7F8-B774-416C-BC69-724D1E00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FCB-3850-4664-9B6D-3E481E79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742-6CD4-4157-B2B3-7CA0F264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593-0D7E-470D-8BB4-55CA5405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5ACE-EE3A-4D7E-B9A1-C7C85E1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0E1-5F1C-449B-B485-99E79216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886-4224-4095-B25A-502D1B04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124-B882-4A0A-B382-8126A026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3BF-E4DB-4B06-BBD1-7122A0D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0EF8-CFA6-4DBD-8828-040488E1D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0054">
                  <a:alpha val="3019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1523880"/>
            <a:ext cx="8915400" cy="76320"/>
          </a:xfrm>
          <a:prstGeom prst="rect">
            <a:avLst/>
          </a:prstGeom>
          <a:gradFill rotWithShape="0">
            <a:gsLst>
              <a:gs pos="0">
                <a:srgbClr val="dddddd">
                  <a:alpha val="50196"/>
                </a:srgbClr>
              </a:gs>
              <a:gs pos="100000">
                <a:srgbClr val="00005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762120"/>
            <a:ext cx="76320" cy="990360"/>
          </a:xfrm>
          <a:prstGeom prst="rect">
            <a:avLst/>
          </a:prstGeom>
          <a:gradFill rotWithShape="0">
            <a:gsLst>
              <a:gs pos="0">
                <a:srgbClr val="000054"/>
              </a:gs>
              <a:gs pos="100000">
                <a:srgbClr val="c0c0c0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Filtar </a:t>
            </a:r>
            <a:r>
              <a:rPr b="1" lang="sr-Latn-CS" sz="3600" spc="-1" strike="noStrike">
                <a:solidFill>
                  <a:srgbClr val="58002c"/>
                </a:solidFill>
                <a:latin typeface="Arial"/>
              </a:rPr>
              <a:t>propusnik</a:t>
            </a: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58002c"/>
                </a:solidFill>
                <a:latin typeface="Arial"/>
              </a:rPr>
              <a:t>opsega</a:t>
            </a: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 učesta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iltar propusnik opseg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pušta samo deo spektra ulaznog signala koji se 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a se i BP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band pass fil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01720" y="2995560"/>
            <a:ext cx="4046400" cy="367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137200" y="4035600"/>
                <a:ext cx="3664080" cy="14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Filtar </a:t>
            </a:r>
            <a:r>
              <a:rPr b="1" lang="sr-Latn-CS" sz="3600" spc="-1" strike="noStrike">
                <a:solidFill>
                  <a:srgbClr val="58002c"/>
                </a:solidFill>
                <a:latin typeface="Arial"/>
              </a:rPr>
              <a:t>nepropusnik</a:t>
            </a: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58002c"/>
                </a:solidFill>
                <a:latin typeface="Arial"/>
              </a:rPr>
              <a:t>opsega</a:t>
            </a:r>
            <a:r>
              <a:rPr b="0" lang="sr-Latn-CS" sz="3600" spc="-1" strike="noStrike">
                <a:solidFill>
                  <a:srgbClr val="58002c"/>
                </a:solidFill>
                <a:latin typeface="Arial"/>
              </a:rPr>
              <a:t> učestanos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1720" y="2857680"/>
            <a:ext cx="440856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3840" y="1612800"/>
            <a:ext cx="8559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Filtar nepropusnik opseg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ropušta sve osim dela spektra ulaznog signala koji se 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ziva se i NP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otch pass fil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ili BR 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band reject filte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702400" y="4033800"/>
                <a:ext cx="32796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&lt;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e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jω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san Spasojevic</cp:lastModifiedBy>
  <dcterms:modified xsi:type="dcterms:W3CDTF">2008-10-22T20:25:09Z</dcterms:modified>
  <cp:revision>4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