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15138"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3794F-54E1-4658-954D-6D089825F2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6DBB2-B5E7-47D4-BA23-2785D5910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3D0AC-E748-4185-AC4D-123CB90315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F969A-58AE-4D2E-BA3A-3520552D9C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DEF4E-C492-4612-A4AA-B7AED95C3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41A8C-F2A2-4C43-A569-2571BF8C8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F6204-EEB0-4315-A96B-83EA00A33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81386-50EB-4E46-945B-07B94F4B2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6D5A8-2130-47EE-9569-827F40F33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1C4A7-68DB-4353-A34F-AC555F65E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E91C4-6288-4D95-83F8-978162D91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83713-82FB-48EE-A26E-5118854D1C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5B718-36BE-47B4-AF64-DEC1AA259F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1920"/>
            <a:ext cx="82296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Pristup</a:t>
            </a:r>
            <a:br>
              <a:rPr sz="1200"/>
            </a:br>
            <a:r>
              <a:rPr b="0" lang="sr-Latn-CS" sz="1200" spc="-1" strike="noStrike">
                <a:solidFill>
                  <a:srgbClr val="000000"/>
                </a:solidFill>
                <a:latin typeface="Arial"/>
              </a:rPr>
              <a:t>Pristup se odnosi na način na koji korisnik pristupa telefonskoj mreži.  </a:t>
            </a:r>
            <a:br>
              <a:rPr sz="1200"/>
            </a:br>
            <a:r>
              <a:rPr b="1" lang="sr-Latn-CS" sz="1200" spc="-1" strike="noStrike">
                <a:solidFill>
                  <a:srgbClr val="000000"/>
                </a:solidFill>
                <a:latin typeface="Arial"/>
              </a:rPr>
              <a:t>Komutacija</a:t>
            </a:r>
            <a:br>
              <a:rPr sz="1200"/>
            </a:br>
            <a:r>
              <a:rPr b="0" lang="sr-Latn-CS" sz="1200" spc="-1" strike="noStrike">
                <a:solidFill>
                  <a:srgbClr val="000000"/>
                </a:solidFill>
                <a:latin typeface="Arial"/>
              </a:rPr>
              <a:t>Mreža fiksne telefonija ima formu </a:t>
            </a:r>
            <a:r>
              <a:rPr b="0" lang="en-US" sz="1200" spc="-1" strike="noStrike">
                <a:solidFill>
                  <a:srgbClr val="000000"/>
                </a:solidFill>
                <a:latin typeface="Arial"/>
              </a:rPr>
              <a:t>hijerarhijske zvezde</a:t>
            </a:r>
            <a:r>
              <a:rPr b="0" lang="sr-Latn-CS" sz="1200" spc="-1" strike="noStrike">
                <a:solidFill>
                  <a:srgbClr val="000000"/>
                </a:solidFill>
                <a:latin typeface="Arial"/>
              </a:rPr>
              <a:t>. </a:t>
            </a:r>
            <a:br>
              <a:rPr sz="1200"/>
            </a:br>
            <a:r>
              <a:rPr b="1" lang="sr-Latn-CS" sz="1200" spc="-1" strike="noStrike">
                <a:solidFill>
                  <a:srgbClr val="000000"/>
                </a:solidFill>
                <a:latin typeface="Arial"/>
              </a:rPr>
              <a:t>Transport</a:t>
            </a:r>
            <a:br>
              <a:rPr sz="1200"/>
            </a:br>
            <a:r>
              <a:rPr b="0" lang="sr-Latn-CS" sz="1200" spc="-1" strike="noStrike">
                <a:solidFill>
                  <a:srgbClr val="000000"/>
                </a:solidFill>
                <a:latin typeface="Arial"/>
              </a:rPr>
              <a:t> Primarna forma transporta dugo je bio vremenski multipleks (TDM – Time Division Multiplexing). U toku devedesetih prelazi se na ATM (Asynchronous Transfer Mode) pojavom jakih IP magistrala (Internet Protocol Backbones) dobar deo saobraćaja se seli na IP mreže.</a:t>
            </a:r>
            <a:endParaRPr b="0" lang="en-US" sz="1200" spc="-1" strike="noStrike">
              <a:solidFill>
                <a:srgbClr val="000000"/>
              </a:solidFill>
              <a:latin typeface="Arial"/>
            </a:endParaRPr>
          </a:p>
        </p:txBody>
      </p:sp>
      <p:pic>
        <p:nvPicPr>
          <p:cNvPr id="42" name="" descr=""/>
          <p:cNvPicPr/>
          <p:nvPr/>
        </p:nvPicPr>
        <p:blipFill>
          <a:blip r:embed="rId1"/>
          <a:stretch/>
        </p:blipFill>
        <p:spPr>
          <a:xfrm>
            <a:off x="1436760" y="2362320"/>
            <a:ext cx="6270480" cy="441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Osobine FHS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HSS sistem prenosa je veoma otporan na uskopojasne smetnje, pošto ukoliko takva smetnja postoji, ona se manifestuje samo u jednom ili nekoliko kanala, koji se preklapaju sa uskopojasnom smetnjom. Ukoliko dođe do greške, podaci se ponovo šalju preko sledećeg kanala iz sekvenc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etnje se uzimaju u obzir prilikom projektovanja vremena stajanja. Tipično vreme stajanja je reda 100 ms – 400 ms, a vreme skoka je 200 μs – 300 μs, tako da ono ne utiče značajno na protok podatak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U</a:t>
            </a:r>
            <a:r>
              <a:rPr b="0" lang="en-US" sz="2000" spc="-1" strike="noStrike">
                <a:solidFill>
                  <a:srgbClr val="000000"/>
                </a:solidFill>
                <a:latin typeface="Arial"/>
              </a:rPr>
              <a:t>koliko </a:t>
            </a:r>
            <a:r>
              <a:rPr b="0" lang="sr-Latn-CS" sz="2000" spc="-1" strike="noStrike">
                <a:solidFill>
                  <a:srgbClr val="000000"/>
                </a:solidFill>
                <a:latin typeface="Arial"/>
              </a:rPr>
              <a:t>se </a:t>
            </a:r>
            <a:r>
              <a:rPr b="0" lang="en-US" sz="2000" spc="-1" strike="noStrike">
                <a:solidFill>
                  <a:srgbClr val="000000"/>
                </a:solidFill>
                <a:latin typeface="Arial"/>
              </a:rPr>
              <a:t>očekuje veliki broj greški, pa samim tim i retransmisija podataka, poželjno je skratiti vreme stajanja. U suprotnom, poželjno je da vreme stajanja bude što duže, skoro maksimaln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 802.11 FHSS sisteme propisano je maksimalno vreme stajanja od 400 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000000"/>
                </a:solidFill>
                <a:latin typeface="Arial"/>
              </a:rPr>
              <a:t>DSSS sistemi</a:t>
            </a:r>
            <a:br>
              <a:rPr sz="4000"/>
            </a:b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DSSS sistemi su opštepoznati i najviše korišćeni sistemi koji se zasnivaju na proširenom spektru, a svoju popularnost najviše duguju lakoći implementacije i visokom protoku podataka.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Ovi sistemi koriste jedan kanal iz skupa od 11 kanala.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Kanali su široki 22 MHz, što DSSS sistemima omogućava veći protok nego kod FHSS sistem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Širenje spektra se vrši na taj način što se svaki bit informacije menja određenom sekvencom bitova koja se naziva urezani kod (chipping code), proširujući kod (spread code) ili dobitak obrade (processing gai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Što je dužina ove sekvence veća, veća je i otpornost signala na interferenciju jer on zauzima širi opseg.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IEEE 802.11 radna grupa je odredila da minimalni dobitak obrade mora biti 11. U većini komercijalnih slučajeva ona ne prelazi 20.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Za ovu sekvencu se obično koristi Barkerov kod (10110111000).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Osim što signal nenamenjenom prijemniku izgleda kao širokopojasni šum, u slučaju da se izgubi jedan ili nekoliko bita dotične sekvence moguće je u prijemniku ispraviti grešku bez retransmisij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00"/>
                </a:solidFill>
                <a:latin typeface="Arial"/>
              </a:rPr>
              <a:t>P</a:t>
            </a:r>
            <a:r>
              <a:rPr b="0" lang="en-US" sz="4000" spc="-1" strike="noStrike">
                <a:solidFill>
                  <a:srgbClr val="000000"/>
                </a:solidFill>
                <a:latin typeface="Arial"/>
              </a:rPr>
              <a:t>rincip kodiranja u DSSS sistemu.</a:t>
            </a:r>
            <a:br>
              <a:rPr sz="4000"/>
            </a:br>
            <a:endParaRPr b="0" lang="en-US" sz="4000" spc="-1" strike="noStrike">
              <a:solidFill>
                <a:srgbClr val="000000"/>
              </a:solidFill>
              <a:latin typeface="Arial"/>
            </a:endParaRPr>
          </a:p>
        </p:txBody>
      </p:sp>
      <p:pic>
        <p:nvPicPr>
          <p:cNvPr id="65" name="" descr=""/>
          <p:cNvPicPr/>
          <p:nvPr/>
        </p:nvPicPr>
        <p:blipFill>
          <a:blip r:embed="rId1"/>
          <a:stretch/>
        </p:blipFill>
        <p:spPr>
          <a:xfrm>
            <a:off x="457200" y="2273400"/>
            <a:ext cx="8229600" cy="3179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Standardi i modulacije</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Za modulaciju se koristi diskretna modulacija faze (PSK – Phase Shift Keying).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Ukoliko se koristi binarna diskretna modulacija faze (BPSK), dobija se bazni protok podataka o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       </a:t>
            </a:r>
            <a:r>
              <a:rPr b="0" lang="sr-Latn-CS" sz="1200" spc="-1" strike="noStrike">
                <a:solidFill>
                  <a:srgbClr val="000000"/>
                </a:solidFill>
                <a:latin typeface="Arial"/>
              </a:rPr>
              <a:t>1 Mbit/s.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rotok od 2 Mbit/s dobija se analognim putem, samo što se koristi kvaternarna diskretna modulacija faze (QPSK).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va dva protoka definisana su originalnim IEEE 802.11 standardom iz 1997. godine. Međutim, ovakvi protoci su bili relativno mali da bežični sistemi naprave veliki prodor na tržište.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Već 1998. godine Lucent Technologies i Harris Semiconductor predlažu novi standard zasnovan na kodiranju komplementarnim kodovima (Complementary Code Keying).</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Sledeće, 1999. godine IEEE usvaja ovaj standard 802.11b koji je kompatibilan sa 802.11 sistemima i podrazumeva dva nova protoka prenosa od 5.5 Mbit/s i 11 Mbit/s.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Za razliku od korištenja dva 11–bitna Barkerova koda, CCK koristi skup od 64 specijalna osmobitna koda, tako da do 6 bita informacije može biti predstavljeno svakim od specijalnih kodova (ranije je jedan Barkerov kod predstavljao 1 bit informacije), dok se 2 bita koriste za QPSK modulaciju.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Kao skup, ovi specijalni kodovi imaju jedinstvene matematičke osobine koje im omogućuju prepoznatljivost u predajniku, čak i u slučajevima značajnog šuma ili višeputanjske interferencije, izazvanih refleksijama radio talasa unutar zgrade.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Protok od 5.5 Mbit/s šalje 4 bita po simbolu, dok najbrži protok (11 Mbit/s) šalje 8 bita po simbolu.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Oba protoka koriste QPSK modulaciju i signaliziranje brzinom od 1.375 Msimbol/s.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QPSK modulacija koristi četiri vrednosti faze (0, 90, 180 i 270 stepeni) da kodira 2 bita informacije, dok BPSK modulacija koristi dve vrednosti faze (0 i 180 stepeni) da kodira 1 bit informacije.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Zauzvrat BPSK sa istom snagom emitovanja ima veći domet. Zbog toga se uvek mora tražiti balans između potrebnog dometa i brzine protoka, pošto su ova dva parametra u obrnutoj proporciji.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Korišćenje kanala u DSSS</a:t>
            </a:r>
            <a:endParaRPr b="0" lang="en-US" sz="4400" spc="-1" strike="noStrike">
              <a:solidFill>
                <a:srgbClr val="000000"/>
              </a:solidFill>
              <a:latin typeface="Arial"/>
            </a:endParaRPr>
          </a:p>
        </p:txBody>
      </p:sp>
      <p:pic>
        <p:nvPicPr>
          <p:cNvPr id="69" name="" descr=""/>
          <p:cNvPicPr/>
          <p:nvPr/>
        </p:nvPicPr>
        <p:blipFill>
          <a:blip r:embed="rId1">
            <a:grayscl/>
          </a:blip>
          <a:stretch/>
        </p:blipFill>
        <p:spPr>
          <a:xfrm>
            <a:off x="1930320" y="2471760"/>
            <a:ext cx="5283360" cy="2781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Karakteristike kanala u DSS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Za razliku od FHSS sistema koji definišu kanal kao sekvencu skokova, DSSS sistemi imaju kovencionalnu definiciju kanala. Kanal predstavlja frekvencijski opseg širine 22 MHz sa frekvencijom nosioca u sredini.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Npr. kanal 1 zauzima opseg od 2.401 GHz do 2.423 GHz, tj. (2.412 GHz ± 11 MHz). Sledeći kanal je pomeren za 5 MHz naviše, što znači da kanal 2 zauzima frekvencijski opseg od 2.406 GHz do 2.428 GHz (2.417 GHz ± 11 MHz),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Dodela kanala u DSS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   </a:t>
            </a:r>
            <a:r>
              <a:rPr b="0" lang="sr-Latn-CS" sz="2000" spc="-1" strike="noStrike">
                <a:solidFill>
                  <a:srgbClr val="000000"/>
                </a:solidFill>
                <a:latin typeface="Arial"/>
              </a:rPr>
              <a:t>Vidimo da se kanali preklapaju sa po nekoliko susednih kanala, tj. sa prvim susednim najviše, a sa četvrtim najmanje, što znači da se neki kanal ne preklapa tek sa petim i daljim susednim kanalima. Ukoliko bi se na istu lokaciji postavila dva DSSS sistema sa preklapajućim kanalima, dolazilo bi do značajne ili kompletne redukcije u protoku podatak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    </a:t>
            </a:r>
            <a:r>
              <a:rPr b="0" lang="sr-Latn-CS" sz="2000" spc="-1" strike="noStrike">
                <a:solidFill>
                  <a:srgbClr val="000000"/>
                </a:solidFill>
                <a:latin typeface="Arial"/>
              </a:rPr>
              <a:t>To znači da bi dva kolocirana sistema morali biti međusobno udaljeni bar za pet kanala – npr. kanal 1 se može kolocirati sa kanalima 6 – 11, kanal 2 sa kanalima 7 – 11, it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     </a:t>
            </a:r>
            <a:r>
              <a:rPr b="0" lang="sr-Latn-CS" sz="2000" spc="-1" strike="noStrike">
                <a:solidFill>
                  <a:srgbClr val="000000"/>
                </a:solidFill>
                <a:latin typeface="Arial"/>
              </a:rPr>
              <a:t>Maksimalan broj kolociranih DSSS sistema je tri, pošto se teoretski kanali 1, 6 i 11 ne preklapaju, slika 3.6. U praksi može postojati uticaj između kanala 6 sa jedne i kanala 1 ili 11 sa druge strane, zavisno od udaljenosti između sistema i vrste opreme koja se korist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Nepreklapajući kanali u DSSS</a:t>
            </a:r>
            <a:endParaRPr b="0" lang="en-US" sz="4400" spc="-1" strike="noStrike">
              <a:solidFill>
                <a:srgbClr val="000000"/>
              </a:solidFill>
              <a:latin typeface="Arial"/>
            </a:endParaRPr>
          </a:p>
        </p:txBody>
      </p:sp>
      <p:pic>
        <p:nvPicPr>
          <p:cNvPr id="75" name="" descr=""/>
          <p:cNvPicPr/>
          <p:nvPr/>
        </p:nvPicPr>
        <p:blipFill>
          <a:blip r:embed="rId1">
            <a:grayscl/>
          </a:blip>
          <a:stretch/>
        </p:blipFill>
        <p:spPr>
          <a:xfrm>
            <a:off x="1873080" y="2516040"/>
            <a:ext cx="5397840" cy="2692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802.11 TEHNOLOGIJA NA LOGIČKOM NIVOU</a:t>
            </a:r>
            <a:br>
              <a:rPr sz="1600"/>
            </a:br>
            <a:endParaRPr b="0" lang="en-US" sz="1600" spc="-1" strike="noStrike">
              <a:solidFill>
                <a:srgbClr val="000000"/>
              </a:solidFill>
              <a:latin typeface="Arial"/>
            </a:endParaRPr>
          </a:p>
        </p:txBody>
      </p:sp>
      <p:sp>
        <p:nvSpPr>
          <p:cNvPr id="77"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     </a:t>
            </a:r>
            <a:r>
              <a:rPr b="1" lang="sr-Latn-CS" sz="1800" spc="-1" strike="noStrike">
                <a:solidFill>
                  <a:srgbClr val="000000"/>
                </a:solidFill>
                <a:latin typeface="Arial"/>
              </a:rPr>
              <a:t>Koncept kontrole pristupa sredini za preno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Uređaji koji se koriste u 802.11 bežičnim mrežama nazivaju se stanicama.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Stanice mogu biti klijenti (krajnje tačke) i pristupne tačk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Pristupne tačke su stanice koje se ponašaju kao deo distributivnog sistema i one omogućavaju distribuciju podataka između krajnjih tačaka međusobno ili između krajnje tačke i neke ožičene mreže (Ethernet LAN, internet i s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U IEEE 802.11 specifikaciji definisani su logički servisi za kontrolu pristupa sredini za prenos – MAC (Medium Access Contro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Postoji devet MAC logičkih servisa: prijavljivanje (Authentication), odjavljivanje (Deauthentication), asocijacija (Association), disasocijacija (disassociation), reasocijacija (Reassociation), distribucija (Distribution), integracija (Integration), sigurnost (Privacy) i prenos podataka (Data Delivery).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Pristupne tačke koriste svih devet vrsta servisa.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Klijenti koriste samo četiri: prijavljivanje, odjavljivanje, sigurnost i prenos podataka. Svaki servis koristi skup poruka sa pogodnim informacionim elementim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MAC servisi</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prijavljivanje (authentica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	</a:t>
            </a:r>
            <a:r>
              <a:rPr b="0" lang="sr-Latn-CS" sz="1600" spc="-1" strike="noStrike">
                <a:solidFill>
                  <a:srgbClr val="000000"/>
                </a:solidFill>
                <a:latin typeface="Arial"/>
              </a:rPr>
              <a:t>Pošto bežične mreže imaju ograničeno fizičko osiguranje da spreče neautorizovan pristup, 802.11 standard definiše servise za prijavljivanje potrebne za kontrolu pristupa mreži. Servis za prijavljivanje obezbeđuje mehanizam kojim jedna stanica može identifikovati drugu stanicu. Bez ovog dokaza o identitetu, stanici nije dozvoljena upotreba bežične mreže za prenos podataka. Sve 802.11 stanice moraju provesti proceduru za prijavljivanje pre komunikacije sa drugom stanicom bez obzira u kakvoj se konfiguraciji koristil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prijavljivanje u otvorenom sistemu (open system authentica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	</a:t>
            </a:r>
            <a:r>
              <a:rPr b="0" lang="sr-Latn-CS" sz="1600" spc="-1" strike="noStrike">
                <a:solidFill>
                  <a:srgbClr val="000000"/>
                </a:solidFill>
                <a:latin typeface="Arial"/>
              </a:rPr>
              <a:t>Ovo je osnovni metod za prijavljivanje, koji je vrlo jednostavan proces iz dva koraka. Prvo stanica koja želi da se prijavi drugoj stanici šalje formu za prijavljivanje koja sadrži njene podatke za identifikaciju. Zatim prijemna stanica vraća nazad formu kojom obaveštava da li prihvata identifikaciju stanice koja se prijavljuj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prijavljivanje pomoću zajedničke šifre (shared key authentica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	</a:t>
            </a:r>
            <a:r>
              <a:rPr b="0" lang="sr-Latn-CS" sz="1600" spc="-1" strike="noStrike">
                <a:solidFill>
                  <a:srgbClr val="000000"/>
                </a:solidFill>
                <a:latin typeface="Arial"/>
              </a:rPr>
              <a:t>Ova vrsta prijavljivanja podrazumeva da je svaka stanica primila tajnu zajedničku šifru kroz siguran kanal nezavisan od 802.11 mreže. Stanice se prijavljuju pomoću zajedničkog poznavanja tajne šifre. Ovaj servis zahteva implementaciju šifriranja pomoću Wired Equivalent Privacy algoritm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000000"/>
                </a:solidFill>
                <a:latin typeface="Arial"/>
              </a:rPr>
              <a:t>Moguća alternativa fiksnoj telefonskoj mreži</a:t>
            </a:r>
            <a:endParaRPr b="0" lang="en-US" sz="4000" spc="-1" strike="noStrike">
              <a:solidFill>
                <a:srgbClr val="000000"/>
              </a:solidFill>
              <a:latin typeface="Arial"/>
            </a:endParaRPr>
          </a:p>
        </p:txBody>
      </p:sp>
      <p:pic>
        <p:nvPicPr>
          <p:cNvPr id="44" name="" descr=""/>
          <p:cNvPicPr/>
          <p:nvPr/>
        </p:nvPicPr>
        <p:blipFill>
          <a:blip r:embed="rId1"/>
          <a:stretch/>
        </p:blipFill>
        <p:spPr>
          <a:xfrm>
            <a:off x="1541520" y="1600200"/>
            <a:ext cx="605952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MAC servisi</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odjavljivanje (deauthentic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Ovaj tip uklanja postojeću prijavu. On se koristi da se eliminiše prethodno autorizovan korisnik od daljeg korištenja mreže. Kad se stanica odjavi, ona više ne može pristupiti bežičnoj mreži bez ponovnog izvođenja procedure prijavljivanj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Odjavljivanje predstavlja obaveštenje i ne može biti odbijeno. Na primer, ako stanica želi da se odjavi iz određenog skupa stanica, ona šalje format za odjavljivanje (deauthentication frame) svojoj pridruženoj pristupnoj tački, da je obavesti o svom odjavljivanju. Pristupna tačka takođe može odjaviti stanicu šaljući joj format za odjavljivanj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MAC servisi</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     </a:t>
            </a:r>
            <a:r>
              <a:rPr b="1" lang="sr-Latn-CS" sz="2000" spc="-1" strike="noStrike">
                <a:solidFill>
                  <a:srgbClr val="000000"/>
                </a:solidFill>
                <a:latin typeface="Arial"/>
              </a:rPr>
              <a:t>asocijacija (associ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Asocijacija predstavlja pridruživanje stanice određenoj pristupnoj tački i osposobljava pristupnu tačku da distribuira podatke ka stanici i od stanice. Servis asocijacije služi da napravi logičku vezu između stanice i pristupne tačke. Svaka stanica mora biti pridružena nekoj pristupnoj tački pre nego što joj se dozvoli da razmenjuje podatke sa distributivnim sistemom kroz pristupnu tačku. Ova logička veza je neophodna da bi distributivni sistem znao gde i kako da komunicira sa dotičnom stanico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Stanica aktivira servis asocijacije samo jednom, tipično kad postaje član određenog skupa stanica. Svaka stanica može izvršiti asocijaciju sa samo jednom pristupnom tačkom, dok jedna pristupna tačka može izvršiti asocijaciju sa više stan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MAC servisi</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     </a:t>
            </a:r>
            <a:r>
              <a:rPr b="1" lang="sr-Latn-CS" sz="1800" spc="-1" strike="noStrike">
                <a:solidFill>
                  <a:srgbClr val="000000"/>
                </a:solidFill>
                <a:latin typeface="Arial"/>
              </a:rPr>
              <a:t>disasocijacija (disassoci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Disasocijacija vrši raskid postojeće asocijacije. Ovaj servis se koristi ili da prinudi stanicu da prekine asocijaciju sa pristupnom tačkom, ili da stanica informiše pristupnu tačku da joj više nisu potrebne usluge dotičnog distributivnog sistema. Kada se izvrši servis disasocijacije, stanica mora da izvrši asocijaciju da bi ponovo komunicirala sa pristupnom tačko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Pristupna tačka može izvršiti disasocijaciju neke stanice zbog ograničenja resursa ili zbog gašenja ili uklanjanja pristupne tačke iz određenog razloga. Kada stanica dobije obaveštenje da više neće koristiti usluge pristupne tačke, ona može izvršiti disasocijaciju da obavesti pristupnu tačku kako joj uspostavljena logička veza više nije potrebn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Stanica treba da izvrši deasocijaciju kada napušta mrežu, inače ništa drugo u arhitekturi ne osigurava da će se ovo dogoditi. Disasocijacija predstavlja obaveštenje i može je izvršiti bilo koja strana koja se nalazi u asocijaciji. Nijedna strana ne može odbiti prekid asocijacij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MAC servisi</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     </a:t>
            </a:r>
            <a:r>
              <a:rPr b="1" lang="sr-Latn-CS" sz="2000" spc="-1" strike="noStrike">
                <a:solidFill>
                  <a:srgbClr val="000000"/>
                </a:solidFill>
                <a:latin typeface="Arial"/>
              </a:rPr>
              <a:t>reasocijacija (reassoci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Ovaj tip vrši transfer asocijacije sa jedne pristupne tačke na drugu. Reasocijacija omogućava stanici da promeni tekuću asocijaciju sa pristupnom tačkom. Servis reasocijacije je sličan servisu asocijacije, s razlikom u tome što on uključuje informaciju o pristupnoj tački s kojom je stanica prethodno bila u asocijaciji. Mobilna stanica će uzastopno ponavljati reasocijacije krećući se kroz određenu široku mrežu, kada gubi kontakt sa poslednjom pridruženom pristupnom tačkom i želi da bude u asocijaciji sa novom pristupnom tačko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Koristeći servis reasocijacije, mobilna stanica obezbeđuje informacije novoj pristupnoj tački s kojom će stupiti u asocijaciju, održavajući vezu sa starom pristupnom tačkom sa kojom će izvršiti deasocijaciju. Ovo omogućava novoj pristupnoj tački da stupi u kontakt sa starom kako bi pribavila pakete podataka koji čekaju na isporuku mobilnoj stanici, kao i ostale informacije koje mogu biti relevantne za novu asocijaciju. Mobilna stanica uvek inicira reasocijacij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MAC servisi</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    </a:t>
            </a:r>
            <a:r>
              <a:rPr b="1" lang="sr-Latn-CS" sz="2400" spc="-1" strike="noStrike">
                <a:solidFill>
                  <a:srgbClr val="000000"/>
                </a:solidFill>
                <a:latin typeface="Arial"/>
              </a:rPr>
              <a:t>distribucija (distribu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Ovaj servis omogućuje transfer podataka između entiteta kroz distributivni sistem. Distribucija je primarni servis koji koriste 802.11 stanice. On omogućuje transfer podataka pomoću najneophodnijih informacija koje su dovoljne za određivanje krajnje destinacij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Tri asocijaciona servisa (asocijacija, reasocijacija i deasocijacija) obezbeđuju neophodne podatke za funkcionisanje distribucionog servisa. Distribucija u okviru distributivnog sistema ne mora uključivati nikakve dodatne podatke izvan tri asocijaciona servisa. Podrazumeva se da ciljna stanica mora biti u asocijaciji sa nekom pristupnom tačkom da bi distributivni sistem mogao pravilno proslediti podatk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MAC servisi</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      </a:t>
            </a:r>
            <a:r>
              <a:rPr b="1" lang="sr-Latn-CS" sz="1600" spc="-1" strike="noStrike">
                <a:solidFill>
                  <a:srgbClr val="000000"/>
                </a:solidFill>
                <a:latin typeface="Arial"/>
              </a:rPr>
              <a:t>integracija (integrati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Integracija obezbeđuje transfer podataka između distributivnog sistema IEEE 802.11 bežične mreže i neke mreže drugog tipa. Stanica koja obezbeđuje ovu funkciju zove se portal. Portal je apstraktni arhitekturni koncept koji je tipično smešten u okviru pristupne tačke. Integracioni servis prevodi format podataka 802.11 mreža u format koji može da se koristi u drugim tipovima mreža i obratn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      </a:t>
            </a:r>
            <a:r>
              <a:rPr b="1" lang="sr-Latn-CS" sz="1600" spc="-1" strike="noStrike">
                <a:solidFill>
                  <a:srgbClr val="000000"/>
                </a:solidFill>
                <a:latin typeface="Arial"/>
              </a:rPr>
              <a:t>sigurnost (privac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Ovaj tip sprečava neovlašteno pregledanje podataka kroz primenu WEP (Wireless Equivalency Privacy) algoritma. Sigurnosni servis IEEE 802.11 standarda je dizajniran da obezbedi ekvivalentan stepen zaštite podataka kao kod ožičenih mreža sa ograničenim fizičkim pristupom. Ovaj servis štiti podatke samo dok se prenose kroz bežični medijum. On nije dizajniran da obezbedi kompletnu zaštitu podataka koji se šalju između aplikacija širom neke mešovite mrež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U bežičnoj mreži, sve stanice i ostali uređaji mogu čuti saobraćaj podataka koji se odvija u okviru dometa mreže, što ozbiljno ugrožava nivo sigurnosti bežične veze. IEEE 802.11 standard se bori protiv ovog problema pomoću sigurnosnog servisa koji se zasniva na šifrovanom algoritmu koji se primenjuje na sve formate podataka i na pojedine formate za prijavljivanj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rPr>
              <a:t>      </a:t>
            </a:r>
            <a:r>
              <a:rPr b="1" lang="sr-Latn-CS" sz="1600" spc="-1" strike="noStrike">
                <a:solidFill>
                  <a:srgbClr val="000000"/>
                </a:solidFill>
                <a:latin typeface="Arial"/>
              </a:rPr>
              <a:t>prenos podataka (data deliver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Ovaj servis obezbeđuje prenos podataka između pojedinih stani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ARHITEKTURA BEŽIČNIH MREŽA</a:t>
            </a:r>
            <a:br>
              <a:rPr sz="2400"/>
            </a:br>
            <a:endParaRPr b="0" lang="en-US" sz="2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Osnovne topologije 802.11 mrež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IEEE 802.11 standard podržava tri osnovne topologije za bežične mreže. Sve tri konfiguracije su podržane na MAC nivou.</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Nezavisni osnovni servisni skup IBSS (Independent Basic Service S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Osnovni servisni skup BSS (Basic Service S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Prošireni servisni skup ESS (Extended Service S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Nezavisni osnovni servisni skup IBSS (Independent Basic Service Set)</a:t>
            </a:r>
            <a:br>
              <a:rPr sz="2400"/>
            </a:br>
            <a:endParaRPr b="0" lang="en-US" sz="2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Prvu topologiju predstavlja nezavisni osnovni servisni skup IBSS (Independent Basic Service Set) ili ad hoc konfiguracija. Logički, ad hoc konfiguracija je slična ravnopravnoj (peer-to-peer) kancelarijskoj mreži u kojoj se ni od jednog čvora u mreži ne zahteva da funkcioniše kao server, videti slik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IBSS bežična mreža obuhvata izvestan broj čvorova, tj. stanica koje komuniciraju direktno jedna sa drugom na ad hoc, ravnopravnoj osnovi. Praveći potpuno ili delimično umreženu topologiju. Generalno, ad hoc implementacije prekrivaju ograničeno područje i nisu povezane sa bilo kojom većom mrežo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1800" spc="-1" strike="noStrike">
                <a:solidFill>
                  <a:srgbClr val="000000"/>
                </a:solidFill>
                <a:latin typeface="Arial"/>
              </a:rPr>
              <a:t>Nezavisni osnovni servisni skup IBSS </a:t>
            </a:r>
            <a:br>
              <a:rPr sz="1800"/>
            </a:br>
            <a:r>
              <a:rPr b="0" i="1" lang="sr-Latn-CS" sz="1800" spc="-1" strike="noStrike">
                <a:solidFill>
                  <a:srgbClr val="000000"/>
                </a:solidFill>
                <a:latin typeface="Arial"/>
              </a:rPr>
              <a:t>(ad hoc konfiguracija)</a:t>
            </a:r>
            <a:br>
              <a:rPr sz="1800"/>
            </a:br>
            <a:endParaRPr b="0" lang="en-US" sz="1800" spc="-1" strike="noStrike">
              <a:solidFill>
                <a:srgbClr val="000000"/>
              </a:solidFill>
              <a:latin typeface="Arial"/>
            </a:endParaRPr>
          </a:p>
        </p:txBody>
      </p:sp>
      <p:pic>
        <p:nvPicPr>
          <p:cNvPr id="97" name="" descr=""/>
          <p:cNvPicPr/>
          <p:nvPr/>
        </p:nvPicPr>
        <p:blipFill>
          <a:blip r:embed="rId1"/>
          <a:stretch/>
        </p:blipFill>
        <p:spPr>
          <a:xfrm>
            <a:off x="1333440" y="1700280"/>
            <a:ext cx="6477120" cy="4324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Osnovni servisni skup BSS (Basic Service Set)</a:t>
            </a:r>
            <a:br>
              <a:rPr sz="2400"/>
            </a:br>
            <a:endParaRPr b="0" lang="en-US" sz="2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Drugu topologiju predstavlja osnovni servisni skup BSS (Basic Service Set) koja je jedna od podvarijanti infrastrukturne konfiguracij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BSS bežična mreža je skup stanica kontrolisan od strane samo jedne koordinacione funkcije. To znači da se konfiguracija sastoji od jedne pristupne tačke i određenog broja stanica koje svoja mrežna komuniciranja obavljaju isključivo kroz dotičnu pristupnu tačku.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Na primer, ukoliko stanica A komunicira sa stanicom B, to znači da se komunikacija odvija između stanice A i pristupne tačke, te između pristupne tačke i stanice B. Takođe, klijenti u bežičnoj mreži mogu pristupiti nekoj ožičenoj mreži i njenim resursima (serveri, štampači, veze ka internetu), naravno, ukoliko je pristupna tačka povezana sa takvom mrežom, videti slik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000000"/>
                </a:solidFill>
                <a:latin typeface="Arial"/>
              </a:rPr>
              <a:t>802.11 TEHNOLOGIJA NA FIZIČKOM NIVOU</a:t>
            </a:r>
            <a:endParaRPr b="0" lang="en-US" sz="4000" spc="-1" strike="noStrike">
              <a:solidFill>
                <a:srgbClr val="000000"/>
              </a:solidFill>
              <a:latin typeface="Arial"/>
            </a:endParaRPr>
          </a:p>
        </p:txBody>
      </p:sp>
      <p:pic>
        <p:nvPicPr>
          <p:cNvPr id="46" name="" descr=""/>
          <p:cNvPicPr/>
          <p:nvPr/>
        </p:nvPicPr>
        <p:blipFill>
          <a:blip r:embed="rId1">
            <a:grayscl/>
          </a:blip>
          <a:stretch/>
        </p:blipFill>
        <p:spPr>
          <a:xfrm>
            <a:off x="2171880" y="1600200"/>
            <a:ext cx="479880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Osnovni servisni skup BSS (Basic Service Set)</a:t>
            </a:r>
            <a:br>
              <a:rPr sz="2800"/>
            </a:br>
            <a:endParaRPr b="0" lang="en-US" sz="2800" spc="-1" strike="noStrike">
              <a:solidFill>
                <a:srgbClr val="000000"/>
              </a:solidFill>
              <a:latin typeface="Arial"/>
            </a:endParaRPr>
          </a:p>
        </p:txBody>
      </p:sp>
      <p:pic>
        <p:nvPicPr>
          <p:cNvPr id="101" name="" descr=""/>
          <p:cNvPicPr/>
          <p:nvPr/>
        </p:nvPicPr>
        <p:blipFill>
          <a:blip r:embed="rId1"/>
          <a:stretch/>
        </p:blipFill>
        <p:spPr>
          <a:xfrm>
            <a:off x="2638440" y="1600200"/>
            <a:ext cx="3865680" cy="4525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rošireni servisni skup ESS (Extended Service Set)</a:t>
            </a:r>
            <a:br>
              <a:rPr sz="2000"/>
            </a:br>
            <a:endParaRPr b="0" lang="en-US" sz="2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Treća 802.11 topologija je takođe infrastrukturna i naziva se prošireni servisni skup ESS (Extended Service Set). ESS konfiguracija predstavlja skup od dve ili više BSS konfiguracija koji formira jednu podmrežu. Ona se sastoji od višestrukih BSS ćelija koje mogu biti međusobno povezane bilo ožičenim, bilo bežičnim vezama, slik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Po IEEE 802.11 standardu podržano je da u okviru ESS skupa više BSS ćelija koriste isti kanal, a takođe je podržano i korištenje različitih kanala kako bi se povećao ukupni proto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rošireni servisni skup ESS (Extended Service Set)</a:t>
            </a:r>
            <a:br>
              <a:rPr sz="2400"/>
            </a:br>
            <a:endParaRPr b="0" lang="en-US" sz="2400" spc="-1" strike="noStrike">
              <a:solidFill>
                <a:srgbClr val="000000"/>
              </a:solidFill>
              <a:latin typeface="Arial"/>
            </a:endParaRPr>
          </a:p>
        </p:txBody>
      </p:sp>
      <p:pic>
        <p:nvPicPr>
          <p:cNvPr id="105" name="" descr=""/>
          <p:cNvPicPr/>
          <p:nvPr/>
        </p:nvPicPr>
        <p:blipFill>
          <a:blip r:embed="rId1"/>
          <a:stretch/>
        </p:blipFill>
        <p:spPr>
          <a:xfrm>
            <a:off x="2247840" y="1600200"/>
            <a:ext cx="4648320" cy="4525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rPr>
              <a:t>802.11 bežične mreže su bazirane na celularnoj arhitekturi. Svaka ćelija (BSS) je povezana sa baznom stanicom (pristupna tačka). Sve pristupne tačke su povezane sa distributivnim sistemom koji je najčešće eternet ili bežični LAN. Sve gore pomenute komponente vidljive su kao 802 sistem za gornje slojeve OSI (Open System Interconnection) modela i nazivaju se prošireni servisni skup ESS.</a:t>
            </a:r>
            <a:endParaRPr b="0" lang="en-US" sz="1400" spc="-1" strike="noStrike">
              <a:solidFill>
                <a:srgbClr val="000000"/>
              </a:solidFill>
              <a:latin typeface="Arial"/>
            </a:endParaRPr>
          </a:p>
        </p:txBody>
      </p:sp>
      <p:pic>
        <p:nvPicPr>
          <p:cNvPr id="107" name="" descr=""/>
          <p:cNvPicPr/>
          <p:nvPr/>
        </p:nvPicPr>
        <p:blipFill>
          <a:blip r:embed="rId1"/>
          <a:stretch/>
        </p:blipFill>
        <p:spPr>
          <a:xfrm>
            <a:off x="457200" y="1909800"/>
            <a:ext cx="8229600" cy="3906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ovećavanje dometa pomoću ad hoc peer-to-peer mreža</a:t>
            </a:r>
            <a:br>
              <a:rPr sz="2400"/>
            </a:br>
            <a:endParaRPr b="0" lang="en-US" sz="2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ovećavanje dometa pomoću ad hoc peer-to-peer mrež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Korišćenjem ad hoc peer-to-peer tehnologija moguće je proširiti maksimalni domet bežičnih mreža sa stotinjak metara na nekoliko kilometara. Princip se zasniva na tome da se bežične stanice ponašaju kao pomoćni ruteri. Rezultat je sistem koji omogućava klijentu koji nije u dometu pristupne tačke da njoj pristupi kroz jednog ili više bližih klijenata. Sistem na ovaj način može i dodatno rasteretiti zagušene pristupne tačke, koristeći one koje su slobodnije. Osim toga korisnici formiraju mrežu, čak i onda kada nisu spojeni sa fiksnom mrežom i/ili interneto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Na slici je ilustrovana ad hoc peer-to-peer mrež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U ovakvoj tehnologiji korisnici su istovremeno i deo mreže, jer se oni pojavljuju kao pikoćelije (ruteri i obnavljači) u mrežnoj infrastruktur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ovećavanje dometa pomoću ad hoc peer-to-peer mreža</a:t>
            </a:r>
            <a:br>
              <a:rPr sz="2400"/>
            </a:br>
            <a:endParaRPr b="0" lang="en-US" sz="2400" spc="-1" strike="noStrike">
              <a:solidFill>
                <a:srgbClr val="000000"/>
              </a:solidFill>
              <a:latin typeface="Arial"/>
            </a:endParaRPr>
          </a:p>
        </p:txBody>
      </p:sp>
      <p:pic>
        <p:nvPicPr>
          <p:cNvPr id="111" name="" descr=""/>
          <p:cNvPicPr/>
          <p:nvPr/>
        </p:nvPicPr>
        <p:blipFill>
          <a:blip r:embed="rId1"/>
          <a:stretch/>
        </p:blipFill>
        <p:spPr>
          <a:xfrm>
            <a:off x="457200" y="1608120"/>
            <a:ext cx="8229600" cy="451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hnike </a:t>
            </a:r>
            <a:r>
              <a:rPr b="0" lang="sr-Latn-CS" sz="4400" spc="-1" strike="noStrike">
                <a:solidFill>
                  <a:srgbClr val="000000"/>
                </a:solidFill>
                <a:latin typeface="Arial"/>
              </a:rPr>
              <a:t>bežičnog prenosa</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IEEE 802.11 standard definiše tri fizičke tehnike za bežični prenos podatak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radiodifuzni infracrveni prenos IR (InfraRed), prošireni spektar sa skokovitim promenama frekvencije (Frequency Hopping Spread Spectrum – FH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rošireni spektar pomoću direktne sekvence (Direct Sequence Spread Spectrum – DSS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Infracrvena tehnika radi u osnovnom opsegu, druge dve tehnike rade na frekvencijama od oko 2.4 GHz.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000000"/>
                </a:solidFill>
                <a:latin typeface="Arial"/>
              </a:rPr>
              <a:t>Difuzni infracrveni prenos</a:t>
            </a: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Ovaj prenos se zasniva na radiodifuznom infracrvenom signalu emitovanom iz predajnika koji popunjava zatvoreni prostor kao svetlost i zbog toga nije neophodna direktna vidljivost za proces prenošenja podatak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Obično se infracrveni adapter uperi prema plafonu ili nekom uglu da bi se signal odbijao od zidove i plafon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Signal ima talasnu dužinu između 850 nm i 950 nm. Domet im nije veliki, reda 25 metar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Snaga signala limitirana je na 2 W, kako bi se smanjila štetnost po ljudski v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Arial"/>
              </a:rPr>
              <a:t>Prenos proširenim spektrom</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Postoje dva glavna podsistema: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prošireni spektar sa skokovitim promenama frekvencije (FHSS) i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prošireni spektar pomoću direktne sekvence (DSS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Latn-CS" sz="3200" spc="-1" strike="noStrike">
                <a:solidFill>
                  <a:srgbClr val="000000"/>
                </a:solidFill>
                <a:latin typeface="Arial"/>
              </a:rPr>
              <a:t>DSSS je uglavnom spoljna, interobjekatska tehnologija, dok je FHSS primarno unutrašnja, intraobjekatska tehnologij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Širenje spektra</a:t>
            </a:r>
            <a:endParaRPr b="0" lang="en-US" sz="4400" spc="-1" strike="noStrike">
              <a:solidFill>
                <a:srgbClr val="000000"/>
              </a:solidFill>
              <a:latin typeface="Arial"/>
            </a:endParaRPr>
          </a:p>
        </p:txBody>
      </p:sp>
      <p:pic>
        <p:nvPicPr>
          <p:cNvPr id="54" name="" descr=""/>
          <p:cNvPicPr/>
          <p:nvPr/>
        </p:nvPicPr>
        <p:blipFill>
          <a:blip r:embed="rId1">
            <a:grayscl/>
          </a:blip>
          <a:stretch/>
        </p:blipFill>
        <p:spPr>
          <a:xfrm>
            <a:off x="863640" y="1881360"/>
            <a:ext cx="7416720" cy="396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FHS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Po IEEE 802.11 standardu za FHSS prenos koristi se deo industrijskog, naučnog i medicinskog spektra (Industrial, Scientific, and Medical (ISM) radio band: 2.4 GHz – 2.5 GHz). Za Ameriku i većinu Evrope koristi se opseg između 2.4 GHz i 2.4835 GHz. Na tom opsegu definisano je 79 frekvencija po kojima nosilac skače po određenom šablonu. </a:t>
            </a:r>
            <a:r>
              <a:rPr b="0" lang="sv-SE" sz="2000" spc="-1" strike="noStrike">
                <a:solidFill>
                  <a:srgbClr val="000000"/>
                </a:solidFill>
                <a:latin typeface="Arial"/>
              </a:rPr>
              <a:t>Standard definiše 78 sekvenci skoka. Svaka sekvenca opisuje 79 skokova. Sekvence su grupisane u tri skupa sekvenc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a:rPr>
              <a:t>FHS1: (0, 3, 6, 9, …, 75);</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a:rPr>
              <a:t>FHS2: (1, 4, 7, 10, …, 76);</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00000"/>
                </a:solidFill>
                <a:latin typeface="Arial"/>
              </a:rPr>
              <a:t>FHS3: (2, 5, 8, 11, …, 77).</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     </a:t>
            </a:r>
            <a:r>
              <a:rPr b="0" lang="sv-SE" sz="2000" spc="-1" strike="noStrike">
                <a:solidFill>
                  <a:srgbClr val="000000"/>
                </a:solidFill>
                <a:latin typeface="Arial"/>
              </a:rPr>
              <a:t>Sekvence iz istog seta imaju manje kolizija i stoga ih treba koristiti u slučaju sistema koji se nalaze na istoj lokaciji. Može se postaviti do 26 kolociranih nesinhroni</a:t>
            </a:r>
            <a:r>
              <a:rPr b="0" lang="sr-Latn-CS" sz="2000" spc="-1" strike="noStrike">
                <a:solidFill>
                  <a:srgbClr val="000000"/>
                </a:solidFill>
                <a:latin typeface="Arial"/>
              </a:rPr>
              <a:t>zovanih</a:t>
            </a:r>
            <a:r>
              <a:rPr b="0" lang="sv-SE" sz="2000" spc="-1" strike="noStrike">
                <a:solidFill>
                  <a:srgbClr val="000000"/>
                </a:solidFill>
                <a:latin typeface="Arial"/>
              </a:rPr>
              <a:t> sistema i to u slučaju srednjeg nivoa saobraćaja u ovakvoj bežičnoj mreži.</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Primer korišćenja kanala</a:t>
            </a:r>
            <a:endParaRPr b="0" lang="en-US" sz="4400" spc="-1" strike="noStrike">
              <a:solidFill>
                <a:srgbClr val="000000"/>
              </a:solidFill>
              <a:latin typeface="Arial"/>
            </a:endParaRPr>
          </a:p>
        </p:txBody>
      </p:sp>
      <p:sp>
        <p:nvSpPr>
          <p:cNvPr id="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9" name="33" descr=""/>
          <p:cNvPicPr/>
          <p:nvPr/>
        </p:nvPicPr>
        <p:blipFill>
          <a:blip r:embed="rId1">
            <a:grayscl/>
          </a:blip>
          <a:stretch/>
        </p:blipFill>
        <p:spPr>
          <a:xfrm>
            <a:off x="1523880" y="2286000"/>
            <a:ext cx="5639040" cy="28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5T11:56:49Z</dcterms:created>
  <dc:creator>Korisnik</dc:creator>
  <dc:description/>
  <dc:language>en-US</dc:language>
  <cp:lastModifiedBy>Korisnik</cp:lastModifiedBy>
  <dcterms:modified xsi:type="dcterms:W3CDTF">2007-01-17T12:09:32Z</dcterms:modified>
  <cp:revision>101</cp:revision>
  <dc:subject/>
  <dc:title>Model telekomunikacionog kanala</dc:title>
</cp:coreProperties>
</file>