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F9-CD56-463B-A92E-64775DCC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B20-9DCD-4648-893F-A7F079E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569-15A8-4309-86E1-E9C002C0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293-02FE-4E00-99A1-352DF7B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3AF-8C6C-4DC2-AA3A-7EEAC48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34B-AD72-4844-A9E0-B4024B89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9C2-19AC-415E-97BF-E914280A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866-6EA8-44CC-AC33-8B7CE0B7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816-7414-4B18-94F8-38DED95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482-0FFA-4369-B1A6-49A6BD7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753-D22F-4A2E-B678-936CA7C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794-8F81-45EC-AF5E-B7125C4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79A6-82A3-419F-B65F-7B9BC1D3A0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B5C-BAD2-4936-ADAA-1C71C019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27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5504AF2-CB3C-45C2-86F9-577692071B4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49160"/>
            <a:ext cx="90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vak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treba da bu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etaljno opisan. U fazi analiz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istema i specifikacije zahte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je se struktuirani verbalni opis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u kasnijim fazama se ovaj opis dopunja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formalnim opisom kolaboracije objeka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ko kojih se posmatran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realizuje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46240" y="2703600"/>
          <a:ext cx="685008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703600"/>
                    <a:ext cx="68500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25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D235F56-83F7-4934-8277-031891AF24C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49160"/>
            <a:ext cx="90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ta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i model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laboracije s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je prek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ML Dijagrama klasa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dinam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ko dijagrama interakcije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jagram promene stanja ili dijagrama aktivnosti. Jedan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predstavlja skup sekvenci dog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. Jedna sekvenca dog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se naziv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cenario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6240" y="2703600"/>
          <a:ext cx="685008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703600"/>
                    <a:ext cx="68500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34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103411F-6526-434C-8697-0E4F70E0735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49160"/>
            <a:ext cx="90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oji jedan osnovni scenario i skup mogucih izuzetaka, odnosno alternativnih funkcionisanja. U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no je da se posebno daje opis osnovnog scenarija, a posebno opis svih alternativnih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a funkcionisanj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6240" y="2703600"/>
          <a:ext cx="685008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703600"/>
                    <a:ext cx="68500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43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D21454-7EB3-41FE-BD3B-67F19E91C40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74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IZANJE NOVCA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novni sce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vera kartice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Komitent ubac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r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cu u automat.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Automat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karlicu i proverava da I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hvatljiva.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Ak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hvatljiva, zahtev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 komitenta da unese "tajnu sifru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veravanje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fre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Komitent unosi tajnu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fru. Ak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fra korektna zahtev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 korisnik izabere transakci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nos tipa transakcije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Komitent bira "podizanje novca" i automat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je r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u banke tajnu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fru da b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bili brojevi komitentovih r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. Dobijaj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mitentovi brojevi racuna i prikazuju na ekranu autom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 startAt="4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dizanja novca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Komitent bira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 i unosi iznos koji podi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. Automat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je r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u banke zahtev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izanje datog iznos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tog r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. Priprem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mpanje izve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j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mit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1200" y="687240"/>
          <a:ext cx="2878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687240"/>
                    <a:ext cx="2878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52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B0B805-A218-49CD-A019-AB8EB85E227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749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 startAt="5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raj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Automat vraca kar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cu komiten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zdaj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zve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j komiten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IZANJE NOVCA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ternativna scen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artica nije prihvatljiv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: Kartica se vr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korisniku sa zvu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m signalom.Nekorektna tajna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fra: Odgovarajuca poruka se prikazuje na ekranu i daje se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nsa korisniku da je ponovo unese. Dozvoljava se tri poku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atim se vraca kartica korisni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kid: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Korisnik m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u svakom trenutku da prekine transakciju. Poni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e svi dotada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ji efekti i vratiti kartica korisni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1200" y="687240"/>
          <a:ext cx="2878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687240"/>
                    <a:ext cx="2878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61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FE81097-A19D-4808-B8A1-EDF4B21C3F2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0065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ijagramim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, prvenstveno radi strukturiranja i pojednostavljivanja opis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, uvode se sle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ve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eza zavisnosti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UML je naj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ja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veza dva elementa model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ja 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mantika "elemenat A nekako zavisi od element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socij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a ukazuje na postojanje veze pojavljivanja dva tipa elemenata koji su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socijacij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Generaliz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a vezuje elemenat podtip i elemenat nadtip podrazumev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tip nasl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e osobine i po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nje nadtip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68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A95B71-2B04-445F-9921-A23C368A03C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701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ealiz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a pokazuje da jedan elemenat na neki nacin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alizuje drug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«extend»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stereotip veze zavisnosti koja referencir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ubacuje)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datno"po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nje" opisano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ebnom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u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«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include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»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stereotip veze zavisnosti ko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pisu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bacivanje nekog posebn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pisanog, slučaja korišće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 posmatrani slučaj korišć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75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9BD5A4F-CFD8-4CFB-B1BA-45C6D5A8995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701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i u osnovno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enari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laganj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nos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oje sekvenc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ktivnost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v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kartice, Prov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ajne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fr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raj transakci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 scenarij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dizanje, Ulagan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no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uger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a se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dan apstraktn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ov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na transakcija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06480" y="3381480"/>
          <a:ext cx="6096240" cy="34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3381480"/>
                    <a:ext cx="60962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84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5A6B98F-08C1-4072-8120-F97B779C64C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1588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dinstveni delovi scenarija se odvaj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posebne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e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v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kartice, Prov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tajne sifr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raj transakci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zatim ukl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u (zavisnost «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clu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») u apstraktn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Nov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na transakc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06480" y="3381480"/>
          <a:ext cx="6096240" cy="34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3381480"/>
                    <a:ext cx="60962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93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6C21379-7025-4A66-A6F8-00AFF01A161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01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ostoji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 da se u sve osnovne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e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doda j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 registrovanja pojedinih dog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i njihovih atributa (iznos ulaganja, podizanja i prenosa, vreme obavljanja transakcije i s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), apstraktn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se p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uje s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m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tatistika transak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806480" y="3381480"/>
          <a:ext cx="6096240" cy="34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3381480"/>
                    <a:ext cx="60962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202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BC4038-328C-4281-95FC-C2F60E7DA94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1233360"/>
            <a:ext cx="45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mo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treba da prihvati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pite od medijatora i da ih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ransform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u upite ili procedure ko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odgovraju posmatranom izvoru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sto tako, omotač mora da pripremi rezultate upita u formi koja odgovara medijato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59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5B49AEE-3CD9-40C1-94B2-4146ECF7156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701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484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novni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i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laganje, Podizanj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nos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sl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u opis apstraktnog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ov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na transak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dajuci mu svoje specificnos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41320" y="2254320"/>
          <a:ext cx="746136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54320"/>
                    <a:ext cx="74613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211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1769C8-8552-4237-B38D-8902C54F6B6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822240"/>
            <a:ext cx="453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mo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o poseduju skup tzv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ustri (templates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pita u kojima su definisani neki parame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dijatori pozivaju neku od mustri upita, prosl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juci joj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paramet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Za jedan omo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je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definisati veliki bro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h mustri upita. Svaka od tih mustri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, ka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nstantu, bilo po jedan atribut izvora podataka 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jihove kombin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68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68256C-1D71-44DF-A01D-7E4064E5BB6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822240"/>
            <a:ext cx="453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stoje metode preko koj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e broj mustri upita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da sman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negde s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na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o u oblasti softverskog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jerst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 "medijator" zamenj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a terminom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oftverski posrednik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middleware).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oftverski posrednik 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mponent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ji je cilj da uskladi razlike iz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h softverskih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77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4745ABA-7FA2-4D52-AB53-1477FAAC90D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78920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se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d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ikazani medijator spada u klasu medijatora z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istup podac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mer j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oftverskog posrednik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CORBA koja garantuje interoperabilnost distribuiranih objekata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86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4D3362-1465-4E14-BE9A-0503BBB5026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96720"/>
            <a:ext cx="9045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ovom poglavlj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e prikazati osnovne objektne metode i modeli koje se koriste kako za fazu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naliza sistem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kao i za fazu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pecifikacija aplik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votnog ciklusa IS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obe faze se koriste iste metode i modeli, s t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 se u fazi analize sistem posmatra globalno i izg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e se njegov poslovni model, a u fazi specifikacije aplikacija, svaka identifikovana aplikacija se detaljno specifiku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no-orjentisani razvoj softvera je u velikoj meri standardizovan, definisani su modeli preko kojih se sistem opisuje sa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h aspekata i proces po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koga se sistem, uz upotrebu standardnih modela, razv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ML (Unified Modeling Language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tandardni skup modela, 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dinstveni proces razvoja softvera (Unified Software Development Process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tandardnu metodologi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93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7179B31-18DE-4EE4-B870-8F7CFDEA4EF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49160"/>
            <a:ext cx="9045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Model slucajeva koriscen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e koristi i za izgradnj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lovnog modela sistema i za specifikaciju aplikacija. I 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definici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i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izgradn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el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se razlikuju za ova dva aspek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e gle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Analize sistema i izgradnje njegovog Poslovnog modela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lucaj koriscenj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e defin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 ka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pecifikacija interakcije izme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đ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 sistema i jednog ili v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 aktera i sistema, zajedno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pisom akcija sistema u ovoj interakciji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e gle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specifikacije aplikacija Slucaj koriscenja se definise ka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pecifican n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oji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 akter da koristi jednu bud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 aplikaciju IS koj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ktuje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kte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i u jednom i u drugom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u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ka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loga koju igra neki entitet van sistema u jednoj ili vise interakcij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istemom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00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BCB33EA-8D3A-4A1B-BE15-BB53C20D7E5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49160"/>
            <a:ext cx="904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z ovih definicija je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da u fazi Analize sistem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i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je opisuju celokupan sistem, dok u fazi Specifikacije aplikacija daju detaljan opis jedne aplik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d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prvo definisati osnovne koncepte Modela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 ko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, a zat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okazati kako se sa njima modeluju poslovni procesi i specifikuju aplik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07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C99ED3-D05B-4CF3-95BD-6DDAA1878CE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85880" y="3156120"/>
          <a:ext cx="6095880" cy="36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3156120"/>
                    <a:ext cx="609588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749160"/>
            <a:ext cx="90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rmalno Model slucajeva koriscenja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se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kao graf sa dva tipa cvoro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(1) cvorovi tip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kte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(2) cvorovi tip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lucaj koriscen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 Sli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rikazan Dijagram slucajeva koriscenja koji opisuje skup aplikacija koji se mogu obaviti na bankovnom automa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ANALIZA SISTEMA I SPECIFIKACIJA APLIKACIJA:OBJEKTNE METODE-MODEL SLUČAJEVA KORIŠĆ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6532560"/>
            <a:ext cx="9178920" cy="327240"/>
            <a:chOff x="0" y="6532560"/>
            <a:chExt cx="9178920" cy="327240"/>
          </a:xfrm>
        </p:grpSpPr>
        <p:sp>
          <p:nvSpPr>
            <p:cNvPr id="116" name=""/>
            <p:cNvSpPr/>
            <p:nvPr/>
          </p:nvSpPr>
          <p:spPr>
            <a:xfrm>
              <a:off x="34920" y="66135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D05990-E2DC-4595-89EE-7D3E594ADF0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0" y="66135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0" y="65325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325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20T10:33:52Z</dcterms:modified>
  <cp:revision>346</cp:revision>
  <dc:subject/>
  <dc:title>PowerPoint Presentation</dc:title>
</cp:coreProperties>
</file>