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7D4-8658-4946-BFE3-08C28BA4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55D7-3BB2-4713-AD17-751261DB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E234-F912-42C6-AED2-76376178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C451-BB07-4911-94C7-5BB1168A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564A-94E4-4D28-9433-BD7EDFD7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06F3-7ED4-4173-9A9B-BA5D8A04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DC8C-54AA-4E2E-88F0-508CEA69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6A9D-5B32-4E6C-A840-0632EC56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6BD4-F09C-4266-AC9E-DEDD51F5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E0BF-0439-4B75-8115-25A9B0AA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0D43-109F-4272-A238-DF7109B8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681E-925E-4F34-8A4B-8D2E4F42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E730-D5D5-43D9-880C-08764628071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74F9-A0CD-45DD-8121-E443B1DDE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38600" y="5924520"/>
            <a:ext cx="33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EOGR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11120" y="500040"/>
            <a:ext cx="38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UNIVERZITET U BEOGRA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TEHNIČKI FAKULTET U BO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8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Arial"/>
              </a:rPr>
              <a:t>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81280" y="3222720"/>
            <a:ext cx="378936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d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r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Zoran R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</a:rPr>
              <a:t>.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Anđelkovi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jaz@eunet.y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25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.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1520" y="665316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1" lang="sl-SI" sz="1000" spc="-1" strike="noStrike">
                <a:solidFill>
                  <a:srgbClr val="000066"/>
                </a:solidFill>
                <a:latin typeface="Arial"/>
              </a:rPr>
              <a:t>r Zoran R. Anđelkovi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4920" y="0"/>
          <a:ext cx="127620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0"/>
                    <a:ext cx="127620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0" y="6572160"/>
            <a:ext cx="9178920" cy="327240"/>
            <a:chOff x="0" y="6572160"/>
            <a:chExt cx="9178920" cy="327240"/>
          </a:xfrm>
        </p:grpSpPr>
        <p:sp>
          <p:nvSpPr>
            <p:cNvPr id="50" name=""/>
            <p:cNvSpPr/>
            <p:nvPr/>
          </p:nvSpPr>
          <p:spPr>
            <a:xfrm>
              <a:off x="34920" y="66531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2BAC112-2E1C-432D-BB89-03B77AE5332D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920" y="66531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" name=""/>
            <p:cNvGraphicFramePr/>
            <p:nvPr/>
          </p:nvGraphicFramePr>
          <p:xfrm>
            <a:off x="0" y="657216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721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111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E9E156B-C8AB-42A3-8FA7-6365A2F4AD21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6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operacije</a:t>
            </a: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920" y="393840"/>
            <a:ext cx="91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ogodno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peraci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MOV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odeliti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peraci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državanj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(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žuriranj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)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baze podatak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peraci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etraživanj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(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zveštavanj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).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imeri i jednih i drugih operacija će se dati za model na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lede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ćoj slici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920" y="4179960"/>
            <a:ext cx="91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z same strukture PMOV očigledno 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peraci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državanj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baze podataka svode na operacije dodavanja novog objekta u klasu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zbacivanja objekt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z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las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zmenu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rednosti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ekog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tribut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 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zatim povezivanj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razvezivanja i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evezivanj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v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bjekt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eko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zadatog preslikavanj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dnosno vez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36720" y="200016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a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68520" y="2627280"/>
            <a:ext cx="82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0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74040" y="2459520"/>
            <a:ext cx="711000" cy="276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Odele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22" idx="3"/>
            <a:endCxn id="120" idx="0"/>
          </p:cNvCxnSpPr>
          <p:nvPr/>
        </p:nvCxnSpPr>
        <p:spPr>
          <a:xfrm>
            <a:off x="3060360" y="2249280"/>
            <a:ext cx="37044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120" idx="2"/>
            <a:endCxn id="124" idx="3"/>
          </p:cNvCxnSpPr>
          <p:nvPr/>
        </p:nvCxnSpPr>
        <p:spPr>
          <a:xfrm rot="5400000">
            <a:off x="3148920" y="2737080"/>
            <a:ext cx="278280" cy="284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2966040" y="202104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Zapošljava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51280" y="3044880"/>
            <a:ext cx="97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đeno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840" y="2323800"/>
            <a:ext cx="148824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oizvo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9560" y="2189880"/>
            <a:ext cx="528120" cy="246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ad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55680" y="2004120"/>
            <a:ext cx="180504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pošljav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64560" y="2772360"/>
            <a:ext cx="167112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ukovođe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7" idx="1"/>
            <a:endCxn id="120" idx="3"/>
          </p:cNvCxnSpPr>
          <p:nvPr/>
        </p:nvCxnSpPr>
        <p:spPr>
          <a:xfrm rot="10800000">
            <a:off x="3790080" y="2598120"/>
            <a:ext cx="331200" cy="2160"/>
          </a:xfrm>
          <a:prstGeom prst="bentConnector3">
            <a:avLst>
              <a:gd name="adj1" fmla="val 4994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6006960" y="1889640"/>
            <a:ext cx="709560" cy="276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oizv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70120" y="1528920"/>
            <a:ext cx="7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Sastav  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09520" y="2913120"/>
            <a:ext cx="909720" cy="331560"/>
            <a:chOff x="209520" y="2913120"/>
            <a:chExt cx="909720" cy="331560"/>
          </a:xfrm>
        </p:grpSpPr>
        <p:sp>
          <p:nvSpPr>
            <p:cNvPr id="133" name=""/>
            <p:cNvSpPr/>
            <p:nvPr/>
          </p:nvSpPr>
          <p:spPr>
            <a:xfrm>
              <a:off x="209520" y="2913120"/>
              <a:ext cx="909720" cy="331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1080" y="2956320"/>
              <a:ext cx="786600" cy="246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Ispl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5" name=""/>
          <p:cNvCxnSpPr>
            <a:stCxn id="128" idx="3"/>
            <a:endCxn id="124" idx="1"/>
          </p:cNvCxnSpPr>
          <p:nvPr/>
        </p:nvCxnSpPr>
        <p:spPr>
          <a:xfrm>
            <a:off x="882360" y="2313000"/>
            <a:ext cx="770760" cy="705240"/>
          </a:xfrm>
          <a:prstGeom prst="curvedConnector5">
            <a:avLst>
              <a:gd name="adj1" fmla="val 73598"/>
              <a:gd name="adj2" fmla="val 50000"/>
              <a:gd name="adj3" fmla="val 735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28" idx="3"/>
            <a:endCxn id="122" idx="1"/>
          </p:cNvCxnSpPr>
          <p:nvPr/>
        </p:nvCxnSpPr>
        <p:spPr>
          <a:xfrm flipV="1">
            <a:off x="882720" y="2249280"/>
            <a:ext cx="373680" cy="64080"/>
          </a:xfrm>
          <a:prstGeom prst="curvedConnector5">
            <a:avLst>
              <a:gd name="adj1" fmla="val 49758"/>
              <a:gd name="adj2" fmla="val 49717"/>
              <a:gd name="adj3" fmla="val 497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28" idx="2"/>
            <a:endCxn id="134" idx="0"/>
          </p:cNvCxnSpPr>
          <p:nvPr/>
        </p:nvCxnSpPr>
        <p:spPr>
          <a:xfrm flipH="1" rot="16200000">
            <a:off x="382680" y="2670840"/>
            <a:ext cx="513360" cy="51480"/>
          </a:xfrm>
          <a:prstGeom prst="curvedConnector5">
            <a:avLst>
              <a:gd name="adj1" fmla="val 49824"/>
              <a:gd name="adj2" fmla="val 50000"/>
              <a:gd name="adj3" fmla="val 498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184320" y="1609560"/>
            <a:ext cx="698400" cy="190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lb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36720" y="151452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84440" y="1838160"/>
            <a:ext cx="698400" cy="190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nim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30520" y="15192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Star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591320" y="1800720"/>
            <a:ext cx="846360" cy="796320"/>
            <a:chOff x="7591320" y="1800720"/>
            <a:chExt cx="846360" cy="796320"/>
          </a:xfrm>
        </p:grpSpPr>
        <p:sp>
          <p:nvSpPr>
            <p:cNvPr id="143" name=""/>
            <p:cNvSpPr/>
            <p:nvPr/>
          </p:nvSpPr>
          <p:spPr>
            <a:xfrm>
              <a:off x="7591320" y="1995480"/>
              <a:ext cx="846360" cy="406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95640" y="1800720"/>
              <a:ext cx="839520" cy="79632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 Narrow"/>
                </a:rPr>
                <a:t>Stru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5" name=""/>
          <p:cNvCxnSpPr>
            <a:stCxn id="127" idx="3"/>
            <a:endCxn id="130" idx="1"/>
          </p:cNvCxnSpPr>
          <p:nvPr/>
        </p:nvCxnSpPr>
        <p:spPr>
          <a:xfrm flipV="1">
            <a:off x="5443560" y="2028240"/>
            <a:ext cx="558000" cy="572040"/>
          </a:xfrm>
          <a:prstGeom prst="curvedConnector5">
            <a:avLst>
              <a:gd name="adj1" fmla="val 49838"/>
              <a:gd name="adj2" fmla="val 50000"/>
              <a:gd name="adj3" fmla="val 4983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stCxn id="130" idx="0"/>
            <a:endCxn id="144" idx="0"/>
          </p:cNvCxnSpPr>
          <p:nvPr/>
        </p:nvCxnSpPr>
        <p:spPr>
          <a:xfrm flipH="1" rot="16200000">
            <a:off x="7134840" y="1113480"/>
            <a:ext cx="110160" cy="1654920"/>
          </a:xfrm>
          <a:prstGeom prst="curvedConnector5">
            <a:avLst>
              <a:gd name="adj1" fmla="val -208524"/>
              <a:gd name="adj2" fmla="val 50000"/>
              <a:gd name="adj3" fmla="val -2085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0" idx="3"/>
            <a:endCxn id="144" idx="2"/>
          </p:cNvCxnSpPr>
          <p:nvPr/>
        </p:nvCxnSpPr>
        <p:spPr>
          <a:xfrm>
            <a:off x="6723000" y="2028960"/>
            <a:ext cx="1294560" cy="373680"/>
          </a:xfrm>
          <a:prstGeom prst="curvedConnector5">
            <a:avLst>
              <a:gd name="adj1" fmla="val 33713"/>
              <a:gd name="adj2" fmla="val 80617"/>
              <a:gd name="adj3" fmla="val 337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6218280" y="2290680"/>
            <a:ext cx="29700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05640" y="3083400"/>
            <a:ext cx="534240" cy="246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aš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14400" y="3097800"/>
            <a:ext cx="603000" cy="246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aterij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8" idx="2"/>
            <a:endCxn id="149" idx="0"/>
          </p:cNvCxnSpPr>
          <p:nvPr/>
        </p:nvCxnSpPr>
        <p:spPr>
          <a:xfrm rot="5400000">
            <a:off x="6030000" y="2743200"/>
            <a:ext cx="280080" cy="394200"/>
          </a:xfrm>
          <a:prstGeom prst="bentConnector3">
            <a:avLst>
              <a:gd name="adj1" fmla="val 499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8" idx="2"/>
            <a:endCxn id="150" idx="0"/>
          </p:cNvCxnSpPr>
          <p:nvPr/>
        </p:nvCxnSpPr>
        <p:spPr>
          <a:xfrm flipH="1" rot="16200000">
            <a:off x="6794280" y="2372400"/>
            <a:ext cx="294480" cy="1150200"/>
          </a:xfrm>
          <a:prstGeom prst="bentConnector3">
            <a:avLst>
              <a:gd name="adj1" fmla="val 496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0" idx="2"/>
            <a:endCxn id="148" idx="0"/>
          </p:cNvCxnSpPr>
          <p:nvPr/>
        </p:nvCxnSpPr>
        <p:spPr>
          <a:xfrm flipH="1" rot="16200000">
            <a:off x="6283080" y="2248560"/>
            <a:ext cx="162720" cy="5400"/>
          </a:xfrm>
          <a:prstGeom prst="bentConnector3">
            <a:avLst>
              <a:gd name="adj1" fmla="val 498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8286840" y="15368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Ugrk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endCxn id="154" idx="2"/>
          </p:cNvCxnSpPr>
          <p:nvPr/>
        </p:nvCxnSpPr>
        <p:spPr>
          <a:xfrm flipH="1" flipV="1" rot="5400000">
            <a:off x="8276760" y="1887120"/>
            <a:ext cx="519840" cy="199080"/>
          </a:xfrm>
          <a:prstGeom prst="curvedConnector5">
            <a:avLst>
              <a:gd name="adj1" fmla="val 49826"/>
              <a:gd name="adj2" fmla="val 50000"/>
              <a:gd name="adj3" fmla="val 498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8012880" y="176832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N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15040" y="2344680"/>
            <a:ext cx="36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P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38120" y="174312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R,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14360" y="232560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R,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36680" y="1809720"/>
            <a:ext cx="84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Primena 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08280" y="1986120"/>
            <a:ext cx="42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55080" y="2147760"/>
            <a:ext cx="695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Vrsta  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65880" y="15526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Vr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3" idx="3"/>
            <a:endCxn id="130" idx="0"/>
          </p:cNvCxnSpPr>
          <p:nvPr/>
        </p:nvCxnSpPr>
        <p:spPr>
          <a:xfrm>
            <a:off x="6163920" y="1647720"/>
            <a:ext cx="199080" cy="2390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7251480" y="274968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14800" y="27446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88480" y="281772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Porek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0" idx="3"/>
            <a:endCxn id="167" idx="1"/>
          </p:cNvCxnSpPr>
          <p:nvPr/>
        </p:nvCxnSpPr>
        <p:spPr>
          <a:xfrm flipV="1">
            <a:off x="7822800" y="2912400"/>
            <a:ext cx="266040" cy="308520"/>
          </a:xfrm>
          <a:prstGeom prst="curvedConnector5">
            <a:avLst>
              <a:gd name="adj1" fmla="val 49593"/>
              <a:gd name="adj2" fmla="val 50000"/>
              <a:gd name="adj3" fmla="val 4959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9" name=""/>
          <p:cNvSpPr/>
          <p:nvPr/>
        </p:nvSpPr>
        <p:spPr>
          <a:xfrm>
            <a:off x="5519880" y="2593800"/>
            <a:ext cx="698400" cy="190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Am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9" idx="1"/>
            <a:endCxn id="149" idx="1"/>
          </p:cNvCxnSpPr>
          <p:nvPr/>
        </p:nvCxnSpPr>
        <p:spPr>
          <a:xfrm flipH="1" flipV="1" rot="10800000">
            <a:off x="5519520" y="2688840"/>
            <a:ext cx="181440" cy="518400"/>
          </a:xfrm>
          <a:prstGeom prst="curvedConnector5">
            <a:avLst>
              <a:gd name="adj1" fmla="val -15705"/>
              <a:gd name="adj2" fmla="val 49965"/>
              <a:gd name="adj3" fmla="val -1570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4624560" y="15368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14880" y="1631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71" idx="3"/>
            <a:endCxn id="130" idx="1"/>
          </p:cNvCxnSpPr>
          <p:nvPr/>
        </p:nvCxnSpPr>
        <p:spPr>
          <a:xfrm>
            <a:off x="5322600" y="1631520"/>
            <a:ext cx="678600" cy="397800"/>
          </a:xfrm>
          <a:prstGeom prst="curvedConnector5">
            <a:avLst>
              <a:gd name="adj1" fmla="val 20329"/>
              <a:gd name="adj2" fmla="val 50000"/>
              <a:gd name="adj3" fmla="val 2032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72" idx="3"/>
            <a:endCxn id="130" idx="1"/>
          </p:cNvCxnSpPr>
          <p:nvPr/>
        </p:nvCxnSpPr>
        <p:spPr>
          <a:xfrm>
            <a:off x="4012920" y="1727280"/>
            <a:ext cx="1987920" cy="302400"/>
          </a:xfrm>
          <a:prstGeom prst="curvedConnector5">
            <a:avLst>
              <a:gd name="adj1" fmla="val 49990"/>
              <a:gd name="adj2" fmla="val 49940"/>
              <a:gd name="adj3" fmla="val 499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816000" y="2195640"/>
            <a:ext cx="42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24560" y="29242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49560" y="3127320"/>
            <a:ext cx="69876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if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20" idx="3"/>
            <a:endCxn id="176" idx="1"/>
          </p:cNvCxnSpPr>
          <p:nvPr/>
        </p:nvCxnSpPr>
        <p:spPr>
          <a:xfrm>
            <a:off x="3790800" y="2598840"/>
            <a:ext cx="834480" cy="421200"/>
          </a:xfrm>
          <a:prstGeom prst="curvedConnector5">
            <a:avLst>
              <a:gd name="adj1" fmla="val 57876"/>
              <a:gd name="adj2" fmla="val 49957"/>
              <a:gd name="adj3" fmla="val 578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20" idx="3"/>
            <a:endCxn id="177" idx="0"/>
          </p:cNvCxnSpPr>
          <p:nvPr/>
        </p:nvCxnSpPr>
        <p:spPr>
          <a:xfrm>
            <a:off x="3790800" y="2598840"/>
            <a:ext cx="509040" cy="5292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3133440" y="22575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49280" y="27464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09480" y="2781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39760" y="22208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38" idx="2"/>
            <a:endCxn id="128" idx="0"/>
          </p:cNvCxnSpPr>
          <p:nvPr/>
        </p:nvCxnSpPr>
        <p:spPr>
          <a:xfrm flipH="1" rot="16200000">
            <a:off x="379800" y="1952280"/>
            <a:ext cx="386280" cy="81360"/>
          </a:xfrm>
          <a:prstGeom prst="curvedConnector5">
            <a:avLst>
              <a:gd name="adj1" fmla="val 49720"/>
              <a:gd name="adj2" fmla="val 49777"/>
              <a:gd name="adj3" fmla="val 4972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" name=""/>
          <p:cNvCxnSpPr>
            <a:stCxn id="139" idx="2"/>
            <a:endCxn id="128" idx="0"/>
          </p:cNvCxnSpPr>
          <p:nvPr/>
        </p:nvCxnSpPr>
        <p:spPr>
          <a:xfrm rot="5400000">
            <a:off x="708840" y="1609560"/>
            <a:ext cx="481680" cy="672120"/>
          </a:xfrm>
          <a:prstGeom prst="curvedConnector5">
            <a:avLst>
              <a:gd name="adj1" fmla="val 49813"/>
              <a:gd name="adj2" fmla="val 50000"/>
              <a:gd name="adj3" fmla="val 498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41" idx="2"/>
            <a:endCxn id="128" idx="0"/>
          </p:cNvCxnSpPr>
          <p:nvPr/>
        </p:nvCxnSpPr>
        <p:spPr>
          <a:xfrm rot="5400000">
            <a:off x="1108440" y="1215000"/>
            <a:ext cx="477000" cy="146592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" name=""/>
          <p:cNvCxnSpPr>
            <a:stCxn id="140" idx="1"/>
            <a:endCxn id="128" idx="0"/>
          </p:cNvCxnSpPr>
          <p:nvPr/>
        </p:nvCxnSpPr>
        <p:spPr>
          <a:xfrm flipV="1" rot="10800000">
            <a:off x="613800" y="1932480"/>
            <a:ext cx="1970640" cy="2530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293400" y="24163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120" y="2422440"/>
            <a:ext cx="4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2960" y="266868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38200" y="314316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39800" y="264492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z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33" idx="3"/>
            <a:endCxn id="192" idx="2"/>
          </p:cNvCxnSpPr>
          <p:nvPr/>
        </p:nvCxnSpPr>
        <p:spPr>
          <a:xfrm flipH="1" flipV="1">
            <a:off x="1089000" y="2835000"/>
            <a:ext cx="30600" cy="244800"/>
          </a:xfrm>
          <a:prstGeom prst="curvedConnector5">
            <a:avLst>
              <a:gd name="adj1" fmla="val -766666"/>
              <a:gd name="adj2" fmla="val 42268"/>
              <a:gd name="adj3" fmla="val -7666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" name=""/>
          <p:cNvCxnSpPr>
            <a:stCxn id="133" idx="3"/>
            <a:endCxn id="191" idx="1"/>
          </p:cNvCxnSpPr>
          <p:nvPr/>
        </p:nvCxnSpPr>
        <p:spPr>
          <a:xfrm>
            <a:off x="1119240" y="3079440"/>
            <a:ext cx="319680" cy="159480"/>
          </a:xfrm>
          <a:prstGeom prst="curvedConnector5">
            <a:avLst>
              <a:gd name="adj1" fmla="val 49718"/>
              <a:gd name="adj2" fmla="val 50000"/>
              <a:gd name="adj3" fmla="val 49718"/>
            </a:avLst>
          </a:prstGeom>
          <a:ln w="9360">
            <a:solidFill>
              <a:srgbClr val="000000"/>
            </a:solidFill>
            <a:miter/>
          </a:ln>
        </p:spPr>
      </p:cxn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196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52F762B-941E-418D-AF21-74D4DC6DEAF9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8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6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operacija-ubacivanje</a:t>
            </a: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36720" y="106056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a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68520" y="1687680"/>
            <a:ext cx="82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0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74040" y="1519920"/>
            <a:ext cx="711000" cy="27648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Odele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5" idx="3"/>
            <a:endCxn id="203" idx="0"/>
          </p:cNvCxnSpPr>
          <p:nvPr/>
        </p:nvCxnSpPr>
        <p:spPr>
          <a:xfrm>
            <a:off x="3060360" y="1309320"/>
            <a:ext cx="37044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203" idx="2"/>
            <a:endCxn id="207" idx="3"/>
          </p:cNvCxnSpPr>
          <p:nvPr/>
        </p:nvCxnSpPr>
        <p:spPr>
          <a:xfrm rot="5400000">
            <a:off x="3148920" y="1797120"/>
            <a:ext cx="278280" cy="284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2966040" y="10810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Zapošljava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51280" y="2104920"/>
            <a:ext cx="97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đeno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8840" y="1384200"/>
            <a:ext cx="148824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oizvo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9560" y="1249920"/>
            <a:ext cx="528120" cy="24624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ad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55680" y="1063800"/>
            <a:ext cx="180504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pošljav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64560" y="1832760"/>
            <a:ext cx="167112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ukovođe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"/>
          <p:cNvCxnSpPr>
            <a:stCxn id="210" idx="1"/>
            <a:endCxn id="203" idx="3"/>
          </p:cNvCxnSpPr>
          <p:nvPr/>
        </p:nvCxnSpPr>
        <p:spPr>
          <a:xfrm rot="10800000">
            <a:off x="3790080" y="1658160"/>
            <a:ext cx="331200" cy="2520"/>
          </a:xfrm>
          <a:prstGeom prst="bentConnector3">
            <a:avLst>
              <a:gd name="adj1" fmla="val 4994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3" name=""/>
          <p:cNvSpPr/>
          <p:nvPr/>
        </p:nvSpPr>
        <p:spPr>
          <a:xfrm>
            <a:off x="6006960" y="950040"/>
            <a:ext cx="709560" cy="276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oizv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70120" y="588960"/>
            <a:ext cx="7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Sastav  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09520" y="1973160"/>
            <a:ext cx="909720" cy="331920"/>
            <a:chOff x="209520" y="1973160"/>
            <a:chExt cx="909720" cy="331920"/>
          </a:xfrm>
        </p:grpSpPr>
        <p:sp>
          <p:nvSpPr>
            <p:cNvPr id="216" name=""/>
            <p:cNvSpPr/>
            <p:nvPr/>
          </p:nvSpPr>
          <p:spPr>
            <a:xfrm>
              <a:off x="209520" y="1973160"/>
              <a:ext cx="909720" cy="331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1080" y="2016720"/>
              <a:ext cx="786600" cy="246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Ispl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8" name=""/>
          <p:cNvCxnSpPr>
            <a:stCxn id="211" idx="3"/>
            <a:endCxn id="207" idx="1"/>
          </p:cNvCxnSpPr>
          <p:nvPr/>
        </p:nvCxnSpPr>
        <p:spPr>
          <a:xfrm>
            <a:off x="882360" y="1373040"/>
            <a:ext cx="770760" cy="705240"/>
          </a:xfrm>
          <a:prstGeom prst="curvedConnector5">
            <a:avLst>
              <a:gd name="adj1" fmla="val 73598"/>
              <a:gd name="adj2" fmla="val 50000"/>
              <a:gd name="adj3" fmla="val 735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11" idx="3"/>
            <a:endCxn id="205" idx="1"/>
          </p:cNvCxnSpPr>
          <p:nvPr/>
        </p:nvCxnSpPr>
        <p:spPr>
          <a:xfrm flipV="1">
            <a:off x="882720" y="1309320"/>
            <a:ext cx="373680" cy="64080"/>
          </a:xfrm>
          <a:prstGeom prst="curvedConnector5">
            <a:avLst>
              <a:gd name="adj1" fmla="val 49758"/>
              <a:gd name="adj2" fmla="val 49717"/>
              <a:gd name="adj3" fmla="val 497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11" idx="2"/>
            <a:endCxn id="217" idx="0"/>
          </p:cNvCxnSpPr>
          <p:nvPr/>
        </p:nvCxnSpPr>
        <p:spPr>
          <a:xfrm flipH="1" rot="16200000">
            <a:off x="382320" y="1730880"/>
            <a:ext cx="513720" cy="51480"/>
          </a:xfrm>
          <a:prstGeom prst="curvedConnector5">
            <a:avLst>
              <a:gd name="adj1" fmla="val 49789"/>
              <a:gd name="adj2" fmla="val 50000"/>
              <a:gd name="adj3" fmla="val 49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184320" y="669960"/>
            <a:ext cx="698400" cy="1904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lb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6720" y="574560"/>
            <a:ext cx="698400" cy="1904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84440" y="89856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nim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30520" y="579600"/>
            <a:ext cx="698400" cy="1904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Star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7591320" y="860760"/>
            <a:ext cx="846360" cy="796320"/>
            <a:chOff x="7591320" y="860760"/>
            <a:chExt cx="846360" cy="796320"/>
          </a:xfrm>
        </p:grpSpPr>
        <p:sp>
          <p:nvSpPr>
            <p:cNvPr id="226" name=""/>
            <p:cNvSpPr/>
            <p:nvPr/>
          </p:nvSpPr>
          <p:spPr>
            <a:xfrm>
              <a:off x="7591320" y="1055520"/>
              <a:ext cx="846360" cy="406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95640" y="860760"/>
              <a:ext cx="839520" cy="79632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 Narrow"/>
                </a:rPr>
                <a:t>Stru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8" name=""/>
          <p:cNvCxnSpPr>
            <a:stCxn id="210" idx="3"/>
            <a:endCxn id="213" idx="1"/>
          </p:cNvCxnSpPr>
          <p:nvPr/>
        </p:nvCxnSpPr>
        <p:spPr>
          <a:xfrm flipV="1">
            <a:off x="5443560" y="1088640"/>
            <a:ext cx="558000" cy="572400"/>
          </a:xfrm>
          <a:prstGeom prst="curvedConnector5">
            <a:avLst>
              <a:gd name="adj1" fmla="val 49838"/>
              <a:gd name="adj2" fmla="val 49968"/>
              <a:gd name="adj3" fmla="val 4983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213" idx="0"/>
            <a:endCxn id="227" idx="0"/>
          </p:cNvCxnSpPr>
          <p:nvPr/>
        </p:nvCxnSpPr>
        <p:spPr>
          <a:xfrm flipH="1" rot="16200000">
            <a:off x="7134840" y="173520"/>
            <a:ext cx="110160" cy="1654920"/>
          </a:xfrm>
          <a:prstGeom prst="curvedConnector5">
            <a:avLst>
              <a:gd name="adj1" fmla="val -208524"/>
              <a:gd name="adj2" fmla="val 50000"/>
              <a:gd name="adj3" fmla="val -2085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13" idx="3"/>
            <a:endCxn id="227" idx="2"/>
          </p:cNvCxnSpPr>
          <p:nvPr/>
        </p:nvCxnSpPr>
        <p:spPr>
          <a:xfrm>
            <a:off x="6723000" y="1089000"/>
            <a:ext cx="1294560" cy="373680"/>
          </a:xfrm>
          <a:prstGeom prst="curvedConnector5">
            <a:avLst>
              <a:gd name="adj1" fmla="val 33713"/>
              <a:gd name="adj2" fmla="val 80617"/>
              <a:gd name="adj3" fmla="val 337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6218280" y="1350720"/>
            <a:ext cx="29700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05640" y="2143800"/>
            <a:ext cx="534240" cy="246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aš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14400" y="2158200"/>
            <a:ext cx="603000" cy="246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aterij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1" idx="2"/>
            <a:endCxn id="232" idx="0"/>
          </p:cNvCxnSpPr>
          <p:nvPr/>
        </p:nvCxnSpPr>
        <p:spPr>
          <a:xfrm rot="5400000">
            <a:off x="6030000" y="1803240"/>
            <a:ext cx="280080" cy="394200"/>
          </a:xfrm>
          <a:prstGeom prst="bentConnector3">
            <a:avLst>
              <a:gd name="adj1" fmla="val 499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1" idx="2"/>
            <a:endCxn id="233" idx="0"/>
          </p:cNvCxnSpPr>
          <p:nvPr/>
        </p:nvCxnSpPr>
        <p:spPr>
          <a:xfrm flipH="1" rot="16200000">
            <a:off x="6794280" y="1432440"/>
            <a:ext cx="294480" cy="1150200"/>
          </a:xfrm>
          <a:prstGeom prst="bentConnector3">
            <a:avLst>
              <a:gd name="adj1" fmla="val 496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3" idx="2"/>
            <a:endCxn id="231" idx="0"/>
          </p:cNvCxnSpPr>
          <p:nvPr/>
        </p:nvCxnSpPr>
        <p:spPr>
          <a:xfrm flipH="1" rot="16200000">
            <a:off x="6283080" y="1308600"/>
            <a:ext cx="162360" cy="5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8286840" y="596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Ugrk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endCxn id="237" idx="2"/>
          </p:cNvCxnSpPr>
          <p:nvPr/>
        </p:nvCxnSpPr>
        <p:spPr>
          <a:xfrm flipH="1" flipV="1" rot="5400000">
            <a:off x="8276760" y="947160"/>
            <a:ext cx="519840" cy="199080"/>
          </a:xfrm>
          <a:prstGeom prst="curvedConnector5">
            <a:avLst>
              <a:gd name="adj1" fmla="val 49826"/>
              <a:gd name="adj2" fmla="val 50000"/>
              <a:gd name="adj3" fmla="val 498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8012880" y="82872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N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015040" y="1405080"/>
            <a:ext cx="36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P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8120" y="80316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R,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14360" y="138600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R,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36680" y="870120"/>
            <a:ext cx="84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Primena 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08280" y="1046160"/>
            <a:ext cx="42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55080" y="1208160"/>
            <a:ext cx="695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Vrsta  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65880" y="61272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Vr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6" idx="3"/>
            <a:endCxn id="213" idx="0"/>
          </p:cNvCxnSpPr>
          <p:nvPr/>
        </p:nvCxnSpPr>
        <p:spPr>
          <a:xfrm>
            <a:off x="6163920" y="707760"/>
            <a:ext cx="199080" cy="2386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8" name=""/>
          <p:cNvSpPr/>
          <p:nvPr/>
        </p:nvSpPr>
        <p:spPr>
          <a:xfrm>
            <a:off x="7251480" y="18097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14800" y="18050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88480" y="187812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Porek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33" idx="3"/>
            <a:endCxn id="250" idx="1"/>
          </p:cNvCxnSpPr>
          <p:nvPr/>
        </p:nvCxnSpPr>
        <p:spPr>
          <a:xfrm flipV="1">
            <a:off x="7822800" y="1972800"/>
            <a:ext cx="266040" cy="308880"/>
          </a:xfrm>
          <a:prstGeom prst="curvedConnector5">
            <a:avLst>
              <a:gd name="adj1" fmla="val 49593"/>
              <a:gd name="adj2" fmla="val 49941"/>
              <a:gd name="adj3" fmla="val 4959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2" name=""/>
          <p:cNvSpPr/>
          <p:nvPr/>
        </p:nvSpPr>
        <p:spPr>
          <a:xfrm>
            <a:off x="5519880" y="16542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Am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52" idx="1"/>
            <a:endCxn id="232" idx="1"/>
          </p:cNvCxnSpPr>
          <p:nvPr/>
        </p:nvCxnSpPr>
        <p:spPr>
          <a:xfrm flipH="1" flipV="1" rot="10800000">
            <a:off x="5519520" y="1748520"/>
            <a:ext cx="181440" cy="518040"/>
          </a:xfrm>
          <a:prstGeom prst="curvedConnector5">
            <a:avLst>
              <a:gd name="adj1" fmla="val -15705"/>
              <a:gd name="adj2" fmla="val 50000"/>
              <a:gd name="adj3" fmla="val -1570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4" name=""/>
          <p:cNvSpPr/>
          <p:nvPr/>
        </p:nvSpPr>
        <p:spPr>
          <a:xfrm>
            <a:off x="4624560" y="596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14880" y="6922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"/>
          <p:cNvCxnSpPr>
            <a:stCxn id="254" idx="3"/>
            <a:endCxn id="213" idx="1"/>
          </p:cNvCxnSpPr>
          <p:nvPr/>
        </p:nvCxnSpPr>
        <p:spPr>
          <a:xfrm>
            <a:off x="5322600" y="692280"/>
            <a:ext cx="678600" cy="397440"/>
          </a:xfrm>
          <a:prstGeom prst="curvedConnector5">
            <a:avLst>
              <a:gd name="adj1" fmla="val 20329"/>
              <a:gd name="adj2" fmla="val 49954"/>
              <a:gd name="adj3" fmla="val 2032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" name=""/>
          <p:cNvCxnSpPr>
            <a:stCxn id="255" idx="3"/>
            <a:endCxn id="213" idx="1"/>
          </p:cNvCxnSpPr>
          <p:nvPr/>
        </p:nvCxnSpPr>
        <p:spPr>
          <a:xfrm>
            <a:off x="4012920" y="787320"/>
            <a:ext cx="1987920" cy="302400"/>
          </a:xfrm>
          <a:prstGeom prst="curvedConnector5">
            <a:avLst>
              <a:gd name="adj1" fmla="val 49990"/>
              <a:gd name="adj2" fmla="val 49940"/>
              <a:gd name="adj3" fmla="val 499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3816000" y="1255680"/>
            <a:ext cx="42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24560" y="198432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49560" y="2187720"/>
            <a:ext cx="698760" cy="1904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if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03" idx="3"/>
            <a:endCxn id="259" idx="1"/>
          </p:cNvCxnSpPr>
          <p:nvPr/>
        </p:nvCxnSpPr>
        <p:spPr>
          <a:xfrm>
            <a:off x="3790800" y="1658520"/>
            <a:ext cx="834480" cy="421560"/>
          </a:xfrm>
          <a:prstGeom prst="curvedConnector5">
            <a:avLst>
              <a:gd name="adj1" fmla="val 57876"/>
              <a:gd name="adj2" fmla="val 50000"/>
              <a:gd name="adj3" fmla="val 578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03" idx="3"/>
            <a:endCxn id="260" idx="0"/>
          </p:cNvCxnSpPr>
          <p:nvPr/>
        </p:nvCxnSpPr>
        <p:spPr>
          <a:xfrm>
            <a:off x="3790800" y="1658520"/>
            <a:ext cx="509040" cy="5292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3133440" y="131760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49280" y="180648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09480" y="184140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39760" y="12812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21" idx="2"/>
            <a:endCxn id="211" idx="0"/>
          </p:cNvCxnSpPr>
          <p:nvPr/>
        </p:nvCxnSpPr>
        <p:spPr>
          <a:xfrm flipH="1" rot="16200000">
            <a:off x="379800" y="1012680"/>
            <a:ext cx="386640" cy="81360"/>
          </a:xfrm>
          <a:prstGeom prst="curvedConnector5">
            <a:avLst>
              <a:gd name="adj1" fmla="val 49767"/>
              <a:gd name="adj2" fmla="val 49777"/>
              <a:gd name="adj3" fmla="val 4976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8" name=""/>
          <p:cNvCxnSpPr>
            <a:stCxn id="222" idx="2"/>
            <a:endCxn id="211" idx="0"/>
          </p:cNvCxnSpPr>
          <p:nvPr/>
        </p:nvCxnSpPr>
        <p:spPr>
          <a:xfrm rot="5400000">
            <a:off x="708840" y="669600"/>
            <a:ext cx="482040" cy="672120"/>
          </a:xfrm>
          <a:prstGeom prst="curvedConnector5">
            <a:avLst>
              <a:gd name="adj1" fmla="val 49775"/>
              <a:gd name="adj2" fmla="val 50000"/>
              <a:gd name="adj3" fmla="val 497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9" name=""/>
          <p:cNvCxnSpPr>
            <a:stCxn id="224" idx="2"/>
            <a:endCxn id="211" idx="0"/>
          </p:cNvCxnSpPr>
          <p:nvPr/>
        </p:nvCxnSpPr>
        <p:spPr>
          <a:xfrm rot="5400000">
            <a:off x="1108440" y="275400"/>
            <a:ext cx="477000" cy="146592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" name=""/>
          <p:cNvCxnSpPr>
            <a:stCxn id="223" idx="1"/>
            <a:endCxn id="211" idx="0"/>
          </p:cNvCxnSpPr>
          <p:nvPr/>
        </p:nvCxnSpPr>
        <p:spPr>
          <a:xfrm flipV="1" rot="10800000">
            <a:off x="613800" y="993240"/>
            <a:ext cx="1970640" cy="2534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1" name=""/>
          <p:cNvSpPr/>
          <p:nvPr/>
        </p:nvSpPr>
        <p:spPr>
          <a:xfrm>
            <a:off x="293400" y="1476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120" y="1482840"/>
            <a:ext cx="4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2960" y="17287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38200" y="220356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39800" y="170496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z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16" idx="3"/>
            <a:endCxn id="275" idx="2"/>
          </p:cNvCxnSpPr>
          <p:nvPr/>
        </p:nvCxnSpPr>
        <p:spPr>
          <a:xfrm flipH="1" flipV="1">
            <a:off x="1089000" y="1895040"/>
            <a:ext cx="30600" cy="244800"/>
          </a:xfrm>
          <a:prstGeom prst="curvedConnector5">
            <a:avLst>
              <a:gd name="adj1" fmla="val -766666"/>
              <a:gd name="adj2" fmla="val 42268"/>
              <a:gd name="adj3" fmla="val -7666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16" idx="3"/>
            <a:endCxn id="274" idx="1"/>
          </p:cNvCxnSpPr>
          <p:nvPr/>
        </p:nvCxnSpPr>
        <p:spPr>
          <a:xfrm>
            <a:off x="1119240" y="2139480"/>
            <a:ext cx="319680" cy="159480"/>
          </a:xfrm>
          <a:prstGeom prst="curvedConnector5">
            <a:avLst>
              <a:gd name="adj1" fmla="val 49718"/>
              <a:gd name="adj2" fmla="val 50000"/>
              <a:gd name="adj3" fmla="val 4971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34920" y="2403360"/>
            <a:ext cx="910908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(1)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UBACIVANJE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insert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naziv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bjekt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(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votačk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lista parova atribut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-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rednost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             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(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votačk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lista parova id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usednog objekt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-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renost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rimer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 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insert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RADNIK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(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MLB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307,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M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n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TAROST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25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ŠIFOD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listi parova atribut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-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rednost neophodno je zadati sve atribute koji ne mogu imati nula vrednost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odrazumeva se d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među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jim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tribut identifikator objekt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jer on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čigledno ne može da im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ula  vrednost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List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arov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d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usednog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bjekt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-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rednost da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ndentifikator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vih susednih objekata prema kojima dati objekat im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"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bavezno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"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eslikavan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(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eslikavanje sa donjom granicom većom od nul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odrazumeva se da operacija ubaci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ouzroku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peraci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oveži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ema svim okolnim objektima prem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ojim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osmatrani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bjekat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m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bavezno preslikavan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36720" y="920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a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68520" y="1547640"/>
            <a:ext cx="82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cc3300"/>
                </a:solidFill>
                <a:latin typeface="Arial Narrow"/>
              </a:rPr>
              <a:t>Rukovo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0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74040" y="1380240"/>
            <a:ext cx="711000" cy="276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Odele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83" idx="3"/>
            <a:endCxn id="281" idx="0"/>
          </p:cNvCxnSpPr>
          <p:nvPr/>
        </p:nvCxnSpPr>
        <p:spPr>
          <a:xfrm>
            <a:off x="3060360" y="1169640"/>
            <a:ext cx="37044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" name=""/>
          <p:cNvCxnSpPr>
            <a:stCxn id="281" idx="2"/>
            <a:endCxn id="285" idx="3"/>
          </p:cNvCxnSpPr>
          <p:nvPr/>
        </p:nvCxnSpPr>
        <p:spPr>
          <a:xfrm rot="5400000">
            <a:off x="3148920" y="1657440"/>
            <a:ext cx="278280" cy="284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2966040" y="94140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Zapošljava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51280" y="1965240"/>
            <a:ext cx="97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đeno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38840" y="1244520"/>
            <a:ext cx="148824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oizvo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9560" y="1110240"/>
            <a:ext cx="528120" cy="24624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ad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55680" y="924120"/>
            <a:ext cx="180504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pošljav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64560" y="1693080"/>
            <a:ext cx="167112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ukovođe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8" idx="1"/>
            <a:endCxn id="281" idx="3"/>
          </p:cNvCxnSpPr>
          <p:nvPr/>
        </p:nvCxnSpPr>
        <p:spPr>
          <a:xfrm rot="10800000">
            <a:off x="3790080" y="1518480"/>
            <a:ext cx="331200" cy="2520"/>
          </a:xfrm>
          <a:prstGeom prst="bentConnector3">
            <a:avLst>
              <a:gd name="adj1" fmla="val 4994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6006960" y="810000"/>
            <a:ext cx="709560" cy="276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oizv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70120" y="449280"/>
            <a:ext cx="7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Sastav  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09520" y="1833480"/>
            <a:ext cx="909720" cy="331920"/>
            <a:chOff x="209520" y="1833480"/>
            <a:chExt cx="909720" cy="331920"/>
          </a:xfrm>
        </p:grpSpPr>
        <p:sp>
          <p:nvSpPr>
            <p:cNvPr id="294" name=""/>
            <p:cNvSpPr/>
            <p:nvPr/>
          </p:nvSpPr>
          <p:spPr>
            <a:xfrm>
              <a:off x="209520" y="1833480"/>
              <a:ext cx="909720" cy="331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1080" y="1877040"/>
              <a:ext cx="786600" cy="246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Ispl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6" name=""/>
          <p:cNvCxnSpPr>
            <a:stCxn id="289" idx="3"/>
            <a:endCxn id="285" idx="1"/>
          </p:cNvCxnSpPr>
          <p:nvPr/>
        </p:nvCxnSpPr>
        <p:spPr>
          <a:xfrm>
            <a:off x="882360" y="1233360"/>
            <a:ext cx="770760" cy="705240"/>
          </a:xfrm>
          <a:prstGeom prst="curvedConnector5">
            <a:avLst>
              <a:gd name="adj1" fmla="val 73598"/>
              <a:gd name="adj2" fmla="val 50000"/>
              <a:gd name="adj3" fmla="val 735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7" name=""/>
          <p:cNvCxnSpPr>
            <a:stCxn id="289" idx="3"/>
            <a:endCxn id="283" idx="1"/>
          </p:cNvCxnSpPr>
          <p:nvPr/>
        </p:nvCxnSpPr>
        <p:spPr>
          <a:xfrm flipV="1">
            <a:off x="882720" y="1169640"/>
            <a:ext cx="373680" cy="64080"/>
          </a:xfrm>
          <a:prstGeom prst="curvedConnector5">
            <a:avLst>
              <a:gd name="adj1" fmla="val 49758"/>
              <a:gd name="adj2" fmla="val 49717"/>
              <a:gd name="adj3" fmla="val 497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8" name=""/>
          <p:cNvCxnSpPr>
            <a:stCxn id="289" idx="2"/>
            <a:endCxn id="295" idx="0"/>
          </p:cNvCxnSpPr>
          <p:nvPr/>
        </p:nvCxnSpPr>
        <p:spPr>
          <a:xfrm flipH="1" rot="16200000">
            <a:off x="382680" y="1591200"/>
            <a:ext cx="513360" cy="51480"/>
          </a:xfrm>
          <a:prstGeom prst="curvedConnector5">
            <a:avLst>
              <a:gd name="adj1" fmla="val 49824"/>
              <a:gd name="adj2" fmla="val 50000"/>
              <a:gd name="adj3" fmla="val 498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9" name=""/>
          <p:cNvSpPr/>
          <p:nvPr/>
        </p:nvSpPr>
        <p:spPr>
          <a:xfrm>
            <a:off x="184320" y="530280"/>
            <a:ext cx="698400" cy="1904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lb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36720" y="434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84440" y="758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nim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30520" y="439560"/>
            <a:ext cx="698400" cy="190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Star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591320" y="721080"/>
            <a:ext cx="846360" cy="796320"/>
            <a:chOff x="7591320" y="721080"/>
            <a:chExt cx="846360" cy="796320"/>
          </a:xfrm>
        </p:grpSpPr>
        <p:sp>
          <p:nvSpPr>
            <p:cNvPr id="304" name=""/>
            <p:cNvSpPr/>
            <p:nvPr/>
          </p:nvSpPr>
          <p:spPr>
            <a:xfrm>
              <a:off x="7591320" y="915840"/>
              <a:ext cx="846360" cy="406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95640" y="721080"/>
              <a:ext cx="839520" cy="79632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 Narrow"/>
                </a:rPr>
                <a:t>Stru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6" name=""/>
          <p:cNvCxnSpPr>
            <a:stCxn id="288" idx="3"/>
            <a:endCxn id="291" idx="1"/>
          </p:cNvCxnSpPr>
          <p:nvPr/>
        </p:nvCxnSpPr>
        <p:spPr>
          <a:xfrm flipV="1">
            <a:off x="5443560" y="948960"/>
            <a:ext cx="558000" cy="572400"/>
          </a:xfrm>
          <a:prstGeom prst="curvedConnector5">
            <a:avLst>
              <a:gd name="adj1" fmla="val 49838"/>
              <a:gd name="adj2" fmla="val 49968"/>
              <a:gd name="adj3" fmla="val 4983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1" idx="0"/>
            <a:endCxn id="305" idx="0"/>
          </p:cNvCxnSpPr>
          <p:nvPr/>
        </p:nvCxnSpPr>
        <p:spPr>
          <a:xfrm flipH="1" rot="16200000">
            <a:off x="7134840" y="33840"/>
            <a:ext cx="110160" cy="1654920"/>
          </a:xfrm>
          <a:prstGeom prst="curvedConnector5">
            <a:avLst>
              <a:gd name="adj1" fmla="val -208524"/>
              <a:gd name="adj2" fmla="val 50000"/>
              <a:gd name="adj3" fmla="val -2085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8" name=""/>
          <p:cNvCxnSpPr>
            <a:stCxn id="291" idx="3"/>
            <a:endCxn id="305" idx="2"/>
          </p:cNvCxnSpPr>
          <p:nvPr/>
        </p:nvCxnSpPr>
        <p:spPr>
          <a:xfrm>
            <a:off x="6723000" y="949320"/>
            <a:ext cx="1294560" cy="373680"/>
          </a:xfrm>
          <a:prstGeom prst="curvedConnector5">
            <a:avLst>
              <a:gd name="adj1" fmla="val 33713"/>
              <a:gd name="adj2" fmla="val 80617"/>
              <a:gd name="adj3" fmla="val 337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6218280" y="1211040"/>
            <a:ext cx="29700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05640" y="2004120"/>
            <a:ext cx="534240" cy="246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aš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214400" y="2018160"/>
            <a:ext cx="603000" cy="246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aterij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2" name=""/>
          <p:cNvCxnSpPr>
            <a:stCxn id="309" idx="2"/>
            <a:endCxn id="310" idx="0"/>
          </p:cNvCxnSpPr>
          <p:nvPr/>
        </p:nvCxnSpPr>
        <p:spPr>
          <a:xfrm rot="5400000">
            <a:off x="6030000" y="1663560"/>
            <a:ext cx="280080" cy="394200"/>
          </a:xfrm>
          <a:prstGeom prst="bentConnector3">
            <a:avLst>
              <a:gd name="adj1" fmla="val 499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stCxn id="309" idx="2"/>
            <a:endCxn id="311" idx="0"/>
          </p:cNvCxnSpPr>
          <p:nvPr/>
        </p:nvCxnSpPr>
        <p:spPr>
          <a:xfrm flipH="1" rot="16200000">
            <a:off x="6794280" y="1292760"/>
            <a:ext cx="294480" cy="1150200"/>
          </a:xfrm>
          <a:prstGeom prst="bentConnector3">
            <a:avLst>
              <a:gd name="adj1" fmla="val 496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291" idx="2"/>
            <a:endCxn id="309" idx="0"/>
          </p:cNvCxnSpPr>
          <p:nvPr/>
        </p:nvCxnSpPr>
        <p:spPr>
          <a:xfrm flipH="1" rot="16200000">
            <a:off x="6283080" y="1168920"/>
            <a:ext cx="162720" cy="5400"/>
          </a:xfrm>
          <a:prstGeom prst="bentConnector3">
            <a:avLst>
              <a:gd name="adj1" fmla="val 498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5" name=""/>
          <p:cNvSpPr/>
          <p:nvPr/>
        </p:nvSpPr>
        <p:spPr>
          <a:xfrm>
            <a:off x="8286840" y="4572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Ugrk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6" name=""/>
          <p:cNvCxnSpPr>
            <a:endCxn id="315" idx="2"/>
          </p:cNvCxnSpPr>
          <p:nvPr/>
        </p:nvCxnSpPr>
        <p:spPr>
          <a:xfrm flipH="1" flipV="1" rot="5400000">
            <a:off x="8276760" y="807480"/>
            <a:ext cx="519840" cy="199080"/>
          </a:xfrm>
          <a:prstGeom prst="curvedConnector5">
            <a:avLst>
              <a:gd name="adj1" fmla="val 49826"/>
              <a:gd name="adj2" fmla="val 50000"/>
              <a:gd name="adj3" fmla="val 498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7" name=""/>
          <p:cNvSpPr/>
          <p:nvPr/>
        </p:nvSpPr>
        <p:spPr>
          <a:xfrm>
            <a:off x="8012880" y="68904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N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015040" y="1265400"/>
            <a:ext cx="36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P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38120" y="66348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R,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14360" y="124632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R,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736680" y="730080"/>
            <a:ext cx="84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Primena 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08280" y="906480"/>
            <a:ext cx="42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55080" y="1068480"/>
            <a:ext cx="695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Vrsta  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65880" y="4730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Vr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24" idx="3"/>
            <a:endCxn id="291" idx="0"/>
          </p:cNvCxnSpPr>
          <p:nvPr/>
        </p:nvCxnSpPr>
        <p:spPr>
          <a:xfrm>
            <a:off x="6163920" y="568080"/>
            <a:ext cx="199080" cy="2386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26" name=""/>
          <p:cNvSpPr/>
          <p:nvPr/>
        </p:nvSpPr>
        <p:spPr>
          <a:xfrm>
            <a:off x="7251480" y="16700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14800" y="166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088480" y="17384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Porek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11" idx="3"/>
            <a:endCxn id="328" idx="1"/>
          </p:cNvCxnSpPr>
          <p:nvPr/>
        </p:nvCxnSpPr>
        <p:spPr>
          <a:xfrm flipV="1">
            <a:off x="7822800" y="1833120"/>
            <a:ext cx="266040" cy="308880"/>
          </a:xfrm>
          <a:prstGeom prst="curvedConnector5">
            <a:avLst>
              <a:gd name="adj1" fmla="val 49593"/>
              <a:gd name="adj2" fmla="val 49941"/>
              <a:gd name="adj3" fmla="val 4959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30" name=""/>
          <p:cNvSpPr/>
          <p:nvPr/>
        </p:nvSpPr>
        <p:spPr>
          <a:xfrm>
            <a:off x="5519880" y="151452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Am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"/>
          <p:cNvCxnSpPr>
            <a:stCxn id="330" idx="1"/>
            <a:endCxn id="310" idx="1"/>
          </p:cNvCxnSpPr>
          <p:nvPr/>
        </p:nvCxnSpPr>
        <p:spPr>
          <a:xfrm flipH="1" flipV="1" rot="10800000">
            <a:off x="5519520" y="1609200"/>
            <a:ext cx="181440" cy="518400"/>
          </a:xfrm>
          <a:prstGeom prst="curvedConnector5">
            <a:avLst>
              <a:gd name="adj1" fmla="val -15705"/>
              <a:gd name="adj2" fmla="val 49965"/>
              <a:gd name="adj3" fmla="val -1570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4624560" y="4572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314880" y="5526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4" name=""/>
          <p:cNvCxnSpPr>
            <a:stCxn id="332" idx="3"/>
            <a:endCxn id="291" idx="1"/>
          </p:cNvCxnSpPr>
          <p:nvPr/>
        </p:nvCxnSpPr>
        <p:spPr>
          <a:xfrm>
            <a:off x="5322600" y="552600"/>
            <a:ext cx="678600" cy="397440"/>
          </a:xfrm>
          <a:prstGeom prst="curvedConnector5">
            <a:avLst>
              <a:gd name="adj1" fmla="val 20329"/>
              <a:gd name="adj2" fmla="val 49954"/>
              <a:gd name="adj3" fmla="val 2032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"/>
          <p:cNvCxnSpPr>
            <a:stCxn id="333" idx="3"/>
            <a:endCxn id="291" idx="1"/>
          </p:cNvCxnSpPr>
          <p:nvPr/>
        </p:nvCxnSpPr>
        <p:spPr>
          <a:xfrm>
            <a:off x="4012920" y="647640"/>
            <a:ext cx="1987920" cy="302400"/>
          </a:xfrm>
          <a:prstGeom prst="curvedConnector5">
            <a:avLst>
              <a:gd name="adj1" fmla="val 49990"/>
              <a:gd name="adj2" fmla="val 49940"/>
              <a:gd name="adj3" fmla="val 499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3816000" y="1116000"/>
            <a:ext cx="42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24560" y="18446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49560" y="2048040"/>
            <a:ext cx="69876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if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281" idx="3"/>
            <a:endCxn id="337" idx="1"/>
          </p:cNvCxnSpPr>
          <p:nvPr/>
        </p:nvCxnSpPr>
        <p:spPr>
          <a:xfrm>
            <a:off x="3790800" y="1518840"/>
            <a:ext cx="834480" cy="421560"/>
          </a:xfrm>
          <a:prstGeom prst="curvedConnector5">
            <a:avLst>
              <a:gd name="adj1" fmla="val 57876"/>
              <a:gd name="adj2" fmla="val 50000"/>
              <a:gd name="adj3" fmla="val 578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"/>
          <p:cNvCxnSpPr>
            <a:stCxn id="281" idx="3"/>
            <a:endCxn id="338" idx="0"/>
          </p:cNvCxnSpPr>
          <p:nvPr/>
        </p:nvCxnSpPr>
        <p:spPr>
          <a:xfrm>
            <a:off x="3790800" y="1518840"/>
            <a:ext cx="509040" cy="5292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3133440" y="11779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49280" y="166680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09480" y="17017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39760" y="11415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299" idx="2"/>
            <a:endCxn id="289" idx="0"/>
          </p:cNvCxnSpPr>
          <p:nvPr/>
        </p:nvCxnSpPr>
        <p:spPr>
          <a:xfrm flipH="1" rot="16200000">
            <a:off x="379800" y="873000"/>
            <a:ext cx="386640" cy="81360"/>
          </a:xfrm>
          <a:prstGeom prst="curvedConnector5">
            <a:avLst>
              <a:gd name="adj1" fmla="val 49767"/>
              <a:gd name="adj2" fmla="val 49777"/>
              <a:gd name="adj3" fmla="val 4976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300" idx="2"/>
            <a:endCxn id="289" idx="0"/>
          </p:cNvCxnSpPr>
          <p:nvPr/>
        </p:nvCxnSpPr>
        <p:spPr>
          <a:xfrm rot="5400000">
            <a:off x="708840" y="529920"/>
            <a:ext cx="482040" cy="672120"/>
          </a:xfrm>
          <a:prstGeom prst="curvedConnector5">
            <a:avLst>
              <a:gd name="adj1" fmla="val 49775"/>
              <a:gd name="adj2" fmla="val 50000"/>
              <a:gd name="adj3" fmla="val 497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02" idx="2"/>
            <a:endCxn id="289" idx="0"/>
          </p:cNvCxnSpPr>
          <p:nvPr/>
        </p:nvCxnSpPr>
        <p:spPr>
          <a:xfrm rot="5400000">
            <a:off x="1108440" y="135720"/>
            <a:ext cx="477000" cy="146592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01" idx="1"/>
            <a:endCxn id="289" idx="0"/>
          </p:cNvCxnSpPr>
          <p:nvPr/>
        </p:nvCxnSpPr>
        <p:spPr>
          <a:xfrm flipV="1" rot="10800000">
            <a:off x="613800" y="853560"/>
            <a:ext cx="1970640" cy="2534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9" name=""/>
          <p:cNvSpPr/>
          <p:nvPr/>
        </p:nvSpPr>
        <p:spPr>
          <a:xfrm>
            <a:off x="293400" y="133668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9120" y="1343160"/>
            <a:ext cx="4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2960" y="15890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38200" y="2063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39800" y="15652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z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294" idx="3"/>
            <a:endCxn id="353" idx="2"/>
          </p:cNvCxnSpPr>
          <p:nvPr/>
        </p:nvCxnSpPr>
        <p:spPr>
          <a:xfrm flipH="1" flipV="1">
            <a:off x="1089000" y="1755360"/>
            <a:ext cx="30600" cy="244800"/>
          </a:xfrm>
          <a:prstGeom prst="curvedConnector5">
            <a:avLst>
              <a:gd name="adj1" fmla="val -766666"/>
              <a:gd name="adj2" fmla="val 42268"/>
              <a:gd name="adj3" fmla="val -7666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5" name=""/>
          <p:cNvCxnSpPr>
            <a:stCxn id="294" idx="3"/>
            <a:endCxn id="352" idx="1"/>
          </p:cNvCxnSpPr>
          <p:nvPr/>
        </p:nvCxnSpPr>
        <p:spPr>
          <a:xfrm>
            <a:off x="1119240" y="1999800"/>
            <a:ext cx="319680" cy="159480"/>
          </a:xfrm>
          <a:prstGeom prst="curvedConnector5">
            <a:avLst>
              <a:gd name="adj1" fmla="val 49718"/>
              <a:gd name="adj2" fmla="val 50000"/>
              <a:gd name="adj3" fmla="val 4971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56" name=""/>
          <p:cNvSpPr/>
          <p:nvPr/>
        </p:nvSpPr>
        <p:spPr>
          <a:xfrm>
            <a:off x="34920" y="2403360"/>
            <a:ext cx="910908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(2)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IZBACIVANJE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 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 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delete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naziv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bjekt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(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ziv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d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bjekt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rednost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rimer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 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delete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RADNIK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(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MLB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3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 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odrazumeva se da operacija izbaci prouzrokuje operacije razveži z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va preslikavanja u kojima učestvuje posmatrani objekat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(3)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RAZVEZIVANJE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disconnect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ziv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eslikavanj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(_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d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omen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rednost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            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d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odomen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rednost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peracija disconnect se ne može direktno primeniti na preslikavanj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čije su kardinalnosti DG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=  1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GG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=  1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nač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bi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vek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rušil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slov integritet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 primer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 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disconnect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RUKOVODI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(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MLB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307,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ŠIFOD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03)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odrazumeva se da operacija razveži za jedno preslikavanje prouzrokuje i operaciju razveži za njeno inverzno preslikavan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6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operacija-izbacivanje i razvezivanje</a:t>
            </a: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359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CA51C83-D710-4D29-8C54-AF3E9C82AE8E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61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6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operacija-ažuriranje i povezivanje</a:t>
            </a: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36720" y="920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a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68520" y="1547640"/>
            <a:ext cx="82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cc3300"/>
                </a:solidFill>
                <a:latin typeface="Arial Narrow"/>
              </a:rPr>
              <a:t>Rukovo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0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74040" y="1380240"/>
            <a:ext cx="711000" cy="276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Odele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7" name=""/>
          <p:cNvCxnSpPr>
            <a:stCxn id="368" idx="3"/>
            <a:endCxn id="366" idx="0"/>
          </p:cNvCxnSpPr>
          <p:nvPr/>
        </p:nvCxnSpPr>
        <p:spPr>
          <a:xfrm>
            <a:off x="3060360" y="1169640"/>
            <a:ext cx="37044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66" idx="2"/>
            <a:endCxn id="370" idx="3"/>
          </p:cNvCxnSpPr>
          <p:nvPr/>
        </p:nvCxnSpPr>
        <p:spPr>
          <a:xfrm rot="5400000">
            <a:off x="3148920" y="1657440"/>
            <a:ext cx="278280" cy="284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2966040" y="94140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Zapošljava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51280" y="1965240"/>
            <a:ext cx="97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đeno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38840" y="1244520"/>
            <a:ext cx="148824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oizvo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9560" y="1110240"/>
            <a:ext cx="528120" cy="24624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ad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55680" y="924120"/>
            <a:ext cx="180504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pošljav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64560" y="1693080"/>
            <a:ext cx="167112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ukovođe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73" idx="1"/>
            <a:endCxn id="366" idx="3"/>
          </p:cNvCxnSpPr>
          <p:nvPr/>
        </p:nvCxnSpPr>
        <p:spPr>
          <a:xfrm rot="10800000">
            <a:off x="3790080" y="1518480"/>
            <a:ext cx="331200" cy="2520"/>
          </a:xfrm>
          <a:prstGeom prst="bentConnector3">
            <a:avLst>
              <a:gd name="adj1" fmla="val 4994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76" name=""/>
          <p:cNvSpPr/>
          <p:nvPr/>
        </p:nvSpPr>
        <p:spPr>
          <a:xfrm>
            <a:off x="6006960" y="810000"/>
            <a:ext cx="709560" cy="276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oizv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70120" y="449280"/>
            <a:ext cx="7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Sastav  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209520" y="1833480"/>
            <a:ext cx="909720" cy="331920"/>
            <a:chOff x="209520" y="1833480"/>
            <a:chExt cx="909720" cy="331920"/>
          </a:xfrm>
        </p:grpSpPr>
        <p:sp>
          <p:nvSpPr>
            <p:cNvPr id="379" name=""/>
            <p:cNvSpPr/>
            <p:nvPr/>
          </p:nvSpPr>
          <p:spPr>
            <a:xfrm>
              <a:off x="209520" y="1833480"/>
              <a:ext cx="909720" cy="331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1080" y="1877040"/>
              <a:ext cx="786600" cy="246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Ispl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1" name=""/>
          <p:cNvCxnSpPr>
            <a:stCxn id="374" idx="3"/>
            <a:endCxn id="370" idx="1"/>
          </p:cNvCxnSpPr>
          <p:nvPr/>
        </p:nvCxnSpPr>
        <p:spPr>
          <a:xfrm>
            <a:off x="882360" y="1233360"/>
            <a:ext cx="770760" cy="705240"/>
          </a:xfrm>
          <a:prstGeom prst="curvedConnector5">
            <a:avLst>
              <a:gd name="adj1" fmla="val 73598"/>
              <a:gd name="adj2" fmla="val 50000"/>
              <a:gd name="adj3" fmla="val 735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2" name=""/>
          <p:cNvCxnSpPr>
            <a:stCxn id="374" idx="3"/>
            <a:endCxn id="368" idx="1"/>
          </p:cNvCxnSpPr>
          <p:nvPr/>
        </p:nvCxnSpPr>
        <p:spPr>
          <a:xfrm flipV="1">
            <a:off x="882720" y="1169640"/>
            <a:ext cx="373680" cy="64080"/>
          </a:xfrm>
          <a:prstGeom prst="curvedConnector5">
            <a:avLst>
              <a:gd name="adj1" fmla="val 49758"/>
              <a:gd name="adj2" fmla="val 49717"/>
              <a:gd name="adj3" fmla="val 497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74" idx="2"/>
            <a:endCxn id="380" idx="0"/>
          </p:cNvCxnSpPr>
          <p:nvPr/>
        </p:nvCxnSpPr>
        <p:spPr>
          <a:xfrm flipH="1" rot="16200000">
            <a:off x="382680" y="1591200"/>
            <a:ext cx="513360" cy="51480"/>
          </a:xfrm>
          <a:prstGeom prst="curvedConnector5">
            <a:avLst>
              <a:gd name="adj1" fmla="val 49824"/>
              <a:gd name="adj2" fmla="val 50000"/>
              <a:gd name="adj3" fmla="val 498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184320" y="530280"/>
            <a:ext cx="698400" cy="1904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lb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36720" y="434880"/>
            <a:ext cx="698400" cy="1904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584440" y="758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nim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30520" y="439560"/>
            <a:ext cx="698400" cy="190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Star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7591320" y="721080"/>
            <a:ext cx="846360" cy="796320"/>
            <a:chOff x="7591320" y="721080"/>
            <a:chExt cx="846360" cy="796320"/>
          </a:xfrm>
        </p:grpSpPr>
        <p:sp>
          <p:nvSpPr>
            <p:cNvPr id="389" name=""/>
            <p:cNvSpPr/>
            <p:nvPr/>
          </p:nvSpPr>
          <p:spPr>
            <a:xfrm>
              <a:off x="7591320" y="915840"/>
              <a:ext cx="846360" cy="406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95640" y="721080"/>
              <a:ext cx="839520" cy="79632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 Narrow"/>
                </a:rPr>
                <a:t>Stru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1" name=""/>
          <p:cNvCxnSpPr>
            <a:stCxn id="373" idx="3"/>
            <a:endCxn id="376" idx="1"/>
          </p:cNvCxnSpPr>
          <p:nvPr/>
        </p:nvCxnSpPr>
        <p:spPr>
          <a:xfrm flipV="1">
            <a:off x="5443560" y="948960"/>
            <a:ext cx="558000" cy="572400"/>
          </a:xfrm>
          <a:prstGeom prst="curvedConnector5">
            <a:avLst>
              <a:gd name="adj1" fmla="val 49838"/>
              <a:gd name="adj2" fmla="val 49968"/>
              <a:gd name="adj3" fmla="val 4983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2" name=""/>
          <p:cNvCxnSpPr>
            <a:stCxn id="376" idx="0"/>
            <a:endCxn id="390" idx="0"/>
          </p:cNvCxnSpPr>
          <p:nvPr/>
        </p:nvCxnSpPr>
        <p:spPr>
          <a:xfrm flipH="1" rot="16200000">
            <a:off x="7134840" y="33840"/>
            <a:ext cx="110160" cy="1654920"/>
          </a:xfrm>
          <a:prstGeom prst="curvedConnector5">
            <a:avLst>
              <a:gd name="adj1" fmla="val -208524"/>
              <a:gd name="adj2" fmla="val 50000"/>
              <a:gd name="adj3" fmla="val -2085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3" name=""/>
          <p:cNvCxnSpPr>
            <a:stCxn id="376" idx="3"/>
            <a:endCxn id="390" idx="2"/>
          </p:cNvCxnSpPr>
          <p:nvPr/>
        </p:nvCxnSpPr>
        <p:spPr>
          <a:xfrm>
            <a:off x="6723000" y="949320"/>
            <a:ext cx="1294560" cy="373680"/>
          </a:xfrm>
          <a:prstGeom prst="curvedConnector5">
            <a:avLst>
              <a:gd name="adj1" fmla="val 33713"/>
              <a:gd name="adj2" fmla="val 80617"/>
              <a:gd name="adj3" fmla="val 337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4" name=""/>
          <p:cNvSpPr/>
          <p:nvPr/>
        </p:nvSpPr>
        <p:spPr>
          <a:xfrm>
            <a:off x="6218280" y="1211040"/>
            <a:ext cx="29700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05640" y="2004120"/>
            <a:ext cx="534240" cy="246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aš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214400" y="2018160"/>
            <a:ext cx="603000" cy="246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aterij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4" idx="2"/>
            <a:endCxn id="395" idx="0"/>
          </p:cNvCxnSpPr>
          <p:nvPr/>
        </p:nvCxnSpPr>
        <p:spPr>
          <a:xfrm rot="5400000">
            <a:off x="6030000" y="1663560"/>
            <a:ext cx="280080" cy="394200"/>
          </a:xfrm>
          <a:prstGeom prst="bentConnector3">
            <a:avLst>
              <a:gd name="adj1" fmla="val 499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4" idx="2"/>
            <a:endCxn id="396" idx="0"/>
          </p:cNvCxnSpPr>
          <p:nvPr/>
        </p:nvCxnSpPr>
        <p:spPr>
          <a:xfrm flipH="1" rot="16200000">
            <a:off x="6794280" y="1292760"/>
            <a:ext cx="294480" cy="1150200"/>
          </a:xfrm>
          <a:prstGeom prst="bentConnector3">
            <a:avLst>
              <a:gd name="adj1" fmla="val 496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76" idx="2"/>
            <a:endCxn id="394" idx="0"/>
          </p:cNvCxnSpPr>
          <p:nvPr/>
        </p:nvCxnSpPr>
        <p:spPr>
          <a:xfrm flipH="1" rot="16200000">
            <a:off x="6283080" y="1168920"/>
            <a:ext cx="162720" cy="5400"/>
          </a:xfrm>
          <a:prstGeom prst="bentConnector3">
            <a:avLst>
              <a:gd name="adj1" fmla="val 498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00" name=""/>
          <p:cNvSpPr/>
          <p:nvPr/>
        </p:nvSpPr>
        <p:spPr>
          <a:xfrm>
            <a:off x="8286840" y="4572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Ugrk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" name=""/>
          <p:cNvCxnSpPr>
            <a:endCxn id="400" idx="2"/>
          </p:cNvCxnSpPr>
          <p:nvPr/>
        </p:nvCxnSpPr>
        <p:spPr>
          <a:xfrm flipH="1" flipV="1" rot="5400000">
            <a:off x="8276760" y="807480"/>
            <a:ext cx="519840" cy="199080"/>
          </a:xfrm>
          <a:prstGeom prst="curvedConnector5">
            <a:avLst>
              <a:gd name="adj1" fmla="val 49826"/>
              <a:gd name="adj2" fmla="val 50000"/>
              <a:gd name="adj3" fmla="val 498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02" name=""/>
          <p:cNvSpPr/>
          <p:nvPr/>
        </p:nvSpPr>
        <p:spPr>
          <a:xfrm>
            <a:off x="8012880" y="68904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N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015040" y="1265400"/>
            <a:ext cx="36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P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38120" y="66348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R,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14360" y="124632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R,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736680" y="730080"/>
            <a:ext cx="84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Primena 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08280" y="906480"/>
            <a:ext cx="42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355080" y="1068480"/>
            <a:ext cx="695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Vrsta  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65880" y="4730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Vr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"/>
          <p:cNvCxnSpPr>
            <a:stCxn id="409" idx="3"/>
            <a:endCxn id="376" idx="0"/>
          </p:cNvCxnSpPr>
          <p:nvPr/>
        </p:nvCxnSpPr>
        <p:spPr>
          <a:xfrm>
            <a:off x="6163920" y="568080"/>
            <a:ext cx="199080" cy="2386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7251480" y="16700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14800" y="166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088480" y="17384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Porek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396" idx="3"/>
            <a:endCxn id="413" idx="1"/>
          </p:cNvCxnSpPr>
          <p:nvPr/>
        </p:nvCxnSpPr>
        <p:spPr>
          <a:xfrm flipV="1">
            <a:off x="7822800" y="1833120"/>
            <a:ext cx="266040" cy="308880"/>
          </a:xfrm>
          <a:prstGeom prst="curvedConnector5">
            <a:avLst>
              <a:gd name="adj1" fmla="val 49593"/>
              <a:gd name="adj2" fmla="val 49941"/>
              <a:gd name="adj3" fmla="val 4959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5519880" y="151452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Am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6" name=""/>
          <p:cNvCxnSpPr>
            <a:stCxn id="415" idx="1"/>
            <a:endCxn id="395" idx="1"/>
          </p:cNvCxnSpPr>
          <p:nvPr/>
        </p:nvCxnSpPr>
        <p:spPr>
          <a:xfrm flipH="1" flipV="1" rot="10800000">
            <a:off x="5519520" y="1609200"/>
            <a:ext cx="181440" cy="518400"/>
          </a:xfrm>
          <a:prstGeom prst="curvedConnector5">
            <a:avLst>
              <a:gd name="adj1" fmla="val -15705"/>
              <a:gd name="adj2" fmla="val 49965"/>
              <a:gd name="adj3" fmla="val -1570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17" name=""/>
          <p:cNvSpPr/>
          <p:nvPr/>
        </p:nvSpPr>
        <p:spPr>
          <a:xfrm>
            <a:off x="4624560" y="4572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14880" y="5526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7" idx="3"/>
            <a:endCxn id="376" idx="1"/>
          </p:cNvCxnSpPr>
          <p:nvPr/>
        </p:nvCxnSpPr>
        <p:spPr>
          <a:xfrm>
            <a:off x="5322600" y="552600"/>
            <a:ext cx="678600" cy="397440"/>
          </a:xfrm>
          <a:prstGeom prst="curvedConnector5">
            <a:avLst>
              <a:gd name="adj1" fmla="val 20329"/>
              <a:gd name="adj2" fmla="val 49954"/>
              <a:gd name="adj3" fmla="val 2032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418" idx="3"/>
            <a:endCxn id="376" idx="1"/>
          </p:cNvCxnSpPr>
          <p:nvPr/>
        </p:nvCxnSpPr>
        <p:spPr>
          <a:xfrm>
            <a:off x="4012920" y="647640"/>
            <a:ext cx="1987920" cy="302400"/>
          </a:xfrm>
          <a:prstGeom prst="curvedConnector5">
            <a:avLst>
              <a:gd name="adj1" fmla="val 49990"/>
              <a:gd name="adj2" fmla="val 49940"/>
              <a:gd name="adj3" fmla="val 499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3816000" y="1116000"/>
            <a:ext cx="42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624560" y="18446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49560" y="2048040"/>
            <a:ext cx="69876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if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366" idx="3"/>
            <a:endCxn id="422" idx="1"/>
          </p:cNvCxnSpPr>
          <p:nvPr/>
        </p:nvCxnSpPr>
        <p:spPr>
          <a:xfrm>
            <a:off x="3790800" y="1518840"/>
            <a:ext cx="834480" cy="421560"/>
          </a:xfrm>
          <a:prstGeom prst="curvedConnector5">
            <a:avLst>
              <a:gd name="adj1" fmla="val 57876"/>
              <a:gd name="adj2" fmla="val 50000"/>
              <a:gd name="adj3" fmla="val 578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5" name=""/>
          <p:cNvCxnSpPr>
            <a:stCxn id="366" idx="3"/>
            <a:endCxn id="423" idx="0"/>
          </p:cNvCxnSpPr>
          <p:nvPr/>
        </p:nvCxnSpPr>
        <p:spPr>
          <a:xfrm>
            <a:off x="3790800" y="1518840"/>
            <a:ext cx="509040" cy="5292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3133440" y="11779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149280" y="166680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09480" y="17017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139760" y="11415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384" idx="2"/>
            <a:endCxn id="374" idx="0"/>
          </p:cNvCxnSpPr>
          <p:nvPr/>
        </p:nvCxnSpPr>
        <p:spPr>
          <a:xfrm flipH="1" rot="16200000">
            <a:off x="379800" y="873000"/>
            <a:ext cx="386640" cy="81360"/>
          </a:xfrm>
          <a:prstGeom prst="curvedConnector5">
            <a:avLst>
              <a:gd name="adj1" fmla="val 49767"/>
              <a:gd name="adj2" fmla="val 49777"/>
              <a:gd name="adj3" fmla="val 4976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1" name=""/>
          <p:cNvCxnSpPr>
            <a:stCxn id="385" idx="2"/>
            <a:endCxn id="374" idx="0"/>
          </p:cNvCxnSpPr>
          <p:nvPr/>
        </p:nvCxnSpPr>
        <p:spPr>
          <a:xfrm rot="5400000">
            <a:off x="708840" y="529920"/>
            <a:ext cx="482040" cy="672120"/>
          </a:xfrm>
          <a:prstGeom prst="curvedConnector5">
            <a:avLst>
              <a:gd name="adj1" fmla="val 49775"/>
              <a:gd name="adj2" fmla="val 50000"/>
              <a:gd name="adj3" fmla="val 497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2" name=""/>
          <p:cNvCxnSpPr>
            <a:stCxn id="387" idx="2"/>
            <a:endCxn id="374" idx="0"/>
          </p:cNvCxnSpPr>
          <p:nvPr/>
        </p:nvCxnSpPr>
        <p:spPr>
          <a:xfrm rot="5400000">
            <a:off x="1108440" y="135720"/>
            <a:ext cx="477000" cy="146592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3" name=""/>
          <p:cNvCxnSpPr>
            <a:stCxn id="386" idx="1"/>
            <a:endCxn id="374" idx="0"/>
          </p:cNvCxnSpPr>
          <p:nvPr/>
        </p:nvCxnSpPr>
        <p:spPr>
          <a:xfrm flipV="1" rot="10800000">
            <a:off x="613800" y="853560"/>
            <a:ext cx="1970640" cy="2534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4" name=""/>
          <p:cNvSpPr/>
          <p:nvPr/>
        </p:nvSpPr>
        <p:spPr>
          <a:xfrm>
            <a:off x="293400" y="133668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120" y="1343160"/>
            <a:ext cx="4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2960" y="15890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38200" y="2063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39800" y="15652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z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379" idx="3"/>
            <a:endCxn id="438" idx="2"/>
          </p:cNvCxnSpPr>
          <p:nvPr/>
        </p:nvCxnSpPr>
        <p:spPr>
          <a:xfrm flipH="1" flipV="1">
            <a:off x="1089000" y="1755360"/>
            <a:ext cx="30600" cy="244800"/>
          </a:xfrm>
          <a:prstGeom prst="curvedConnector5">
            <a:avLst>
              <a:gd name="adj1" fmla="val -766666"/>
              <a:gd name="adj2" fmla="val 42268"/>
              <a:gd name="adj3" fmla="val -7666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0" name=""/>
          <p:cNvCxnSpPr>
            <a:stCxn id="379" idx="3"/>
            <a:endCxn id="437" idx="1"/>
          </p:cNvCxnSpPr>
          <p:nvPr/>
        </p:nvCxnSpPr>
        <p:spPr>
          <a:xfrm>
            <a:off x="1119240" y="1999800"/>
            <a:ext cx="319680" cy="159480"/>
          </a:xfrm>
          <a:prstGeom prst="curvedConnector5">
            <a:avLst>
              <a:gd name="adj1" fmla="val 49718"/>
              <a:gd name="adj2" fmla="val 50000"/>
              <a:gd name="adj3" fmla="val 4971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34920" y="2403360"/>
            <a:ext cx="910908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(4)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AŽURIRANJE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update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naziv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bjekt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(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ziv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d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bjekt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rednost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   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votačk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lista parova aribut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rednost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imer: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update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RADNIK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(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MLB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307,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M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Mir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tributi pojavljivanja objekta zadatog identifikatorom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obijaju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zadate vrednosti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dentifikator objekta se ne može ažurirati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(5)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POVEZIVANJE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 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connect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naziv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eslikavanj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(_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d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omen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rednost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      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d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odomen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rednost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peracija connect se ne može direktno primeniti na preslikavanja čije su kardinal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G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=  1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GG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=  1,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jer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to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ovezivan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stvaruje automatski sa ubacivanjem objekta domena preslikavanj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 primer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    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connect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RUKOVODI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(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MLB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307,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ŠIFOD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0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odrazumeva se da operacija poveži za jedno preslikavanje prouzrokuje i operaciju poveži za njeno inverzno preslikavan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443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043DEE7-2C13-4CDB-91D2-F337D326BB5A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45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936720" y="920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cc3300"/>
                </a:solidFill>
                <a:latin typeface="Arial Narrow"/>
              </a:rPr>
              <a:t>Ra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68520" y="1547640"/>
            <a:ext cx="82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0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74040" y="1380240"/>
            <a:ext cx="711000" cy="276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Odele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"/>
          <p:cNvCxnSpPr>
            <a:stCxn id="451" idx="3"/>
            <a:endCxn id="449" idx="0"/>
          </p:cNvCxnSpPr>
          <p:nvPr/>
        </p:nvCxnSpPr>
        <p:spPr>
          <a:xfrm>
            <a:off x="3060360" y="1169640"/>
            <a:ext cx="37044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2" name=""/>
          <p:cNvCxnSpPr>
            <a:stCxn id="449" idx="2"/>
            <a:endCxn id="453" idx="3"/>
          </p:cNvCxnSpPr>
          <p:nvPr/>
        </p:nvCxnSpPr>
        <p:spPr>
          <a:xfrm rot="5400000">
            <a:off x="3148920" y="1657440"/>
            <a:ext cx="278280" cy="284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4" name=""/>
          <p:cNvSpPr/>
          <p:nvPr/>
        </p:nvSpPr>
        <p:spPr>
          <a:xfrm>
            <a:off x="2966040" y="94140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Zapošljava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51280" y="1965240"/>
            <a:ext cx="97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đeno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840" y="1244520"/>
            <a:ext cx="148824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oizvo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9560" y="1110240"/>
            <a:ext cx="528120" cy="24624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ad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255680" y="924120"/>
            <a:ext cx="180504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pošljav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564560" y="1693080"/>
            <a:ext cx="167112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ukovođe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56" idx="1"/>
            <a:endCxn id="449" idx="3"/>
          </p:cNvCxnSpPr>
          <p:nvPr/>
        </p:nvCxnSpPr>
        <p:spPr>
          <a:xfrm rot="10800000">
            <a:off x="3790080" y="1518480"/>
            <a:ext cx="331200" cy="2520"/>
          </a:xfrm>
          <a:prstGeom prst="bentConnector3">
            <a:avLst>
              <a:gd name="adj1" fmla="val 4994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59" name=""/>
          <p:cNvSpPr/>
          <p:nvPr/>
        </p:nvSpPr>
        <p:spPr>
          <a:xfrm>
            <a:off x="6006960" y="810000"/>
            <a:ext cx="709560" cy="276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oizv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270120" y="449280"/>
            <a:ext cx="7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Sastav  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09520" y="1833480"/>
            <a:ext cx="909720" cy="331920"/>
            <a:chOff x="209520" y="1833480"/>
            <a:chExt cx="909720" cy="331920"/>
          </a:xfrm>
        </p:grpSpPr>
        <p:sp>
          <p:nvSpPr>
            <p:cNvPr id="462" name=""/>
            <p:cNvSpPr/>
            <p:nvPr/>
          </p:nvSpPr>
          <p:spPr>
            <a:xfrm>
              <a:off x="209520" y="1833480"/>
              <a:ext cx="909720" cy="331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1080" y="1877040"/>
              <a:ext cx="786600" cy="246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Ispl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64" name=""/>
          <p:cNvCxnSpPr>
            <a:stCxn id="457" idx="3"/>
            <a:endCxn id="453" idx="1"/>
          </p:cNvCxnSpPr>
          <p:nvPr/>
        </p:nvCxnSpPr>
        <p:spPr>
          <a:xfrm>
            <a:off x="882360" y="1233360"/>
            <a:ext cx="770760" cy="705240"/>
          </a:xfrm>
          <a:prstGeom prst="curvedConnector5">
            <a:avLst>
              <a:gd name="adj1" fmla="val 73598"/>
              <a:gd name="adj2" fmla="val 50000"/>
              <a:gd name="adj3" fmla="val 735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5" name=""/>
          <p:cNvCxnSpPr>
            <a:stCxn id="457" idx="3"/>
            <a:endCxn id="451" idx="1"/>
          </p:cNvCxnSpPr>
          <p:nvPr/>
        </p:nvCxnSpPr>
        <p:spPr>
          <a:xfrm flipV="1">
            <a:off x="882720" y="1169640"/>
            <a:ext cx="373680" cy="64080"/>
          </a:xfrm>
          <a:prstGeom prst="curvedConnector5">
            <a:avLst>
              <a:gd name="adj1" fmla="val 49758"/>
              <a:gd name="adj2" fmla="val 49717"/>
              <a:gd name="adj3" fmla="val 497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6" name=""/>
          <p:cNvCxnSpPr>
            <a:stCxn id="457" idx="2"/>
            <a:endCxn id="463" idx="0"/>
          </p:cNvCxnSpPr>
          <p:nvPr/>
        </p:nvCxnSpPr>
        <p:spPr>
          <a:xfrm flipH="1" rot="16200000">
            <a:off x="382680" y="1591200"/>
            <a:ext cx="513360" cy="51480"/>
          </a:xfrm>
          <a:prstGeom prst="curvedConnector5">
            <a:avLst>
              <a:gd name="adj1" fmla="val 49824"/>
              <a:gd name="adj2" fmla="val 50000"/>
              <a:gd name="adj3" fmla="val 498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7" name=""/>
          <p:cNvSpPr/>
          <p:nvPr/>
        </p:nvSpPr>
        <p:spPr>
          <a:xfrm>
            <a:off x="184320" y="530280"/>
            <a:ext cx="698400" cy="1904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lb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36720" y="434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584440" y="758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nim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730520" y="439560"/>
            <a:ext cx="698400" cy="190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Star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7591320" y="721080"/>
            <a:ext cx="846360" cy="796320"/>
            <a:chOff x="7591320" y="721080"/>
            <a:chExt cx="846360" cy="796320"/>
          </a:xfrm>
        </p:grpSpPr>
        <p:sp>
          <p:nvSpPr>
            <p:cNvPr id="472" name=""/>
            <p:cNvSpPr/>
            <p:nvPr/>
          </p:nvSpPr>
          <p:spPr>
            <a:xfrm>
              <a:off x="7591320" y="915840"/>
              <a:ext cx="846360" cy="406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595640" y="721080"/>
              <a:ext cx="839520" cy="79632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 Narrow"/>
                </a:rPr>
                <a:t>Stru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74" name=""/>
          <p:cNvCxnSpPr>
            <a:stCxn id="456" idx="3"/>
            <a:endCxn id="459" idx="1"/>
          </p:cNvCxnSpPr>
          <p:nvPr/>
        </p:nvCxnSpPr>
        <p:spPr>
          <a:xfrm flipV="1">
            <a:off x="5443560" y="948960"/>
            <a:ext cx="558000" cy="572400"/>
          </a:xfrm>
          <a:prstGeom prst="curvedConnector5">
            <a:avLst>
              <a:gd name="adj1" fmla="val 49838"/>
              <a:gd name="adj2" fmla="val 49968"/>
              <a:gd name="adj3" fmla="val 4983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59" idx="0"/>
            <a:endCxn id="473" idx="0"/>
          </p:cNvCxnSpPr>
          <p:nvPr/>
        </p:nvCxnSpPr>
        <p:spPr>
          <a:xfrm flipH="1" rot="16200000">
            <a:off x="7134840" y="33840"/>
            <a:ext cx="110160" cy="1654920"/>
          </a:xfrm>
          <a:prstGeom prst="curvedConnector5">
            <a:avLst>
              <a:gd name="adj1" fmla="val -208524"/>
              <a:gd name="adj2" fmla="val 50000"/>
              <a:gd name="adj3" fmla="val -2085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"/>
          <p:cNvCxnSpPr>
            <a:stCxn id="459" idx="3"/>
            <a:endCxn id="473" idx="2"/>
          </p:cNvCxnSpPr>
          <p:nvPr/>
        </p:nvCxnSpPr>
        <p:spPr>
          <a:xfrm>
            <a:off x="6723000" y="949320"/>
            <a:ext cx="1294560" cy="373680"/>
          </a:xfrm>
          <a:prstGeom prst="curvedConnector5">
            <a:avLst>
              <a:gd name="adj1" fmla="val 33713"/>
              <a:gd name="adj2" fmla="val 80617"/>
              <a:gd name="adj3" fmla="val 337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6218280" y="1211040"/>
            <a:ext cx="29700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05640" y="2004120"/>
            <a:ext cx="534240" cy="246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aš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214400" y="2018160"/>
            <a:ext cx="603000" cy="246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aterij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0" name=""/>
          <p:cNvCxnSpPr>
            <a:stCxn id="477" idx="2"/>
            <a:endCxn id="478" idx="0"/>
          </p:cNvCxnSpPr>
          <p:nvPr/>
        </p:nvCxnSpPr>
        <p:spPr>
          <a:xfrm rot="5400000">
            <a:off x="6030000" y="1663560"/>
            <a:ext cx="280080" cy="394200"/>
          </a:xfrm>
          <a:prstGeom prst="bentConnector3">
            <a:avLst>
              <a:gd name="adj1" fmla="val 499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stCxn id="477" idx="2"/>
            <a:endCxn id="479" idx="0"/>
          </p:cNvCxnSpPr>
          <p:nvPr/>
        </p:nvCxnSpPr>
        <p:spPr>
          <a:xfrm flipH="1" rot="16200000">
            <a:off x="6794280" y="1292760"/>
            <a:ext cx="294480" cy="1150200"/>
          </a:xfrm>
          <a:prstGeom prst="bentConnector3">
            <a:avLst>
              <a:gd name="adj1" fmla="val 496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2" name=""/>
          <p:cNvCxnSpPr>
            <a:stCxn id="459" idx="2"/>
            <a:endCxn id="477" idx="0"/>
          </p:cNvCxnSpPr>
          <p:nvPr/>
        </p:nvCxnSpPr>
        <p:spPr>
          <a:xfrm flipH="1" rot="16200000">
            <a:off x="6283080" y="1168920"/>
            <a:ext cx="162720" cy="5400"/>
          </a:xfrm>
          <a:prstGeom prst="bentConnector3">
            <a:avLst>
              <a:gd name="adj1" fmla="val 498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3" name=""/>
          <p:cNvSpPr/>
          <p:nvPr/>
        </p:nvSpPr>
        <p:spPr>
          <a:xfrm>
            <a:off x="8286840" y="4572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Ugrk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endCxn id="483" idx="2"/>
          </p:cNvCxnSpPr>
          <p:nvPr/>
        </p:nvCxnSpPr>
        <p:spPr>
          <a:xfrm flipH="1" flipV="1" rot="5400000">
            <a:off x="8276760" y="807480"/>
            <a:ext cx="519840" cy="199080"/>
          </a:xfrm>
          <a:prstGeom prst="curvedConnector5">
            <a:avLst>
              <a:gd name="adj1" fmla="val 49826"/>
              <a:gd name="adj2" fmla="val 50000"/>
              <a:gd name="adj3" fmla="val 498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5" name=""/>
          <p:cNvSpPr/>
          <p:nvPr/>
        </p:nvSpPr>
        <p:spPr>
          <a:xfrm>
            <a:off x="8012880" y="68904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N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015040" y="1265400"/>
            <a:ext cx="36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P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8120" y="66348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R,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614360" y="124632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R,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36680" y="730080"/>
            <a:ext cx="84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Primena 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408280" y="906480"/>
            <a:ext cx="42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355080" y="1068480"/>
            <a:ext cx="695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Vrsta  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465880" y="4730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Vr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2" idx="3"/>
            <a:endCxn id="459" idx="0"/>
          </p:cNvCxnSpPr>
          <p:nvPr/>
        </p:nvCxnSpPr>
        <p:spPr>
          <a:xfrm>
            <a:off x="6163920" y="568080"/>
            <a:ext cx="199080" cy="2386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94" name=""/>
          <p:cNvSpPr/>
          <p:nvPr/>
        </p:nvSpPr>
        <p:spPr>
          <a:xfrm>
            <a:off x="7251480" y="16700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14800" y="166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C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088480" y="17384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Porek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79" idx="3"/>
            <a:endCxn id="496" idx="1"/>
          </p:cNvCxnSpPr>
          <p:nvPr/>
        </p:nvCxnSpPr>
        <p:spPr>
          <a:xfrm flipV="1">
            <a:off x="7822800" y="1833120"/>
            <a:ext cx="266040" cy="308880"/>
          </a:xfrm>
          <a:prstGeom prst="curvedConnector5">
            <a:avLst>
              <a:gd name="adj1" fmla="val 49593"/>
              <a:gd name="adj2" fmla="val 49941"/>
              <a:gd name="adj3" fmla="val 4959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5519880" y="151452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Am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8" idx="1"/>
            <a:endCxn id="478" idx="1"/>
          </p:cNvCxnSpPr>
          <p:nvPr/>
        </p:nvCxnSpPr>
        <p:spPr>
          <a:xfrm flipH="1" flipV="1" rot="10800000">
            <a:off x="5519520" y="1609200"/>
            <a:ext cx="181440" cy="518400"/>
          </a:xfrm>
          <a:prstGeom prst="curvedConnector5">
            <a:avLst>
              <a:gd name="adj1" fmla="val -15705"/>
              <a:gd name="adj2" fmla="val 49965"/>
              <a:gd name="adj3" fmla="val -1570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4624560" y="4572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314880" y="5526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"/>
          <p:cNvCxnSpPr>
            <a:stCxn id="500" idx="3"/>
            <a:endCxn id="459" idx="1"/>
          </p:cNvCxnSpPr>
          <p:nvPr/>
        </p:nvCxnSpPr>
        <p:spPr>
          <a:xfrm>
            <a:off x="5322600" y="552600"/>
            <a:ext cx="678600" cy="397440"/>
          </a:xfrm>
          <a:prstGeom prst="curvedConnector5">
            <a:avLst>
              <a:gd name="adj1" fmla="val 20329"/>
              <a:gd name="adj2" fmla="val 49954"/>
              <a:gd name="adj3" fmla="val 2032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3" name=""/>
          <p:cNvCxnSpPr>
            <a:stCxn id="501" idx="3"/>
            <a:endCxn id="459" idx="1"/>
          </p:cNvCxnSpPr>
          <p:nvPr/>
        </p:nvCxnSpPr>
        <p:spPr>
          <a:xfrm>
            <a:off x="4012920" y="647640"/>
            <a:ext cx="1987920" cy="302400"/>
          </a:xfrm>
          <a:prstGeom prst="curvedConnector5">
            <a:avLst>
              <a:gd name="adj1" fmla="val 49990"/>
              <a:gd name="adj2" fmla="val 49940"/>
              <a:gd name="adj3" fmla="val 499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4" name=""/>
          <p:cNvSpPr/>
          <p:nvPr/>
        </p:nvSpPr>
        <p:spPr>
          <a:xfrm>
            <a:off x="3816000" y="1116000"/>
            <a:ext cx="42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24560" y="184464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949560" y="2048040"/>
            <a:ext cx="69876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if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7" name=""/>
          <p:cNvCxnSpPr>
            <a:stCxn id="449" idx="3"/>
            <a:endCxn id="505" idx="1"/>
          </p:cNvCxnSpPr>
          <p:nvPr/>
        </p:nvCxnSpPr>
        <p:spPr>
          <a:xfrm>
            <a:off x="3790800" y="1518840"/>
            <a:ext cx="834480" cy="421560"/>
          </a:xfrm>
          <a:prstGeom prst="curvedConnector5">
            <a:avLst>
              <a:gd name="adj1" fmla="val 57876"/>
              <a:gd name="adj2" fmla="val 50000"/>
              <a:gd name="adj3" fmla="val 578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8" name=""/>
          <p:cNvCxnSpPr>
            <a:stCxn id="449" idx="3"/>
            <a:endCxn id="506" idx="0"/>
          </p:cNvCxnSpPr>
          <p:nvPr/>
        </p:nvCxnSpPr>
        <p:spPr>
          <a:xfrm>
            <a:off x="3790800" y="1518840"/>
            <a:ext cx="509040" cy="5292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9" name=""/>
          <p:cNvSpPr/>
          <p:nvPr/>
        </p:nvSpPr>
        <p:spPr>
          <a:xfrm>
            <a:off x="3133440" y="11779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49280" y="166680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509480" y="17017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139760" y="11415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467" idx="2"/>
            <a:endCxn id="457" idx="0"/>
          </p:cNvCxnSpPr>
          <p:nvPr/>
        </p:nvCxnSpPr>
        <p:spPr>
          <a:xfrm flipH="1" rot="16200000">
            <a:off x="379800" y="873000"/>
            <a:ext cx="386640" cy="81360"/>
          </a:xfrm>
          <a:prstGeom prst="curvedConnector5">
            <a:avLst>
              <a:gd name="adj1" fmla="val 49767"/>
              <a:gd name="adj2" fmla="val 49777"/>
              <a:gd name="adj3" fmla="val 4976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68" idx="2"/>
            <a:endCxn id="457" idx="0"/>
          </p:cNvCxnSpPr>
          <p:nvPr/>
        </p:nvCxnSpPr>
        <p:spPr>
          <a:xfrm rot="5400000">
            <a:off x="708840" y="529920"/>
            <a:ext cx="482040" cy="672120"/>
          </a:xfrm>
          <a:prstGeom prst="curvedConnector5">
            <a:avLst>
              <a:gd name="adj1" fmla="val 49775"/>
              <a:gd name="adj2" fmla="val 50000"/>
              <a:gd name="adj3" fmla="val 497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5" name=""/>
          <p:cNvCxnSpPr>
            <a:stCxn id="470" idx="2"/>
            <a:endCxn id="457" idx="0"/>
          </p:cNvCxnSpPr>
          <p:nvPr/>
        </p:nvCxnSpPr>
        <p:spPr>
          <a:xfrm rot="5400000">
            <a:off x="1108440" y="135720"/>
            <a:ext cx="477000" cy="146592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6" name=""/>
          <p:cNvCxnSpPr>
            <a:stCxn id="469" idx="1"/>
            <a:endCxn id="457" idx="0"/>
          </p:cNvCxnSpPr>
          <p:nvPr/>
        </p:nvCxnSpPr>
        <p:spPr>
          <a:xfrm flipV="1" rot="10800000">
            <a:off x="613800" y="853560"/>
            <a:ext cx="1970640" cy="2534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7" name=""/>
          <p:cNvSpPr/>
          <p:nvPr/>
        </p:nvSpPr>
        <p:spPr>
          <a:xfrm>
            <a:off x="293400" y="133668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09120" y="1343160"/>
            <a:ext cx="4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72960" y="15890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38200" y="2063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39800" y="15652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z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462" idx="3"/>
            <a:endCxn id="521" idx="2"/>
          </p:cNvCxnSpPr>
          <p:nvPr/>
        </p:nvCxnSpPr>
        <p:spPr>
          <a:xfrm flipH="1" flipV="1">
            <a:off x="1089000" y="1755360"/>
            <a:ext cx="30600" cy="244800"/>
          </a:xfrm>
          <a:prstGeom prst="curvedConnector5">
            <a:avLst>
              <a:gd name="adj1" fmla="val -766666"/>
              <a:gd name="adj2" fmla="val 42268"/>
              <a:gd name="adj3" fmla="val -7666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3" name=""/>
          <p:cNvCxnSpPr>
            <a:stCxn id="462" idx="3"/>
            <a:endCxn id="520" idx="1"/>
          </p:cNvCxnSpPr>
          <p:nvPr/>
        </p:nvCxnSpPr>
        <p:spPr>
          <a:xfrm>
            <a:off x="1119240" y="1999800"/>
            <a:ext cx="319680" cy="159480"/>
          </a:xfrm>
          <a:prstGeom prst="curvedConnector5">
            <a:avLst>
              <a:gd name="adj1" fmla="val 49718"/>
              <a:gd name="adj2" fmla="val 50000"/>
              <a:gd name="adj3" fmla="val 4971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24" name=""/>
          <p:cNvSpPr/>
          <p:nvPr/>
        </p:nvSpPr>
        <p:spPr>
          <a:xfrm>
            <a:off x="34920" y="2403360"/>
            <a:ext cx="910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(6)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PREVEZIVANJE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 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    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reconnect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ziv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eslikavanj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(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d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omen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rednost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d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odomen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rednost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d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odomen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-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rednost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peracija reconnect se sastoji od uzastopne prinene operacije disconnect sa jednog kodomene i connect na drugi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jednoj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tomskoj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transakciji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na se primenjuje na ona preslikavanja na koja se operacije disconnect i connect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mogu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irektno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imeniti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 primer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reconnect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RADI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(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MLB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037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ŠIFOD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03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ŠIFOD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6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operacija-prevezivanje</a:t>
            </a: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527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61CF817-964B-47A5-97F2-967521FC0EDD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9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345960"/>
            <a:ext cx="91090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 PMOV je moguće definisati dve vrste operacija z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etraživanje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vi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kup operacija je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"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navigacione</a:t>
            </a:r>
            <a:r>
              <a:rPr b="1" lang="en-U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“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irode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 one omogućuju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retanje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roz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model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istup pojedinačnim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ojavljivanjima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bjekat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"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tekuće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"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lase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lase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ojoj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e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 tom trenutku pristupilo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rugu grupu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peracija čine tzv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"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specifikacione</a:t>
            </a:r>
            <a:r>
              <a:rPr b="1" lang="en-U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"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peracije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dnosno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dgovarajući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pitni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jezik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ojim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e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skazuje struktur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 uslovi koje rezultat operacije treba da zadovolji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bi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e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efinisale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peracije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d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lasam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bjekat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mogućilo jednostavno povezivanje klasa objekat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eko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eslikavanj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efinišu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e promenljive na sledeći način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 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naziv</a:t>
            </a:r>
            <a:r>
              <a:rPr b="1" lang="en-U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promenljive</a:t>
            </a:r>
            <a:r>
              <a:rPr b="1" lang="en-U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":" 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naziv</a:t>
            </a:r>
            <a:r>
              <a:rPr b="1" lang="en-U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klase</a:t>
            </a:r>
            <a:r>
              <a:rPr b="1" lang="en-U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objekata</a:t>
            </a:r>
            <a:r>
              <a:rPr b="1" lang="en-U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,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što zanači da promenljiva uzima vrednosti iz klase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(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kup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)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bjekat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 primer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: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: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RADNIK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omenljiva x uzima z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voje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rednosti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ojavljivanj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lase objekata RADNIK ili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naziv</a:t>
            </a:r>
            <a:r>
              <a:rPr b="1" lang="en-U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promenljive</a:t>
            </a:r>
            <a:r>
              <a:rPr b="1" lang="en-U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1 ":" 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naziv</a:t>
            </a:r>
            <a:r>
              <a:rPr b="1" lang="en-U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promenljive</a:t>
            </a:r>
            <a:r>
              <a:rPr b="1" lang="en-U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2 "." 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naziv</a:t>
            </a:r>
            <a:r>
              <a:rPr b="1" lang="en-U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preslikavanja</a:t>
            </a:r>
            <a:r>
              <a:rPr b="1" lang="en-U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,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što znači da prv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omenljiv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zim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rednost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z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odomen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vedenog preslikavanja z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rednost domena preslikavanj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atog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rednošću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ruge promenljive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en-U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    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: 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ODELE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    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: 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ZAPOŠLJAVA</a:t>
            </a:r>
            <a:r>
              <a:rPr b="1" lang="en-U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,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y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uzima vrednosti iz podskupa klase RADNIK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oji čine pojavljivanja koja su su preko preslikavanj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ZAPOŠLJAV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ezani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z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ato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delenje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eko tekuće vrednosti promenljive 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ako je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bjekat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gregacija njegovih atribut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omenljivoj x se takođe mogu pridodati atributi preko iskaz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  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naziv</a:t>
            </a:r>
            <a:r>
              <a:rPr b="1" lang="en-U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prom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</a:rPr>
              <a:t>en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nljive</a:t>
            </a:r>
            <a:r>
              <a:rPr b="1" lang="en-U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"." 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naziv atribut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 primer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: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NAZOD ili y</a:t>
            </a:r>
            <a:r>
              <a:rPr b="1" lang="en-U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IME ili y</a:t>
            </a:r>
            <a:r>
              <a:rPr b="1" lang="en-U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MLB i slično</a:t>
            </a:r>
            <a:r>
              <a:rPr b="1" lang="en-U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ao i ranije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i definiciji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graničenj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može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e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mesto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efinicije promanljive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svojiti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onvencij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u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zivi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omenljivih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jednaki nazivima klasa iz koji uzimaju vrednosti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6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-Operacije pretraživanja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36720" y="920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a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68520" y="1547640"/>
            <a:ext cx="82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0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74040" y="1380240"/>
            <a:ext cx="711000" cy="27648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Odele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37" idx="3"/>
            <a:endCxn id="535" idx="0"/>
          </p:cNvCxnSpPr>
          <p:nvPr/>
        </p:nvCxnSpPr>
        <p:spPr>
          <a:xfrm>
            <a:off x="3060360" y="1169640"/>
            <a:ext cx="37044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8" name=""/>
          <p:cNvCxnSpPr>
            <a:stCxn id="535" idx="2"/>
            <a:endCxn id="539" idx="3"/>
          </p:cNvCxnSpPr>
          <p:nvPr/>
        </p:nvCxnSpPr>
        <p:spPr>
          <a:xfrm rot="5400000">
            <a:off x="3148920" y="1657440"/>
            <a:ext cx="278280" cy="284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0" name=""/>
          <p:cNvSpPr/>
          <p:nvPr/>
        </p:nvSpPr>
        <p:spPr>
          <a:xfrm>
            <a:off x="2966040" y="94140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Zapošljava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951280" y="1965240"/>
            <a:ext cx="97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đeno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9560" y="1110240"/>
            <a:ext cx="528120" cy="24624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ad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255680" y="924120"/>
            <a:ext cx="1805040" cy="491760"/>
          </a:xfrm>
          <a:prstGeom prst="flowChartDecision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pošljav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564560" y="1693080"/>
            <a:ext cx="167112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ukovođe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209520" y="1833480"/>
            <a:ext cx="909720" cy="331920"/>
            <a:chOff x="209520" y="1833480"/>
            <a:chExt cx="909720" cy="331920"/>
          </a:xfrm>
        </p:grpSpPr>
        <p:sp>
          <p:nvSpPr>
            <p:cNvPr id="544" name=""/>
            <p:cNvSpPr/>
            <p:nvPr/>
          </p:nvSpPr>
          <p:spPr>
            <a:xfrm>
              <a:off x="209520" y="1833480"/>
              <a:ext cx="909720" cy="331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71080" y="1877040"/>
              <a:ext cx="786600" cy="246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Ispl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6" name=""/>
          <p:cNvCxnSpPr>
            <a:stCxn id="542" idx="3"/>
            <a:endCxn id="539" idx="1"/>
          </p:cNvCxnSpPr>
          <p:nvPr/>
        </p:nvCxnSpPr>
        <p:spPr>
          <a:xfrm>
            <a:off x="882360" y="1233360"/>
            <a:ext cx="770760" cy="705240"/>
          </a:xfrm>
          <a:prstGeom prst="curvedConnector5">
            <a:avLst>
              <a:gd name="adj1" fmla="val 73598"/>
              <a:gd name="adj2" fmla="val 50000"/>
              <a:gd name="adj3" fmla="val 735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2" idx="3"/>
            <a:endCxn id="537" idx="1"/>
          </p:cNvCxnSpPr>
          <p:nvPr/>
        </p:nvCxnSpPr>
        <p:spPr>
          <a:xfrm flipV="1">
            <a:off x="882720" y="1169640"/>
            <a:ext cx="373680" cy="64080"/>
          </a:xfrm>
          <a:prstGeom prst="curvedConnector5">
            <a:avLst>
              <a:gd name="adj1" fmla="val 49758"/>
              <a:gd name="adj2" fmla="val 49717"/>
              <a:gd name="adj3" fmla="val 497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2" idx="2"/>
            <a:endCxn id="545" idx="0"/>
          </p:cNvCxnSpPr>
          <p:nvPr/>
        </p:nvCxnSpPr>
        <p:spPr>
          <a:xfrm flipH="1" rot="16200000">
            <a:off x="382680" y="1591200"/>
            <a:ext cx="513360" cy="51480"/>
          </a:xfrm>
          <a:prstGeom prst="curvedConnector5">
            <a:avLst>
              <a:gd name="adj1" fmla="val 49824"/>
              <a:gd name="adj2" fmla="val 50000"/>
              <a:gd name="adj3" fmla="val 498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9" name=""/>
          <p:cNvSpPr/>
          <p:nvPr/>
        </p:nvSpPr>
        <p:spPr>
          <a:xfrm>
            <a:off x="184320" y="530280"/>
            <a:ext cx="698400" cy="1904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lb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936720" y="434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425680" y="71136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nim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730520" y="439560"/>
            <a:ext cx="698400" cy="190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Star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94120" y="11700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94120" y="17352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if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5" name=""/>
          <p:cNvCxnSpPr>
            <a:stCxn id="535" idx="3"/>
            <a:endCxn id="553" idx="1"/>
          </p:cNvCxnSpPr>
          <p:nvPr/>
        </p:nvCxnSpPr>
        <p:spPr>
          <a:xfrm flipV="1">
            <a:off x="3790440" y="1264680"/>
            <a:ext cx="104040" cy="254520"/>
          </a:xfrm>
          <a:prstGeom prst="curvedConnector5">
            <a:avLst>
              <a:gd name="adj1" fmla="val 48958"/>
              <a:gd name="adj2" fmla="val 50000"/>
              <a:gd name="adj3" fmla="val 489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6" name=""/>
          <p:cNvCxnSpPr>
            <a:stCxn id="535" idx="3"/>
            <a:endCxn id="554" idx="0"/>
          </p:cNvCxnSpPr>
          <p:nvPr/>
        </p:nvCxnSpPr>
        <p:spPr>
          <a:xfrm>
            <a:off x="3790440" y="1519200"/>
            <a:ext cx="453240" cy="2167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7" name=""/>
          <p:cNvSpPr/>
          <p:nvPr/>
        </p:nvSpPr>
        <p:spPr>
          <a:xfrm>
            <a:off x="3133440" y="11779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49280" y="166680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509480" y="17017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139760" y="11415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49" idx="2"/>
            <a:endCxn id="542" idx="0"/>
          </p:cNvCxnSpPr>
          <p:nvPr/>
        </p:nvCxnSpPr>
        <p:spPr>
          <a:xfrm flipH="1" rot="16200000">
            <a:off x="379800" y="873000"/>
            <a:ext cx="386640" cy="81360"/>
          </a:xfrm>
          <a:prstGeom prst="curvedConnector5">
            <a:avLst>
              <a:gd name="adj1" fmla="val 49767"/>
              <a:gd name="adj2" fmla="val 49777"/>
              <a:gd name="adj3" fmla="val 4976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2" name=""/>
          <p:cNvCxnSpPr>
            <a:stCxn id="550" idx="2"/>
            <a:endCxn id="542" idx="0"/>
          </p:cNvCxnSpPr>
          <p:nvPr/>
        </p:nvCxnSpPr>
        <p:spPr>
          <a:xfrm rot="5400000">
            <a:off x="708840" y="529920"/>
            <a:ext cx="482040" cy="672120"/>
          </a:xfrm>
          <a:prstGeom prst="curvedConnector5">
            <a:avLst>
              <a:gd name="adj1" fmla="val 49775"/>
              <a:gd name="adj2" fmla="val 50000"/>
              <a:gd name="adj3" fmla="val 497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52" idx="2"/>
            <a:endCxn id="542" idx="0"/>
          </p:cNvCxnSpPr>
          <p:nvPr/>
        </p:nvCxnSpPr>
        <p:spPr>
          <a:xfrm rot="5400000">
            <a:off x="1108440" y="135720"/>
            <a:ext cx="477000" cy="146592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4" name=""/>
          <p:cNvCxnSpPr>
            <a:stCxn id="551" idx="1"/>
            <a:endCxn id="542" idx="0"/>
          </p:cNvCxnSpPr>
          <p:nvPr/>
        </p:nvCxnSpPr>
        <p:spPr>
          <a:xfrm flipV="1" rot="10800000">
            <a:off x="613800" y="806400"/>
            <a:ext cx="1811880" cy="3006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5" name=""/>
          <p:cNvSpPr/>
          <p:nvPr/>
        </p:nvSpPr>
        <p:spPr>
          <a:xfrm>
            <a:off x="293400" y="133668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09120" y="1343160"/>
            <a:ext cx="4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72960" y="15890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438200" y="2063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39800" y="15652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z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44" idx="3"/>
            <a:endCxn id="569" idx="2"/>
          </p:cNvCxnSpPr>
          <p:nvPr/>
        </p:nvCxnSpPr>
        <p:spPr>
          <a:xfrm flipH="1" flipV="1">
            <a:off x="1089000" y="1755360"/>
            <a:ext cx="30600" cy="244800"/>
          </a:xfrm>
          <a:prstGeom prst="curvedConnector5">
            <a:avLst>
              <a:gd name="adj1" fmla="val -766666"/>
              <a:gd name="adj2" fmla="val 42268"/>
              <a:gd name="adj3" fmla="val -7666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1" name=""/>
          <p:cNvCxnSpPr>
            <a:stCxn id="544" idx="3"/>
            <a:endCxn id="568" idx="1"/>
          </p:cNvCxnSpPr>
          <p:nvPr/>
        </p:nvCxnSpPr>
        <p:spPr>
          <a:xfrm>
            <a:off x="1119240" y="1999800"/>
            <a:ext cx="319680" cy="159480"/>
          </a:xfrm>
          <a:prstGeom prst="curvedConnector5">
            <a:avLst>
              <a:gd name="adj1" fmla="val 49718"/>
              <a:gd name="adj2" fmla="val 50000"/>
              <a:gd name="adj3" fmla="val 4971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72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573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35581DE-9622-4A7F-B403-E5DBE999F6E2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75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8160" y="306360"/>
            <a:ext cx="9109080" cy="63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čigledno je da je osnovn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peracij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etraživanj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zvlačen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jednog pojavljivanja objekta iz zadate klas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ko je klasa prazn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dgovarajuća operacija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raća kod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"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EOK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".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efinišu se sledeće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vigacione operacije pretraživanja u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modelu objekti vez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(1)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GET ANY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naziv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promenljive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{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aje bilo koje pojavljivan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lase nad kojom je promenljiva definaisana ili EO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ako je klasa prazn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 primer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x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: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ODELENJE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y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: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x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ZAPOŠLJAVA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GET ANY x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-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aje bilo koje pojavljivanje objekta odelen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      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GET ANY y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-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aje bilo ko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ojavljivan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bjekt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radnik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z podskupa radnika vezanih za tekuće pojavljivanje objekta odelen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(2)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GET ANY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naziv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promenljive WHERE uslov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{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slov se mož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skazati preko relacionih operator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(=, &lt;, &gt;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 slično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)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oji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mogu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efinisati nad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omenim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tribut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las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d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ojom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efinisana promenljiv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 logičkih operatora AND OR i NOT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Rezultat operacije je jedno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bilo ko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ojavljivanje objekta ko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zadovoljav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slov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} 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imer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ekvenca naredbi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GET ANY x WHERE x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ŠIFOD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= 01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      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GET ANY y WHERE y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ZANIMANJE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= '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lekar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'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AND y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STAROST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&gt;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aje odelenje sa šifrom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011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 sve lekare starije od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40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godin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z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tog odelenja ili EOK ako takvih radnika nem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6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avigacione operacije GET 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936720" y="920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a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8520" y="1547640"/>
            <a:ext cx="82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0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74040" y="1380240"/>
            <a:ext cx="711000" cy="27648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Odele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2" name=""/>
          <p:cNvCxnSpPr>
            <a:stCxn id="583" idx="3"/>
            <a:endCxn id="581" idx="0"/>
          </p:cNvCxnSpPr>
          <p:nvPr/>
        </p:nvCxnSpPr>
        <p:spPr>
          <a:xfrm>
            <a:off x="3060360" y="1169640"/>
            <a:ext cx="37044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4" name=""/>
          <p:cNvCxnSpPr>
            <a:stCxn id="581" idx="2"/>
            <a:endCxn id="585" idx="3"/>
          </p:cNvCxnSpPr>
          <p:nvPr/>
        </p:nvCxnSpPr>
        <p:spPr>
          <a:xfrm rot="5400000">
            <a:off x="3148920" y="1657440"/>
            <a:ext cx="278280" cy="284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6" name=""/>
          <p:cNvSpPr/>
          <p:nvPr/>
        </p:nvSpPr>
        <p:spPr>
          <a:xfrm>
            <a:off x="2966040" y="94140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Zapošljava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951280" y="1965240"/>
            <a:ext cx="97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đeno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49560" y="1110240"/>
            <a:ext cx="528120" cy="24624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ad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55680" y="924120"/>
            <a:ext cx="1805040" cy="491760"/>
          </a:xfrm>
          <a:prstGeom prst="flowChartDecision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pošljav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64560" y="1693080"/>
            <a:ext cx="167112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ukovođe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09520" y="1833480"/>
            <a:ext cx="909720" cy="331920"/>
            <a:chOff x="209520" y="1833480"/>
            <a:chExt cx="909720" cy="331920"/>
          </a:xfrm>
        </p:grpSpPr>
        <p:sp>
          <p:nvSpPr>
            <p:cNvPr id="590" name=""/>
            <p:cNvSpPr/>
            <p:nvPr/>
          </p:nvSpPr>
          <p:spPr>
            <a:xfrm>
              <a:off x="209520" y="1833480"/>
              <a:ext cx="909720" cy="331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71080" y="1877040"/>
              <a:ext cx="786600" cy="246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Ispl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92" name=""/>
          <p:cNvCxnSpPr>
            <a:stCxn id="588" idx="3"/>
            <a:endCxn id="585" idx="1"/>
          </p:cNvCxnSpPr>
          <p:nvPr/>
        </p:nvCxnSpPr>
        <p:spPr>
          <a:xfrm>
            <a:off x="882360" y="1233360"/>
            <a:ext cx="770760" cy="705240"/>
          </a:xfrm>
          <a:prstGeom prst="curvedConnector5">
            <a:avLst>
              <a:gd name="adj1" fmla="val 73598"/>
              <a:gd name="adj2" fmla="val 50000"/>
              <a:gd name="adj3" fmla="val 735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3" name=""/>
          <p:cNvCxnSpPr>
            <a:stCxn id="588" idx="3"/>
            <a:endCxn id="583" idx="1"/>
          </p:cNvCxnSpPr>
          <p:nvPr/>
        </p:nvCxnSpPr>
        <p:spPr>
          <a:xfrm flipV="1">
            <a:off x="882720" y="1169640"/>
            <a:ext cx="373680" cy="64080"/>
          </a:xfrm>
          <a:prstGeom prst="curvedConnector5">
            <a:avLst>
              <a:gd name="adj1" fmla="val 49758"/>
              <a:gd name="adj2" fmla="val 49717"/>
              <a:gd name="adj3" fmla="val 497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4" name=""/>
          <p:cNvCxnSpPr>
            <a:stCxn id="588" idx="2"/>
            <a:endCxn id="591" idx="0"/>
          </p:cNvCxnSpPr>
          <p:nvPr/>
        </p:nvCxnSpPr>
        <p:spPr>
          <a:xfrm flipH="1" rot="16200000">
            <a:off x="382680" y="1591200"/>
            <a:ext cx="513360" cy="51480"/>
          </a:xfrm>
          <a:prstGeom prst="curvedConnector5">
            <a:avLst>
              <a:gd name="adj1" fmla="val 49824"/>
              <a:gd name="adj2" fmla="val 50000"/>
              <a:gd name="adj3" fmla="val 498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5" name=""/>
          <p:cNvSpPr/>
          <p:nvPr/>
        </p:nvSpPr>
        <p:spPr>
          <a:xfrm>
            <a:off x="184320" y="530280"/>
            <a:ext cx="698400" cy="1904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lb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936720" y="434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25680" y="71136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nim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730520" y="439560"/>
            <a:ext cx="698400" cy="190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Star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94120" y="11700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894120" y="173520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if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1" name=""/>
          <p:cNvCxnSpPr>
            <a:stCxn id="581" idx="3"/>
            <a:endCxn id="599" idx="1"/>
          </p:cNvCxnSpPr>
          <p:nvPr/>
        </p:nvCxnSpPr>
        <p:spPr>
          <a:xfrm flipV="1">
            <a:off x="3790440" y="1264680"/>
            <a:ext cx="104040" cy="254520"/>
          </a:xfrm>
          <a:prstGeom prst="curvedConnector5">
            <a:avLst>
              <a:gd name="adj1" fmla="val 48958"/>
              <a:gd name="adj2" fmla="val 50000"/>
              <a:gd name="adj3" fmla="val 489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2" name=""/>
          <p:cNvCxnSpPr>
            <a:stCxn id="581" idx="3"/>
            <a:endCxn id="600" idx="0"/>
          </p:cNvCxnSpPr>
          <p:nvPr/>
        </p:nvCxnSpPr>
        <p:spPr>
          <a:xfrm>
            <a:off x="3790440" y="1519200"/>
            <a:ext cx="453240" cy="2167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3" name=""/>
          <p:cNvSpPr/>
          <p:nvPr/>
        </p:nvSpPr>
        <p:spPr>
          <a:xfrm>
            <a:off x="3133440" y="11779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49280" y="166680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09480" y="17017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139760" y="11415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7" name=""/>
          <p:cNvCxnSpPr>
            <a:stCxn id="595" idx="2"/>
            <a:endCxn id="588" idx="0"/>
          </p:cNvCxnSpPr>
          <p:nvPr/>
        </p:nvCxnSpPr>
        <p:spPr>
          <a:xfrm flipH="1" rot="16200000">
            <a:off x="379800" y="873000"/>
            <a:ext cx="386640" cy="81360"/>
          </a:xfrm>
          <a:prstGeom prst="curvedConnector5">
            <a:avLst>
              <a:gd name="adj1" fmla="val 49767"/>
              <a:gd name="adj2" fmla="val 49777"/>
              <a:gd name="adj3" fmla="val 4976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8" name=""/>
          <p:cNvCxnSpPr>
            <a:stCxn id="596" idx="2"/>
            <a:endCxn id="588" idx="0"/>
          </p:cNvCxnSpPr>
          <p:nvPr/>
        </p:nvCxnSpPr>
        <p:spPr>
          <a:xfrm rot="5400000">
            <a:off x="708840" y="529920"/>
            <a:ext cx="482040" cy="672120"/>
          </a:xfrm>
          <a:prstGeom prst="curvedConnector5">
            <a:avLst>
              <a:gd name="adj1" fmla="val 49775"/>
              <a:gd name="adj2" fmla="val 50000"/>
              <a:gd name="adj3" fmla="val 497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9" name=""/>
          <p:cNvCxnSpPr>
            <a:stCxn id="598" idx="2"/>
            <a:endCxn id="588" idx="0"/>
          </p:cNvCxnSpPr>
          <p:nvPr/>
        </p:nvCxnSpPr>
        <p:spPr>
          <a:xfrm rot="5400000">
            <a:off x="1108440" y="135720"/>
            <a:ext cx="477000" cy="146592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0" name=""/>
          <p:cNvCxnSpPr>
            <a:stCxn id="597" idx="1"/>
            <a:endCxn id="588" idx="0"/>
          </p:cNvCxnSpPr>
          <p:nvPr/>
        </p:nvCxnSpPr>
        <p:spPr>
          <a:xfrm flipV="1" rot="10800000">
            <a:off x="613800" y="806400"/>
            <a:ext cx="1811880" cy="3006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11" name=""/>
          <p:cNvSpPr/>
          <p:nvPr/>
        </p:nvSpPr>
        <p:spPr>
          <a:xfrm>
            <a:off x="293400" y="133668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9120" y="1343160"/>
            <a:ext cx="4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2960" y="15890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438200" y="2063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39800" y="15652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z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6" name=""/>
          <p:cNvCxnSpPr>
            <a:stCxn id="590" idx="3"/>
            <a:endCxn id="615" idx="2"/>
          </p:cNvCxnSpPr>
          <p:nvPr/>
        </p:nvCxnSpPr>
        <p:spPr>
          <a:xfrm flipH="1" flipV="1">
            <a:off x="1089000" y="1755360"/>
            <a:ext cx="30600" cy="244800"/>
          </a:xfrm>
          <a:prstGeom prst="curvedConnector5">
            <a:avLst>
              <a:gd name="adj1" fmla="val -766666"/>
              <a:gd name="adj2" fmla="val 42268"/>
              <a:gd name="adj3" fmla="val -7666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7" name=""/>
          <p:cNvCxnSpPr>
            <a:stCxn id="590" idx="3"/>
            <a:endCxn id="614" idx="1"/>
          </p:cNvCxnSpPr>
          <p:nvPr/>
        </p:nvCxnSpPr>
        <p:spPr>
          <a:xfrm>
            <a:off x="1119240" y="1999800"/>
            <a:ext cx="319680" cy="159480"/>
          </a:xfrm>
          <a:prstGeom prst="curvedConnector5">
            <a:avLst>
              <a:gd name="adj1" fmla="val 49718"/>
              <a:gd name="adj2" fmla="val 50000"/>
              <a:gd name="adj3" fmla="val 4971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18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619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169BB9D-B5B8-4416-9ADC-8FFEC10B7161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21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38160" y="306360"/>
            <a:ext cx="9109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peracija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GET ANY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daje samo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jedno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ojavljivan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at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las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dnosno jedno pojavljivanje koje zadovoljava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ati uslov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a bi se mogli izvući i drug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(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li sv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ojavljivanja uvode se operaci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(3)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GET DUPLICATE naziv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promenljiv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(4)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GET DUPLICATE naziv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promenljive WHERE usl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je daju jedno od preostalih pojavljivanja dat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las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osl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imene operacija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GET ANY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ili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GET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DUPLICAT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omenljiva koja je zadata nad specijalizacijom kao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eslikavanjem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ma nek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pecifičn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arakteristik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 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im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 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omen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eslikavanja specijalizaci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epovezan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nij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odtipova posmatranog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tip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epovezana unija skupova definiše se kao unija parova koji se sastoje od naziva skupa i elementa skupa koji s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"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niraju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". 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majući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to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idu promenljiva definisana nad ovom preslikavanjem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m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jedan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tribut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a imenom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"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typ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"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 promenljivu strukturu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zavisno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d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onkretne vrednosti atribut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"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typ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".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ko 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x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: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naziv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nadipa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y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: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x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naziv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specijalizaci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tada promenljiva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y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ima strukturu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&lt;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type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CASE type OF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             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naziv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prvog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podtipa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: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lista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atributa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prvog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podtipa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             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naziv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drugog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podtipa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: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lista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atributa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drugo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podtipa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             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naziv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-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tog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podtipa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: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lista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atributa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-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tog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podtipa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BP–Modul3-NJ6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MOV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 Narrow"/>
              </a:rPr>
              <a:t>-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 Narrow"/>
              </a:rPr>
              <a:t>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Navigacione operacije GET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 Narrow"/>
              </a:rPr>
              <a:t>DUPL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936720" y="920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a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568520" y="1547640"/>
            <a:ext cx="82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0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74040" y="1380240"/>
            <a:ext cx="711000" cy="27648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Odele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8" name=""/>
          <p:cNvCxnSpPr>
            <a:stCxn id="629" idx="3"/>
            <a:endCxn id="627" idx="0"/>
          </p:cNvCxnSpPr>
          <p:nvPr/>
        </p:nvCxnSpPr>
        <p:spPr>
          <a:xfrm>
            <a:off x="3060360" y="1169640"/>
            <a:ext cx="37044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0" name=""/>
          <p:cNvCxnSpPr>
            <a:stCxn id="627" idx="2"/>
            <a:endCxn id="631" idx="3"/>
          </p:cNvCxnSpPr>
          <p:nvPr/>
        </p:nvCxnSpPr>
        <p:spPr>
          <a:xfrm rot="5400000">
            <a:off x="3148920" y="1657440"/>
            <a:ext cx="278280" cy="284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2" name=""/>
          <p:cNvSpPr/>
          <p:nvPr/>
        </p:nvSpPr>
        <p:spPr>
          <a:xfrm>
            <a:off x="2966040" y="94140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Zapošljava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33760" y="2000160"/>
            <a:ext cx="97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đeno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49560" y="1110240"/>
            <a:ext cx="528120" cy="24624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ad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255680" y="924120"/>
            <a:ext cx="1805040" cy="491760"/>
          </a:xfrm>
          <a:prstGeom prst="flowChartDecision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pošljav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564560" y="1693080"/>
            <a:ext cx="167112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ukovođe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209520" y="1833480"/>
            <a:ext cx="909720" cy="331920"/>
            <a:chOff x="209520" y="1833480"/>
            <a:chExt cx="909720" cy="331920"/>
          </a:xfrm>
        </p:grpSpPr>
        <p:sp>
          <p:nvSpPr>
            <p:cNvPr id="636" name=""/>
            <p:cNvSpPr/>
            <p:nvPr/>
          </p:nvSpPr>
          <p:spPr>
            <a:xfrm>
              <a:off x="209520" y="1833480"/>
              <a:ext cx="909720" cy="331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71080" y="1877040"/>
              <a:ext cx="786600" cy="246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Ispl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8" name=""/>
          <p:cNvCxnSpPr>
            <a:stCxn id="634" idx="3"/>
            <a:endCxn id="631" idx="1"/>
          </p:cNvCxnSpPr>
          <p:nvPr/>
        </p:nvCxnSpPr>
        <p:spPr>
          <a:xfrm>
            <a:off x="882360" y="1233360"/>
            <a:ext cx="770760" cy="705240"/>
          </a:xfrm>
          <a:prstGeom prst="curvedConnector5">
            <a:avLst>
              <a:gd name="adj1" fmla="val 73598"/>
              <a:gd name="adj2" fmla="val 50000"/>
              <a:gd name="adj3" fmla="val 735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9" name=""/>
          <p:cNvCxnSpPr>
            <a:stCxn id="634" idx="3"/>
            <a:endCxn id="629" idx="1"/>
          </p:cNvCxnSpPr>
          <p:nvPr/>
        </p:nvCxnSpPr>
        <p:spPr>
          <a:xfrm flipV="1">
            <a:off x="882720" y="1169640"/>
            <a:ext cx="373680" cy="64080"/>
          </a:xfrm>
          <a:prstGeom prst="curvedConnector5">
            <a:avLst>
              <a:gd name="adj1" fmla="val 49758"/>
              <a:gd name="adj2" fmla="val 49717"/>
              <a:gd name="adj3" fmla="val 497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0" name=""/>
          <p:cNvCxnSpPr>
            <a:stCxn id="634" idx="2"/>
            <a:endCxn id="637" idx="0"/>
          </p:cNvCxnSpPr>
          <p:nvPr/>
        </p:nvCxnSpPr>
        <p:spPr>
          <a:xfrm flipH="1" rot="16200000">
            <a:off x="382680" y="1591200"/>
            <a:ext cx="513360" cy="51480"/>
          </a:xfrm>
          <a:prstGeom prst="curvedConnector5">
            <a:avLst>
              <a:gd name="adj1" fmla="val 49824"/>
              <a:gd name="adj2" fmla="val 50000"/>
              <a:gd name="adj3" fmla="val 498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1" name=""/>
          <p:cNvSpPr/>
          <p:nvPr/>
        </p:nvSpPr>
        <p:spPr>
          <a:xfrm>
            <a:off x="184320" y="530280"/>
            <a:ext cx="698400" cy="1904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lb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36720" y="434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25680" y="71136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nim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730520" y="439560"/>
            <a:ext cx="698400" cy="190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Star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430440" y="711360"/>
            <a:ext cx="69876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94120" y="1671480"/>
            <a:ext cx="698400" cy="190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if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7" name=""/>
          <p:cNvCxnSpPr>
            <a:stCxn id="627" idx="3"/>
            <a:endCxn id="645" idx="3"/>
          </p:cNvCxnSpPr>
          <p:nvPr/>
        </p:nvCxnSpPr>
        <p:spPr>
          <a:xfrm flipV="1">
            <a:off x="3790800" y="806040"/>
            <a:ext cx="339120" cy="713520"/>
          </a:xfrm>
          <a:prstGeom prst="curvedConnector5">
            <a:avLst>
              <a:gd name="adj1" fmla="val 88629"/>
              <a:gd name="adj2" fmla="val 49974"/>
              <a:gd name="adj3" fmla="val 8862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8" name=""/>
          <p:cNvCxnSpPr>
            <a:stCxn id="627" idx="3"/>
            <a:endCxn id="646" idx="0"/>
          </p:cNvCxnSpPr>
          <p:nvPr/>
        </p:nvCxnSpPr>
        <p:spPr>
          <a:xfrm>
            <a:off x="3790440" y="1518840"/>
            <a:ext cx="453240" cy="1530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49" name=""/>
          <p:cNvSpPr/>
          <p:nvPr/>
        </p:nvSpPr>
        <p:spPr>
          <a:xfrm>
            <a:off x="3133440" y="11779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149280" y="166680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509480" y="17017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139760" y="11415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"/>
          <p:cNvCxnSpPr>
            <a:stCxn id="641" idx="2"/>
            <a:endCxn id="634" idx="0"/>
          </p:cNvCxnSpPr>
          <p:nvPr/>
        </p:nvCxnSpPr>
        <p:spPr>
          <a:xfrm flipH="1" rot="16200000">
            <a:off x="379800" y="873000"/>
            <a:ext cx="386640" cy="81360"/>
          </a:xfrm>
          <a:prstGeom prst="curvedConnector5">
            <a:avLst>
              <a:gd name="adj1" fmla="val 49767"/>
              <a:gd name="adj2" fmla="val 49777"/>
              <a:gd name="adj3" fmla="val 4976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4" name=""/>
          <p:cNvCxnSpPr>
            <a:stCxn id="642" idx="2"/>
            <a:endCxn id="634" idx="0"/>
          </p:cNvCxnSpPr>
          <p:nvPr/>
        </p:nvCxnSpPr>
        <p:spPr>
          <a:xfrm rot="5400000">
            <a:off x="708840" y="529920"/>
            <a:ext cx="482040" cy="672120"/>
          </a:xfrm>
          <a:prstGeom prst="curvedConnector5">
            <a:avLst>
              <a:gd name="adj1" fmla="val 49775"/>
              <a:gd name="adj2" fmla="val 50000"/>
              <a:gd name="adj3" fmla="val 497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44" idx="2"/>
            <a:endCxn id="634" idx="0"/>
          </p:cNvCxnSpPr>
          <p:nvPr/>
        </p:nvCxnSpPr>
        <p:spPr>
          <a:xfrm rot="5400000">
            <a:off x="1108440" y="135720"/>
            <a:ext cx="477000" cy="146592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6" name=""/>
          <p:cNvCxnSpPr>
            <a:stCxn id="643" idx="1"/>
            <a:endCxn id="634" idx="0"/>
          </p:cNvCxnSpPr>
          <p:nvPr/>
        </p:nvCxnSpPr>
        <p:spPr>
          <a:xfrm flipV="1" rot="10800000">
            <a:off x="613800" y="806400"/>
            <a:ext cx="1811880" cy="3006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7" name=""/>
          <p:cNvSpPr/>
          <p:nvPr/>
        </p:nvSpPr>
        <p:spPr>
          <a:xfrm>
            <a:off x="293400" y="133668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09120" y="1343160"/>
            <a:ext cx="4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2960" y="15890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438200" y="2063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39800" y="15652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z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2" name=""/>
          <p:cNvCxnSpPr>
            <a:stCxn id="636" idx="3"/>
            <a:endCxn id="661" idx="2"/>
          </p:cNvCxnSpPr>
          <p:nvPr/>
        </p:nvCxnSpPr>
        <p:spPr>
          <a:xfrm flipH="1" flipV="1">
            <a:off x="1089000" y="1755360"/>
            <a:ext cx="30600" cy="244800"/>
          </a:xfrm>
          <a:prstGeom prst="curvedConnector5">
            <a:avLst>
              <a:gd name="adj1" fmla="val -766666"/>
              <a:gd name="adj2" fmla="val 42268"/>
              <a:gd name="adj3" fmla="val -7666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3" name=""/>
          <p:cNvCxnSpPr>
            <a:stCxn id="636" idx="3"/>
            <a:endCxn id="660" idx="1"/>
          </p:cNvCxnSpPr>
          <p:nvPr/>
        </p:nvCxnSpPr>
        <p:spPr>
          <a:xfrm>
            <a:off x="1119240" y="1999800"/>
            <a:ext cx="319680" cy="159480"/>
          </a:xfrm>
          <a:prstGeom prst="curvedConnector5">
            <a:avLst>
              <a:gd name="adj1" fmla="val 49718"/>
              <a:gd name="adj2" fmla="val 50000"/>
              <a:gd name="adj3" fmla="val 4971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64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665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616A7E9-8E57-4DCF-9DDA-A209CFEFE569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7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3240" y="3067200"/>
            <a:ext cx="91090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nalizirajući izvedeni objekat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etstavljen tabelom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može se zaključiti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a je jedno pojavljivanje ovoga tipa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bjekta agregacij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-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Jednog pojavljivanja nekih atributa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bjekta Odelen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(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IFOD i NAZIVOD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-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-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Jednog pojavljivanja preslikavanja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ZAPOŠLJAVA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: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ODELENJE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---&gt;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RADNIK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gde s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z kodomena RADNIK uzimaju samo neki atributi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(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MLB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MER i STAROST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)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 selektuju samo ona pojavljivanja koja zadovoljavaju uslov RADNIK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TAROST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&gt; 40.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Jedno pojavljivanje preslikavanja ZAPOŠLJAV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edstavlj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odklasu objekata RADNIK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(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kup pojavljivanja tipa objekta Radnik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326880"/>
            <a:ext cx="910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peracije izveštavanja formiraju izveden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(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ložen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)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bjekt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bjekte koji se mogu izvesti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z baznih objekata predstavljenih strukturom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MOV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a bismo jasnije objasnili operacije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formiranja izvedenih objekat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ikazaćemo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vo jedan primer takvog objekt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U tabeli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je prikazana struktura izvedenog objekta koji se dobija tako što se uz svaku šifru i naziv odelenja navode matični brojevi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mena i starost radnika starijih od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40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godina i srednja starost radnika po odelenju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BP–Modul3-NJ6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MOV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 Narrow"/>
              </a:rPr>
              <a:t>-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 Narrow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peracije i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š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a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936720" y="920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a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568520" y="1547640"/>
            <a:ext cx="82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0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074040" y="1380240"/>
            <a:ext cx="711000" cy="276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Odele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5" name=""/>
          <p:cNvCxnSpPr>
            <a:stCxn id="676" idx="3"/>
            <a:endCxn id="674" idx="0"/>
          </p:cNvCxnSpPr>
          <p:nvPr/>
        </p:nvCxnSpPr>
        <p:spPr>
          <a:xfrm>
            <a:off x="3060360" y="1169640"/>
            <a:ext cx="37044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7" name=""/>
          <p:cNvCxnSpPr>
            <a:stCxn id="674" idx="2"/>
            <a:endCxn id="678" idx="3"/>
          </p:cNvCxnSpPr>
          <p:nvPr/>
        </p:nvCxnSpPr>
        <p:spPr>
          <a:xfrm rot="5400000">
            <a:off x="3148920" y="1657440"/>
            <a:ext cx="278280" cy="284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9" name=""/>
          <p:cNvSpPr/>
          <p:nvPr/>
        </p:nvSpPr>
        <p:spPr>
          <a:xfrm>
            <a:off x="2966040" y="94140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Zapošljava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33760" y="2000160"/>
            <a:ext cx="97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đeno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49560" y="1110240"/>
            <a:ext cx="528120" cy="246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ad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255680" y="924120"/>
            <a:ext cx="180504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pošljav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564560" y="1693080"/>
            <a:ext cx="167112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ukovođe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209520" y="1833480"/>
            <a:ext cx="909720" cy="331920"/>
            <a:chOff x="209520" y="1833480"/>
            <a:chExt cx="909720" cy="331920"/>
          </a:xfrm>
        </p:grpSpPr>
        <p:sp>
          <p:nvSpPr>
            <p:cNvPr id="683" name=""/>
            <p:cNvSpPr/>
            <p:nvPr/>
          </p:nvSpPr>
          <p:spPr>
            <a:xfrm>
              <a:off x="209520" y="1833480"/>
              <a:ext cx="909720" cy="331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71080" y="1877040"/>
              <a:ext cx="786600" cy="246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Ispl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85" name=""/>
          <p:cNvCxnSpPr>
            <a:stCxn id="681" idx="3"/>
            <a:endCxn id="678" idx="1"/>
          </p:cNvCxnSpPr>
          <p:nvPr/>
        </p:nvCxnSpPr>
        <p:spPr>
          <a:xfrm>
            <a:off x="882360" y="1233360"/>
            <a:ext cx="770760" cy="705240"/>
          </a:xfrm>
          <a:prstGeom prst="curvedConnector5">
            <a:avLst>
              <a:gd name="adj1" fmla="val 73598"/>
              <a:gd name="adj2" fmla="val 50000"/>
              <a:gd name="adj3" fmla="val 735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6" name=""/>
          <p:cNvCxnSpPr>
            <a:stCxn id="681" idx="3"/>
            <a:endCxn id="676" idx="1"/>
          </p:cNvCxnSpPr>
          <p:nvPr/>
        </p:nvCxnSpPr>
        <p:spPr>
          <a:xfrm flipV="1">
            <a:off x="882720" y="1169640"/>
            <a:ext cx="373680" cy="64080"/>
          </a:xfrm>
          <a:prstGeom prst="curvedConnector5">
            <a:avLst>
              <a:gd name="adj1" fmla="val 49758"/>
              <a:gd name="adj2" fmla="val 49717"/>
              <a:gd name="adj3" fmla="val 497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7" name=""/>
          <p:cNvCxnSpPr>
            <a:stCxn id="681" idx="2"/>
            <a:endCxn id="684" idx="0"/>
          </p:cNvCxnSpPr>
          <p:nvPr/>
        </p:nvCxnSpPr>
        <p:spPr>
          <a:xfrm flipH="1" rot="16200000">
            <a:off x="382680" y="1591200"/>
            <a:ext cx="513360" cy="51480"/>
          </a:xfrm>
          <a:prstGeom prst="curvedConnector5">
            <a:avLst>
              <a:gd name="adj1" fmla="val 49824"/>
              <a:gd name="adj2" fmla="val 50000"/>
              <a:gd name="adj3" fmla="val 498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8" name=""/>
          <p:cNvSpPr/>
          <p:nvPr/>
        </p:nvSpPr>
        <p:spPr>
          <a:xfrm>
            <a:off x="184320" y="5302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lb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936720" y="434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425680" y="71136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nim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730520" y="439560"/>
            <a:ext cx="698400" cy="190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Star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430440" y="711360"/>
            <a:ext cx="69876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494160" y="1873080"/>
            <a:ext cx="698400" cy="190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if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74" idx="3"/>
            <a:endCxn id="692" idx="3"/>
          </p:cNvCxnSpPr>
          <p:nvPr/>
        </p:nvCxnSpPr>
        <p:spPr>
          <a:xfrm flipV="1">
            <a:off x="3790800" y="806040"/>
            <a:ext cx="339120" cy="713520"/>
          </a:xfrm>
          <a:prstGeom prst="curvedConnector5">
            <a:avLst>
              <a:gd name="adj1" fmla="val 88629"/>
              <a:gd name="adj2" fmla="val 49974"/>
              <a:gd name="adj3" fmla="val 8862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5" name=""/>
          <p:cNvCxnSpPr>
            <a:stCxn id="674" idx="3"/>
            <a:endCxn id="693" idx="0"/>
          </p:cNvCxnSpPr>
          <p:nvPr/>
        </p:nvCxnSpPr>
        <p:spPr>
          <a:xfrm>
            <a:off x="3790800" y="1518840"/>
            <a:ext cx="53280" cy="3546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6" name=""/>
          <p:cNvSpPr/>
          <p:nvPr/>
        </p:nvSpPr>
        <p:spPr>
          <a:xfrm>
            <a:off x="3133440" y="11779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49280" y="166680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509480" y="17017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139760" y="11415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0" name=""/>
          <p:cNvCxnSpPr>
            <a:stCxn id="688" idx="2"/>
            <a:endCxn id="681" idx="0"/>
          </p:cNvCxnSpPr>
          <p:nvPr/>
        </p:nvCxnSpPr>
        <p:spPr>
          <a:xfrm flipH="1" rot="16200000">
            <a:off x="379800" y="873000"/>
            <a:ext cx="386640" cy="81360"/>
          </a:xfrm>
          <a:prstGeom prst="curvedConnector5">
            <a:avLst>
              <a:gd name="adj1" fmla="val 49767"/>
              <a:gd name="adj2" fmla="val 49777"/>
              <a:gd name="adj3" fmla="val 4976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1" name=""/>
          <p:cNvCxnSpPr>
            <a:stCxn id="689" idx="2"/>
            <a:endCxn id="681" idx="0"/>
          </p:cNvCxnSpPr>
          <p:nvPr/>
        </p:nvCxnSpPr>
        <p:spPr>
          <a:xfrm rot="5400000">
            <a:off x="708840" y="529920"/>
            <a:ext cx="482040" cy="672120"/>
          </a:xfrm>
          <a:prstGeom prst="curvedConnector5">
            <a:avLst>
              <a:gd name="adj1" fmla="val 49775"/>
              <a:gd name="adj2" fmla="val 50000"/>
              <a:gd name="adj3" fmla="val 497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2" name=""/>
          <p:cNvCxnSpPr>
            <a:stCxn id="691" idx="2"/>
            <a:endCxn id="681" idx="0"/>
          </p:cNvCxnSpPr>
          <p:nvPr/>
        </p:nvCxnSpPr>
        <p:spPr>
          <a:xfrm rot="5400000">
            <a:off x="1108440" y="135720"/>
            <a:ext cx="477000" cy="146592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3" name=""/>
          <p:cNvCxnSpPr>
            <a:stCxn id="690" idx="1"/>
            <a:endCxn id="681" idx="0"/>
          </p:cNvCxnSpPr>
          <p:nvPr/>
        </p:nvCxnSpPr>
        <p:spPr>
          <a:xfrm flipV="1" rot="10800000">
            <a:off x="613800" y="806400"/>
            <a:ext cx="1811880" cy="3006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04" name=""/>
          <p:cNvSpPr/>
          <p:nvPr/>
        </p:nvSpPr>
        <p:spPr>
          <a:xfrm>
            <a:off x="293400" y="133668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09120" y="1343160"/>
            <a:ext cx="4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72960" y="15890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438200" y="2063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39800" y="15652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z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9" name=""/>
          <p:cNvCxnSpPr>
            <a:stCxn id="683" idx="3"/>
            <a:endCxn id="708" idx="2"/>
          </p:cNvCxnSpPr>
          <p:nvPr/>
        </p:nvCxnSpPr>
        <p:spPr>
          <a:xfrm flipH="1" flipV="1">
            <a:off x="1089000" y="1755360"/>
            <a:ext cx="30600" cy="244800"/>
          </a:xfrm>
          <a:prstGeom prst="curvedConnector5">
            <a:avLst>
              <a:gd name="adj1" fmla="val -766666"/>
              <a:gd name="adj2" fmla="val 42268"/>
              <a:gd name="adj3" fmla="val -7666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0" name=""/>
          <p:cNvCxnSpPr>
            <a:stCxn id="683" idx="3"/>
            <a:endCxn id="707" idx="1"/>
          </p:cNvCxnSpPr>
          <p:nvPr/>
        </p:nvCxnSpPr>
        <p:spPr>
          <a:xfrm>
            <a:off x="1119240" y="1999800"/>
            <a:ext cx="319680" cy="159480"/>
          </a:xfrm>
          <a:prstGeom prst="curvedConnector5">
            <a:avLst>
              <a:gd name="adj1" fmla="val 49718"/>
              <a:gd name="adj2" fmla="val 50000"/>
              <a:gd name="adj3" fmla="val 49718"/>
            </a:avLst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711" name=""/>
          <p:cNvGraphicFramePr/>
          <p:nvPr/>
        </p:nvGraphicFramePr>
        <p:xfrm>
          <a:off x="209520" y="3124080"/>
          <a:ext cx="4529160" cy="2398680"/>
        </p:xfrm>
        <a:graphic>
          <a:graphicData uri="http://schemas.openxmlformats.org/drawingml/2006/table">
            <a:tbl>
              <a:tblPr/>
              <a:tblGrid>
                <a:gridCol w="622440"/>
                <a:gridCol w="880920"/>
                <a:gridCol w="847800"/>
                <a:gridCol w="665280"/>
                <a:gridCol w="680760"/>
                <a:gridCol w="83196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dele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adni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Šif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ziv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r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_Star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azv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0394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n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40293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Zora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1193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r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abavk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610937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r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709227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R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12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713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342A60C-46D4-497C-93E0-3F5941214B31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5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34920" y="2244600"/>
            <a:ext cx="9109080" cy="46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-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zvedenog atributa SREDNJ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_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TARO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19080" algn="just">
              <a:lnSpc>
                <a:spcPct val="100000"/>
              </a:lnSpc>
              <a:buClr>
                <a:srgbClr val="000099"/>
              </a:buClr>
              <a:buFont typeface="Arial Narrow"/>
              <a:buChar char="-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oji se dobija kao vrednost neke funk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19080" algn="just">
              <a:lnSpc>
                <a:spcPct val="100000"/>
              </a:lnSpc>
              <a:buClr>
                <a:srgbClr val="000099"/>
              </a:buClr>
              <a:buFont typeface="Arial Narrow"/>
              <a:buChar char="-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d atributima posmatranog model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(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 ovom slučaju kao srednja vrednost atributa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        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TAROST za radnike iz jednog odelenj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tarije od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40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godin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).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vaj izvedeni objekat se može dobiti sledećim izrazom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    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x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: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ODELENJE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,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y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: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x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ZAPOŠL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SELEKTUJ x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SIFOD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,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x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NAZIVOD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                          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(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SELEKTUJ y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MLB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,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y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IMER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,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y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STAROST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                                         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GDE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JE y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STAROST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&gt; 40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                           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(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SELEKTUJ AVG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(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x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ZAPOŠLJAVA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,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STAROST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                                         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GDE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JE y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STAROST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&gt; 4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x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zima vrednost iz klase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ODELENJE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y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zima vrednost iz kodomena preslikavanja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ZAPOŠLJAVA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za datu vrednost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x</a:t>
            </a:r>
            <a:r>
              <a:rPr b="1" lang="en-U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 Narrow"/>
              </a:rPr>
              <a:t>.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skaz 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SELEKTUJ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definiše atribute od kojih se formira složeni objekat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skaz 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GDE</a:t>
            </a:r>
            <a:r>
              <a:rPr b="1" lang="en-U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JE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definiše uslov koji pojavljivanja objekata date klase treba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 rezultatu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a zadovolje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odrazumeva se da su sve promenljive u go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r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jem izrazu univerzalno kvantifikovane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dnosno da se navedeni uslovi ispituju za svaku vrednost objektne promenljive i da se one koje zadovoljavaju uslove pojavljuju u rezultatu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 gornjem primeru se takodje podrazumeva da je definisana funkcija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VG koja sračunava srednju vrednost date kolekcije vrednosti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BP–Modul3-NJ6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MOV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 Narrow"/>
              </a:rPr>
              <a:t>-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 Narrow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peracije i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š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a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936720" y="920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a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568520" y="1547640"/>
            <a:ext cx="82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0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74040" y="1380240"/>
            <a:ext cx="711000" cy="276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Odele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3" idx="3"/>
            <a:endCxn id="721" idx="0"/>
          </p:cNvCxnSpPr>
          <p:nvPr/>
        </p:nvCxnSpPr>
        <p:spPr>
          <a:xfrm>
            <a:off x="3060360" y="1169640"/>
            <a:ext cx="37044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4" name=""/>
          <p:cNvCxnSpPr>
            <a:stCxn id="721" idx="2"/>
            <a:endCxn id="725" idx="3"/>
          </p:cNvCxnSpPr>
          <p:nvPr/>
        </p:nvCxnSpPr>
        <p:spPr>
          <a:xfrm rot="5400000">
            <a:off x="3148920" y="1657440"/>
            <a:ext cx="278280" cy="284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26" name=""/>
          <p:cNvSpPr/>
          <p:nvPr/>
        </p:nvSpPr>
        <p:spPr>
          <a:xfrm>
            <a:off x="2966040" y="94140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Zapošljava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633760" y="2000160"/>
            <a:ext cx="97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đeno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49560" y="1110240"/>
            <a:ext cx="528120" cy="246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ad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255680" y="924120"/>
            <a:ext cx="180504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pošljav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564560" y="1693080"/>
            <a:ext cx="167112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ukovođe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09520" y="1833480"/>
            <a:ext cx="909720" cy="331920"/>
            <a:chOff x="209520" y="1833480"/>
            <a:chExt cx="909720" cy="331920"/>
          </a:xfrm>
        </p:grpSpPr>
        <p:sp>
          <p:nvSpPr>
            <p:cNvPr id="730" name=""/>
            <p:cNvSpPr/>
            <p:nvPr/>
          </p:nvSpPr>
          <p:spPr>
            <a:xfrm>
              <a:off x="209520" y="1833480"/>
              <a:ext cx="909720" cy="331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080" y="1877040"/>
              <a:ext cx="786600" cy="246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Ispl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2" name=""/>
          <p:cNvCxnSpPr>
            <a:stCxn id="728" idx="3"/>
            <a:endCxn id="725" idx="1"/>
          </p:cNvCxnSpPr>
          <p:nvPr/>
        </p:nvCxnSpPr>
        <p:spPr>
          <a:xfrm>
            <a:off x="882360" y="1233360"/>
            <a:ext cx="770760" cy="705240"/>
          </a:xfrm>
          <a:prstGeom prst="curvedConnector5">
            <a:avLst>
              <a:gd name="adj1" fmla="val 73598"/>
              <a:gd name="adj2" fmla="val 50000"/>
              <a:gd name="adj3" fmla="val 735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3" name=""/>
          <p:cNvCxnSpPr>
            <a:stCxn id="728" idx="3"/>
            <a:endCxn id="723" idx="1"/>
          </p:cNvCxnSpPr>
          <p:nvPr/>
        </p:nvCxnSpPr>
        <p:spPr>
          <a:xfrm flipV="1">
            <a:off x="882720" y="1169640"/>
            <a:ext cx="373680" cy="64080"/>
          </a:xfrm>
          <a:prstGeom prst="curvedConnector5">
            <a:avLst>
              <a:gd name="adj1" fmla="val 49758"/>
              <a:gd name="adj2" fmla="val 49717"/>
              <a:gd name="adj3" fmla="val 497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4" name=""/>
          <p:cNvCxnSpPr>
            <a:stCxn id="728" idx="2"/>
            <a:endCxn id="731" idx="0"/>
          </p:cNvCxnSpPr>
          <p:nvPr/>
        </p:nvCxnSpPr>
        <p:spPr>
          <a:xfrm flipH="1" rot="16200000">
            <a:off x="382680" y="1591200"/>
            <a:ext cx="513360" cy="51480"/>
          </a:xfrm>
          <a:prstGeom prst="curvedConnector5">
            <a:avLst>
              <a:gd name="adj1" fmla="val 49824"/>
              <a:gd name="adj2" fmla="val 50000"/>
              <a:gd name="adj3" fmla="val 498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5" name=""/>
          <p:cNvSpPr/>
          <p:nvPr/>
        </p:nvSpPr>
        <p:spPr>
          <a:xfrm>
            <a:off x="184320" y="5302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lb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936720" y="434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25680" y="71136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nim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730520" y="439560"/>
            <a:ext cx="698400" cy="190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Star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430440" y="711360"/>
            <a:ext cx="69876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494160" y="1873080"/>
            <a:ext cx="698400" cy="190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if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721" idx="3"/>
            <a:endCxn id="739" idx="3"/>
          </p:cNvCxnSpPr>
          <p:nvPr/>
        </p:nvCxnSpPr>
        <p:spPr>
          <a:xfrm flipV="1">
            <a:off x="3790800" y="806040"/>
            <a:ext cx="339120" cy="713520"/>
          </a:xfrm>
          <a:prstGeom prst="curvedConnector5">
            <a:avLst>
              <a:gd name="adj1" fmla="val 88629"/>
              <a:gd name="adj2" fmla="val 49974"/>
              <a:gd name="adj3" fmla="val 8862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"/>
          <p:cNvCxnSpPr>
            <a:stCxn id="721" idx="3"/>
            <a:endCxn id="740" idx="0"/>
          </p:cNvCxnSpPr>
          <p:nvPr/>
        </p:nvCxnSpPr>
        <p:spPr>
          <a:xfrm>
            <a:off x="3790800" y="1518840"/>
            <a:ext cx="53280" cy="3546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"/>
          <p:cNvSpPr/>
          <p:nvPr/>
        </p:nvSpPr>
        <p:spPr>
          <a:xfrm>
            <a:off x="3133440" y="11779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49280" y="166680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509480" y="17017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139760" y="11415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"/>
          <p:cNvCxnSpPr>
            <a:stCxn id="735" idx="2"/>
            <a:endCxn id="728" idx="0"/>
          </p:cNvCxnSpPr>
          <p:nvPr/>
        </p:nvCxnSpPr>
        <p:spPr>
          <a:xfrm flipH="1" rot="16200000">
            <a:off x="379800" y="873000"/>
            <a:ext cx="386640" cy="81360"/>
          </a:xfrm>
          <a:prstGeom prst="curvedConnector5">
            <a:avLst>
              <a:gd name="adj1" fmla="val 49767"/>
              <a:gd name="adj2" fmla="val 49777"/>
              <a:gd name="adj3" fmla="val 4976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8" name=""/>
          <p:cNvCxnSpPr>
            <a:stCxn id="736" idx="2"/>
            <a:endCxn id="728" idx="0"/>
          </p:cNvCxnSpPr>
          <p:nvPr/>
        </p:nvCxnSpPr>
        <p:spPr>
          <a:xfrm rot="5400000">
            <a:off x="708840" y="529920"/>
            <a:ext cx="482040" cy="672120"/>
          </a:xfrm>
          <a:prstGeom prst="curvedConnector5">
            <a:avLst>
              <a:gd name="adj1" fmla="val 49775"/>
              <a:gd name="adj2" fmla="val 50000"/>
              <a:gd name="adj3" fmla="val 497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9" name=""/>
          <p:cNvCxnSpPr>
            <a:stCxn id="738" idx="2"/>
            <a:endCxn id="728" idx="0"/>
          </p:cNvCxnSpPr>
          <p:nvPr/>
        </p:nvCxnSpPr>
        <p:spPr>
          <a:xfrm rot="5400000">
            <a:off x="1108440" y="135720"/>
            <a:ext cx="477000" cy="146592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0" name=""/>
          <p:cNvCxnSpPr>
            <a:stCxn id="737" idx="1"/>
            <a:endCxn id="728" idx="0"/>
          </p:cNvCxnSpPr>
          <p:nvPr/>
        </p:nvCxnSpPr>
        <p:spPr>
          <a:xfrm flipV="1" rot="10800000">
            <a:off x="613800" y="806400"/>
            <a:ext cx="1811880" cy="3006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293400" y="133668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9120" y="1343160"/>
            <a:ext cx="4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72960" y="15890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438200" y="2063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39800" y="15652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z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6" name=""/>
          <p:cNvCxnSpPr>
            <a:stCxn id="730" idx="3"/>
            <a:endCxn id="755" idx="2"/>
          </p:cNvCxnSpPr>
          <p:nvPr/>
        </p:nvCxnSpPr>
        <p:spPr>
          <a:xfrm flipH="1" flipV="1">
            <a:off x="1089000" y="1755360"/>
            <a:ext cx="30600" cy="244800"/>
          </a:xfrm>
          <a:prstGeom prst="curvedConnector5">
            <a:avLst>
              <a:gd name="adj1" fmla="val -766666"/>
              <a:gd name="adj2" fmla="val 42268"/>
              <a:gd name="adj3" fmla="val -7666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7" name=""/>
          <p:cNvCxnSpPr>
            <a:stCxn id="730" idx="3"/>
            <a:endCxn id="754" idx="1"/>
          </p:cNvCxnSpPr>
          <p:nvPr/>
        </p:nvCxnSpPr>
        <p:spPr>
          <a:xfrm>
            <a:off x="1119240" y="1999800"/>
            <a:ext cx="319680" cy="159480"/>
          </a:xfrm>
          <a:prstGeom prst="curvedConnector5">
            <a:avLst>
              <a:gd name="adj1" fmla="val 49718"/>
              <a:gd name="adj2" fmla="val 50000"/>
              <a:gd name="adj3" fmla="val 49718"/>
            </a:avLst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758" name=""/>
          <p:cNvGraphicFramePr/>
          <p:nvPr/>
        </p:nvGraphicFramePr>
        <p:xfrm>
          <a:off x="4424400" y="466560"/>
          <a:ext cx="4529160" cy="2395800"/>
        </p:xfrm>
        <a:graphic>
          <a:graphicData uri="http://schemas.openxmlformats.org/drawingml/2006/table">
            <a:tbl>
              <a:tblPr/>
              <a:tblGrid>
                <a:gridCol w="622440"/>
                <a:gridCol w="880920"/>
                <a:gridCol w="847800"/>
                <a:gridCol w="664920"/>
                <a:gridCol w="681120"/>
                <a:gridCol w="83196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dele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adni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Šif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ziv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r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_Star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azv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0394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n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40293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Zora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1193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r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abavk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610937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r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709227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R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59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760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7F28ABC-BCFD-421E-9F9F-F45CB01C2BBD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62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4920" y="330120"/>
            <a:ext cx="907416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187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 prethodnom delu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i uvodjenju i definisanju pojedinih koncepata strukture MOV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efinisana su i neka ograničenj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-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ardinalnost preslikavanja i ograničenja na vrednosti domen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Medjutim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ostoje i mnogo složenija semantička ograničenj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zajamni odnosi objekata i njihovih atribut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)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oje je nemoguće ili nepraktično prikazati strukturom MOV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a je neophodno definisati jezik za njihovu specifikaciju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187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187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lasifikacija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graničenja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e može uraditi na sledeći nač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187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trukturna ograničenj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graničenja na preslikavanj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187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rednosna ograničenj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graničenja na vrednosti atribut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187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187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ama struktura PMOV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dnosno dijagram objekti veze iskazuje ova ograničenj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 svakom DOV zadate su kardinalnosti preslikavanja za sve veze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eka od njih se ne upisuju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eć se podrazumevaju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ako je to diskutovano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sto tako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 obzirom na to da se koriste samo jednoznačni atributi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a svaki atribut mora biti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"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imenljivo svojstvo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"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za sva pojavljivanja posmatranog objekta i da su identifikatori objekata označeni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mplicitno su definisane kardinalnosti direktnog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tribut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)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 inverznog preslikavanja OBJEKAT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----&gt; 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OMEN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56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DFCA363-5D6C-44B6-B310-8A6428619ABE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8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6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graničenja, strukturna ogranič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34920" y="2228760"/>
            <a:ext cx="808668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Moguće je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zjednačiti imena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omenljivih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menima klase objekata i time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eskoči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efiniciju promenljivih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zraz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,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 tom slučaju bi bio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 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SELEKTUJ ODELENJE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SIFOD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,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ODELENJE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NAZIVOD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(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SELEKTUJ ODELJENJE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ZAPOŠLJAVA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MLB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,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ODELENJE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ZAPOŠLJAVA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IMER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    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ODELENJE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ZAPOŠLJAVA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STAROST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GDE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JE ODELENJE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ZAPOŠLJAVA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STAROST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&gt; 40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(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SELEKTUJ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AVG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(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ODELENJE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ZAPOŠLJAVA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,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STAROST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         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GDE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JE ODELENJE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ZAPOŠLJAVA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STAROST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&gt;40);</a:t>
            </a:r>
            <a:r>
              <a:rPr b="1" lang="en-US" sz="16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a bi se izbeglo stalno ponavljanje naziva klasa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uvodi se 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zraz 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SELEKTUJ</a:t>
            </a:r>
            <a:r>
              <a:rPr b="1" lang="sr-Latn-C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i deo 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IZ</a:t>
            </a:r>
            <a:r>
              <a:rPr b="1" lang="sr-Latn-CS" sz="1800" spc="-1" strike="noStrike">
                <a:solidFill>
                  <a:srgbClr val="cc3300"/>
                </a:solidFill>
                <a:latin typeface="Arial Narrow"/>
              </a:rPr>
              <a:t>.</a:t>
            </a:r>
            <a:r>
              <a:rPr b="1" lang="en-US" sz="1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SELEKTUJ SIFOD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,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NAZIVOD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(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SELEKTUJ MLB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,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IMER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,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STAROST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IZ ODELENJE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ZAPOŠLJAVA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                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GDE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JE STAROST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&gt;  40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    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(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SELEKTUJ AVG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(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STAROST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 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    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IZ ODELENJE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.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ZAPOŠL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    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   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        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GDE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_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JE STAROST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&gt;  4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 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IZ 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ODELENJE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BP–Modul3-NJ6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MOV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 Narrow"/>
              </a:rPr>
              <a:t>-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 Narrow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peracije i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š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a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936720" y="920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a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568520" y="1547640"/>
            <a:ext cx="82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di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0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074040" y="1380240"/>
            <a:ext cx="711000" cy="276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Odele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9" name=""/>
          <p:cNvCxnSpPr>
            <a:stCxn id="770" idx="3"/>
            <a:endCxn id="768" idx="0"/>
          </p:cNvCxnSpPr>
          <p:nvPr/>
        </p:nvCxnSpPr>
        <p:spPr>
          <a:xfrm>
            <a:off x="3060360" y="1169640"/>
            <a:ext cx="37044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1" name=""/>
          <p:cNvCxnSpPr>
            <a:stCxn id="768" idx="2"/>
            <a:endCxn id="772" idx="3"/>
          </p:cNvCxnSpPr>
          <p:nvPr/>
        </p:nvCxnSpPr>
        <p:spPr>
          <a:xfrm rot="5400000">
            <a:off x="3148920" y="1657440"/>
            <a:ext cx="278280" cy="284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73" name=""/>
          <p:cNvSpPr/>
          <p:nvPr/>
        </p:nvSpPr>
        <p:spPr>
          <a:xfrm>
            <a:off x="2966040" y="94140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Zapošljava(0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633760" y="2000160"/>
            <a:ext cx="97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Rukovođeno(1,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49560" y="1110240"/>
            <a:ext cx="528120" cy="246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ad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255680" y="924120"/>
            <a:ext cx="180504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pošljav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64560" y="1693080"/>
            <a:ext cx="1671120" cy="4917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Rukovođe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209520" y="1833480"/>
            <a:ext cx="909720" cy="331920"/>
            <a:chOff x="209520" y="1833480"/>
            <a:chExt cx="909720" cy="331920"/>
          </a:xfrm>
        </p:grpSpPr>
        <p:sp>
          <p:nvSpPr>
            <p:cNvPr id="777" name=""/>
            <p:cNvSpPr/>
            <p:nvPr/>
          </p:nvSpPr>
          <p:spPr>
            <a:xfrm>
              <a:off x="209520" y="1833480"/>
              <a:ext cx="909720" cy="331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1080" y="1877040"/>
              <a:ext cx="786600" cy="246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Ispl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79" name=""/>
          <p:cNvCxnSpPr>
            <a:stCxn id="775" idx="3"/>
            <a:endCxn id="772" idx="1"/>
          </p:cNvCxnSpPr>
          <p:nvPr/>
        </p:nvCxnSpPr>
        <p:spPr>
          <a:xfrm>
            <a:off x="882360" y="1233360"/>
            <a:ext cx="770760" cy="705240"/>
          </a:xfrm>
          <a:prstGeom prst="curvedConnector5">
            <a:avLst>
              <a:gd name="adj1" fmla="val 73598"/>
              <a:gd name="adj2" fmla="val 50000"/>
              <a:gd name="adj3" fmla="val 735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0" name=""/>
          <p:cNvCxnSpPr>
            <a:stCxn id="775" idx="3"/>
            <a:endCxn id="770" idx="1"/>
          </p:cNvCxnSpPr>
          <p:nvPr/>
        </p:nvCxnSpPr>
        <p:spPr>
          <a:xfrm flipV="1">
            <a:off x="882720" y="1169640"/>
            <a:ext cx="373680" cy="64080"/>
          </a:xfrm>
          <a:prstGeom prst="curvedConnector5">
            <a:avLst>
              <a:gd name="adj1" fmla="val 49758"/>
              <a:gd name="adj2" fmla="val 49717"/>
              <a:gd name="adj3" fmla="val 497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1" name=""/>
          <p:cNvCxnSpPr>
            <a:stCxn id="775" idx="2"/>
            <a:endCxn id="778" idx="0"/>
          </p:cNvCxnSpPr>
          <p:nvPr/>
        </p:nvCxnSpPr>
        <p:spPr>
          <a:xfrm flipH="1" rot="16200000">
            <a:off x="382680" y="1591200"/>
            <a:ext cx="513360" cy="51480"/>
          </a:xfrm>
          <a:prstGeom prst="curvedConnector5">
            <a:avLst>
              <a:gd name="adj1" fmla="val 49824"/>
              <a:gd name="adj2" fmla="val 50000"/>
              <a:gd name="adj3" fmla="val 498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2" name=""/>
          <p:cNvSpPr/>
          <p:nvPr/>
        </p:nvSpPr>
        <p:spPr>
          <a:xfrm>
            <a:off x="184320" y="5302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Mlb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936720" y="434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425680" y="71136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Zanim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730520" y="439560"/>
            <a:ext cx="698400" cy="190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Star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430440" y="711360"/>
            <a:ext cx="69876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Naz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494160" y="1873080"/>
            <a:ext cx="698400" cy="190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Šif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"/>
          <p:cNvCxnSpPr>
            <a:stCxn id="768" idx="3"/>
            <a:endCxn id="786" idx="3"/>
          </p:cNvCxnSpPr>
          <p:nvPr/>
        </p:nvCxnSpPr>
        <p:spPr>
          <a:xfrm flipV="1">
            <a:off x="3790800" y="806040"/>
            <a:ext cx="339120" cy="713520"/>
          </a:xfrm>
          <a:prstGeom prst="curvedConnector5">
            <a:avLst>
              <a:gd name="adj1" fmla="val 88629"/>
              <a:gd name="adj2" fmla="val 49974"/>
              <a:gd name="adj3" fmla="val 8862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9" name=""/>
          <p:cNvCxnSpPr>
            <a:stCxn id="768" idx="3"/>
            <a:endCxn id="787" idx="0"/>
          </p:cNvCxnSpPr>
          <p:nvPr/>
        </p:nvCxnSpPr>
        <p:spPr>
          <a:xfrm>
            <a:off x="3790800" y="1518840"/>
            <a:ext cx="53280" cy="3546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0" name=""/>
          <p:cNvSpPr/>
          <p:nvPr/>
        </p:nvSpPr>
        <p:spPr>
          <a:xfrm>
            <a:off x="3133440" y="11779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149280" y="166680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09480" y="17017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139760" y="11415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4" name=""/>
          <p:cNvCxnSpPr>
            <a:stCxn id="782" idx="2"/>
            <a:endCxn id="775" idx="0"/>
          </p:cNvCxnSpPr>
          <p:nvPr/>
        </p:nvCxnSpPr>
        <p:spPr>
          <a:xfrm flipH="1" rot="16200000">
            <a:off x="379800" y="873000"/>
            <a:ext cx="386640" cy="81360"/>
          </a:xfrm>
          <a:prstGeom prst="curvedConnector5">
            <a:avLst>
              <a:gd name="adj1" fmla="val 49767"/>
              <a:gd name="adj2" fmla="val 49777"/>
              <a:gd name="adj3" fmla="val 4976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5" name=""/>
          <p:cNvCxnSpPr>
            <a:stCxn id="783" idx="2"/>
            <a:endCxn id="775" idx="0"/>
          </p:cNvCxnSpPr>
          <p:nvPr/>
        </p:nvCxnSpPr>
        <p:spPr>
          <a:xfrm rot="5400000">
            <a:off x="708840" y="529920"/>
            <a:ext cx="482040" cy="672120"/>
          </a:xfrm>
          <a:prstGeom prst="curvedConnector5">
            <a:avLst>
              <a:gd name="adj1" fmla="val 49775"/>
              <a:gd name="adj2" fmla="val 50000"/>
              <a:gd name="adj3" fmla="val 497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6" name=""/>
          <p:cNvCxnSpPr>
            <a:stCxn id="785" idx="2"/>
            <a:endCxn id="775" idx="0"/>
          </p:cNvCxnSpPr>
          <p:nvPr/>
        </p:nvCxnSpPr>
        <p:spPr>
          <a:xfrm rot="5400000">
            <a:off x="1108440" y="135720"/>
            <a:ext cx="477000" cy="146592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7" name=""/>
          <p:cNvCxnSpPr>
            <a:stCxn id="784" idx="1"/>
            <a:endCxn id="775" idx="0"/>
          </p:cNvCxnSpPr>
          <p:nvPr/>
        </p:nvCxnSpPr>
        <p:spPr>
          <a:xfrm flipV="1" rot="10800000">
            <a:off x="613800" y="806400"/>
            <a:ext cx="1811880" cy="3006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8" name=""/>
          <p:cNvSpPr/>
          <p:nvPr/>
        </p:nvSpPr>
        <p:spPr>
          <a:xfrm>
            <a:off x="293400" y="133668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09120" y="1343160"/>
            <a:ext cx="4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72960" y="15890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 Narrow"/>
              </a:rPr>
              <a:t>,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438200" y="20638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39800" y="1565280"/>
            <a:ext cx="69840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z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3" name=""/>
          <p:cNvCxnSpPr>
            <a:stCxn id="777" idx="3"/>
            <a:endCxn id="802" idx="2"/>
          </p:cNvCxnSpPr>
          <p:nvPr/>
        </p:nvCxnSpPr>
        <p:spPr>
          <a:xfrm flipH="1" flipV="1">
            <a:off x="1089000" y="1755360"/>
            <a:ext cx="30600" cy="244800"/>
          </a:xfrm>
          <a:prstGeom prst="curvedConnector5">
            <a:avLst>
              <a:gd name="adj1" fmla="val -766666"/>
              <a:gd name="adj2" fmla="val 42268"/>
              <a:gd name="adj3" fmla="val -7666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4" name=""/>
          <p:cNvCxnSpPr>
            <a:stCxn id="777" idx="3"/>
            <a:endCxn id="801" idx="1"/>
          </p:cNvCxnSpPr>
          <p:nvPr/>
        </p:nvCxnSpPr>
        <p:spPr>
          <a:xfrm>
            <a:off x="1119240" y="1999800"/>
            <a:ext cx="319680" cy="159480"/>
          </a:xfrm>
          <a:prstGeom prst="curvedConnector5">
            <a:avLst>
              <a:gd name="adj1" fmla="val 49718"/>
              <a:gd name="adj2" fmla="val 50000"/>
              <a:gd name="adj3" fmla="val 49718"/>
            </a:avLst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805" name=""/>
          <p:cNvGraphicFramePr/>
          <p:nvPr/>
        </p:nvGraphicFramePr>
        <p:xfrm>
          <a:off x="4424400" y="466560"/>
          <a:ext cx="4529160" cy="2395800"/>
        </p:xfrm>
        <a:graphic>
          <a:graphicData uri="http://schemas.openxmlformats.org/drawingml/2006/table">
            <a:tbl>
              <a:tblPr/>
              <a:tblGrid>
                <a:gridCol w="622440"/>
                <a:gridCol w="880920"/>
                <a:gridCol w="847800"/>
                <a:gridCol w="664920"/>
                <a:gridCol w="681120"/>
                <a:gridCol w="83196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dele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adni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Šif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ziv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r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_Star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azv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0394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n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40293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Zora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1193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r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abavk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610937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r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709227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R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6" name=""/>
          <p:cNvSpPr/>
          <p:nvPr/>
        </p:nvSpPr>
        <p:spPr>
          <a:xfrm>
            <a:off x="3322800" y="4871880"/>
            <a:ext cx="58053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1800" spc="-1" strike="noStrike">
                <a:solidFill>
                  <a:srgbClr val="008000"/>
                </a:solidFill>
                <a:latin typeface="Arial Narrow"/>
              </a:rPr>
              <a:t>	</a:t>
            </a:r>
            <a:r>
              <a:rPr b="1" lang="sr-Latn-CS" sz="1800" spc="-1" strike="noStrike">
                <a:solidFill>
                  <a:srgbClr val="008000"/>
                </a:solidFill>
                <a:latin typeface="Arial Narrow"/>
              </a:rPr>
              <a:t>Ovakav</a:t>
            </a:r>
            <a:r>
              <a:rPr b="1" lang="sr-Latn-CS" sz="18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 način iskazivanja izvedenog objekta najsličniji </a:t>
            </a:r>
            <a:r>
              <a:rPr b="1" lang="sr-Latn-CS" sz="1800" spc="-1" strike="noStrike">
                <a:solidFill>
                  <a:srgbClr val="008000"/>
                </a:solidFill>
                <a:latin typeface="Arial Narrow"/>
              </a:rPr>
              <a:t>je </a:t>
            </a:r>
            <a:r>
              <a:rPr b="1" lang="sr-Latn-CS" sz="18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standardnom relacionom upitnom jeziku SQL</a:t>
            </a:r>
            <a:r>
              <a:rPr b="1" lang="en-US" sz="18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, </a:t>
            </a:r>
            <a:r>
              <a:rPr b="1" lang="sr-Latn-CS" sz="18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on se preporučuje za korišćenje i nadalje će se</a:t>
            </a:r>
            <a:r>
              <a:rPr b="1" lang="en-US" sz="18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, </a:t>
            </a:r>
            <a:r>
              <a:rPr b="1" lang="sr-Latn-CS" sz="18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uglavnom</a:t>
            </a:r>
            <a:r>
              <a:rPr b="1" lang="en-US" sz="18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, </a:t>
            </a:r>
            <a:r>
              <a:rPr b="1" lang="sr-Latn-CS" sz="18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koristiti</a:t>
            </a:r>
            <a:r>
              <a:rPr b="1" lang="en-US" sz="18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. </a:t>
            </a:r>
            <a:r>
              <a:rPr b="1" lang="sr-Latn-CS" sz="1800" spc="-1" strike="noStrike">
                <a:solidFill>
                  <a:srgbClr val="008000"/>
                </a:solidFill>
                <a:latin typeface="Arial Narrow"/>
              </a:rPr>
              <a:t>O</a:t>
            </a:r>
            <a:r>
              <a:rPr b="1" lang="sr-Latn-CS" sz="18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moguć</a:t>
            </a:r>
            <a:r>
              <a:rPr b="1" lang="sr-Latn-CS" sz="1800" spc="-1" strike="noStrike">
                <a:solidFill>
                  <a:srgbClr val="008000"/>
                </a:solidFill>
                <a:latin typeface="Arial Narrow"/>
              </a:rPr>
              <a:t>ava</a:t>
            </a:r>
            <a:r>
              <a:rPr b="1" lang="sr-Latn-CS" sz="18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 da se i neke druge konvencije i mogućnosti koje postoje u SQL</a:t>
            </a:r>
            <a:r>
              <a:rPr b="1" lang="en-US" sz="18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-</a:t>
            </a:r>
            <a:r>
              <a:rPr b="1" lang="sr-Latn-CS" sz="18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u uvedu </a:t>
            </a:r>
            <a:r>
              <a:rPr b="1" lang="sr-Latn-CS" sz="1800" spc="-1" strike="noStrike">
                <a:solidFill>
                  <a:srgbClr val="008000"/>
                </a:solidFill>
                <a:latin typeface="Arial Narrow"/>
              </a:rPr>
              <a:t>bez </a:t>
            </a:r>
            <a:r>
              <a:rPr b="1" lang="sr-Latn-CS" sz="18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dodatnog objašnjenja</a:t>
            </a:r>
            <a:r>
              <a:rPr b="1" lang="en-US" sz="18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. (* </a:t>
            </a:r>
            <a:r>
              <a:rPr b="1" lang="sr-Latn-CS" sz="1800" spc="-1" strike="noStrike">
                <a:solidFill>
                  <a:srgbClr val="008000"/>
                </a:solidFill>
                <a:latin typeface="Arial Narrow"/>
              </a:rPr>
              <a:t>Označva</a:t>
            </a:r>
            <a:r>
              <a:rPr b="1" lang="sr-Latn-CS" sz="18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 da se preuzimaju svi atributi neke klase objekata</a:t>
            </a:r>
            <a:r>
              <a:rPr b="1" lang="en-US" sz="18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808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522EAAF-8FDB-4A4E-AA54-54461C75C5E4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10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008080"/>
            <a:ext cx="907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187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ored ovih ograničenj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 redjim slučajevima je potrebno definisati i ograničenje tip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"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redosled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" 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za preslikavanja čija je gornja granica kardinalnosti GG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&gt; 1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oje definiše zahtevani redosled povezivanja pojavljivanja objekta kodomena preslikavanja sa datim pojavljivanjem objekta domena preslikavanj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187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63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E5B058C-5966-421B-ACDA-C8E159911C5A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6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graničenja, strukturna ogranič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4920" y="330120"/>
            <a:ext cx="907416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Vrednosna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ograničenj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ograničenja n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vrednost atributa) defin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š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u do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z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voljene vrednosti atributa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i dozvoljene promene ovih vrednosti. U vrednosna ograničenja spadaju ograničenja na pojedinačne vrednosti atributa, koja se nazivaju Prosta vrednosna ograničenja. Međutim postoje i složena vrednosna ograničenja  koja vezuju vrednosti različitih atributa u specifičnim pojavljivanjima objekata različitih kl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800" spc="-1" strike="noStrike">
                <a:solidFill>
                  <a:srgbClr val="000099"/>
                </a:solidFill>
                <a:latin typeface="Arial"/>
                <a:ea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Arial"/>
              </a:rPr>
              <a:t>Prim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Student petog semestra mora da ima položen predmet Matematika I. Ovo je primer “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Arial"/>
              </a:rPr>
              <a:t>ograničenja stanj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800" spc="-1" strike="noStrike">
                <a:solidFill>
                  <a:srgbClr val="000099"/>
                </a:solidFill>
                <a:latin typeface="Arial"/>
                <a:ea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Pod ograničenjem stanja podrazumevaju se dozvoljena stanja, odnosno dozvoljene vrednosti atributa i preslikavanja u jednom MOV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70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ED5E20A-56D2-4BB3-9C27-2D5385C56C0C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6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graničenja, vrednosna ograničenja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4920" y="330120"/>
            <a:ext cx="907416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Međutim mogu se definisati i “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Arial"/>
              </a:rPr>
              <a:t>ograničenja prelaza stanj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” koja definišu moguće promene datog stanja sistema, odnosno datih vrednosti atribu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800" spc="-1" strike="noStrike">
                <a:solidFill>
                  <a:srgbClr val="000099"/>
                </a:solidFill>
                <a:latin typeface="Arial"/>
                <a:ea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Arial"/>
              </a:rPr>
              <a:t>Primer: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Ocena pri ponavljanju ispita ne može pada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Moguće je definisati formalni jezik za iskazivanje vrednosnih ograničenja, mada se u praksi ova ograničenja iskazuju prirodnim jezikom, eventualno struktuiranim preko nekih jednostavnih pravil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Arial"/>
                <a:ea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Mada se u osnovi zadaju na isti način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iz praktičnih razloga je pogodno ovu klasu ograničenj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podeliti na dve podklas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buClr>
                <a:srgbClr val="000099"/>
              </a:buClr>
              <a:buFont typeface="Arial"/>
              <a:buAutoNum type="arabicPeriod"/>
              <a:tabLst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Ograničenja na domene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buClr>
                <a:srgbClr val="000099"/>
              </a:buClr>
              <a:buFont typeface="Arial"/>
              <a:buAutoNum type="arabicPeriod"/>
              <a:tabLst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medjuzavisnosti atribut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Ograničenja na domene se jednostavno iskazuju i daju se uz definiciju domena kako je to ranije pokazan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Za iskazivanje medjuzavisnosti atributa koriste se formul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"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objektnog račun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"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predikatskog računa prvog reda u kome su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promenljive objekti u sistemu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77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FEB5354-E9DD-463A-A248-BA4BF273E5A1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6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graničenja, vrednosna ograničenja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4920" y="330120"/>
            <a:ext cx="9074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Osnovni pojmovi predikatskog računa su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firmativna rečenic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oja ima smisla i koja je istinita ili neistinita naziva se sud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firmativna rečenica koja ima smisla i koja sadrži jedan ili više promenljivih parametara i koja postaje sud uvek kada parametri iz rečenice dobiju konkretnu vrednost naziva se predikat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Broj parametara u predikatu se naziva dužina predikat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Na primer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Arial"/>
              </a:rPr>
              <a:t>x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2 +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Arial"/>
              </a:rPr>
              <a:t>y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2 &lt;= 1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je primer predikata dužin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84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8A6EEC0-9BF3-49A8-84F6-05DB5927D797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6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6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graničenja, vrednosna ograničenja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920" y="330120"/>
            <a:ext cx="907416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Za iskazivanje vrenosnih ograničenja koriste se formule tzv.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Objektnog računa. 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 Pod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Objektnim računom  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se ovde podrazumeva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Predikatski račun prvog reda 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u kome promenljive uzimaju vrednosti iz definisanih klasa objekata u sistem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Činjenica da promenljiva uzima vrednost iz neke klase objekata označava se na sledeći nač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x : O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, gde je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x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 pojavljivanje , a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O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 klasa nekog objekta, odnosno promenljiva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x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 uzima 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vrednost iz skupa pojavljivanja  objekta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x`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označava vrednost promenljive pre operacije ažuriranja, dok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x 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označava 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vrednost promenljive posle operacije ažuriranja. Obe vrednosti su neophodne da 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bi se iskazala dozvoljena promena stanja u modelu podata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91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290DE06-FF7A-4FC9-ADE8-60BC0E05E46B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3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6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jezik za iskazivanje vrednosnih ograničen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4920" y="330120"/>
            <a:ext cx="9074160" cy="42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Takozvana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“dot notacija”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 se koristi da poveže promenljive iz dve klase objekata preko nekog preslikavanja definisanog u model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x : O</a:t>
            </a:r>
            <a:r>
              <a:rPr b="1" lang="en-US" sz="2000" spc="-1" strike="noStrike">
                <a:solidFill>
                  <a:srgbClr val="cc3300"/>
                </a:solidFill>
                <a:latin typeface="Arial Narrow"/>
              </a:rPr>
              <a:t>.P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označava da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x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(odnosno x`)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uzima vrednost iz klase koja je kodomen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  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preslikavanja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P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klase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 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Atomske formule, odnosno simboli koji se koriste da označe neki atomski predikat s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x.A </a:t>
            </a:r>
            <a:r>
              <a:rPr b="1" lang="en-US" sz="2000" spc="-1" strike="noStrike">
                <a:solidFill>
                  <a:srgbClr val="cc0000"/>
                </a:solidFill>
                <a:latin typeface="Arial Narrow"/>
              </a:rPr>
              <a:t>Θ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 y.B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gde su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x 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i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 y 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promenljive  (objekti),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A 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i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 B 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atributi tipova objekata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O</a:t>
            </a:r>
            <a:r>
              <a:rPr b="1" lang="sr-Latn-CS" sz="2000" spc="-1" strike="noStrike" baseline="-25000">
                <a:solidFill>
                  <a:srgbClr val="cc3300"/>
                </a:solidFill>
                <a:latin typeface="Arial Narrow"/>
              </a:rPr>
              <a:t>1 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i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O</a:t>
            </a:r>
            <a:r>
              <a:rPr b="1" lang="sr-Latn-CS" sz="2000" spc="-1" strike="noStrike" baseline="-25000">
                <a:solidFill>
                  <a:srgbClr val="cc3300"/>
                </a:solidFill>
                <a:latin typeface="Arial Narrow"/>
              </a:rPr>
              <a:t>2 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iz 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čijih pojavljivanja, respektivno, promenljive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x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 i 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y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 uzimaju vrednosti (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x:O</a:t>
            </a:r>
            <a:r>
              <a:rPr b="1" lang="sr-Latn-CS" sz="2000" spc="-1" strike="noStrike" baseline="-25000">
                <a:solidFill>
                  <a:srgbClr val="cc3300"/>
                </a:solidFill>
                <a:latin typeface="Arial Narrow"/>
              </a:rPr>
              <a:t>1</a:t>
            </a:r>
            <a:r>
              <a:rPr b="1" lang="sr-Latn-CS" sz="2000" spc="-1" strike="noStrike" baseline="-25000">
                <a:solidFill>
                  <a:srgbClr val="333399"/>
                </a:solidFill>
                <a:latin typeface="Arial Narrow"/>
              </a:rPr>
              <a:t>,,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, 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 Narrow"/>
              </a:rPr>
              <a:t>y:O</a:t>
            </a:r>
            <a:r>
              <a:rPr b="1" lang="sr-Latn-CS" sz="2000" spc="-1" strike="noStrike" baseline="-25000">
                <a:solidFill>
                  <a:srgbClr val="cc3300"/>
                </a:solidFill>
                <a:latin typeface="Arial Narrow"/>
              </a:rPr>
              <a:t>2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), a 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 Narrow"/>
              </a:rPr>
              <a:t>Θ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je operacija poređenja, definisana nad domenom atributa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 A 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i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 B 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(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A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i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 B 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moraju biti definisani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sr-Latn-CS" sz="2000" spc="-1" strike="noStrike">
                <a:solidFill>
                  <a:srgbClr val="333399"/>
                </a:solidFill>
                <a:latin typeface="Arial Narrow"/>
              </a:rPr>
              <a:t>nad istim domeno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98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144FE14-6637-4895-9B2C-ABA591C73F90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0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6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“dot notacija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4920" y="330120"/>
            <a:ext cx="907416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Formule objektnog računa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(ddf – dobro definisana formula)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formiraju se preko sledećih produkcionih pravila (sintakse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ddf::=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atom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(ddf)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  <a:ea typeface="Arial"/>
              </a:rPr>
              <a:t>Not 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ddf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ddf 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  <a:ea typeface="Arial"/>
              </a:rPr>
              <a:t>And 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ddf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ddf 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  <a:ea typeface="Arial"/>
              </a:rPr>
              <a:t>Or 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ddf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  <a:ea typeface="Arial"/>
              </a:rPr>
              <a:t>Exists 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naziv_promenljive (ddf)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  <a:ea typeface="Arial"/>
              </a:rPr>
              <a:t>Foreach 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naziv_promenljive (ddf)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  <a:ea typeface="Arial"/>
              </a:rPr>
              <a:t>if 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ddf 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  <a:ea typeface="Arial"/>
              </a:rPr>
              <a:t>Then 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d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800" spc="-1" strike="noStrike">
                <a:solidFill>
                  <a:srgbClr val="cc3300"/>
                </a:solidFill>
                <a:latin typeface="Arial"/>
                <a:ea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000" spc="-1" strike="noStrike">
                <a:solidFill>
                  <a:srgbClr val="cc3300"/>
                </a:solidFill>
                <a:latin typeface="Arial"/>
                <a:ea typeface="Arial"/>
              </a:rPr>
              <a:t>Exists  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je egzistencijalni kvantifikator, a </a:t>
            </a:r>
            <a:r>
              <a:rPr b="1" lang="sr-Latn-CS" sz="2000" spc="-1" strike="noStrike">
                <a:solidFill>
                  <a:srgbClr val="cc3300"/>
                </a:solidFill>
                <a:latin typeface="Arial"/>
                <a:ea typeface="Arial"/>
              </a:rPr>
              <a:t>Foreach 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je univerzalni kvantifikator. Svako ograničenje je dobro definisana formula u kojoj promenljive uzimaju vrednosti iz definisanih kl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Ograničenje se definiše na sledeći nač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definicija_promenljivih naziv_ograničenja (lista_promenljivih) := ddf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8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Primer: Student petog ili višeg semestra mora da ima više od 10 položenih ispi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Ogr1(Student, Prijava):=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Foreach 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Student (If Student.Semestar&gt;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Then Card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  <a:ea typeface="Arial"/>
              </a:rPr>
              <a:t> (Student.Prijava) &gt;10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19080"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105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8A7E3B1-72A2-48E8-B947-B565F746CD3E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6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7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6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 </a:t>
            </a: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rmula objektnog raču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0T16:14:00Z</dcterms:created>
  <dc:creator>Lukic</dc:creator>
  <dc:description/>
  <dc:language>en-US</dc:language>
  <cp:lastModifiedBy>Zoran</cp:lastModifiedBy>
  <dcterms:modified xsi:type="dcterms:W3CDTF">2005-10-09T12:38:02Z</dcterms:modified>
  <cp:revision>310</cp:revision>
  <dc:subject/>
  <dc:title>PowerPoint Presentation</dc:title>
</cp:coreProperties>
</file>