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8.wmf" ContentType="image/x-wmf"/>
  <Override PartName="/ppt/media/image12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3C8-A1B7-4341-BC55-550BF25C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AFE-339C-499F-B113-B568B0A8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909-E82C-49D0-84D9-7B91A45F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A11-3693-4578-B159-0C6DC3E1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2B4-5FFA-4CCD-B915-188B4591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2A0-3865-4BC9-B030-02C8EC3E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0F6-5E90-466E-9265-0062F90C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FAB-2CC6-442B-9089-E559D603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CC8-1BDD-4551-A617-D65149FD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9C8-953E-42AA-B92D-47C9DA4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AC2-D8B1-4D55-A6BB-96866FD4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EE4-8326-4B69-A444-1057832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0E88-69F1-4B9E-B7DB-F5D882370E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2867-586F-4CF3-8BDE-E4BC8D295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84944CA-7527-404A-8CFB-ADDD33CE4EB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NalogBlagajneFinansijskoZaduženje/razduž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0" y="851040"/>
            <a:ext cx="9109080" cy="51750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802ACC8-94F9-49E2-8760-FF33AC23D2F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NormativUsl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4920" y="1406520"/>
          <a:ext cx="910908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406520"/>
                    <a:ext cx="91090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1FA700D-CC15-477B-92CF-2300553CD05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NormativUsl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851040"/>
            <a:ext cx="9109080" cy="51750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C03BD24-A129-424C-A7FF-1399CC4D552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bračunP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521000"/>
          <a:ext cx="9144000" cy="38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1000"/>
                    <a:ext cx="9144000" cy="38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9752B90-D3C4-4278-B7A2-B35A162FD91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ObračunP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19444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1084780-D775-44D7-AF90-A0918DD8CE8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Planiranje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357200"/>
          <a:ext cx="914400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914400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F350946-35BA-4B61-9196-F6A901E33BE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1992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Planiranje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4920" y="398520"/>
          <a:ext cx="9109080" cy="60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398520"/>
                    <a:ext cx="9109080" cy="60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0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38417E3-EEC9-4A1D-8ACC-1C8742C708D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Prijem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909720"/>
          <a:ext cx="914400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972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1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DD30880-FF08-41FC-96D4-BAA08EEBE84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1992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Prijem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4920" y="561960"/>
          <a:ext cx="9109080" cy="57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561960"/>
                    <a:ext cx="910908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2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4D2922C-0499-4D0B-9586-32E15678993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1992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Skladišt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38040" y="495360"/>
          <a:ext cx="8466120" cy="59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495360"/>
                    <a:ext cx="8466120" cy="59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3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EF4F02-4AA0-47C9-85CE-551655B6B01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4280" y="154080"/>
            <a:ext cx="84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mer 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51000"/>
            <a:ext cx="91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611280"/>
            <a:ext cx="819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Izdvojeni prikazi logičkih celina b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Cenov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Fakturis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Nabav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Nalog, blagajna, finansijsko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zaduženj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/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r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azduž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Normativi usl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Obračun p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Planiranje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Prijem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Skladišt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A6EA377-4E04-4AC1-ACDF-47A447B3A97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1992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Skladišt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835200"/>
            <a:ext cx="9144000" cy="51940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4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0768964-B294-47A0-B0C6-F08B183896C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Cenov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920" y="1461960"/>
          <a:ext cx="910908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461960"/>
                    <a:ext cx="910908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C64476F-764D-41B5-9F24-0626D604055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992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Cenov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920" y="633240"/>
          <a:ext cx="9109080" cy="56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633240"/>
                    <a:ext cx="9109080" cy="56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3582639-6CCE-472E-ABE9-28E66AA8EA9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Fakturis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4920" y="1227240"/>
          <a:ext cx="910908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227240"/>
                    <a:ext cx="910908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6D5535C-D5D0-492E-BD3B-C1D12988FF9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Fakturis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4920" y="879480"/>
          <a:ext cx="910908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879480"/>
                    <a:ext cx="910908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AD6E215-8EC7-4DD2-A079-E6E365B0CEE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Nabav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806480"/>
          <a:ext cx="9144000" cy="32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6480"/>
                    <a:ext cx="914400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B846DAE-0132-439F-9572-88DDD0F97C5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ERwin-Nabav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4840" y="544680"/>
          <a:ext cx="8732880" cy="60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544680"/>
                    <a:ext cx="8732880" cy="60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44FE30-C3B1-449D-BE34-5E930EAA020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437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55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NalogBlagajneFinansijskoZaduženje/razduž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271520"/>
          <a:ext cx="914400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1520"/>
                    <a:ext cx="914400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3C5B339-4E48-4E7B-9DE3-3B7FD0FCAF8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07T13:21:13Z</dcterms:modified>
  <cp:revision>321</cp:revision>
  <dc:subject/>
  <dc:title>PowerPoint Presentation</dc:title>
</cp:coreProperties>
</file>