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2D2-EE52-407F-8526-B6530ACC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587-6E65-4C0A-95D4-F58918B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0FF-3246-43E3-9153-517ACDCE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55F-743A-4D4B-919B-61D461DC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3636-1ED7-4419-8600-DA6F5D72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99B2-C680-4548-8D93-649FDAB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74FE-304E-48F0-9ECD-04DBA8B0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9DE5-0A90-4DF0-B025-3A186879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518E-5C73-453B-8705-0906D173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E66-1628-4D8F-908C-02DAB58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AAAB-C793-41AC-911B-EA43DB4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9E8-297A-44BA-8F91-1A3820A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D1C-F0B8-47CB-85A5-2057885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794-8EDE-4B14-AF37-9B8DF2A5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1B55-C780-490C-B941-34E1B7A6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14E-B1BF-4740-8599-2211047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68A2-43AF-412C-B563-D4A3922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FB2-1CE5-4228-9006-FE0884B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572-1452-45A8-A878-D0A4B3E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516-26BD-47A8-B9A6-F8EC7035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86F-E4A0-45FC-A752-3B58077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8D8-D768-4BE2-A3F0-6C666B2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56B-47B0-4951-8FC1-329DEB4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73E-F7F1-4B0B-8B0F-AB6F044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A0C0-D591-4725-9D78-C035D5EDA5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2698-D9DC-4F58-826F-349112DD2A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1337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Пример - Апоте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723920" y="13716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ек - 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25160" y="563400"/>
            <a:ext cx="27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ек - Ефе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8"/>
          <p:cNvGraphicFramePr/>
          <p:nvPr/>
        </p:nvGraphicFramePr>
        <p:xfrm>
          <a:off x="4648320" y="2025720"/>
          <a:ext cx="4038480" cy="42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25720"/>
                    <a:ext cx="403848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1"/>
          <p:cNvGraphicFramePr/>
          <p:nvPr/>
        </p:nvGraphicFramePr>
        <p:xfrm>
          <a:off x="228600" y="1219320"/>
          <a:ext cx="4038480" cy="43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4038480" cy="43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Напом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3119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марни кључ сваке табеле је типа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AutoNumbe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да се примарни кључ састоји из два примарна кључа, где је један примарни кључ у другој табели такође примарни кључ он мора да буде типа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Numbe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да је примарни кључ једне табеле спољни кључ друге, у другој табели мора да буде типа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Numbe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0"/>
          <p:cNvGraphicFramePr/>
          <p:nvPr/>
        </p:nvGraphicFramePr>
        <p:xfrm>
          <a:off x="762120" y="1676520"/>
          <a:ext cx="746100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46100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6399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Шема релациј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ер везе Лека са Ефект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2595600" y="1905120"/>
          <a:ext cx="577692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5600" y="1905120"/>
                    <a:ext cx="57769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ер везе Лека са Произвођаче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286000" y="1905120"/>
          <a:ext cx="589752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58975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реирање форм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159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1.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3962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унос нове форме идете на главни мени </a:t>
            </a:r>
            <a:r>
              <a:rPr b="1" lang="sr-Latn-CS" sz="2400" spc="-1" strike="noStrike">
                <a:solidFill>
                  <a:srgbClr val="a50021"/>
                </a:solidFill>
                <a:latin typeface="Verdana"/>
              </a:rPr>
              <a:t>Insert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a50021"/>
                </a:solidFill>
                <a:latin typeface="Verdana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4952880" y="2244600"/>
          <a:ext cx="38862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244600"/>
                    <a:ext cx="38862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7083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2.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4781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 дијалогу </a:t>
            </a:r>
            <a:r>
              <a:rPr b="1" lang="sr-Latn-CS" sz="2400" spc="-1" strike="noStrike">
                <a:solidFill>
                  <a:srgbClr val="a50021"/>
                </a:solidFill>
                <a:latin typeface="Verdana"/>
              </a:rPr>
              <a:t>New Form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о бират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a50021"/>
                </a:solidFill>
                <a:latin typeface="Verdana"/>
              </a:rPr>
              <a:t>From wizard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 затим доле испод бирате табелу за коју желите да направите форму.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ша табела за коју  хоћемо да направимо форму је Груп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5543640" y="1676520"/>
          <a:ext cx="3386160" cy="43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1676520"/>
                    <a:ext cx="338616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71625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3.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4527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 овом кораку бирамо које атрибуте у табели желимо да прикажем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тиском н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дан по јед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ве атрибуте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аје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5562720" y="1905120"/>
          <a:ext cx="3352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905120"/>
                    <a:ext cx="3352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"/>
          <p:cNvGraphicFramePr/>
          <p:nvPr/>
        </p:nvGraphicFramePr>
        <p:xfrm>
          <a:off x="1295280" y="3581280"/>
          <a:ext cx="297000" cy="2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581280"/>
                    <a:ext cx="29700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1"/>
          <p:cNvGraphicFramePr/>
          <p:nvPr/>
        </p:nvGraphicFramePr>
        <p:xfrm>
          <a:off x="1295280" y="4038480"/>
          <a:ext cx="381240" cy="2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38124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533520"/>
            <a:ext cx="716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4. – Изглед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895480" y="1905120"/>
          <a:ext cx="488160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05120"/>
                    <a:ext cx="48816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ер 1 - Апоте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Апотека води евиденцију о свим лековима који имају следеће карактеристике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Назив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Латински назив лека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 Упозорење о начину коришћења, дејство, и дефинисане нежељене ефекте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Лек може да се користи за лечење најмање једне врсте болести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За сваки лек се дефинишу контраиндикације којих може да буде више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Лек припада само једној групи лекова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антибиотик, анелгетик, анестетик итд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Лек производ један и само један произвођач и може да се пакује у више облика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 инекције, таблете, сирупи, прашак итд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 сваку врсту паковања лека потребно је водити евиденцију о количини и састав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ек може а не мора имати замене, а такође лек може бити замена другим лековима из исте груп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5. - Стил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2819520" y="1905120"/>
          <a:ext cx="495612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49561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4"/>
          <p:cNvGraphicFramePr/>
          <p:nvPr/>
        </p:nvGraphicFramePr>
        <p:xfrm>
          <a:off x="2971800" y="1905120"/>
          <a:ext cx="481500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05120"/>
                    <a:ext cx="4815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7162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ак 6. – Наслов форм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а за унос Групе Лек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120" y="533520"/>
            <a:ext cx="6931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Измена готовог дизајна форм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257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да желимо да променимо изглед форме коју смо направили са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Wizardom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о радимо на следећи начин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значимо форму коју желимо да мењамо и кликнемо горе изнад на дугме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5564160" y="2362320"/>
          <a:ext cx="3579840" cy="29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4160" y="2362320"/>
                    <a:ext cx="35798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угме за Унос новог и брисање постојећег рекор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Toolbox-a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изаберемо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Command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but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 пребацимо га на форму при чему се отвори нов дијалог где бирамо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Record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Operations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Add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New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record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000" spc="-1" strike="noStrike">
                <a:solidFill>
                  <a:srgbClr val="0000ff"/>
                </a:solidFill>
                <a:latin typeface="Verdana"/>
              </a:rPr>
              <a:t>Delete record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284560" y="3249720"/>
          <a:ext cx="12762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4560" y="3249720"/>
                    <a:ext cx="12762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8"/>
          <p:cNvGraphicFramePr/>
          <p:nvPr/>
        </p:nvGraphicFramePr>
        <p:xfrm>
          <a:off x="1600200" y="3006720"/>
          <a:ext cx="716292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06720"/>
                    <a:ext cx="716292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2514600" y="2063880"/>
          <a:ext cx="537840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63880"/>
                    <a:ext cx="537840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7"/>
          <p:cNvSpPr/>
          <p:nvPr/>
        </p:nvSpPr>
        <p:spPr>
          <a:xfrm>
            <a:off x="1295280" y="380880"/>
            <a:ext cx="78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угме за Унос новог и брисање постојећег рекор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2514600" y="2089080"/>
          <a:ext cx="535932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89080"/>
                    <a:ext cx="53593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464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угме за Унос новог и брисање постојећег рекор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Резулта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304920" y="1828800"/>
          <a:ext cx="51814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51814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3657600" y="4419720"/>
          <a:ext cx="5257800" cy="21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419720"/>
                    <a:ext cx="52578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7083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Verdana"/>
              </a:rPr>
              <a:t>Корак 1</a:t>
            </a:r>
            <a:br>
              <a:rPr sz="3300"/>
            </a:br>
            <a:r>
              <a:rPr b="0" lang="sr-CS" sz="33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3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3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15968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правите форму прек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Design View-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затим је учитате прек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Design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62120" y="5715000"/>
            <a:ext cx="8076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бришите елементе за текст бокс уместо к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лите да убаците ComboBox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.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ifra </a:t>
            </a:r>
            <a:r>
              <a:rPr b="0" lang="sr-Latn-CS" sz="2400" spc="-1" strike="noStrike">
                <a:solidFill>
                  <a:srgbClr val="a50021"/>
                </a:solidFill>
                <a:latin typeface="Arial"/>
              </a:rPr>
              <a:t>grup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8"/>
          <p:cNvGraphicFramePr/>
          <p:nvPr/>
        </p:nvGraphicFramePr>
        <p:xfrm>
          <a:off x="2819520" y="2743200"/>
          <a:ext cx="373356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373356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854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2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sr-Latn-CS" sz="2400" spc="-1" strike="noStrike">
                <a:solidFill>
                  <a:srgbClr val="a50021"/>
                </a:solidFill>
                <a:latin typeface="Verdana"/>
              </a:rPr>
              <a:t>ToolBox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аберет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a50021"/>
                </a:solidFill>
                <a:latin typeface="Verdana"/>
              </a:rPr>
              <a:t>ComboBox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 превучете га на форму да се појави следећи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Wizard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304920" y="3048120"/>
          <a:ext cx="138096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13809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2"/>
          <p:cNvSpPr/>
          <p:nvPr/>
        </p:nvSpPr>
        <p:spPr>
          <a:xfrm>
            <a:off x="228600" y="4724280"/>
            <a:ext cx="685800" cy="5335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819520" y="2743200"/>
          <a:ext cx="5790960" cy="383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743200"/>
                    <a:ext cx="5790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236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3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39621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 овој форми бирате табелу која треба да вам се нађе у падајућој лист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ш пример у форми Контраиндикације морамо да изаберемо произвођача за чији лек желимо да унесемо контраиндикациј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15"/>
          <p:cNvGraphicFramePr/>
          <p:nvPr/>
        </p:nvGraphicFramePr>
        <p:xfrm>
          <a:off x="4114800" y="1828800"/>
          <a:ext cx="48769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8769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ер 1 - Апоте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80880" y="1600200"/>
          <a:ext cx="8153640" cy="50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15364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1596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4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1340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 овој форми бирате које атрибуте желите да прикажете у падајућој листи (ComboBox 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 желимо да прикажемо само атрибут назив групе без шифре групе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981080" y="3048120"/>
          <a:ext cx="55627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8120"/>
                    <a:ext cx="55627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6"/>
          <p:cNvSpPr/>
          <p:nvPr/>
        </p:nvSpPr>
        <p:spPr>
          <a:xfrm>
            <a:off x="4343400" y="4800600"/>
            <a:ext cx="2209680" cy="4572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3882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5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0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Ова форма показује које вредности ће бити приказане када стартујете вашу форму и када кликнете на падајућу лист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Object 12"/>
          <p:cNvGraphicFramePr/>
          <p:nvPr/>
        </p:nvGraphicFramePr>
        <p:xfrm>
          <a:off x="1981080" y="2751120"/>
          <a:ext cx="5257800" cy="38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51120"/>
                    <a:ext cx="52578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2374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6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што на форми лекови ми креирамо падајућу листу где треба да изаберемо којој групи лекова припада наш лек. Морамо да наведемо у који атрибут табеле Лек се складишти вредност коју смо изабрали из табеле групе леков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1447920" y="3195720"/>
          <a:ext cx="53337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195720"/>
                    <a:ext cx="53337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070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ак 7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одавање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ComboBox-a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ор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Ово је ѕавршни корак додавања падајуће листе фор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Object 5"/>
          <p:cNvGraphicFramePr/>
          <p:nvPr/>
        </p:nvGraphicFramePr>
        <p:xfrm>
          <a:off x="1371600" y="2514600"/>
          <a:ext cx="579132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57913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4"/>
          <p:cNvGraphicFramePr/>
          <p:nvPr/>
        </p:nvGraphicFramePr>
        <p:xfrm>
          <a:off x="2971800" y="1654200"/>
          <a:ext cx="416088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54200"/>
                    <a:ext cx="416088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0" y="53352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Резулта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1596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угнјеждених форми (Јак и слаб објека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960" y="1719360"/>
            <a:ext cx="510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цедура за креирање сложене форме се састоји из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во се креира форма која представља ЈАК објекат у систе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аш пример = ПРОИЗВОЂА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атим се креира одвојено форма СЛАБОГ обј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аш пример = Л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Object 10"/>
          <p:cNvGraphicFramePr/>
          <p:nvPr/>
        </p:nvGraphicFramePr>
        <p:xfrm>
          <a:off x="4876920" y="3765600"/>
          <a:ext cx="37195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765600"/>
                    <a:ext cx="37195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1"/>
          <p:cNvGraphicFramePr/>
          <p:nvPr/>
        </p:nvGraphicFramePr>
        <p:xfrm>
          <a:off x="4876920" y="1828800"/>
          <a:ext cx="4038480" cy="17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828800"/>
                    <a:ext cx="40384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70833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угнјеждених форми (Јак и слаб објека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9776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Отворите форму јаког објекта у </a:t>
            </a:r>
            <a:r>
              <a:rPr b="0" lang="sr-Latn-CS" sz="2400" spc="-1" strike="noStrike">
                <a:solidFill>
                  <a:srgbClr val="0000ff"/>
                </a:solidFill>
                <a:latin typeface="Verdana"/>
              </a:rPr>
              <a:t>Design View</a:t>
            </a:r>
            <a:r>
              <a:rPr b="0" lang="sr-C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 направите довољно да убаците форму слабог објек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2590920" y="2666880"/>
          <a:ext cx="548640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54864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7235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угњеждених форми (Јак и слаб објека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07408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баците форму слабог објекта у нашем примеру смо пребацили форму Л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2286000" y="2590920"/>
          <a:ext cx="556272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55627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4"/>
          <p:cNvGraphicFramePr/>
          <p:nvPr/>
        </p:nvGraphicFramePr>
        <p:xfrm>
          <a:off x="2514600" y="1905120"/>
          <a:ext cx="560088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560088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236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угњеждених форми (Јак и слаб објека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орм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76320" y="1447920"/>
          <a:ext cx="40384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47920"/>
                    <a:ext cx="40384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4267080" y="457200"/>
          <a:ext cx="365760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36576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8"/>
          <p:cNvGraphicFramePr/>
          <p:nvPr/>
        </p:nvGraphicFramePr>
        <p:xfrm>
          <a:off x="152280" y="2895480"/>
          <a:ext cx="4343400" cy="82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434340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152280" y="3886200"/>
          <a:ext cx="4038840" cy="13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3886200"/>
                    <a:ext cx="403884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2"/>
          <p:cNvGraphicFramePr/>
          <p:nvPr/>
        </p:nvGraphicFramePr>
        <p:xfrm>
          <a:off x="4724280" y="2362320"/>
          <a:ext cx="4191120" cy="1876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2362320"/>
                    <a:ext cx="419112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3"/>
          <p:cNvGraphicFramePr/>
          <p:nvPr/>
        </p:nvGraphicFramePr>
        <p:xfrm>
          <a:off x="4343400" y="4495680"/>
          <a:ext cx="4648320" cy="190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4495680"/>
                    <a:ext cx="46483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Релациони моде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roizvodjac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P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Pakovanje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akovanj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Sastav, Kolicin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Bolest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Bolesti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Bolest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NezeljeniEfekti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Efekt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Efekt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GrupaLekov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Grupe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Grup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Lek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, SifraLek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Leka, LatinskiNaziv, NacinKoriscenja, </a:t>
            </a:r>
            <a:r>
              <a:rPr b="0" lang="sr-Latn-CS" sz="1900" spc="-1" strike="noStrike">
                <a:solidFill>
                  <a:srgbClr val="0000ff"/>
                </a:solidFill>
                <a:latin typeface="Verdana"/>
              </a:rPr>
              <a:t>SifraGrupe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Kontraindikacije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, SifraLek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Kontraindikacije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Naziv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LekEfekat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, SifraLeka, </a:t>
            </a:r>
            <a:r>
              <a:rPr b="0" lang="sr-Latn-CS" sz="1900" spc="-1" strike="noStrike">
                <a:solidFill>
                  <a:srgbClr val="0000ff"/>
                </a:solidFill>
                <a:latin typeface="Verdana"/>
              </a:rPr>
              <a:t>SifraEfekt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LekBolest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, SifraLeka, </a:t>
            </a:r>
            <a:r>
              <a:rPr b="0" lang="sr-Latn-CS" sz="1900" spc="-1" strike="noStrike">
                <a:solidFill>
                  <a:srgbClr val="0000ff"/>
                </a:solidFill>
                <a:latin typeface="Verdana"/>
              </a:rPr>
              <a:t>SifraBolesti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LekPakovanje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900" spc="-1" strike="noStrike">
                <a:solidFill>
                  <a:srgbClr val="a50021"/>
                </a:solidFill>
                <a:latin typeface="Verdana"/>
              </a:rPr>
              <a:t>SifraProizvodjaca, SifraLeka, </a:t>
            </a:r>
            <a:r>
              <a:rPr b="0" lang="sr-Latn-CS" sz="1900" spc="-1" strike="noStrike">
                <a:solidFill>
                  <a:srgbClr val="0000ff"/>
                </a:solidFill>
                <a:latin typeface="Verdana"/>
              </a:rPr>
              <a:t>SifraPakovanja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SwitchBord-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074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да правите апликацију коју ће користити корисник, потребно је направити форме</a:t>
            </a: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пликација би требало да се покреће приказивањем </a:t>
            </a:r>
            <a:r>
              <a:rPr b="1" lang="pl-PL" sz="22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0" lang="pl-PL" sz="2200" spc="-1" strike="noStrike">
                <a:solidFill>
                  <a:srgbClr val="0000ff"/>
                </a:solidFill>
                <a:latin typeface="Verdana"/>
              </a:rPr>
              <a:t>-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može da se kreće kroz ostale forme, i na taj način omogući korisniku lakši rad sa aplikacij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ajlakši način da se kreira </a:t>
            </a:r>
            <a:r>
              <a:rPr b="1" lang="pl-PL" sz="22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je korišćenjem </a:t>
            </a:r>
            <a:r>
              <a:rPr b="1" lang="pl-PL" sz="22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200" spc="-1" strike="noStrike">
                <a:solidFill>
                  <a:srgbClr val="0000ff"/>
                </a:solidFill>
                <a:latin typeface="Verdana"/>
              </a:rPr>
              <a:t>Wizard</a:t>
            </a:r>
            <a:r>
              <a:rPr b="0" lang="pl-PL" sz="2200" spc="-1" strike="noStrike">
                <a:solidFill>
                  <a:srgbClr val="0000ff"/>
                </a:solidFill>
                <a:latin typeface="Verdana"/>
              </a:rPr>
              <a:t>-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контролне табел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334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То можете урадити на следећ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а следећи начин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заберит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Tools | Database Utilities | Switchboard Mana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Уколико нисте креирал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за апликациј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ојавиће се пору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witchboard Mana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a,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који тражи да га креират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забрати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иказаће вам се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witchboar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дија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ss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аутоматски креи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Switchbo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257800" y="2265480"/>
          <a:ext cx="37339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65480"/>
                    <a:ext cx="37339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162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реирање контролне табел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616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е него што почнете да правите контролну таблу морате да структуирате изглед вашег мен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Main Switch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Основни подац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оизвођачи (фор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Лек (фор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Болест (фор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аковање (фор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злаз (фор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Унос Лекова (форм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Излаз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7007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сновни подаци (Switchboar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311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о креирате помоћн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2438280" y="2665440"/>
          <a:ext cx="494532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5440"/>
                    <a:ext cx="494532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сновни подаци (Switchboar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45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д креирамо елемент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а Основни подаци са опциј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ED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2286000" y="2957400"/>
          <a:ext cx="533556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957400"/>
                    <a:ext cx="53355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сновни подаци (Switchboar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882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д креирамо елемент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а Основни подаци са опциј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ED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2876400" y="3259080"/>
          <a:ext cx="4362480" cy="32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3259080"/>
                    <a:ext cx="436248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нтролна табл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2914560" y="1905120"/>
          <a:ext cx="513900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1905120"/>
                    <a:ext cx="5139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нтролна табл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2876400" y="1905120"/>
          <a:ext cx="521352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1905120"/>
                    <a:ext cx="52135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реирање табел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6"/>
          <p:cNvGraphicFramePr/>
          <p:nvPr/>
        </p:nvGraphicFramePr>
        <p:xfrm>
          <a:off x="228600" y="1523880"/>
          <a:ext cx="4038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4038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5424480" y="2811600"/>
          <a:ext cx="3259080" cy="32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2811600"/>
                    <a:ext cx="325908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15"/>
          <p:cNvSpPr/>
          <p:nvPr/>
        </p:nvSpPr>
        <p:spPr>
          <a:xfrm>
            <a:off x="4579920" y="193500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ак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227520" y="914400"/>
            <a:ext cx="26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извођ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723920" y="137160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жељени ефе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0"/>
          <p:cNvGraphicFramePr/>
          <p:nvPr/>
        </p:nvGraphicFramePr>
        <p:xfrm>
          <a:off x="304920" y="1295280"/>
          <a:ext cx="4087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087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2"/>
          <p:cNvSpPr/>
          <p:nvPr/>
        </p:nvSpPr>
        <p:spPr>
          <a:xfrm>
            <a:off x="425520" y="56340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3"/>
          <p:cNvGraphicFramePr/>
          <p:nvPr/>
        </p:nvGraphicFramePr>
        <p:xfrm>
          <a:off x="4724280" y="2057400"/>
          <a:ext cx="4038840" cy="43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057400"/>
                    <a:ext cx="40388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25720" y="1371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25520" y="5634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рупа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6"/>
          <p:cNvGraphicFramePr/>
          <p:nvPr/>
        </p:nvGraphicFramePr>
        <p:xfrm>
          <a:off x="304920" y="1295280"/>
          <a:ext cx="403848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03848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8"/>
          <p:cNvGraphicFramePr/>
          <p:nvPr/>
        </p:nvGraphicFramePr>
        <p:xfrm>
          <a:off x="4648320" y="1981080"/>
          <a:ext cx="4267080" cy="39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26708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24800" y="56340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457200" y="1295280"/>
          <a:ext cx="378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378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5543640" y="2027160"/>
          <a:ext cx="3139920" cy="397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2027160"/>
                    <a:ext cx="313992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1"/>
          <p:cNvSpPr/>
          <p:nvPr/>
        </p:nvSpPr>
        <p:spPr>
          <a:xfrm>
            <a:off x="4723560" y="121932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ек - Пак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7:43:19Z</dcterms:created>
  <dc:creator>Marijana Despotovic</dc:creator>
  <dc:description/>
  <dc:language>en-US</dc:language>
  <cp:lastModifiedBy>bUrGa</cp:lastModifiedBy>
  <dcterms:modified xsi:type="dcterms:W3CDTF">2008-12-29T15:57:56Z</dcterms:modified>
  <cp:revision>72</cp:revision>
  <dc:subject/>
  <dc:title>Slide 1</dc:title>
</cp:coreProperties>
</file>