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2F4-61D2-4C4F-BC15-099ED690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05E-8BDC-4FEE-BDF6-D6FA262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8BA-1777-470C-A020-1B92D643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FD3-CE16-44CD-B262-2C2677D3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C18-4096-4C7F-AD9A-2AAB5117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B16-9934-4E8A-A2C0-434DB6BF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3BE-7372-45B1-A849-FC1A05EA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7D6-CBB8-4188-899C-4FC215BE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483-535F-4640-B258-CA120C28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52C-1286-44A0-AA05-B5AD7F9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BA2-7E97-4A11-8FB0-951C2924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D87-C54F-4D0C-A311-E12839D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6331-7BF0-471E-BAD9-E53B7E9BE8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1594-0AA8-451A-A9A6-F6CDB28E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8600" y="592452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O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50004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UNIVERZITET U BEOG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EHNIČKI FAKULTET U B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Arial"/>
              </a:rPr>
              <a:t>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81280" y="3222720"/>
            <a:ext cx="3789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d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Zoran R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</a:rPr>
              <a:t>.</a:t>
            </a:r>
            <a:r>
              <a:rPr b="1" i="1" lang="sr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99"/>
                </a:solidFill>
                <a:latin typeface="Arial Narrow"/>
              </a:rPr>
              <a:t>Anđel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jaz@eu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2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1520" y="66531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sl-SI" sz="1000" spc="-1" strike="noStrike">
                <a:solidFill>
                  <a:srgbClr val="000066"/>
                </a:solidFill>
                <a:latin typeface="Arial"/>
              </a:rPr>
              <a:t>r Zoran R. Anđelkov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0"/>
          <a:ext cx="127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127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0" y="6572160"/>
            <a:ext cx="9178920" cy="327240"/>
            <a:chOff x="0" y="6572160"/>
            <a:chExt cx="9178920" cy="327240"/>
          </a:xfrm>
        </p:grpSpPr>
        <p:sp>
          <p:nvSpPr>
            <p:cNvPr id="50" name=""/>
            <p:cNvSpPr/>
            <p:nvPr/>
          </p:nvSpPr>
          <p:spPr>
            <a:xfrm>
              <a:off x="34920" y="6653160"/>
              <a:ext cx="914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5E2105-2C67-4362-B211-9B0775B5BA64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6653160"/>
              <a:ext cx="24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0" y="6572160"/>
            <a:ext cx="233280" cy="2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572160"/>
                      <a:ext cx="2332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272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3CC9148-10E8-41D2-9AC2-E5D497A22F1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Uvod, klasifikacija</a:t>
            </a: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080" y="307800"/>
            <a:ext cx="9109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kup tipova objekata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{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Radnik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Det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enzion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}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mogu se generalizovati u tip objekta Gradjani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99"/>
                </a:solidFill>
                <a:latin typeface="Arial Narrow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nverzni postupak generalizaciji je specijaliza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 objekta Gradjanin se specijalizuje u podtipove 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Radnik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Dete i Penzion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(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3)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Agregacija i dekompozicija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Agregacija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je apstrakcija u kojo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e skup tipova objekat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jihovih veza tretira k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jedinstveni agregirani tip objek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99"/>
                </a:solidFill>
                <a:latin typeface="Arial Narrow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vi objekata 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edmet i Nastavnik se agregir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 objekat Prijava čiji su atribut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DATU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_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OL i OCE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ostupak inverzan agregaciji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ziva dekompozi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am objekat u sistemu može se tretirati kao najniži nivo ove apstrak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kao agregacija njegovih 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792600" y="2075040"/>
            <a:ext cx="5298840" cy="4283280"/>
            <a:chOff x="3792600" y="2075040"/>
            <a:chExt cx="5298840" cy="4283280"/>
          </a:xfrm>
        </p:grpSpPr>
        <p:sp>
          <p:nvSpPr>
            <p:cNvPr id="279" name=""/>
            <p:cNvSpPr/>
            <p:nvPr/>
          </p:nvSpPr>
          <p:spPr>
            <a:xfrm>
              <a:off x="4527360" y="4041720"/>
              <a:ext cx="707760" cy="34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27360" y="4508640"/>
              <a:ext cx="707760" cy="355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27360" y="4998960"/>
              <a:ext cx="707760" cy="3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38440" y="3929040"/>
              <a:ext cx="87120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34000" y="3929040"/>
              <a:ext cx="10029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57920" y="3929040"/>
              <a:ext cx="10011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80040" y="3929040"/>
              <a:ext cx="10029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03840" y="4041720"/>
              <a:ext cx="3112560" cy="34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3840" y="4532400"/>
              <a:ext cx="3112560" cy="34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03840" y="4998960"/>
              <a:ext cx="3112560" cy="3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3840" y="5702400"/>
              <a:ext cx="93312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96080" y="5702400"/>
              <a:ext cx="9298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4160" y="5702400"/>
              <a:ext cx="9280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65720" y="5459400"/>
              <a:ext cx="108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0280" y="559908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5" y="65"/>
                  </a:lnTo>
                  <a:lnTo>
                    <a:pt x="0" y="0"/>
                  </a:lnTo>
                  <a:lnTo>
                    <a:pt x="35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72000" y="5459400"/>
              <a:ext cx="144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18360" y="559908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56320" y="5459400"/>
              <a:ext cx="144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02320" y="559908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235480" y="4235400"/>
              <a:ext cx="46800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35480" y="418140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65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235480" y="4702320"/>
              <a:ext cx="46800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35480" y="464832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235480" y="5176800"/>
              <a:ext cx="46800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35480" y="512280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27360" y="3322800"/>
              <a:ext cx="707760" cy="34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35480" y="3492360"/>
              <a:ext cx="312048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35480" y="3443400"/>
              <a:ext cx="10440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0" y="31"/>
                  </a:lnTo>
                  <a:lnTo>
                    <a:pt x="66" y="0"/>
                  </a:lnTo>
                  <a:lnTo>
                    <a:pt x="32" y="31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56320" y="3492360"/>
              <a:ext cx="144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250040" y="3492360"/>
              <a:ext cx="108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176880" y="3492360"/>
              <a:ext cx="108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879800" y="3669840"/>
              <a:ext cx="1080" cy="258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25800" y="367020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34" y="0"/>
                  </a:lnTo>
                  <a:lnTo>
                    <a:pt x="66" y="66"/>
                  </a:lnTo>
                  <a:lnTo>
                    <a:pt x="34" y="3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61560" y="3446640"/>
              <a:ext cx="59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38680" y="416556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01160" y="465120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D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62280" y="512748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AR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81600" y="4179960"/>
              <a:ext cx="32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il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8480" y="4651200"/>
              <a:ext cx="72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viji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1640" y="51274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47920" y="4179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Z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95000" y="465120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jeg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88960" y="51418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82640" y="417996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44480" y="465120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manjina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2880" y="51418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86000" y="5708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08120" y="5708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16200" y="5708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96080" y="3179880"/>
              <a:ext cx="9298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97840" y="3179880"/>
              <a:ext cx="9280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49360" y="323856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ASTAVN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84320" y="323856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DM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92600" y="2913120"/>
              <a:ext cx="5298840" cy="91260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63960" y="2759040"/>
              <a:ext cx="26640" cy="579600"/>
            </a:xfrm>
            <a:custGeom>
              <a:avLst/>
              <a:gdLst/>
              <a:ahLst/>
              <a:rect l="l" t="t" r="r" b="b"/>
              <a:pathLst>
                <a:path w="17" h="365">
                  <a:moveTo>
                    <a:pt x="0" y="355"/>
                  </a:moveTo>
                  <a:lnTo>
                    <a:pt x="0" y="360"/>
                  </a:lnTo>
                  <a:lnTo>
                    <a:pt x="5" y="360"/>
                  </a:lnTo>
                  <a:lnTo>
                    <a:pt x="5" y="365"/>
                  </a:lnTo>
                  <a:lnTo>
                    <a:pt x="10" y="365"/>
                  </a:lnTo>
                  <a:lnTo>
                    <a:pt x="17" y="35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63960" y="2759040"/>
              <a:ext cx="2399760" cy="31680"/>
            </a:xfrm>
            <a:custGeom>
              <a:avLst/>
              <a:gdLst/>
              <a:ahLst/>
              <a:rect l="l" t="t" r="r" b="b"/>
              <a:pathLst>
                <a:path w="1512" h="20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503" y="20"/>
                  </a:lnTo>
                  <a:lnTo>
                    <a:pt x="1512" y="10"/>
                  </a:lnTo>
                  <a:lnTo>
                    <a:pt x="1512" y="5"/>
                  </a:lnTo>
                  <a:lnTo>
                    <a:pt x="1507" y="5"/>
                  </a:lnTo>
                  <a:lnTo>
                    <a:pt x="1507" y="0"/>
                  </a:lnTo>
                  <a:lnTo>
                    <a:pt x="150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21240" y="2766960"/>
              <a:ext cx="39600" cy="425520"/>
            </a:xfrm>
            <a:custGeom>
              <a:avLst/>
              <a:gdLst/>
              <a:ahLst/>
              <a:rect l="l" t="t" r="r" b="b"/>
              <a:pathLst>
                <a:path w="25" h="268">
                  <a:moveTo>
                    <a:pt x="25" y="7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68"/>
                  </a:lnTo>
                  <a:lnTo>
                    <a:pt x="13" y="268"/>
                  </a:lnTo>
                  <a:lnTo>
                    <a:pt x="25" y="260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30880" y="2144880"/>
              <a:ext cx="704520" cy="355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72160" y="2550960"/>
              <a:ext cx="29880" cy="2239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19" y="9"/>
                  </a:moveTo>
                  <a:lnTo>
                    <a:pt x="1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141"/>
                  </a:lnTo>
                  <a:lnTo>
                    <a:pt x="9" y="141"/>
                  </a:lnTo>
                  <a:lnTo>
                    <a:pt x="19" y="13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21400" y="2500200"/>
              <a:ext cx="131400" cy="15408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0" y="97"/>
                  </a:moveTo>
                  <a:lnTo>
                    <a:pt x="41" y="0"/>
                  </a:lnTo>
                  <a:lnTo>
                    <a:pt x="83" y="97"/>
                  </a:lnTo>
                  <a:lnTo>
                    <a:pt x="41" y="7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1840" y="22161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Đ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N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60640" y="2075040"/>
              <a:ext cx="704520" cy="35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94000" y="2427120"/>
              <a:ext cx="1080" cy="486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43240" y="2427120"/>
              <a:ext cx="10116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63"/>
                  </a:moveTo>
                  <a:lnTo>
                    <a:pt x="32" y="0"/>
                  </a:lnTo>
                  <a:lnTo>
                    <a:pt x="64" y="63"/>
                  </a:lnTo>
                  <a:lnTo>
                    <a:pt x="32" y="3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53160" y="215568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44760" y="6283440"/>
              <a:ext cx="425160" cy="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65520" y="622764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66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53800" y="6175440"/>
              <a:ext cx="135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lasifikacija (tipizaci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65720" y="6281640"/>
              <a:ext cx="46152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4520" y="62276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0"/>
                  </a:moveTo>
                  <a:lnTo>
                    <a:pt x="64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58560" y="617076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greg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64160" y="6265800"/>
              <a:ext cx="491760" cy="27000"/>
            </a:xfrm>
            <a:custGeom>
              <a:avLst/>
              <a:gdLst/>
              <a:ahLst/>
              <a:rect l="l" t="t" r="r" b="b"/>
              <a:pathLst>
                <a:path w="310" h="17">
                  <a:moveTo>
                    <a:pt x="1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300" y="17"/>
                  </a:lnTo>
                  <a:lnTo>
                    <a:pt x="310" y="10"/>
                  </a:lnTo>
                  <a:lnTo>
                    <a:pt x="310" y="5"/>
                  </a:lnTo>
                  <a:lnTo>
                    <a:pt x="305" y="5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51520" y="6211800"/>
              <a:ext cx="153720" cy="13644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0"/>
                  </a:moveTo>
                  <a:lnTo>
                    <a:pt x="97" y="44"/>
                  </a:lnTo>
                  <a:lnTo>
                    <a:pt x="0" y="86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83360" y="617076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eneraliz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354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D063038-E74A-4A48-880D-8AB3C8C2FD9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6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Uvod, klasifikacija</a:t>
            </a: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9672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vom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primeru su ilustrovane sve uvedene apstrakcije podata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kupovi vrednosti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{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Miloš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ora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Gora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}, {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Cvijiće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63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jegoše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7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emanji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3}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i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{21, 37, 42}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klasifikuju se u tipove atributa IM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DRESA i STAROS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respektiv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ojavljiv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vrednos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 &lt;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Miloš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Cvijiće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63, 21&gt;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&lt;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ora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jegoše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63, 37&gt;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&lt;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Gora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emanjin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3, 42&gt;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gregir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e u pojavljivanja objekta 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-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-2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-3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respektiv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ona se klasifikuju u tip objek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dnosno pripadaju kl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 objekta Student istovre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edstavlja i agregaciju tipova atrib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&lt;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M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DRES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AROS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&gt; 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vi objekata Student i Nastavnik su podtipovi tipa objekta Gradjani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generalizuju se u tip objekta Gradjani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vi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  &lt;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stavnik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edme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&gt; 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e agregiraju u tip objekta Prija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dnosno pripadaju klasi objekata PRIJA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572000" y="2011320"/>
            <a:ext cx="4519440" cy="3661920"/>
            <a:chOff x="4572000" y="2011320"/>
            <a:chExt cx="4519440" cy="3661920"/>
          </a:xfrm>
        </p:grpSpPr>
        <p:sp>
          <p:nvSpPr>
            <p:cNvPr id="361" name=""/>
            <p:cNvSpPr/>
            <p:nvPr/>
          </p:nvSpPr>
          <p:spPr>
            <a:xfrm>
              <a:off x="5198760" y="3679920"/>
              <a:ext cx="603720" cy="29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98760" y="4075920"/>
              <a:ext cx="603720" cy="301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98760" y="4492080"/>
              <a:ext cx="603720" cy="30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22800" y="3584160"/>
              <a:ext cx="74304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42680" y="3584160"/>
              <a:ext cx="85536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01000" y="3584160"/>
              <a:ext cx="85392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58240" y="3584160"/>
              <a:ext cx="85536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02080" y="3679920"/>
              <a:ext cx="2654640" cy="29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02080" y="4096080"/>
              <a:ext cx="2654640" cy="294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02080" y="4492080"/>
              <a:ext cx="2654640" cy="30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02080" y="5088960"/>
              <a:ext cx="79596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33760" y="5088960"/>
              <a:ext cx="79308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760" y="5088960"/>
              <a:ext cx="79164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95920" y="4882680"/>
              <a:ext cx="1080" cy="205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48760" y="500112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5" y="65"/>
                  </a:lnTo>
                  <a:lnTo>
                    <a:pt x="0" y="0"/>
                  </a:lnTo>
                  <a:lnTo>
                    <a:pt x="35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39480" y="4882680"/>
              <a:ext cx="1440" cy="205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93760" y="500112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4320" y="4882680"/>
              <a:ext cx="1440" cy="205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18240" y="500112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802480" y="3844080"/>
              <a:ext cx="39924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02840" y="379836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65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802480" y="4240440"/>
              <a:ext cx="399240" cy="108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02840" y="419472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802480" y="4642920"/>
              <a:ext cx="39924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02840" y="459720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98760" y="3069720"/>
              <a:ext cx="603720" cy="294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02840" y="3213720"/>
              <a:ext cx="266148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02840" y="3172320"/>
              <a:ext cx="89280" cy="8460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0" y="31"/>
                  </a:lnTo>
                  <a:lnTo>
                    <a:pt x="66" y="0"/>
                  </a:lnTo>
                  <a:lnTo>
                    <a:pt x="32" y="31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64320" y="3213720"/>
              <a:ext cx="1440" cy="4658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520760" y="3213720"/>
              <a:ext cx="1080" cy="4658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605640" y="3213720"/>
              <a:ext cx="1080" cy="4658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499360" y="3364560"/>
              <a:ext cx="1080" cy="2196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53280" y="336456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34" y="0"/>
                  </a:lnTo>
                  <a:lnTo>
                    <a:pt x="66" y="66"/>
                  </a:lnTo>
                  <a:lnTo>
                    <a:pt x="34" y="3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85800" y="3174840"/>
              <a:ext cx="59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62560" y="378504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23600" y="419688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D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5440" y="460260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AR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5280" y="3797280"/>
              <a:ext cx="32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il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8400" y="4196880"/>
              <a:ext cx="72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viji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01440" y="460260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52480" y="37972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Z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78680" y="419688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jeg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03240" y="461340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18360" y="379728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58600" y="419688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manjina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61920" y="461340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16200" y="5094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73080" y="5094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17720" y="5094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33760" y="2948760"/>
              <a:ext cx="79308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44000" y="2948760"/>
              <a:ext cx="79164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25480" y="299844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ASTAVN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58480" y="299844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DM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0" y="2722320"/>
              <a:ext cx="4519440" cy="77400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85680" y="2591640"/>
              <a:ext cx="22680" cy="491760"/>
            </a:xfrm>
            <a:custGeom>
              <a:avLst/>
              <a:gdLst/>
              <a:ahLst/>
              <a:rect l="l" t="t" r="r" b="b"/>
              <a:pathLst>
                <a:path w="17" h="365">
                  <a:moveTo>
                    <a:pt x="0" y="355"/>
                  </a:moveTo>
                  <a:lnTo>
                    <a:pt x="0" y="360"/>
                  </a:lnTo>
                  <a:lnTo>
                    <a:pt x="5" y="360"/>
                  </a:lnTo>
                  <a:lnTo>
                    <a:pt x="5" y="365"/>
                  </a:lnTo>
                  <a:lnTo>
                    <a:pt x="10" y="365"/>
                  </a:lnTo>
                  <a:lnTo>
                    <a:pt x="17" y="35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85680" y="2591640"/>
              <a:ext cx="2046960" cy="26640"/>
            </a:xfrm>
            <a:custGeom>
              <a:avLst/>
              <a:gdLst/>
              <a:ahLst/>
              <a:rect l="l" t="t" r="r" b="b"/>
              <a:pathLst>
                <a:path w="1512" h="20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503" y="20"/>
                  </a:lnTo>
                  <a:lnTo>
                    <a:pt x="1512" y="10"/>
                  </a:lnTo>
                  <a:lnTo>
                    <a:pt x="1512" y="5"/>
                  </a:lnTo>
                  <a:lnTo>
                    <a:pt x="1507" y="5"/>
                  </a:lnTo>
                  <a:lnTo>
                    <a:pt x="1507" y="0"/>
                  </a:lnTo>
                  <a:lnTo>
                    <a:pt x="150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96280" y="2598120"/>
              <a:ext cx="33840" cy="360720"/>
            </a:xfrm>
            <a:custGeom>
              <a:avLst/>
              <a:gdLst/>
              <a:ahLst/>
              <a:rect l="l" t="t" r="r" b="b"/>
              <a:pathLst>
                <a:path w="25" h="268">
                  <a:moveTo>
                    <a:pt x="25" y="7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68"/>
                  </a:lnTo>
                  <a:lnTo>
                    <a:pt x="13" y="268"/>
                  </a:lnTo>
                  <a:lnTo>
                    <a:pt x="25" y="260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51720" y="2070360"/>
              <a:ext cx="600840" cy="301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42600" y="2414880"/>
              <a:ext cx="25560" cy="1897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19" y="9"/>
                  </a:moveTo>
                  <a:lnTo>
                    <a:pt x="1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141"/>
                  </a:lnTo>
                  <a:lnTo>
                    <a:pt x="9" y="141"/>
                  </a:lnTo>
                  <a:lnTo>
                    <a:pt x="19" y="13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99400" y="2372040"/>
              <a:ext cx="112320" cy="13068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0" y="97"/>
                  </a:moveTo>
                  <a:lnTo>
                    <a:pt x="41" y="0"/>
                  </a:lnTo>
                  <a:lnTo>
                    <a:pt x="83" y="97"/>
                  </a:lnTo>
                  <a:lnTo>
                    <a:pt x="41" y="7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28680" y="213228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Đ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N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30320" y="2011320"/>
              <a:ext cx="600840" cy="298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14360" y="2309760"/>
              <a:ext cx="1080" cy="412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1160" y="2309760"/>
              <a:ext cx="86400" cy="8460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63"/>
                  </a:moveTo>
                  <a:lnTo>
                    <a:pt x="32" y="0"/>
                  </a:lnTo>
                  <a:lnTo>
                    <a:pt x="64" y="63"/>
                  </a:lnTo>
                  <a:lnTo>
                    <a:pt x="32" y="3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69920" y="207972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7920" y="5581800"/>
              <a:ext cx="362880" cy="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31160" y="553464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66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93440" y="5490360"/>
              <a:ext cx="135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lasifikacija (tipizaci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95920" y="5580360"/>
              <a:ext cx="3938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7840" y="5534640"/>
              <a:ext cx="86760" cy="885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0"/>
                  </a:moveTo>
                  <a:lnTo>
                    <a:pt x="64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71040" y="5486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greg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18320" y="5567040"/>
              <a:ext cx="419400" cy="22680"/>
            </a:xfrm>
            <a:custGeom>
              <a:avLst/>
              <a:gdLst/>
              <a:ahLst/>
              <a:rect l="l" t="t" r="r" b="b"/>
              <a:pathLst>
                <a:path w="310" h="17">
                  <a:moveTo>
                    <a:pt x="1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300" y="17"/>
                  </a:lnTo>
                  <a:lnTo>
                    <a:pt x="310" y="10"/>
                  </a:lnTo>
                  <a:lnTo>
                    <a:pt x="310" y="5"/>
                  </a:lnTo>
                  <a:lnTo>
                    <a:pt x="305" y="5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48440" y="5520960"/>
              <a:ext cx="131400" cy="11556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0"/>
                  </a:moveTo>
                  <a:lnTo>
                    <a:pt x="97" y="44"/>
                  </a:lnTo>
                  <a:lnTo>
                    <a:pt x="0" y="86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86320" y="548640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eneraliz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43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0274C1-D044-4DE7-8E19-73F64714D7D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Uvod, klasifikacija</a:t>
            </a: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96720"/>
            <a:ext cx="91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pstrakcije podataka omogućuju da se i jasno i detaljno opišu složeni objekti nekog sistema i da se njihovim medjusobnim povezivanjem formira struktura modela u koju je u najvećoj mogućoj meri ugradjena semantika realnog sistem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nanje o realnom sistem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eostala semantika realnog 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mplementira se preko modela proces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čigledno je da modeli podataka tr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da podrže sve apstrakcije podataka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vim nivoima apstrak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jer će na ta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čin smanjiti količinu znanja o real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istemu koju treba implementirati pre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modela procesa i time značaj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lakšati razvoj IS u svim njegov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fazam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 posebno u fa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mplementa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ogramir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.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572000" y="2011320"/>
            <a:ext cx="4519440" cy="3661920"/>
            <a:chOff x="4572000" y="2011320"/>
            <a:chExt cx="4519440" cy="3661920"/>
          </a:xfrm>
        </p:grpSpPr>
        <p:sp>
          <p:nvSpPr>
            <p:cNvPr id="443" name=""/>
            <p:cNvSpPr/>
            <p:nvPr/>
          </p:nvSpPr>
          <p:spPr>
            <a:xfrm>
              <a:off x="5198760" y="3679920"/>
              <a:ext cx="603720" cy="29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98760" y="4075920"/>
              <a:ext cx="603720" cy="301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8760" y="4492080"/>
              <a:ext cx="603720" cy="30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22800" y="3584160"/>
              <a:ext cx="74304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42680" y="3584160"/>
              <a:ext cx="85536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01000" y="3584160"/>
              <a:ext cx="85392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58240" y="3584160"/>
              <a:ext cx="855360" cy="12981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02080" y="3679920"/>
              <a:ext cx="2654640" cy="29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02080" y="4096080"/>
              <a:ext cx="2654640" cy="294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02080" y="4492080"/>
              <a:ext cx="2654640" cy="30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02080" y="5088960"/>
              <a:ext cx="79596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33760" y="5088960"/>
              <a:ext cx="79308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78760" y="5088960"/>
              <a:ext cx="79164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95920" y="4882680"/>
              <a:ext cx="1080" cy="205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8760" y="500112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5" y="65"/>
                  </a:lnTo>
                  <a:lnTo>
                    <a:pt x="0" y="0"/>
                  </a:lnTo>
                  <a:lnTo>
                    <a:pt x="35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39480" y="4882680"/>
              <a:ext cx="1440" cy="205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93760" y="500112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64320" y="4882680"/>
              <a:ext cx="1440" cy="205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18240" y="500112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02480" y="3844080"/>
              <a:ext cx="39924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02840" y="3798360"/>
              <a:ext cx="89280" cy="874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65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02480" y="4240440"/>
              <a:ext cx="399240" cy="108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02840" y="419472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802480" y="4642920"/>
              <a:ext cx="39924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02840" y="459720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98760" y="3069720"/>
              <a:ext cx="603720" cy="294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02840" y="3213720"/>
              <a:ext cx="266148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02840" y="3172320"/>
              <a:ext cx="89280" cy="8460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0" y="31"/>
                  </a:lnTo>
                  <a:lnTo>
                    <a:pt x="66" y="0"/>
                  </a:lnTo>
                  <a:lnTo>
                    <a:pt x="32" y="31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64320" y="3213720"/>
              <a:ext cx="1440" cy="4658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520760" y="3213720"/>
              <a:ext cx="1080" cy="4658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605640" y="3213720"/>
              <a:ext cx="1080" cy="4658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5499360" y="3364560"/>
              <a:ext cx="1080" cy="2196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53280" y="336456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34" y="0"/>
                  </a:lnTo>
                  <a:lnTo>
                    <a:pt x="66" y="66"/>
                  </a:lnTo>
                  <a:lnTo>
                    <a:pt x="34" y="3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85800" y="3174840"/>
              <a:ext cx="59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62560" y="378504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23600" y="419688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D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85440" y="460260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AR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5280" y="3797280"/>
              <a:ext cx="32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il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88400" y="4196880"/>
              <a:ext cx="72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viji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01440" y="460260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52480" y="37972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Z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8680" y="419688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jeg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03240" y="461340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18360" y="379728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58600" y="419688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manjina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61920" y="461340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16200" y="5094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73080" y="5094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17720" y="5094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33760" y="2948760"/>
              <a:ext cx="79308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44000" y="2948760"/>
              <a:ext cx="791640" cy="17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25480" y="299844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ASTAVN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58480" y="299844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DM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0" y="2722320"/>
              <a:ext cx="4519440" cy="77400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85680" y="2591640"/>
              <a:ext cx="22680" cy="491760"/>
            </a:xfrm>
            <a:custGeom>
              <a:avLst/>
              <a:gdLst/>
              <a:ahLst/>
              <a:rect l="l" t="t" r="r" b="b"/>
              <a:pathLst>
                <a:path w="17" h="365">
                  <a:moveTo>
                    <a:pt x="0" y="355"/>
                  </a:moveTo>
                  <a:lnTo>
                    <a:pt x="0" y="360"/>
                  </a:lnTo>
                  <a:lnTo>
                    <a:pt x="5" y="360"/>
                  </a:lnTo>
                  <a:lnTo>
                    <a:pt x="5" y="365"/>
                  </a:lnTo>
                  <a:lnTo>
                    <a:pt x="10" y="365"/>
                  </a:lnTo>
                  <a:lnTo>
                    <a:pt x="17" y="35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85680" y="2591640"/>
              <a:ext cx="2046960" cy="26640"/>
            </a:xfrm>
            <a:custGeom>
              <a:avLst/>
              <a:gdLst/>
              <a:ahLst/>
              <a:rect l="l" t="t" r="r" b="b"/>
              <a:pathLst>
                <a:path w="1512" h="20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503" y="20"/>
                  </a:lnTo>
                  <a:lnTo>
                    <a:pt x="1512" y="10"/>
                  </a:lnTo>
                  <a:lnTo>
                    <a:pt x="1512" y="5"/>
                  </a:lnTo>
                  <a:lnTo>
                    <a:pt x="1507" y="5"/>
                  </a:lnTo>
                  <a:lnTo>
                    <a:pt x="1507" y="0"/>
                  </a:lnTo>
                  <a:lnTo>
                    <a:pt x="150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96280" y="2598120"/>
              <a:ext cx="33840" cy="360720"/>
            </a:xfrm>
            <a:custGeom>
              <a:avLst/>
              <a:gdLst/>
              <a:ahLst/>
              <a:rect l="l" t="t" r="r" b="b"/>
              <a:pathLst>
                <a:path w="25" h="268">
                  <a:moveTo>
                    <a:pt x="25" y="7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68"/>
                  </a:lnTo>
                  <a:lnTo>
                    <a:pt x="13" y="268"/>
                  </a:lnTo>
                  <a:lnTo>
                    <a:pt x="25" y="260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51720" y="2070360"/>
              <a:ext cx="600840" cy="301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42600" y="2414880"/>
              <a:ext cx="25560" cy="1897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19" y="9"/>
                  </a:moveTo>
                  <a:lnTo>
                    <a:pt x="1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141"/>
                  </a:lnTo>
                  <a:lnTo>
                    <a:pt x="9" y="141"/>
                  </a:lnTo>
                  <a:lnTo>
                    <a:pt x="19" y="13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9400" y="2372040"/>
              <a:ext cx="112320" cy="13068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0" y="97"/>
                  </a:moveTo>
                  <a:lnTo>
                    <a:pt x="41" y="0"/>
                  </a:lnTo>
                  <a:lnTo>
                    <a:pt x="83" y="97"/>
                  </a:lnTo>
                  <a:lnTo>
                    <a:pt x="41" y="7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28680" y="213228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Đ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N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30320" y="2011320"/>
              <a:ext cx="600840" cy="298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14360" y="2309760"/>
              <a:ext cx="1080" cy="412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71160" y="2309760"/>
              <a:ext cx="86400" cy="8460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63"/>
                  </a:moveTo>
                  <a:lnTo>
                    <a:pt x="32" y="0"/>
                  </a:lnTo>
                  <a:lnTo>
                    <a:pt x="64" y="63"/>
                  </a:lnTo>
                  <a:lnTo>
                    <a:pt x="32" y="3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69920" y="207972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57920" y="5581800"/>
              <a:ext cx="362880" cy="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31160" y="5534640"/>
              <a:ext cx="89280" cy="885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66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93440" y="5490360"/>
              <a:ext cx="135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lasifikacija (tipizaci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95920" y="5580360"/>
              <a:ext cx="3938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27840" y="5534640"/>
              <a:ext cx="86760" cy="885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0"/>
                  </a:moveTo>
                  <a:lnTo>
                    <a:pt x="64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1040" y="5486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greg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18320" y="5567040"/>
              <a:ext cx="419400" cy="22680"/>
            </a:xfrm>
            <a:custGeom>
              <a:avLst/>
              <a:gdLst/>
              <a:ahLst/>
              <a:rect l="l" t="t" r="r" b="b"/>
              <a:pathLst>
                <a:path w="310" h="17">
                  <a:moveTo>
                    <a:pt x="1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300" y="17"/>
                  </a:lnTo>
                  <a:lnTo>
                    <a:pt x="310" y="10"/>
                  </a:lnTo>
                  <a:lnTo>
                    <a:pt x="310" y="5"/>
                  </a:lnTo>
                  <a:lnTo>
                    <a:pt x="305" y="5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48440" y="5520960"/>
              <a:ext cx="131400" cy="11556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0"/>
                  </a:moveTo>
                  <a:lnTo>
                    <a:pt x="97" y="44"/>
                  </a:lnTo>
                  <a:lnTo>
                    <a:pt x="0" y="86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86320" y="548640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eneraliz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PM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Predstavljanje struk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20" y="34308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	</a:t>
            </a:r>
            <a:r>
              <a:rPr b="1" lang="de-DE" sz="2400" spc="-1" strike="noStrike" u="sng">
                <a:solidFill>
                  <a:srgbClr val="000099"/>
                </a:solidFill>
                <a:uFillTx/>
                <a:latin typeface="Arial Narrow"/>
                <a:ea typeface="Times New Roman"/>
              </a:rPr>
              <a:t>Objekat (entitet)</a:t>
            </a:r>
            <a:r>
              <a:rPr b="1" lang="de-DE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- </a:t>
            </a:r>
            <a:r>
              <a:rPr b="1" lang="de-DE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grupa (skup) sadržaja sa karakteristikama koje su bitne za celinu.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Identifikacija kandidata za objekte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Arial"/>
              </a:rPr>
              <a:t>Fi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zički objekti (vozila, mašine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 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Os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 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Lokacije (mesta, adrese, koordinat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·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Organiz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 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Grupe/klase/tipovi (proizvoda, poslov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 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Dokum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 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Pridruženja (zadatak-osoba, vozilo-vož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Times New Roman"/>
              </a:rPr>
              <a:t>     </a:t>
            </a:r>
            <a:r>
              <a:rPr b="1" lang="sl-SI" sz="2400" spc="-1" strike="noStrike">
                <a:solidFill>
                  <a:srgbClr val="cc0000"/>
                </a:solidFill>
                <a:latin typeface="Arial Narrow"/>
                <a:ea typeface="Arial"/>
              </a:rPr>
              <a:t>Pripadnost/član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Nezavisan objekat </a:t>
            </a:r>
            <a:r>
              <a:rPr b="1" lang="sl-SI" sz="2400" spc="-1" strike="noStrike">
                <a:solidFill>
                  <a:srgbClr val="cc0000"/>
                </a:solidFill>
                <a:latin typeface="Arial"/>
                <a:ea typeface="Arial"/>
              </a:rPr>
              <a:t>ima osobinu koja ga može jednoznačno identifikovati (ne zavisi od drugih entiteta).</a:t>
            </a:r>
            <a:r>
              <a:rPr b="1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Zavisan objekat </a:t>
            </a:r>
            <a:r>
              <a:rPr b="1" lang="sl-SI" sz="2400" spc="-1" strike="noStrike">
                <a:solidFill>
                  <a:srgbClr val="cc0000"/>
                </a:solidFill>
                <a:latin typeface="Arial"/>
                <a:ea typeface="Arial"/>
              </a:rPr>
              <a:t>je onaj čija egzistencija i identifikacija zavise od drugog ili drugih entiteta. </a:t>
            </a:r>
            <a:r>
              <a:rPr b="1" lang="sl-SI" sz="2400" spc="-1" strike="noStrike">
                <a:solidFill>
                  <a:srgbClr val="0000cc"/>
                </a:solidFill>
                <a:latin typeface="Arial"/>
                <a:ea typeface="Arial"/>
              </a:rPr>
              <a:t>Posto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i="1" lang="sl-SI" sz="2400" spc="-1" strike="noStrike">
                <a:solidFill>
                  <a:srgbClr val="0000cc"/>
                </a:solidFill>
                <a:latin typeface="Arial"/>
                <a:ea typeface="Arial"/>
              </a:rPr>
              <a:t>arakteristični objekti (slabi objekti) – </a:t>
            </a:r>
            <a:r>
              <a:rPr b="1" lang="sl-SI" sz="2400" spc="-1" strike="noStrike">
                <a:solidFill>
                  <a:srgbClr val="cc0000"/>
                </a:solidFill>
                <a:latin typeface="Arial"/>
                <a:ea typeface="Arial"/>
              </a:rPr>
              <a:t>oni koji se ponavljaju više puta za određeni nezavisni objekat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asocijativni objekat</a:t>
            </a:r>
            <a:r>
              <a:rPr b="1" lang="sl-SI" sz="2400" spc="-1" strike="noStrike">
                <a:solidFill>
                  <a:srgbClr val="cc0000"/>
                </a:solidFill>
                <a:latin typeface="Arial"/>
                <a:ea typeface="Arial"/>
              </a:rPr>
              <a:t>, koji predstavlja vezu više objekata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2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E046CD-9F85-4E7C-B8CA-1848F197B12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Objekti i 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920" y="343080"/>
            <a:ext cx="91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U MOV sistem se opisuje kao skup objekata i njihovih v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Veze u modelu opisuju način povezivanja (uzajamna dejst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bjekata. Apstrakcija klasifikacije može se primeniti i na veze i definisati pojmovi tipa klase i pojavljivanja tipa veze. Primer, par &lt;Jovan, Računski centar&gt; je jedno pojavljivanje veze Zapošljavanje. Svaki tip binarne veze tipova objekata definiše dva tipa preslikavanja, u tipu veze Zapošljavanje definišu se sledeća dva preslikav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Clr>
                <a:srgbClr val="cc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Radi: Radnik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Odelenje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sa semantikom “radnik radi u odelenju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Clr>
                <a:srgbClr val="cc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Zapošljava: Odelenje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Radnik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sa semantikom “odelenje zapošljava radnik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Preslikavanja definišu uloge objekata u vezi. U tipu veze Zapošljavanje, tip Radnik ima “ulogu” Radi, a tip Odelenje ima “ulogu” Zapošlja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881480" y="22273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Ugrađ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05120" y="492480"/>
            <a:ext cx="8826840" cy="2010960"/>
            <a:chOff x="105120" y="492480"/>
            <a:chExt cx="8826840" cy="2010960"/>
          </a:xfrm>
        </p:grpSpPr>
        <p:cxnSp>
          <p:nvCxnSpPr>
            <p:cNvPr id="528" name=""/>
            <p:cNvCxnSpPr/>
            <p:nvPr/>
          </p:nvCxnSpPr>
          <p:spPr>
            <a:xfrm flipV="1">
              <a:off x="884160" y="1065960"/>
              <a:ext cx="270720" cy="477000"/>
            </a:xfrm>
            <a:prstGeom prst="bentConnector3">
              <a:avLst>
                <a:gd name="adj1" fmla="val 4993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9" name=""/>
            <p:cNvSpPr/>
            <p:nvPr/>
          </p:nvSpPr>
          <p:spPr>
            <a:xfrm>
              <a:off x="535680" y="1054080"/>
              <a:ext cx="7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1,1)Ra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0" name=""/>
            <p:cNvCxnSpPr/>
            <p:nvPr/>
          </p:nvCxnSpPr>
          <p:spPr>
            <a:xfrm rot="10800000">
              <a:off x="883440" y="1608840"/>
              <a:ext cx="329040" cy="402480"/>
            </a:xfrm>
            <a:prstGeom prst="bentConnector3">
              <a:avLst>
                <a:gd name="adj1" fmla="val 58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31" name=""/>
            <p:cNvSpPr/>
            <p:nvPr/>
          </p:nvSpPr>
          <p:spPr>
            <a:xfrm>
              <a:off x="435600" y="16923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1)Rukovo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26800" y="1427760"/>
              <a:ext cx="9334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dele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3" name=""/>
            <p:cNvCxnSpPr>
              <a:stCxn id="534" idx="3"/>
              <a:endCxn id="532" idx="0"/>
            </p:cNvCxnSpPr>
            <p:nvPr/>
          </p:nvCxnSpPr>
          <p:spPr>
            <a:xfrm>
              <a:off x="3689280" y="1066320"/>
              <a:ext cx="605520" cy="358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5" name=""/>
            <p:cNvCxnSpPr>
              <a:stCxn id="532" idx="2"/>
              <a:endCxn id="536" idx="3"/>
            </p:cNvCxnSpPr>
            <p:nvPr/>
          </p:nvCxnSpPr>
          <p:spPr>
            <a:xfrm rot="5400000">
              <a:off x="3824640" y="1542240"/>
              <a:ext cx="273240" cy="66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37" name=""/>
            <p:cNvSpPr/>
            <p:nvPr/>
          </p:nvSpPr>
          <p:spPr>
            <a:xfrm>
              <a:off x="3734280" y="106668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Zapošljava(0,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10880" y="1738440"/>
              <a:ext cx="12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Rukovođeno(1,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91480" y="1276200"/>
              <a:ext cx="2122920" cy="61308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sorti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5120" y="1427760"/>
              <a:ext cx="77364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63440" y="760320"/>
              <a:ext cx="27165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Zapošljava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5360" y="1704960"/>
              <a:ext cx="25923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Rukovođe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78920" y="12812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Prav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2" name=""/>
            <p:cNvCxnSpPr>
              <a:stCxn id="539" idx="1"/>
              <a:endCxn id="532" idx="3"/>
            </p:cNvCxnSpPr>
            <p:nvPr/>
          </p:nvCxnSpPr>
          <p:spPr>
            <a:xfrm rot="10800000">
              <a:off x="4763520" y="1580400"/>
              <a:ext cx="413280" cy="2160"/>
            </a:xfrm>
            <a:prstGeom prst="bentConnector3">
              <a:avLst>
                <a:gd name="adj1" fmla="val 499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44" idx="1"/>
              <a:endCxn id="539" idx="3"/>
            </p:cNvCxnSpPr>
            <p:nvPr/>
          </p:nvCxnSpPr>
          <p:spPr>
            <a:xfrm flipV="1" rot="10800000">
              <a:off x="7127280" y="645120"/>
              <a:ext cx="361080" cy="937080"/>
            </a:xfrm>
            <a:prstGeom prst="bentConnector3">
              <a:avLst>
                <a:gd name="adj1" fmla="val 497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7493040" y="492480"/>
              <a:ext cx="9334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Proizv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39920" y="91440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Napravlj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86880" y="1704960"/>
              <a:ext cx="194508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Struk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" name=""/>
            <p:cNvCxnSpPr>
              <a:stCxn id="544" idx="2"/>
              <a:endCxn id="546" idx="0"/>
            </p:cNvCxnSpPr>
            <p:nvPr/>
          </p:nvCxnSpPr>
          <p:spPr>
            <a:xfrm>
              <a:off x="7959240" y="803160"/>
              <a:ext cx="108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8" name=""/>
            <p:cNvSpPr/>
            <p:nvPr/>
          </p:nvSpPr>
          <p:spPr>
            <a:xfrm>
              <a:off x="7358760" y="1390680"/>
              <a:ext cx="119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Sastavlj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" name=""/>
            <p:cNvCxnSpPr>
              <a:stCxn id="546" idx="2"/>
              <a:endCxn id="544" idx="3"/>
            </p:cNvCxnSpPr>
            <p:nvPr/>
          </p:nvCxnSpPr>
          <p:spPr>
            <a:xfrm flipH="1" flipV="1" rot="5400000">
              <a:off x="7380720" y="1224360"/>
              <a:ext cx="1629360" cy="472320"/>
            </a:xfrm>
            <a:prstGeom prst="bentConnector4">
              <a:avLst>
                <a:gd name="adj1" fmla="val -14033"/>
                <a:gd name="adj2" fmla="val 195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0" name=""/>
            <p:cNvSpPr/>
            <p:nvPr/>
          </p:nvSpPr>
          <p:spPr>
            <a:xfrm>
              <a:off x="1843200" y="1390680"/>
              <a:ext cx="1560240" cy="284040"/>
            </a:xfrm>
            <a:prstGeom prst="wedgeRectCallout">
              <a:avLst>
                <a:gd name="adj1" fmla="val -78180"/>
                <a:gd name="adj2" fmla="val 10251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Naziv preslikavan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35720" y="782640"/>
              <a:ext cx="1036440" cy="284040"/>
            </a:xfrm>
            <a:prstGeom prst="wedgeRectCallout">
              <a:avLst>
                <a:gd name="adj1" fmla="val 75726"/>
                <a:gd name="adj2" fmla="val 527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Kardinaln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5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3A866DE-62F4-4804-89C5-39D9F16BECE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Objekti i 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920" y="34308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Veze se mogu uspostavljati i između pojavljivanja objekata ist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tipa (nad istom klasom). Veza Struktura sa parom preslikavanja &lt;Sastavljen, Ugrađen&gt; nad klasom objekta Proizvod. Preslikavanje Sastavljen je preslikavanje koje za jedan nadređen proizvod, daje skup njemu podređenih proizvoda, njegovih sastavnih delova, a preslikavanje ugrađen je preslikavanje koje za jedan podređeni proizvod (sastavni deo), daje skup nadređenih u kojem je on ugrađen. Proizvod ima dvostruku ulogu, jednom je nadređen (Sastavljen), a drugi put je podređen (Ugrađen) proizvod u odgovarajućoj strukturi (sastavnici) proizvo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Sastavljen: Proizvod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Nadređen)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Proizvod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Podređ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Ugrađen: Proizvod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Podređen)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Proizvod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Nadređ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a ovaj način se predstavlja u industriji veoma široko korišćen pojam sastavnice proizvoda, odnosno recepture u hemijskoj industri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05120" y="120960"/>
            <a:ext cx="8826840" cy="2010960"/>
            <a:chOff x="105120" y="120960"/>
            <a:chExt cx="8826840" cy="2010960"/>
          </a:xfrm>
        </p:grpSpPr>
        <p:cxnSp>
          <p:nvCxnSpPr>
            <p:cNvPr id="560" name=""/>
            <p:cNvCxnSpPr/>
            <p:nvPr/>
          </p:nvCxnSpPr>
          <p:spPr>
            <a:xfrm flipV="1">
              <a:off x="884160" y="694440"/>
              <a:ext cx="270720" cy="477000"/>
            </a:xfrm>
            <a:prstGeom prst="bentConnector3">
              <a:avLst>
                <a:gd name="adj1" fmla="val 4993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61" name=""/>
            <p:cNvSpPr/>
            <p:nvPr/>
          </p:nvSpPr>
          <p:spPr>
            <a:xfrm>
              <a:off x="535680" y="682560"/>
              <a:ext cx="7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1,1)Ra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rot="10800000">
              <a:off x="883440" y="1237320"/>
              <a:ext cx="329040" cy="402480"/>
            </a:xfrm>
            <a:prstGeom prst="bentConnector3">
              <a:avLst>
                <a:gd name="adj1" fmla="val 58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63" name=""/>
            <p:cNvSpPr/>
            <p:nvPr/>
          </p:nvSpPr>
          <p:spPr>
            <a:xfrm>
              <a:off x="435600" y="1320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1)Rukovo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6800" y="1056240"/>
              <a:ext cx="9334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dele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>
              <a:stCxn id="566" idx="3"/>
              <a:endCxn id="564" idx="0"/>
            </p:cNvCxnSpPr>
            <p:nvPr/>
          </p:nvCxnSpPr>
          <p:spPr>
            <a:xfrm>
              <a:off x="3689280" y="694800"/>
              <a:ext cx="605520" cy="358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7" name=""/>
            <p:cNvCxnSpPr>
              <a:stCxn id="564" idx="2"/>
              <a:endCxn id="568" idx="3"/>
            </p:cNvCxnSpPr>
            <p:nvPr/>
          </p:nvCxnSpPr>
          <p:spPr>
            <a:xfrm rot="5400000">
              <a:off x="3824640" y="1170720"/>
              <a:ext cx="273240" cy="66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69" name=""/>
            <p:cNvSpPr/>
            <p:nvPr/>
          </p:nvSpPr>
          <p:spPr>
            <a:xfrm>
              <a:off x="3734280" y="69516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Zapošljava(0,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10880" y="1366920"/>
              <a:ext cx="12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Rukovođeno(1,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91480" y="904680"/>
              <a:ext cx="2122920" cy="61308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sorti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5120" y="1056240"/>
              <a:ext cx="77364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63440" y="388800"/>
              <a:ext cx="27165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Zapošljava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25360" y="1333440"/>
              <a:ext cx="25923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Rukovođe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78920" y="90972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Prav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"/>
            <p:cNvCxnSpPr>
              <a:stCxn id="571" idx="1"/>
              <a:endCxn id="564" idx="3"/>
            </p:cNvCxnSpPr>
            <p:nvPr/>
          </p:nvCxnSpPr>
          <p:spPr>
            <a:xfrm rot="10800000">
              <a:off x="4763520" y="1208880"/>
              <a:ext cx="413280" cy="2160"/>
            </a:xfrm>
            <a:prstGeom prst="bentConnector3">
              <a:avLst>
                <a:gd name="adj1" fmla="val 499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5" name=""/>
            <p:cNvCxnSpPr>
              <a:stCxn id="576" idx="1"/>
              <a:endCxn id="571" idx="3"/>
            </p:cNvCxnSpPr>
            <p:nvPr/>
          </p:nvCxnSpPr>
          <p:spPr>
            <a:xfrm flipV="1" rot="10800000">
              <a:off x="7127280" y="273600"/>
              <a:ext cx="361080" cy="937080"/>
            </a:xfrm>
            <a:prstGeom prst="bentConnector3">
              <a:avLst>
                <a:gd name="adj1" fmla="val 497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6" name=""/>
            <p:cNvSpPr/>
            <p:nvPr/>
          </p:nvSpPr>
          <p:spPr>
            <a:xfrm>
              <a:off x="7493040" y="120960"/>
              <a:ext cx="9334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Proizv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39920" y="54288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Napravlj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86880" y="1333440"/>
              <a:ext cx="194508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Struk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6" idx="2"/>
              <a:endCxn id="578" idx="0"/>
            </p:cNvCxnSpPr>
            <p:nvPr/>
          </p:nvCxnSpPr>
          <p:spPr>
            <a:xfrm>
              <a:off x="7959240" y="431640"/>
              <a:ext cx="108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0" name=""/>
            <p:cNvSpPr/>
            <p:nvPr/>
          </p:nvSpPr>
          <p:spPr>
            <a:xfrm>
              <a:off x="7358760" y="1019160"/>
              <a:ext cx="119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Sastavlj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"/>
            <p:cNvCxnSpPr>
              <a:stCxn id="578" idx="2"/>
              <a:endCxn id="576" idx="3"/>
            </p:cNvCxnSpPr>
            <p:nvPr/>
          </p:nvCxnSpPr>
          <p:spPr>
            <a:xfrm flipH="1" flipV="1" rot="5400000">
              <a:off x="7380720" y="852840"/>
              <a:ext cx="1629360" cy="472320"/>
            </a:xfrm>
            <a:prstGeom prst="bentConnector4">
              <a:avLst>
                <a:gd name="adj1" fmla="val -14033"/>
                <a:gd name="adj2" fmla="val 195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2" name=""/>
            <p:cNvSpPr/>
            <p:nvPr/>
          </p:nvSpPr>
          <p:spPr>
            <a:xfrm>
              <a:off x="1843200" y="1019160"/>
              <a:ext cx="1560240" cy="284040"/>
            </a:xfrm>
            <a:prstGeom prst="wedgeRectCallout">
              <a:avLst>
                <a:gd name="adj1" fmla="val -78180"/>
                <a:gd name="adj2" fmla="val 10251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Naziv preslikavan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35720" y="411120"/>
              <a:ext cx="1036440" cy="284040"/>
            </a:xfrm>
            <a:prstGeom prst="wedgeRectCallout">
              <a:avLst>
                <a:gd name="adj1" fmla="val 75726"/>
                <a:gd name="adj2" fmla="val 527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Kardinaln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900560" y="1846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Ugrađ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8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963A29D-0590-459C-90C8-458E142EC22B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Objekti i 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920" y="34308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z praktičnih razloga, da bi se broj naziva na DOV smanj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usvaja se sledeća konven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Nazivi veza se uvek zadaj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Nazivi preslikavanja se obavezno zadaju u rekurzivnim vezama (binarnim vezama nad jednom klasom objek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Nazivi preslikavanja u ostalim vezam su opcioni i zadaju se samo kada je neophodno istaći ulogu objekta u vezi, odnosno kada se uloga oba objekta u vezi ne može dedukovati iz naziva v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 Narrow"/>
              </a:rPr>
              <a:t>Kardinalnost preslikavanja,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E1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E2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definiše se parom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(DG,GG)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(DG-Donja Granica, GG-Gornja Granica), gde DG daje najmanji mogući a GG najveći mogući broj pojavljivanja tipa objekta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E2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, za jedno pojavljivanje tipa objekta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E1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čigledno je da u jednom preslikavanju mora biti zadovoljen uslov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DG</a:t>
            </a:r>
            <a:r>
              <a:rPr b="1" lang="sr-Latn-CS" sz="2400" spc="-1" strike="noStrike" u="sng">
                <a:solidFill>
                  <a:srgbClr val="cc0000"/>
                </a:solidFill>
                <a:uFillTx/>
                <a:latin typeface="Arial Narrow"/>
              </a:rPr>
              <a:t>&lt;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05120" y="120960"/>
            <a:ext cx="8826840" cy="2010960"/>
            <a:chOff x="105120" y="120960"/>
            <a:chExt cx="8826840" cy="2010960"/>
          </a:xfrm>
        </p:grpSpPr>
        <p:cxnSp>
          <p:nvCxnSpPr>
            <p:cNvPr id="593" name=""/>
            <p:cNvCxnSpPr/>
            <p:nvPr/>
          </p:nvCxnSpPr>
          <p:spPr>
            <a:xfrm flipV="1">
              <a:off x="884160" y="694440"/>
              <a:ext cx="270720" cy="477000"/>
            </a:xfrm>
            <a:prstGeom prst="bentConnector3">
              <a:avLst>
                <a:gd name="adj1" fmla="val 4993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535680" y="682560"/>
              <a:ext cx="7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1,1)Ra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5" name=""/>
            <p:cNvCxnSpPr/>
            <p:nvPr/>
          </p:nvCxnSpPr>
          <p:spPr>
            <a:xfrm rot="10800000">
              <a:off x="883440" y="1237320"/>
              <a:ext cx="329040" cy="402480"/>
            </a:xfrm>
            <a:prstGeom prst="bentConnector3">
              <a:avLst>
                <a:gd name="adj1" fmla="val 58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6" name=""/>
            <p:cNvSpPr/>
            <p:nvPr/>
          </p:nvSpPr>
          <p:spPr>
            <a:xfrm>
              <a:off x="435600" y="1320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1)Rukovo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26800" y="1056240"/>
              <a:ext cx="9334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dele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>
              <a:stCxn id="599" idx="3"/>
              <a:endCxn id="597" idx="0"/>
            </p:cNvCxnSpPr>
            <p:nvPr/>
          </p:nvCxnSpPr>
          <p:spPr>
            <a:xfrm>
              <a:off x="3689280" y="694800"/>
              <a:ext cx="605520" cy="358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0" name=""/>
            <p:cNvCxnSpPr>
              <a:stCxn id="597" idx="2"/>
              <a:endCxn id="601" idx="3"/>
            </p:cNvCxnSpPr>
            <p:nvPr/>
          </p:nvCxnSpPr>
          <p:spPr>
            <a:xfrm rot="5400000">
              <a:off x="3824640" y="1170720"/>
              <a:ext cx="273240" cy="66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02" name=""/>
            <p:cNvSpPr/>
            <p:nvPr/>
          </p:nvSpPr>
          <p:spPr>
            <a:xfrm>
              <a:off x="3734280" y="69516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Zapošljava(0,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10880" y="1366920"/>
              <a:ext cx="12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Rukovođeno(1,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91480" y="904680"/>
              <a:ext cx="2122920" cy="61308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sorti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5120" y="1056240"/>
              <a:ext cx="77364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63440" y="388800"/>
              <a:ext cx="27165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Zapošljava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25360" y="1333440"/>
              <a:ext cx="259236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Rukovođen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78920" y="90972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Prav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604" idx="1"/>
              <a:endCxn id="597" idx="3"/>
            </p:cNvCxnSpPr>
            <p:nvPr/>
          </p:nvCxnSpPr>
          <p:spPr>
            <a:xfrm rot="10800000">
              <a:off x="4763520" y="1208880"/>
              <a:ext cx="413280" cy="2160"/>
            </a:xfrm>
            <a:prstGeom prst="bentConnector3">
              <a:avLst>
                <a:gd name="adj1" fmla="val 499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8" name=""/>
            <p:cNvCxnSpPr>
              <a:stCxn id="609" idx="1"/>
              <a:endCxn id="604" idx="3"/>
            </p:cNvCxnSpPr>
            <p:nvPr/>
          </p:nvCxnSpPr>
          <p:spPr>
            <a:xfrm flipV="1" rot="10800000">
              <a:off x="7127280" y="273600"/>
              <a:ext cx="361080" cy="937080"/>
            </a:xfrm>
            <a:prstGeom prst="bentConnector3">
              <a:avLst>
                <a:gd name="adj1" fmla="val 497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09" name=""/>
            <p:cNvSpPr/>
            <p:nvPr/>
          </p:nvSpPr>
          <p:spPr>
            <a:xfrm>
              <a:off x="7493040" y="120960"/>
              <a:ext cx="933480" cy="30708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Proizv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39920" y="54288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Napravlj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86880" y="1333440"/>
              <a:ext cx="1945080" cy="61380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Struk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2" name=""/>
            <p:cNvCxnSpPr>
              <a:stCxn id="609" idx="2"/>
              <a:endCxn id="611" idx="0"/>
            </p:cNvCxnSpPr>
            <p:nvPr/>
          </p:nvCxnSpPr>
          <p:spPr>
            <a:xfrm>
              <a:off x="7959240" y="431640"/>
              <a:ext cx="108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13" name=""/>
            <p:cNvSpPr/>
            <p:nvPr/>
          </p:nvSpPr>
          <p:spPr>
            <a:xfrm>
              <a:off x="7358760" y="1019160"/>
              <a:ext cx="119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Arial Narrow"/>
                </a:rPr>
                <a:t>(0,M)Sastavlj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4" name=""/>
            <p:cNvCxnSpPr>
              <a:stCxn id="611" idx="2"/>
              <a:endCxn id="609" idx="3"/>
            </p:cNvCxnSpPr>
            <p:nvPr/>
          </p:nvCxnSpPr>
          <p:spPr>
            <a:xfrm flipH="1" flipV="1" rot="5400000">
              <a:off x="7380720" y="852840"/>
              <a:ext cx="1629360" cy="472320"/>
            </a:xfrm>
            <a:prstGeom prst="bentConnector4">
              <a:avLst>
                <a:gd name="adj1" fmla="val -14033"/>
                <a:gd name="adj2" fmla="val 195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843200" y="1019160"/>
              <a:ext cx="1560240" cy="284040"/>
            </a:xfrm>
            <a:prstGeom prst="wedgeRectCallout">
              <a:avLst>
                <a:gd name="adj1" fmla="val -78180"/>
                <a:gd name="adj2" fmla="val 10251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Naziv preslikavan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35720" y="411120"/>
              <a:ext cx="1036440" cy="284040"/>
            </a:xfrm>
            <a:prstGeom prst="wedgeRectCallout">
              <a:avLst>
                <a:gd name="adj1" fmla="val 75726"/>
                <a:gd name="adj2" fmla="val 527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Kardinaln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7900560" y="1846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Ugrađ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19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0AD79B1-93B8-4F8D-AA20-06CCEAC6DF6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1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Atribut i 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000" y="33480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bjekti se opisu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preko svojih svojsta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dnosno atributa. A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uzimaju vrednost 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skupa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moguć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vrednosti. Ovi skupovi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azivaju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domenima.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 Domeni su predstavljeni elipsama (Matbr, Adrese..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Formalno se atribut objekta može definisati kao preslikavanje iz klase objekta u domen.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RIMER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Mlb: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Radnik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Matbr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ImeR: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Radnik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Imena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ZnaJezik: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Radnik</a:t>
            </a:r>
            <a:r>
              <a:rPr b="1" lang="sr-Latn-C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Jezici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(1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Pošto se atribut definiše kao preslikavanje, može se reći da atribut ima svoju kardinalnost. Ako je kardinalnost atributa (DG=1, GG=1 onda se takav atribut naziva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jednoznačni atribut objekta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Ako i inverzno preslikavanje jednoznačnog atributa ima kardinalnost (DG=0/1, GG=1) tada se takav atribut naziva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identifikator objekta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jer jedno pojavljivanje takvog atributa jedinstveno određuje jedno pojavljivanje  objekta u kl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13600" y="90792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Šif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endCxn id="627" idx="1"/>
          </p:cNvCxnSpPr>
          <p:nvPr/>
        </p:nvCxnSpPr>
        <p:spPr>
          <a:xfrm flipV="1">
            <a:off x="4454640" y="1091880"/>
            <a:ext cx="621000" cy="451440"/>
          </a:xfrm>
          <a:prstGeom prst="bentConnector3">
            <a:avLst>
              <a:gd name="adj1" fmla="val 547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4457880" y="1143000"/>
            <a:ext cx="676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1,1) Ra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30" idx="1"/>
          </p:cNvCxnSpPr>
          <p:nvPr/>
        </p:nvCxnSpPr>
        <p:spPr>
          <a:xfrm rot="10800000">
            <a:off x="4453920" y="1637640"/>
            <a:ext cx="680040" cy="39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4383720" y="171756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1) Rukovo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176320" y="1452960"/>
            <a:ext cx="933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Odel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27" idx="3"/>
          </p:cNvCxnSpPr>
          <p:nvPr/>
        </p:nvCxnSpPr>
        <p:spPr>
          <a:xfrm>
            <a:off x="7610040" y="1092240"/>
            <a:ext cx="562680" cy="46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4" name=""/>
          <p:cNvCxnSpPr>
            <a:endCxn id="630" idx="3"/>
          </p:cNvCxnSpPr>
          <p:nvPr/>
        </p:nvCxnSpPr>
        <p:spPr>
          <a:xfrm flipV="1" rot="10800000">
            <a:off x="7549560" y="1684440"/>
            <a:ext cx="622800" cy="35136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5" name=""/>
          <p:cNvSpPr/>
          <p:nvPr/>
        </p:nvSpPr>
        <p:spPr>
          <a:xfrm>
            <a:off x="7071120" y="11588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Zapošljava 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46520" y="176364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75600" y="1452960"/>
            <a:ext cx="773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84560" y="785880"/>
            <a:ext cx="271656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Zapošljav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46480" y="1730520"/>
            <a:ext cx="259236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ukovođ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39960" y="5796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t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9440" y="45396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Ad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835600" y="3589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90760" y="20080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Jez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57880" y="218592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God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11560" y="227016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37" idx="1"/>
            <a:endCxn id="638" idx="2"/>
          </p:cNvCxnSpPr>
          <p:nvPr/>
        </p:nvCxnSpPr>
        <p:spPr>
          <a:xfrm flipH="1" flipV="1">
            <a:off x="3204720" y="828000"/>
            <a:ext cx="465840" cy="77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5" name=""/>
          <p:cNvCxnSpPr>
            <a:stCxn id="637" idx="1"/>
            <a:endCxn id="641" idx="0"/>
          </p:cNvCxnSpPr>
          <p:nvPr/>
        </p:nvCxnSpPr>
        <p:spPr>
          <a:xfrm flipH="1">
            <a:off x="2855520" y="1606320"/>
            <a:ext cx="815040" cy="40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6" name=""/>
          <p:cNvCxnSpPr>
            <a:stCxn id="637" idx="0"/>
            <a:endCxn id="639" idx="1"/>
          </p:cNvCxnSpPr>
          <p:nvPr/>
        </p:nvCxnSpPr>
        <p:spPr>
          <a:xfrm flipH="1" flipV="1">
            <a:off x="3889080" y="579240"/>
            <a:ext cx="173520" cy="87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37" idx="0"/>
            <a:endCxn id="640" idx="1"/>
          </p:cNvCxnSpPr>
          <p:nvPr/>
        </p:nvCxnSpPr>
        <p:spPr>
          <a:xfrm flipV="1">
            <a:off x="4062240" y="483480"/>
            <a:ext cx="177408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37" idx="2"/>
            <a:endCxn id="642" idx="0"/>
          </p:cNvCxnSpPr>
          <p:nvPr/>
        </p:nvCxnSpPr>
        <p:spPr>
          <a:xfrm>
            <a:off x="4061880" y="1763280"/>
            <a:ext cx="8614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37" idx="2"/>
            <a:endCxn id="643" idx="0"/>
          </p:cNvCxnSpPr>
          <p:nvPr/>
        </p:nvCxnSpPr>
        <p:spPr>
          <a:xfrm flipH="1">
            <a:off x="3675960" y="1763280"/>
            <a:ext cx="3862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0" name=""/>
          <p:cNvCxnSpPr>
            <a:stCxn id="632" idx="0"/>
            <a:endCxn id="640" idx="3"/>
          </p:cNvCxnSpPr>
          <p:nvPr/>
        </p:nvCxnSpPr>
        <p:spPr>
          <a:xfrm flipH="1" flipV="1">
            <a:off x="6765120" y="483480"/>
            <a:ext cx="187884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1" name=""/>
          <p:cNvSpPr/>
          <p:nvPr/>
        </p:nvSpPr>
        <p:spPr>
          <a:xfrm>
            <a:off x="8172360" y="45396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ra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32" idx="0"/>
            <a:endCxn id="651" idx="2"/>
          </p:cNvCxnSpPr>
          <p:nvPr/>
        </p:nvCxnSpPr>
        <p:spPr>
          <a:xfrm flipH="1" flipV="1">
            <a:off x="8637120" y="703080"/>
            <a:ext cx="7200" cy="74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2968560" y="923760"/>
            <a:ext cx="676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 M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63920" y="8064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Ad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19680" y="60804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65840" y="60804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Naziv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32040" y="17334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M) ZnaJ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38480" y="19512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Star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5080" y="202248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M)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61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7EC22D-19F6-46EF-B28B-A3E6416B41B5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3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Atribut i 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000" y="33480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Atribut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Mlb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dentifikator objekta 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klase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Radnik.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Ako je gor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granica granica GG=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nda se tak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atribut naziva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višeznač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atribut.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 ZnaJezik je višeznačni atribut. Domeni mogu bi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Ptredefinisani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dnosno standardni programsko-jezički domeni, kao što su Integer, Character, Real, String, Logical, Date i slič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Semantički, odnosno korisnički definisani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kada se posebno iskazuju, preko svoga imena, predefinisanog domena i ograničenja na mogući skup vrednosti predefinisanog domena.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 U MOV se ne koristi koncept semantičkog domena (atributi ImeR i NazivOd nad domenom Imena)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Koncept </a:t>
            </a:r>
            <a:r>
              <a:rPr b="1" lang="sr-Latn-CS" sz="2400" spc="-1" strike="noStrike">
                <a:solidFill>
                  <a:srgbClr val="cc0000"/>
                </a:solidFill>
                <a:latin typeface="Arial Narrow"/>
              </a:rPr>
              <a:t>složenog domena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koji ima svoju strukturu i predstavlja agregaciju drugih prostih ili složenih domena se takođe ne preporučuje. Plate su složen domen i predstavljaju agregaciju prostih domena &lt;Datum, Iznos&gt;. Složen domen je po definiciji semantički do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013600" y="90792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Šif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endCxn id="669" idx="1"/>
          </p:cNvCxnSpPr>
          <p:nvPr/>
        </p:nvCxnSpPr>
        <p:spPr>
          <a:xfrm flipV="1">
            <a:off x="4454640" y="1091880"/>
            <a:ext cx="621000" cy="451440"/>
          </a:xfrm>
          <a:prstGeom prst="bentConnector3">
            <a:avLst>
              <a:gd name="adj1" fmla="val 547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4457880" y="1143000"/>
            <a:ext cx="676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1,1) Ra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72" idx="1"/>
          </p:cNvCxnSpPr>
          <p:nvPr/>
        </p:nvCxnSpPr>
        <p:spPr>
          <a:xfrm rot="10800000">
            <a:off x="4453920" y="1637640"/>
            <a:ext cx="680040" cy="39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4383720" y="171756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1) Rukovo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176320" y="1452960"/>
            <a:ext cx="933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Odel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>
            <a:stCxn id="669" idx="3"/>
          </p:cNvCxnSpPr>
          <p:nvPr/>
        </p:nvCxnSpPr>
        <p:spPr>
          <a:xfrm>
            <a:off x="7610040" y="1092240"/>
            <a:ext cx="562680" cy="46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6" name=""/>
          <p:cNvCxnSpPr>
            <a:endCxn id="672" idx="3"/>
          </p:cNvCxnSpPr>
          <p:nvPr/>
        </p:nvCxnSpPr>
        <p:spPr>
          <a:xfrm flipV="1" rot="10800000">
            <a:off x="7549560" y="1684440"/>
            <a:ext cx="622800" cy="35136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7071120" y="11588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Zapošljava 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46520" y="176364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75600" y="1452960"/>
            <a:ext cx="773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84560" y="785880"/>
            <a:ext cx="271656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Zapošljav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46480" y="1730520"/>
            <a:ext cx="259236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ukovođ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39960" y="5796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at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9440" y="45396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Ad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35600" y="3589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90760" y="20080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Jez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57880" y="218592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God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11560" y="227016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79" idx="1"/>
            <a:endCxn id="680" idx="2"/>
          </p:cNvCxnSpPr>
          <p:nvPr/>
        </p:nvCxnSpPr>
        <p:spPr>
          <a:xfrm flipH="1" flipV="1">
            <a:off x="3204720" y="828000"/>
            <a:ext cx="465840" cy="77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79" idx="1"/>
            <a:endCxn id="683" idx="0"/>
          </p:cNvCxnSpPr>
          <p:nvPr/>
        </p:nvCxnSpPr>
        <p:spPr>
          <a:xfrm flipH="1">
            <a:off x="2855520" y="1606320"/>
            <a:ext cx="815040" cy="40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9" idx="0"/>
            <a:endCxn id="681" idx="1"/>
          </p:cNvCxnSpPr>
          <p:nvPr/>
        </p:nvCxnSpPr>
        <p:spPr>
          <a:xfrm flipH="1" flipV="1">
            <a:off x="3889080" y="579240"/>
            <a:ext cx="173520" cy="87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79" idx="0"/>
            <a:endCxn id="682" idx="1"/>
          </p:cNvCxnSpPr>
          <p:nvPr/>
        </p:nvCxnSpPr>
        <p:spPr>
          <a:xfrm flipV="1">
            <a:off x="4062240" y="483480"/>
            <a:ext cx="177408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79" idx="2"/>
            <a:endCxn id="684" idx="0"/>
          </p:cNvCxnSpPr>
          <p:nvPr/>
        </p:nvCxnSpPr>
        <p:spPr>
          <a:xfrm>
            <a:off x="4061880" y="1763280"/>
            <a:ext cx="8614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1" name=""/>
          <p:cNvCxnSpPr>
            <a:stCxn id="679" idx="2"/>
            <a:endCxn id="685" idx="0"/>
          </p:cNvCxnSpPr>
          <p:nvPr/>
        </p:nvCxnSpPr>
        <p:spPr>
          <a:xfrm flipH="1">
            <a:off x="3675960" y="1763280"/>
            <a:ext cx="3862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2" name=""/>
          <p:cNvCxnSpPr>
            <a:stCxn id="674" idx="0"/>
            <a:endCxn id="682" idx="3"/>
          </p:cNvCxnSpPr>
          <p:nvPr/>
        </p:nvCxnSpPr>
        <p:spPr>
          <a:xfrm flipH="1" flipV="1">
            <a:off x="6765120" y="483480"/>
            <a:ext cx="187884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8172360" y="45396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Šifra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74" idx="0"/>
            <a:endCxn id="693" idx="2"/>
          </p:cNvCxnSpPr>
          <p:nvPr/>
        </p:nvCxnSpPr>
        <p:spPr>
          <a:xfrm flipH="1" flipV="1">
            <a:off x="8637120" y="703080"/>
            <a:ext cx="7200" cy="74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2968560" y="923760"/>
            <a:ext cx="676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 M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63920" y="8064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Ad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19680" y="60804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65840" y="60804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Naziv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732040" y="17334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M) ZnaJ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84480" y="196848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99"/>
                </a:solidFill>
                <a:latin typeface="Arial Narrow"/>
              </a:rPr>
              <a:t>(1,1) Star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05080" y="196848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M)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0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8335265-BA29-41AF-BBE1-CEC3FE01FA5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Atribut i 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840" y="3492360"/>
            <a:ext cx="91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Konvencije koje se koriste u MO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U MOV se ne koriste višeznačni atributi, već se odgovarajuća svojstva objekta predstavljaju bilo kao preslikavanja posmatrane klase prema novodefinisanoj klasi koja predstavlja domen višeznačnog atributa ili kao “slaba” kl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vi atributi moraju da budu primenljiva svojstva na sve objekte u odgovarajućoj klasi. Zbog toga je donja granica kardinalnosti atributa (preslikavanje KLASA</a:t>
            </a:r>
            <a:r>
              <a:rPr b="1" lang="sr-Latn-C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DOMEN) uvek DG=1. Kako se ne koristi višeznačni atribut, to je za ovo preslikavanje i GG=1, pa se kardinalnosti atributa ne moraju predstavljati na DO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Atributi i identifikatori objekata mogu se posebno označiti (zvezdicom ili podvlačenj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U MOV se ne koriste semantički domeni  (veza između atributa jedne ili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više klas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508880" y="132084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Šif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0" name=""/>
          <p:cNvCxnSpPr>
            <a:endCxn id="711" idx="1"/>
          </p:cNvCxnSpPr>
          <p:nvPr/>
        </p:nvCxnSpPr>
        <p:spPr>
          <a:xfrm flipV="1">
            <a:off x="3209400" y="1387080"/>
            <a:ext cx="621720" cy="451440"/>
          </a:xfrm>
          <a:prstGeom prst="bentConnector3">
            <a:avLst>
              <a:gd name="adj1" fmla="val 5469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2" name=""/>
          <p:cNvSpPr/>
          <p:nvPr/>
        </p:nvSpPr>
        <p:spPr>
          <a:xfrm>
            <a:off x="3213000" y="1438200"/>
            <a:ext cx="676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1,1) Ra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3" name=""/>
          <p:cNvCxnSpPr>
            <a:stCxn id="714" idx="1"/>
          </p:cNvCxnSpPr>
          <p:nvPr/>
        </p:nvCxnSpPr>
        <p:spPr>
          <a:xfrm rot="10800000">
            <a:off x="3209040" y="1932840"/>
            <a:ext cx="680400" cy="39924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5" name=""/>
          <p:cNvSpPr/>
          <p:nvPr/>
        </p:nvSpPr>
        <p:spPr>
          <a:xfrm>
            <a:off x="3139200" y="201312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1) Rukovo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931800" y="1748160"/>
            <a:ext cx="93348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Odel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stCxn id="711" idx="3"/>
          </p:cNvCxnSpPr>
          <p:nvPr/>
        </p:nvCxnSpPr>
        <p:spPr>
          <a:xfrm>
            <a:off x="6365520" y="1387080"/>
            <a:ext cx="562680" cy="46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endCxn id="714" idx="3"/>
          </p:cNvCxnSpPr>
          <p:nvPr/>
        </p:nvCxnSpPr>
        <p:spPr>
          <a:xfrm flipV="1" rot="10800000">
            <a:off x="6304680" y="1979640"/>
            <a:ext cx="623160" cy="35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9" name=""/>
          <p:cNvSpPr/>
          <p:nvPr/>
        </p:nvSpPr>
        <p:spPr>
          <a:xfrm>
            <a:off x="5826600" y="14540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Zapošljava (0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02000" y="205884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Rukovođeno(1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0720" y="1748160"/>
            <a:ext cx="77364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040" y="1081080"/>
            <a:ext cx="271656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Zapošljav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1960" y="2025720"/>
            <a:ext cx="259200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ukovođ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98720" y="528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Mat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28960" y="45576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Ad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91080" y="654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I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6240" y="230364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Jez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09920" y="265284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God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33360" y="284148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1" idx="1"/>
            <a:endCxn id="722" idx="2"/>
          </p:cNvCxnSpPr>
          <p:nvPr/>
        </p:nvCxnSpPr>
        <p:spPr>
          <a:xfrm flipH="1" flipV="1">
            <a:off x="1563480" y="777600"/>
            <a:ext cx="862560" cy="112464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cxnSp>
        <p:nvCxnSpPr>
          <p:cNvPr id="729" name=""/>
          <p:cNvCxnSpPr>
            <a:stCxn id="721" idx="1"/>
            <a:endCxn id="725" idx="0"/>
          </p:cNvCxnSpPr>
          <p:nvPr/>
        </p:nvCxnSpPr>
        <p:spPr>
          <a:xfrm flipH="1">
            <a:off x="1611000" y="1901880"/>
            <a:ext cx="815040" cy="40248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cxnSp>
        <p:nvCxnSpPr>
          <p:cNvPr id="730" name=""/>
          <p:cNvCxnSpPr>
            <a:endCxn id="723" idx="2"/>
          </p:cNvCxnSpPr>
          <p:nvPr/>
        </p:nvCxnSpPr>
        <p:spPr>
          <a:xfrm flipH="1" flipV="1">
            <a:off x="2493360" y="704520"/>
            <a:ext cx="338760" cy="106920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cxnSp>
        <p:nvCxnSpPr>
          <p:cNvPr id="731" name=""/>
          <p:cNvCxnSpPr>
            <a:stCxn id="721" idx="0"/>
            <a:endCxn id="724" idx="1"/>
          </p:cNvCxnSpPr>
          <p:nvPr/>
        </p:nvCxnSpPr>
        <p:spPr>
          <a:xfrm flipV="1">
            <a:off x="2817720" y="778680"/>
            <a:ext cx="1774080" cy="96588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cxnSp>
        <p:nvCxnSpPr>
          <p:cNvPr id="732" name=""/>
          <p:cNvCxnSpPr>
            <a:stCxn id="721" idx="2"/>
            <a:endCxn id="726" idx="0"/>
          </p:cNvCxnSpPr>
          <p:nvPr/>
        </p:nvCxnSpPr>
        <p:spPr>
          <a:xfrm>
            <a:off x="2817360" y="2058840"/>
            <a:ext cx="1958040" cy="59472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cxnSp>
        <p:nvCxnSpPr>
          <p:cNvPr id="733" name=""/>
          <p:cNvCxnSpPr>
            <a:stCxn id="721" idx="2"/>
            <a:endCxn id="727" idx="0"/>
          </p:cNvCxnSpPr>
          <p:nvPr/>
        </p:nvCxnSpPr>
        <p:spPr>
          <a:xfrm flipH="1">
            <a:off x="1697760" y="2058840"/>
            <a:ext cx="1119960" cy="78336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cxnSp>
        <p:nvCxnSpPr>
          <p:cNvPr id="734" name=""/>
          <p:cNvCxnSpPr>
            <a:stCxn id="716" idx="0"/>
            <a:endCxn id="724" idx="3"/>
          </p:cNvCxnSpPr>
          <p:nvPr/>
        </p:nvCxnSpPr>
        <p:spPr>
          <a:xfrm flipH="1" flipV="1">
            <a:off x="5520600" y="778680"/>
            <a:ext cx="1878840" cy="96588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sp>
        <p:nvSpPr>
          <p:cNvPr id="735" name=""/>
          <p:cNvSpPr/>
          <p:nvPr/>
        </p:nvSpPr>
        <p:spPr>
          <a:xfrm>
            <a:off x="8083440" y="954000"/>
            <a:ext cx="93024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cc0000"/>
                </a:solidFill>
                <a:latin typeface="Arial"/>
              </a:rPr>
              <a:t>Šifra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16" idx="0"/>
            <a:endCxn id="735" idx="2"/>
          </p:cNvCxnSpPr>
          <p:nvPr/>
        </p:nvCxnSpPr>
        <p:spPr>
          <a:xfrm flipV="1">
            <a:off x="7399440" y="1202760"/>
            <a:ext cx="1149840" cy="541800"/>
          </a:xfrm>
          <a:prstGeom prst="straightConnector1">
            <a:avLst/>
          </a:prstGeom>
          <a:ln w="9360">
            <a:solidFill>
              <a:srgbClr val="cc0000"/>
            </a:solidFill>
            <a:prstDash val="dash"/>
            <a:miter/>
          </a:ln>
        </p:spPr>
      </p:cxnSp>
      <p:sp>
        <p:nvSpPr>
          <p:cNvPr id="737" name=""/>
          <p:cNvSpPr/>
          <p:nvPr/>
        </p:nvSpPr>
        <p:spPr>
          <a:xfrm>
            <a:off x="1487520" y="917640"/>
            <a:ext cx="6760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 M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8960" y="1123920"/>
            <a:ext cx="11491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Ad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421080" y="10350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21320" y="101448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Naziv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87520" y="202896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M) ZnaJ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55840" y="238140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1) Star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98480" y="2552760"/>
            <a:ext cx="1149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cc0000"/>
                </a:solidFill>
                <a:latin typeface="Arial Narrow"/>
              </a:rPr>
              <a:t>(1,M)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99440" y="6238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ifO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16" idx="0"/>
            <a:endCxn id="744" idx="1"/>
          </p:cNvCxnSpPr>
          <p:nvPr/>
        </p:nvCxnSpPr>
        <p:spPr>
          <a:xfrm flipV="1">
            <a:off x="7399080" y="748440"/>
            <a:ext cx="108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6205680" y="65412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16" idx="0"/>
            <a:endCxn id="746" idx="3"/>
          </p:cNvCxnSpPr>
          <p:nvPr/>
        </p:nvCxnSpPr>
        <p:spPr>
          <a:xfrm flipH="1" flipV="1">
            <a:off x="7135560" y="778680"/>
            <a:ext cx="26424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09" idx="0"/>
            <a:endCxn id="744" idx="2"/>
          </p:cNvCxnSpPr>
          <p:nvPr/>
        </p:nvCxnSpPr>
        <p:spPr>
          <a:xfrm flipH="1" flipV="1">
            <a:off x="7864200" y="872640"/>
            <a:ext cx="219600" cy="44856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6" idx="2"/>
            <a:endCxn id="740" idx="0"/>
          </p:cNvCxnSpPr>
          <p:nvPr/>
        </p:nvCxnSpPr>
        <p:spPr>
          <a:xfrm flipH="1">
            <a:off x="6095160" y="902880"/>
            <a:ext cx="575640" cy="111960"/>
          </a:xfrm>
          <a:prstGeom prst="straightConnector1">
            <a:avLst/>
          </a:prstGeom>
          <a:ln w="5724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750" name=""/>
          <p:cNvSpPr/>
          <p:nvPr/>
        </p:nvSpPr>
        <p:spPr>
          <a:xfrm>
            <a:off x="3660840" y="4572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21" idx="0"/>
            <a:endCxn id="750" idx="2"/>
          </p:cNvCxnSpPr>
          <p:nvPr/>
        </p:nvCxnSpPr>
        <p:spPr>
          <a:xfrm flipV="1">
            <a:off x="2817720" y="706320"/>
            <a:ext cx="130896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39" idx="0"/>
            <a:endCxn id="750" idx="2"/>
          </p:cNvCxnSpPr>
          <p:nvPr/>
        </p:nvCxnSpPr>
        <p:spPr>
          <a:xfrm flipV="1">
            <a:off x="3995640" y="705960"/>
            <a:ext cx="131040" cy="32904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53" name=""/>
          <p:cNvSpPr/>
          <p:nvPr/>
        </p:nvSpPr>
        <p:spPr>
          <a:xfrm>
            <a:off x="2897280" y="70488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Ad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21" idx="0"/>
            <a:endCxn id="753" idx="2"/>
          </p:cNvCxnSpPr>
          <p:nvPr/>
        </p:nvCxnSpPr>
        <p:spPr>
          <a:xfrm flipV="1">
            <a:off x="2817360" y="953640"/>
            <a:ext cx="54540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38" idx="0"/>
            <a:endCxn id="753" idx="2"/>
          </p:cNvCxnSpPr>
          <p:nvPr/>
        </p:nvCxnSpPr>
        <p:spPr>
          <a:xfrm flipV="1">
            <a:off x="2603520" y="953640"/>
            <a:ext cx="759600" cy="17064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56" name=""/>
          <p:cNvSpPr/>
          <p:nvPr/>
        </p:nvSpPr>
        <p:spPr>
          <a:xfrm>
            <a:off x="3438360" y="2852640"/>
            <a:ext cx="930600" cy="24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tar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42" idx="2"/>
            <a:endCxn id="756" idx="0"/>
          </p:cNvCxnSpPr>
          <p:nvPr/>
        </p:nvCxnSpPr>
        <p:spPr>
          <a:xfrm>
            <a:off x="3830400" y="2615760"/>
            <a:ext cx="73800" cy="23724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58" name=""/>
          <p:cNvCxnSpPr>
            <a:stCxn id="721" idx="2"/>
            <a:endCxn id="756" idx="0"/>
          </p:cNvCxnSpPr>
          <p:nvPr/>
        </p:nvCxnSpPr>
        <p:spPr>
          <a:xfrm>
            <a:off x="2817360" y="2058480"/>
            <a:ext cx="10868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9" name=""/>
          <p:cNvSpPr/>
          <p:nvPr/>
        </p:nvSpPr>
        <p:spPr>
          <a:xfrm>
            <a:off x="-54000" y="5796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Mlb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0" name=""/>
          <p:cNvCxnSpPr>
            <a:stCxn id="721" idx="1"/>
            <a:endCxn id="759" idx="2"/>
          </p:cNvCxnSpPr>
          <p:nvPr/>
        </p:nvCxnSpPr>
        <p:spPr>
          <a:xfrm flipH="1" flipV="1">
            <a:off x="410760" y="828360"/>
            <a:ext cx="201528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7" idx="1"/>
            <a:endCxn id="759" idx="3"/>
          </p:cNvCxnSpPr>
          <p:nvPr/>
        </p:nvCxnSpPr>
        <p:spPr>
          <a:xfrm flipH="1" flipV="1">
            <a:off x="875880" y="704160"/>
            <a:ext cx="612000" cy="33084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167760" y="1595520"/>
            <a:ext cx="991440" cy="61380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62" idx="3"/>
            <a:endCxn id="721" idx="1"/>
          </p:cNvCxnSpPr>
          <p:nvPr/>
        </p:nvCxnSpPr>
        <p:spPr>
          <a:xfrm>
            <a:off x="1074240" y="1901520"/>
            <a:ext cx="1351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1054440" y="16286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ZnaJezik (1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6160" y="2568960"/>
            <a:ext cx="668520" cy="3070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ez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40" y="309096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stCxn id="765" idx="2"/>
            <a:endCxn id="766" idx="0"/>
          </p:cNvCxnSpPr>
          <p:nvPr/>
        </p:nvCxnSpPr>
        <p:spPr>
          <a:xfrm flipH="1">
            <a:off x="467640" y="2879280"/>
            <a:ext cx="19260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62" idx="2"/>
            <a:endCxn id="765" idx="0"/>
          </p:cNvCxnSpPr>
          <p:nvPr/>
        </p:nvCxnSpPr>
        <p:spPr>
          <a:xfrm flipH="1">
            <a:off x="659520" y="2165040"/>
            <a:ext cx="3960" cy="40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195120" y="2214720"/>
            <a:ext cx="8240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0,M) 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25" idx="2"/>
            <a:endCxn id="765" idx="3"/>
          </p:cNvCxnSpPr>
          <p:nvPr/>
        </p:nvCxnSpPr>
        <p:spPr>
          <a:xfrm flipH="1">
            <a:off x="998280" y="2552760"/>
            <a:ext cx="613440" cy="17064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771" name=""/>
          <p:cNvGrpSpPr/>
          <p:nvPr/>
        </p:nvGrpSpPr>
        <p:grpSpPr>
          <a:xfrm>
            <a:off x="2206800" y="3193920"/>
            <a:ext cx="1225440" cy="408240"/>
            <a:chOff x="2206800" y="3193920"/>
            <a:chExt cx="1225440" cy="408240"/>
          </a:xfrm>
        </p:grpSpPr>
        <p:sp>
          <p:nvSpPr>
            <p:cNvPr id="772" name=""/>
            <p:cNvSpPr/>
            <p:nvPr/>
          </p:nvSpPr>
          <p:spPr>
            <a:xfrm>
              <a:off x="2206800" y="3193920"/>
              <a:ext cx="1225440" cy="40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90680" y="3262320"/>
              <a:ext cx="105840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Ispl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74" name=""/>
          <p:cNvCxnSpPr>
            <a:stCxn id="721" idx="2"/>
            <a:endCxn id="772" idx="0"/>
          </p:cNvCxnSpPr>
          <p:nvPr/>
        </p:nvCxnSpPr>
        <p:spPr>
          <a:xfrm>
            <a:off x="2817360" y="2058480"/>
            <a:ext cx="2520" cy="11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2777040" y="236376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Narrow"/>
              </a:rPr>
              <a:t>(1,‚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43" idx="2"/>
          </p:cNvCxnSpPr>
          <p:nvPr/>
        </p:nvCxnSpPr>
        <p:spPr>
          <a:xfrm>
            <a:off x="2273040" y="2787120"/>
            <a:ext cx="330840" cy="30420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77" name=""/>
          <p:cNvSpPr/>
          <p:nvPr/>
        </p:nvSpPr>
        <p:spPr>
          <a:xfrm>
            <a:off x="933480" y="321480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40200" y="3338640"/>
            <a:ext cx="930240" cy="2491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7" idx="3"/>
            <a:endCxn id="773" idx="1"/>
          </p:cNvCxnSpPr>
          <p:nvPr/>
        </p:nvCxnSpPr>
        <p:spPr>
          <a:xfrm>
            <a:off x="1863720" y="3340080"/>
            <a:ext cx="42768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0" name=""/>
          <p:cNvCxnSpPr>
            <a:stCxn id="773" idx="3"/>
            <a:endCxn id="778" idx="1"/>
          </p:cNvCxnSpPr>
          <p:nvPr/>
        </p:nvCxnSpPr>
        <p:spPr>
          <a:xfrm>
            <a:off x="3349800" y="3402000"/>
            <a:ext cx="5911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5335560" y="2463840"/>
            <a:ext cx="3678120" cy="1001520"/>
          </a:xfrm>
          <a:prstGeom prst="wedgeRoundRectCallout">
            <a:avLst>
              <a:gd name="adj1" fmla="val -101402"/>
              <a:gd name="adj2" fmla="val 24486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 Narrow"/>
              </a:rPr>
              <a:t>Slabi objekat u modelu ne može da postoji (egzistencijalno je zavistan) i ne može da se identifikuje (identifikaciono je zavistan) bez veze sa njemu nadređenim objek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8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F46DC52-3D4E-46AC-B2A5-9837B65CEED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920" y="681120"/>
            <a:ext cx="907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snovu informacionog sistema čini baza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oja se sada može definisati i kao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kolekcija medjusobno povezanih podataka koja modelir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prikazuj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objekt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veze objekata i atribute objekata posmatranog realnog sistem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na zbog toga predstavlja fundamental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tabil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poro izmenljive karakteristike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bjekte u sistemu i njihove medjusobne vez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Zato se projekat IS mora bazirati na bazi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ko je baza podataka dobar model stanja realnog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ko programi za održavanje dobro modeliraju dejstvo ulaza na stanje realnog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nda će se bilo koja informacija potrebna za upravlj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zlaz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čak i one unapred nepredvidjen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oći dobiti iz I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5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A5CD98A-57A6-4DB5-B5A2-3E781777961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OV-sadrž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ODELIRANJE-P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Atribut i 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920" y="330120"/>
            <a:ext cx="91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Definicije atributa, odnosno njihovih domena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Najpogodnije je definicije dati preko tabela. Jezik za definisanje ograničenja se bazira na konceptu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imitivnih i složenih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ograničen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Primitivna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ograničenja se konstruišu preko sledećih opera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Θ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konstanta, gde je </a:t>
            </a: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Θ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bilo koji operator poređenja koji se na datom domenu može definisati (&gt;,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&gt;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,&lt;,</a:t>
            </a: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 Narrow"/>
              </a:rPr>
              <a:t>&lt;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, =,   ) a konstanta je neka vrednost iz datog dom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Between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konstanta, gde su konstante vrednosti iz datog dom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In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(lista vrednosti), gde se lista formira od konstanti iz odgovarajućeg dom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8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NotNul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l, kada dato polje ne može da dobije “nula vrednost”, odnosno mora da ima v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Složena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ograničenja se formiraju od primitivnih ili drugih složenih ograničenja vezujući ih logičkim operatorima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And, Or,</a:t>
            </a:r>
            <a:r>
              <a:rPr b="1" lang="sr-Latn-CS" sz="2000" spc="-1" strike="noStrike">
                <a:solidFill>
                  <a:srgbClr val="000099"/>
                </a:solidFill>
                <a:latin typeface="Arial Narrow"/>
              </a:rPr>
              <a:t> i </a:t>
            </a:r>
            <a:r>
              <a:rPr b="1" lang="sr-Latn-CS" sz="2000" spc="-1" strike="noStrike">
                <a:solidFill>
                  <a:srgbClr val="cc0000"/>
                </a:solidFill>
                <a:latin typeface="Arial Narrow"/>
              </a:rPr>
              <a:t>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127240" y="2076480"/>
                <a:ext cx="1904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365040" y="3854520"/>
          <a:ext cx="8483760" cy="2519280"/>
        </p:xfrm>
        <a:graphic>
          <a:graphicData uri="http://schemas.openxmlformats.org/drawingml/2006/table">
            <a:tbl>
              <a:tblPr/>
              <a:tblGrid>
                <a:gridCol w="1949760"/>
                <a:gridCol w="2278080"/>
                <a:gridCol w="4255920"/>
              </a:tblGrid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RI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GRANIČE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Null And Substring(1,2) Between 1,31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string(3,4) Between 1,12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ziv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(Srpski,Ruski, Engleski, Nemačk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tween 15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if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uo_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1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92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12D9160-7C94-48F3-9A58-AEDA1778FEED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2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DF358BA-5A3A-417D-87E9-F1B29155E792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OV-sadrž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2440"/>
            <a:ext cx="910908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Model objekti-veze je najpopularniji i u praksi projektovanja BP najviše korišćeni konvencionalni model podatka. Postoji više različitih verzija ovog modela.  Ovde se izlaže jedna specifična verzija, Prošireni model objekti-veze (PMOV),  koja polazi od originalne Chen-ove verzije i not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buhvat poglav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Struktura mod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grani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per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Dinamička pravila integr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Strukturna dinamička pravila integriteta i fizički M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Verzije M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Na kraju, preko jednog primera,  prikazaću vam i notaciju  standarda IDEF1X, na kome se bazira CASE alat ERwin, veoma često korišćeni alat za modeliranje podataka preko  Modela objekti v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69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ACC8BB2-79A2-4254-8F26-292041EDD30A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Uvod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2440"/>
            <a:ext cx="910908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Model podatak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 je intelektualno sredstvo za opis statičkih karkatristika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pis karakteristika sistema u nekom stacionarnom stan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Stacionarno stanje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 nekog sistema karakteriše se skupom zavisnosti koje postoje izmedju objekata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ve zavisnosti 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u modelu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ogu predstaviti bilo strukturom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bilo skupom ograničenja na vrednosti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red tog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eophodno je definisati i skup operacija modela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a bi se preko nji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u modelima proces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ogla da opiše i dinamika realnog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Zbog toga svaki model podataka poseduje tri osnovne komponent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Strukturu model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dnosno skup koncepata za opis objekata sistema njihovih atributa i njihovih mejdusobnih vez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76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4892D0-936D-4B67-B129-D20815F66611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Uvod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293760"/>
            <a:ext cx="910908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Ograničen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emantička ograničenja na vrednosti podataka koja u svakom stacionarnom stanju moraju biti zadovoljen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va ograničenja se obično nazivaju pravilima integriteta modela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peracije nad konceptima strukt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d definisanim ograničenji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eko kojih je moguće opisati dinamiku sistema u modelima proces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snovni problem u razvoju IS je savladavanje složenosti u opisivan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modeliranj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pšti metodološki pristup opisivanju složenih sistema je 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apstrakcij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  <a:ea typeface="Arial"/>
              </a:rPr>
              <a:t>Apstrakcija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 je kontrolisano uključivanje detal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sakriv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detal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dnos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"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zvlače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"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opštih karakteristika u opisivanju nekog sistem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stupak inverzan apstrakciji nazivamo detaljisan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Koristeći se različitim nivoima apstrak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eki složeni sistem se može istovremeno i jasno i detaljno opisat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a višim nivoima jas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na nižim detaljno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ostepenim i kontrolisanim uključivanjem detalj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83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00281E0-A994-4FC2-A0E9-D1EF1B64C63F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Uvod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I u modeliranju podataka i u modeliranju procesa koristi se princip apstrak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U modeliranju podataka definišu se različite apstrakcije podatak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a u modeliranju procesa tzv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  <a:ea typeface="Arial"/>
              </a:rPr>
              <a:t>proceduralne apstrakcij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9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FC9C35-8AE4-49DC-BCCB-A513F211E11E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Uvod,osnovni koncep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2880"/>
            <a:ext cx="91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Objekat ili entitet je osnovni koncept u PM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Na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MOV egzistiraju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ledeć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grafičk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simbol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i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52800" y="1276200"/>
          <a:ext cx="4106880" cy="5132520"/>
        </p:xfrm>
        <a:graphic>
          <a:graphicData uri="http://schemas.openxmlformats.org/drawingml/2006/table">
            <a:tbl>
              <a:tblPr/>
              <a:tblGrid>
                <a:gridCol w="1744560"/>
                <a:gridCol w="2362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p objek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fički si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k objek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ern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lab objek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gregacij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kompo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neraliyacij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jali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rib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280040" y="1849320"/>
            <a:ext cx="1712880" cy="525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05240" y="2668680"/>
            <a:ext cx="1712880" cy="525240"/>
            <a:chOff x="4305240" y="2668680"/>
            <a:chExt cx="1712880" cy="525240"/>
          </a:xfrm>
        </p:grpSpPr>
        <p:sp>
          <p:nvSpPr>
            <p:cNvPr id="99" name=""/>
            <p:cNvSpPr/>
            <p:nvPr/>
          </p:nvSpPr>
          <p:spPr>
            <a:xfrm>
              <a:off x="4305240" y="2668680"/>
              <a:ext cx="1712880" cy="525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2960" y="2779560"/>
              <a:ext cx="1479600" cy="309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311720" y="3586320"/>
            <a:ext cx="1712880" cy="525240"/>
            <a:chOff x="4311720" y="3586320"/>
            <a:chExt cx="1712880" cy="525240"/>
          </a:xfrm>
        </p:grpSpPr>
        <p:sp>
          <p:nvSpPr>
            <p:cNvPr id="102" name=""/>
            <p:cNvSpPr/>
            <p:nvPr/>
          </p:nvSpPr>
          <p:spPr>
            <a:xfrm>
              <a:off x="4311720" y="3586320"/>
              <a:ext cx="1712880" cy="525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1720" y="3586320"/>
              <a:ext cx="1712880" cy="525240"/>
            </a:xfrm>
            <a:prstGeom prst="flowChartDecision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280040" y="5289480"/>
            <a:ext cx="1712880" cy="38736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5934240"/>
            <a:ext cx="1749240" cy="3618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6160" y="4386240"/>
            <a:ext cx="1710000" cy="67428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08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37147C2-F873-43B3-835E-FAB8C5C6D723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Uvod, klasifikacija</a:t>
            </a: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" y="385920"/>
            <a:ext cx="91090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(1)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Klasifikacija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tipizacija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i uzorkovanje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Klasifikacija ili tipizacija je apstrakcija u kojoj se skup sličnih objekata pretstavlja jednom klasom objeka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dnosno svaki objekat iz posmatranog skupa odgovarajućim tipom objek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99"/>
                </a:solidFill>
                <a:latin typeface="Arial Narrow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 prim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kup Miloš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oran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Goran se pretstavljaja kla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dnosno sva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bjekat iz toga skupa tip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bjekta Studen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lični objek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u oni objekti koji imaju i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tribut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vojstv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koji mogu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tupe u iste veze sa drugim objek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 sitemu i na koje se mogu primen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ste operaci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ostupak detaljisanja 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vu apstrakciju se naziva uzorkovanj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etstavlja prikazivanje jednog pojavljivan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zor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imerk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datog tipa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li klase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92600" y="1897200"/>
            <a:ext cx="5298840" cy="4283280"/>
            <a:chOff x="3792600" y="1897200"/>
            <a:chExt cx="5298840" cy="4283280"/>
          </a:xfrm>
        </p:grpSpPr>
        <p:sp>
          <p:nvSpPr>
            <p:cNvPr id="115" name=""/>
            <p:cNvSpPr/>
            <p:nvPr/>
          </p:nvSpPr>
          <p:spPr>
            <a:xfrm>
              <a:off x="4527360" y="3863880"/>
              <a:ext cx="707760" cy="34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27360" y="4330800"/>
              <a:ext cx="707760" cy="355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7360" y="4821120"/>
              <a:ext cx="707760" cy="3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38440" y="3751200"/>
              <a:ext cx="87120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4000" y="3751200"/>
              <a:ext cx="10029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57920" y="3751200"/>
              <a:ext cx="10011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80040" y="3751200"/>
              <a:ext cx="10029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03840" y="3863880"/>
              <a:ext cx="3112560" cy="34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3840" y="4354560"/>
              <a:ext cx="3112560" cy="34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03840" y="4821120"/>
              <a:ext cx="3112560" cy="3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3840" y="5524560"/>
              <a:ext cx="93312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96080" y="5524560"/>
              <a:ext cx="9298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4160" y="5524560"/>
              <a:ext cx="9280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5720" y="5281560"/>
              <a:ext cx="108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10280" y="542124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5" y="65"/>
                  </a:lnTo>
                  <a:lnTo>
                    <a:pt x="0" y="0"/>
                  </a:lnTo>
                  <a:lnTo>
                    <a:pt x="35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72000" y="5281560"/>
              <a:ext cx="144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18360" y="542124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56320" y="5281560"/>
              <a:ext cx="144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02320" y="542124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35480" y="4057560"/>
              <a:ext cx="46800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5480" y="400356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65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235480" y="4524480"/>
              <a:ext cx="46800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35480" y="447048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235480" y="4998960"/>
              <a:ext cx="46800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5480" y="494496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27360" y="3144960"/>
              <a:ext cx="707760" cy="34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35480" y="3314520"/>
              <a:ext cx="312048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35480" y="3265560"/>
              <a:ext cx="10440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0" y="31"/>
                  </a:lnTo>
                  <a:lnTo>
                    <a:pt x="66" y="0"/>
                  </a:lnTo>
                  <a:lnTo>
                    <a:pt x="32" y="31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56320" y="3314520"/>
              <a:ext cx="144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250040" y="3314520"/>
              <a:ext cx="108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176880" y="3314520"/>
              <a:ext cx="108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879800" y="3492000"/>
              <a:ext cx="1080" cy="258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25800" y="349236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34" y="0"/>
                  </a:lnTo>
                  <a:lnTo>
                    <a:pt x="66" y="66"/>
                  </a:lnTo>
                  <a:lnTo>
                    <a:pt x="34" y="3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61560" y="3268800"/>
              <a:ext cx="59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8680" y="398772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1160" y="447336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D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2280" y="49496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AR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81600" y="4002120"/>
              <a:ext cx="32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il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48480" y="4473360"/>
              <a:ext cx="72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viji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1640" y="49496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7920" y="4002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Z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95000" y="44733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jeg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88960" y="49640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82640" y="400212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44480" y="447336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manjina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12880" y="49640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86000" y="5530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08120" y="5530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16200" y="5530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96080" y="3002040"/>
              <a:ext cx="9298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97840" y="3002040"/>
              <a:ext cx="9280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49360" y="306072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ASTAVN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84320" y="306072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DM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92600" y="2735280"/>
              <a:ext cx="5298840" cy="91260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63960" y="2581200"/>
              <a:ext cx="26640" cy="579600"/>
            </a:xfrm>
            <a:custGeom>
              <a:avLst/>
              <a:gdLst/>
              <a:ahLst/>
              <a:rect l="l" t="t" r="r" b="b"/>
              <a:pathLst>
                <a:path w="17" h="365">
                  <a:moveTo>
                    <a:pt x="0" y="355"/>
                  </a:moveTo>
                  <a:lnTo>
                    <a:pt x="0" y="360"/>
                  </a:lnTo>
                  <a:lnTo>
                    <a:pt x="5" y="360"/>
                  </a:lnTo>
                  <a:lnTo>
                    <a:pt x="5" y="365"/>
                  </a:lnTo>
                  <a:lnTo>
                    <a:pt x="10" y="365"/>
                  </a:lnTo>
                  <a:lnTo>
                    <a:pt x="17" y="35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63960" y="2581200"/>
              <a:ext cx="2399760" cy="31680"/>
            </a:xfrm>
            <a:custGeom>
              <a:avLst/>
              <a:gdLst/>
              <a:ahLst/>
              <a:rect l="l" t="t" r="r" b="b"/>
              <a:pathLst>
                <a:path w="1512" h="20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503" y="20"/>
                  </a:lnTo>
                  <a:lnTo>
                    <a:pt x="1512" y="10"/>
                  </a:lnTo>
                  <a:lnTo>
                    <a:pt x="1512" y="5"/>
                  </a:lnTo>
                  <a:lnTo>
                    <a:pt x="1507" y="5"/>
                  </a:lnTo>
                  <a:lnTo>
                    <a:pt x="1507" y="0"/>
                  </a:lnTo>
                  <a:lnTo>
                    <a:pt x="150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21240" y="2589120"/>
              <a:ext cx="39600" cy="425520"/>
            </a:xfrm>
            <a:custGeom>
              <a:avLst/>
              <a:gdLst/>
              <a:ahLst/>
              <a:rect l="l" t="t" r="r" b="b"/>
              <a:pathLst>
                <a:path w="25" h="268">
                  <a:moveTo>
                    <a:pt x="25" y="7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68"/>
                  </a:lnTo>
                  <a:lnTo>
                    <a:pt x="13" y="268"/>
                  </a:lnTo>
                  <a:lnTo>
                    <a:pt x="25" y="260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30880" y="1967040"/>
              <a:ext cx="704520" cy="355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2160" y="2373120"/>
              <a:ext cx="29880" cy="2239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19" y="9"/>
                  </a:moveTo>
                  <a:lnTo>
                    <a:pt x="1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141"/>
                  </a:lnTo>
                  <a:lnTo>
                    <a:pt x="9" y="141"/>
                  </a:lnTo>
                  <a:lnTo>
                    <a:pt x="19" y="13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21400" y="2322360"/>
              <a:ext cx="131400" cy="15408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0" y="97"/>
                  </a:moveTo>
                  <a:lnTo>
                    <a:pt x="41" y="0"/>
                  </a:lnTo>
                  <a:lnTo>
                    <a:pt x="83" y="97"/>
                  </a:lnTo>
                  <a:lnTo>
                    <a:pt x="41" y="7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1840" y="203832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Đ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N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60640" y="1897200"/>
              <a:ext cx="704520" cy="35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4000" y="2249280"/>
              <a:ext cx="1080" cy="486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43240" y="2249280"/>
              <a:ext cx="10116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63"/>
                  </a:moveTo>
                  <a:lnTo>
                    <a:pt x="32" y="0"/>
                  </a:lnTo>
                  <a:lnTo>
                    <a:pt x="64" y="63"/>
                  </a:lnTo>
                  <a:lnTo>
                    <a:pt x="32" y="3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3160" y="197784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44760" y="6105600"/>
              <a:ext cx="425160" cy="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65520" y="604980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66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3800" y="5997600"/>
              <a:ext cx="135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lasifikacija (tipizaci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65720" y="6103800"/>
              <a:ext cx="46152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54520" y="604980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0"/>
                  </a:moveTo>
                  <a:lnTo>
                    <a:pt x="64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58560" y="599292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greg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64160" y="6087960"/>
              <a:ext cx="491760" cy="27000"/>
            </a:xfrm>
            <a:custGeom>
              <a:avLst/>
              <a:gdLst/>
              <a:ahLst/>
              <a:rect l="l" t="t" r="r" b="b"/>
              <a:pathLst>
                <a:path w="310" h="17">
                  <a:moveTo>
                    <a:pt x="1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300" y="17"/>
                  </a:lnTo>
                  <a:lnTo>
                    <a:pt x="310" y="10"/>
                  </a:lnTo>
                  <a:lnTo>
                    <a:pt x="310" y="5"/>
                  </a:lnTo>
                  <a:lnTo>
                    <a:pt x="305" y="5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1520" y="6033960"/>
              <a:ext cx="153720" cy="13644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0"/>
                  </a:moveTo>
                  <a:lnTo>
                    <a:pt x="97" y="44"/>
                  </a:lnTo>
                  <a:lnTo>
                    <a:pt x="0" y="86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83360" y="599292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eneraliz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6526080"/>
            <a:ext cx="9143640" cy="327240"/>
            <a:chOff x="0" y="6526080"/>
            <a:chExt cx="9143640" cy="327240"/>
          </a:xfrm>
        </p:grpSpPr>
        <p:sp>
          <p:nvSpPr>
            <p:cNvPr id="190" name=""/>
            <p:cNvSpPr/>
            <p:nvPr/>
          </p:nvSpPr>
          <p:spPr>
            <a:xfrm>
              <a:off x="34560" y="6607080"/>
              <a:ext cx="910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19CCC1B-B3ED-4565-97FD-3E30894ED638}" type="slidenum">
                <a:rPr b="1" lang="sl-SI" sz="1000" spc="-1" strike="noStrike">
                  <a:solidFill>
                    <a:srgbClr val="000066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60" y="6607080"/>
              <a:ext cx="243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      </a:t>
              </a:r>
              <a:r>
                <a:rPr b="1" lang="sr-Latn-CS" sz="1000" spc="-1" strike="noStrike">
                  <a:solidFill>
                    <a:srgbClr val="000066"/>
                  </a:solidFill>
                  <a:latin typeface="Arial"/>
                </a:rPr>
                <a:t>BP-4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0" y="6526080"/>
            <a:ext cx="232200" cy="2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6526080"/>
                      <a:ext cx="2322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BP–Modul3-NJ4-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DELIRANJE-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V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Uvod, klasifikacija</a:t>
            </a: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96720"/>
            <a:ext cx="910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(1)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Klasifikacija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tipizacija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i uzorkovanje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 sam atribut nekog objekta može se tretirati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u najopštijem smislu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kao objekat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 taj način se očigledno može definisati tip 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 primer BO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i pojavljivanje 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 primer Plav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Crve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eleno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Skup svih mogućih pojavljivanja jedn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a atributa se naziva d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(2) </a:t>
            </a:r>
            <a:r>
              <a:rPr b="1" lang="sr-Latn-C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Generalizacija i specijalizacija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Generalizacija je apstrakcija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kojoj se skup sličnih tipova obje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retstavlja opštijim generič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 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nadtipom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.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Pod sličn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vima objekata ovde se mog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retirati tipovi objekata koji im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jedan broj istih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zajedničkih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atribut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tipova veza sa drugim objektim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sr-Latn-C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operacija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792600" y="1897200"/>
            <a:ext cx="5298840" cy="4283280"/>
            <a:chOff x="3792600" y="1897200"/>
            <a:chExt cx="5298840" cy="4283280"/>
          </a:xfrm>
        </p:grpSpPr>
        <p:sp>
          <p:nvSpPr>
            <p:cNvPr id="197" name=""/>
            <p:cNvSpPr/>
            <p:nvPr/>
          </p:nvSpPr>
          <p:spPr>
            <a:xfrm>
              <a:off x="4527360" y="3863880"/>
              <a:ext cx="707760" cy="34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7360" y="4330800"/>
              <a:ext cx="707760" cy="355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27360" y="4821120"/>
              <a:ext cx="707760" cy="3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38440" y="3751200"/>
              <a:ext cx="87120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34000" y="3751200"/>
              <a:ext cx="10029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57920" y="3751200"/>
              <a:ext cx="10011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0040" y="3751200"/>
              <a:ext cx="1002960" cy="153036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3840" y="3863880"/>
              <a:ext cx="3112560" cy="34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3840" y="4354560"/>
              <a:ext cx="3112560" cy="34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03840" y="4821120"/>
              <a:ext cx="3112560" cy="3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03840" y="5524560"/>
              <a:ext cx="93312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96080" y="5524560"/>
              <a:ext cx="9298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04160" y="5524560"/>
              <a:ext cx="9280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65720" y="5281560"/>
              <a:ext cx="108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0280" y="542124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5" y="65"/>
                  </a:lnTo>
                  <a:lnTo>
                    <a:pt x="0" y="0"/>
                  </a:lnTo>
                  <a:lnTo>
                    <a:pt x="35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72000" y="5281560"/>
              <a:ext cx="144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18360" y="542124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56320" y="5281560"/>
              <a:ext cx="1440" cy="243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02320" y="542124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0"/>
                  </a:moveTo>
                  <a:lnTo>
                    <a:pt x="34" y="65"/>
                  </a:lnTo>
                  <a:lnTo>
                    <a:pt x="0" y="0"/>
                  </a:lnTo>
                  <a:lnTo>
                    <a:pt x="34" y="3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35480" y="4057560"/>
              <a:ext cx="46800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35480" y="4003560"/>
              <a:ext cx="10440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65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235480" y="4524480"/>
              <a:ext cx="468000" cy="144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35480" y="447048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235480" y="4998960"/>
              <a:ext cx="46800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5480" y="494496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32" y="34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27360" y="3144960"/>
              <a:ext cx="707760" cy="34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5480" y="3314520"/>
              <a:ext cx="3120480" cy="180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35480" y="3265560"/>
              <a:ext cx="10440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0" y="31"/>
                  </a:lnTo>
                  <a:lnTo>
                    <a:pt x="66" y="0"/>
                  </a:lnTo>
                  <a:lnTo>
                    <a:pt x="32" y="31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56320" y="3314520"/>
              <a:ext cx="144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250040" y="3314520"/>
              <a:ext cx="108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176880" y="3314520"/>
              <a:ext cx="1080" cy="54936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79800" y="3492000"/>
              <a:ext cx="1080" cy="258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25800" y="349236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66"/>
                  </a:moveTo>
                  <a:lnTo>
                    <a:pt x="34" y="0"/>
                  </a:lnTo>
                  <a:lnTo>
                    <a:pt x="66" y="66"/>
                  </a:lnTo>
                  <a:lnTo>
                    <a:pt x="34" y="3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61560" y="3268800"/>
              <a:ext cx="59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38680" y="398772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01160" y="447336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D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62280" y="49496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AR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81600" y="4002120"/>
              <a:ext cx="32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il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48480" y="4473360"/>
              <a:ext cx="72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viji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31640" y="49496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7920" y="4002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Z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95000" y="447336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jego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š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va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88960" y="49640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82640" y="400212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r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44480" y="447336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manjina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2880" y="49640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86000" y="5530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08120" y="5530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16200" y="5530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uden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96080" y="3002040"/>
              <a:ext cx="9298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97840" y="3002040"/>
              <a:ext cx="928080" cy="20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9360" y="306072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ASTAVN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4320" y="306072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DM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92600" y="2735280"/>
              <a:ext cx="5298840" cy="912600"/>
            </a:xfrm>
            <a:prstGeom prst="rect">
              <a:avLst/>
            </a:pr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63960" y="2581200"/>
              <a:ext cx="26640" cy="579600"/>
            </a:xfrm>
            <a:custGeom>
              <a:avLst/>
              <a:gdLst/>
              <a:ahLst/>
              <a:rect l="l" t="t" r="r" b="b"/>
              <a:pathLst>
                <a:path w="17" h="365">
                  <a:moveTo>
                    <a:pt x="0" y="355"/>
                  </a:moveTo>
                  <a:lnTo>
                    <a:pt x="0" y="360"/>
                  </a:lnTo>
                  <a:lnTo>
                    <a:pt x="5" y="360"/>
                  </a:lnTo>
                  <a:lnTo>
                    <a:pt x="5" y="365"/>
                  </a:lnTo>
                  <a:lnTo>
                    <a:pt x="10" y="365"/>
                  </a:lnTo>
                  <a:lnTo>
                    <a:pt x="17" y="35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63960" y="2581200"/>
              <a:ext cx="2399760" cy="31680"/>
            </a:xfrm>
            <a:custGeom>
              <a:avLst/>
              <a:gdLst/>
              <a:ahLst/>
              <a:rect l="l" t="t" r="r" b="b"/>
              <a:pathLst>
                <a:path w="1512" h="20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503" y="20"/>
                  </a:lnTo>
                  <a:lnTo>
                    <a:pt x="1512" y="10"/>
                  </a:lnTo>
                  <a:lnTo>
                    <a:pt x="1512" y="5"/>
                  </a:lnTo>
                  <a:lnTo>
                    <a:pt x="1507" y="5"/>
                  </a:lnTo>
                  <a:lnTo>
                    <a:pt x="1507" y="0"/>
                  </a:lnTo>
                  <a:lnTo>
                    <a:pt x="150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1240" y="2589120"/>
              <a:ext cx="39600" cy="425520"/>
            </a:xfrm>
            <a:custGeom>
              <a:avLst/>
              <a:gdLst/>
              <a:ahLst/>
              <a:rect l="l" t="t" r="r" b="b"/>
              <a:pathLst>
                <a:path w="25" h="268">
                  <a:moveTo>
                    <a:pt x="25" y="7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68"/>
                  </a:lnTo>
                  <a:lnTo>
                    <a:pt x="13" y="268"/>
                  </a:lnTo>
                  <a:lnTo>
                    <a:pt x="25" y="260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30880" y="1967040"/>
              <a:ext cx="704520" cy="355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72160" y="2373120"/>
              <a:ext cx="29880" cy="2239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19" y="9"/>
                  </a:moveTo>
                  <a:lnTo>
                    <a:pt x="1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6"/>
                  </a:lnTo>
                  <a:lnTo>
                    <a:pt x="5" y="136"/>
                  </a:lnTo>
                  <a:lnTo>
                    <a:pt x="5" y="141"/>
                  </a:lnTo>
                  <a:lnTo>
                    <a:pt x="9" y="141"/>
                  </a:lnTo>
                  <a:lnTo>
                    <a:pt x="19" y="13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21400" y="2322360"/>
              <a:ext cx="131400" cy="15408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0" y="97"/>
                  </a:moveTo>
                  <a:lnTo>
                    <a:pt x="41" y="0"/>
                  </a:lnTo>
                  <a:lnTo>
                    <a:pt x="83" y="97"/>
                  </a:lnTo>
                  <a:lnTo>
                    <a:pt x="41" y="7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61840" y="203832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 Narrow"/>
                </a:rPr>
                <a:t>Đ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N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60640" y="1897200"/>
              <a:ext cx="704520" cy="35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4000" y="2249280"/>
              <a:ext cx="1080" cy="486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43240" y="2249280"/>
              <a:ext cx="10116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63"/>
                  </a:moveTo>
                  <a:lnTo>
                    <a:pt x="32" y="0"/>
                  </a:lnTo>
                  <a:lnTo>
                    <a:pt x="64" y="63"/>
                  </a:lnTo>
                  <a:lnTo>
                    <a:pt x="32" y="3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53160" y="197784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44760" y="6105600"/>
              <a:ext cx="425160" cy="0"/>
            </a:xfrm>
            <a:prstGeom prst="line">
              <a:avLst/>
            </a:prstGeom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65520" y="604980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0"/>
                  </a:moveTo>
                  <a:lnTo>
                    <a:pt x="66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53800" y="5997600"/>
              <a:ext cx="135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lasifikacija (tipizaci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65720" y="6103800"/>
              <a:ext cx="46152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54520" y="604980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0"/>
                  </a:moveTo>
                  <a:lnTo>
                    <a:pt x="64" y="34"/>
                  </a:lnTo>
                  <a:lnTo>
                    <a:pt x="0" y="66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8560" y="599292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greg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64160" y="6087960"/>
              <a:ext cx="491760" cy="27000"/>
            </a:xfrm>
            <a:custGeom>
              <a:avLst/>
              <a:gdLst/>
              <a:ahLst/>
              <a:rect l="l" t="t" r="r" b="b"/>
              <a:pathLst>
                <a:path w="310" h="17">
                  <a:moveTo>
                    <a:pt x="1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300" y="17"/>
                  </a:lnTo>
                  <a:lnTo>
                    <a:pt x="310" y="10"/>
                  </a:lnTo>
                  <a:lnTo>
                    <a:pt x="310" y="5"/>
                  </a:lnTo>
                  <a:lnTo>
                    <a:pt x="305" y="5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51520" y="6033960"/>
              <a:ext cx="153720" cy="13644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0"/>
                  </a:moveTo>
                  <a:lnTo>
                    <a:pt x="97" y="44"/>
                  </a:lnTo>
                  <a:lnTo>
                    <a:pt x="0" y="86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83360" y="599292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eneraliz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16:14:00Z</dcterms:created>
  <dc:creator>Lukic</dc:creator>
  <dc:description/>
  <dc:language>en-US</dc:language>
  <cp:lastModifiedBy>Zoran</cp:lastModifiedBy>
  <dcterms:modified xsi:type="dcterms:W3CDTF">2005-10-09T07:30:15Z</dcterms:modified>
  <cp:revision>306</cp:revision>
  <dc:subject/>
  <dc:title>PowerPoint Presentation</dc:title>
</cp:coreProperties>
</file>