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28E-484F-4D3A-B6D5-6D2382ED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F6A-40C9-48D0-9EEE-6740CFDB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5F2-03D6-42A1-B0D5-2F14080C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106-13A3-43B8-806F-75287E3E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653-F6CF-4A7F-B23E-460BF90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4E2-FAB0-4DF9-9B90-C9114D9A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E41-7059-49BC-B184-089EABD3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373-8BA5-4C26-AC63-717547B1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D6E-C5C9-4E5F-BB32-FF1BDCA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23A-1295-4554-95EB-43F76AC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913-9939-4EA4-BDBD-25F8E3D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A28-3908-4A27-823B-4C98487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2EB-748B-42FF-B80F-7CB5204530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EEB-A2FD-42EF-9553-A38A992D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F859E09-5ED0-43FA-96BD-DD51F5A224F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Kako se vrši imenovanje objek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e ćete imenovati tako što ćete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čekirati objekat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uplim klik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m miš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Otvoriće vam se mali pravougaonik u kome će treptati kursor. Unesite ime objekta npr. ‘’TEXT’’ (slika 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09600" y="1658880"/>
            <a:ext cx="6743880" cy="49626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AAEB8E4-AC3D-45F7-AED9-7EFF0E76021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Kako se vrši imenovanje objek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formatirajte ime gore u meni baru (podebljajte ga, promenite veličinu fonta….itd.) ako zelite. Na kraju ćete dobi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nešto kao na (slici 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4040" y="1332000"/>
            <a:ext cx="7448400" cy="54496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546906-C6FF-4D64-9428-7F739EF4AFD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7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kon instalacije VISI-a na racunar, pratite sledeću putanju kako bi otvorili njegovo okruženje sa svim njegovim alatkama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opcijama kao na (slici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6840" y="1009800"/>
            <a:ext cx="8948880" cy="58039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587F402-F8CF-484F-A82E-8E15D31B157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kon ovog postupka trebalo bi da ste dobili (slika 2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080" y="601560"/>
            <a:ext cx="8669160" cy="598176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EA1FF9E-5B6E-46B2-ACC2-DD708BED5FE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87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o što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ste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id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el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na (slici 2) VISIO je program koji nudi mnogo mogućnocti tj. gotove nacrtane elemente (šablone) koji se nalaze u imenovanim folderima (fasciklama). Pritiskajte ponuđene fajlove, primetićete da svaki od njih ima različite šablone. Fajl (fascikla) koja će nama biti potrebana je Business Process koja izgleda kao na (slici 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7400" y="2050920"/>
            <a:ext cx="7476840" cy="45086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3EFC2DF-DD6B-46F5-B2D0-8743CE60172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7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aberite prvi šablon Audit Diagram (Metric). Otvoriće vam se radno okruzenje za zadati šablon koji izgleda kako na (slici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4560" y="981000"/>
            <a:ext cx="7994880" cy="58327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E0B728E-1CF0-44F4-B2C7-52BF70FC438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872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vam nedosta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fali VISIO-v Drawing meni (slika 5)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,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možete ga otvori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ako koristite sledeću putanju. U meni baru pritisnite Opciju View zatim čekirajte opciju Toolbars a zatim Drawing. U samom radnom prozoru Visio-vog šablona trebao bi sada davam se pojavi VISIO-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rawing meni.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rugi a i lakši način da dođete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ISIO-vog Drawing mena je da ptitisnete ikoni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a se nalazi u VISIO-vom meni baru.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a leve strane radnog okruženja imate takođ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aletu gotovih oblika koje možete da iskoris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 kreiranju željenog nacrta (slika 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48560" y="1346040"/>
            <a:ext cx="2201760" cy="692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480" y="2482920"/>
            <a:ext cx="396720" cy="363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54720" y="2087640"/>
            <a:ext cx="1695600" cy="4533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35640" y="1531800"/>
            <a:ext cx="41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572000" y="5160600"/>
            <a:ext cx="2514600" cy="41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1592CED-05E2-4FC1-948C-A93F47A4FEE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7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Kako se dobijaju oblici na radnom list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sto, pošto sad imate VISIO-v Drawing men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izaberite ikonicu (pravougaonik, elipsu) ili krive,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iknite na jednu od njih i unesite ih na radni list tako što ćete povlačiti sa leve strane na desnu. Pokušajte da dobijete isto što i na (slici 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3120" y="2104920"/>
            <a:ext cx="6197760" cy="45770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CCF436-9476-4C77-82E7-E7D3166BC58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7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Kako se pomeraju oblic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stavno kliknite na objekat koji želite da pomerite. Oko objekta će se pojaviti zeleni kvadratići i jedan kružić. Kvadratići ukazuju na to da je objekat čekiran ispreman za prenošenje po radom listu. Kruzić omogućava da se objekat može okretati I postavljati u bilo koju poziciju (slika 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03360" y="2104920"/>
            <a:ext cx="6154920" cy="4508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371BC5C-FAC5-4C08-8D8E-7DDBDD6B5BB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 –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VISIO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Times New Roman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Alat za modelovanje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7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želite da prenosite sve objekte ili samo nekoliko njih potrebno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je da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radnoj stranici uradite sledeće: za prenošenje samo nekoliko objekata držite CTRL i čekirajte objekte koje želite da pomerite. Kada dođete do zadnjeg objektu držite i dalje levi taster miša a pustite CTRL, zatim pomerite objekte na željeno mesto. Kada želite da čekirate sve objekte pritisnite tastere CTRL+A (slika 9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52760" y="2470320"/>
            <a:ext cx="5784840" cy="42303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1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1F6DDF-3276-4956-8BD9-A5309271169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2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07T11:27:56Z</dcterms:modified>
  <cp:revision>318</cp:revision>
  <dc:subject/>
  <dc:title>PowerPoint Presentation</dc:title>
</cp:coreProperties>
</file>