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5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2.png" ContentType="image/png"/>
  <Override PartName="/ppt/media/image8.wmf" ContentType="image/x-wmf"/>
  <Override PartName="/ppt/media/image4.jpeg" ContentType="image/jpeg"/>
  <Override PartName="/ppt/media/image38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3DC8-B009-4944-A2E7-0F79E470EFEF}" type="slidenum">
              <a:rPr b="0" lang="sr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1D65-16FD-4E57-9293-56E24CC58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342C-2DC6-408B-9A92-A1C043A4D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260E-5F2B-4839-AB6B-582198850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A45B-B689-4778-8575-52D5FE225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DB3B-F9E4-485B-90E0-4F770CDD7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2251-BA1F-421A-9B7E-EFAFBA8CB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43E9-F346-4CBD-8C06-942B48082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62E8-FBC2-4C7F-9925-B75157017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DA7E-E273-4CE4-BFAC-2AA04D7A4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5E53-8C1F-431D-9502-B21A78D44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1053-ED5E-4B09-A932-E74316E84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3059-21C5-4375-A5B2-F70BE5603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7E25-E023-4DBB-84CD-495AECFF9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71A7-730C-46B6-A48A-17D09BACD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723E-B7D8-40EE-AA0E-BF523D44A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D2F0-EE50-4538-A43C-2F6430DF9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5FF1-F810-4E60-B640-D0476B6BC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E7C2-F38A-4C06-8812-75DC23AF1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8573-208D-4D00-B2A4-3CFE3678E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E80-6963-44D9-A3A8-5E7F8470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3DD-AA8F-49E9-B3F1-B0973E96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2A1-F79C-4E24-A5F3-6ED5CA15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85A-F529-4B52-8450-92997363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8196-8E7C-4D6D-9208-6B399836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D92F-19F1-4523-935E-1D7E31EE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DA1B-0D2F-4412-B373-E707F5CB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2D0-C11A-4F6D-A0D5-470A1B0C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FFD1-643D-406E-8F89-5949BE2D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BC2A-3782-458D-BB10-F5B8EBBD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27FB-7ED4-402E-9C4B-03E3DB84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DCE-06D6-4283-9C15-2C0E1169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0C5A-DB60-40B8-A1AC-0E3F06FB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93A0-278A-48A1-B181-4BA24341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3806-7AD6-4E6A-B805-39FB1647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A6ED-15C1-419A-A77D-7F4A9CC9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F338-3D97-44C5-B426-93C971D7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276B-A7F9-4178-991B-7937DD44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0435-0837-46A1-ADAD-CCCCDD2D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797F-7E09-4D8C-AB60-B130867C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BAAFC-B158-44DC-B3CD-0A84D0CC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C9B6-E379-4282-AE80-72FC6B04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4CF-4637-41F7-839A-B9849044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A76B-B13C-42D1-9282-16853631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21BE-2600-4455-83BB-1D7BCCB4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4546-1106-470F-AAC6-C902035E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F3E3-6907-41D4-BC1C-F6C311CB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07FF5-38A6-4FF6-8646-9CA9961C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03114-FEFE-4E9E-AB85-CC685BA4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AB8C-6389-4DA6-85B9-07F9E8E7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B6596-75AE-4543-BCB5-2CA988E3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AD286-C12A-4556-A3D9-8A3E2663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F35B-D7A6-4450-86AA-506967EA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791-8AC4-4676-8324-04DDCF8D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5B7A4-F778-40FF-8462-55A18C47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40DF-4643-4E73-AE14-DB567B05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5C88B-9E6A-46CE-943C-D096ECE0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64E4-5D24-46DA-80C2-9D731A35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7673A-D782-44A5-8ADB-48AA3383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6D01-C70E-4976-8337-2105AB70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B067-9F8D-4EB6-918F-44200E8C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54D2-2243-4732-87CF-F995492B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2D3BF-26E8-4AEB-A493-8B0D46F1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35D85-071F-45C2-BF0D-001481A6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6E2-D7FF-4288-B729-9A6F7EC1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B1DD2-7507-4032-AFAB-6C01ED9E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35C85-E9FE-443C-A384-6242696D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32B6C-E38F-4519-82CA-3192A86D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E326-C6F6-4404-89AA-824DB0C8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DF8EA-2E90-4F59-8A48-19ABA5D8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ABCE8-B4ED-4A5A-90E2-8DD041E7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84979-DCBB-484B-89FB-4AA0104E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5B01C-6F65-4452-8A55-A7643F0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D3838-3FE4-428C-AFC1-D7CECABF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18A91-A1E9-43A5-A0CD-1FC95FB2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DD6-1302-4B94-8F75-BBB6FCC7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3E72-62E0-4287-9C3B-EA74190E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2D44-0C88-4A2B-A07F-FC04DB85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0294C-B12A-47FF-A1E9-24AA79ED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BB5B8-D377-4675-8E32-731A039C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B17A7-8C9E-4AC1-B15E-212901E0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FB07-DE28-43E9-AA5E-9A7E6893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39013-DD07-4783-A565-1DF5F24F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2EBA1-968F-4842-995B-CFEB153D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E614C-6B93-4745-98BE-FD185D18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6DF40-1040-4D3F-9232-92361208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E94-3A75-46A0-ABF6-2E48FE3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1EFCE-04CC-4ACF-AE50-B557B2F5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7E02F-C91C-4413-855E-9EE962B7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A0AA1-48B2-46BB-BA12-BE3694E5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8B5-79B2-4520-BE20-31BE0A9E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2DC-8E79-4427-A8A1-C2B2DA8A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BACB-EDAD-4E74-B569-1F4B3891B0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45F8-325A-434C-B099-42E5190B11E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6C91-CBD7-40B5-933A-6D6F0769338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3A6B-C9E0-4A1D-8DBC-706360924C5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AD2C-565E-401D-A8FE-D4229621908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F092-24FE-46B4-A5D3-CFA6128CE0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2127240" y="1901880"/>
            <a:ext cx="6669000" cy="12794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399360" cy="83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a80404"/>
                </a:solidFill>
                <a:latin typeface="Constantia"/>
              </a:rPr>
              <a:t>ПМОВ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a80404"/>
                </a:solidFill>
                <a:latin typeface="Constantia"/>
              </a:rPr>
              <a:t>Проширени модел објекти везе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4580-AF5D-46FE-85AC-EBF9A8FAB6A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Набавка</a:t>
            </a:r>
            <a:r>
              <a:rPr b="0" lang="sr-Latn-CS" sz="3200" spc="-1" strike="noStrike">
                <a:solidFill>
                  <a:srgbClr val="04617b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 Подмодел за токове Фактура и Упла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3" name="Object 3"/>
          <p:cNvGraphicFramePr/>
          <p:nvPr/>
        </p:nvGraphicFramePr>
        <p:xfrm>
          <a:off x="2111400" y="1676520"/>
          <a:ext cx="544824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1676520"/>
                    <a:ext cx="544824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4"/>
          <p:cNvGraphicFramePr/>
          <p:nvPr/>
        </p:nvGraphicFramePr>
        <p:xfrm>
          <a:off x="974880" y="2011320"/>
          <a:ext cx="5462280" cy="43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4880" y="2011320"/>
                    <a:ext cx="54622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6FE0-0458-420E-A095-8FA6269F8B1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Интегрисани модел Набавк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9" name="Object 3"/>
          <p:cNvGraphicFramePr/>
          <p:nvPr/>
        </p:nvGraphicFramePr>
        <p:xfrm>
          <a:off x="1697040" y="2495520"/>
          <a:ext cx="574848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2495520"/>
                    <a:ext cx="574848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799B-D8BB-45CA-B82D-414D575DDB7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359080" y="1901880"/>
            <a:ext cx="6699240" cy="12794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D8FF-56EB-40B2-99F8-714941F4B25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DDB4-92F6-4C42-84C9-CD1C49EDE9A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838080" y="457200"/>
            <a:ext cx="7280280" cy="5562360"/>
            <a:chOff x="838080" y="457200"/>
            <a:chExt cx="7280280" cy="5562360"/>
          </a:xfrm>
        </p:grpSpPr>
        <p:sp>
          <p:nvSpPr>
            <p:cNvPr id="387" name="AutoShape 5"/>
            <p:cNvSpPr/>
            <p:nvPr/>
          </p:nvSpPr>
          <p:spPr>
            <a:xfrm>
              <a:off x="838080" y="686160"/>
              <a:ext cx="7280280" cy="53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aphicFrame>
          <p:nvGraphicFramePr>
            <p:cNvPr id="388" name="Object 2"/>
            <p:cNvGraphicFramePr/>
            <p:nvPr/>
          </p:nvGraphicFramePr>
          <p:xfrm>
            <a:off x="838080" y="1568520"/>
            <a:ext cx="6820920" cy="23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568520"/>
                      <a:ext cx="6820920" cy="23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0" name="Object 3"/>
            <p:cNvGraphicFramePr/>
            <p:nvPr/>
          </p:nvGraphicFramePr>
          <p:xfrm>
            <a:off x="1219320" y="457200"/>
            <a:ext cx="6790680" cy="1948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457200"/>
                      <a:ext cx="6790680" cy="194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4"/>
            <p:cNvGraphicFramePr/>
            <p:nvPr/>
          </p:nvGraphicFramePr>
          <p:xfrm>
            <a:off x="1524240" y="991440"/>
            <a:ext cx="6550200" cy="494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3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4240" y="991440"/>
                      <a:ext cx="6550200" cy="49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Подмодел за функцију </a:t>
            </a:r>
            <a:br>
              <a:rPr sz="3200"/>
            </a:b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Обрада поруџбин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95" name="Object 3"/>
          <p:cNvGraphicFramePr/>
          <p:nvPr/>
        </p:nvGraphicFramePr>
        <p:xfrm>
          <a:off x="380880" y="2514600"/>
          <a:ext cx="6400800" cy="35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14600"/>
                    <a:ext cx="640080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2438280" y="2209680"/>
          <a:ext cx="4953240" cy="304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209680"/>
                    <a:ext cx="495324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2F6A-8FEE-4C8A-BF5A-FE883DE69A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Подмодел за функцију Отпрем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01" name="Object 3"/>
          <p:cNvGraphicFramePr/>
          <p:nvPr/>
        </p:nvGraphicFramePr>
        <p:xfrm>
          <a:off x="838080" y="2514600"/>
          <a:ext cx="53071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53071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4"/>
          <p:cNvGraphicFramePr/>
          <p:nvPr/>
        </p:nvGraphicFramePr>
        <p:xfrm>
          <a:off x="2971800" y="4419720"/>
          <a:ext cx="334656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419720"/>
                    <a:ext cx="3346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5"/>
          <p:cNvGraphicFramePr/>
          <p:nvPr/>
        </p:nvGraphicFramePr>
        <p:xfrm>
          <a:off x="2971800" y="1828800"/>
          <a:ext cx="5670720" cy="274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5670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C7D7-DFDB-4832-92C4-6075E6E1A8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Подмодел за функцију Напла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09" name="Object 3"/>
          <p:cNvGraphicFramePr/>
          <p:nvPr/>
        </p:nvGraphicFramePr>
        <p:xfrm>
          <a:off x="2971800" y="3962520"/>
          <a:ext cx="48718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962520"/>
                    <a:ext cx="4871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4"/>
          <p:cNvGraphicFramePr/>
          <p:nvPr/>
        </p:nvGraphicFramePr>
        <p:xfrm>
          <a:off x="3048120" y="1828800"/>
          <a:ext cx="286200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828800"/>
                    <a:ext cx="286200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5444-C7B7-4011-88EF-D20DDD6585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11"/>
          <p:cNvGraphicFramePr/>
          <p:nvPr/>
        </p:nvGraphicFramePr>
        <p:xfrm>
          <a:off x="1371600" y="1676520"/>
          <a:ext cx="6399360" cy="49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399360" cy="49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EA0D-18B1-4DA2-B31B-C69E0FACC6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371600" y="685800"/>
            <a:ext cx="7543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Verdana"/>
              </a:rPr>
              <a:t>Интегрисани модел Продај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Задатак 1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потека води евиденцију о свим лековима који имају следеће карактеристик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зи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тински назив лек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Упозорење о начину коришћења, дејство, и дефинисане нежељене ефект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 може да се користи за лечење најмање једне врсте болест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 сваки лек се дефинишу контраиндикације којих може да буде виш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 припада само једној групи леков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биотик, анелгетик, анестетик ит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 производи један и само један произвођач и може да се пакује у више облика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инекције, таблете, сирупи, прашак ит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ваку врсту паковања лека потребно је водити евиденцију о количини и састав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к може а не мора имати замене, а такође лек може бити замена другим лековима из исте груп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4D42-A295-4243-8D19-A299E63AC34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E09B-2351-40FC-BA92-26B84375BF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380880" y="838080"/>
          <a:ext cx="8305920" cy="577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05920" cy="57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386E-8444-438A-8F45-369235A578D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Group 1"/>
          <p:cNvGrpSpPr/>
          <p:nvPr/>
        </p:nvGrpSpPr>
        <p:grpSpPr>
          <a:xfrm>
            <a:off x="457200" y="457200"/>
            <a:ext cx="8007480" cy="5745240"/>
            <a:chOff x="457200" y="457200"/>
            <a:chExt cx="8007480" cy="5745240"/>
          </a:xfrm>
        </p:grpSpPr>
        <p:sp>
          <p:nvSpPr>
            <p:cNvPr id="308" name="AutoShape 4"/>
            <p:cNvSpPr/>
            <p:nvPr/>
          </p:nvSpPr>
          <p:spPr>
            <a:xfrm>
              <a:off x="457200" y="457200"/>
              <a:ext cx="8007480" cy="57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aphicFrame>
          <p:nvGraphicFramePr>
            <p:cNvPr id="309" name="Object 2"/>
            <p:cNvGraphicFramePr/>
            <p:nvPr/>
          </p:nvGraphicFramePr>
          <p:xfrm>
            <a:off x="2179800" y="457200"/>
            <a:ext cx="6259320" cy="284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79800" y="457200"/>
                      <a:ext cx="6259320" cy="284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3"/>
            <p:cNvGraphicFramePr/>
            <p:nvPr/>
          </p:nvGraphicFramePr>
          <p:xfrm>
            <a:off x="1099440" y="2959560"/>
            <a:ext cx="5711040" cy="301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99440" y="2959560"/>
                      <a:ext cx="5711040" cy="30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4" descr=""/>
          <p:cNvPicPr/>
          <p:nvPr/>
        </p:nvPicPr>
        <p:blipFill>
          <a:blip r:embed="rId1"/>
          <a:stretch/>
        </p:blipFill>
        <p:spPr>
          <a:xfrm>
            <a:off x="2127240" y="2279520"/>
            <a:ext cx="6699240" cy="12812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CE62-D89C-447F-939F-1057C1E10DF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22FF-F6C5-48F0-AA60-6433715C945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7" name="Group 1"/>
          <p:cNvGrpSpPr/>
          <p:nvPr/>
        </p:nvGrpSpPr>
        <p:grpSpPr>
          <a:xfrm>
            <a:off x="304920" y="990720"/>
            <a:ext cx="8535960" cy="4952880"/>
            <a:chOff x="304920" y="990720"/>
            <a:chExt cx="8535960" cy="4952880"/>
          </a:xfrm>
        </p:grpSpPr>
        <p:sp>
          <p:nvSpPr>
            <p:cNvPr id="318" name="AutoShape 6"/>
            <p:cNvSpPr/>
            <p:nvPr/>
          </p:nvSpPr>
          <p:spPr>
            <a:xfrm>
              <a:off x="304920" y="990720"/>
              <a:ext cx="853596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aphicFrame>
          <p:nvGraphicFramePr>
            <p:cNvPr id="319" name="Object 2"/>
            <p:cNvGraphicFramePr/>
            <p:nvPr/>
          </p:nvGraphicFramePr>
          <p:xfrm>
            <a:off x="304920" y="2679120"/>
            <a:ext cx="4264560" cy="217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679120"/>
                      <a:ext cx="4264560" cy="217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1" name="Object 3"/>
            <p:cNvGraphicFramePr/>
            <p:nvPr/>
          </p:nvGraphicFramePr>
          <p:xfrm>
            <a:off x="1397160" y="1572120"/>
            <a:ext cx="4233960" cy="182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97160" y="1572120"/>
                      <a:ext cx="4233960" cy="182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Object 4"/>
            <p:cNvGraphicFramePr/>
            <p:nvPr/>
          </p:nvGraphicFramePr>
          <p:xfrm>
            <a:off x="998640" y="990720"/>
            <a:ext cx="7841880" cy="2616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4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8640" y="990720"/>
                      <a:ext cx="7841880" cy="261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5"/>
            <p:cNvGraphicFramePr/>
            <p:nvPr/>
          </p:nvGraphicFramePr>
          <p:xfrm>
            <a:off x="700560" y="2835360"/>
            <a:ext cx="7727400" cy="310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0560" y="2835360"/>
                      <a:ext cx="7727400" cy="31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Набавка</a:t>
            </a:r>
            <a:r>
              <a:rPr b="0" lang="sr-Latn-CS" sz="32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3200"/>
            </a:b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Подмодел за ток Наруџбениц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8" name="Object 3"/>
          <p:cNvGraphicFramePr/>
          <p:nvPr/>
        </p:nvGraphicFramePr>
        <p:xfrm>
          <a:off x="1265400" y="2444760"/>
          <a:ext cx="572292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2444760"/>
                    <a:ext cx="572292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4797-345A-4806-B548-2B2D5B2CB0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Oval 9"/>
          <p:cNvSpPr/>
          <p:nvPr/>
        </p:nvSpPr>
        <p:spPr>
          <a:xfrm>
            <a:off x="1447920" y="1219320"/>
            <a:ext cx="5029200" cy="2590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03BE-250C-4F5A-ADEE-462C507A12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33" name="Group 1"/>
          <p:cNvGrpSpPr/>
          <p:nvPr/>
        </p:nvGrpSpPr>
        <p:grpSpPr>
          <a:xfrm>
            <a:off x="304920" y="990720"/>
            <a:ext cx="8535960" cy="4952880"/>
            <a:chOff x="304920" y="990720"/>
            <a:chExt cx="8535960" cy="4952880"/>
          </a:xfrm>
        </p:grpSpPr>
        <p:sp>
          <p:nvSpPr>
            <p:cNvPr id="334" name="AutoShape 6"/>
            <p:cNvSpPr/>
            <p:nvPr/>
          </p:nvSpPr>
          <p:spPr>
            <a:xfrm>
              <a:off x="304920" y="990720"/>
              <a:ext cx="853596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aphicFrame>
          <p:nvGraphicFramePr>
            <p:cNvPr id="335" name="Object 2"/>
            <p:cNvGraphicFramePr/>
            <p:nvPr/>
          </p:nvGraphicFramePr>
          <p:xfrm>
            <a:off x="304920" y="2679120"/>
            <a:ext cx="4264560" cy="217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679120"/>
                      <a:ext cx="4264560" cy="217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7" name="Object 3"/>
            <p:cNvGraphicFramePr/>
            <p:nvPr/>
          </p:nvGraphicFramePr>
          <p:xfrm>
            <a:off x="1397160" y="1572120"/>
            <a:ext cx="4233960" cy="182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97160" y="1572120"/>
                      <a:ext cx="4233960" cy="182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4"/>
            <p:cNvGraphicFramePr/>
            <p:nvPr/>
          </p:nvGraphicFramePr>
          <p:xfrm>
            <a:off x="998640" y="990720"/>
            <a:ext cx="7841880" cy="2616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0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8640" y="990720"/>
                      <a:ext cx="7841880" cy="261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1" name="Object 5"/>
            <p:cNvGraphicFramePr/>
            <p:nvPr/>
          </p:nvGraphicFramePr>
          <p:xfrm>
            <a:off x="700560" y="2835360"/>
            <a:ext cx="7727400" cy="310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2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0560" y="2835360"/>
                      <a:ext cx="7727400" cy="31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500" spc="-1" strike="noStrike">
                <a:solidFill>
                  <a:srgbClr val="04617b"/>
                </a:solidFill>
                <a:latin typeface="Calibri"/>
              </a:rPr>
              <a:t>Набавка</a:t>
            </a:r>
            <a:r>
              <a:rPr b="0" lang="sr-Latn-CS" sz="4500" spc="-1" strike="noStrike">
                <a:solidFill>
                  <a:srgbClr val="04617b"/>
                </a:solidFill>
                <a:latin typeface="Calibri"/>
              </a:rPr>
              <a:t>: </a:t>
            </a:r>
            <a:r>
              <a:rPr b="0" lang="sr-CS" sz="4500" spc="-1" strike="noStrike">
                <a:solidFill>
                  <a:srgbClr val="04617b"/>
                </a:solidFill>
                <a:latin typeface="Calibri"/>
              </a:rPr>
              <a:t>Подмодел за функцију Наручивањ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668160" y="1523880"/>
          <a:ext cx="389124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23880"/>
                    <a:ext cx="389124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4"/>
          <p:cNvGraphicFramePr/>
          <p:nvPr/>
        </p:nvGraphicFramePr>
        <p:xfrm>
          <a:off x="2971800" y="1828800"/>
          <a:ext cx="4633920" cy="480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463392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5"/>
          <p:cNvGraphicFramePr/>
          <p:nvPr/>
        </p:nvGraphicFramePr>
        <p:xfrm>
          <a:off x="2666880" y="5257800"/>
          <a:ext cx="221004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257800"/>
                    <a:ext cx="22100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9DF-7A5F-4C21-AE5E-DD2E9ACA87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9"/>
          <p:cNvSpPr/>
          <p:nvPr/>
        </p:nvSpPr>
        <p:spPr>
          <a:xfrm>
            <a:off x="4495680" y="1981080"/>
            <a:ext cx="4419720" cy="1600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1F10-A95D-45F7-B0F9-1B7F50A36C7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4" name="Group 1"/>
          <p:cNvGrpSpPr/>
          <p:nvPr/>
        </p:nvGrpSpPr>
        <p:grpSpPr>
          <a:xfrm>
            <a:off x="304920" y="990720"/>
            <a:ext cx="8611560" cy="5028840"/>
            <a:chOff x="304920" y="990720"/>
            <a:chExt cx="8611560" cy="5028840"/>
          </a:xfrm>
        </p:grpSpPr>
        <p:graphicFrame>
          <p:nvGraphicFramePr>
            <p:cNvPr id="355" name="Object 4"/>
            <p:cNvGraphicFramePr/>
            <p:nvPr/>
          </p:nvGraphicFramePr>
          <p:xfrm>
            <a:off x="998640" y="990720"/>
            <a:ext cx="7841880" cy="261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8640" y="990720"/>
                      <a:ext cx="7841880" cy="261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AutoShape 6"/>
            <p:cNvSpPr/>
            <p:nvPr/>
          </p:nvSpPr>
          <p:spPr>
            <a:xfrm>
              <a:off x="380880" y="1066680"/>
              <a:ext cx="853560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aphicFrame>
          <p:nvGraphicFramePr>
            <p:cNvPr id="358" name="Object 2"/>
            <p:cNvGraphicFramePr/>
            <p:nvPr/>
          </p:nvGraphicFramePr>
          <p:xfrm>
            <a:off x="304920" y="2679480"/>
            <a:ext cx="4264560" cy="217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9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2679480"/>
                      <a:ext cx="4264560" cy="217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0" name="Object 3"/>
            <p:cNvGraphicFramePr/>
            <p:nvPr/>
          </p:nvGraphicFramePr>
          <p:xfrm>
            <a:off x="1397160" y="1572120"/>
            <a:ext cx="4233960" cy="1826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1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97160" y="1572120"/>
                      <a:ext cx="4233960" cy="182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2" name="Object 5"/>
            <p:cNvGraphicFramePr/>
            <p:nvPr/>
          </p:nvGraphicFramePr>
          <p:xfrm>
            <a:off x="685440" y="2896560"/>
            <a:ext cx="7727400" cy="310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5440" y="2896560"/>
                      <a:ext cx="7727400" cy="31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Набавка</a:t>
            </a:r>
            <a:r>
              <a:rPr b="0" lang="sr-Latn-CS" sz="32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3200"/>
            </a:br>
            <a:r>
              <a:rPr b="0" lang="sr-CS" sz="3200" spc="-1" strike="noStrike">
                <a:solidFill>
                  <a:srgbClr val="04617b"/>
                </a:solidFill>
                <a:latin typeface="Calibri"/>
              </a:rPr>
              <a:t>Подмодел за ток Прије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5" name="Object 3"/>
          <p:cNvGraphicFramePr/>
          <p:nvPr/>
        </p:nvGraphicFramePr>
        <p:xfrm>
          <a:off x="457200" y="2052720"/>
          <a:ext cx="7924680" cy="38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2720"/>
                    <a:ext cx="792468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4"/>
          <p:cNvGraphicFramePr/>
          <p:nvPr/>
        </p:nvGraphicFramePr>
        <p:xfrm>
          <a:off x="2438280" y="1924200"/>
          <a:ext cx="5943600" cy="27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24200"/>
                    <a:ext cx="59436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5"/>
          <p:cNvGraphicFramePr/>
          <p:nvPr/>
        </p:nvGraphicFramePr>
        <p:xfrm>
          <a:off x="2895480" y="3021120"/>
          <a:ext cx="4267440" cy="19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021120"/>
                    <a:ext cx="42674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5494-A7AB-483D-8C9A-6C14B07164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Ognjanovic</dc:creator>
  <dc:description/>
  <dc:language>en-US</dc:language>
  <cp:lastModifiedBy>Ognjanovic</cp:lastModifiedBy>
  <dcterms:modified xsi:type="dcterms:W3CDTF">2008-11-17T11:01:18Z</dcterms:modified>
  <cp:revision>2</cp:revision>
  <dc:subject/>
  <dc:title>Електронска продавница</dc:title>
</cp:coreProperties>
</file>