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2C4-37C9-4E1E-BFBE-076BDED8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CF6-DD14-492C-A9A1-C670B1A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E28-24F3-4F86-A7EF-8BEBAC46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70C-AE8A-4860-9C7F-83DC714C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4A4-4D89-4978-B772-05D0B76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5E8-A573-407D-8A28-5D26EA1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F7A-CD98-47A9-A147-DA91E19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402-D8B0-47F0-8885-C38CCD7D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C92-0A43-41A1-BF65-DA563B3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871-69E9-4046-8954-801C21B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F1A-8E01-4F04-951A-83A43E6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A7B-0809-4908-8639-34304DF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4BA-3F1F-40AE-A0A1-4162FD7BD7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7B70-4668-48CC-825C-EEB3653B4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C782EF9-37C4-4E8F-958D-3B655D6CE9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457200"/>
            <a:ext cx="89089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lic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ikazana arhitektura jedn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isk sistema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daci se pamte ili sa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noj ili na obe stra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agnetne pl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o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na ili v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gnetnih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l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an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agnet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k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li tzv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disk pack"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daci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mt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ragovim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 jednoj ili obe strane pl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. Broj trago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 p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e k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u opsegu od nekoliko stotina do nekoliko hiljada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kapacitet jednog traga je od nekoliko KB do 150 K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ragovi mogu da se podele n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ektor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ji su hardverski od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i i ne mogu se menjati.  Trag se, tak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podeliti n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lokove (stranice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vu podelu vrsi operativni sistem za vrem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formatiranja"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iska. Velicina bloka je 512 do 4096 baj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886360" y="223920"/>
          <a:ext cx="3257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223920"/>
                    <a:ext cx="325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D8D8BE3-5DA6-4945-8FEB-15747A0A788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457200"/>
            <a:ext cx="890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Blokovi su med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obno odvojeni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ecijalno kodiranim podac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ji cine tzv.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edublokovsku prazninu"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"interblocks gap,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isk sa sekto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li sektore na blokove. Disk se postavl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 tzv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k drajv (disk drive)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hanizam k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e motor koji ok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disk i skup glava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anje i upisivanje podataka. Postoje diskovi s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fiksnim glavam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diskovi s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kretnim glavama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Disk se stalno okrece brzinom od 3600 do 10000 obrta u minuti. Disketa i CD rom se ne okrecu stalno, vet tek po dobijanju zahteva i onoliko dugo koliko je potrebno da se taj zahtev ispu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ragovi istog polup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ika na svim p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ma (sa obe strane)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ilinda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k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Ocigledno je da se svim podacima na jednom cilindru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pristupiti bez pomeranja glava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an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886360" y="223920"/>
          <a:ext cx="3257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223920"/>
                    <a:ext cx="325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FAD27AB-381D-4F6C-AF57-E84A5885F71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20" y="457200"/>
            <a:ext cx="890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vih n zapisa neke datoteke smesta se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cilindar k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rug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n na cilindar k+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ledecih n na cilindra k+2, i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Vreme pristupa podatku na disku j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a = Tp + Tag + Tr + T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de j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-vreme pozicioniranja glava na odgovarajuci cilindar, za diskove s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kretno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avom. Tp tip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o iznosi 8-9 milisekundi, za velike diskove na serveru, il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2-14 milisekundi za diskove na radnim stanicama (personalnim racunarima)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gledno je da ova vreme za diskove sa fiksnim glavama ne posto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886360" y="223920"/>
          <a:ext cx="3257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223920"/>
                    <a:ext cx="325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C68D08-67BE-4904-BDC8-16B877B9EE7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E4ADB3B-44B3-4E11-BDED-CBE4B7F32CB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57200"/>
            <a:ext cx="8908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a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-vreme aktiviranja odgovaraj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ave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anje, odnosno v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zbora traga 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kviru cilind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e aktiviranje obavl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lektronsk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va vreme je zanemarlj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be vrste diskova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r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-rotaciono k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jenje, odnosno vreme potrebno da disk svojim okretanjem doved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blok pod aktiviranu glavu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anje i upisivanje.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rednost ovog vremena zavisi od brzine okretanja dis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-vreme prenosa bloka podataka sa diska u centralnu memoriju, koje je 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 mnog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je od vremena pozicioniranja glava i rotacionog kasnj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a diskove sa pokretnim glavama vreme pristupa je reda nekoliko desetina milisekun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886360" y="71280"/>
          <a:ext cx="3257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6360" y="71280"/>
                    <a:ext cx="325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 menadž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12600" y="314280"/>
            <a:ext cx="890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Disk menadie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 komponenta operativnog sistema. On je odgovoran za sve ulazno -izlazne operacije koje se obavljaju nad strukturom bloko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Fajl menadier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retira disk kao kolekciju skupova blokova (stranica). Svaki skup blokova ima svoj jedinstveni identifik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vaki blok ima, takode, svoj jedinstv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dentifikator barem u okviru jednog sku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lokova, a n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i u okviru celog dis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kord u okviru bloka se identifik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 internim identifikatorom koji u seb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identifikator bloka u 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lazi i relativni 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 rekorda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nosu na kraj blok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586480" y="4430880"/>
          <a:ext cx="3357360" cy="220644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200"/>
                <a:gridCol w="185760"/>
                <a:gridCol w="187560"/>
                <a:gridCol w="185760"/>
                <a:gridCol w="185760"/>
                <a:gridCol w="187200"/>
                <a:gridCol w="187200"/>
                <a:gridCol w="185760"/>
                <a:gridCol w="187560"/>
                <a:gridCol w="185760"/>
                <a:gridCol w="185400"/>
                <a:gridCol w="187560"/>
                <a:gridCol w="185760"/>
                <a:gridCol w="187200"/>
                <a:gridCol w="185760"/>
                <a:gridCol w="18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402680" y="2897280"/>
          <a:ext cx="1463400" cy="1299960"/>
        </p:xfrm>
        <a:graphic>
          <a:graphicData uri="http://schemas.openxmlformats.org/drawingml/2006/table">
            <a:tbl>
              <a:tblPr/>
              <a:tblGrid>
                <a:gridCol w="736200"/>
                <a:gridCol w="727200"/>
              </a:tblGrid>
              <a:tr h="4168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 prvog blo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7313760" y="2506680"/>
            <a:ext cx="158400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251604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20200" y="250992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57760" y="3973680"/>
            <a:ext cx="1592280" cy="431640"/>
          </a:xfrm>
          <a:custGeom>
            <a:avLst/>
            <a:gdLst/>
            <a:ahLst/>
            <a:rect l="l" t="t" r="r" b="b"/>
            <a:pathLst>
              <a:path w="1087" h="502">
                <a:moveTo>
                  <a:pt x="155" y="502"/>
                </a:moveTo>
                <a:cubicBezTo>
                  <a:pt x="77" y="366"/>
                  <a:pt x="0" y="230"/>
                  <a:pt x="155" y="146"/>
                </a:cubicBezTo>
                <a:cubicBezTo>
                  <a:pt x="310" y="62"/>
                  <a:pt x="923" y="24"/>
                  <a:pt x="1087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BC224F-3792-4F34-B67B-033D910E3D2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 menadž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6480" y="4430880"/>
          <a:ext cx="3357360" cy="220644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200"/>
                <a:gridCol w="185760"/>
                <a:gridCol w="187560"/>
                <a:gridCol w="185760"/>
                <a:gridCol w="185760"/>
                <a:gridCol w="187200"/>
                <a:gridCol w="187200"/>
                <a:gridCol w="185760"/>
                <a:gridCol w="187560"/>
                <a:gridCol w="185760"/>
                <a:gridCol w="185400"/>
                <a:gridCol w="187560"/>
                <a:gridCol w="185760"/>
                <a:gridCol w="187200"/>
                <a:gridCol w="185760"/>
                <a:gridCol w="18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402680" y="2897280"/>
          <a:ext cx="1463400" cy="1299960"/>
        </p:xfrm>
        <a:graphic>
          <a:graphicData uri="http://schemas.openxmlformats.org/drawingml/2006/table">
            <a:tbl>
              <a:tblPr/>
              <a:tblGrid>
                <a:gridCol w="736200"/>
                <a:gridCol w="727200"/>
              </a:tblGrid>
              <a:tr h="4168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 prvog blo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313760" y="2506680"/>
            <a:ext cx="158400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251604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20200" y="250992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57760" y="3973680"/>
            <a:ext cx="1592280" cy="431640"/>
          </a:xfrm>
          <a:custGeom>
            <a:avLst/>
            <a:gdLst/>
            <a:ahLst/>
            <a:rect l="l" t="t" r="r" b="b"/>
            <a:pathLst>
              <a:path w="1087" h="502">
                <a:moveTo>
                  <a:pt x="155" y="502"/>
                </a:moveTo>
                <a:cubicBezTo>
                  <a:pt x="77" y="366"/>
                  <a:pt x="0" y="230"/>
                  <a:pt x="155" y="146"/>
                </a:cubicBezTo>
                <a:cubicBezTo>
                  <a:pt x="310" y="62"/>
                  <a:pt x="923" y="24"/>
                  <a:pt x="1087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680" y="45720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lici su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ikazani skupovi blokova za podatk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studentima (S), predmetima (P) i Prijavama za polaganje ispita (PR). Skupovi blokova se realizuju kao spregnute lisle u kojima su blokovi povezani preko pokazivaca, koji su za svaki blok prikazani u desnom gornjem ugl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dresa bloka je data u levom gornj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glu. Sa X je oznacen kraj lisle bloko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 bloku sa adresom 0 (koji se obicno nala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a nultom cilindru i nultom tragu disk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mesten je tzv. "direktorijum diska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("direktorijum skupova blokova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"nulti blok"). Direktorijum diska d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cetnu adresu za svaku li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blokova, kao i za posebnu li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aznih bloko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7414089-9E81-44B5-A707-A8822ED9B9B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751200" y="5165640"/>
            <a:ext cx="1584360" cy="141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45080" y="3666960"/>
            <a:ext cx="1584000" cy="1411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 menadž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12600" y="314280"/>
            <a:ext cx="890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ici A prikazane su lisle blokova dobijene na taj nacin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 je SUBP prvo ubacio pet studenata. zatim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st predmeta i na kraju trinaest prijava. Na slic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prikazan je izgled diska posle sledecih operaci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. Izbacen je student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S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a zatim i njegove prijave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Times New Roman"/>
              </a:rPr>
              <a:t>PR8, PR11, PR1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Svi oslobodeni blokovi ubaceni su u listu praznih blokova sa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dresom 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na prvom mes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586480" y="4192560"/>
          <a:ext cx="3357360" cy="220680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200"/>
                <a:gridCol w="185760"/>
                <a:gridCol w="187560"/>
                <a:gridCol w="185760"/>
                <a:gridCol w="185760"/>
                <a:gridCol w="187200"/>
                <a:gridCol w="187200"/>
                <a:gridCol w="185760"/>
                <a:gridCol w="187560"/>
                <a:gridCol w="185760"/>
                <a:gridCol w="185400"/>
                <a:gridCol w="187560"/>
                <a:gridCol w="185760"/>
                <a:gridCol w="187200"/>
                <a:gridCol w="185760"/>
                <a:gridCol w="18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82520" y="4138560"/>
          <a:ext cx="3357720" cy="222588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560"/>
                <a:gridCol w="185760"/>
                <a:gridCol w="187200"/>
                <a:gridCol w="185760"/>
                <a:gridCol w="185760"/>
                <a:gridCol w="187200"/>
                <a:gridCol w="187560"/>
                <a:gridCol w="185760"/>
                <a:gridCol w="187200"/>
                <a:gridCol w="185760"/>
                <a:gridCol w="185760"/>
                <a:gridCol w="187200"/>
                <a:gridCol w="182520"/>
                <a:gridCol w="190440"/>
                <a:gridCol w="185760"/>
                <a:gridCol w="18756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840120" y="5460840"/>
          <a:ext cx="1463760" cy="1098720"/>
        </p:xfrm>
        <a:graphic>
          <a:graphicData uri="http://schemas.openxmlformats.org/drawingml/2006/table">
            <a:tbl>
              <a:tblPr/>
              <a:tblGrid>
                <a:gridCol w="736560"/>
                <a:gridCol w="72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3762360" y="517680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3480" y="517032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33640" y="3962520"/>
          <a:ext cx="1463760" cy="1098360"/>
        </p:xfrm>
        <a:graphic>
          <a:graphicData uri="http://schemas.openxmlformats.org/drawingml/2006/table">
            <a:tbl>
              <a:tblPr/>
              <a:tblGrid>
                <a:gridCol w="736560"/>
                <a:gridCol w="72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740040" y="367812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67360" y="367200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30160" y="63644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8000" y="6415200"/>
            <a:ext cx="316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B6A9079-60EE-4D02-A8A3-27BAA22229F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51200" y="5165640"/>
            <a:ext cx="1584360" cy="141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45080" y="3666960"/>
            <a:ext cx="1584000" cy="1411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Disk menadž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25560" y="517680"/>
            <a:ext cx="890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bačen je </a:t>
            </a:r>
            <a:r>
              <a:rPr b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predmet P7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na taj način što je za njega uzet prvi slobodan blok </a:t>
            </a:r>
            <a:r>
              <a:rPr b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(adresa2)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 zatim proširena lista predm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bačen je </a:t>
            </a:r>
            <a:r>
              <a:rPr b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student S6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bačena je </a:t>
            </a:r>
            <a:r>
              <a:rPr b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prijava PR14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5. Ubačen je student S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bačena je </a:t>
            </a:r>
            <a:r>
              <a:rPr b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prijava PR15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7. Izbačena je prijava PR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586480" y="4192560"/>
          <a:ext cx="3357360" cy="220680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200"/>
                <a:gridCol w="185760"/>
                <a:gridCol w="187560"/>
                <a:gridCol w="185760"/>
                <a:gridCol w="185760"/>
                <a:gridCol w="187200"/>
                <a:gridCol w="187200"/>
                <a:gridCol w="185760"/>
                <a:gridCol w="187560"/>
                <a:gridCol w="185760"/>
                <a:gridCol w="185400"/>
                <a:gridCol w="187560"/>
                <a:gridCol w="185760"/>
                <a:gridCol w="187200"/>
                <a:gridCol w="185760"/>
                <a:gridCol w="18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82520" y="4138560"/>
          <a:ext cx="3357720" cy="2225880"/>
        </p:xfrm>
        <a:graphic>
          <a:graphicData uri="http://schemas.openxmlformats.org/drawingml/2006/table">
            <a:tbl>
              <a:tblPr/>
              <a:tblGrid>
                <a:gridCol w="187200"/>
                <a:gridCol w="185760"/>
                <a:gridCol w="187560"/>
                <a:gridCol w="185760"/>
                <a:gridCol w="187200"/>
                <a:gridCol w="185760"/>
                <a:gridCol w="185760"/>
                <a:gridCol w="187200"/>
                <a:gridCol w="187560"/>
                <a:gridCol w="185760"/>
                <a:gridCol w="187200"/>
                <a:gridCol w="185760"/>
                <a:gridCol w="185760"/>
                <a:gridCol w="187200"/>
                <a:gridCol w="182520"/>
                <a:gridCol w="190440"/>
                <a:gridCol w="185760"/>
                <a:gridCol w="18756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840120" y="5460840"/>
          <a:ext cx="1463760" cy="1098720"/>
        </p:xfrm>
        <a:graphic>
          <a:graphicData uri="http://schemas.openxmlformats.org/drawingml/2006/table">
            <a:tbl>
              <a:tblPr/>
              <a:tblGrid>
                <a:gridCol w="736560"/>
                <a:gridCol w="72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3762360" y="517680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3480" y="517032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33640" y="3962520"/>
          <a:ext cx="1463760" cy="1098360"/>
        </p:xfrm>
        <a:graphic>
          <a:graphicData uri="http://schemas.openxmlformats.org/drawingml/2006/table">
            <a:tbl>
              <a:tblPr/>
              <a:tblGrid>
                <a:gridCol w="736560"/>
                <a:gridCol w="727200"/>
              </a:tblGrid>
              <a:tr h="2210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 bl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az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m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740040" y="3678120"/>
            <a:ext cx="26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7360" y="3672000"/>
            <a:ext cx="26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30160" y="63644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48000" y="6415200"/>
            <a:ext cx="316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2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BFF1C3A-58E1-42A5-9C26-69FD7CC2895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937040" y="0"/>
          <a:ext cx="4175280" cy="671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0"/>
                    <a:ext cx="4175280" cy="67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UNKCIJE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457200"/>
            <a:ext cx="5104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Funkcije  SUBP-a neophodne za realizaciju same BP predstavljene su na slede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ćoj slici: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Korisnik pristupa bazi podataka bilo preko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aplikacije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sa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ugnjezdenim upitima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ili direktno preko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upitnog jezika.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Optimizator upita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transformi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e upit u optimalnu (iii, preciznije, zadovoljavaju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u) proceduru, a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interpretatori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pretprevodioci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i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prevodioci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transformi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u program u izvr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ni kod koji predstavlja jednu ili vi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e sekvencijalnih ili ugnje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denih transakcija.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Transakcija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se najopstije definise kao logicka jedinica posla koja se izvrsava atomski: ili su svi pristupi bazi uspesno obavljeni ili je baza podataka ostala neizmenj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B4E65B-C839-4F63-BEA4-56B5FAC0833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411880" y="0"/>
          <a:ext cx="3700440" cy="671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1880" y="0"/>
                    <a:ext cx="3700440" cy="67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UNKCIJE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422280"/>
            <a:ext cx="5376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Obradom transakcija upravljaju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Sistem za upravljanje konkurentnom obradom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transakcija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koji ne dozvoljava da dod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j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e do ne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eljene interferencije transakcija i sistem za oporavak baze podataka koji, u slucaju nekog hardverskog ili softverskog otkaza, dovodi bazu podataka u konzistentno stanje. Za oporavak baze podataka koristi se "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Log memorija"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u kojoj se, za svaku transakciju, pamte stanja baze pre i posle njenog izvrs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Preko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Fajl menadzera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SUBP posmatra bazu podataka kao skup datoteka. Fajl menadzer se obra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a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Disk menadzeru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 za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 Narrow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"/>
              </a:rPr>
              <a:t>e stranice (blokove) u kojima se nalaze zahtevani rekordi pojedinih datote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EFD3F55-EB53-4BDB-830C-94FC5BA987D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UNKCIJE SU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187880" y="0"/>
          <a:ext cx="4924440" cy="671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7880" y="0"/>
                    <a:ext cx="4924440" cy="67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4920" y="876240"/>
            <a:ext cx="453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ci na disku su organizovani na razlicite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e sa stranicom (blokom) kao osnovnom jedinicom. Jedan od naj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nijih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a organizovanja su indeksne strukture, koje zahtevaju formiranje posebne memorijske jedinice uz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u kojoj s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ju indeksi. Recnik podataka je "baza podatak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bazi podataka" i koristi se za mnoge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e primen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E3AFDA7-CB22-4F12-BAAD-6A82C5C12E9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Hijerarhijska 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840" y="876240"/>
            <a:ext cx="4984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Baze podataka se, po pravilu, smestaju kao datoteke sa rekordima na neku spoljnu (sekundarnu) memoriju, n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magnetne diskove. Med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tim, neophodno je naglasiti da, u poslednje vreme, postoje tendencije da se, s jedne strane, da bi se ubrzao pristup podacima, razvijaju tzv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podataka u centralnoj (glavnoj) memoriji (Main-memory DBMS), a sa druge, veoma velik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na tercijalnim memorijama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968720" y="1444680"/>
          <a:ext cx="41245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720" y="1444680"/>
                    <a:ext cx="4124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E1ED17F-7019-4516-AA1D-B087EC980B3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959360" y="227160"/>
          <a:ext cx="412416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9360" y="227160"/>
                    <a:ext cx="412416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-6480" y="457200"/>
            <a:ext cx="915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Hijerarhijska memorija.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K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emorija je veoma brza memorij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ivno malog kapacit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reda velicine megabaj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njoj se nalaze instruk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u i podaci ko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 instrukcije koriste. Kop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ih instrukcija i podata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nalaze i u glavnoj memori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da se izvrsava neka instrukci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podaci se prvo traze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emoriji, pa aka se u njoj ne nadu, kopiraju se iz glavne u 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emoriju. Procesor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ili upisuje podatke u 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memoriju brzinom sa kojom izv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va instrukcije, a prenos podataka izmedu 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 glavne memorije uzima gotovo 100 pula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vrem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605001D-70CF-41FB-9D11-69115285528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Hijerarhijska 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Hijerarhijska 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457200"/>
            <a:ext cx="901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jednoprocesorskim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menjeni podatak 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se v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glavnu memoriju tek kad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lob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esto u k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za dru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tke, dok se 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iseprocesors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ima to obavlja odmah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menom podatka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centralno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glavnoj) memorij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 nalaz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grami koji se ob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u i njih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aci. Centralna memorija je memorija sa direktni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stupom (random acess). U njoj se, posle pristup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dnom bajtu,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ristupiti bilo kom drugom za is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reme pristupa. V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a r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nara koriste 32-bit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dresni registar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t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da s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efinisa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3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razlicitih adresa. Kako je bajt najmanja adresibilna jedinica, takvi adresni registri mogu da po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centralnu memoriju velicine 4 gigabaj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18240" y="476280"/>
          <a:ext cx="333360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8240" y="476280"/>
                    <a:ext cx="333360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2335CC7-D56A-4FD1-AD22-CCC6FCA6D86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Hijerarhijska 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0" y="457200"/>
            <a:ext cx="9016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ko je (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je 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uvek u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n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entralna memorija manj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paciteta, adresiranje s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riti i na disk, preko funk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perativnog sistema koj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ziva virtuelna memor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Jedinica razmene podataka iz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entralne memorije i diska je bl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li stranica (velicine 4K- 56K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perativni sistem razbija blok u adresibilne bajtove u centralnoj memoriji. SUBP koji koristi 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 glavnu memoriju zasniva se na konceptu virtuelne memorije.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se ovakav SUBP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biti veoma dob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e z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BP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je od 4 gigabajta, kada bi svaki podatak u njima bio direktno pristup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18240" y="476280"/>
          <a:ext cx="333360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8240" y="476280"/>
                    <a:ext cx="333360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4C68265-42F5-45A6-81A2-1C15A1F3D33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IZIČKA STRUKTURA BP,Hijerarhijska 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457200"/>
            <a:ext cx="9016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onvencionalni sistemi za upravljanje bazom podataka posmatraju bazu podataka kao skup fajlova i koriste tzv. fail menadzer operativnog sistema za razmenu podataka izmedu centralne memorije i diska. Ako se DBMS oslanja i na neku tercijalnu memoriju, koristi se isti mehanizam.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ercijalna memori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se koristi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vanje veoma velike kolicine podataka, reda velicine terabajta. Centralnu memoriju s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efinisali kao memoriju sa direktnim pristupom, disk se, ka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se videti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nazvati memorijom sa poludirektnim pristupom, a tercijalne memorije su memorije sa indirektnim pristupom. U memorijama sa indirektnim pristupom vreme pristupa nekom podatku z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no varira od p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a podataka na odgovarajucoj jedinici. Osnovne vrste tercijalnih memorija su razne vrste magnetnih traka, "dzuboks op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ih diskova", silosi magnetnih traka (skup rekova traka kojima se, preko robota,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direktno pristupiti, postaviti ih na mehanizam z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anje i pisanje)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1FD71F5-DF7B-4C6B-866A-4CBF84C4C75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20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18T12:10:37Z</dcterms:modified>
  <cp:revision>331</cp:revision>
  <dc:subject/>
  <dc:title>PowerPoint Presentation</dc:title>
</cp:coreProperties>
</file>