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AB9-B897-4391-B214-8216A987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4A4-8F86-4611-9FCC-DF81A6F8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EEC-ACE5-464D-82B1-62A34998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31A-CBCA-4FF5-B574-4A9C4886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5CD-812A-4012-9D49-D820467A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3EE-EEDD-441E-87E2-A746150A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83B-C923-4C0B-AD48-CB4CBA58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C79-CA19-4DD6-B9A5-A265F35B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31E-88A2-4389-9E1A-2091976C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7F9-679C-4917-A0D8-1B77D6DE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5DC-9E9B-4840-96E7-D278390B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5A7-7976-4A01-9C28-79BA1FA5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5174-547C-471A-8283-04BB0D984CC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0CF8-01A1-4E53-9F0B-A1118E145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8600" y="592452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50004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NIVERZITET U BEOG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EHNIČKI FAKULTET U B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Arial"/>
              </a:rPr>
              <a:t>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81280" y="3222720"/>
            <a:ext cx="3789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d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Zoran 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Anđel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jaz@eu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2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1520" y="66531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r Zoran R. Anđelkov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127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127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0" y="6572160"/>
            <a:ext cx="9178920" cy="327240"/>
            <a:chOff x="0" y="6572160"/>
            <a:chExt cx="9178920" cy="327240"/>
          </a:xfrm>
        </p:grpSpPr>
        <p:sp>
          <p:nvSpPr>
            <p:cNvPr id="50" name=""/>
            <p:cNvSpPr/>
            <p:nvPr/>
          </p:nvSpPr>
          <p:spPr>
            <a:xfrm>
              <a:off x="34920" y="66531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951AB2D-0341-4284-B5FB-6AF443DF8CA3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66531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0" y="65721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721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RELACIONI MODEL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Pravila integriteta mod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995400"/>
            <a:ext cx="9013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U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ravilima integritet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RM definišu se dva opšta pravi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Integritet entiteta (integritet ključa)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Integritet u ovom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ravilu se iskazuje na sledeć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način: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i jedan atribut koji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je primarni ključ ili deo primarnog ključa neke bazne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relacije ne može da uzima “nula vrednos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Referencijalni integritet.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Ograničenje u ovom pravilu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integriteta se iskazuje na sledeć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način: Ako neka bazn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relacija R2 poseduje spoljni kljuć SK koji ovu relaciju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ovezuj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a nekom drugom baznom relacijom R1, preko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rimarnog ključa PK, tada svak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vrednost SK mora bit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bilo jednaka nekoj vrednosti PK ili nula vred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6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2B3F019-813F-4C9D-B5FD-8ED5B5AAE43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RELACIONI MODEL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Referencijalni integr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000" y="393840"/>
            <a:ext cx="9090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U slučajevima narušavanja ograničenja u referencijalnom integritetu moguće su sledeće akci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peracija se odbija ako narušava referencijalno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graničenje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(RESTRI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”Okida” se odgovarajuća operacija (izbacivanje z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izbacivanje i promena vrednosti z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 promenu vrednosti) 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na relaciji u kojoj se nalazi spoljni ključ.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(CASC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Zamenjuje se vrednost spoljneg ključa “sa nul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vrednosšću” za sve n-torke kojima odgovara izbačeni il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romenjeni spoljni ključ.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(SET NULL)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Zamenjuje se vrednost spoljneg ključa s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redefinisanom “default vrednošću” za sv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n-tork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kojima odgovara izbačeni ili promenjeni spoljni ključ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(SET DEFA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pcij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O ACTION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, obavlja se zahtevano ažuriranje BP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bez ikakvih dodatnih ak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73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AF679A0-9061-4156-8D70-2DF7CCEE9B53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5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RELACIONI MODEL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Referencijalni integr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000" y="1282680"/>
            <a:ext cx="909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ravila integriteta modela navode se zajedno sa definicijom SK u opisu relaci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FOREIGN KEY (lista atributa koji ga č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REFERENCES naziv relacije primarnog ključ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DELETE op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UPDATE op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pcija:: RESTRICT I CASCADEI SET NULL I SET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DEFAULT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80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5FB64F1-7312-4720-A62F-58744E07750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RELACIONI MODEL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Referencijalni integr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000" y="520560"/>
            <a:ext cx="90900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Definicije referencijalnih pravila integriteta za već prikazanu studentsku BP. Podrazumeva se da je trenutak testiranja, za strukturni integritet RM “odloženo” (do kraja transakcij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Student(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rInd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, Mlb, Ime, Starost, ŠifSm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                   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FOREIGN KEY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ifSmer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) REFERENCES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m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DELETE SET NULL UPDATE CE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8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Predmet(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ŠifPred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, NazivPred, BrojČasova) Prijava(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rInd, ŠifPred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, DatumPol, Oce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FOREIGN KEY 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rInd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) REFERENCES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uden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DELETE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ASCAD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UPDATE CE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FOREIGN KEY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ifPred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) REFERENCES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redm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DELETE RESTRICT UPDATE CE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Smer(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ŠifSmer,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NazivSmera,Š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                   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FOREIGN KEY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N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) REFERENCES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Nastavn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DELETE SET NULL UPDATE RESTR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.........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8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419828C-2EC0-4A72-BBEE-575DA83B2AE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RELACIONI MODEL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Poslovna pravila integri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000" y="393840"/>
            <a:ext cx="9013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oslovna pravila integriteta izražavaju specifična ograničenja i odgovarajuće akcije pri njihovom narušavanju za konkretnu bazu podatataka. Svako narušavanje poslovnog integriteta poziva specifične akcije koje se iskazuju preko tzv. “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triger procedur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”.  Uobičajeno je da se poslovna pravila integriteta podele na sledeće podtip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ravila integriteta za domen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, preko kojih se specifikuj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koje vrednosti postoje u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domen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ravila integriteta za atribut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, preko kojih se definišu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dozvoljene vrednosti nekog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tributa nezavisno od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vrednosti drugih atributa u baz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ravila integriteta za relacij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, preko kojih je moguće vezat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vrednosti jednog, z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vrednost drugog atributa u jednoj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relaci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ravila integriteta za bazu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, preko kojih je moguće povezat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vrednosti atributa iz viš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rel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9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E657F00-702C-432C-A68B-A7029E1ED78C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RELACIONI MODEL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Poslovna pravila integri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000" y="393840"/>
            <a:ext cx="90136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va gornja pravila integriteta su tz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Arial"/>
              </a:rPr>
              <a:t>pravila integriteta stanja</a:t>
            </a:r>
            <a:r>
              <a:rPr b="1" lang="sr-Latn-C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B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ni daju ograničenja na vrednosti podtaka u B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ored njih mogu se definisati da li je moguć “prelaz” iz jednog u drugo stanje, odnosno iz jednog skup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vrednosti atributa u drug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0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57E17EB-2868-4125-BD10-D6314FB032B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RELACIONI MODEL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Konvencionalne skupovne re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000" y="584280"/>
            <a:ext cx="901368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5. Projekcija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peracija projekcije je unarna operacija koja iz neke relacije selektuuje skup navedenih atributa, odnosno “vadi vertikalni podskup” iz odgovarajuće tabele. Formalno se definiše na sledeći način: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eka je R(A1,A2, ... , An) relacija, a X podskup njenih atributa. Označimo sa Y komplement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{A1, A2, …, An} – X. Rezultat operacije projekcije relacije R po atributima X je: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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(R)=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{x I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y, &lt;x,y&gt;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}. Primer: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osmatrajmo tabelu Građanin i njenu projekciju Pr</a:t>
            </a:r>
            <a:r>
              <a:rPr b="1" lang="sr-Latn-CS" sz="24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. Kada se iz neke relacije selektuje podskup atributa preko operacije projekcije u rezultatu bi se mogli pojavit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duplikati  n-torki. Operacija projekcij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odrazumeva da se ovi duplikat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eliminišu.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60240" y="4654440"/>
          <a:ext cx="2605320" cy="2154240"/>
        </p:xfrm>
        <a:graphic>
          <a:graphicData uri="http://schemas.openxmlformats.org/drawingml/2006/table">
            <a:tbl>
              <a:tblPr/>
              <a:tblGrid>
                <a:gridCol w="594000"/>
                <a:gridCol w="547560"/>
                <a:gridCol w="565200"/>
                <a:gridCol w="8985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l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stoRođ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4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r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je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r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vi S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lo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581040" y="440208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Građan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919840"/>
            <a:ext cx="311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Pr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Arial Narrow"/>
              </a:rPr>
              <a:t>1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:=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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Arial Narrow"/>
              </a:rPr>
              <a:t>Ime, Starost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(Građani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326360" y="5419800"/>
          <a:ext cx="1112760" cy="1334880"/>
        </p:xfrm>
        <a:graphic>
          <a:graphicData uri="http://schemas.openxmlformats.org/drawingml/2006/table">
            <a:tbl>
              <a:tblPr/>
              <a:tblGrid>
                <a:gridCol w="547560"/>
                <a:gridCol w="565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r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lo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279920" y="5114880"/>
            <a:ext cx="381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Pr</a:t>
            </a:r>
            <a:r>
              <a:rPr b="1" lang="sr-Latn-CS" sz="1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6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2D09FF9-5C2C-4496-9D45-35ABBF450EC3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RELACIONI MODEL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Konvencionalne skupovne re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000" y="584280"/>
            <a:ext cx="90136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6. Selekcija (restrikcija)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elekcija je takođe unarna operacija koja iz date relacije selektuje n-torke koje zadovoljavaju uslov (“vadi horizontalni podskup” tabele). Formalno se definiše na sledeći način: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Data je relacija  R(A1,A2, ... , An)  i predikat </a:t>
            </a:r>
            <a:r>
              <a:rPr b="1" lang="sr-Latn-CS" sz="2400" spc="-1" strike="noStrike">
                <a:solidFill>
                  <a:srgbClr val="cc3300"/>
                </a:solidFill>
                <a:latin typeface="Symbol"/>
                <a:ea typeface="Symbol"/>
              </a:rPr>
              <a:t>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definisan nad njenim atributima.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zultat operacije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selekcije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je: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sr-Latn-CS" sz="2400" spc="-1" strike="noStrike" baseline="-25000">
                <a:solidFill>
                  <a:srgbClr val="cc3300"/>
                </a:solidFill>
                <a:latin typeface="Symbol"/>
                <a:ea typeface="Symbol"/>
              </a:rPr>
              <a:t>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(R)=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{x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R AND </a:t>
            </a:r>
            <a:r>
              <a:rPr b="1" lang="sr-Latn-CS" sz="2400" spc="-1" strike="noStrike">
                <a:solidFill>
                  <a:srgbClr val="cc3300"/>
                </a:solidFill>
                <a:latin typeface="Symbol"/>
                <a:ea typeface="Symbol"/>
              </a:rPr>
              <a:t>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(x)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}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je skup n-torki x relacije R koje zadovoljavaju predikat (uslov) </a:t>
            </a:r>
            <a:r>
              <a:rPr b="1" lang="sr-Latn-CS" sz="2400" spc="-1" strike="noStrike">
                <a:solidFill>
                  <a:srgbClr val="cc3300"/>
                </a:solidFill>
                <a:latin typeface="Symbol"/>
                <a:ea typeface="Symbol"/>
              </a:rPr>
              <a:t>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imer: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Iz relacije Građani  prikaži građane koji su stariji od 20 godina i rođeni su u Beogradu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33280" y="4424400"/>
          <a:ext cx="2604960" cy="2154240"/>
        </p:xfrm>
        <a:graphic>
          <a:graphicData uri="http://schemas.openxmlformats.org/drawingml/2006/table">
            <a:tbl>
              <a:tblPr/>
              <a:tblGrid>
                <a:gridCol w="593640"/>
                <a:gridCol w="547920"/>
                <a:gridCol w="564840"/>
                <a:gridCol w="8985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l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stoRođ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4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r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je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r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vi S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lo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233280" y="411948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Građan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3080" y="4100400"/>
            <a:ext cx="531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Pr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Arial Narrow"/>
              </a:rPr>
              <a:t>2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:=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sr-Latn-CS" sz="2400" spc="-1" strike="noStrike" baseline="-25000">
                <a:solidFill>
                  <a:srgbClr val="cc3300"/>
                </a:solidFill>
                <a:latin typeface="Arial Narrow"/>
              </a:rPr>
              <a:t>Starost&gt;20 AND MestoRodj=“Beograd”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Arial Narrow"/>
              </a:rPr>
              <a:t>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(Građani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95480" y="4599000"/>
            <a:ext cx="381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Pr</a:t>
            </a:r>
            <a:r>
              <a:rPr b="1" lang="sr-Latn-CS" sz="1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702400" y="4937040"/>
          <a:ext cx="2604960" cy="789120"/>
        </p:xfrm>
        <a:graphic>
          <a:graphicData uri="http://schemas.openxmlformats.org/drawingml/2006/table">
            <a:tbl>
              <a:tblPr/>
              <a:tblGrid>
                <a:gridCol w="593640"/>
                <a:gridCol w="547560"/>
                <a:gridCol w="565200"/>
                <a:gridCol w="8985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l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stoRođ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r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lo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23B11CF-E734-4995-BD2E-22D69B83B7EC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305240" y="4678200"/>
            <a:ext cx="4762440" cy="1935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RELACIONI MODEL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Konvencionalne skupovne re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000" y="584280"/>
            <a:ext cx="901368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7. Spajanje (Join)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Spajanje je binarna operacija koja spaja dve relacije na taj način da se u rezultatu pojavljuju oni parovi n-torki jedne i druge relacije koji zadovoljavaju uslov zadat nad njihovim atributima. Formalno se definiše na sledeći način: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Date su relacije  R1(A1,A2, ... , An)  i R2(B1,B2, ... , Bn) i predikat </a:t>
            </a:r>
            <a:r>
              <a:rPr b="1" lang="sr-Latn-CS" sz="2000" spc="-1" strike="noStrike">
                <a:solidFill>
                  <a:srgbClr val="cc3300"/>
                </a:solidFill>
                <a:latin typeface="Symbol"/>
                <a:ea typeface="Symbol"/>
              </a:rPr>
              <a:t>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 definisan nad njihovim atributima. 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Rezultat operacije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spajanja ovih relacija 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R1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[x </a:t>
            </a:r>
            <a:r>
              <a:rPr b="1" lang="sr-Latn-CS" sz="2000" spc="-1" strike="noStrike">
                <a:solidFill>
                  <a:srgbClr val="cc3300"/>
                </a:solidFill>
                <a:latin typeface="Symbol"/>
                <a:ea typeface="Symbol"/>
              </a:rPr>
              <a:t>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]R2={&lt;x,y&gt; | x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 R1 AND  y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 R2 AND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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(x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,y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)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Primer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1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: 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Pr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Arial Narrow"/>
              </a:rPr>
              <a:t>3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:= 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Gra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đ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anin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[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Građanin.Mlb=Student.Mlb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]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 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4000" y="3114720"/>
          <a:ext cx="2636640" cy="1368360"/>
        </p:xfrm>
        <a:graphic>
          <a:graphicData uri="http://schemas.openxmlformats.org/drawingml/2006/table">
            <a:tbl>
              <a:tblPr/>
              <a:tblGrid>
                <a:gridCol w="593640"/>
                <a:gridCol w="547920"/>
                <a:gridCol w="564840"/>
                <a:gridCol w="930240"/>
              </a:tblGrid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l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stoRođ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4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r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je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lo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104760" y="281772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Građan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735280" y="3111480"/>
          <a:ext cx="1862280" cy="1371600"/>
        </p:xfrm>
        <a:graphic>
          <a:graphicData uri="http://schemas.openxmlformats.org/drawingml/2006/table">
            <a:tbl>
              <a:tblPr/>
              <a:tblGrid>
                <a:gridCol w="635040"/>
                <a:gridCol w="528480"/>
                <a:gridCol w="698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I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fS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/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/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4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1/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3/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2919600" y="280980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38600" y="3111480"/>
          <a:ext cx="4438800" cy="1371600"/>
        </p:xfrm>
        <a:graphic>
          <a:graphicData uri="http://schemas.openxmlformats.org/drawingml/2006/table">
            <a:tbl>
              <a:tblPr/>
              <a:tblGrid>
                <a:gridCol w="519120"/>
                <a:gridCol w="582840"/>
                <a:gridCol w="598320"/>
                <a:gridCol w="938160"/>
                <a:gridCol w="590760"/>
                <a:gridCol w="533160"/>
                <a:gridCol w="676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l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stoRođ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I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fS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/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4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r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je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/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4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1/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lo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3/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635720" y="2827440"/>
            <a:ext cx="4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P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1200" y="2185920"/>
            <a:ext cx="190620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kvispaja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(ponavljanje svih kolon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/>
          <p:nvPr/>
        </p:nvCxnSpPr>
        <p:spPr>
          <a:xfrm flipH="1" rot="16200000">
            <a:off x="2623320" y="2209680"/>
            <a:ext cx="2160" cy="4548600"/>
          </a:xfrm>
          <a:prstGeom prst="curvedConnector5">
            <a:avLst>
              <a:gd name="adj1" fmla="val 11180000"/>
              <a:gd name="adj2" fmla="val 50000"/>
              <a:gd name="adj3" fmla="val 1118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9" name=""/>
          <p:cNvCxnSpPr/>
          <p:nvPr/>
        </p:nvCxnSpPr>
        <p:spPr>
          <a:xfrm flipH="1" rot="16200000">
            <a:off x="5883120" y="2234160"/>
            <a:ext cx="2160" cy="4499640"/>
          </a:xfrm>
          <a:prstGeom prst="curvedConnector5">
            <a:avLst>
              <a:gd name="adj1" fmla="val 7980000"/>
              <a:gd name="adj2" fmla="val 50000"/>
              <a:gd name="adj3" fmla="val 798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graphicFrame>
        <p:nvGraphicFramePr>
          <p:cNvPr id="90" name=""/>
          <p:cNvGraphicFramePr/>
          <p:nvPr/>
        </p:nvGraphicFramePr>
        <p:xfrm>
          <a:off x="85680" y="4740120"/>
          <a:ext cx="3905280" cy="1371600"/>
        </p:xfrm>
        <a:graphic>
          <a:graphicData uri="http://schemas.openxmlformats.org/drawingml/2006/table">
            <a:tbl>
              <a:tblPr/>
              <a:tblGrid>
                <a:gridCol w="519120"/>
                <a:gridCol w="582480"/>
                <a:gridCol w="598680"/>
                <a:gridCol w="938160"/>
                <a:gridCol w="590400"/>
                <a:gridCol w="676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l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stoRođ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I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fS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/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4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r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je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/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1/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lo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og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3/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1" name=""/>
          <p:cNvCxnSpPr>
            <a:stCxn id="87" idx="2"/>
          </p:cNvCxnSpPr>
          <p:nvPr/>
        </p:nvCxnSpPr>
        <p:spPr>
          <a:xfrm rot="5400000">
            <a:off x="6236640" y="1314360"/>
            <a:ext cx="459360" cy="3136320"/>
          </a:xfrm>
          <a:prstGeom prst="curvedConnector5">
            <a:avLst>
              <a:gd name="adj1" fmla="val 49803"/>
              <a:gd name="adj2" fmla="val 49994"/>
              <a:gd name="adj3" fmla="val 49803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7" idx="2"/>
          </p:cNvCxnSpPr>
          <p:nvPr/>
        </p:nvCxnSpPr>
        <p:spPr>
          <a:xfrm flipH="1" rot="16200000">
            <a:off x="7854120" y="2832120"/>
            <a:ext cx="459360" cy="10044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74000" y="6362640"/>
            <a:ext cx="233856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rirodno spajanj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(prikazuje se samo jena kolon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832440" y="2332080"/>
            <a:ext cx="249480" cy="241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6013440"/>
            <a:ext cx="336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  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Pr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Arial Narrow"/>
              </a:rPr>
              <a:t>4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:= 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Gra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đ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anin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* 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/>
          <p:nvPr/>
        </p:nvCxnSpPr>
        <p:spPr>
          <a:xfrm rot="5400000">
            <a:off x="219240" y="4609080"/>
            <a:ext cx="257760" cy="5760"/>
          </a:xfrm>
          <a:prstGeom prst="curvedConnector5">
            <a:avLst>
              <a:gd name="adj1" fmla="val 49930"/>
              <a:gd name="adj2" fmla="val 46666"/>
              <a:gd name="adj3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rot="5400000">
            <a:off x="1861200" y="2966760"/>
            <a:ext cx="257760" cy="3290040"/>
          </a:xfrm>
          <a:prstGeom prst="curvedConnector5">
            <a:avLst>
              <a:gd name="adj1" fmla="val 49930"/>
              <a:gd name="adj2" fmla="val 50000"/>
              <a:gd name="adj3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3" idx="1"/>
          </p:cNvCxnSpPr>
          <p:nvPr/>
        </p:nvCxnSpPr>
        <p:spPr>
          <a:xfrm rot="10800000">
            <a:off x="345240" y="6111000"/>
            <a:ext cx="429480" cy="484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5938200" y="459756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Primer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406760" y="5038560"/>
          <a:ext cx="1047600" cy="819000"/>
        </p:xfrm>
        <a:graphic>
          <a:graphicData uri="http://schemas.openxmlformats.org/drawingml/2006/table">
            <a:tbl>
              <a:tblPr/>
              <a:tblGrid>
                <a:gridCol w="357120"/>
                <a:gridCol w="296640"/>
                <a:gridCol w="39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611680" y="5184720"/>
          <a:ext cx="727200" cy="1092240"/>
        </p:xfrm>
        <a:graphic>
          <a:graphicData uri="http://schemas.openxmlformats.org/drawingml/2006/table">
            <a:tbl>
              <a:tblPr/>
              <a:tblGrid>
                <a:gridCol w="397080"/>
                <a:gridCol w="33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7094520" y="4971960"/>
          <a:ext cx="1835280" cy="546120"/>
        </p:xfrm>
        <a:graphic>
          <a:graphicData uri="http://schemas.openxmlformats.org/drawingml/2006/table">
            <a:tbl>
              <a:tblPr/>
              <a:tblGrid>
                <a:gridCol w="357120"/>
                <a:gridCol w="297000"/>
                <a:gridCol w="393480"/>
                <a:gridCol w="393840"/>
                <a:gridCol w="39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088040" y="6013440"/>
          <a:ext cx="1835280" cy="546120"/>
        </p:xfrm>
        <a:graphic>
          <a:graphicData uri="http://schemas.openxmlformats.org/drawingml/2006/table">
            <a:tbl>
              <a:tblPr/>
              <a:tblGrid>
                <a:gridCol w="357480"/>
                <a:gridCol w="296640"/>
                <a:gridCol w="393840"/>
                <a:gridCol w="393480"/>
                <a:gridCol w="39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6370560" y="5637240"/>
            <a:ext cx="2727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:=R</a:t>
            </a:r>
            <a:r>
              <a:rPr b="1" lang="sr-Latn-CS" sz="1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[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.C&gt;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.A AND 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.D&gt;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.B]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1000" y="467820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sr-Latn-CS" sz="1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:=R</a:t>
            </a:r>
            <a:r>
              <a:rPr b="1" lang="sr-Latn-CS" sz="1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[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.C&gt;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.A]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32240" y="475128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48320" y="485604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0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BB8E92A-E75D-4AD5-B868-DABF48E190C3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RELACIONI MODEL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Konvencionalne skupovne re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000" y="584280"/>
            <a:ext cx="9013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8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Delenje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. 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Delenje je operacija pogodna za upite u kojima se javlja reč “svi” (“sve”, “sva”). Formalno se definiše na sledeći način: 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Neka su A(X,Y) i B(Z) relacije gde su X, Y i Z skupovi atributa takvi da su Y i Z jednakobrojni a odgovarajući domeni su im jednaki. 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Rezultat operacije delenja je: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[Y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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Z]B=R(X)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de n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orka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zima vrednosti iz 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A.X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, a par 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&lt;x,y&gt;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 postoji u 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 za sve vrednosti 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 koje se pojavljuju u 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B(Z)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 Primer: 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Iz relacija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 Predmet 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 Prijava 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prikaži brojeve indeksa studenata koji su položili sve predmete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zultat operacije 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delenj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e: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R(X) = 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Prijava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Prijava.ŠifPred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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 Predmet..ŠifPred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Predmet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1160" y="4611600"/>
          <a:ext cx="901800" cy="1092240"/>
        </p:xfrm>
        <a:graphic>
          <a:graphicData uri="http://schemas.openxmlformats.org/drawingml/2006/table">
            <a:tbl>
              <a:tblPr/>
              <a:tblGrid>
                <a:gridCol w="901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fP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865440" y="435276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Pred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71880" y="4078440"/>
          <a:ext cx="1688760" cy="1638000"/>
        </p:xfrm>
        <a:graphic>
          <a:graphicData uri="http://schemas.openxmlformats.org/drawingml/2006/table">
            <a:tbl>
              <a:tblPr/>
              <a:tblGrid>
                <a:gridCol w="676080"/>
                <a:gridCol w="10126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I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fP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/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/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1/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3/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/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2156400" y="378000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Pri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762520" y="4621320"/>
          <a:ext cx="901800" cy="546120"/>
        </p:xfrm>
        <a:graphic>
          <a:graphicData uri="http://schemas.openxmlformats.org/drawingml/2006/table">
            <a:tbl>
              <a:tblPr/>
              <a:tblGrid>
                <a:gridCol w="901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I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/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4450320" y="4329000"/>
            <a:ext cx="37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Prijava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Prijava.ŠifPred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 Predmet..ŠifPred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]</a:t>
            </a: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Pred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40200" y="4897440"/>
            <a:ext cx="1692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23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2C4CA0F-BC51-49E0-A154-3258AB1C604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RELACIONI MODEL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peracije održavanja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000" y="584280"/>
            <a:ext cx="90136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peracije održavanja (ažuriranja) BP treba da omoguć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dodavanje n-torki u neku relaciju, izbacivanje n-torke iz neke relacije ili promenu vrednosti atributa relacij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. Drugim rečima,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peracije održavanja treba da obezbede promenu i pamćenje stanja BP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peracija dodavanj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n-torki u BP se izvršava preko operacije unije, na sledeći nač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Student:=Student</a:t>
            </a:r>
            <a:r>
              <a:rPr b="1" lang="sr-Latn-CS" sz="24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(&lt;BrInd:003/94&gt;,&lt;Mlb:129...&gt;,&lt;Ime:Miloš&gt;,&lt;Starost:22&gt;,&lt;SifSmer:01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Relacija Student pre operacij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Relacija Student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osl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36520" y="5056200"/>
          <a:ext cx="3178080" cy="1092240"/>
        </p:xfrm>
        <a:graphic>
          <a:graphicData uri="http://schemas.openxmlformats.org/drawingml/2006/table">
            <a:tbl>
              <a:tblPr/>
              <a:tblGrid>
                <a:gridCol w="635040"/>
                <a:gridCol w="531720"/>
                <a:gridCol w="681120"/>
                <a:gridCol w="665280"/>
                <a:gridCol w="664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I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fS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/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/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9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r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1/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76400" y="474192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072040" y="5081760"/>
          <a:ext cx="3178080" cy="1365120"/>
        </p:xfrm>
        <a:graphic>
          <a:graphicData uri="http://schemas.openxmlformats.org/drawingml/2006/table">
            <a:tbl>
              <a:tblPr/>
              <a:tblGrid>
                <a:gridCol w="635040"/>
                <a:gridCol w="531720"/>
                <a:gridCol w="681120"/>
                <a:gridCol w="665280"/>
                <a:gridCol w="664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BrI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M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Star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SifS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52/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63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223/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39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Mir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21/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11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Zo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3</a:t>
                      </a: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/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29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Milo</a:t>
                      </a: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5011920" y="48052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3300"/>
                </a:solidFill>
                <a:latin typeface="Arial Narrow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3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4B1E71B-F039-4BB8-AFE8-906DC976DE6C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RELACIONI MODEL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peracije održavanja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6520" y="1068480"/>
          <a:ext cx="3178080" cy="1092240"/>
        </p:xfrm>
        <a:graphic>
          <a:graphicData uri="http://schemas.openxmlformats.org/drawingml/2006/table">
            <a:tbl>
              <a:tblPr/>
              <a:tblGrid>
                <a:gridCol w="635040"/>
                <a:gridCol w="531720"/>
                <a:gridCol w="681120"/>
                <a:gridCol w="665280"/>
                <a:gridCol w="664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I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fS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/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/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9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r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1/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176400" y="7034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072040" y="1017720"/>
          <a:ext cx="3178080" cy="1365120"/>
        </p:xfrm>
        <a:graphic>
          <a:graphicData uri="http://schemas.openxmlformats.org/drawingml/2006/table">
            <a:tbl>
              <a:tblPr/>
              <a:tblGrid>
                <a:gridCol w="635040"/>
                <a:gridCol w="531720"/>
                <a:gridCol w="681120"/>
                <a:gridCol w="665280"/>
                <a:gridCol w="664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BrI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M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Star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SifS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52/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63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223/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39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Mir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21/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11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Zo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3</a:t>
                      </a: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/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29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Milo</a:t>
                      </a: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5011920" y="62712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3300"/>
                </a:solidFill>
                <a:latin typeface="Arial Narrow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60" y="2568600"/>
            <a:ext cx="90136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peracija izbacivanj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n-torki iz BP se izvršava preko operacije diferenci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Student:=Student-(&lt;BrInd:152/97&gt;,&lt;Mlb:163...&gt;,&lt;Ime:Ana&gt;,&lt;Starost:19&gt;,&lt;SifSmer:01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peracija ažuriranj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vrednossti nekog atributa se obavlja na taj način što se prvo operacijom diferencije izbace n-torke čiji se atribut menja, a zatim vrate preko operacije unije sa izmenjenom vrednošću atributa. Na prim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Student:=Student-(&lt;BrInd:152/97&gt;,&lt;Mlb:163...&gt;,&lt;Ime:Ana&gt;,&lt;Starost:19&gt;,&lt;SifSmer:01&gt;) </a:t>
            </a:r>
            <a:r>
              <a:rPr b="1" lang="sr-Latn-C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(&lt;BrInd:152/97&gt;,&lt;Mlb:163...&gt;,&lt;Ime:Ana&gt;,&lt;Starost:19&gt;,&lt;SifSmer:02&gt;)</a:t>
            </a:r>
            <a:r>
              <a:rPr b="1" lang="sr-Latn-CS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Student sa BRInd=152/97 promenio je ŠifSmer sa 01 na 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45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21B0B12-6269-48D5-893D-41F94CF4B42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RELACIONI MODEL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Pravila integriteta mod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20" y="1424160"/>
            <a:ext cx="9013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Dinamička pravila integriteta  definišu dozvoljena stanja i dozvoljene prelaze sistema iz stanja u stanje. Dinamičko pravilo integriteta u RM se iskazuje definisanjem definisanjem ograničenja na vrenosti atributa i akcijama koja se preduzimaju kada neka operacija ažuriranja naruši posmatrano ograničenje. U pravilima integriteta ponekad se naznačava i trenutak u kome se ispituje da li je ograničenje narušeno. Ograničenje se može ispitivati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trenutn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(zajedno sa izvršenjem operacije ažuriranja) ili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dložen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(na kraju transakcije u okviru koje se operacija ažuriranja obavl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5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0F1216E-5558-43CF-8F03-EA5EE65B4E75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RELACIONI MODEL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Pravila integriteta mod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155600"/>
            <a:ext cx="9013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Uopbičajeno je da se u RM definišu dve vrste pravila integrit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ravila integriteta model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, koja su posledica struktur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relacionog modela, pa su zbog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toga opšta i moraju da važ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u svakom konkretnom 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oslovna pravila integritet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, odnosno specifičn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graničenja za dati RM. Naziv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“poslovna”, proističe iz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činjenice da se preko ovih ograničenja iskazuju specifičn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dnosi vrednosti atributa koji važe u datom realnom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najčešće poslovnom) siste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5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132EE48-3764-49C9-8960-2CAD0EEA2D7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1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6:14:00Z</dcterms:created>
  <dc:creator>Lukic</dc:creator>
  <dc:description/>
  <dc:language>en-US</dc:language>
  <cp:lastModifiedBy>Zoran</cp:lastModifiedBy>
  <dcterms:modified xsi:type="dcterms:W3CDTF">2005-11-07T09:26:18Z</dcterms:modified>
  <cp:revision>316</cp:revision>
  <dc:subject/>
  <dc:title>PowerPoint Presentation</dc:title>
</cp:coreProperties>
</file>