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49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18.wmf" ContentType="image/x-wmf"/>
  <Override PartName="/ppt/media/image17.wmf" ContentType="image/x-wmf"/>
  <Override PartName="/ppt/media/image20.wmf" ContentType="image/x-wmf"/>
  <Override PartName="/ppt/media/image63.png" ContentType="image/png"/>
  <Override PartName="/ppt/media/image36.png" ContentType="image/png"/>
  <Override PartName="/ppt/media/image6.png" ContentType="image/png"/>
  <Override PartName="/ppt/media/image60.png" ContentType="image/png"/>
  <Override PartName="/ppt/media/image21.wmf" ContentType="image/x-wmf"/>
  <Override PartName="/ppt/media/image64.png" ContentType="image/png"/>
  <Override PartName="/ppt/media/image25.wmf" ContentType="image/x-wmf"/>
  <Override PartName="/ppt/media/image61.png" ContentType="image/png"/>
  <Override PartName="/ppt/media/image62.png" ContentType="image/png"/>
  <Override PartName="/ppt/media/image2.png" ContentType="image/png"/>
  <Override PartName="/ppt/media/image32.png" ContentType="image/png"/>
  <Override PartName="/ppt/media/image26.wmf" ContentType="image/x-wmf"/>
  <Override PartName="/ppt/media/image22.wmf" ContentType="image/x-wmf"/>
  <Override PartName="/ppt/media/image65.png" ContentType="image/png"/>
  <Override PartName="/ppt/media/image29.wmf" ContentType="image/x-wmf"/>
  <Override PartName="/ppt/media/image1.png" ContentType="image/png"/>
  <Override PartName="/ppt/media/image30.png" ContentType="image/png"/>
  <Override PartName="/ppt/media/image28.wmf" ContentType="image/x-wmf"/>
  <Override PartName="/ppt/media/image24.wmf" ContentType="image/x-wmf"/>
  <Override PartName="/ppt/media/image67.png" ContentType="image/png"/>
  <Override PartName="/ppt/media/image57.png" ContentType="image/png"/>
  <Override PartName="/ppt/media/image14.wmf" ContentType="image/x-wmf"/>
  <Override PartName="/ppt/media/image23.wmf" ContentType="image/x-wmf"/>
  <Override PartName="/ppt/media/image66.png" ContentType="image/png"/>
  <Override PartName="/ppt/media/image27.wmf" ContentType="image/x-wmf"/>
  <Override PartName="/ppt/media/image58.png" ContentType="image/png"/>
  <Override PartName="/ppt/media/image15.wmf" ContentType="image/x-wmf"/>
  <Override PartName="/ppt/media/image53.png" ContentType="image/png"/>
  <Override PartName="/ppt/media/image10.wmf" ContentType="image/x-wmf"/>
  <Override PartName="/ppt/media/image19.wmf" ContentType="image/x-wmf"/>
  <Override PartName="/ppt/media/image7.wmf" ContentType="image/x-wmf"/>
  <Override PartName="/ppt/media/image4.png" ContentType="image/png"/>
  <Override PartName="/ppt/media/image3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40.png" ContentType="image/png"/>
  <Override PartName="/ppt/media/image5.png" ContentType="image/png"/>
  <Override PartName="/ppt/media/image3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41.png" ContentType="image/png"/>
  <Override PartName="/ppt/media/image3.png" ContentType="image/png"/>
  <Override PartName="/ppt/media/image33.png" ContentType="image/png"/>
  <Override PartName="/ppt/media/image54.png" ContentType="image/png"/>
  <Override PartName="/ppt/media/image11.wmf" ContentType="image/x-wmf"/>
  <Override PartName="/ppt/media/image50.png" ContentType="image/png"/>
  <Override PartName="/ppt/media/image31.wmf" ContentType="image/x-wmf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0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3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502-E141-41A1-9AD8-95E2228A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639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5238720"/>
            <a:ext cx="639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4AB-1ABB-47B5-A9B3-D568B23D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523872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240" y="523872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435-4EE1-460E-BC7D-EF4E4CF1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600" y="480060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3200" y="480060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523872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600" y="523872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3200" y="523872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331-F86E-488B-9491-7416C03F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5637-0FA5-403A-814F-1372C2E7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4800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5A40-E55A-4A72-A457-8F66BE25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7E7F-FE1D-439E-A29F-CFEC2CDA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ED6E-8636-4587-A8E3-A845486D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C5FD-93AB-4BCA-8D28-42CB8822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3428640"/>
            <a:ext cx="639936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F7E6-8262-4FC9-9628-A7CB3C49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523872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E60F-8A4F-4234-9849-19BE11D7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4800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84C-CFDA-4982-9A98-D0375DC1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5240" y="523872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3FA7-7640-4786-A551-40ED7AA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5238720"/>
            <a:ext cx="639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6E42-0282-42D5-BF9A-1EA566D1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639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5238720"/>
            <a:ext cx="639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250C-5320-4B41-B2BD-310A113B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523872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5240" y="523872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3423-5B38-4F06-8C5A-E71E1516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9600" y="480060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3200" y="480060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523872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9600" y="523872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3200" y="5238720"/>
            <a:ext cx="20602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7F0A-12A8-42FC-AF50-4F203E88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47A-98AF-4C5F-AFDA-26F78F80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C9A-EE62-41B7-ABB6-DF43A5DA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2BD-5EB1-400E-9F22-710A71A6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3428640"/>
            <a:ext cx="639936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062-EBD5-4644-AEFA-16E2540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523872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1E3-E052-4191-8274-A614078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240" y="523872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F12-C3CB-4081-90B7-F9BE6E93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240" y="4800600"/>
            <a:ext cx="3122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5238720"/>
            <a:ext cx="6399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C35-CEDA-4F44-A2BB-8F2511CE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6AF5-CAE7-4B4A-8148-40F51C8426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2643-0B1B-463E-9CEC-89910CE432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0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55164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poznajte 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a MS ACCESS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-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r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dno okružen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Uz Access 2000 isporučuje se 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Microsoft Database Engin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poznat i kao 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SQL Server 7.0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varijanta za jednokorisnički ra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e j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omogu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zvoj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klijent/server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aplikaci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koje se mogu prebaciti na jači 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SQL Server 7.0 Enterprise Edition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Access koristi 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Jet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mašinu baze podataka pomoć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moguće praviti aplikacije za nekoliko radnih stanica i sa n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više 10mb podatak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C08-71A0-4CCB-84D4-9A483995410E}" type="slidenum">
              <a:t>10</a:t>
            </a:fld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6782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reiranje upit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907640" y="2852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By Example (QB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BE (Query By Example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Da bi se kreirao upit potrebno je uraditi sledeć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rozoru baze podataka treba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pritisnuti dugme </a:t>
            </a: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Queries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na toolbaru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liknuti na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dugme </a:t>
            </a: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eirati upit kori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jem dijalog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w Que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U okviru za dijalog 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New Query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mogu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e odabrati pet opcija od kojih su dve najčešće korišćen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Design View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omogu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je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prelazak u </a:t>
            </a: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QBE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(specijalna aplikacija u Accessu namenjena za jednostavnije kreiranje upita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Simple Query Wizard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omogu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je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biranje tabela i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ihovih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olja koj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se kor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i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u konkretnom upitu u samo nekoliko korak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253-5DDC-4C50-8A25-F9CE346265A6}" type="slidenum">
              <a:t>101</a:t>
            </a:fld>
          </a:p>
        </p:txBody>
      </p:sp>
    </p:spTree>
  </p:cSld>
  <p:transition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Izgled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dijaloga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Que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571840" y="2025720"/>
            <a:ext cx="4535280" cy="34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D66-8598-4EC7-9386-EAA4E0E45569}" type="slidenum">
              <a:t>102</a:t>
            </a:fld>
          </a:p>
        </p:txBody>
      </p:sp>
    </p:spTree>
  </p:cSld>
  <p:transition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BE (Query By Exampl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reiranje upita kori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jem opcije Design View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7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000000"/>
                </a:solidFill>
                <a:latin typeface="Verdana"/>
              </a:rPr>
              <a:t>Prvo što se pojavljuje po izboru opcije </a:t>
            </a:r>
            <a:r>
              <a:rPr b="1" lang="sl-SI" sz="1500" spc="-1" strike="noStrike">
                <a:solidFill>
                  <a:srgbClr val="000000"/>
                </a:solidFill>
                <a:latin typeface="Verdana"/>
              </a:rPr>
              <a:t>Design View</a:t>
            </a:r>
            <a:r>
              <a:rPr b="0" lang="sl-SI" sz="1500" spc="-1" strike="noStrike">
                <a:solidFill>
                  <a:srgbClr val="000000"/>
                </a:solidFill>
                <a:latin typeface="Verdana"/>
              </a:rPr>
              <a:t> je dijalog </a:t>
            </a:r>
            <a:r>
              <a:rPr b="1" lang="sl-SI" sz="1500" spc="-1" strike="noStrike">
                <a:solidFill>
                  <a:srgbClr val="000000"/>
                </a:solidFill>
                <a:latin typeface="Verdana"/>
              </a:rPr>
              <a:t>Show Table </a:t>
            </a:r>
            <a:r>
              <a:rPr b="0" lang="sl-SI" sz="1500" spc="-1" strike="noStrike">
                <a:solidFill>
                  <a:srgbClr val="000000"/>
                </a:solidFill>
                <a:latin typeface="Verdana"/>
              </a:rPr>
              <a:t>koji prikazuje sve tabele i upite u bazi podataka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7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500" spc="-1" strike="noStrike">
                <a:solidFill>
                  <a:srgbClr val="000000"/>
                </a:solidFill>
                <a:latin typeface="Verdana"/>
              </a:rPr>
              <a:t>Izbor određene tabele ili više njih, vrši se klikom na taster </a:t>
            </a:r>
            <a:r>
              <a:rPr b="1" lang="sl-SI" sz="15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6870600" cy="32101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flipH="1">
            <a:off x="5292720" y="2349360"/>
            <a:ext cx="2448000" cy="1150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BB3-BE29-4633-953C-7608B9AA1B4C}" type="slidenum">
              <a:t>103</a:t>
            </a:fld>
          </a:p>
        </p:txBody>
      </p:sp>
    </p:spTree>
  </p:cSld>
  <p:transition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BE (Query By Example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82036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Kada pritisnete tater </a:t>
            </a: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Close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naćićete se u QBE (</a:t>
            </a: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Query By Example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) prozor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rozor se sastoji od dva del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U gornj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nalaze tabele koje ste u prethodnom dijalogu izabral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Donji prozor sastoji se od nekoliko redova korisnih za sastavljanje upit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sl-SI" sz="1600" spc="-1" strike="noStrike">
                <a:solidFill>
                  <a:srgbClr val="000000"/>
                </a:solidFill>
                <a:latin typeface="Verdana"/>
              </a:rPr>
              <a:t> - U ovaj red se upisuju ili dodaju imena pol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Table - </a:t>
            </a:r>
            <a:r>
              <a:rPr b="0" lang="sl-SI" sz="1600" spc="-1" strike="noStrike">
                <a:solidFill>
                  <a:srgbClr val="000000"/>
                </a:solidFill>
                <a:latin typeface="Verdana"/>
              </a:rPr>
              <a:t>U ovom redu se prikazuju imena tabela iz kojih potiču polj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Sort - </a:t>
            </a:r>
            <a:r>
              <a:rPr b="0" lang="sl-SI" sz="1600" spc="-1" strike="noStrike">
                <a:solidFill>
                  <a:srgbClr val="000000"/>
                </a:solidFill>
                <a:latin typeface="Verdana"/>
              </a:rPr>
              <a:t>U ovom redu se zadaje način sortiranja podataka iz upi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Show - </a:t>
            </a:r>
            <a:r>
              <a:rPr b="0" lang="sl-SI" sz="1600" spc="-1" strike="noStrike">
                <a:solidFill>
                  <a:srgbClr val="000000"/>
                </a:solidFill>
                <a:latin typeface="Verdana"/>
              </a:rPr>
              <a:t>Ovo polje je za potvrđivanje i određuje da li će polje biti       prikazano ili 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Criteria - </a:t>
            </a:r>
            <a:r>
              <a:rPr b="0" lang="sl-SI" sz="1600" spc="-1" strike="noStrike">
                <a:solidFill>
                  <a:srgbClr val="000000"/>
                </a:solidFill>
                <a:latin typeface="Verdana"/>
              </a:rPr>
              <a:t>U ovaj red se upisuje prvi red uslova za izdvajanje zapis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sl-SI" sz="1600" spc="-1" strike="noStrike">
                <a:solidFill>
                  <a:srgbClr val="000000"/>
                </a:solidFill>
                <a:latin typeface="Verdana"/>
              </a:rPr>
              <a:t> - Ovo je prvi sledeći red u koji se mogu uneti dodatni uslovi za izdvajanje zapi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9A4-E1E6-4337-87C6-3426225DA7F4}" type="slidenum">
              <a:t>104</a:t>
            </a:fld>
          </a:p>
        </p:txBody>
      </p:sp>
    </p:spTree>
  </p:cSld>
  <p:transition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24160" y="622440"/>
            <a:ext cx="63532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BE (Query By Example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5688000" cy="41608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4200" y="5056200"/>
            <a:ext cx="6399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1258920" y="5516640"/>
            <a:ext cx="70581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bi obeležio koje tabele su povezane Access koristi lin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nija koja spaja dve tabele je spoljna linija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F22-8745-4D17-BE11-076CEF9A66B0}" type="slidenum">
              <a:t>105</a:t>
            </a:fld>
          </a:p>
        </p:txBody>
      </p:sp>
    </p:spTree>
  </p:cSld>
  <p:transition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04760"/>
            <a:ext cx="7351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Verdana"/>
              </a:rPr>
              <a:t>Da bi se dodale nove tabele potrebno je pomeriti pokazivač miša u gornje okno i pritisnuti desni taster priliko čega će se otvoriti meni u kojem treba odabrati opciju </a:t>
            </a:r>
            <a:r>
              <a:rPr b="1" lang="sl-SI" sz="2300" spc="-1" strike="noStrike">
                <a:solidFill>
                  <a:srgbClr val="000000"/>
                </a:solidFill>
                <a:latin typeface="Verdana"/>
              </a:rPr>
              <a:t>Show table</a:t>
            </a:r>
            <a:r>
              <a:rPr b="0" lang="sl-SI" sz="23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Verdana"/>
              </a:rPr>
              <a:t>Izbor tabele se vr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300" spc="-1" strike="noStrike">
                <a:solidFill>
                  <a:srgbClr val="000000"/>
                </a:solidFill>
                <a:latin typeface="Verdana"/>
              </a:rPr>
              <a:t> duplim klikom na njeno ime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00"/>
                </a:solidFill>
                <a:latin typeface="Verdana"/>
              </a:rPr>
              <a:t>Tabela se može najjednostavnije obrisati selektovanjem tabele klikom ili na nju ili na neko njeno polje, i pritiskom tastera </a:t>
            </a:r>
            <a:r>
              <a:rPr b="1" lang="pt-PT" sz="23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0" lang="pt-PT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QBE (Query By Example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198-E7E5-448E-BF39-87B3B1CA6F05}" type="slidenum">
              <a:t>106</a:t>
            </a:fld>
          </a:p>
        </p:txBody>
      </p:sp>
    </p:spTree>
  </p:cSld>
  <p:transition>
    <p:fade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042920" y="1904760"/>
            <a:ext cx="7640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Verdana"/>
              </a:rPr>
              <a:t>Nakon izbora tabela koje će učestvovati u upitu, neophodno je izabrati polja iz datih tabela i dodati ih u red </a:t>
            </a:r>
            <a:r>
              <a:rPr b="1" lang="pt-PT" sz="21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pt-PT" sz="2100" spc="-1" strike="noStrike">
                <a:solidFill>
                  <a:srgbClr val="000000"/>
                </a:solidFill>
                <a:latin typeface="Verdana"/>
              </a:rPr>
              <a:t> donjeg prozora </a:t>
            </a:r>
            <a:r>
              <a:rPr b="1" lang="pt-PT" sz="2100" spc="-1" strike="noStrike">
                <a:solidFill>
                  <a:srgbClr val="000000"/>
                </a:solidFill>
                <a:latin typeface="Verdana"/>
              </a:rPr>
              <a:t>Table Query</a:t>
            </a:r>
            <a:r>
              <a:rPr b="0" lang="pt-PT" sz="2100" spc="-1" strike="noStrike">
                <a:solidFill>
                  <a:srgbClr val="000000"/>
                </a:solidFill>
                <a:latin typeface="Verdana"/>
              </a:rPr>
              <a:t>-a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Verdana"/>
              </a:rPr>
              <a:t>Polja se mogu izdvajati jedno po jedno, može se vršiti odabir više polja istovremeno, ili jednostavno izabrati sva polja. Za to se mogu koristiti tastatura ili miš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Verdana"/>
              </a:rPr>
              <a:t>Prethodno selektovana polja prenose se u red za izbor polja ili se biraju sa padajuće liste u redovima Field, odnosno Table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Verdana"/>
              </a:rPr>
              <a:t>Za selektovanje više polja istovremeno koriste se funkcijski tasteri Ctrl i Shif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QBE (Query By Example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0EE-60C0-481D-AC36-91304858A938}" type="slidenum">
              <a:t>107</a:t>
            </a:fld>
          </a:p>
        </p:txBody>
      </p:sp>
    </p:spTree>
  </p:cSld>
  <p:transition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QBE (Query By Example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711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im pojedinačnog dodavanja polja, u QBE okno mogu se umetnuti i sva polja tabele istovremen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 nudi dve metode izbora svih polj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vlačenjem svih polja kao grup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ranjem referentne oznake za sva polja-zvezdice (*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koliko se upit sastoji od polja dve ili više tabela postupak je isit, dodamo željena polja iz prve tabele, potom iz drug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jjednostavniji način je odab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i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gr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polja i pre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ih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nadole u QBE okn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CB3-61BC-4816-AA8A-0C799A0B10F2}" type="slidenum">
              <a:t>108</a:t>
            </a:fld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QBE (Query By Example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920" y="1904760"/>
            <a:ext cx="7640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Za zadavanje uslova koje slogovi moraju da ispunjavaju koristi se red </a:t>
            </a:r>
            <a:r>
              <a:rPr b="1" lang="pl-PL" sz="2300" spc="-1" strike="noStrike">
                <a:solidFill>
                  <a:srgbClr val="000000"/>
                </a:solidFill>
                <a:latin typeface="Verdana"/>
              </a:rPr>
              <a:t>Criteria</a:t>
            </a: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Uslovi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za polja </a:t>
            </a: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tekstualnog tipa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Zadaju se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upi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vanjem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prime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vrednosti podatka koji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i 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treb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da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nalazi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u tom polju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Može se koristiti i negacija Not ispred nekog teksta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 tom slu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ju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i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ć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lektovani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svi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logovi koji ne sadrže tu vrednost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slov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 za numerička ili datumska polja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Zadaju se ko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i</a:t>
            </a:r>
            <a:r>
              <a:rPr b="0" lang="sl-SI" sz="19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jem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operato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za upoređivanje, kao što su veće (&gt;), manje (&lt;), jednako (=)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F8F-3195-47F7-9819-50C77F7061D1}" type="slidenum">
              <a:t>109</a:t>
            </a:fld>
          </a:p>
        </p:txBody>
      </p:sp>
    </p:spTree>
  </p:cSld>
  <p:transition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543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r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dno okružen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Acess 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veliki broj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 ugrađe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h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funkcij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nkcije za rad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sa objektima baze podatak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matematičke funkcij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poslovne funkcij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finansijske funkcij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funkcije za rad sa datumima i vremenima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funkcije za rad sa tekstualnim nizovima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Funkcije se mogu koristiti u obrascima, izveštajima i/ili upitima da bi se izračunali izrazi razli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e </a:t>
            </a: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kompleksnosti.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23C-CABA-4BA3-81C8-95A351697204}" type="slidenum">
              <a:t>11</a:t>
            </a:fld>
          </a:p>
        </p:txBody>
      </p:sp>
    </p:spTree>
  </p:cSld>
  <p:transition>
    <p:fad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Način prikaza upi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640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Design View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- standardni QBE prikaz up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Table View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- prikazuje se sadržaj dinamičkog skupa u tabelarnom oblik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SQL View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kazuje izgled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SQL koman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kojom je realizovan upit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eke upite moguće je kreirati jedino pomoću SQL-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7BD-450B-4AF3-8D1D-BBC7C8B58A1D}" type="slidenum">
              <a:t>110</a:t>
            </a:fld>
          </a:p>
        </p:txBody>
      </p:sp>
    </p:spTree>
  </p:cSld>
  <p:transition>
    <p:fade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9984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Tabelarni prikaz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zultata upi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Table View)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95280" y="2351160"/>
            <a:ext cx="7993080" cy="28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28C-1825-4011-90C5-9D559CD53C62}" type="slidenum">
              <a:t>111</a:t>
            </a:fld>
          </a:p>
        </p:txBody>
      </p:sp>
    </p:spTree>
  </p:cSld>
  <p:transition>
    <p:fad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SQL prikaz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ita (SQL View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546360" y="3498840"/>
            <a:ext cx="3875040" cy="10317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468360" y="2781360"/>
            <a:ext cx="8136000" cy="180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D22-2467-4D06-BE9A-93B00E34B793}" type="slidenum">
              <a:t>112</a:t>
            </a:fld>
          </a:p>
        </p:txBody>
      </p:sp>
    </p:spTree>
  </p:cSld>
  <p:transition>
    <p:fad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jalog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Join Proper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abele neće automatski biti povezane ukoliko to nije učinjeno na nivou baze podataka, ili ako je isključena opcija 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AutoJoi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Da bi se povezale dve tabele potrebno je u oknu 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Table/Query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odabrati polje prve tabele, koje treba da bude u spoju, i prevući ga na tabelu i odgovarajuće polje, koje treba da bude drugi deo spo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04B-DE49-4D7F-840E-CE354C861FCB}" type="slidenum">
              <a:t>113</a:t>
            </a:fld>
          </a:p>
        </p:txBody>
      </p:sp>
    </p:spTree>
  </p:cSld>
  <p:transition>
    <p:fade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jalog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Join Proper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romena vrste spoja vrši se odabirom spoljne linije i duplim pritiskom na nju, prilikom čega će se pojaviti okvir za dijalog 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Join Propertie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Okvir za dijalog </a:t>
            </a: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Join Properties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podeljen je na dva del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etiri padajuće lis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ri dugmeta za opcij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B03-88CC-48A2-B6B6-1034D4D7DFFA}" type="slidenum">
              <a:t>114</a:t>
            </a:fld>
          </a:p>
        </p:txBody>
      </p:sp>
    </p:spTree>
  </p:cSld>
  <p:transition>
    <p:fade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jalo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Join Prope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cije dijaloga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Join Propertie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254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Only Include Rows Where the joined fi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lds from both tables are equal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uključiti iz obe tabele sam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slogove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u kojima je sadržaj spojnih polja jedn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-12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va opcija nalaže Access-u da iz obe tabele izdvoji 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o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zapise u kojima spojna polja sadrže iste vrednost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-12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Ovo su jednakovredni ili unutrašnji spojev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254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Include ALL Record For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i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me prve tabel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and only those records fro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ime druge tabel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where the joined fields are equal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obavezno je uključivanje svih zapisa iz prve tabele i samo onih zapisa iz druge tabele u kojima je sadržaj spojnih polja jednak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-12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Ako se kao prva koristi tabela, Artikal, a kao druga tabela Stav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aKataloga, biće prikazani svi artikli (čak i oni kojih nema u katalogu) i samo 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stav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 k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ataloga koj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imaju odgovarajući artik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-12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Ovo su desni spoljni spojev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60D-AF40-420C-8097-9FE20B47831E}" type="slidenum">
              <a:t>115</a:t>
            </a:fld>
          </a:p>
        </p:txBody>
      </p:sp>
    </p:spTree>
  </p:cSld>
  <p:transition>
    <p:fade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jalog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Join Properti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2920" y="1904760"/>
            <a:ext cx="7640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cije dijaloga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Join Properti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nastavak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382680">
              <a:spcBef>
                <a:spcPts val="601"/>
              </a:spcBef>
              <a:buClr>
                <a:srgbClr val="000000"/>
              </a:buClr>
              <a:buSzPct val="9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Include ALL records form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ime druge tabe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and only those records from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ime prve tabe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where the joined fields are equal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uključiti sve zapise iz druge tabele i samo one zapise iz prve tabele u kojima je sadržaj spojnih polja jednak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840" indent="-217440">
              <a:spcBef>
                <a:spcPts val="425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Ako se kao prva koristi tabela, Stav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aKataloga, a kao druga tabela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rtikal</a:t>
            </a: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, biće prikazani sv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avke kataloga</a:t>
            </a: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 i samo on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 artikli</a:t>
            </a: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 koj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 nalaze na tim stavkama</a:t>
            </a: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840" indent="-21744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Ovo su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evi</a:t>
            </a:r>
            <a:r>
              <a:rPr b="0" lang="sr-Latn-CS" sz="1700" spc="-1" strike="noStrike">
                <a:solidFill>
                  <a:srgbClr val="000000"/>
                </a:solidFill>
                <a:latin typeface="Verdana"/>
              </a:rPr>
              <a:t> spoljni spojev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531-5682-4109-9577-321F4307620D}" type="slidenum">
              <a:t>116</a:t>
            </a:fld>
          </a:p>
        </p:txBody>
      </p:sp>
    </p:spTree>
  </p:cSld>
  <p:transition>
    <p:fad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24160" y="757080"/>
            <a:ext cx="635328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Izgled</a:t>
            </a:r>
            <a:r>
              <a:rPr b="1" lang="sr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dijaloga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Join Properti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rcRect l="872" t="0" r="0" b="1956"/>
          <a:stretch/>
        </p:blipFill>
        <p:spPr>
          <a:xfrm>
            <a:off x="2516040" y="2033640"/>
            <a:ext cx="543240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658-BB40-4E7D-A995-577605005C89}" type="slidenum">
              <a:t>117</a:t>
            </a:fld>
          </a:p>
        </p:txBody>
      </p:sp>
    </p:spTree>
  </p:cSld>
  <p:transition>
    <p:fade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finisanje uslov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cess omogućuje rad samo sa pojedinim delovima tabele, tj. samo sa slogovima koji ispunjavaju određene uslov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lovi se postavljaju u kolonama odgovarajućih polja u redu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riteri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a pravljenje upita koji </a:t>
            </a: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 izdvojiti slogove koji ispunjavaju istovremeno više uslova vezanih za različita polja, potrebno je za svako polje zadati uslov i sve te uslove staviti u jedan isti red (koji ih povezuje logičkim i)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 slučaju upita koji bi trebalo da vrše izdvajanja slogova koji ispunjavaju bilo koji od navedenih uslova, uslovi za svako polje se smeštaju jedan ispod drugog ili povezuju operatorom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9B9-B3E2-4697-9A1E-94113E107E87}" type="slidenum">
              <a:t>118</a:t>
            </a:fld>
          </a:p>
        </p:txBody>
      </p:sp>
    </p:spTree>
  </p:cSld>
  <p:transition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47280" y="1052640"/>
            <a:ext cx="67820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peratori, funkcije, izraz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24160" y="622440"/>
            <a:ext cx="63532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r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dno okružen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Za one koji ne žele da programiraju obezbeđeni su </a:t>
            </a: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makroi</a:t>
            </a: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Makroi omogućuju obavljanje uobičajenih poslova bez intervencije korisni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Postoji oko pedeset makro akcija koje omogućuju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rad sa podacim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avljenje menija i okvira za dijalog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otvaranje obrazaca i izvešta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automatizaciju bilo kog posl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B7E-58B6-4E40-91EE-E770630B9403}" type="slidenum">
              <a:t>12</a:t>
            </a:fld>
          </a:p>
        </p:txBody>
      </p:sp>
    </p:spTree>
  </p:cSld>
  <p:transition>
    <p:fade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Operatori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76360" y="2025360"/>
            <a:ext cx="715176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Operatori su pored funkcij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izraza osnovni delovi Access-ovih operacija.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Koriste se u operacijama kao što s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stavljanje standardnih (</a:t>
            </a:r>
            <a:r>
              <a:rPr b="1" lang="sl-SI" sz="1800" spc="-1" strike="noStrike">
                <a:solidFill>
                  <a:srgbClr val="000000"/>
                </a:solidFill>
                <a:latin typeface="Verdana"/>
              </a:rPr>
              <a:t>default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) vrednosti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zadavanje uslova prilikom unosa vrednosti u tabele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korišćenje uslova u upitima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stavljanje izračunatih polja na obrasce 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dodavanje objekata za sumarne operacije na izveštaj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CA8-B00E-419C-844F-7381048175D8}" type="slidenum">
              <a:t>120</a:t>
            </a:fld>
          </a:p>
        </p:txBody>
      </p:sp>
    </p:spTree>
  </p:cSld>
  <p:transition>
    <p:fade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Operatori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76360" y="1957320"/>
            <a:ext cx="715176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Operatori omoguć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j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izvršavanje računskih operacij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poređenje vrednost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pajanje znakovnih nizova 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astavljanje složenih relacionih izraza.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Korišćenjem operatora nalaže se Access-u da izvrši određene operacije nad jednim ili više operan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166-168A-4701-B1DB-145CF619AEF0}" type="slidenum">
              <a:t>121</a:t>
            </a:fld>
          </a:p>
        </p:txBody>
      </p:sp>
    </p:spTree>
  </p:cSld>
  <p:transition>
    <p:fade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gled operato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95280" y="2421000"/>
          <a:ext cx="8569440" cy="27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421000"/>
                    <a:ext cx="85694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790-3553-4D6C-BE28-BA9595123EF9}" type="slidenum">
              <a:t>122</a:t>
            </a:fld>
          </a:p>
        </p:txBody>
      </p:sp>
    </p:spTree>
  </p:cSld>
  <p:transition>
    <p:fade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nkci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Funkcije predstavljaju već napisane kratke programe koji po definiciji uvek daju povratne vrednost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vratne vrednosti funkcij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se dobijaj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enom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određen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računsk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operacija, poređenjima il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kim drugim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izračunavanjima koje funkcija obavlj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U Access je ograđen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totine standardnih funkcija koje se koriste u tabelama, upitima, obrascima i izveštaji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BCC-7612-464D-9B3B-C04BB508F362}" type="slidenum">
              <a:t>123</a:t>
            </a:fld>
          </a:p>
        </p:txBody>
      </p:sp>
    </p:spTree>
  </p:cSld>
  <p:transition>
    <p:fade/>
  </p:transition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novne vrste funkci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Funkcije za rad sa datumima i vremen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Now ( 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je tekući datum i vreme: 3.4.02  12:22:3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Time ( 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je tekuće vreme: 12:22: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Date ( 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je tekući dat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pr.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3.4.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Finansijske funkcije (SQL)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Avg ( )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računava pros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um ( )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računava ukupan zbi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EE6-9D8A-4681-BCA4-99390FFA2579}" type="slidenum">
              <a:t>124</a:t>
            </a:fld>
          </a:p>
        </p:txBody>
      </p:sp>
    </p:spTree>
  </p:cSld>
  <p:transition>
    <p:fade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novne vrste funkci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Matematičke funk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Int ( 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d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aje celobrojni deo ulazne vrednos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j.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zaokružuje na prvu manju vredn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Fix ( 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d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aje celobrojni deo negativne vrednos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Sqr ( )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i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zračunava kvadratni koren ulazne vrednos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Funkcije za rad sa znakovnim nizovima-stringov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ft ( )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je zadati broj znakova sa početka niz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Right ( 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je zadati broj znakova od kraja niz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n ( )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je dužinu (broj znakova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nakovnog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niz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case ( 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pretvara slova ulaznog niza u ma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E35-83F2-4978-80A6-3FE348D3AF54}" type="slidenum">
              <a:t>125</a:t>
            </a:fld>
          </a:p>
        </p:txBody>
      </p:sp>
    </p:spTree>
  </p:cSld>
  <p:transition>
    <p:fade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raz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7424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a postavljanje određenog uslova ili izračunavanje vrednosti određenog polja koriste se izraz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zrazi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mogu biti jednostavni ili složen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zrazi m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ogu da sadrže razne kombinacije operatora, imena objekata, funkcija i konstant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34C-CDA4-4453-9C6C-A445A0147E95}" type="slidenum">
              <a:t>126</a:t>
            </a:fld>
          </a:p>
        </p:txBody>
      </p:sp>
    </p:spTree>
  </p:cSld>
  <p:transition>
    <p:fade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zraz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zrazi se mogu sastojati iz sledeći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at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Operator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(+,-,&lt;,&gt;,=,*,And,Or,Not,Like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) pokazuju koja će vrsta akcije biti izvršena nad jednim ili nad više elemenata izraz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na objekat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redstavljaju postojeće objek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unkcije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- mogu se koristiti ugrađene Access-ove funkcije ili samostalno kreira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iteral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- vrednosti koje se unose u izraz, mogu da budu brojevi, znakovni nizovi ili datumi. Access ih koristi u istom obliku u kom su unešeni, bez izme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onstante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Y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N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Null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rue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False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AC5-7842-40EA-B883-A1C42CFAE67E}" type="slidenum">
              <a:t>127</a:t>
            </a:fld>
          </a:p>
        </p:txBody>
      </p:sp>
    </p:spTree>
  </p:cSld>
  <p:transition>
    <p:fade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79640" y="1267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ad sa obrascima (Form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d sa obrascima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reiranje i korišćenje obrazac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trolnih objekat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njihove osob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reiranje Kontrolne Table (SwitchBoard)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12B-E675-48AF-9C79-3E58B76CD041}" type="slidenum">
              <a:t>129</a:t>
            </a:fld>
          </a:p>
        </p:txBody>
      </p:sp>
    </p:spTree>
  </p:cSld>
  <p:transition>
    <p:fade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r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dno okružen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7424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Access može da radi samo sa jednom bazom podataka u datom trenutk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Unutar jedne baze podataka mogu da postoje stotine tabela, obrazaca, upita, izveštaja, stranica, makroa, i modul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551-8E2D-4C9A-80A9-2F46B2081C8B}" type="slidenum">
              <a:t>13</a:t>
            </a:fld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d sa obrascim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15640" y="1904760"/>
            <a:ext cx="7567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Uloga obraz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je dvojak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rikaz podat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unos isti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Obrasci se koriste za efektno prikazivanje sadržaja tabela i upi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Prilikom unosa obrasci omogu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ju proveru unetih podataka, a i samom oper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u olakšavaju unos jer omogu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j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a se isti obavi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na najprirodniji nač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07F-17BE-4CFC-8DAA-A3812FA50F43}" type="slidenum">
              <a:t>130</a:t>
            </a:fld>
          </a:p>
        </p:txBody>
      </p:sp>
    </p:spTree>
  </p:cSld>
  <p:transition>
    <p:fade/>
  </p:transition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i korišćenje obrazaca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Obrazac omoguć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je</a:t>
            </a: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 prikazivanje sadržaja jednog ili više zapisa, čak i svih njihovih polja istovremeno.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Verdana"/>
              </a:rPr>
              <a:t>Obrasci su korisni za prikaz podataka u formatiranom obliku, kao i za unošenje, ažuriranje i brisanje podatak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Verdana"/>
              </a:rPr>
              <a:t>U </a:t>
            </a: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Access-u postoji šest osnovnih vrsta obrazac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Obrazac sa poljima raspoređenim u kol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Tabelarni 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raz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Tabelarni prik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Glavni/Podob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z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Obrazac za izvedene tabe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Dij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49F-C0C6-4913-B15C-A2A92DBADAB8}" type="slidenum">
              <a:t>131</a:t>
            </a:fld>
          </a:p>
        </p:txBody>
      </p:sp>
    </p:spTree>
  </p:cSld>
  <p:transition>
    <p:fade/>
  </p:transition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obraza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642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rasci se kreiraju koriš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je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For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jalog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jalog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For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 aktivira izborom opcij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 listi objekata, a zatim klikom na ikonicu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olbar-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Najlakši način z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reiranj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jednostavnih obrazaca je da s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 dijalogu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Form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jedne od 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AutoForm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cija; tako se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može za tren oka napraviti obrazac.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9D1-5474-4083-B6CF-8195307B84CA}" type="slidenum">
              <a:t>132</a:t>
            </a:fld>
          </a:p>
        </p:txBody>
      </p:sp>
    </p:spTree>
  </p:cSld>
  <p:transition>
    <p:fad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obraza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Nešto složeniji način za pravljenje obrazaca je korišćenjem čarobnjaka za obrasce (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Form Wizards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m Wizard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postavlja niz pitanja u vezi sa željenim obrascem, a zatim ga sam automatski prav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ko kreirani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obrasci se retko koriste u finalnoj verziji, ali predstavljaju dobru polaznu osnovu za pravljenje složenijih form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Form Wizar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mogu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j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gled (preview) svih unetih izmena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ko bi se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agled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utica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jenog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izbora na konačan rezulta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0C0-C1C1-4FEB-B13E-EDF0A4B1BEDB}" type="slidenum">
              <a:t>133</a:t>
            </a:fld>
          </a:p>
        </p:txBody>
      </p:sp>
    </p:spTree>
  </p:cSld>
  <p:transition>
    <p:fade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404280"/>
            <a:ext cx="7543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Izgled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dijaloga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Form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6048360" cy="46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C7C-0020-411B-A890-C8E2B957F94D}" type="slidenum">
              <a:t>134</a:t>
            </a:fld>
          </a:p>
        </p:txBody>
      </p:sp>
    </p:spTree>
  </p:cSld>
  <p:transition>
    <p:fade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obraza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stale opcije za kreiranje obrazaca koje se nude</a:t>
            </a:r>
            <a:r>
              <a:rPr b="0" lang="sl-SI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 okviru </a:t>
            </a:r>
            <a:r>
              <a:rPr b="1" lang="sl-SI" sz="2300" spc="-1" strike="noStrike">
                <a:solidFill>
                  <a:srgbClr val="000000"/>
                </a:solidFill>
                <a:latin typeface="Verdana"/>
              </a:rPr>
              <a:t>NewForm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ijaloga su:</a:t>
            </a:r>
            <a:r>
              <a:rPr b="0" lang="sl-SI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Verdana"/>
              </a:rPr>
              <a:t>Design View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prikazuje se potpuno prazan obrazac od kojeg se kreće u prozoru za oblikovanje obrazac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Verdana"/>
              </a:rPr>
              <a:t>Chart Wizard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namenjen z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a pravljenje obrasca sa dijagram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Verdana"/>
              </a:rPr>
              <a:t>PivotTable Wizar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namenjen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formiran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Excel-ove izvedene tabe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5DC-BD6B-4F9D-82B0-F4CF5394AF04}" type="slidenum">
              <a:t>135</a:t>
            </a:fld>
          </a:p>
        </p:txBody>
      </p:sp>
    </p:spTree>
  </p:cSld>
  <p:transition>
    <p:fade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obraza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Na obrazac se primenjuju iste tehnike za manipulisanje zapisima koje se koriste u tabelarnom prikazu.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Jedina razlika je š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e kod obrazaca prika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j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jedan po jedan zap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ako su za štampanje prvenstveno namenjeni izveštaji, m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se odštampati i jedan ili više zapisa koje obrazac prikazuje, tačno onako kako oni izgledaju na ekranu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jjednostavniji način za štampanje obrazaca je pomoću opcije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Print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i pritiskom na dugme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Print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 paleti sa alatka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-341280" y="45000"/>
            <a:ext cx="8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341280" y="45000"/>
            <a:ext cx="8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-341280" y="45000"/>
            <a:ext cx="8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253-5E25-4AC1-A0B7-77B29A270230}" type="slidenum">
              <a:t>136</a:t>
            </a:fld>
          </a:p>
        </p:txBody>
      </p:sp>
    </p:spTree>
  </p:cSld>
  <p:transition>
    <p:fade/>
  </p:transition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ontrolni objekti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31640" y="1904760"/>
            <a:ext cx="7351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ntrolni objekti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su svi objekti koji mogu da se postave na obrazac ili izveštaj.</a:t>
            </a: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U kontrolne objekte spadaj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tp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(labele)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ol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z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os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ek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zračunata polja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slik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grafikoni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dugmad za opcij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620-0353-41AA-89FD-2AD8FEA03F07}" type="slidenum">
              <a:t>137</a:t>
            </a:fld>
          </a:p>
        </p:txBody>
      </p:sp>
    </p:spTree>
  </p:cSld>
  <p:transition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ontrolni objek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31640" y="1904760"/>
            <a:ext cx="7351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trolne objekte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 se mogu unositi vrednosti ili se pomoću njih mogu prikazivati određeni poda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 jednom obrascu ili izveštaju može da bude veliki broj raznih vrsta kontrolnih objekat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 od njih mogu da se prave pomoću kutije sa alatkama – Toolbox-a.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FAA-3104-4279-92E7-50587E912AAB}" type="slidenum">
              <a:t>138</a:t>
            </a:fld>
          </a:p>
        </p:txBody>
      </p:sp>
    </p:spTree>
  </p:cSld>
  <p:transition>
    <p:fad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34920" y="533520"/>
            <a:ext cx="6848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gled 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Toolbox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a u Access-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019320" y="2508120"/>
            <a:ext cx="4145040" cy="233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019-7211-4F8C-8E5B-D2D68D4142E0}" type="slidenum">
              <a:t>139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r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dno okružen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novni pojmov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b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za podata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D01-16E4-48ED-A55D-FC3344C601DA}" type="slidenum">
              <a:t>14</a:t>
            </a:fld>
          </a:p>
        </p:txBody>
      </p:sp>
    </p:spTree>
  </p:cSld>
  <p:transition>
    <p:fade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ontrolni objek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Oni mogu biti vezani za konkretan sadr</a:t>
            </a:r>
            <a:r>
              <a:rPr b="0" lang="hr-HR" sz="27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aj u tabeli ili delimi</a:t>
            </a:r>
            <a:r>
              <a:rPr b="0" lang="hr-HR" sz="27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hr-HR" sz="2700" spc="-1" strike="noStrike">
                <a:solidFill>
                  <a:srgbClr val="000000"/>
                </a:solidFill>
                <a:latin typeface="Verdana"/>
              </a:rPr>
              <a:t> ¨</a:t>
            </a: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nezavisni</a:t>
            </a:r>
            <a:r>
              <a:rPr b="0" lang="hr-HR" sz="2700" spc="-1" strike="noStrike">
                <a:solidFill>
                  <a:srgbClr val="000000"/>
                </a:solidFill>
                <a:latin typeface="Verdana"/>
              </a:rPr>
              <a:t>¨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Po tom pitanju razlikuju 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vezani,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nevezani i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izračunati kontrolni objekti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A68-FA7F-4573-9FA3-48E13E55F4F1}" type="slidenum">
              <a:t>140</a:t>
            </a:fld>
          </a:p>
        </p:txBody>
      </p:sp>
    </p:spTree>
  </p:cSld>
  <p:transition>
    <p:fade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zani kontrolni objekti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02920" y="1904760"/>
            <a:ext cx="7280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Vezani su za konkretan sadržaj polja u tabelam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Kada se unese vrednost 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dan vezani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kontrolni objekat Access automatski ažurira sadržaj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govaraju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g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polja tabele u tekućem zapis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BC1-E858-4F88-9627-94A9EB9EE84D}" type="slidenum">
              <a:t>141</a:t>
            </a:fld>
          </a:p>
        </p:txBody>
      </p:sp>
    </p:spTree>
  </p:cSld>
  <p:transition>
    <p:fade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vezani kontrolni objekti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76420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evezani kontrolni objekt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zadržavaju vrednost koja se unosi, ali ne ažuriraju polja tabele.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Koriste se z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rikazivanje teksta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rosleđivanje vrednosti makroima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čuvanje OLE objekata koji nisu smešteni u tabelu nego na sam obrazac ili izveštaj.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Poznati su kao promenljive ili memorijske promenljive.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9C6-9FBB-4C65-8C63-46092BF1DDDF}" type="slidenum">
              <a:t>142</a:t>
            </a:fld>
          </a:p>
        </p:txBody>
      </p:sp>
    </p:spTree>
  </p:cSld>
  <p:transition>
    <p:fade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ra</a:t>
            </a:r>
            <a:r>
              <a:rPr b="0" lang="sl-SI" sz="36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ati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ontrolni objekti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7424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Izračunati kontrolni objekt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e 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snivaju na izrazima kao što su funkcije ili proračuni.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ni su i nevezani jer ne ažuriraju polja tabe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maju veliku primenu u povećanju preglednosti i brzoj obradi podataka.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8AB-E346-4D49-B256-AE0E04989699}" type="slidenum">
              <a:t>143</a:t>
            </a:fld>
          </a:p>
        </p:txBody>
      </p:sp>
    </p:spTree>
  </p:cSld>
  <p:transition>
    <p:fade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Primer kontrolnih objekat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629080" y="2301840"/>
            <a:ext cx="6421320" cy="3969360"/>
            <a:chOff x="2629080" y="2301840"/>
            <a:chExt cx="6421320" cy="3969360"/>
          </a:xfrm>
        </p:grpSpPr>
        <p:pic>
          <p:nvPicPr>
            <p:cNvPr id="461" name="" descr=""/>
            <p:cNvPicPr/>
            <p:nvPr/>
          </p:nvPicPr>
          <p:blipFill>
            <a:blip r:embed="rId2"/>
            <a:stretch/>
          </p:blipFill>
          <p:spPr>
            <a:xfrm>
              <a:off x="3000960" y="2826360"/>
              <a:ext cx="4277880" cy="238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2" name=""/>
            <p:cNvGrpSpPr/>
            <p:nvPr/>
          </p:nvGrpSpPr>
          <p:grpSpPr>
            <a:xfrm>
              <a:off x="2629080" y="2444760"/>
              <a:ext cx="1116000" cy="1285560"/>
              <a:chOff x="2629080" y="2444760"/>
              <a:chExt cx="1116000" cy="1285560"/>
            </a:xfrm>
          </p:grpSpPr>
          <p:sp>
            <p:nvSpPr>
              <p:cNvPr id="463" name=""/>
              <p:cNvSpPr/>
              <p:nvPr/>
            </p:nvSpPr>
            <p:spPr>
              <a:xfrm>
                <a:off x="2629080" y="2444760"/>
                <a:ext cx="111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abe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047040" y="2730240"/>
                <a:ext cx="138960" cy="23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07720" y="2730240"/>
                <a:ext cx="185400" cy="61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768040" y="2730240"/>
                <a:ext cx="324720" cy="10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465160" y="2301840"/>
              <a:ext cx="3585240" cy="1000080"/>
              <a:chOff x="5465160" y="2301840"/>
              <a:chExt cx="3585240" cy="1000080"/>
            </a:xfrm>
          </p:grpSpPr>
          <p:sp>
            <p:nvSpPr>
              <p:cNvPr id="468" name=""/>
              <p:cNvSpPr/>
              <p:nvPr/>
            </p:nvSpPr>
            <p:spPr>
              <a:xfrm>
                <a:off x="5465160" y="2301840"/>
                <a:ext cx="358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olja za unos vrednost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5604480" y="2587680"/>
                <a:ext cx="464400" cy="33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5789520" y="2587680"/>
                <a:ext cx="558360" cy="71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511240" y="4636800"/>
              <a:ext cx="2185560" cy="1634400"/>
              <a:chOff x="5511240" y="4636800"/>
              <a:chExt cx="2185560" cy="1634400"/>
            </a:xfrm>
          </p:grpSpPr>
          <p:sp>
            <p:nvSpPr>
              <p:cNvPr id="472" name=""/>
              <p:cNvSpPr/>
              <p:nvPr/>
            </p:nvSpPr>
            <p:spPr>
              <a:xfrm>
                <a:off x="5790240" y="5445720"/>
                <a:ext cx="1906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ugmad za opcij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5511240" y="4636800"/>
                <a:ext cx="696600" cy="85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>
                <a:off x="6348240" y="4684320"/>
                <a:ext cx="23148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C22-32FC-4A36-864F-D59C750C325A}" type="slidenum">
              <a:t>144</a:t>
            </a:fld>
          </a:p>
        </p:txBody>
      </p:sp>
    </p:spTree>
  </p:cSld>
  <p:transition>
    <p:fade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ontrolni objekti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snovne kontrolne objekte predstavljaju dva najčešće korišćen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ntrolna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bjekta i u obrascima i u izveštaji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ilikom dizajniranja putem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AutoForm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ili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AutoReport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Access skoro uvek kreira samo objekte ova dva tip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 ovu grupu spadaju objekti tip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Verdana"/>
              </a:rPr>
              <a:t>Label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 (Natpis) - prikazuje zadati tekst u obliku natpi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Verdana"/>
              </a:rPr>
              <a:t>Text Box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 (polje za tekst) - podaci se upisuju, menjaju ili brišu u poljima za tek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D6F-BFEE-4CAE-A043-494DF2BD5ABE}" type="slidenum">
              <a:t>145</a:t>
            </a:fld>
          </a:p>
        </p:txBody>
      </p:sp>
    </p:spTree>
  </p:cSld>
  <p:transition>
    <p:fade/>
  </p:transition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ontrolni objekti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Kada s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kti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ab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extBo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koriste u kombinaciji sa drugim kontrolnim objektima treba se pridržavati sledećih pravil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460600" y="3265560"/>
          <a:ext cx="6215040" cy="202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0600" y="3265560"/>
                    <a:ext cx="621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ADE-B8C9-4E60-BC0E-DED675D0146D}" type="slidenum">
              <a:t>146</a:t>
            </a:fld>
          </a:p>
        </p:txBody>
      </p:sp>
    </p:spTree>
  </p:cSld>
  <p:transition>
    <p:fade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lo</a:t>
            </a:r>
            <a:r>
              <a:rPr b="0" lang="pt-PT" sz="3300" spc="-1" strike="noStrike">
                <a:solidFill>
                  <a:srgbClr val="000000"/>
                </a:solidFill>
                <a:latin typeface="Verdana"/>
              </a:rPr>
              <a:t>ženi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ontrolni objekti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loženiji kontrolni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objekti služe za unošenje podataka i obezbeđivanje ispravnosti i nalaze se u opcijama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More Controls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oolbox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-u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Neki od njih su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heck bo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mbo bo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Option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ggle but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mmand butt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List box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D90-C3BE-4490-8F57-BD34A58E6A7E}" type="slidenum">
              <a:t>147</a:t>
            </a:fld>
          </a:p>
        </p:txBody>
      </p:sp>
    </p:spTree>
  </p:cSld>
  <p:transition>
    <p:fade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Primer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lo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ženih</a:t>
            </a: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kontrol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2293920" y="2157480"/>
            <a:ext cx="6380280" cy="37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261-985D-449A-B9C5-C4A6DC1D76DF}" type="slidenum">
              <a:t>148</a:t>
            </a:fld>
          </a:p>
        </p:txBody>
      </p:sp>
    </p:spTree>
  </p:cSld>
  <p:transition>
    <p:fade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lo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ženi kontrolni objek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31640" y="1904760"/>
            <a:ext cx="7351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ggle Butt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prekidač, preklopni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ključivo se koristi uz polja koja sadrže logički tip podataka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es/N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o je dugme sa dva stanja, izbočeno ili pritisnuto na kome se umesto teksta obično nalaze slike ili ikone koje označavaju pojedina stanja dugme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A1E-A02E-4972-ADDA-8D4A5F4B9AC5}" type="slidenum">
              <a:t>149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abele u Access-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abela je skladište za sirove podatk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abelarni prikaz je podeljen 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edove, zvane zapisi ili slogovi (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record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) 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ol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zvane polja (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field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).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Na preseku zapisa (u redovima) i polja (u kolonama) nalazi se vrednost (</a:t>
            </a: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stvarni podatak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16A-9F3F-45DA-9F6D-144981AF233F}" type="slidenum">
              <a:t>15</a:t>
            </a:fld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lo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ženi kontrolni objek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91992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tion Butt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dugme opcij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znato i kao radio dug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a oblik kružića unutar kojeg se mo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ž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laziti tačk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koliko se unutar kružića nalazi tačka to znači da je opcija uključena ili da važ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CF3-9EE7-4800-AA39-E45A10094288}" type="slidenum">
              <a:t>150</a:t>
            </a:fld>
          </a:p>
        </p:txBody>
      </p:sp>
    </p:spTree>
  </p:cSld>
  <p:transition>
    <p:fade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lo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ženi kontrolni objek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ck bo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lje za potvrđivanj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a dva stanja: uključeno i isključen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da se unutar kvadrat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nalazi znak potvrde, to znači da je opcija uključena, a ako je kvadrat  prazan opcija je isključen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Combo box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(padajuća list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omogućuje izbor jedne od ponuđenih vrednosti, ali dozvoljavaju i unos novi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os je moguće izvršiti na dva načina: procesom selektovanja ili direktnim unošenjem podatak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ove liste zauzimaju manje prostora na obrascu, a otvaraju se samo u toku procesa unošenja podatak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01A-03B4-44B1-8940-0F53869154E2}" type="slidenum">
              <a:t>151</a:t>
            </a:fld>
          </a:p>
        </p:txBody>
      </p:sp>
    </p:spTree>
  </p:cSld>
  <p:transition>
    <p:fade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lo</a:t>
            </a:r>
            <a:r>
              <a:rPr b="0" lang="pt-PT" sz="3300" spc="-1" strike="noStrike">
                <a:solidFill>
                  <a:srgbClr val="000000"/>
                </a:solidFill>
                <a:latin typeface="Verdana"/>
              </a:rPr>
              <a:t>ženi kontrolni objekti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Option grou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Koriste se za biranje samo jedne od mogućnos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adrže nekoliko preklopnika, dugmadi opcija ili polja za potvrđivanje koja deluju u sprez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 svakom trenutku samo jedno od dugmadi može da bude pritisnuto, osim kada grupu čine polja za potvrđivanj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eporučljivo je da grupa sadrži najviše četiri do pet članova, a za veći broj koriste se padajuće lis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AA5-E145-448E-B1CD-912D08A79A86}" type="slidenum">
              <a:t>152</a:t>
            </a:fld>
          </a:p>
        </p:txBody>
      </p:sp>
    </p:spTree>
  </p:cSld>
  <p:transition>
    <p:fade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lo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ženi kontrolni objek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List box 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(lista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ikazuje listu unapred zadatih vrednosti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je moguće unošenje novih vrednosti.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ikazuje podatke na ekranu na sličan načina kao padajući meni (combo box), s tom razlikom što je lista uvek otvoren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Određena stavka liste može da se selektuje kada se na nju postavi pokazivač miša i pritisne En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Kada se izabere jedna od stavki njena vrednost se prosleđuje polju za koje je lista vezan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0A2-B18B-4E5D-BFCF-D5EB758EC589}" type="slidenum">
              <a:t>153</a:t>
            </a:fld>
          </a:p>
        </p:txBody>
      </p:sp>
    </p:spTree>
  </p:cSld>
  <p:transition>
    <p:fade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lo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ženi kontrolni objek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Command Butto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komandno dug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Pritiskom na ovo dugme poziva se makro ili pokreće izvršavanj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kog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programa radi p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zimanja određene akcij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Subform/Subreport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podobrazac/podizveštaj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Prikazuje drugi obrazac ili izveštaj unutar glavnog obrasca ili izveštaj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Tab Contro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grupa kartica)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ože da prikaže više kartica okvira za dijalog čime se omogu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je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povećanje preglednosti i uš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prostora na ekranu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7A4-1362-414F-8783-7D275D22C178}" type="slidenum">
              <a:t>154</a:t>
            </a:fld>
          </a:p>
        </p:txBody>
      </p:sp>
    </p:spTree>
  </p:cSld>
  <p:transition>
    <p:fade/>
  </p:transition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99840" y="40464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meri slo</a:t>
            </a:r>
            <a:r>
              <a:rPr b="0" lang="pt-PT" sz="3000" spc="-1" strike="noStrike">
                <a:solidFill>
                  <a:srgbClr val="000000"/>
                </a:solidFill>
                <a:latin typeface="Verdana"/>
              </a:rPr>
              <a:t>ženih kontrolnih objek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68360" y="1628640"/>
            <a:ext cx="8209080" cy="1373400"/>
            <a:chOff x="468360" y="1628640"/>
            <a:chExt cx="8209080" cy="137340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468360" y="1628640"/>
              <a:ext cx="5905440" cy="13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093080" y="213372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st Bo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443640" y="234936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68360" y="3141720"/>
            <a:ext cx="8531280" cy="3208320"/>
            <a:chOff x="468360" y="3141720"/>
            <a:chExt cx="8531280" cy="3208320"/>
          </a:xfrm>
        </p:grpSpPr>
        <p:pic>
          <p:nvPicPr>
            <p:cNvPr id="503" name="" descr=""/>
            <p:cNvPicPr/>
            <p:nvPr/>
          </p:nvPicPr>
          <p:blipFill>
            <a:blip r:embed="rId3"/>
            <a:stretch/>
          </p:blipFill>
          <p:spPr>
            <a:xfrm>
              <a:off x="468360" y="3789360"/>
              <a:ext cx="5904000" cy="256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4" name=""/>
            <p:cNvGrpSpPr/>
            <p:nvPr/>
          </p:nvGrpSpPr>
          <p:grpSpPr>
            <a:xfrm>
              <a:off x="4642920" y="3284640"/>
              <a:ext cx="4356720" cy="865080"/>
              <a:chOff x="4642920" y="3284640"/>
              <a:chExt cx="4356720" cy="865080"/>
            </a:xfrm>
          </p:grpSpPr>
          <p:sp>
            <p:nvSpPr>
              <p:cNvPr id="505" name=""/>
              <p:cNvSpPr/>
              <p:nvPr/>
            </p:nvSpPr>
            <p:spPr>
              <a:xfrm>
                <a:off x="6372360" y="3284640"/>
                <a:ext cx="262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Command Butt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5796000" y="3645000"/>
                <a:ext cx="100800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4642920" y="3573360"/>
                <a:ext cx="172908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468360" y="3141720"/>
              <a:ext cx="1942920" cy="647640"/>
              <a:chOff x="468360" y="3141720"/>
              <a:chExt cx="1942920" cy="647640"/>
            </a:xfrm>
          </p:grpSpPr>
          <p:sp>
            <p:nvSpPr>
              <p:cNvPr id="509" name=""/>
              <p:cNvSpPr/>
              <p:nvPr/>
            </p:nvSpPr>
            <p:spPr>
              <a:xfrm>
                <a:off x="468360" y="3141720"/>
                <a:ext cx="194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ombo Bo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03280" y="3500280"/>
                <a:ext cx="36036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415-5C9A-4668-BED1-17702AF78CE5}" type="slidenum">
              <a:t>155</a:t>
            </a:fld>
          </a:p>
        </p:txBody>
      </p:sp>
    </p:spTree>
  </p:cSld>
  <p:transition>
    <p:fade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datni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kontrolni objek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sebnu grupu kontrolnih obekata čin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grafički kontrolni objekti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objekti za rad sa slikama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kti za rad sa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zvučnim zapisima 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kti za rad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OLE objektima.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8E3-3F7D-4B24-B908-035975E77056}" type="slidenum">
              <a:t>156</a:t>
            </a:fld>
          </a:p>
        </p:txBody>
      </p:sp>
    </p:spTree>
  </p:cSld>
  <p:transition>
    <p:fade/>
  </p:transition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24000" y="333360"/>
            <a:ext cx="63532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Dodatni</a:t>
            </a:r>
            <a:r>
              <a:rPr b="0" lang="pt-PT" sz="3300" spc="-1" strike="noStrike">
                <a:solidFill>
                  <a:srgbClr val="000000"/>
                </a:solidFill>
                <a:latin typeface="Verdana"/>
              </a:rPr>
              <a:t> kontrolni objekti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 ovu grupu kontrolnih objekata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spadaju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Image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(slik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ikazuje bit mapiranu sliku pri čemu troši veoma malo resursa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nbound object frame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(okvir za nevezani objek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sadrži OLE objekat ili ugrađenu sliku koja nije vezana za polje tabe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že da sadrži dijagram, sliku, zvučni ili video zapis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Bound object frame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(okvir za vezani objek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sadrži OLE objekat ili ugrađenu sliku koja je vezana za polje tabele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Line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(linija zadate debljine i boj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ajčešć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koristi za razdvajanje grupe objekata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Rectangle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(pravougaoni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jegova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oja i veličina može da se zada, može da bude popunjen ili praza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risti se za isticanje pojedinih delova obrazaca ili izveštaja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ge break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(prelom stran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bično se koristi u izveštajima za bezuslovan prelazak n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ednu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stranu.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503-099C-49C9-9177-3BB9FA35DA43}" type="slidenum">
              <a:t>157</a:t>
            </a:fld>
          </a:p>
        </p:txBody>
      </p:sp>
    </p:spTree>
  </p:cSld>
  <p:transition>
    <p:fade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727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Kreiranje kontrolnih objekata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560" y="171936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stoje dva način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 kreiranje kontrolnih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 obj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ritiskom na dugme u kutiji sa alatkam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toolbox)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i dodavanjem novog nevezanog kontrolnog objekta na ekr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revlačenjem polja iz prozora sa listom polja da bi se dodao vezani kontrolni objekat.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ozor sa listom polja prikazuje polja tabele ili upita na osnovu ko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a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obrazac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Lista polja se prikazuj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ko nije automatski uklju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čen) iz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om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opcije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Field List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 okviru glavnog menija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Vie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124-2898-4684-B8BC-A9632D055EC1}" type="slidenum">
              <a:t>158</a:t>
            </a:fld>
          </a:p>
        </p:txBody>
      </p:sp>
    </p:spTree>
  </p:cSld>
  <p:transition>
    <p:fade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18920" y="533520"/>
            <a:ext cx="706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kontrolnih objek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15640" y="1904760"/>
            <a:ext cx="7567560" cy="18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ostavljanjem kontrolnog objekta u prozor za oblikovanje obrasca mo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e da se radi sa njim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Kada se izabere kontrolni objekat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na njegovim uglovima i u sredini stranica pojavlju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se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etiri ili osam ru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ca za pomeranj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slika)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860640" y="4024440"/>
            <a:ext cx="296712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638-2642-4AF7-9E52-1B8E26D9AAEC}" type="slidenum">
              <a:t>159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za podataka u Access-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Baza podataka (</a:t>
            </a: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database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) je računarski izraz z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lekciju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podataka koji se odnose na određen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men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/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ili pripadaju određenoj aplikacij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Baze podataka pomažu da se podaci organizuju u logičke celine radi jednostav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jeg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pristupa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osa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e celine su tabe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AC0-1292-46C2-B765-995171482672}" type="slidenum">
              <a:t>16</a:t>
            </a:fld>
          </a:p>
        </p:txBody>
      </p:sp>
    </p:spTree>
  </p:cSld>
  <p:transition>
    <p:fade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63640" y="533520"/>
            <a:ext cx="6919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kontrolnih objek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288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ca u gornjem levom uglu koja je oblika kvadrati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i ne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je ve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od ostalh, slu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za pomeranje objekt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k ostale slu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 za pode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vanje veli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e objekt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li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a kontrolnih objekata mo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 da se menja povl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jem jedne od manjih ru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c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 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omogu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va pove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je ili smanjenjenje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 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rine i visine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likom modelovanja obrasca ili izve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ja aktivirana je alatk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lect Object 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lica ili pokaziv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č)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ja se koristi za biranje kontrolnog objekt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tovremeni izbor vi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 kontrolnih objekata vr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se kori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š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jem tastera Shift prilikom njihovog selektovanj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2A5-A00E-41C3-BA51-43B0D94AE4C0}" type="slidenum">
              <a:t>160</a:t>
            </a:fld>
          </a:p>
        </p:txBody>
      </p:sp>
    </p:spTree>
  </p:cSld>
  <p:transition>
    <p:fade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6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ravnavanje grupe objek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pcija meni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Alig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služi za poravnjavan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nekoliko kontrolnih objekat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ravnava leve ivice grupe izabranih objekata sa levom ivico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jv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u levo pozicioniranog objekta iz grupe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ogno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opci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vr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se poravnjavan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pomoću opcija 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Top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Bottom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i to sa desnom, gornjom i donjom ivicom objekata, respektivn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Grid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poravnava gornje leve uglove grupe izabranih objekata sa najbližom tačkom mrež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4419720" y="5124600"/>
            <a:ext cx="1844640" cy="91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438-F73C-449B-877E-D37392ED7E20}" type="slidenum">
              <a:t>161</a:t>
            </a:fld>
          </a:p>
        </p:txBody>
      </p:sp>
    </p:spTree>
  </p:cSld>
  <p:transition>
    <p:fade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ravnavanje grupe objek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 bi se izvr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o poravanavanje grupe objekata potrebno je prvo selektovati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jenu grup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ktovanje se vr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tako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se sve vreme dok se biraju objekti (klikom na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jeni objekat) dr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pritisnut taste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281-9B2C-4FB1-854C-D9D0E65C3466}" type="slidenum">
              <a:t>162</a:t>
            </a:fld>
          </a:p>
        </p:txBody>
      </p:sp>
    </p:spTree>
  </p:cSld>
  <p:transition>
    <p:fade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8920" y="533520"/>
            <a:ext cx="7424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Pode</a:t>
            </a: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šavanje veličine objek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zbor opcije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Format-Siz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nudi nekoliko mogućnosti za podešavanje veličine objekt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to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a osnov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vrednosti podatak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mreže (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grid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 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l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e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drugih objekat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Grupisanjem kontrolnih objekata može da se bira i formatira više njih istovremen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Za formiranje grupe bira se jedan po jedan pritiskom miša i držanjem pri tom tastera Shif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ošto se izaberu željeni objekti u meniju se bira opcija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Format-Group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8EE-61DA-4C06-B799-396EA227533E}" type="slidenum">
              <a:t>163</a:t>
            </a:fld>
          </a:p>
        </p:txBody>
      </p:sp>
    </p:spTree>
  </p:cSld>
  <p:transition>
    <p:fade/>
  </p:transition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92360" y="533520"/>
            <a:ext cx="6991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Pode</a:t>
            </a: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šavanje veličine objek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3187800" y="2335320"/>
            <a:ext cx="4479840" cy="224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2BB-3E58-47F4-9313-BDA439823788}" type="slidenum">
              <a:t>164</a:t>
            </a:fld>
          </a:p>
        </p:txBody>
      </p:sp>
    </p:spTree>
  </p:cSld>
  <p:transition>
    <p:fade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18920" y="533520"/>
            <a:ext cx="706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Pode</a:t>
            </a: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šavanje veličine objek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cije za pode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anje veli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e objeka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 Fit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- podešava visinu i širinu objekta prema njihovom sadr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ju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 tako da se vidi ceo sadr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j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 Grid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- menja dimenzije izabranih objekata tako da se njihovi uglovi poklope sa najbližim tačkama mrež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 Tallest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- podešava visinu izabranih objekata tako da svi imaju istu visinu  i to jednaku visini najvišeg među nji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hortest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- podešava visinu izabranih objekata tako da svi imaju istu visinu jednaku visini najnižeg među nji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Widest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- podešava širinu izabranih objekata tako da svi imaju istu širinu kao i najširi među nji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Narrowest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- podešava širinu izabranih objekata tako da svi imaju istu širinu kao i najuži među nji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65E-F8FC-4A5D-997B-8FBD7F126E00}" type="slidenum">
              <a:t>165</a:t>
            </a:fld>
          </a:p>
        </p:txBody>
      </p:sp>
    </p:spTree>
  </p:cSld>
  <p:transition>
    <p:fade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Svojstv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6920" y="1932120"/>
            <a:ext cx="7856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Svojstva (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 su obeležja kontrolnih objekata, polja ili baze podataka koja imaju imena i čije vrednosti određuju karakteristike i ponašanje kontrolnog objekta, polja ili objekta baze podatak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vojstvo može da odredi vizuelne karakteristike objekta, njegovo funkcionalno ponašanje kao i informacije vezane za sadržaj koji će se u njemu nalazit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ena i vrednosti svojstava se prikazuju na listu koji se zove i prozor svojstav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gu se sagledavati sve osobine istovremeno (kartica All), ili određena grupa što je praktičnij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Leva kolona sadrži imena svojstava, a u desnu se upisuju vrednosti svojstav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F7E-4270-4EA8-BF5B-A56A3FC3ED83}" type="slidenum">
              <a:t>166</a:t>
            </a:fld>
          </a:p>
        </p:txBody>
      </p:sp>
    </p:spTree>
  </p:cSld>
  <p:transition>
    <p:fade/>
  </p:transition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84000" y="475920"/>
            <a:ext cx="4824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vojstva</a:t>
            </a:r>
            <a:r>
              <a:rPr b="0" lang="sr-Latn-C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ktiviranje prozora sa svojstvima izvršava se klikom na desni taster miša nad kontrolnim objektom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ja se svojstva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 definisati i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izborom opcije </a:t>
            </a:r>
            <a:r>
              <a:rPr b="1" lang="sv-SE" sz="18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4537080" cy="400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859-1C8E-4A4A-82B0-22108A9EF67B}" type="slidenum">
              <a:t>167</a:t>
            </a:fld>
          </a:p>
        </p:txBody>
      </p:sp>
    </p:spTree>
  </p:cSld>
  <p:transition>
    <p:fade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vojstv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Svojstva iz grupe </a:t>
            </a: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Format 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utiču na izgled objek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u spadaju: font, veličina, boja, specijalni efekti, ivice ..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va stvojstva određuju način na koji će biti prikazan sadržaj objekta kao i za koje će polje tabele/upita objekat biti veza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U grupi </a:t>
            </a: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Event  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su svojstva koja su u vezi sa određenim događajima, kao što s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ritisak na taster miš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dodavanje novog zapis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ritisak na taster na koji bi trebalo definisati odziv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Other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 svojstva utiču na ostale karakteristike objekta (ime ili tekst opisa.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40F-F441-4E48-8D34-5E20DE704353}" type="slidenum">
              <a:t>168</a:t>
            </a:fld>
          </a:p>
        </p:txBody>
      </p:sp>
    </p:spTree>
  </p:cSld>
  <p:transition>
    <p:fade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24160" y="757080"/>
            <a:ext cx="63532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vojstv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Spisak svojstava za obrasce je dug ali su najčešće korišćene opcij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Verdana"/>
              </a:rPr>
              <a:t>Caption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za izmenu teksta u naslovnoj liniji pri radu sa obrascem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Verdana"/>
              </a:rPr>
              <a:t>Default View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za određivanje načina prikaza kada se aktivira obrazac; ova opcija obuhvata dve podopcij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900" spc="-1" strike="noStrike">
                <a:solidFill>
                  <a:srgbClr val="000000"/>
                </a:solidFill>
                <a:latin typeface="Verdana"/>
              </a:rPr>
              <a:t>Single Form </a:t>
            </a:r>
            <a:r>
              <a:rPr b="0" lang="sv-SE" sz="1900" spc="-1" strike="noStrike">
                <a:solidFill>
                  <a:srgbClr val="000000"/>
                </a:solidFill>
                <a:latin typeface="Verdana"/>
              </a:rPr>
              <a:t>(jedan zapis po stran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900" spc="-1" strike="noStrike">
                <a:solidFill>
                  <a:srgbClr val="000000"/>
                </a:solidFill>
                <a:latin typeface="Verdana"/>
              </a:rPr>
              <a:t>Continuous Form </a:t>
            </a:r>
            <a:r>
              <a:rPr b="0" lang="sv-SE" sz="1900" spc="-1" strike="noStrike">
                <a:solidFill>
                  <a:srgbClr val="000000"/>
                </a:solidFill>
                <a:latin typeface="Verdana"/>
              </a:rPr>
              <a:t>(onoliko zapisa po strani koliko može da stane)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Verdana"/>
              </a:rPr>
              <a:t>Allow Edits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dozvoljava ili sprečava izmenu podataka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Verdana"/>
              </a:rPr>
              <a:t>Allow Delitions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sv-SE" sz="2000" spc="-1" strike="noStrike">
                <a:solidFill>
                  <a:srgbClr val="000000"/>
                </a:solidFill>
                <a:latin typeface="Verdana"/>
              </a:rPr>
              <a:t>Allow Additions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dozvoljava ili sprečava brisanje postojećih i dodavanje novih slogova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Verdana"/>
              </a:rPr>
              <a:t>Record Selectors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definiše prikazivanja vertikalne palete birača zapisa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17B-CB1F-455A-AD01-0A2C889AEA92}" type="slidenum">
              <a:t>169</a:t>
            </a:fld>
          </a:p>
        </p:txBody>
      </p:sp>
    </p:spTree>
  </p:cSld>
  <p:transition>
    <p:fade/>
  </p:transition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za podataka u Access-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7927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Baza podataka sadrži jednu ili više tabel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Većin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za podataka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u Access-u s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više međusobno povezanih tabel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efikas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vanja i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prikaza poda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ad sa više tabela pojednostavljuje unošenje podataka i pravljenje izveštaja tako što umanjuje broj suvišnih podatak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269-A279-4DBF-8C88-2C23932416E0}" type="slidenum">
              <a:t>17</a:t>
            </a:fld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vojstv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Verdana"/>
              </a:rPr>
              <a:t>Najčešće korišćena svojstava za obrasce (nastavak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Verdana"/>
              </a:rPr>
              <a:t>Border Style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definiše stil okvira obrasca i nudi opcije da obrazac b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None 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(bez okvira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Thin 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(tanak okvir koji ne omogućuje menjanje veličine prozora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Sizable 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(standardna vrednost) il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Dijalog tipa (debeo okvir za dijalog sa naslovnom linijom koja se ne menja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Verdana"/>
              </a:rPr>
              <a:t>Picture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opcija sadrži ime datoteke sa rasterskom slikom koja služi kao pozadina obrasc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Verdana"/>
              </a:rPr>
              <a:t>Picture Type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sadrži dve podopci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Embeded 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(slika se ugrađuje u obrazac kao deo baze podataka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Verdana"/>
              </a:rPr>
              <a:t>Linked </a:t>
            </a:r>
            <a:r>
              <a:rPr b="0" lang="sv-SE" sz="1600" spc="-1" strike="noStrike">
                <a:solidFill>
                  <a:srgbClr val="000000"/>
                </a:solidFill>
                <a:latin typeface="Verdana"/>
              </a:rPr>
              <a:t>(slika se povezuje sa obrascem i pamti se lokacija gde se nalazi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Verdana"/>
              </a:rPr>
              <a:t>Record Sourse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koja definiše izbor podataka koji se prikazuje u obrascu (tabela ili upit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D95-C721-4B81-BF8B-BE6098539529}" type="slidenum">
              <a:t>170</a:t>
            </a:fld>
          </a:p>
        </p:txBody>
      </p:sp>
    </p:spTree>
  </p:cSld>
  <p:transition>
    <p:fade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Zaglavlje obras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711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 obrazac se može ugraditi više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vrsta zaglavlj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Header)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 podnožj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Footer):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orm Head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glavlj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rasca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 pojavljuje na vrhu svake strane prikaza i štampanog obrasc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Page Header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(zaglavlje strane) se javlja samo na štampanom obrascu-posle zaglavlj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Page Footer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(podnožje strane) se javlja samo na štampanom obrascu-ispred podnožj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orm Footer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(podnožje obrasca) se pojavljuje u dnu svake strane prikaza i štampanog obras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117-D2C7-444C-B878-3DAC5858445B}" type="slidenum">
              <a:t>171</a:t>
            </a:fld>
          </a:p>
        </p:txBody>
      </p:sp>
    </p:spTree>
  </p:cSld>
  <p:transition>
    <p:fade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Zaglavlje obras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 bi se napravilo zaglavlje i u njega uneo odgovarajući tekst potrebno 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voriti odgovarajući obrazac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zabrati opciju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ew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Form Header/Foot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a prikaz zaglavlja i podnožja obrasc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izabrati natpis koji se prebacuje u </a:t>
            </a: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Form Header </a:t>
            </a: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ili u njega uneti novi teks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podesiti veličinu zaglavlja i podnož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1C3-B1E9-4099-A41D-8AFA9A177365}" type="slidenum">
              <a:t>172</a:t>
            </a:fld>
          </a:p>
        </p:txBody>
      </p:sp>
    </p:spTree>
  </p:cSld>
  <p:transition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Kontrolna Tabla (Switchboard)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23640" y="171936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Kada pravite aplikaciju u Access-u koju će koristiti neki drugi korisnik, potrebno je napraviti forme, ali i obezbediti mehanizam za jednostavno kretanje kroz for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Access obezbedjuje jedan takav mehanizam u formi Kontrolne table (</a:t>
            </a:r>
            <a:r>
              <a:rPr b="1" lang="sv-SE" sz="28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plikacija se pokreće prikazivanje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witchboard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-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može da se kreće kroz ostale forme, 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o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omogući korisniku lakši rad sa aplikacijo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D0E-52C5-4CDB-BF71-2157293694B9}" type="slidenum">
              <a:t>173</a:t>
            </a:fld>
          </a:p>
        </p:txBody>
      </p:sp>
    </p:spTree>
  </p:cSld>
  <p:transition>
    <p:fade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Kreiranje Kontrolne table (Switchboar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jlakši način da se kreir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witchboard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je korišćenjem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Switchboard Wizard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-a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možete uraditi na sledeći nač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zaberit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ools | Database Utilities | Switchboard Mana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koliko niste kreirali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a aplikaciju, pojaviće se poruk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itchboard Mana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, koji traži da ga kreirate.Izaberit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kazaće vam s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itchboard Mana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jalog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imetićete da je Access automatski kreira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in Switchbo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679-AE76-4CD1-956B-27163008BA17}" type="slidenum">
              <a:t>174</a:t>
            </a:fld>
          </a:p>
        </p:txBody>
      </p:sp>
    </p:spTree>
  </p:cSld>
  <p:transition>
    <p:fade/>
  </p:transition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witchboard Manager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6040" y="2025720"/>
            <a:ext cx="5264280" cy="38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1C8-FC79-4C16-9F32-9A2AAE1ECF3B}" type="slidenum">
              <a:t>175</a:t>
            </a:fld>
          </a:p>
        </p:txBody>
      </p:sp>
    </p:spTree>
  </p:cSld>
  <p:transition>
    <p:fade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300" spc="-1" strike="noStrike">
                <a:solidFill>
                  <a:srgbClr val="000000"/>
                </a:solidFill>
                <a:latin typeface="Verdana"/>
              </a:rPr>
              <a:t>Kreiranje Kontrolne Table (Switchboard)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dajte dodat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e, tako što će te pritisnuti n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ojaviće 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ate Ne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jal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2684520" y="3611520"/>
            <a:ext cx="5375160" cy="19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BF1-88AA-47D9-B22E-BE448263E112}" type="slidenum">
              <a:t>176</a:t>
            </a:fld>
          </a:p>
        </p:txBody>
      </p:sp>
    </p:spTree>
  </p:cSld>
  <p:transition>
    <p:fade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Kreiranje Kontrolne Table (Switchboard)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 bi ste dodali forme koje ste kreirali, izaberit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witchboa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ome pripada data forma i pritisnit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832360" cy="35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DCB-0AD1-46E2-8663-B0EA4101612D}" type="slidenum">
              <a:t>177</a:t>
            </a:fld>
          </a:p>
        </p:txBody>
      </p:sp>
    </p:spTree>
  </p:cSld>
  <p:transition>
    <p:fade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Verdana"/>
              </a:rPr>
              <a:t>Kreiranje Kontrolne Table (Switchboard)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ešavanje autostarta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Switchbo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dite na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Tools | Start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esite naziv aplikacije u polj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plication Ti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Izaberite formu koju želite da prikaž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Verdana"/>
              </a:rPr>
              <a:t>Potvrdite sa O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6E5-5407-4ADF-8AB3-BEEE754FE9CE}" type="slidenum">
              <a:t>178</a:t>
            </a:fld>
          </a:p>
        </p:txBody>
      </p:sp>
    </p:spTree>
  </p:cSld>
  <p:transition>
    <p:fade/>
  </p:transition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alog Startu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395280" y="1596960"/>
            <a:ext cx="8353440" cy="453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9C7-2178-497C-906E-0F936BC8A08A}" type="slidenum">
              <a:t>179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Prozor baze podatak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 Access-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272360" cy="521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AB7-B0D2-4C84-9340-4B60035C3237}" type="slidenum">
              <a:t>18</a:t>
            </a:fld>
          </a:p>
        </p:txBody>
      </p:sp>
    </p:spTree>
  </p:cSld>
  <p:transition>
    <p:fade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avljenje izveštaj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692360" y="3212640"/>
            <a:ext cx="66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zveštaji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vljenje izveštaja pomoću čarobnja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veštaj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Poslednji korak u projektovanju ba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podata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, uz pomoć Access-a, je pravljenje izveštaj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lič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obrasima, koriste se za prikaz podata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li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 za razliku od obrazac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izveštaji se n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kazuju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na monitoru već na papiru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Dakle izveštaji su specijalizovani oblik prikazivan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podata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iz upita i tabela prilagođen štamp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jima se mogu prikazati sumarni podaci</a:t>
            </a: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zultati statisti</a:t>
            </a: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e obrade podataka ili predstaviti podaci u grafi</a:t>
            </a: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om obliku</a:t>
            </a: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53F-41A3-425B-95FF-F6302535C561}" type="slidenum">
              <a:t>181</a:t>
            </a:fld>
          </a:p>
        </p:txBody>
      </p:sp>
    </p:spTree>
  </p:cSld>
  <p:transition>
    <p:fade/>
  </p:transition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veštaj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 savremenom poslovnom svetu koriste se slede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 vrste izve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ja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belarni izveštaj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podaci se štampaju u redovima i kolonama, grupisani su i izračunavaju se ukupni zbirovi, kao varijante mogu se dobiti među zbirovi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tubični izveštaji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- liče na obrasce i mogu da izračunavaju ukupne zbirove, sadrže dijagr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Izveštaji za štampanje cirkularnih pisama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zveštaji za štampanje nalepnica sa adresama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- ova vrsta izveštaja omogućuje štampanje poštanskih adresa u više stupaca ili izveštaja sa hijerarhijskim prikazom podata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2E3-7790-4ADF-B457-157AA1603EAB}" type="slidenum">
              <a:t>182</a:t>
            </a:fld>
          </a:p>
        </p:txBody>
      </p:sp>
    </p:spTree>
  </p:cSld>
  <p:transition>
    <p:fade/>
  </p:transition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99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Izgled izveštaj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632720" cy="49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C25-C800-411E-BEDF-A14EBE66EEBE}" type="slidenum">
              <a:t>183</a:t>
            </a:fld>
          </a:p>
        </p:txBody>
      </p:sp>
    </p:spTree>
  </p:cSld>
  <p:transition>
    <p:fade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veštaj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ajčešće u izveštajima nisu dovoljni samo jednostavni tabelarni prikazi, već i grupisanja, sortiranja, izdvajan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laniranje izveštaja počine mnogo pre nego što se napravi izveštaj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850-4936-4FFB-834D-63678839DBA4}" type="slidenum">
              <a:t>184</a:t>
            </a:fld>
          </a:p>
        </p:txBody>
      </p:sp>
    </p:spTree>
  </p:cSld>
  <p:transition>
    <p:fade/>
  </p:transition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veštaj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86920" y="1904760"/>
            <a:ext cx="7496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Za dobro dizajnirane i osmišljene izveštaje potrebno je pratiti sledeća pravil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Definisanje izgleda izveštaja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pravi se skica izveštaja na papiru na koji se okvirno raspoređuje prostor gde će biti smešteni podaci, zaglavlja i totali. Već u ovom koraku je neophodno odrediti načine na koje će se vršiti eventualna grupisanja i sortiran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Pridruživanje podataka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– raspoređivanje konkretnih podataka (polja iz tabele ili upita) koji će se nalaziti u izveštaju. Kao izvor podataka obično se koriste sadržaji tabela ili specijalno napravljeni upi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E0A-89F2-43F5-A09E-76923A8BA2C5}" type="slidenum">
              <a:t>185</a:t>
            </a:fld>
          </a:p>
        </p:txBody>
      </p:sp>
    </p:spTree>
  </p:cSld>
  <p:transition>
    <p:fade/>
  </p:transition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veštaj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vila z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 dobro dizajnirane i osmišljene izveštaj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astavak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Sastavljanje izveštaja u Access prozoru za oblikovanje izveštaja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nakon sastavljanj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ncepta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zveštaja potrebno je to i tehnički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eirat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korišćenjem 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Report Writer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regledanj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štampanje sadržaja izveštaja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na kraju se preporučuje probno štampanje, radi provere i lakšeg uočavanja eventualnih grešak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Posebna pažnja mora se voditi o dimenizijama papira, jer se često dešavaju problemi sa marginama, neophodna je provera opcije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Page Setup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da bi se otklonile eventualne grešk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07D-25D2-45D2-BE92-6C9597D87BDB}" type="slidenum">
              <a:t>186</a:t>
            </a:fld>
          </a:p>
        </p:txBody>
      </p:sp>
    </p:spTree>
  </p:cSld>
  <p:transition>
    <p:fade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reiranje izvešta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6920" y="1904760"/>
            <a:ext cx="7496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U Accessu je moguće napraviti svak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d pomenutih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i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va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izveštaja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Čarobnjac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izar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za izveštaje pojednostavljuju postupak razmeštanja polja tako što najpre vizuelno postavljaju niz pitanja o željenom izveštaju, a onda ga automatski prave.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zveštaji se prave klikom n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konicu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por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zatim na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opciju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. Nakon toga starovaće se proz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, koji vam omogu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je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da na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razli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ih načina pravite izveštaje.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639-539A-4C97-B8B4-08F4A954E0DA}" type="slidenum">
              <a:t>187</a:t>
            </a:fld>
          </a:p>
        </p:txBody>
      </p:sp>
    </p:spTree>
  </p:cSld>
  <p:transition>
    <p:fade/>
  </p:transition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Izgled dijaloga New Repor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768760" y="1914480"/>
            <a:ext cx="4311360" cy="413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A3E-998B-4784-BB3B-03AE22490296}" type="slidenum">
              <a:t>188</a:t>
            </a:fld>
          </a:p>
        </p:txBody>
      </p:sp>
    </p:spTree>
  </p:cSld>
  <p:transition>
    <p:fade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324160" y="622080"/>
            <a:ext cx="63532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izvešta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cije dijalog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ew Repor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Design View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 prikazuje prazan prostor za oblikovanje izveštaja kao polaznu osnovu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Report Wizard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okreće čarobnjaka za izradu izveštaja koji pravi izveštaj  postavljajući brojna pitanj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Auto Report: Columnar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automatski sastavlja stubični izveštaj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Auto Report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belar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automatski sastavlj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elarn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izveštaj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Chart Wizard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pokreće čarobnjaka koji pomaže u pravljenju poslovnog dijagra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a dijagramim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Label Wizard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koji pokreće čarobnjaka koji pomaže u pripremi poštanske nalepni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9DD-FFF0-43DD-9467-B28DB4861649}" type="slidenum">
              <a:t>189</a:t>
            </a:fld>
          </a:p>
        </p:txBody>
      </p:sp>
    </p:spTree>
  </p:cSld>
  <p:transition>
    <p:fade/>
  </p:transition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533520"/>
            <a:ext cx="6919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Prozor baze podatak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u Access-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 levoj strani prozora nalazi se meni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Object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eni  sadrži sedam dugmadi pomoću kojih može da se izabere neki od sedam vrsta objekat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bele, Stranice, Upiti, Makroi, Obrasci, Moduli, Izveštaj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 desnoj strani prikazuj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spisak imena objekata koji je izabran na levoj stra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da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se napravi novi objekat, njegovo ime 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isuje u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listu proz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baze podatak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U gornjem delu prozora se nalazi paleta sa alatka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8DC-AC1C-4F39-9D36-C6A0C612414D}" type="slidenum">
              <a:t>19</a:t>
            </a:fld>
          </a:p>
        </p:txBody>
      </p:sp>
    </p:spTree>
  </p:cSld>
  <p:transition>
    <p:fade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reiranje izveštaja kori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ćenjem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obnjak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Report Wizar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Svaki izveštaj koji pravimo zasniva se na podacima iz tabele ili upita.</a:t>
            </a: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Izbor tabele ili upita čija će se polja nalaziti na izveštaju vrši se u podnožju početnog dijaloga za pravljenje izveštaja </a:t>
            </a:r>
            <a:r>
              <a:rPr b="1" lang="pt-PT" sz="2200" spc="-1" strike="noStrike">
                <a:solidFill>
                  <a:srgbClr val="000000"/>
                </a:solidFill>
                <a:latin typeface="Verdana"/>
              </a:rPr>
              <a:t>New Report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Nakon izbor tabele/upita na sledećem ekranu je potrebno izabrati polja koja će učestvovati u stvaranju izveštaju.</a:t>
            </a: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ovoljno je selektovati polje, pritisnuti strelicu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) i automatski to polje će se naći u susednom przozoru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lje možete i izbaciti pritiskom na strelicu u suprotnom smer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&lt;)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likom 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lazimo na sledeći proz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973-13D1-497A-8DEA-9182939E1BB2}" type="slidenum">
              <a:t>190</a:t>
            </a:fld>
          </a:p>
        </p:txBody>
      </p:sp>
    </p:spTree>
  </p:cSld>
  <p:transition>
    <p:fade/>
  </p:transition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Izgled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vog ekrana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dijalog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Report Wizard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6191280" cy="46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056-AD80-46FD-B840-22CFE3FFDE89}" type="slidenum">
              <a:t>191</a:t>
            </a:fld>
          </a:p>
        </p:txBody>
      </p:sp>
    </p:spTree>
  </p:cSld>
  <p:transition>
    <p:fade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08000" y="533520"/>
            <a:ext cx="7236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reiranje izveštaja kori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ćenjem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obnjaka (Report Wizar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7927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 sledećem ekranu dijaloga zadaju se instrukcije po kom polju ili poljima se grupišu podac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Wizard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omogućuje da se na izveštaju definišu od nula do četiri polja za grupis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redosled polja za grupisanje mo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 da se menja pomoću dugmadi za prioritet (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Priority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), 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odeljeni prioritet određuje nivoe u hijerarhiji grup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369-D346-46FF-A387-A8E85FA77A32}" type="slidenum">
              <a:t>192</a:t>
            </a:fld>
          </a:p>
        </p:txBody>
      </p:sp>
    </p:spTree>
  </p:cSld>
  <p:transition>
    <p:fade/>
  </p:transition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zgled dijalog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 Wizard / Group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5904000" cy="4465800"/>
          </a:xfrm>
          <a:prstGeom prst="rect">
            <a:avLst/>
          </a:prstGeom>
          <a:ln w="0">
            <a:noFill/>
          </a:ln>
        </p:spPr>
      </p:pic>
      <p:grpSp>
        <p:nvGrpSpPr>
          <p:cNvPr id="592" name=""/>
          <p:cNvGrpSpPr/>
          <p:nvPr/>
        </p:nvGrpSpPr>
        <p:grpSpPr>
          <a:xfrm>
            <a:off x="3995640" y="2421000"/>
            <a:ext cx="4392720" cy="1838880"/>
            <a:chOff x="3995640" y="2421000"/>
            <a:chExt cx="4392720" cy="1838880"/>
          </a:xfrm>
        </p:grpSpPr>
        <p:sp>
          <p:nvSpPr>
            <p:cNvPr id="593" name=""/>
            <p:cNvSpPr/>
            <p:nvPr/>
          </p:nvSpPr>
          <p:spPr>
            <a:xfrm>
              <a:off x="6948360" y="3068640"/>
              <a:ext cx="144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upisanje zadato poljem BrRac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3995640" y="2421000"/>
              <a:ext cx="29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9EE-241F-4069-85D5-649391A388FA}" type="slidenum">
              <a:t>193</a:t>
            </a:fld>
          </a:p>
        </p:txBody>
      </p:sp>
    </p:spTree>
  </p:cSld>
  <p:transition>
    <p:fade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47280" y="533520"/>
            <a:ext cx="7596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reiranje izveštaja kori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ćenjem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obnjaka (Report Wizar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gme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Grouping Option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jaloga sa prethodne slike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omoguć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je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da se detaljnije izvrši grupisanj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U zavisnosti od tipa polja izabranog za grupisanje, lista nudi različite načine grupisanja npr. znakovni, numerički, datumsk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Pritiskom na </a:t>
            </a: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Next</a:t>
            </a: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, dobijate naredni ekran dijaloga u okviru koga se zadaje na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sortiranja polja u izve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ju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DCE-97F2-4411-8845-30A50EC50D0E}" type="slidenum">
              <a:t>194</a:t>
            </a:fld>
          </a:p>
        </p:txBody>
      </p:sp>
    </p:spTree>
  </p:cSld>
  <p:transition>
    <p:fade/>
  </p:transition>
  <p:timing>
    <p:tnLst>
      <p:par>
        <p:cTn id="2082" dur="indefinite" restart="never" nodeType="tmRoot">
          <p:childTnLst>
            <p:seq>
              <p:cTn id="2083" dur="indefinite" nodeType="mainSeq">
                <p:childTnLst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738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reiranje izveštaja kori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ćenjem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obnjaka (Report Wizar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ko je bar jedno od polja izabranih za prikaz u izve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ju numer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, u okviru ekrana za sortiranje pojavljuje se dugm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mmary Option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likom na ovo dugme prelazi se na dijalog u kome se mo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zahteva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iranje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zračunavanje prosečne vrednosti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dredjivanje najmanjeg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i najvećeg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zapisa u grup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ko se izabere opcij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tail and Summar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zveštaj će prikazivati sve podatke dok opcij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mmary Onl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 izveštaju prikazuje samo sumarne podatk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koliko se potvrdi polj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lculate percent of total for sum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zpod zbira grupe na izveštaju pojaviće se procenat koji predstavlja učešće zbira grupe u ukupnom zbiru izvešta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8A7-39E8-47E5-BE94-655D2743FF50}" type="slidenum">
              <a:t>195</a:t>
            </a:fld>
          </a:p>
        </p:txBody>
      </p:sp>
    </p:spTree>
  </p:cSld>
  <p:transition>
    <p:fade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zgled dijalog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 Wizard / Summary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545080" cy="48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E80-D1F5-4274-8DB8-88DA85AF9909}" type="slidenum">
              <a:t>196</a:t>
            </a:fld>
          </a:p>
        </p:txBody>
      </p:sp>
    </p:spTree>
  </p:cSld>
  <p:transition>
    <p:fade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63280" y="533520"/>
            <a:ext cx="7380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reiranje izveštaja kori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ćenjem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obnjaka (Report Wizar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lede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va dijaloga uti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 na izgled izve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ja.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Prvi od njih omogućava da se zada razmeštaj podatak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upa opcij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you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i šest mogućih načina koji opisuju Access-u da li treba d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navlja zaglavlje stubaca ili n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vuče u desno niže nivoe grupisanja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 doda linije ili okvire između redova podataka u odeljku za detalj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što se izabere određena opcija slika na levoj strani se menja da bi se videlo delovanje opcij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2ED-E8B3-42D4-8C53-58E163503660}" type="slidenum">
              <a:t>197</a:t>
            </a:fld>
          </a:p>
        </p:txBody>
      </p:sp>
    </p:spTree>
  </p:cSld>
  <p:transition>
    <p:fade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zgled dijalog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 Wizard / Layout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6335640" cy="478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65D-A066-4DCB-8812-2E0C51CC3AF7}" type="slidenum">
              <a:t>198</a:t>
            </a:fld>
          </a:p>
        </p:txBody>
      </p:sp>
    </p:spTree>
  </p:cSld>
  <p:transition>
    <p:fade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692360" y="533520"/>
            <a:ext cx="6991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reiranje izveštaja kori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ćenjem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obnjaka (Report Wizar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Pritiskom na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Next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 dobijate drugi dijalog kojim se zadaje izgled izveštaja, konkretno bira se stil izvešta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aki stil nudi drugačije pozadinsko senčenje, veličinu fonta i druge karakteristike formatiran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ko se izabere opcija slika sa leve strane pokazuje njeno delovanj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41B-A432-4CB6-B6C3-A626D8A41FB6}" type="slidenum">
              <a:t>199</a:t>
            </a:fld>
          </a:p>
        </p:txBody>
      </p:sp>
    </p:spTree>
  </p:cSld>
  <p:transition>
    <p:fade/>
  </p:transition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6919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zentacija</a:t>
            </a: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pozna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ć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vas sa</a:t>
            </a: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novnim karakteristikama Access-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radnim okru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ženj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novnim elementima ACCESS-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Šta se sve može uradit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Access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CB2-BE1F-47F2-8B38-76C3740FA808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360" y="69228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Rad sa tabela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979640" y="2491920"/>
            <a:ext cx="6399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Projektovanje tabe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Pravljenje nove baze podatak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peracije nad 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tabel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92000" y="549360"/>
            <a:ext cx="58323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zgled dijalog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 Wizard / 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408720" cy="48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C79-5C6E-48D6-AAA5-E9A09A187527}" type="slidenum">
              <a:t>200</a:t>
            </a:fld>
          </a:p>
        </p:txBody>
      </p:sp>
    </p:spTree>
  </p:cSld>
  <p:transition>
    <p:fade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76360" y="533520"/>
            <a:ext cx="7207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reiranje izveštaja kori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ćenjem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obnjaka (Report Wizar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gm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x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uži za prelazak na poslednji ekran dijaloga čarobnjak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ort Wizar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taje samo da ukucate naslov izveštaj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slov se prikazuje u izveštaju samo jednom, a ne na početku svake stra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Čarobnjak sam nudi ime tabele, ali ponuđeni naslov može da se prome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a tim se bira jedna od opcija u donjem delu okvira za dijalog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view the repo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Prelazak u reži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nt Preview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z koga se može pregledati izveštaj i štampat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ify the report's desig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Prelazak u reži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ign View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 kome uz pomoć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 Wri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a može da se menja struktura izveštaj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gm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ish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uži da bi čarobnjak završio svoj posao i prikazao izveštaj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BAF-8DDA-444D-89BC-584B07FD7B83}" type="slidenum">
              <a:t>201</a:t>
            </a:fld>
          </a:p>
        </p:txBody>
      </p:sp>
    </p:spTree>
  </p:cSld>
  <p:transition>
    <p:fade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ampanje izve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a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da se zav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proces kreiranja izv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j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dino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reostaje jest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mpanje istog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se izvr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i na sled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n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tiskom na dugm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u meniju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tiskom na dugme Print u prozoru za pregledanje izv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ja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tiskom na dugm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u prozoru baze podatak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se prethodno istakne ime izv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j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ktura izv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ja mo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da se snimi na disk u svakom trenutku izborom opcija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v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da se izv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j snima na disk po prvi p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lja se okvir za dijalog u kome se zadaje ime izv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j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kvir za dijalog sam nudi ime koj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robnjak podrazumeva za izv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j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 to j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B3B-7E97-4064-8D22-3AEDAE38C9C7}" type="slidenum">
              <a:t>202</a:t>
            </a:fld>
          </a:p>
        </p:txBody>
      </p:sp>
    </p:spTree>
  </p:cSld>
  <p:transition>
    <p:fade/>
  </p:transition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6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6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55164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poznajte 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a MS ACCESS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-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164" dur="indefinite" restart="never" nodeType="tmRoot">
          <p:childTnLst>
            <p:seq>
              <p:cTn id="2165" dur="indefinite" nodeType="mainSeq">
                <p:childTnLst>
                  <p:par>
                    <p:cTn id="2166" fill="hold">
                      <p:stCondLst>
                        <p:cond delay="0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Rad sa tabelam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ovom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u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aučićete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Kako se projektuje tab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ko se p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ra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ba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podata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novne operacije nad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tabel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55E-D61B-4A40-894B-B03A68A5AF60}" type="slidenum">
              <a:t>21</a:t>
            </a:fld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jektovanje tabela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6920" y="1904760"/>
            <a:ext cx="7496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Najpre je potrebn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sati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koji podaci će se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vati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u baz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kon toga, p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otrebno j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upisa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i podatke u logičke celine, iz kojih će nastati tabe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 kraju, potrebno je definisati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vez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(relaci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) ko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s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r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povezivanje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abela koje dele i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odne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atke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637-5CBD-4D40-A34D-4856043B73EA}" type="slidenum">
              <a:t>22</a:t>
            </a:fld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jektovanje tabela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31640" y="1904760"/>
            <a:ext cx="7351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Svako polje u tabeli mora da ima 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vako polje treba da bude određenog tip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Tip polja se mora biti u skladu sa podacima koji će se čuvati u tom polju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13B-A398-4624-97C5-704298705882}" type="slidenum">
              <a:t>23</a:t>
            </a:fld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476280"/>
            <a:ext cx="75438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jektovanje tabela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Tipovi podataka u Access-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/TimeDat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/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L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386-8CE1-4A2A-88C5-DDC9B67FAA86}" type="slidenum">
              <a:t>24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avljenje baze podataka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7424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 startovanju MS Access-a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ni ekran 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rikazuj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zli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e opcije za rad u Access-u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Da bi se napravila napravila nova baza neophodno j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u meniju </a:t>
            </a:r>
            <a:r>
              <a:rPr b="1" lang="pt-PT" sz="2200" spc="-1" strike="noStrike">
                <a:solidFill>
                  <a:srgbClr val="000000"/>
                </a:solidFill>
                <a:latin typeface="Verdana"/>
              </a:rPr>
              <a:t>File 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izabrati opciju</a:t>
            </a:r>
            <a:r>
              <a:rPr b="1" lang="pt-PT" sz="2200" spc="-1" strike="noStrike">
                <a:solidFill>
                  <a:srgbClr val="000000"/>
                </a:solidFill>
                <a:latin typeface="Verdana"/>
              </a:rPr>
              <a:t> New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 il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kliknuti na opciju </a:t>
            </a:r>
            <a:r>
              <a:rPr b="1" lang="pt-PT" sz="22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 -&gt;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blank databa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a desnoj strani po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nog ekrana Access-a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E7E-BD34-4080-8AD3-C11360A481DB}" type="slidenum">
              <a:t>25</a:t>
            </a:fld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24160" y="622080"/>
            <a:ext cx="63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Izgled po</a:t>
            </a:r>
            <a:r>
              <a:rPr b="0" lang="sl-SI" sz="33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etnog ekrana Access-a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8360" y="996840"/>
            <a:ext cx="7559640" cy="559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261-3BDB-4E99-84D6-51B4D470709B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tabe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1640" y="1904760"/>
            <a:ext cx="7351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akon pravljenja nove baze ili otvaranja već postojeće, sledeći korak je formiranje tabe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Potrebno je u okvir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nija</a:t>
            </a: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 Objects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izab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stav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Tab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F7A-93A8-40B8-A3A5-C707D0560472}" type="slidenum">
              <a:t>27</a:t>
            </a:fld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tabe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640" y="1904760"/>
            <a:ext cx="7135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bela se može kreirati na tri načina: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rišćenjem opcij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sign View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korišćenjem čarobnjaka</a:t>
            </a: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izard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reiranje tabele unosom podataka.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43E-B614-4BFE-B043-7DD00CC0DC65}" type="slidenum">
              <a:t>28</a:t>
            </a:fld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tabe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Za pravljenje nove tabele iza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opciju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Design View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ja 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služi za definisanje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strukture tabe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Ova opcij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astoji se od dv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nela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el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za polj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namenjen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nosu imena i tipova podataka pojedinačnih polja i (opciono) teksta koji dodatno opisuje polje.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el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za svojstva polj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namenjen definisanju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svojstava (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) za svako pojedinačno pol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B94-8582-4016-BAA1-E7811D0E9061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vod u Acces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Access je sistem za upravljanje bazama podataka (</a:t>
            </a:r>
            <a:r>
              <a:rPr b="1" lang="sl-SI" sz="2200" spc="-1" strike="noStrike">
                <a:solidFill>
                  <a:srgbClr val="000000"/>
                </a:solidFill>
                <a:latin typeface="Verdana"/>
              </a:rPr>
              <a:t>data base management system DBMS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oristi s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venstveno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z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os,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skladištenje i prikaz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pod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l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i za automatizaciju poslova koji se često ponavljaju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dlikuje g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oka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roduktivnost programa za upravljanje bazom podatak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BMS)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lako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korišćenj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vojstvena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plikacijama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161-9C5B-4BB2-9856-FBFF567395EA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353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 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345440" cy="577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C5E-2278-4298-96B2-576659E16DD9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tabe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ovo polje se dodaje upisivanjem imena i tipa podataka polja u prazan r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el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za polj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View-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eželjeno polje možete izbrisati pritiskom na birač reda, a zatim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, ili iz menija 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Edit / Delete Row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m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redosl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polj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mo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najjednostav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j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aviti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premeštanj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polja unutar strukture tabe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j.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obeležavanjem polja i odvlačenjem polja na novo mesto (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Drag &amp; Drop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894-3D45-41E6-B616-8BA08B29101B}" type="slidenum">
              <a:t>31</a:t>
            </a:fld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tabe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1904760"/>
            <a:ext cx="7640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ako polje mora biti određenog tip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p određuj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up operacija koje se mogu izvršavati nad poljem 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up vrednosti koje polje može da uz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8DB-A0E2-47BA-A621-CC883B41EFA3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tabe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kon dodavanja svih polja u tabelu i podešavanja njihovih svojstva naredni korak je zadavanje primarnog ključ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aka tabela mora imati primaran ključ, odnosno, jedno ili više polja koja jedinstveno identifikuju svaki zapis tabe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ko korisnik ne defini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primarni ključ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ga sam sam postavl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6FF-32C4-49B1-9014-19EA60646D6E}" type="slidenum">
              <a:t>33</a:t>
            </a:fld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reiranje tabe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upak kreiranja primarnog ključa podrazumeva sledeć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eleži se polje koje će služiti kao primarni ključ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tisne se desni taster miša i izabere opcija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8FD-2A46-4C96-98AA-8A9498480353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vezivanje tabe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ze u modeliranju podatak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MOV - Elektronska prodavnic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ođenje PMOV u relacioni mode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povi vez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postavljanje veza između tabel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ED5-EA5F-47C6-88C5-036DAE3AD03D}" type="slidenum">
              <a:t>35</a:t>
            </a:fld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vezivanje tabe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ovom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u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aučićete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Šta su vez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ji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tipovi vez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oj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Kako uspostaviti veze među tabela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50F-63F7-4D38-BB6D-8B08524927E4}" type="slidenum">
              <a:t>36</a:t>
            </a:fld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vezivanje tabe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snovni uslov za uspostavljanje veze između dve tabele je da polj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ko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kojih se uspostavlja veza sadrž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datk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Verdana"/>
              </a:rPr>
              <a:t>is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g tip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Veza se uspostavlja tako što se povezuju ključna polj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ve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tabele, odnosno primarni ključ jedne tabele i spoljni ključ druge tabele.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D1C-C418-46A4-827F-6FFBAB517B26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6048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Veze u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odeliranj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 podata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92000" y="3499920"/>
            <a:ext cx="6399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MOV - E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lektronska prodavn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000000"/>
                </a:solidFill>
                <a:latin typeface="Verdana"/>
              </a:rPr>
              <a:t>NABAVKA: </a:t>
            </a:r>
            <a:br>
              <a:rPr sz="3300"/>
            </a:br>
            <a:r>
              <a:rPr b="1" lang="pl-PL" sz="3300" spc="-1" strike="noStrike">
                <a:solidFill>
                  <a:srgbClr val="000000"/>
                </a:solidFill>
                <a:latin typeface="Verdana"/>
              </a:rPr>
              <a:t>Podmodel za tok Naru</a:t>
            </a:r>
            <a:r>
              <a:rPr b="1" lang="sr-Latn-CS" sz="3300" spc="-1" strike="noStrike">
                <a:solidFill>
                  <a:srgbClr val="000000"/>
                </a:solidFill>
                <a:latin typeface="Verdana"/>
              </a:rPr>
              <a:t>džbenica</a:t>
            </a:r>
            <a:br>
              <a:rPr sz="2400"/>
            </a:b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63760" y="2308320"/>
          <a:ext cx="4440240" cy="341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3760" y="2308320"/>
                    <a:ext cx="444024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C33-B575-468F-951C-ECAAE784DE65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vod u Ac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Acces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ogu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je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potpuno upravljanje relacionom bazom podatak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Tabelama je moguće pridružiti pravila koja proveravaju ispravnost i validnost podataka č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e se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sprečava unos neispravnih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datak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vako polje tabele može imati svoj format i podrazumevanu vrednost što znatno povećava produktivn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2B0-556F-49BF-BE97-8C4AA8B2A84C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404640"/>
            <a:ext cx="7236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000000"/>
                </a:solidFill>
                <a:latin typeface="Verdana"/>
              </a:rPr>
              <a:t>NABAVKA: </a:t>
            </a:r>
            <a:br>
              <a:rPr sz="3300"/>
            </a:br>
            <a:r>
              <a:rPr b="1" lang="pl-PL" sz="3300" spc="-1" strike="noStrike">
                <a:solidFill>
                  <a:srgbClr val="000000"/>
                </a:solidFill>
                <a:latin typeface="Verdana"/>
              </a:rPr>
              <a:t>Podmodel za tok Naručivanj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130560" y="1905120"/>
          <a:ext cx="4705200" cy="42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0560" y="1905120"/>
                    <a:ext cx="47052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99B-1223-4706-9FEF-CB459032BE62}" type="slidenum">
              <a:t>40</a:t>
            </a:fld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NABAVKA: 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Podmodel za tok Prijem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963880" y="2490840"/>
          <a:ext cx="5038560" cy="30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3880" y="2490840"/>
                    <a:ext cx="50385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5BA-323E-4738-B824-98B9A37C0C7D}" type="slidenum">
              <a:t>41</a:t>
            </a:fld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000000"/>
                </a:solidFill>
                <a:latin typeface="Verdana"/>
              </a:rPr>
              <a:t>NABAVKA: </a:t>
            </a:r>
            <a:br>
              <a:rPr sz="3300"/>
            </a:br>
            <a:r>
              <a:rPr b="1" lang="pl-PL" sz="3300" spc="-1" strike="noStrike">
                <a:solidFill>
                  <a:srgbClr val="000000"/>
                </a:solidFill>
                <a:latin typeface="Verdana"/>
              </a:rPr>
              <a:t>Podmodel za tok Faktura i Uplata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567240" y="2305080"/>
          <a:ext cx="3833640" cy="34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7240" y="2305080"/>
                    <a:ext cx="38336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D0A-7D04-495F-AA9D-A70092485D08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INTEGRISANI MODEL NABAVK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825640" y="2168640"/>
          <a:ext cx="5316480" cy="369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25640" y="2168640"/>
                    <a:ext cx="531648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E00-33AE-455C-8D63-A2B9077822C7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712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Verdana"/>
              </a:rPr>
              <a:t>PRODAJA: </a:t>
            </a: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Verdana"/>
              </a:rPr>
              <a:t>Podmodel za funkciju Obrada Porudžb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44800" y="2174760"/>
          <a:ext cx="5076720" cy="36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2174760"/>
                    <a:ext cx="507672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77F-BFE0-44AD-903A-1E24AB63AEA1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DAJA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dmodel za funkciju Otprema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92480" y="1968480"/>
          <a:ext cx="6159240" cy="395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2480" y="1968480"/>
                    <a:ext cx="615924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164-4FFD-449D-9C20-9634E87DF84A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Verdana"/>
              </a:rPr>
              <a:t>PRODAJA: </a:t>
            </a: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Verdana"/>
              </a:rPr>
              <a:t>Podmodel za funkciju Napl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739960" y="1933560"/>
          <a:ext cx="5935680" cy="403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39960" y="1933560"/>
                    <a:ext cx="593568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8AD-7E13-45CA-9203-448430D8B1DB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INTEGRISANI MODEL PRODAJ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58920" y="1665360"/>
          <a:ext cx="6626160" cy="483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65360"/>
                    <a:ext cx="6626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568-1450-4ADE-B733-E9C349854CBA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8000" y="1483920"/>
            <a:ext cx="6926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vođenje PMO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 relacioni mode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Osnovni koncepti relacionog mode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Primarni ključ</a:t>
            </a: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 relacije je atribut (prost ključ) ili skup atributa relacije (složeni ključ) koji jedinstveno indentifikuje n-torku u relaciji (jednu vrstu u tabeli). 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Primarni ključ u prikazu relacije se podvlač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Spoljni ključ</a:t>
            </a:r>
            <a:r>
              <a:rPr b="0" lang="pt-PT" sz="2600" spc="-1" strike="noStrike">
                <a:solidFill>
                  <a:srgbClr val="000000"/>
                </a:solidFill>
                <a:latin typeface="Verdana"/>
              </a:rPr>
              <a:t> je atribut (ili skup atributa) u relaciji R1 koji u njoj nije primarni ključ, već je primarni ključ relacije R2. Preko spoljinih ključeva se uspostavlja veza između relaci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18B-1CAD-419A-AF6D-5F55AF4CC38C}" type="slidenum">
              <a:t>49</a:t>
            </a:fld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vod u Acces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mogućen je uvoz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mport)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i izvoz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xport)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odataka iz mnogih aplikacij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dBas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FoxPro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SQL Server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Oracl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Btriev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tekstualni ASCII forma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podataka u HTML format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DE7-187D-4D89-828A-6E96C9D8EEF3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0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Osnovni koncepti relacionog mode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Svaki entitet iz PMOV-a postaje relacija.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tributi entiteta postaju atributi relaci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imarni ključ dobijene relacije 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Za jake entitete, atribut identifika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Za slabe entitete, atribut identifikator nadređenog entiteta i atribut ili skup atributa koji jedinstveno određuje slab enti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Za podtip, indentifikator nadtip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Za agregaciju, skup identifikatora koje prema agregaciji imaju preslikavanje sa gornjom granicom kardinalnosti M, ili identifikator jedne od komponenti koji prima agregaciji ima preslikavanje sa gornjom granicom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AE1-FFC3-4AAE-9F11-5CDD5FDEEAA0}" type="slidenum">
              <a:t>50</a:t>
            </a:fld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300" spc="-1" strike="noStrike">
                <a:solidFill>
                  <a:srgbClr val="000000"/>
                </a:solidFill>
                <a:latin typeface="Verdana"/>
              </a:rPr>
              <a:t>Pravila za prevođenje PMOV u relacioni mod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vila za entit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vila za binarne ve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vila za unarne ve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381-11E6-49FC-BA04-2AE3DF6B159C}" type="slidenum">
              <a:t>51</a:t>
            </a:fld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1. Pravila za objekte (entitet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5640" y="1904760"/>
            <a:ext cx="7567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Pravilo 1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Svaki objekat iz MOV postaje entit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me tipa entiteta postaje ime šeme relacij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tributi objekta su atributi entite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Pravilo 1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Svaki “slab objekat” takođe postaje šema relacije. Ime tipa objekta postaje ime šeme relacij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kator nadređenog objekta postaje jedno od obeležja šeme relacije koja odgovara “slabom” objek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Identifikator slabog objekta čini identifikator nadređenog objekta i obeležja “slabog”objekta koja jedinstveno identifikuje pojavljivanje “slabog” objek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BDB-8131-4A6C-B832-7683F216367C}" type="slidenum">
              <a:t>52</a:t>
            </a:fld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507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300" spc="-1" strike="noStrike">
                <a:solidFill>
                  <a:srgbClr val="000000"/>
                </a:solidFill>
                <a:latin typeface="Verdana"/>
              </a:rPr>
              <a:t>Pravilo 1.2 – Prime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476360" y="1050840"/>
          <a:ext cx="590400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050840"/>
                    <a:ext cx="590400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PoslovniPartner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Verdana"/>
              </a:rPr>
              <a:t>SifraPoslP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NazivPoslP, AdresaPoslP, Delatno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Narudzbenica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Verdana"/>
              </a:rPr>
              <a:t>BrojNar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DatumNar, SifraPosl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StavkaNarudzbenice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Verdana"/>
              </a:rPr>
              <a:t>BrojNar, Rbr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Kolicina, SifraArtikl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Artikal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Verdana"/>
              </a:rPr>
              <a:t>SifraArtikla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VrstaArtikla, NazivArtikla, OpisArtikl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B1D-D6D6-4CA3-B646-D3A9303D1CA0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34920" y="533520"/>
            <a:ext cx="705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1. Pravila za objekte (entitet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Verdana"/>
              </a:rPr>
              <a:t>Pravilo 1.3 (Nadt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bjekat nadtip (generalizovani tip objekta) postaje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šema relaci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me nadtipa postaje ime šeme relaci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Obeležja nadtipa su obležja šeme relaci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dentifikator nadtipa postaje ključ šeme relaci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Pravilo 1.4 (Podt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Objekat podtip posstaje šema relaci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me podtipa posttaje ime šeme relaci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dentifikator nadtipa postaje ključ (identifikatora) podti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E67-D489-450B-8D19-2ADC350D02DD}" type="slidenum">
              <a:t>54</a:t>
            </a:fld>
          </a:p>
        </p:txBody>
      </p:sp>
    </p:spTree>
  </p:cSld>
  <p:transition>
    <p:fad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68360" y="475920"/>
            <a:ext cx="63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avila 1.3, 1.4 – Prim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332000" y="1114560"/>
          <a:ext cx="5904000" cy="39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14560"/>
                    <a:ext cx="590400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5157360"/>
            <a:ext cx="85075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PoslovniPartner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Verdana"/>
              </a:rPr>
              <a:t>SifraPoslP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NazivPoslP, AdresaPoslP, Delatno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Kupac (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Verdana"/>
              </a:rPr>
              <a:t>SifraPoslP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Pol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Dobavljac (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Verdana"/>
              </a:rPr>
              <a:t>SifraPoslP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KontaktOsoba, T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123640" y="5516640"/>
            <a:ext cx="5749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5516640"/>
            <a:ext cx="19447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F68-A392-42A0-BC9D-0EC027E58C5F}" type="slidenum">
              <a:t>55</a:t>
            </a:fld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2. Pravila za binarne vez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2010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Veze sa kardinalnošću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(1,1) : (1,1), (0,1) : (1,1), (0,1) : (0,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Veze sa kardinalnošću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2400" spc="-1" strike="noStrike">
                <a:solidFill>
                  <a:srgbClr val="cc3300"/>
                </a:solidFill>
                <a:latin typeface="Verdana"/>
              </a:rPr>
              <a:t>(1,1) : (0,М)</a:t>
            </a: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,</a:t>
            </a:r>
            <a:r>
              <a:rPr b="1" lang="sl-SI" sz="2400" spc="-1" strike="noStrike">
                <a:solidFill>
                  <a:srgbClr val="cc3300"/>
                </a:solidFill>
                <a:latin typeface="Verdana"/>
              </a:rPr>
              <a:t> (1,1) : (1,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Veze sa kardinalnošću: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(0,1) : (0,М)</a:t>
            </a: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,</a:t>
            </a: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 (0,1) : (1,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Veze sa kardinalnošću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(0,М) : (0.М), (1,М) : (0,М)</a:t>
            </a: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,</a:t>
            </a: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 (1,М) : (1,М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462-6C45-4C99-BF20-69B8CA0DEA52}" type="slidenum">
              <a:t>56</a:t>
            </a:fld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Veza sa kardinalnošću (1,1) – (1,1)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47640" y="1904760"/>
            <a:ext cx="7135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Oba objekta koja u njoj učestvuju prevodimo u jednu šemu relacije, čija su obeležja sva obeležja jednog i drugog objek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Kandidati za ključ u ovoj šemi relacije su identifikatori oba objekta koja su u vez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C4B-4913-41AF-92F0-3C33B18BA800}" type="slidenum">
              <a:t>57</a:t>
            </a:fld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Veza sa kardinalnošću (0,1) – (1,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31640" y="1904760"/>
            <a:ext cx="73515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Verdana"/>
              </a:rPr>
              <a:t>Svaki objekat u vezi prevodimo u posebnu šemu relacij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Identifikator objekta koji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a DG = 0,</a:t>
            </a: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 uba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je se k</a:t>
            </a: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ribut</a:t>
            </a: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 druge šeme relacij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Verdana"/>
              </a:rPr>
              <a:t>Veza se predstavlja spoljnim ključem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18B-FCA8-46BC-A2F6-727DBE581904}" type="slidenum">
              <a:t>58</a:t>
            </a:fld>
          </a:p>
        </p:txBody>
      </p:sp>
    </p:spTree>
  </p:cSld>
  <p:transition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Veza sa kardinalnošću (0,1) – (1,1)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403360" y="2644920"/>
          <a:ext cx="616104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3360" y="2644920"/>
                    <a:ext cx="61610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422064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c3300"/>
                </a:solidFill>
                <a:latin typeface="Verdana"/>
              </a:rPr>
              <a:t>Otpremnica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pt-PT" sz="2200" spc="-1" strike="noStrike" u="sng">
                <a:solidFill>
                  <a:srgbClr val="000000"/>
                </a:solidFill>
                <a:uFillTx/>
                <a:latin typeface="Verdana"/>
              </a:rPr>
              <a:t>BrojOtpr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, DatumOtp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c3300"/>
                </a:solidFill>
                <a:latin typeface="Verdana"/>
              </a:rPr>
              <a:t>Prijemnica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pt-PT" sz="2200" spc="-1" strike="noStrike" u="sng">
                <a:solidFill>
                  <a:srgbClr val="000000"/>
                </a:solidFill>
                <a:uFillTx/>
                <a:latin typeface="Verdana"/>
              </a:rPr>
              <a:t>BrojPrijemnice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, DatumPrijem, BrOtp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AEC-7382-4326-8322-CFA8275E78F8}" type="slidenum">
              <a:t>59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vod u Acces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likacije razvijene u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Access 2000 mog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kor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t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za rad na Internetu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Izborom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dgovaraju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opcije omoguć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se prebacivanje tabela, upita, izveštaja i prikaz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ih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u tabelarnom obliku u HTML forma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omoću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Data Acess Pag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(stranice za pristup podacima) mogu se prav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i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složeni obr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menjeni postavljanju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na Interne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koji su povezani sa podacima u konkretnoj mreži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793-C359-4A94-973A-1D12079F22A8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Veze sa kardinalnošću (0,1) – (0,1)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Kreiraju se tri šeme relaci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Po jedna za svaki objekat i jedna za vez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Obeležja u šemi relacije koja odgovara vezi su identifikatori objekata koji su u vezi i oba su kandidati za ključ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FA5-4A8D-4E82-857A-FE6E12BB87E1}" type="slidenum">
              <a:t>60</a:t>
            </a:fld>
          </a:p>
        </p:txBody>
      </p:sp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4200" y="533160"/>
            <a:ext cx="63990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Veza sa kardinalnošću (0,1) – (0,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2133720"/>
          <a:ext cx="8353440" cy="123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133720"/>
                    <a:ext cx="8353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24000" y="4005360"/>
          <a:ext cx="8640720" cy="151128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ndidat</a:t>
                      </a: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</a:t>
                      </a:r>
                      <a:r>
                        <a:rPr b="0" lang="sv-SE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SifraKandidata</a:t>
                      </a: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ImePrezime, Struk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kurs</a:t>
                      </a: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</a:t>
                      </a:r>
                      <a:r>
                        <a:rPr b="0" lang="sv-SE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SifraKandidata</a:t>
                      </a: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SifraRadnik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nik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SifraRadnika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isRM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ndidat</a:t>
                      </a: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</a:t>
                      </a:r>
                      <a:r>
                        <a:rPr b="0" lang="sv-SE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SifraKandidata</a:t>
                      </a: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ImePrezime, Struk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kurs</a:t>
                      </a: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</a:t>
                      </a:r>
                      <a:r>
                        <a:rPr b="0" lang="sv-SE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SifraRadnika</a:t>
                      </a: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SifraKandidat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nik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SifraRadnika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isRM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0E1-30B6-48F5-8E9A-ABAB63BE922D}" type="slidenum">
              <a:t>61</a:t>
            </a:fld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Veza sa kardinalnošću (1,1) – (0,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4962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Ne postaju posebne šeme relacij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dentifikator objekta sa strane za koju je gornja granica kardinaliteta presikavanja GG=M postaje obeležje šeme relacije koje odgovara objektu sa strane za koju je GG=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3789360"/>
          <a:ext cx="8280360" cy="12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789360"/>
                    <a:ext cx="828036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1476360" y="5516640"/>
            <a:ext cx="61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s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Me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fraMes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306-4602-4778-86F8-6FDA5E6DD00E}" type="slidenum">
              <a:t>62</a:t>
            </a:fld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9840" y="333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Veza sa kardinalnošću (1,1) – (1,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71913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Ne postaju posebne šeme relacij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dentifikator objekta sa strane za koju je gornja granica kardinaliteta presikavanja GG=M postaje obeležje šeme relacije koje odgovara objektu sa strane za koju je GG=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95280" y="3573360"/>
          <a:ext cx="8496360" cy="14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573360"/>
                    <a:ext cx="849636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763640" y="544500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nji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Knji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zdan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zdanj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dinaIzdanj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fraKnji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35A-79DF-4903-B056-A6E43D8B7105}" type="slidenum">
              <a:t>63</a:t>
            </a:fld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Veza sa kardinalnošću (0,1) – (0,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639900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ostaje posebna šema relacij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Obeležja ove šeme relacije su identifikatori objekata koji su u vezi, a ključ šeme relacije je identifikator objekta za koji je GG=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3645000"/>
          <a:ext cx="8667720" cy="12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645000"/>
                    <a:ext cx="8667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537372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Udzbenik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SifraPredme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dzbe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Udzbeni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F8A-BFDC-4B47-B7FA-099F9CD7CDF4}" type="slidenum">
              <a:t>64</a:t>
            </a:fld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Verdana"/>
              </a:rPr>
              <a:t>Veza sa kardinalnošću (0,1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Verdana"/>
              </a:rPr>
              <a:t>(1,M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63990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osta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poseb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š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relaci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Obeležja ove šeme relacije su identifikatori objekata ko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su u vezi, a ključ šeme relacije je identifikator objekta za koji je GG=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95280" y="3645000"/>
          <a:ext cx="8523360" cy="126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645000"/>
                    <a:ext cx="852336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373720"/>
            <a:ext cx="45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a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Predme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SifraNastav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stav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Nastavni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4A5-55F6-4845-AD49-8FC12DEC5760}" type="slidenum">
              <a:t>65</a:t>
            </a:fld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Verdana"/>
              </a:rPr>
              <a:t>Veza sa kardinalnošću 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0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pl-PL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18920" y="1905120"/>
            <a:ext cx="706428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Posta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posebne š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relaci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Obeležja ove šeme relacije su identifikatori objekata ko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su u vezi, a ključ šeme relacije je složeni ključ koji 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sastoji od identifikatora objekata koji su u vez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79280" y="3645000"/>
          <a:ext cx="882036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3645000"/>
                    <a:ext cx="8820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530064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Radn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Prezime, Stru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aIstori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, SifraOR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122-8DD7-42B1-92B7-4F236B1D5D20}" type="slidenum">
              <a:t>66</a:t>
            </a:fld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Agregirani objekti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Agregirani objekat (mešoviti tip objekat-veza, gerund) se posmatra na isti način kao i odgovarajuća ve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koliko veza poseduje obelež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ista postaju obležja šeme relacije veze kada se veza prevodi u posebnu šemu relacije ili se uključuje u onu šemu relacije u koju se upisuje spoljni ključ.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460600" y="4164120"/>
          <a:ext cx="5676840" cy="112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0600" y="4164120"/>
                    <a:ext cx="567684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5445000"/>
            <a:ext cx="60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rgUgovo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Org, SifraUgovo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go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Ugovor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5F0-5E69-4055-A8E7-3CC0F8379E47}" type="slidenum">
              <a:t>67</a:t>
            </a:fld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3. Unarne vez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evođenje unarih veza (unarom nazivamo vezi između dva objekata istog tipa) u relacioni model podataka zavisi od kardinalnosti tipa veze i izvodi se kao i za druge tipove ranije opisanih binarnih ve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Napomenimo da kod unarne veze tipa (1:1) parcijalnost samo na jednoj strani veze, odnosno totalnost samo na jednoj strani veze, ne bi imala smis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Naime, time bi se istom tipu objekta istovremeno dopuštalo i poricanje opciono učestvovanje u vez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C75-454F-4F0C-B5BE-C91509E26B0E}" type="slidenum">
              <a:t>68</a:t>
            </a:fld>
          </a:p>
        </p:txBody>
      </p:sp>
    </p:spTree>
  </p:cSld>
  <p:transition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7640" y="533520"/>
            <a:ext cx="713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Unarne veze 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(0,1) – (0,1)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8920" y="1904760"/>
            <a:ext cx="706428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 prevo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ju unarnih veza s obzirom da bi spoljnii klju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č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i relacije imao isto ime kao i primarni klju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č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o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jegovo preimenovanje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852640" y="3333600"/>
          <a:ext cx="5318280" cy="15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2640" y="3333600"/>
                    <a:ext cx="531828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5445000"/>
            <a:ext cx="575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so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JMB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ra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JMB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JMBGBracniDru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35D-3E78-4CD7-A228-6BCAA7F2AC9B}" type="slidenum">
              <a:t>69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404280"/>
            <a:ext cx="7543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r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dno okružen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7345440" cy="517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C7F-1DD8-43E8-9F6D-A6A9298CFECD}" type="slidenum">
              <a:t>7</a:t>
            </a:fld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92360" y="533520"/>
            <a:ext cx="6991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Unarne veze 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(0,1) – (0,M)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47640" y="1905120"/>
            <a:ext cx="71359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Jedan radnik može da rukovodi sa više radnika i može imati jednog nadređenog rukovodio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Svaki radnik ne mora imati nadređenog rukovodioca i svaki radnik ne mora biti rukovodilac.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797200" y="3679920"/>
          <a:ext cx="5262480" cy="154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7200" y="3679920"/>
                    <a:ext cx="526248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573408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ukovod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Radnik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SifraRadnikaRukovod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D58-EFAD-4613-B3AC-E48E625E0F45}" type="slidenum">
              <a:t>70</a:t>
            </a:fld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92360" y="533520"/>
            <a:ext cx="7200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Unarne veze 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(0,M) – (0,M)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Jedan artikal može da se sastoji iz više sastavnih delo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vaki artikal ne mora imati sastavni d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852640" y="3057480"/>
          <a:ext cx="5095800" cy="14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2640" y="3057480"/>
                    <a:ext cx="5095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515772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rtik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Artik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sta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Artikla , SifraArtiklaUSastav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5F9-9882-436B-94B5-2ABAB3BEEEEA}" type="slidenum">
              <a:t>71</a:t>
            </a:fld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ovezivanje tabela u Access-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Tipovi veza u Access-u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Veza tipa 1: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Veza tipa 1: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Veza tipa n: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FCD-51D1-4846-A398-008338A86A29}" type="slidenum">
              <a:t>73</a:t>
            </a:fld>
          </a:p>
        </p:txBody>
      </p:sp>
    </p:spTree>
  </p:cSld>
  <p:transition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93920" y="663480"/>
            <a:ext cx="58118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300" spc="-1" strike="noStrike">
                <a:solidFill>
                  <a:srgbClr val="000000"/>
                </a:solidFill>
                <a:latin typeface="Verdana"/>
              </a:rPr>
              <a:t>Veza tipa 1:1</a:t>
            </a:r>
            <a:r>
              <a:rPr b="0" lang="sv-SE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1471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ko se koristi u sistemima za upravljanje bazama podataka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imere veza tip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: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nalazimo u većini aplikacija za fak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isanj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68360" y="2492280"/>
          <a:ext cx="8064360" cy="134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492280"/>
                    <a:ext cx="80643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1403280" y="4149720"/>
            <a:ext cx="648180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E9C-3B72-4578-B371-232FC9173EF6}" type="slidenum">
              <a:t>74</a:t>
            </a:fld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9840" y="62028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300" spc="-1" strike="noStrike">
                <a:solidFill>
                  <a:srgbClr val="000000"/>
                </a:solidFill>
                <a:latin typeface="Verdana"/>
              </a:rPr>
              <a:t>Veza tipa 1: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6335640" cy="10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Omogućuje povezivanje jednog zapisa iz jedne tabele sa više zapisa u drugoj tabel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imer vez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og tipa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je svaki dokument koji ima vi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še stavki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40000" y="3141720"/>
          <a:ext cx="4753080" cy="307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3141720"/>
                    <a:ext cx="475308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DFB-B4C4-40A3-BC77-E6EE073ED237}" type="slidenum">
              <a:t>75</a:t>
            </a:fld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Veza tipa 1: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95280" y="2165400"/>
            <a:ext cx="7921800" cy="32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865-8EA4-4BAA-AEB6-8FF85F1AE428}" type="slidenum">
              <a:t>76</a:t>
            </a:fld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300" spc="-1" strike="noStrike">
                <a:solidFill>
                  <a:srgbClr val="000000"/>
                </a:solidFill>
                <a:latin typeface="Verdana"/>
              </a:rPr>
              <a:t>Veza tipa n:m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915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Veza tipa ¨više prema više¨ se može zamisliti kao par dvosmernih veza tipa 1:n između dve tabe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739960" y="2989440"/>
            <a:ext cx="5040360" cy="7826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68360" y="4292640"/>
            <a:ext cx="7991280" cy="208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313-FCCF-45EC-A2B6-B8811B0E3CE1}" type="slidenum">
              <a:t>77</a:t>
            </a:fld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08000" y="549360"/>
            <a:ext cx="67694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ovezivanje tabela u Access-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ostojanje veze između tabela se definiše u posebnom prozoru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nog okruzenja -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Relationship Builder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On se aktivira odabirom stavke menija Too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Relationships ili pritiskom dugmeta </a:t>
            </a: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Relationships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na paleti sa alatk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ojavljuje se glavni prozor </a:t>
            </a: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Relationship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koji je na početku praz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abele se dodaju pritiskom na desni taster miša koji prouzrokuje otvaranje pop-up menija i odabiro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cije </a:t>
            </a:r>
            <a:r>
              <a:rPr b="1" lang="sl-SI" sz="2000" spc="-1" strike="noStrike">
                <a:solidFill>
                  <a:srgbClr val="000000"/>
                </a:solidFill>
                <a:latin typeface="Verdana"/>
              </a:rPr>
              <a:t>Show Table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u meniju.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419640" y="4508640"/>
            <a:ext cx="2808000" cy="1716120"/>
            <a:chOff x="3419640" y="4508640"/>
            <a:chExt cx="2808000" cy="1716120"/>
          </a:xfrm>
        </p:grpSpPr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3419640" y="4869000"/>
              <a:ext cx="216036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flipH="1">
              <a:off x="4932360" y="4508640"/>
              <a:ext cx="129528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F35-7E7E-4D1F-B2B5-4C122FBF5141}" type="slidenum">
              <a:t>78</a:t>
            </a:fld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2920" y="620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ovezivanje tabela u Access-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76360" y="1904760"/>
            <a:ext cx="7207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kviru dijaloga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how Table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 birate tabele koje želite da se pojave u prozoru </a:t>
            </a: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Relationship Builder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Selektovanjem i klikom na </a:t>
            </a: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 tabela se pojavljuje u prozor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D19-0F1C-42B8-8DE0-801CE89EFE36}" type="slidenum">
              <a:t>79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r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dno okružen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orisnicima su na raspolaganj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čarobnjaci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izards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brasci (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Forms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izveštaji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por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fikoni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ntrolni objekti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42C-B93B-4827-B860-0B2858E405B8}" type="slidenum">
              <a:t>8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Verdana"/>
              </a:rPr>
              <a:t>Izgled</a:t>
            </a:r>
            <a:r>
              <a:rPr b="1" lang="sr-CS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3300" spc="-1" strike="noStrike">
                <a:solidFill>
                  <a:srgbClr val="000000"/>
                </a:solidFill>
                <a:latin typeface="Verdana"/>
              </a:rPr>
              <a:t>dijaloga Show Tabl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5688000" cy="455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647-4BC5-4FE6-BC8D-71157BEE4E7A}" type="slidenum">
              <a:t>80</a:t>
            </a:fld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Povezivanje tabela u Access-u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1904760"/>
            <a:ext cx="7640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akon što su postavljene željene tabele u </a:t>
            </a:r>
            <a:r>
              <a:rPr b="1" lang="sl-SI" sz="2800" spc="-1" strike="noStrike">
                <a:solidFill>
                  <a:srgbClr val="000000"/>
                </a:solidFill>
                <a:latin typeface="Verdana"/>
              </a:rPr>
              <a:t>Relationships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prozoru, na redu je uspostavljanje vez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Za uspostavljanje veza između tabela potrebno je odabrati u jednoj tabeli polje koje će služiti kao povezujuće i prevući ga na odgovarajuće polje u tabeli sa kojom je potrebno uspostaviti vez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7D2-7BE2-4B3E-8803-AFDB4AB3191A}" type="slidenum">
              <a:t>81</a:t>
            </a:fld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Povezivanje tabela u Access-u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mer: potrebno je uspostaviti vezu 1:n izme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đ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tabela Katalog i StavkaKatalog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liknuti na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polje SifraPoslP u tabeli Katalog. Držeći pritisnut taster pomerit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ursor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u prozor tabele StavkaKatalog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revući ikonu za biranje polja na SifraPoslP u tabeli StavkaKataloga što će prouzrokovati otvaranje dijalo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Verdana"/>
              </a:rPr>
              <a:t>Edit Relationship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Iz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b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opci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Verdana"/>
              </a:rPr>
              <a:t>Create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što ć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uspostavit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novu vezu. Zatim će Access sam zatvoriti dijalog i povući liniju između tabela Katalog i StavkaKataloga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1EE-C2F9-48C2-8CC0-A6B463241E17}" type="slidenum">
              <a:t>82</a:t>
            </a:fld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91344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Izgled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dijaloga Edit Relationship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187280" y="1468440"/>
            <a:ext cx="6480360" cy="45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132-2ABC-4A6B-8EB3-F60545BE9451}" type="slidenum">
              <a:t>83</a:t>
            </a:fld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92000" y="622080"/>
            <a:ext cx="69850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ovezivanje tabela u Access-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07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jalog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Verdana"/>
              </a:rPr>
              <a:t>Edit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pokazuje koja je tabela primarna u vezi, da li je obezbeđen referencijalni integritet, vrstu vez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udi više opcija z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kaciju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vezu izm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đ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 selektovanih tabel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Selektovanjem opcije </a:t>
            </a:r>
            <a:r>
              <a:rPr b="1" lang="pt-PT" sz="1900" spc="-1" strike="noStrike">
                <a:solidFill>
                  <a:srgbClr val="000000"/>
                </a:solidFill>
                <a:latin typeface="Verdana"/>
              </a:rPr>
              <a:t>Enforce Referential Integrity</a:t>
            </a: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 zahteva se po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vanje pravila referencijalnog integrite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lektovanje </a:t>
            </a: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opcije </a:t>
            </a:r>
            <a:r>
              <a:rPr b="1" lang="pt-PT" sz="1900" spc="-1" strike="noStrike">
                <a:solidFill>
                  <a:srgbClr val="000000"/>
                </a:solidFill>
                <a:latin typeface="Verdana"/>
              </a:rPr>
              <a:t>Cascade Update Related Fields</a:t>
            </a: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 (lančano ažuriranje povezanih polja) govori Access-u da je dozvoljena promena sadržaja povezujućeg polj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Selektovanjem opcije </a:t>
            </a:r>
            <a:r>
              <a:rPr b="1" lang="pt-PT" sz="1900" spc="-1" strike="noStrike">
                <a:solidFill>
                  <a:srgbClr val="000000"/>
                </a:solidFill>
                <a:latin typeface="Verdana"/>
              </a:rPr>
              <a:t>Cascade Delete Related Records </a:t>
            </a: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zahteva se od Access-a da pri brisanju jednog sloga primarne tabele izbri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pt-PT" sz="1900" spc="-1" strike="noStrike">
                <a:solidFill>
                  <a:srgbClr val="000000"/>
                </a:solidFill>
                <a:latin typeface="Verdana"/>
              </a:rPr>
              <a:t>e sve sa njim povezane slogove sekundarne tabel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3B9-D37A-42A5-9E30-3E49F3EAA377}" type="slidenum">
              <a:t>84</a:t>
            </a:fld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ijalog Join Proper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Dugme </a:t>
            </a:r>
            <a:r>
              <a:rPr b="1" lang="pt-PT" sz="2200" spc="-1" strike="noStrike">
                <a:solidFill>
                  <a:srgbClr val="000000"/>
                </a:solidFill>
                <a:latin typeface="Verdana"/>
              </a:rPr>
              <a:t>Join Type 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dijaloga</a:t>
            </a:r>
            <a:r>
              <a:rPr b="1" lang="pt-PT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Edit Relationships</a:t>
            </a:r>
            <a:r>
              <a:rPr b="1" lang="pt-PT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određuje način na koji će biti napravljen upit zasnovan na ovoj relacij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jegovim aktiviranjem prikazuje se dijalog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oin Proper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524400" y="3816360"/>
            <a:ext cx="425448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438-8875-4F0E-8D68-CDF63DE1872C}" type="slidenum">
              <a:t>85</a:t>
            </a:fld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Veze između tabe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26920" y="3716280"/>
          <a:ext cx="3600720" cy="2446560"/>
        </p:xfrm>
        <a:graphic>
          <a:graphicData uri="http://schemas.openxmlformats.org/drawingml/2006/table">
            <a:tbl>
              <a:tblPr/>
              <a:tblGrid>
                <a:gridCol w="1008360"/>
                <a:gridCol w="647640"/>
                <a:gridCol w="865080"/>
                <a:gridCol w="1079640"/>
              </a:tblGrid>
              <a:tr h="289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vka Narudžben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j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lič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fra</a:t>
                      </a: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ik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 flipH="1">
            <a:off x="250920" y="2349360"/>
            <a:ext cx="720720" cy="2664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66200 h 2664000"/>
              <a:gd name="textAreaBottom" fmla="*/ 193140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716360" y="1844640"/>
          <a:ext cx="3672000" cy="2336760"/>
        </p:xfrm>
        <a:graphic>
          <a:graphicData uri="http://schemas.openxmlformats.org/drawingml/2006/table">
            <a:tbl>
              <a:tblPr/>
              <a:tblGrid>
                <a:gridCol w="1079640"/>
                <a:gridCol w="720720"/>
                <a:gridCol w="934920"/>
                <a:gridCol w="936720"/>
              </a:tblGrid>
              <a:tr h="303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ik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fraArt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z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erdž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ubna pa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va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kovanje 10 kom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rnfl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leb Sa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 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1042920" y="1844640"/>
          <a:ext cx="3097440" cy="1274760"/>
        </p:xfrm>
        <a:graphic>
          <a:graphicData uri="http://schemas.openxmlformats.org/drawingml/2006/table">
            <a:tbl>
              <a:tblPr/>
              <a:tblGrid>
                <a:gridCol w="865080"/>
                <a:gridCol w="1151280"/>
                <a:gridCol w="1081080"/>
              </a:tblGrid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rud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j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um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fraPos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04.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4.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04.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 rot="2074200">
            <a:off x="4787640" y="4365720"/>
            <a:ext cx="936360" cy="1915920"/>
          </a:xfrm>
          <a:custGeom>
            <a:avLst/>
            <a:gdLst>
              <a:gd name="textAreaLeft" fmla="*/ 125280 w 936360"/>
              <a:gd name="textAreaRight" fmla="*/ 811080 w 936360"/>
              <a:gd name="textAreaTop" fmla="*/ 335160 h 1915920"/>
              <a:gd name="textAreaBottom" fmla="*/ 138924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F7A-54E7-455B-B922-ED8C03924D67}" type="slidenum">
              <a:t>86</a:t>
            </a:fld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aliza tabe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02920" y="1904760"/>
            <a:ext cx="7280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latka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Table Analyzer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alizira tabelu i kontroliše da li je ona u potpunosti normalizovan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aje predloge za razdvajanje podataka u međusobno povezane tabe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ogu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ćuje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defini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e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rimarn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i sekundarn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ključe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ogu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ćuje proveru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da li postoje pogrešno popunjeni slični podac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uz pomoć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atk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utomatski raspoređuje ulazne podatke u više tabela i predlaže ispravke sadržaja podata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387-3B8A-4F40-AC78-2596B4C08BD7}" type="slidenum">
              <a:t>87</a:t>
            </a:fld>
          </a:p>
        </p:txBody>
      </p:sp>
    </p:spTree>
  </p:cSld>
  <p:transition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919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piti nad bazom podata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Upiti nad bazom podataka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ovom delu upoznaće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rste upita, mogućnosti upit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BE (Query By Example) prozo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ratore, funkcije, izraz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639-3B7B-44EF-A14F-E3F49C6AA878}" type="slidenum">
              <a:t>89</a:t>
            </a:fld>
          </a:p>
        </p:txBody>
      </p:sp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 r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dno okružen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postavljanje 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relacija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veza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) između pojedinih tabel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u Acess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moguć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tvariti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grafičkim putem u okviru prozora 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Relationshi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8000" y="3141720"/>
            <a:ext cx="5545440" cy="337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4CA-A946-4A51-8C1D-D18CC52DA507}" type="slidenum">
              <a:t>9</a:t>
            </a:fld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Upiti nad bazom podataka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80647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Za pronalaženje odgovarajućih podatak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 bazi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mogu se koristiti tabele, ali je to često veoma zamoran posao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esto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tog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riste se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upiti pomoću kojih se željen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dac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mogu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na</a:t>
            </a:r>
            <a:r>
              <a:rPr b="0" lang="pt-PT" sz="2200" spc="-1" strike="noStrike">
                <a:solidFill>
                  <a:srgbClr val="000000"/>
                </a:solidFill>
                <a:latin typeface="Verdana"/>
              </a:rPr>
              <a:t>ć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adava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njem odgovarajućih uslo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Rezultat upita mogu biti podaci iz jedne ili više tabel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Da bi s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avil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složeni 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it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z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cizniju selekciju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podatak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neophodno je dobro poznavanje operatora 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a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njihov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korišćenj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Access nudi relacione, logičke, matematičke, znakovne i ostale operato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kao i korišćenje funkcija.</a:t>
            </a:r>
            <a:r>
              <a:rPr b="0" lang="sl-SI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C09-4CA0-460D-906F-F6D0F7410755}" type="slidenum">
              <a:t>90</a:t>
            </a:fld>
          </a:p>
        </p:txBody>
      </p:sp>
    </p:spTree>
  </p:cSld>
  <p:transition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rste upi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t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F3C-E61C-4530-BB53-406010CB3179}" type="slidenum">
              <a:t>91</a:t>
            </a:fld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it Sele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16000" y="1904760"/>
            <a:ext cx="770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ajčešća vrsta upi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stavlja upit za izdvajanje podatak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risti se za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pronala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je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i izdvaj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poda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iz jedne ili više tabela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jihovo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rikaz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vanje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i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dinamičk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sku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čiji se sadržaj može pregledati, analizirati i ažurirat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430-0A31-47DC-AE40-CD6FE01C85B6}" type="slidenum">
              <a:t>92</a:t>
            </a:fld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it Tot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711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stavlja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oseb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verzi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upita za izdvajanje podatak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zbirni up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Zbirni upiti omoguć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ju izračunavanje suma ili  zbirnih vrednosti u upitima za izdvajanje podatak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o zadavanju ove vrste upita Access dodaje red Total u okno QBE (</a:t>
            </a:r>
            <a:r>
              <a:rPr b="1" lang="sl-SI" sz="2800" spc="-1" strike="noStrike">
                <a:solidFill>
                  <a:srgbClr val="000000"/>
                </a:solidFill>
                <a:latin typeface="Verdana"/>
              </a:rPr>
              <a:t>Query By Example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ED4-C6D6-419A-835E-B40054B48213}" type="slidenum">
              <a:t>93</a:t>
            </a:fld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it A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2920" y="1904760"/>
            <a:ext cx="7640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aj tip upita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moguć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pravljenje nove tabele (</a:t>
            </a:r>
            <a:r>
              <a:rPr b="1" lang="sl-SI" sz="2400" spc="-1" strike="noStrike">
                <a:solidFill>
                  <a:srgbClr val="000000"/>
                </a:solidFill>
                <a:latin typeface="Verdana"/>
              </a:rPr>
              <a:t>Make Tables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ažuriranje podataka u postojećim tabela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Za razliku 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upita kod koga se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izmene mogu praviti samo u jednom po jednom zapis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akcioni upiti omoguć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ju ažuriranje više zapisa u istoj operacij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160-5756-41F2-B9B4-95C457F728DA}" type="slidenum">
              <a:t>94</a:t>
            </a:fld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it Crossta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rikazuju zbirne podatke u tabelarnom oblik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isani prikaz je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opu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og koji daje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rogram za tabelarne proračune, s tim što su zaglavlja redova i kolona zasnovana na poljima iz tabele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ojedinačne ćelije u rezultirajućem dinamičkom skupu su tabelar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F99-95B9-4E28-885C-9ECBCA0FFDEF}" type="slidenum">
              <a:t>95</a:t>
            </a:fld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Mogu</a:t>
            </a:r>
            <a:r>
              <a:rPr b="1" lang="sr-Latn-CS" sz="33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nosti upita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Uz pomoć upita možemo izdvajati podatke iz jedne ili više tabela ukoliko ih povezuju kolone sa istim podacim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Kada se koristi više tabela istovremeno, Access prikazuje podatke iz njih u jednom kombinovanom tabelarnom prikaz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 kreiranju upita o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moguć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o 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biranje polj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moguće je zad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polja koja su potrebna za skup rezultata upit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biranje zapis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j.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koji će zapisi biti izdvojeni u skup rezultata.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Rezultati upita mogu se prikazati sortira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po određenom redosledu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E10-3DBC-4C13-95F5-B7974B1B52FA}" type="slidenum">
              <a:t>96</a:t>
            </a:fld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Mogu</a:t>
            </a:r>
            <a:r>
              <a:rPr b="1" lang="sr-Latn-CS" sz="33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nosti upita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Ponekad je potrebno da se u bazi podataka kreira nova tabela koja će sadržati podatke koji se dobijaju kao rezultat upita. Ova vrsta upita pravi novu tabelu na osnovu podataka iz dinamičkog skup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Dinamički skup, nastao kao rezultat upita može da ima upravo ona polja ili podatke koji su potrebni na izveštaju ili na obrascu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Kada se izveštaj ili obrazac zasniva na upitu, svaki put kada se odštampa izveštaj ili otvori obrazac, upit će izdvojiti najsvežije podatke iz tabel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623-A62C-4299-98C1-A0CACECDC328}" type="slidenum">
              <a:t>97</a:t>
            </a:fld>
          </a:p>
        </p:txBody>
      </p:sp>
    </p:spTree>
  </p:cSld>
  <p:transition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gu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osti upit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Upite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</a:t>
            </a: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 koristiti za pravljenje dijagrama, tj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 na osnovu podataka dobijenih upitom može se napraviti dijagram, koji će se kasnije koristiti na obrascu ili izveštaju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Mogu se praviti i upiti koji se zasnivaju na skupu zapisa izdvojeni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pl-PL" sz="2700" spc="-1" strike="noStrike">
                <a:solidFill>
                  <a:srgbClr val="000000"/>
                </a:solidFill>
                <a:latin typeface="Verdana"/>
              </a:rPr>
              <a:t> prethodim upitom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eoma korisno za ad hoc upite, u kojima može biti potrebno ponavljanj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prethodnog</a:t>
            </a:r>
            <a:r>
              <a:rPr b="0" lang="pl-PL" sz="2300" spc="-1" strike="noStrike">
                <a:solidFill>
                  <a:srgbClr val="000000"/>
                </a:solidFill>
                <a:latin typeface="Verdana"/>
              </a:rPr>
              <a:t> upita sa malo izmenjenim uslovima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81A-02B9-4E5A-B203-8895AB7977FB}" type="slidenum">
              <a:t>98</a:t>
            </a:fld>
          </a:p>
        </p:txBody>
      </p:sp>
    </p:spTree>
  </p:cSld>
  <p:transition>
    <p:fad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gu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osti upit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Sekundarni upit (podupit) može da se koristi za izmenu uslova, dok primarni upit i njegovi podaci ostaju nepromenjen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Access-ovi upiti mogu da izdvajaju podatke iz široke lepeze izv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ogu se postavljat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iti nad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podacima koji se nalaze u 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dBas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 Paradox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 Btrieve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 Microsoft SQL Server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bazama podatak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DF9-C6A7-4623-B03B-87FBB58394B1}" type="slidenum">
              <a:t>9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0:00:04Z</dcterms:created>
  <dc:creator>Milan Dimitrijevic</dc:creator>
  <dc:description/>
  <dc:language>en-US</dc:language>
  <cp:lastModifiedBy>Milovan Ognjanovic</cp:lastModifiedBy>
  <dcterms:modified xsi:type="dcterms:W3CDTF">2006-09-20T12:41:02Z</dcterms:modified>
  <cp:revision>160</cp:revision>
  <dc:subject/>
  <dc:title>Upoznajte se sa ACCESSOM</dc:title>
</cp:coreProperties>
</file>