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463-05D5-40C6-A5AC-8083AA07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E64-E4AC-479E-9EF2-5B9C681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F50-3766-4F9A-8B9D-874170AF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192-24DD-4DF7-94CB-C57F319A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F3D-D695-4A34-A8E8-1169CCF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FE2-A29D-4579-B2B4-9CC7F59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059-DEF3-4EF7-A2EA-926F27D7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F17-EB1A-4D2D-912B-4A12C28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C11-D9B5-4E42-AD56-EEA59FC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C48-BAC0-4B67-AEEC-ED9B4C5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181-92B8-433F-BD64-CA159C99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11D-32FF-4550-B7DA-401BDAE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1A2C-E415-40E4-B22B-730E92C31C9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184-5DFE-4C5D-A095-A0DD22B7C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2BD4CF0-7D27-4F61-9E80-3DA97E0B11A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ARHITEKTUR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H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519120"/>
            <a:ext cx="9109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 Sli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rikazan 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sobni odnos ovih komponenti. Programer opisu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za svoju aplikaciju koris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se bilo samostalnim ODL jezikom, ili pr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enim programskim jezikom (PLOD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ko preproces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pisa, opis ba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metapodaci)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er p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plikaciju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skom jezi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oznaka PL zamenj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++, Smalltalk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ava jezik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500280" y="1763640"/>
          <a:ext cx="5499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1763640"/>
                    <a:ext cx="5499360" cy="504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48EA8A-04FC-4B03-90A7-47AD436638C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ARHITEKTUR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H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0" y="34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s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taj izvorni kod i rezultate preprocesiranja opisa baze, PL prevodilac gene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binarni kod. Dobijeni binarni kod se povezuje sa "runtime" rutinama objektnog SUBP-a, proizvo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 kod koji komunicira s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B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se koristi (deli) sa ostalim aplikacijama u siste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071800" y="2220840"/>
          <a:ext cx="5002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2220840"/>
                    <a:ext cx="5002200" cy="459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D0728A-8C5D-4A0C-AF45-4A101757D5B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57200"/>
            <a:ext cx="912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lo koji sistem s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osmatrati ka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kup medusobno povezanih objekat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 objektima u nekom sistemu se podrazumevaju fiz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i objekti, koncepti, apstrakcije, bil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 ima jasne granice i jasno 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e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 se jasno razlikuje od drugih objekata u siste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ni model polazi od ovakve definicije sistema. U objektnom modelu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se sle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koncep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at i literal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u osnovni primitivni koncepti objektnog modela. Pod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to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e podrazumeva entitet koji je sposoban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 svoj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tanj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koji stavlja okolini na raspolaganje skup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peracij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eko kojih se ta sta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kazuju ili menja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CA0B93D-11D6-4161-92DC-446C1263BE6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57200"/>
            <a:ext cx="9128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Litera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je u osnovi vrednost, podatak koji se koristi u model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iterali mogu bit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st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l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n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l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olekci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Brojev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arakter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u primeri "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tomskih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" literala,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datu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je primer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og (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truktuirano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) literala, 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ku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je prime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olekcij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jam literala je ekvivalentan pojmu nepromenljivog (immutable) objekta koji se koristi u nekim ranijim objektnim modelima i programskim jezicima. (Razlika iz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e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objekta i literala s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ilustrovati definicijama u tim modelima i jezici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"Objekti neke klase su bilo vrednosti datog tipa (immutable objects) ili promenljive koje mogu uzimati vrednosti datog tipa (muttable object)"). Posebno je potrebno naglasiti sledecu razliku objekta i literala: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at ima jedinstveni identifikator,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literal n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71E007-4325-48CF-AE6E-F0DDFD0F604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40" y="380880"/>
            <a:ext cx="912816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i i literali se kategorizuju u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ipov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vi objekti, odnosno literali istog tipa imaju jedinstveni skup stanja (odnosno isti skup osobina) i jedinstveno po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nje (odnosno isti skup operacij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nkretan objekat se ponekad naziv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jav/jivanje (instanca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tog tipa. Pojavljivanja literala se ne kreiraju eksplicitno u aplikacijama, 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e pretpostavlja da implicitno post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tanje objekt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predstavlja vrednostima njegovih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obina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 osobinama objekta se podrazumevaju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ibu ti objekt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njegov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vez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drugim objektima u sistemu. Osobine objekta se menjaju u vre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n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nje objekt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opisuje preko skup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peracij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e on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 ili se nad njim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ju. Svaka operacija ima kao implicitni argument objekat kame je pridr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a. Pored toga, operacija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ima listu ulaznih i izlaznih parametara definisanih tipova, a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i da vrati tipizovan rezult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3A053D-80FC-4838-AAAD-8F6D33AAD05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I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40" y="457200"/>
            <a:ext cx="912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Baza podatak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 objekte i stavlja ih n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e 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m broju korisnika, odnosno aplikac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aza podataka se opisuje preko svo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me koja se specifikuje preko ODL-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mi se def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tipovi objekat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ja se pojavljiva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u baz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143093F-E25D-43E5-BF66-BDDA6E7D0F9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Primer OBJEKTNOG MODELA-ilust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17520" y="457200"/>
          <a:ext cx="6437520" cy="61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57200"/>
                    <a:ext cx="643752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FCE639-FC01-4F47-A313-47EF2D1A860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Primer OBJEKTNOG MODELA-ilust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4920" y="622440"/>
          <a:ext cx="9109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22440"/>
                    <a:ext cx="9109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D58D1C-4EEF-4094-B0C6-E647C6E1BBF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O ORIJENTISANI MODELI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40" y="372960"/>
            <a:ext cx="91281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kom osamdesetih godina je d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 do primene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a u jednom broju novih oblasti. U te nove oblasti primene spadaj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a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narom podr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ža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 projektovanje u masinstvu, elektrotehnici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rhitekturi, grade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-narstvu i informati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ultimedijalni sistemi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b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ze zna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ve ove nove oblasti primene z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htevaju manipulisanje velikim ko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ama podataka i mogle bi imati koristi od primene SUB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tim, priroda podataka u tim primenama se 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 uklapa u relacio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kvire. Na primer. sistemi z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narom po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no projektovanje treba da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izgradnju modela kompleksnih objekata i o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vanje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h verzija istog objek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1A364D1-30AD-4AA0-9A4D-90F915282C6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O ORIJENTISANI MODELI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372960"/>
            <a:ext cx="912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ultimedijalni sistemi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tekstove varijabilne d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grafiku, sli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audio i video podatke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 rezultuje u zah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v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za efikasnim memorisanjem i manipulisanjem nizovima velike i promenljive d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o, sistemi zasnovani na znanju zahtevaju seman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 bogate podatke i kompleksne oper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ve ove nove oblasti primene stavljaju akcenat na jos dva zaht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FECB6A-F3FB-4326-957C-48B8F649665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00" y="393840"/>
            <a:ext cx="910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slednja decenija u sottverskom inzenjerstvu je decenija "objektne" orjent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bjektna orjentaci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je pristup u 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 se neki sistem organizuje kao kolekcija medusobno povezanih objekata koji sa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ostvaruju postavljene ciljeve. Objektna orjentacija je danas preovl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u programiranju i programskim jezicima, metod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m pristupima razvoju s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vera i informacionih sistema, a postepeno preuzima prim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i u sistemima za upravljanje bazom podataka, bilo preko “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stih" objektnih SUBP, bilo preko objektno-relacionih SUBP koji predstavljaju prosirenje relacionih sa objektnim koncept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na od najbitnijih karakteristika SUBP-a je skup tipova podataka koje on podrzava. Konvencionalni SUBP (hijerarhijski. mrezni i relacioni) su zasnovani na tipu rekorda koji predstavlja agregaciju polja (atributa u relacionom modelu) koja su definisana nad standardnim tipov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B505FCA-2AAA-4B76-AF33-FF411657DAF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O ORIJENTISANI MODELI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40" y="372960"/>
            <a:ext cx="912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 su: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duktivnost pr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amera 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erformans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rade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Opisani zahtevi su doveli i do razvoja novog modela podatak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j novi model podataka se naziva objektno-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rijentisanim.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zvij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e na idejama objektno-orijentisanih programskih jezika i seman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h modela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Ceo pristup se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sto, naziva objektno-orijentisanom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aradigm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ermin paradigma se odnosi na od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i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 m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je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da je r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ob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ktno -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riientisanoj paradigmi, r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softverskom predstavljanju realnih entiteta putem parova (struktura poda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aka, ponaš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)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 parovi preds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vliaiu nedel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vu celinu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a naziva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 se ob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ktim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2634D5D-B04B-4D48-B209-61E55B94440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BJEKTNO ORIJENTISANI MODELI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40" y="372960"/>
            <a:ext cx="912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naš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se odnosi na programsku realizaciju postupka, putem kojih objekti menjaju stanje ili samo daju informacije o svom stan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t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objekta je definisano strukturom podataka, putem koje je realni entitet predstavlj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4E4F153-29C7-420E-8E89-D512C3FE822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00" y="393840"/>
            <a:ext cx="910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 relacionom modelu se jos definise i tabela kao skup rekorda, u mreznom se uvodi pojam "rekord seta", a u hijerarhijskom pojam "stabla" rekor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bjektni SUBP su postavili sebi cilj da stvore mnogo bogatiji skup tipova i time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prirodniju manipulaciju podacima u aplikacijama koji se razvijaju nad baz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Cilj razvoja objektnih SUBP je takode da preuzmu i ostale bitne karakteristike objektno-orjentisanih programskih jezika i objektno-orjentisanog razvo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uren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dvajanje implementacije softvera od njegov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ecifikacije, odnosno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odularizaciju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rupisanje pojedinih delova softvera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herentne i relativno izolovane celi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komponente); jednostavno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novno 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or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nj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reusability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 ranije razvijenog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oftv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96B875D-369A-4FE8-BD00-7768E65F333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000" y="393840"/>
            <a:ext cx="91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konvencionalnim SUBP, tronivoska ANSI/SPARC arhitektura imala je za cilj da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da se baza podataka tretira kao samostalna komponenta nekog informacionog sistema, u naj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j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j meri nezavisna od aplikacija koje je koriste. Zbog toga je Jezik baze podataka (DOL i DML) u ovim SUBP potpuno odvojen (nezavisan) od programskih jezika u kojima se razvijaju aplikacije,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na taj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da se nad jednom bazom podataka razvijaju i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ju aplikacije napisane i u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m programskim jezic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a se z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og toga nezavisnost jezika baze podataka od programskih jezika, bez obzira na probleme koji su proisticali iz njihove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nesaglasnosti, tretirala kao prednost, a ne kao nedostatak ovih SUBP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DEC792-D924-429D-9ADC-FEA22F03B0D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000" y="393840"/>
            <a:ext cx="91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suprot tome, objektni SUBP 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a integrisu funkcije SUBP-a u programski jezik, da bi se nesaglasnost jezika baze podataka i programskih jezika eliminisale i 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no poboljsale performanse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se tome da se u potpunosti izjed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objekti baze podataka i objekti aplikacija koji se specifikuju u neko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objektnom progrsmkom jrzi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E9B1083-E567-4A19-9829-ABE6D6479E3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7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000" y="463680"/>
            <a:ext cx="910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dina razlika izmedu objekata baze i objekata aplikacija treba da bude njihov "zivotni vek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i u aplikacijama su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anzijentni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ivotni vek im je jednak trajanju aplikacije, dok su objekti u bazi podatak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erzistentni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ezavisni od postojanja aplikacija koje 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 tome, integracija SUBP 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skih jezika 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 da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a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riste ist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s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ta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raspol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nogo bogatij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kupo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pova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ni SUBP treb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a po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natn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j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pitni jezik od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cionog (S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-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84320" y="2440080"/>
            <a:ext cx="4324320" cy="38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4567608-93C7-47EB-82F1-CE7CA7B03DD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-7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E B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0" y="46368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nov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k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rakteristika objektnih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UBP-a 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gracija objektno-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rjentisanih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zika 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unkcija SUBP-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, 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ju da s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i baz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aka pojavljuju kao objekt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a, tzv. "perzistentni objekti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851120" y="2016000"/>
            <a:ext cx="544032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3C9C429-227E-46D7-B997-917F2CEFB2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ARHITEKTUR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H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0" y="888840"/>
            <a:ext cx="91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snovni elementi arhitekture objektnih baza 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tni model.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bjektni model na kame treba da bude zasnovan svaki objektni SUBP (ODMG model) izveden je iz OMG (Object Management Group) modela. OMG je objektni model definisan kao zajed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 osnova za objektne programske jezike, komunikaciju objekata u nekoj klijent-server arhitekturi (Object Request Brockers(ORB), na primer CORBA) i objektne baze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tni specifikacioni jezic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ji sluze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istem kao skup medusobno povezanih objekata. Objektni specifikacioni jezik, ODL (Object Definition Language) ima ulogu JOP-a (DDL-a) u konvencionalnim SUB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E1AF7D-BC1B-439A-9D43-6D6FA776D9D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ARHITEKTUR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JEKTN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H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457200"/>
            <a:ext cx="91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bjektni upitni jezik,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eproceduralni jezik za postavljanje upita i modifikaciju baze podataka koji se naziva OQL (Object Query Language). Ovaj upitni jezik, namerno veoma s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g naziva SQL-u, ima znatno 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i koje proizilaze iz bogatije strukture objektnog mod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C++, Sma//talk ili Java jezicki povez (Language Binding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u posebne nezavisne komponente arhitekture koje pokazuju kako se u C++ (Smalltalk, Java) ug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ju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sti manipulacije sa perzistentnim objektima, mehanizmi za povezivanje sa OQL-om, upravljanje transakcijama i s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3A97ECA-AD55-4289-85B2-0B1D7FE5DB2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20T09:36:06Z</dcterms:modified>
  <cp:revision>343</cp:revision>
  <dc:subject/>
  <dc:title>PowerPoint Presentation</dc:title>
</cp:coreProperties>
</file>