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D1D1-5156-410D-8798-BAB74F21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966D-5E05-448B-879F-20440E2F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5984-A99D-4366-9949-14B860F9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9948-16D8-46DF-8491-B7C22C41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D4B8-C4BD-47B9-9A97-8CB58B54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2BFC-A3CA-49CA-BD05-813C0BC7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03C9-1B63-4C4E-85A3-CF4EF9D6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4C54-3EBE-4B7E-B7BE-D9ED87F3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1409-FAD5-4B5A-B0F3-0B576792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7C79-CA14-438C-9E7C-3F25FC42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47D4-62B5-4983-B359-7683C0E9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2CD-B274-495A-9625-D9BC4F82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A4FC-570D-421B-BEAA-4B468BD4384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9B44-F3FB-4AE6-8CF1-F9753DBE7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38600" y="5924520"/>
            <a:ext cx="33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OGR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11120" y="500040"/>
            <a:ext cx="38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UNIVERZITET U BEOGRA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TEHNIČKI FAKULTET U BO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8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Arial"/>
              </a:rPr>
              <a:t>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81280" y="3222720"/>
            <a:ext cx="37893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d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Zoran 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</a:rPr>
              <a:t>.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Anđelkovi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jaz@eunet.y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25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.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1520" y="665316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r Zoran R. Anđelkovi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4920" y="0"/>
          <a:ext cx="127620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0"/>
                    <a:ext cx="12762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0" y="6572160"/>
            <a:ext cx="9178920" cy="327240"/>
            <a:chOff x="0" y="6572160"/>
            <a:chExt cx="9178920" cy="327240"/>
          </a:xfrm>
        </p:grpSpPr>
        <p:sp>
          <p:nvSpPr>
            <p:cNvPr id="50" name=""/>
            <p:cNvSpPr/>
            <p:nvPr/>
          </p:nvSpPr>
          <p:spPr>
            <a:xfrm>
              <a:off x="34920" y="66531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036C558-F428-4E6A-9268-8645C6BC4EB0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920" y="66531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0" y="65721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721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163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CCCE547-BD5E-4ED6-A5BE-F1C4E4D045AE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5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Generalizacija i specijaliz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920" y="330120"/>
            <a:ext cx="910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U generalizacionoj hijerarhiji  objekata važi pravilo nasleđivanja osobina i pravilo nasleđivanja operacija: 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Podtipovi nasleđuju sve atribute i veze svoga nadtipa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Na primer tip Student je podtip ti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G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rađanin i pored svojih atributa BrojInd i Semest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on nasleđuje i atribute svog “nadtipa”, Mlb, I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Starost. Atributi tipa lekar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njegovi atributi i atributi svi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njegovih nadtipova 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generalizocionoj hijerarhiji, tj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Specijalnost, Plata, Mlb, 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i Starost. Podtipovi takođ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nasleđuju i operacije nadtipa ko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se u MOV veoma retko definiš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1440" y="1848240"/>
            <a:ext cx="9626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Građan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65800" y="1208160"/>
            <a:ext cx="930240" cy="384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M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31040" y="1185840"/>
            <a:ext cx="930240" cy="384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53360" y="1698480"/>
            <a:ext cx="930240" cy="3844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Star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70" idx="2"/>
            <a:endCxn id="169" idx="0"/>
          </p:cNvCxnSpPr>
          <p:nvPr/>
        </p:nvCxnSpPr>
        <p:spPr>
          <a:xfrm flipH="1">
            <a:off x="6422400" y="1591920"/>
            <a:ext cx="30852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71" idx="1"/>
            <a:endCxn id="169" idx="3"/>
          </p:cNvCxnSpPr>
          <p:nvPr/>
        </p:nvCxnSpPr>
        <p:spPr>
          <a:xfrm flipH="1">
            <a:off x="6908040" y="1379160"/>
            <a:ext cx="423000" cy="62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"/>
          <p:cNvCxnSpPr>
            <a:stCxn id="172" idx="1"/>
            <a:endCxn id="169" idx="3"/>
          </p:cNvCxnSpPr>
          <p:nvPr/>
        </p:nvCxnSpPr>
        <p:spPr>
          <a:xfrm flipH="1">
            <a:off x="6908040" y="1891800"/>
            <a:ext cx="445320" cy="11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6124680" y="2676600"/>
            <a:ext cx="598320" cy="61380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70720" y="2214720"/>
            <a:ext cx="7603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Narrow"/>
              </a:rPr>
              <a:t>Vrsta(0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69" idx="2"/>
            <a:endCxn id="176" idx="0"/>
          </p:cNvCxnSpPr>
          <p:nvPr/>
        </p:nvCxnSpPr>
        <p:spPr>
          <a:xfrm>
            <a:off x="6423120" y="2158560"/>
            <a:ext cx="2160" cy="56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4324680" y="3840480"/>
            <a:ext cx="8420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64440" y="3840480"/>
            <a:ext cx="7736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Rad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46080" y="3840480"/>
            <a:ext cx="5662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D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3160" y="3840480"/>
            <a:ext cx="10324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enzio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76" idx="2"/>
            <a:endCxn id="179" idx="0"/>
          </p:cNvCxnSpPr>
          <p:nvPr/>
        </p:nvCxnSpPr>
        <p:spPr>
          <a:xfrm rot="5400000">
            <a:off x="5289480" y="2702520"/>
            <a:ext cx="591120" cy="167868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6" idx="2"/>
            <a:endCxn id="180" idx="0"/>
          </p:cNvCxnSpPr>
          <p:nvPr/>
        </p:nvCxnSpPr>
        <p:spPr>
          <a:xfrm rot="5400000">
            <a:off x="5842080" y="3255120"/>
            <a:ext cx="591120" cy="57384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6" idx="2"/>
            <a:endCxn id="181" idx="0"/>
          </p:cNvCxnSpPr>
          <p:nvPr/>
        </p:nvCxnSpPr>
        <p:spPr>
          <a:xfrm flipH="1" rot="16200000">
            <a:off x="6230880" y="3439080"/>
            <a:ext cx="591120" cy="20556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6" idx="2"/>
            <a:endCxn id="182" idx="0"/>
          </p:cNvCxnSpPr>
          <p:nvPr/>
        </p:nvCxnSpPr>
        <p:spPr>
          <a:xfrm flipH="1" rot="16200000">
            <a:off x="6680880" y="2989080"/>
            <a:ext cx="591120" cy="110556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5195880" y="4668840"/>
            <a:ext cx="598320" cy="61380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4400" y="5801040"/>
            <a:ext cx="11120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Daktilogra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59840" y="5801040"/>
            <a:ext cx="6958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Voza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94600" y="5801040"/>
            <a:ext cx="6562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Lek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46960" y="4998960"/>
            <a:ext cx="598320" cy="6130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47000" y="6117120"/>
            <a:ext cx="66672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Stal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84720" y="6117120"/>
            <a:ext cx="110412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rivreme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1" idx="2"/>
            <a:endCxn id="192" idx="0"/>
          </p:cNvCxnSpPr>
          <p:nvPr/>
        </p:nvCxnSpPr>
        <p:spPr>
          <a:xfrm rot="5400000">
            <a:off x="7291440" y="5658840"/>
            <a:ext cx="543600" cy="36720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2"/>
            <a:endCxn id="193" idx="0"/>
          </p:cNvCxnSpPr>
          <p:nvPr/>
        </p:nvCxnSpPr>
        <p:spPr>
          <a:xfrm flipH="1" rot="16200000">
            <a:off x="7819920" y="5496480"/>
            <a:ext cx="543600" cy="69156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7" idx="2"/>
            <a:endCxn id="188" idx="0"/>
          </p:cNvCxnSpPr>
          <p:nvPr/>
        </p:nvCxnSpPr>
        <p:spPr>
          <a:xfrm rot="5400000">
            <a:off x="4193640" y="4495680"/>
            <a:ext cx="559080" cy="2045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7" idx="2"/>
            <a:endCxn id="189" idx="0"/>
          </p:cNvCxnSpPr>
          <p:nvPr/>
        </p:nvCxnSpPr>
        <p:spPr>
          <a:xfrm rot="5400000">
            <a:off x="4972320" y="5274360"/>
            <a:ext cx="559080" cy="487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87" idx="2"/>
            <a:endCxn id="190" idx="0"/>
          </p:cNvCxnSpPr>
          <p:nvPr/>
        </p:nvCxnSpPr>
        <p:spPr>
          <a:xfrm flipH="1" rot="16200000">
            <a:off x="5779080" y="4954320"/>
            <a:ext cx="559080" cy="1127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4772160" y="4173480"/>
            <a:ext cx="11239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Narrow"/>
              </a:rPr>
              <a:t>Zanimanje(0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1520" y="4389480"/>
            <a:ext cx="13543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Narrow"/>
              </a:rPr>
              <a:t>RadniOdnos(0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80" idx="2"/>
            <a:endCxn id="187" idx="0"/>
          </p:cNvCxnSpPr>
          <p:nvPr/>
        </p:nvCxnSpPr>
        <p:spPr>
          <a:xfrm rot="5400000">
            <a:off x="5392800" y="4253400"/>
            <a:ext cx="561240" cy="35640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80" idx="2"/>
            <a:endCxn id="191" idx="0"/>
          </p:cNvCxnSpPr>
          <p:nvPr/>
        </p:nvCxnSpPr>
        <p:spPr>
          <a:xfrm flipH="1" rot="16200000">
            <a:off x="6353640" y="3647880"/>
            <a:ext cx="889920" cy="1896120"/>
          </a:xfrm>
          <a:prstGeom prst="bentConnector3">
            <a:avLst>
              <a:gd name="adj1" fmla="val 4997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4348080" y="2428920"/>
            <a:ext cx="930240" cy="384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Broj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16280" y="3006720"/>
            <a:ext cx="930600" cy="384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Seme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3" idx="1"/>
            <a:endCxn id="179" idx="1"/>
          </p:cNvCxnSpPr>
          <p:nvPr/>
        </p:nvCxnSpPr>
        <p:spPr>
          <a:xfrm flipV="1" rot="10800000">
            <a:off x="4318920" y="2622240"/>
            <a:ext cx="29160" cy="1372320"/>
          </a:xfrm>
          <a:prstGeom prst="bentConnector3">
            <a:avLst>
              <a:gd name="adj1" fmla="val 9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204" idx="1"/>
            <a:endCxn id="179" idx="1"/>
          </p:cNvCxnSpPr>
          <p:nvPr/>
        </p:nvCxnSpPr>
        <p:spPr>
          <a:xfrm flipV="1" rot="10800000">
            <a:off x="4318920" y="3199320"/>
            <a:ext cx="297360" cy="794520"/>
          </a:xfrm>
          <a:prstGeom prst="bentConnector3">
            <a:avLst>
              <a:gd name="adj1" fmla="val 1769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4151160" y="4670280"/>
            <a:ext cx="930600" cy="3844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Pl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180" idx="1"/>
            <a:endCxn id="207" idx="3"/>
          </p:cNvCxnSpPr>
          <p:nvPr/>
        </p:nvCxnSpPr>
        <p:spPr>
          <a:xfrm flipH="1">
            <a:off x="5081040" y="3994200"/>
            <a:ext cx="378360" cy="870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8062920" y="4127400"/>
            <a:ext cx="930240" cy="3859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Dodat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58080" y="2619360"/>
            <a:ext cx="930240" cy="384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Penzi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10" idx="2"/>
            <a:endCxn id="182" idx="3"/>
          </p:cNvCxnSpPr>
          <p:nvPr/>
        </p:nvCxnSpPr>
        <p:spPr>
          <a:xfrm flipH="1">
            <a:off x="8050320" y="3003480"/>
            <a:ext cx="2732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" name=""/>
          <p:cNvCxnSpPr>
            <a:stCxn id="213" idx="2"/>
            <a:endCxn id="193" idx="3"/>
          </p:cNvCxnSpPr>
          <p:nvPr/>
        </p:nvCxnSpPr>
        <p:spPr>
          <a:xfrm>
            <a:off x="8528040" y="5283360"/>
            <a:ext cx="465840" cy="98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3" name=""/>
          <p:cNvSpPr/>
          <p:nvPr/>
        </p:nvSpPr>
        <p:spPr>
          <a:xfrm>
            <a:off x="8062920" y="4898880"/>
            <a:ext cx="930240" cy="3844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Sat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56240" y="4886280"/>
            <a:ext cx="1087560" cy="442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RadnoMe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4" idx="2"/>
            <a:endCxn id="192" idx="1"/>
          </p:cNvCxnSpPr>
          <p:nvPr/>
        </p:nvCxnSpPr>
        <p:spPr>
          <a:xfrm>
            <a:off x="7000560" y="5328720"/>
            <a:ext cx="41760" cy="942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6" name=""/>
          <p:cNvSpPr/>
          <p:nvPr/>
        </p:nvSpPr>
        <p:spPr>
          <a:xfrm>
            <a:off x="5335560" y="6381720"/>
            <a:ext cx="1087560" cy="384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Specijal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"/>
          <p:cNvCxnSpPr>
            <a:stCxn id="190" idx="2"/>
            <a:endCxn id="216" idx="3"/>
          </p:cNvCxnSpPr>
          <p:nvPr/>
        </p:nvCxnSpPr>
        <p:spPr>
          <a:xfrm flipH="1">
            <a:off x="6422400" y="6111720"/>
            <a:ext cx="200520" cy="462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8" name=""/>
          <p:cNvSpPr/>
          <p:nvPr/>
        </p:nvSpPr>
        <p:spPr>
          <a:xfrm>
            <a:off x="3335400" y="6273720"/>
            <a:ext cx="1087200" cy="384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KlasaVozač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189" idx="2"/>
            <a:endCxn id="218" idx="3"/>
          </p:cNvCxnSpPr>
          <p:nvPr/>
        </p:nvCxnSpPr>
        <p:spPr>
          <a:xfrm flipH="1">
            <a:off x="4422240" y="6111720"/>
            <a:ext cx="586800" cy="35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188" idx="1"/>
            <a:endCxn id="221" idx="3"/>
          </p:cNvCxnSpPr>
          <p:nvPr/>
        </p:nvCxnSpPr>
        <p:spPr>
          <a:xfrm flipH="1" flipV="1">
            <a:off x="2166120" y="5569920"/>
            <a:ext cx="724680" cy="384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1079640" y="5378400"/>
            <a:ext cx="1087200" cy="384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KlasaDa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181" idx="2"/>
            <a:endCxn id="209" idx="1"/>
          </p:cNvCxnSpPr>
          <p:nvPr/>
        </p:nvCxnSpPr>
        <p:spPr>
          <a:xfrm flipH="1" rot="16200000">
            <a:off x="7261200" y="3519000"/>
            <a:ext cx="170640" cy="143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224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A56B679-18E6-4266-86BB-BE985C4176B5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6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5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Agregacija i dekompozi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920" y="395280"/>
            <a:ext cx="910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gregacij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je apstrakcija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ojoj se veza izmedju dva 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iše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tipova objekata tret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ao objekat na višem niv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pstrkacij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Zbog toga što istovrem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etstavlja i objekat i vez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gregacija se često naziva i mešoviti tip objekt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-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ez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bjekti koji čine agregaciju se nazivaju komponentama agregacij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ostupak inverzan aregaciji se naziva dekompozicij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ardinalnost preslikavanja KOMPONENTA</a:t>
            </a:r>
            <a:r>
              <a:rPr b="1" lang="sr-Latn-C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GREGACIJA mora biti specificiran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ok je za inverzno preslikavnaje uvek DG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= 1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 GG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= 1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što znači da je agregacija egzistencijalno zavisna od svojih komponenat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gregirani objekat se razlikuje od ostalih objekata u sistemu po tome što nema svoj sopstveni identifikator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eć ga identifikuju objekti koje on agregir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Agregacija je klasa 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Prijava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a njene komponente su Student i Predmet. Jednom pojavljivanju agregacije uvek odgovara po jedno pojavljivanje komponenti koje je čine. Jedan Student može da učestvuje u formiranju 0 ili M Prija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873600" y="452520"/>
            <a:ext cx="5164200" cy="2242800"/>
            <a:chOff x="3873600" y="452520"/>
            <a:chExt cx="5164200" cy="2242800"/>
          </a:xfrm>
        </p:grpSpPr>
        <p:sp>
          <p:nvSpPr>
            <p:cNvPr id="231" name=""/>
            <p:cNvSpPr/>
            <p:nvPr/>
          </p:nvSpPr>
          <p:spPr>
            <a:xfrm>
              <a:off x="4110480" y="1454760"/>
              <a:ext cx="842040" cy="307080"/>
            </a:xfrm>
            <a:prstGeom prst="flowChart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Stu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33880" y="471600"/>
              <a:ext cx="930240" cy="24948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Broj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02080" y="776520"/>
              <a:ext cx="930240" cy="24912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4" name=""/>
            <p:cNvCxnSpPr>
              <a:stCxn id="232" idx="1"/>
              <a:endCxn id="231" idx="1"/>
            </p:cNvCxnSpPr>
            <p:nvPr/>
          </p:nvCxnSpPr>
          <p:spPr>
            <a:xfrm flipV="1" rot="10800000">
              <a:off x="4104720" y="596160"/>
              <a:ext cx="29160" cy="1011960"/>
            </a:xfrm>
            <a:prstGeom prst="bentConnector3">
              <a:avLst>
                <a:gd name="adj1" fmla="val 9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5" name=""/>
            <p:cNvSpPr/>
            <p:nvPr/>
          </p:nvSpPr>
          <p:spPr>
            <a:xfrm>
              <a:off x="4125960" y="1086120"/>
              <a:ext cx="930240" cy="24912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S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6" name=""/>
            <p:cNvCxnSpPr>
              <a:stCxn id="233" idx="1"/>
              <a:endCxn id="231" idx="1"/>
            </p:cNvCxnSpPr>
            <p:nvPr/>
          </p:nvCxnSpPr>
          <p:spPr>
            <a:xfrm flipV="1" rot="10800000">
              <a:off x="4104720" y="900720"/>
              <a:ext cx="297360" cy="707400"/>
            </a:xfrm>
            <a:prstGeom prst="bentConnector3">
              <a:avLst>
                <a:gd name="adj1" fmla="val 17696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35" idx="1"/>
              <a:endCxn id="231" idx="1"/>
            </p:cNvCxnSpPr>
            <p:nvPr/>
          </p:nvCxnSpPr>
          <p:spPr>
            <a:xfrm flipV="1" rot="10800000">
              <a:off x="4104720" y="1210320"/>
              <a:ext cx="20880" cy="397800"/>
            </a:xfrm>
            <a:prstGeom prst="bentConnector3">
              <a:avLst>
                <a:gd name="adj1" fmla="val 122807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8" name=""/>
            <p:cNvSpPr/>
            <p:nvPr/>
          </p:nvSpPr>
          <p:spPr>
            <a:xfrm>
              <a:off x="5051520" y="1038600"/>
              <a:ext cx="5619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000000"/>
                  </a:solidFill>
                  <a:latin typeface="Arial Narrow"/>
                </a:rPr>
                <a:t>(0,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5796000" y="664920"/>
              <a:ext cx="1155600" cy="917280"/>
              <a:chOff x="5796000" y="664920"/>
              <a:chExt cx="1155600" cy="917280"/>
            </a:xfrm>
          </p:grpSpPr>
          <p:sp>
            <p:nvSpPr>
              <p:cNvPr id="240" name=""/>
              <p:cNvSpPr/>
              <p:nvPr/>
            </p:nvSpPr>
            <p:spPr>
              <a:xfrm>
                <a:off x="5796000" y="891000"/>
                <a:ext cx="1155600" cy="4665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799240" y="664920"/>
                <a:ext cx="1152360" cy="917280"/>
              </a:xfrm>
              <a:prstGeom prst="flowChartDecision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200" spc="-1" strike="noStrike">
                    <a:solidFill>
                      <a:srgbClr val="000000"/>
                    </a:solidFill>
                    <a:latin typeface="Arial"/>
                  </a:rPr>
                  <a:t>Prijav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2" name=""/>
            <p:cNvCxnSpPr>
              <a:stCxn id="231" idx="3"/>
              <a:endCxn id="241" idx="1"/>
            </p:cNvCxnSpPr>
            <p:nvPr/>
          </p:nvCxnSpPr>
          <p:spPr>
            <a:xfrm flipV="1">
              <a:off x="4957560" y="1123560"/>
              <a:ext cx="842040" cy="48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3" name=""/>
            <p:cNvSpPr/>
            <p:nvPr/>
          </p:nvSpPr>
          <p:spPr>
            <a:xfrm>
              <a:off x="5154480" y="452520"/>
              <a:ext cx="930240" cy="24948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DatumP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50000" y="471600"/>
              <a:ext cx="930240" cy="24948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Oce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58640" y="1372320"/>
              <a:ext cx="893880" cy="307080"/>
            </a:xfrm>
            <a:prstGeom prst="flowChart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Predm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21440" y="457560"/>
              <a:ext cx="930600" cy="24912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ŠifP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77320" y="784440"/>
              <a:ext cx="930240" cy="24912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azivP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5" idx="1"/>
              <a:endCxn id="241" idx="3"/>
            </p:cNvCxnSpPr>
            <p:nvPr/>
          </p:nvCxnSpPr>
          <p:spPr>
            <a:xfrm flipH="1" flipV="1">
              <a:off x="6951240" y="1123560"/>
              <a:ext cx="729360" cy="402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3" idx="3"/>
              <a:endCxn id="241" idx="0"/>
            </p:cNvCxnSpPr>
            <p:nvPr/>
          </p:nvCxnSpPr>
          <p:spPr>
            <a:xfrm>
              <a:off x="6084360" y="578160"/>
              <a:ext cx="291240" cy="311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0" name=""/>
            <p:cNvCxnSpPr>
              <a:stCxn id="244" idx="1"/>
              <a:endCxn id="241" idx="0"/>
            </p:cNvCxnSpPr>
            <p:nvPr/>
          </p:nvCxnSpPr>
          <p:spPr>
            <a:xfrm flipH="1">
              <a:off x="6374520" y="596880"/>
              <a:ext cx="375480" cy="292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1" name=""/>
            <p:cNvSpPr/>
            <p:nvPr/>
          </p:nvSpPr>
          <p:spPr>
            <a:xfrm>
              <a:off x="5689080" y="1578240"/>
              <a:ext cx="1371960" cy="61380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Ov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51" idx="0"/>
              <a:endCxn id="241" idx="2"/>
            </p:cNvCxnSpPr>
            <p:nvPr/>
          </p:nvCxnSpPr>
          <p:spPr>
            <a:xfrm flipV="1">
              <a:off x="6374880" y="1357200"/>
              <a:ext cx="1080" cy="26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3" name=""/>
            <p:cNvSpPr/>
            <p:nvPr/>
          </p:nvSpPr>
          <p:spPr>
            <a:xfrm>
              <a:off x="7149960" y="1020960"/>
              <a:ext cx="5619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000000"/>
                  </a:solidFill>
                  <a:latin typeface="Arial Narrow"/>
                </a:rPr>
                <a:t>(0,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89640" y="1386000"/>
              <a:ext cx="5619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000000"/>
                  </a:solidFill>
                  <a:latin typeface="Arial Narrow"/>
                </a:rPr>
                <a:t>(1,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51880" y="2388240"/>
              <a:ext cx="842040" cy="307080"/>
            </a:xfrm>
            <a:prstGeom prst="flowChart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Stu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  <a:endCxn id="251" idx="2"/>
            </p:cNvCxnSpPr>
            <p:nvPr/>
          </p:nvCxnSpPr>
          <p:spPr>
            <a:xfrm flipV="1">
              <a:off x="6373800" y="2147400"/>
              <a:ext cx="2160" cy="237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7" name=""/>
            <p:cNvSpPr/>
            <p:nvPr/>
          </p:nvSpPr>
          <p:spPr>
            <a:xfrm>
              <a:off x="6391440" y="2094120"/>
              <a:ext cx="5619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000000"/>
                  </a:solidFill>
                  <a:latin typeface="Arial Narrow"/>
                </a:rPr>
                <a:t>(0,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67400" y="1845000"/>
              <a:ext cx="930600" cy="24912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ImeNa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07200" y="2426040"/>
              <a:ext cx="930600" cy="24912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Zvan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05440" y="2418120"/>
              <a:ext cx="930240" cy="24912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ŠifraNa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1" name=""/>
            <p:cNvCxnSpPr>
              <a:stCxn id="258" idx="1"/>
              <a:endCxn id="255" idx="3"/>
            </p:cNvCxnSpPr>
            <p:nvPr/>
          </p:nvCxnSpPr>
          <p:spPr>
            <a:xfrm flipH="1">
              <a:off x="6798960" y="1970280"/>
              <a:ext cx="568800" cy="572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2" name=""/>
            <p:cNvCxnSpPr>
              <a:stCxn id="259" idx="1"/>
              <a:endCxn id="255" idx="3"/>
            </p:cNvCxnSpPr>
            <p:nvPr/>
          </p:nvCxnSpPr>
          <p:spPr>
            <a:xfrm flipH="1" flipV="1">
              <a:off x="6798600" y="2541600"/>
              <a:ext cx="130860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3" name=""/>
            <p:cNvCxnSpPr>
              <a:stCxn id="255" idx="1"/>
              <a:endCxn id="260" idx="3"/>
            </p:cNvCxnSpPr>
            <p:nvPr/>
          </p:nvCxnSpPr>
          <p:spPr>
            <a:xfrm flipH="1">
              <a:off x="5034960" y="2541960"/>
              <a:ext cx="9118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4" name=""/>
            <p:cNvCxnSpPr>
              <a:stCxn id="246" idx="1"/>
              <a:endCxn id="245" idx="0"/>
            </p:cNvCxnSpPr>
            <p:nvPr/>
          </p:nvCxnSpPr>
          <p:spPr>
            <a:xfrm>
              <a:off x="7921440" y="582480"/>
              <a:ext cx="186480" cy="786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5" name=""/>
            <p:cNvCxnSpPr>
              <a:stCxn id="247" idx="2"/>
              <a:endCxn id="245" idx="0"/>
            </p:cNvCxnSpPr>
            <p:nvPr/>
          </p:nvCxnSpPr>
          <p:spPr>
            <a:xfrm flipH="1">
              <a:off x="8106480" y="1033200"/>
              <a:ext cx="43596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267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006AF25-FC43-48C3-A9A3-A7AD806CC4AC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9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5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Agregacija i dekompozi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920" y="336600"/>
            <a:ext cx="910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gregirani objekat se u mode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tretira kao i bilo koji drugi objekat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To znači da on može da ima svoje atribute i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/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a bude u vezi sa nekim drugim objektim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moguće agreiranim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takodj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a ima svoje podtipove i slično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Mada svaka veza agregira dva objekat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amo one binarne veze kojima bi imalo smisla dodati neke atribute ili koje bi imalo smisla povezivati sa drugim objektima treba tretirati kao agregirane objekt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gregacij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obra praksa modeliranja može da bude i to da se svaka binarna veza u kojoj oba preslikavanja imaju GG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=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tretira kao agregacij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 PMOV koriste se samo binarne veze objekat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ko postoji potreba da se direktno predstavi veza tri ili više objekata tada se takva veza tretira kao agregacij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 primer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činjenicu da dobavljači dobavljaju neke proizvode za specifične projekte može se predstaviti kao agregacija objekata Dobavljač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oizvod i Projekat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ko se višestruke veze predstavljaju kao agregirani objekti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tada model uključuje samo binarne veze što omogućuje jasno definisanje kardinalnosti direktnog i inverznog preslikavanja koje ih čin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48880" y="565560"/>
            <a:ext cx="10220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Dobavlja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32400" y="482760"/>
            <a:ext cx="5619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058080" y="252000"/>
            <a:ext cx="1456920" cy="917280"/>
            <a:chOff x="6058080" y="252000"/>
            <a:chExt cx="1456920" cy="917280"/>
          </a:xfrm>
        </p:grpSpPr>
        <p:sp>
          <p:nvSpPr>
            <p:cNvPr id="276" name=""/>
            <p:cNvSpPr/>
            <p:nvPr/>
          </p:nvSpPr>
          <p:spPr>
            <a:xfrm>
              <a:off x="6058080" y="478080"/>
              <a:ext cx="1456920" cy="466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63840" y="252000"/>
              <a:ext cx="1449360" cy="91728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</a:rPr>
                <a:t>Obskr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8" name=""/>
          <p:cNvCxnSpPr>
            <a:stCxn id="273" idx="3"/>
            <a:endCxn id="277" idx="1"/>
          </p:cNvCxnSpPr>
          <p:nvPr/>
        </p:nvCxnSpPr>
        <p:spPr>
          <a:xfrm flipV="1">
            <a:off x="5475240" y="711000"/>
            <a:ext cx="58968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8067600" y="562320"/>
            <a:ext cx="9334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roizv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9" idx="1"/>
            <a:endCxn id="277" idx="3"/>
          </p:cNvCxnSpPr>
          <p:nvPr/>
        </p:nvCxnSpPr>
        <p:spPr>
          <a:xfrm flipH="1" flipV="1">
            <a:off x="7513200" y="710640"/>
            <a:ext cx="5688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endCxn id="277" idx="2"/>
          </p:cNvCxnSpPr>
          <p:nvPr/>
        </p:nvCxnSpPr>
        <p:spPr>
          <a:xfrm flipV="1">
            <a:off x="6789240" y="944280"/>
            <a:ext cx="108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>
            <a:off x="7562880" y="480960"/>
            <a:ext cx="5619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18400" y="973080"/>
            <a:ext cx="5619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64200" y="1213200"/>
            <a:ext cx="144936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rojek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-7128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5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Primer modela objekti-ve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000" y="3713040"/>
            <a:ext cx="910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Model podataka za ovaj hipotetički fakultetski informacioni sistem je predstavljen tako što su pojedini delovi namerno neobični , da bi se iskazale neke karakteristike MO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9080" algn="just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 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Pretpostavlja se da na posmatranom fakultetu postoji specijalan parking namenjen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samo studentima. Ovaj zaključak sledi iz činjenice da svaka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Kola Parkira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najmanje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jedan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Student.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Drugim rečima DG preslikavanja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Kola</a:t>
            </a:r>
            <a:r>
              <a:rPr b="1" lang="sr-Latn-CS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Student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koja je jednaka 1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pokazuje da svaka kola na parkingu moraju biti vezana barem za jednog studenta i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mogu biti vezana samo za jednog studenta GG=1.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Student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ne mora da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Parkira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nijedna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a može najviše jedna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Ko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12120" y="532080"/>
            <a:ext cx="566280" cy="3070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cc0000"/>
                </a:solidFill>
                <a:latin typeface="Arial"/>
              </a:rPr>
              <a:t>Ko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440" y="501480"/>
            <a:ext cx="930240" cy="24948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RedB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440" y="789120"/>
            <a:ext cx="930240" cy="24912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Mar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7360" y="1089000"/>
            <a:ext cx="930240" cy="24912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Bo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87" idx="1"/>
            <a:endCxn id="288" idx="3"/>
          </p:cNvCxnSpPr>
          <p:nvPr/>
        </p:nvCxnSpPr>
        <p:spPr>
          <a:xfrm flipH="1" flipV="1">
            <a:off x="1012320" y="626400"/>
            <a:ext cx="194400" cy="59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2" name=""/>
          <p:cNvCxnSpPr>
            <a:stCxn id="287" idx="1"/>
            <a:endCxn id="289" idx="3"/>
          </p:cNvCxnSpPr>
          <p:nvPr/>
        </p:nvCxnSpPr>
        <p:spPr>
          <a:xfrm flipH="1">
            <a:off x="1012320" y="685440"/>
            <a:ext cx="194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" name=""/>
          <p:cNvCxnSpPr>
            <a:stCxn id="290" idx="3"/>
            <a:endCxn id="287" idx="1"/>
          </p:cNvCxnSpPr>
          <p:nvPr/>
        </p:nvCxnSpPr>
        <p:spPr>
          <a:xfrm flipV="1">
            <a:off x="1047240" y="685440"/>
            <a:ext cx="159480" cy="529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1090440" y="817200"/>
            <a:ext cx="1108080" cy="917280"/>
          </a:xfrm>
          <a:prstGeom prst="flowChartDecision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 Narrow"/>
              </a:rPr>
              <a:t>Parki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87" idx="2"/>
            <a:endCxn id="294" idx="0"/>
          </p:cNvCxnSpPr>
          <p:nvPr/>
        </p:nvCxnSpPr>
        <p:spPr>
          <a:xfrm>
            <a:off x="1495440" y="842760"/>
            <a:ext cx="14976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6" name=""/>
          <p:cNvSpPr/>
          <p:nvPr/>
        </p:nvSpPr>
        <p:spPr>
          <a:xfrm>
            <a:off x="1087560" y="82080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68840" y="1748160"/>
            <a:ext cx="842040" cy="3070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cc0000"/>
                </a:solidFill>
                <a:latin typeface="Arial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94" idx="2"/>
            <a:endCxn id="297" idx="0"/>
          </p:cNvCxnSpPr>
          <p:nvPr/>
        </p:nvCxnSpPr>
        <p:spPr>
          <a:xfrm flipH="1">
            <a:off x="1490040" y="1509840"/>
            <a:ext cx="15444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1096920" y="15289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320" y="1415880"/>
            <a:ext cx="930240" cy="24948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Broj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297" idx="1"/>
            <a:endCxn id="300" idx="3"/>
          </p:cNvCxnSpPr>
          <p:nvPr/>
        </p:nvCxnSpPr>
        <p:spPr>
          <a:xfrm flipH="1" flipV="1">
            <a:off x="1005840" y="1540800"/>
            <a:ext cx="579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" name=""/>
          <p:cNvCxnSpPr>
            <a:stCxn id="297" idx="1"/>
            <a:endCxn id="303" idx="3"/>
          </p:cNvCxnSpPr>
          <p:nvPr/>
        </p:nvCxnSpPr>
        <p:spPr>
          <a:xfrm flipH="1" flipV="1">
            <a:off x="999360" y="1851840"/>
            <a:ext cx="64440" cy="50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4" name=""/>
          <p:cNvCxnSpPr>
            <a:stCxn id="297" idx="1"/>
            <a:endCxn id="305" idx="3"/>
          </p:cNvCxnSpPr>
          <p:nvPr/>
        </p:nvCxnSpPr>
        <p:spPr>
          <a:xfrm flipH="1">
            <a:off x="1015200" y="1901520"/>
            <a:ext cx="48600" cy="28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69840" y="1727280"/>
            <a:ext cx="930240" cy="24912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5680" y="2058840"/>
            <a:ext cx="930240" cy="24948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Seme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93200" y="529560"/>
            <a:ext cx="136368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Regi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6" idx="1"/>
            <a:endCxn id="297" idx="3"/>
          </p:cNvCxnSpPr>
          <p:nvPr/>
        </p:nvCxnSpPr>
        <p:spPr>
          <a:xfrm flipH="1">
            <a:off x="1915920" y="806040"/>
            <a:ext cx="460800" cy="1096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2292480" y="8683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78960" y="1746720"/>
            <a:ext cx="8938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redm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0" name=""/>
          <p:cNvCxnSpPr>
            <a:stCxn id="306" idx="3"/>
            <a:endCxn id="309" idx="1"/>
          </p:cNvCxnSpPr>
          <p:nvPr/>
        </p:nvCxnSpPr>
        <p:spPr>
          <a:xfrm>
            <a:off x="3573000" y="806400"/>
            <a:ext cx="70092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1" name=""/>
          <p:cNvSpPr/>
          <p:nvPr/>
        </p:nvSpPr>
        <p:spPr>
          <a:xfrm>
            <a:off x="3201840" y="8683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387520" y="1623960"/>
            <a:ext cx="1456920" cy="552240"/>
            <a:chOff x="2387520" y="1623960"/>
            <a:chExt cx="1456920" cy="552240"/>
          </a:xfrm>
        </p:grpSpPr>
        <p:sp>
          <p:nvSpPr>
            <p:cNvPr id="313" name=""/>
            <p:cNvSpPr/>
            <p:nvPr/>
          </p:nvSpPr>
          <p:spPr>
            <a:xfrm>
              <a:off x="2387520" y="1667160"/>
              <a:ext cx="1456920" cy="466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93280" y="1623960"/>
              <a:ext cx="1449360" cy="55224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</a:rPr>
                <a:t>Pri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5" name=""/>
          <p:cNvCxnSpPr>
            <a:stCxn id="314" idx="1"/>
            <a:endCxn id="297" idx="3"/>
          </p:cNvCxnSpPr>
          <p:nvPr/>
        </p:nvCxnSpPr>
        <p:spPr>
          <a:xfrm flipH="1">
            <a:off x="1915560" y="1899720"/>
            <a:ext cx="478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16" name=""/>
          <p:cNvCxnSpPr>
            <a:stCxn id="309" idx="1"/>
            <a:endCxn id="314" idx="3"/>
          </p:cNvCxnSpPr>
          <p:nvPr/>
        </p:nvCxnSpPr>
        <p:spPr>
          <a:xfrm flipH="1">
            <a:off x="3842640" y="18997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2324160" y="1103400"/>
            <a:ext cx="65232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48120" y="1103400"/>
            <a:ext cx="65232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c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7" idx="2"/>
            <a:endCxn id="314" idx="0"/>
          </p:cNvCxnSpPr>
          <p:nvPr/>
        </p:nvCxnSpPr>
        <p:spPr>
          <a:xfrm>
            <a:off x="2650680" y="1337760"/>
            <a:ext cx="46908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8" idx="2"/>
            <a:endCxn id="314" idx="0"/>
          </p:cNvCxnSpPr>
          <p:nvPr/>
        </p:nvCxnSpPr>
        <p:spPr>
          <a:xfrm flipH="1">
            <a:off x="3119400" y="1337760"/>
            <a:ext cx="25596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4172040" y="863280"/>
            <a:ext cx="1108080" cy="917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e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"/>
          <p:cNvCxnSpPr>
            <a:stCxn id="321" idx="2"/>
            <a:endCxn id="309" idx="0"/>
          </p:cNvCxnSpPr>
          <p:nvPr/>
        </p:nvCxnSpPr>
        <p:spPr>
          <a:xfrm>
            <a:off x="4725720" y="1555920"/>
            <a:ext cx="108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3763800" y="16714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33560" y="16714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01200" y="525960"/>
            <a:ext cx="10220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Nastav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2"/>
            <a:endCxn id="321" idx="0"/>
          </p:cNvCxnSpPr>
          <p:nvPr/>
        </p:nvCxnSpPr>
        <p:spPr>
          <a:xfrm>
            <a:off x="4713120" y="836280"/>
            <a:ext cx="1368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3389400" y="501480"/>
            <a:ext cx="703080" cy="2350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meN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7" idx="3"/>
            <a:endCxn id="325" idx="1"/>
          </p:cNvCxnSpPr>
          <p:nvPr/>
        </p:nvCxnSpPr>
        <p:spPr>
          <a:xfrm>
            <a:off x="4092120" y="618840"/>
            <a:ext cx="105480" cy="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9" name=""/>
          <p:cNvSpPr/>
          <p:nvPr/>
        </p:nvSpPr>
        <p:spPr>
          <a:xfrm>
            <a:off x="5892840" y="555480"/>
            <a:ext cx="652320" cy="2350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ŠifN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5" idx="3"/>
            <a:endCxn id="329" idx="1"/>
          </p:cNvCxnSpPr>
          <p:nvPr/>
        </p:nvCxnSpPr>
        <p:spPr>
          <a:xfrm flipV="1">
            <a:off x="5227560" y="672480"/>
            <a:ext cx="665640" cy="6840"/>
          </a:xfrm>
          <a:prstGeom prst="bentConnector3">
            <a:avLst>
              <a:gd name="adj1" fmla="val 498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4282920" y="82080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267080" y="15541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59320" y="901800"/>
            <a:ext cx="65268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ŠifP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31000" y="739800"/>
            <a:ext cx="858960" cy="2602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P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3" idx="2"/>
          </p:cNvCxnSpPr>
          <p:nvPr/>
        </p:nvCxnSpPr>
        <p:spPr>
          <a:xfrm rot="5400000">
            <a:off x="5065920" y="1137240"/>
            <a:ext cx="621720" cy="619920"/>
          </a:xfrm>
          <a:prstGeom prst="curvedConnector5">
            <a:avLst>
              <a:gd name="adj1" fmla="val 49826"/>
              <a:gd name="adj2" fmla="val 49970"/>
              <a:gd name="adj3" fmla="val 498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6" name=""/>
          <p:cNvCxnSpPr>
            <a:stCxn id="334" idx="1"/>
          </p:cNvCxnSpPr>
          <p:nvPr/>
        </p:nvCxnSpPr>
        <p:spPr>
          <a:xfrm flipV="1" rot="10800000">
            <a:off x="5066640" y="869040"/>
            <a:ext cx="1764360" cy="89100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5902200" y="1616040"/>
            <a:ext cx="143676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ip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09280" y="1730880"/>
            <a:ext cx="8438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Kated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09" idx="3"/>
            <a:endCxn id="337" idx="1"/>
          </p:cNvCxnSpPr>
          <p:nvPr/>
        </p:nvCxnSpPr>
        <p:spPr>
          <a:xfrm flipV="1">
            <a:off x="5178600" y="1891800"/>
            <a:ext cx="72432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"/>
          <p:cNvCxnSpPr>
            <a:stCxn id="337" idx="3"/>
            <a:endCxn id="338" idx="1"/>
          </p:cNvCxnSpPr>
          <p:nvPr/>
        </p:nvCxnSpPr>
        <p:spPr>
          <a:xfrm flipV="1">
            <a:off x="7338960" y="1883880"/>
            <a:ext cx="6656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5280120" y="16858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42280" y="168264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05840" y="797040"/>
            <a:ext cx="65232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K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194600" y="1181160"/>
            <a:ext cx="65232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ŠifK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4" idx="3"/>
            <a:endCxn id="338" idx="0"/>
          </p:cNvCxnSpPr>
          <p:nvPr/>
        </p:nvCxnSpPr>
        <p:spPr>
          <a:xfrm>
            <a:off x="7846560" y="1298160"/>
            <a:ext cx="58500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343" idx="2"/>
            <a:endCxn id="338" idx="0"/>
          </p:cNvCxnSpPr>
          <p:nvPr/>
        </p:nvCxnSpPr>
        <p:spPr>
          <a:xfrm flipH="1">
            <a:off x="8430840" y="1031760"/>
            <a:ext cx="102240" cy="696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7" name=""/>
          <p:cNvSpPr/>
          <p:nvPr/>
        </p:nvSpPr>
        <p:spPr>
          <a:xfrm>
            <a:off x="3862440" y="2483280"/>
            <a:ext cx="9428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Vanred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93880" y="2263680"/>
            <a:ext cx="110808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Imaj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4720" y="3048480"/>
            <a:ext cx="8344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Roditel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8" idx="0"/>
            <a:endCxn id="297" idx="2"/>
          </p:cNvCxnSpPr>
          <p:nvPr/>
        </p:nvCxnSpPr>
        <p:spPr>
          <a:xfrm flipV="1">
            <a:off x="1447560" y="2058480"/>
            <a:ext cx="43560" cy="246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1" name=""/>
          <p:cNvSpPr/>
          <p:nvPr/>
        </p:nvSpPr>
        <p:spPr>
          <a:xfrm>
            <a:off x="942840" y="20620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9" idx="0"/>
            <a:endCxn id="348" idx="2"/>
          </p:cNvCxnSpPr>
          <p:nvPr/>
        </p:nvCxnSpPr>
        <p:spPr>
          <a:xfrm flipV="1">
            <a:off x="1012320" y="2773080"/>
            <a:ext cx="43596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779400" y="267984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44800" y="2082600"/>
            <a:ext cx="29664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297" idx="2"/>
            <a:endCxn id="354" idx="0"/>
          </p:cNvCxnSpPr>
          <p:nvPr/>
        </p:nvCxnSpPr>
        <p:spPr>
          <a:xfrm flipH="1" rot="16200000">
            <a:off x="1809000" y="1739160"/>
            <a:ext cx="65520" cy="703800"/>
          </a:xfrm>
          <a:prstGeom prst="bentConnector3">
            <a:avLst>
              <a:gd name="adj1" fmla="val 486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6" name=""/>
          <p:cNvCxnSpPr>
            <a:stCxn id="354" idx="2"/>
            <a:endCxn id="347" idx="1"/>
          </p:cNvCxnSpPr>
          <p:nvPr/>
        </p:nvCxnSpPr>
        <p:spPr>
          <a:xfrm flipH="1" rot="16200000">
            <a:off x="3003480" y="1782360"/>
            <a:ext cx="45360" cy="1664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"/>
          <p:cNvSpPr/>
          <p:nvPr/>
        </p:nvSpPr>
        <p:spPr>
          <a:xfrm>
            <a:off x="5130720" y="2201400"/>
            <a:ext cx="1108080" cy="917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Učest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7" idx="1"/>
            <a:endCxn id="347" idx="3"/>
          </p:cNvCxnSpPr>
          <p:nvPr/>
        </p:nvCxnSpPr>
        <p:spPr>
          <a:xfrm flipH="1" flipV="1">
            <a:off x="4809240" y="2636640"/>
            <a:ext cx="321480" cy="24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9" name=""/>
          <p:cNvSpPr/>
          <p:nvPr/>
        </p:nvSpPr>
        <p:spPr>
          <a:xfrm>
            <a:off x="6548040" y="2510280"/>
            <a:ext cx="8848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rojek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846920" y="2454120"/>
            <a:ext cx="1225800" cy="408240"/>
            <a:chOff x="7846920" y="2454120"/>
            <a:chExt cx="1225800" cy="408240"/>
          </a:xfrm>
        </p:grpSpPr>
        <p:sp>
          <p:nvSpPr>
            <p:cNvPr id="361" name=""/>
            <p:cNvSpPr/>
            <p:nvPr/>
          </p:nvSpPr>
          <p:spPr>
            <a:xfrm>
              <a:off x="7846920" y="2454120"/>
              <a:ext cx="1225800" cy="408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931160" y="2522160"/>
              <a:ext cx="1058760" cy="276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</a:rPr>
                <a:t>Zadat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3" name=""/>
          <p:cNvCxnSpPr>
            <a:stCxn id="359" idx="3"/>
            <a:endCxn id="361" idx="1"/>
          </p:cNvCxnSpPr>
          <p:nvPr/>
        </p:nvCxnSpPr>
        <p:spPr>
          <a:xfrm flipV="1">
            <a:off x="7437240" y="2658600"/>
            <a:ext cx="410040" cy="5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59" idx="1"/>
            <a:endCxn id="357" idx="3"/>
          </p:cNvCxnSpPr>
          <p:nvPr/>
        </p:nvCxnSpPr>
        <p:spPr>
          <a:xfrm flipH="1" flipV="1">
            <a:off x="6238080" y="2660040"/>
            <a:ext cx="305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5" name=""/>
          <p:cNvSpPr/>
          <p:nvPr/>
        </p:nvSpPr>
        <p:spPr>
          <a:xfrm>
            <a:off x="1496520" y="3042000"/>
            <a:ext cx="10724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reduzeć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6480" y="2677680"/>
            <a:ext cx="1108080" cy="917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Zapo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47" idx="2"/>
            <a:endCxn id="366" idx="3"/>
          </p:cNvCxnSpPr>
          <p:nvPr/>
        </p:nvCxnSpPr>
        <p:spPr>
          <a:xfrm rot="5400000">
            <a:off x="4037040" y="2840400"/>
            <a:ext cx="343800" cy="2502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66" idx="1"/>
            <a:endCxn id="365" idx="3"/>
          </p:cNvCxnSpPr>
          <p:nvPr/>
        </p:nvCxnSpPr>
        <p:spPr>
          <a:xfrm flipV="1" rot="10800000">
            <a:off x="2572560" y="3135960"/>
            <a:ext cx="403920" cy="59400"/>
          </a:xfrm>
          <a:prstGeom prst="curvedConnector5">
            <a:avLst>
              <a:gd name="adj1" fmla="val 49955"/>
              <a:gd name="adj2" fmla="val 50000"/>
              <a:gd name="adj3" fmla="val 4995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9" name=""/>
          <p:cNvSpPr/>
          <p:nvPr/>
        </p:nvSpPr>
        <p:spPr>
          <a:xfrm>
            <a:off x="3835440" y="28018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557440" y="29257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41920" y="24271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93000" y="244620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73120" y="2068560"/>
            <a:ext cx="6606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Vrsta (0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760" y="2749680"/>
            <a:ext cx="507960" cy="2142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M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5240" y="2446200"/>
            <a:ext cx="67932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me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75" idx="1"/>
            <a:endCxn id="349" idx="1"/>
          </p:cNvCxnSpPr>
          <p:nvPr/>
        </p:nvCxnSpPr>
        <p:spPr>
          <a:xfrm flipH="1" flipV="1" rot="10800000">
            <a:off x="164160" y="2541600"/>
            <a:ext cx="425880" cy="660600"/>
          </a:xfrm>
          <a:prstGeom prst="curvedConnector5">
            <a:avLst>
              <a:gd name="adj1" fmla="val -7783"/>
              <a:gd name="adj2" fmla="val 50000"/>
              <a:gd name="adj3" fmla="val -77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49" idx="1"/>
            <a:endCxn id="374" idx="1"/>
          </p:cNvCxnSpPr>
          <p:nvPr/>
        </p:nvCxnSpPr>
        <p:spPr>
          <a:xfrm rot="10800000">
            <a:off x="320040" y="2856960"/>
            <a:ext cx="270360" cy="344880"/>
          </a:xfrm>
          <a:prstGeom prst="curvedConnector5">
            <a:avLst>
              <a:gd name="adj1" fmla="val 104666"/>
              <a:gd name="adj2" fmla="val 49947"/>
              <a:gd name="adj3" fmla="val 1046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1598760" y="2711520"/>
            <a:ext cx="772920" cy="2142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RegB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67080" y="2693880"/>
            <a:ext cx="90792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ivP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65" idx="0"/>
            <a:endCxn id="378" idx="1"/>
          </p:cNvCxnSpPr>
          <p:nvPr/>
        </p:nvCxnSpPr>
        <p:spPr>
          <a:xfrm flipV="1" rot="16200000">
            <a:off x="1706400" y="2710800"/>
            <a:ext cx="219600" cy="435600"/>
          </a:xfrm>
          <a:prstGeom prst="curvedConnector5">
            <a:avLst>
              <a:gd name="adj1" fmla="val 25287"/>
              <a:gd name="adj2" fmla="val 76261"/>
              <a:gd name="adj3" fmla="val 252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1" name=""/>
          <p:cNvCxnSpPr>
            <a:stCxn id="365" idx="0"/>
            <a:endCxn id="379" idx="2"/>
          </p:cNvCxnSpPr>
          <p:nvPr/>
        </p:nvCxnSpPr>
        <p:spPr>
          <a:xfrm flipH="1" flipV="1" rot="5400000">
            <a:off x="2399760" y="2517120"/>
            <a:ext cx="154800" cy="888120"/>
          </a:xfrm>
          <a:prstGeom prst="curvedConnector5">
            <a:avLst>
              <a:gd name="adj1" fmla="val 49417"/>
              <a:gd name="adj2" fmla="val 50000"/>
              <a:gd name="adj3" fmla="val 4941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82" name=""/>
          <p:cNvSpPr/>
          <p:nvPr/>
        </p:nvSpPr>
        <p:spPr>
          <a:xfrm>
            <a:off x="2665440" y="2251080"/>
            <a:ext cx="90792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Zanima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3" name=""/>
          <p:cNvCxnSpPr>
            <a:stCxn id="382" idx="3"/>
            <a:endCxn id="347" idx="0"/>
          </p:cNvCxnSpPr>
          <p:nvPr/>
        </p:nvCxnSpPr>
        <p:spPr>
          <a:xfrm>
            <a:off x="3573000" y="2346480"/>
            <a:ext cx="761400" cy="133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4" name=""/>
          <p:cNvSpPr/>
          <p:nvPr/>
        </p:nvSpPr>
        <p:spPr>
          <a:xfrm>
            <a:off x="4867200" y="3100320"/>
            <a:ext cx="908280" cy="1969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ŠifP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59" idx="2"/>
            <a:endCxn id="384" idx="0"/>
          </p:cNvCxnSpPr>
          <p:nvPr/>
        </p:nvCxnSpPr>
        <p:spPr>
          <a:xfrm rot="5400000">
            <a:off x="6015600" y="2125440"/>
            <a:ext cx="280080" cy="1670760"/>
          </a:xfrm>
          <a:prstGeom prst="curvedConnector5">
            <a:avLst>
              <a:gd name="adj1" fmla="val 49935"/>
              <a:gd name="adj2" fmla="val 5000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86" name=""/>
          <p:cNvSpPr/>
          <p:nvPr/>
        </p:nvSpPr>
        <p:spPr>
          <a:xfrm>
            <a:off x="6043680" y="3135240"/>
            <a:ext cx="907920" cy="1969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ivP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59" idx="2"/>
            <a:endCxn id="386" idx="3"/>
          </p:cNvCxnSpPr>
          <p:nvPr/>
        </p:nvCxnSpPr>
        <p:spPr>
          <a:xfrm rot="5400000">
            <a:off x="6764400" y="3007440"/>
            <a:ext cx="413640" cy="403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7386480" y="3160800"/>
            <a:ext cx="908280" cy="1969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ivZ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62" idx="2"/>
            <a:endCxn id="388" idx="3"/>
          </p:cNvCxnSpPr>
          <p:nvPr/>
        </p:nvCxnSpPr>
        <p:spPr>
          <a:xfrm rot="5400000">
            <a:off x="8149680" y="2948040"/>
            <a:ext cx="456120" cy="1670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7031160" y="2122560"/>
            <a:ext cx="907920" cy="1969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pisZ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1" name=""/>
          <p:cNvCxnSpPr>
            <a:stCxn id="362" idx="0"/>
            <a:endCxn id="390" idx="3"/>
          </p:cNvCxnSpPr>
          <p:nvPr/>
        </p:nvCxnSpPr>
        <p:spPr>
          <a:xfrm flipV="1" rot="16200000">
            <a:off x="8051040" y="2107440"/>
            <a:ext cx="297720" cy="5230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7323120" y="24433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394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6B2F624-5D26-4402-A8A7-C783CE76F6FB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96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5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Primer modela objekti-ve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000" y="4046400"/>
            <a:ext cx="91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9080" algn="just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Student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mora biti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Registrovan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barem za jedan predmet, a za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Predmet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može da bude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registrovano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nula, jedan ili više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Studen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12120" y="532080"/>
            <a:ext cx="5662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Ko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2440" y="501480"/>
            <a:ext cx="930240" cy="2494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RedB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2440" y="78912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Mar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7360" y="108900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Bo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0" idx="1"/>
            <a:endCxn id="401" idx="3"/>
          </p:cNvCxnSpPr>
          <p:nvPr/>
        </p:nvCxnSpPr>
        <p:spPr>
          <a:xfrm flipH="1" flipV="1">
            <a:off x="1012320" y="626400"/>
            <a:ext cx="194400" cy="59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5" name=""/>
          <p:cNvCxnSpPr>
            <a:stCxn id="400" idx="1"/>
            <a:endCxn id="402" idx="3"/>
          </p:cNvCxnSpPr>
          <p:nvPr/>
        </p:nvCxnSpPr>
        <p:spPr>
          <a:xfrm flipH="1">
            <a:off x="1012320" y="685440"/>
            <a:ext cx="194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6" name=""/>
          <p:cNvCxnSpPr>
            <a:stCxn id="403" idx="3"/>
            <a:endCxn id="400" idx="1"/>
          </p:cNvCxnSpPr>
          <p:nvPr/>
        </p:nvCxnSpPr>
        <p:spPr>
          <a:xfrm flipV="1">
            <a:off x="1047240" y="685440"/>
            <a:ext cx="159480" cy="529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7" name=""/>
          <p:cNvSpPr/>
          <p:nvPr/>
        </p:nvSpPr>
        <p:spPr>
          <a:xfrm>
            <a:off x="1090440" y="817200"/>
            <a:ext cx="1108080" cy="917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arki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8" name=""/>
          <p:cNvCxnSpPr>
            <a:stCxn id="400" idx="2"/>
            <a:endCxn id="407" idx="0"/>
          </p:cNvCxnSpPr>
          <p:nvPr/>
        </p:nvCxnSpPr>
        <p:spPr>
          <a:xfrm>
            <a:off x="1495440" y="842760"/>
            <a:ext cx="14976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9" name=""/>
          <p:cNvSpPr/>
          <p:nvPr/>
        </p:nvSpPr>
        <p:spPr>
          <a:xfrm>
            <a:off x="1087560" y="82080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068840" y="1748160"/>
            <a:ext cx="842040" cy="3070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cc0000"/>
                </a:solidFill>
                <a:latin typeface="Arial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407" idx="2"/>
            <a:endCxn id="410" idx="0"/>
          </p:cNvCxnSpPr>
          <p:nvPr/>
        </p:nvCxnSpPr>
        <p:spPr>
          <a:xfrm flipH="1">
            <a:off x="1490040" y="1509840"/>
            <a:ext cx="15444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2" name=""/>
          <p:cNvSpPr/>
          <p:nvPr/>
        </p:nvSpPr>
        <p:spPr>
          <a:xfrm>
            <a:off x="1096920" y="15289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320" y="1415880"/>
            <a:ext cx="930240" cy="24948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Broj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410" idx="1"/>
            <a:endCxn id="413" idx="3"/>
          </p:cNvCxnSpPr>
          <p:nvPr/>
        </p:nvCxnSpPr>
        <p:spPr>
          <a:xfrm flipH="1" flipV="1">
            <a:off x="1005840" y="1540800"/>
            <a:ext cx="579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5" name=""/>
          <p:cNvCxnSpPr>
            <a:stCxn id="410" idx="1"/>
            <a:endCxn id="416" idx="3"/>
          </p:cNvCxnSpPr>
          <p:nvPr/>
        </p:nvCxnSpPr>
        <p:spPr>
          <a:xfrm flipH="1" flipV="1">
            <a:off x="999360" y="1851840"/>
            <a:ext cx="64440" cy="50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410" idx="1"/>
            <a:endCxn id="418" idx="3"/>
          </p:cNvCxnSpPr>
          <p:nvPr/>
        </p:nvCxnSpPr>
        <p:spPr>
          <a:xfrm flipH="1">
            <a:off x="1015200" y="1901520"/>
            <a:ext cx="48600" cy="28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>
            <a:off x="69840" y="1727280"/>
            <a:ext cx="930240" cy="24912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5680" y="2058840"/>
            <a:ext cx="930240" cy="24948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Seme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93200" y="529560"/>
            <a:ext cx="1363680" cy="552240"/>
          </a:xfrm>
          <a:prstGeom prst="flowChartDecision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 Narrow"/>
              </a:rPr>
              <a:t>Regi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9" idx="1"/>
            <a:endCxn id="410" idx="3"/>
          </p:cNvCxnSpPr>
          <p:nvPr/>
        </p:nvCxnSpPr>
        <p:spPr>
          <a:xfrm flipH="1">
            <a:off x="1915920" y="806040"/>
            <a:ext cx="460800" cy="1096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2292480" y="8683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78960" y="1746720"/>
            <a:ext cx="893880" cy="3070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cc0000"/>
                </a:solidFill>
                <a:latin typeface="Arial"/>
              </a:rPr>
              <a:t>Predm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9" idx="3"/>
            <a:endCxn id="422" idx="1"/>
          </p:cNvCxnSpPr>
          <p:nvPr/>
        </p:nvCxnSpPr>
        <p:spPr>
          <a:xfrm>
            <a:off x="3573000" y="806400"/>
            <a:ext cx="70092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3201840" y="8683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387520" y="1623960"/>
            <a:ext cx="1456920" cy="552240"/>
            <a:chOff x="2387520" y="1623960"/>
            <a:chExt cx="1456920" cy="552240"/>
          </a:xfrm>
        </p:grpSpPr>
        <p:sp>
          <p:nvSpPr>
            <p:cNvPr id="426" name=""/>
            <p:cNvSpPr/>
            <p:nvPr/>
          </p:nvSpPr>
          <p:spPr>
            <a:xfrm>
              <a:off x="2387520" y="1667160"/>
              <a:ext cx="1456920" cy="466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93280" y="1623960"/>
              <a:ext cx="1449360" cy="55224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</a:rPr>
                <a:t>Pri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8" name=""/>
          <p:cNvCxnSpPr>
            <a:stCxn id="427" idx="1"/>
            <a:endCxn id="410" idx="3"/>
          </p:cNvCxnSpPr>
          <p:nvPr/>
        </p:nvCxnSpPr>
        <p:spPr>
          <a:xfrm flipH="1">
            <a:off x="1915560" y="1899720"/>
            <a:ext cx="478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29" name=""/>
          <p:cNvCxnSpPr>
            <a:stCxn id="422" idx="1"/>
            <a:endCxn id="427" idx="3"/>
          </p:cNvCxnSpPr>
          <p:nvPr/>
        </p:nvCxnSpPr>
        <p:spPr>
          <a:xfrm flipH="1">
            <a:off x="3842640" y="18997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0" name=""/>
          <p:cNvSpPr/>
          <p:nvPr/>
        </p:nvSpPr>
        <p:spPr>
          <a:xfrm>
            <a:off x="2324160" y="1103400"/>
            <a:ext cx="65232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48120" y="1103400"/>
            <a:ext cx="65232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c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2" name=""/>
          <p:cNvCxnSpPr>
            <a:stCxn id="430" idx="2"/>
            <a:endCxn id="427" idx="0"/>
          </p:cNvCxnSpPr>
          <p:nvPr/>
        </p:nvCxnSpPr>
        <p:spPr>
          <a:xfrm>
            <a:off x="2650680" y="1337760"/>
            <a:ext cx="46908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3" name=""/>
          <p:cNvCxnSpPr>
            <a:stCxn id="431" idx="2"/>
            <a:endCxn id="427" idx="0"/>
          </p:cNvCxnSpPr>
          <p:nvPr/>
        </p:nvCxnSpPr>
        <p:spPr>
          <a:xfrm flipH="1">
            <a:off x="3119400" y="1337760"/>
            <a:ext cx="25596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4" name=""/>
          <p:cNvSpPr/>
          <p:nvPr/>
        </p:nvSpPr>
        <p:spPr>
          <a:xfrm>
            <a:off x="4172040" y="863280"/>
            <a:ext cx="1108080" cy="917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e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4" idx="2"/>
            <a:endCxn id="422" idx="0"/>
          </p:cNvCxnSpPr>
          <p:nvPr/>
        </p:nvCxnSpPr>
        <p:spPr>
          <a:xfrm>
            <a:off x="4725720" y="1555920"/>
            <a:ext cx="108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3763800" y="16714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33560" y="16714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201200" y="525960"/>
            <a:ext cx="10220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Nastav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8" idx="2"/>
            <a:endCxn id="434" idx="0"/>
          </p:cNvCxnSpPr>
          <p:nvPr/>
        </p:nvCxnSpPr>
        <p:spPr>
          <a:xfrm>
            <a:off x="4713120" y="836280"/>
            <a:ext cx="1368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3389400" y="501480"/>
            <a:ext cx="703080" cy="2350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meN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40" idx="3"/>
            <a:endCxn id="438" idx="1"/>
          </p:cNvCxnSpPr>
          <p:nvPr/>
        </p:nvCxnSpPr>
        <p:spPr>
          <a:xfrm>
            <a:off x="4092120" y="618840"/>
            <a:ext cx="105480" cy="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2" name=""/>
          <p:cNvSpPr/>
          <p:nvPr/>
        </p:nvSpPr>
        <p:spPr>
          <a:xfrm>
            <a:off x="5892840" y="555480"/>
            <a:ext cx="652320" cy="2350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ŠifN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38" idx="3"/>
            <a:endCxn id="442" idx="1"/>
          </p:cNvCxnSpPr>
          <p:nvPr/>
        </p:nvCxnSpPr>
        <p:spPr>
          <a:xfrm flipV="1">
            <a:off x="5227560" y="672480"/>
            <a:ext cx="665640" cy="6840"/>
          </a:xfrm>
          <a:prstGeom prst="bentConnector3">
            <a:avLst>
              <a:gd name="adj1" fmla="val 498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282920" y="82080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267080" y="15541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59320" y="901800"/>
            <a:ext cx="652680" cy="23472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ŠifP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31000" y="739800"/>
            <a:ext cx="858960" cy="26028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NazP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8" name=""/>
          <p:cNvCxnSpPr>
            <a:stCxn id="446" idx="2"/>
          </p:cNvCxnSpPr>
          <p:nvPr/>
        </p:nvCxnSpPr>
        <p:spPr>
          <a:xfrm rot="5400000">
            <a:off x="5065920" y="1137240"/>
            <a:ext cx="621720" cy="619920"/>
          </a:xfrm>
          <a:prstGeom prst="curvedConnector5">
            <a:avLst>
              <a:gd name="adj1" fmla="val 49826"/>
              <a:gd name="adj2" fmla="val 49970"/>
              <a:gd name="adj3" fmla="val 498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9" name=""/>
          <p:cNvCxnSpPr>
            <a:stCxn id="447" idx="1"/>
          </p:cNvCxnSpPr>
          <p:nvPr/>
        </p:nvCxnSpPr>
        <p:spPr>
          <a:xfrm flipV="1" rot="10800000">
            <a:off x="5066640" y="869040"/>
            <a:ext cx="1764360" cy="89100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50" name=""/>
          <p:cNvSpPr/>
          <p:nvPr/>
        </p:nvSpPr>
        <p:spPr>
          <a:xfrm>
            <a:off x="5902200" y="1616040"/>
            <a:ext cx="143676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ip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009280" y="1730880"/>
            <a:ext cx="8438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Kated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2" name=""/>
          <p:cNvCxnSpPr>
            <a:stCxn id="422" idx="3"/>
            <a:endCxn id="450" idx="1"/>
          </p:cNvCxnSpPr>
          <p:nvPr/>
        </p:nvCxnSpPr>
        <p:spPr>
          <a:xfrm flipV="1">
            <a:off x="5178600" y="1891800"/>
            <a:ext cx="72432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3" name=""/>
          <p:cNvCxnSpPr>
            <a:stCxn id="450" idx="3"/>
            <a:endCxn id="451" idx="1"/>
          </p:cNvCxnSpPr>
          <p:nvPr/>
        </p:nvCxnSpPr>
        <p:spPr>
          <a:xfrm flipV="1">
            <a:off x="7338960" y="1883880"/>
            <a:ext cx="6656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5280120" y="16858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442280" y="168264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205840" y="797040"/>
            <a:ext cx="65232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K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94600" y="1181160"/>
            <a:ext cx="65232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ŠifK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57" idx="3"/>
            <a:endCxn id="451" idx="0"/>
          </p:cNvCxnSpPr>
          <p:nvPr/>
        </p:nvCxnSpPr>
        <p:spPr>
          <a:xfrm>
            <a:off x="7846560" y="1298160"/>
            <a:ext cx="58500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56" idx="2"/>
            <a:endCxn id="451" idx="0"/>
          </p:cNvCxnSpPr>
          <p:nvPr/>
        </p:nvCxnSpPr>
        <p:spPr>
          <a:xfrm flipH="1">
            <a:off x="8430840" y="1031760"/>
            <a:ext cx="102240" cy="696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0" name=""/>
          <p:cNvSpPr/>
          <p:nvPr/>
        </p:nvSpPr>
        <p:spPr>
          <a:xfrm>
            <a:off x="3862440" y="2483280"/>
            <a:ext cx="9428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Vanred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93880" y="2263680"/>
            <a:ext cx="110808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Imaj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4720" y="3048480"/>
            <a:ext cx="8344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Roditel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1" idx="0"/>
            <a:endCxn id="410" idx="2"/>
          </p:cNvCxnSpPr>
          <p:nvPr/>
        </p:nvCxnSpPr>
        <p:spPr>
          <a:xfrm flipV="1">
            <a:off x="1447560" y="2058480"/>
            <a:ext cx="43560" cy="246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942840" y="20620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"/>
          <p:cNvCxnSpPr>
            <a:stCxn id="462" idx="0"/>
            <a:endCxn id="461" idx="2"/>
          </p:cNvCxnSpPr>
          <p:nvPr/>
        </p:nvCxnSpPr>
        <p:spPr>
          <a:xfrm flipV="1">
            <a:off x="1012320" y="2773080"/>
            <a:ext cx="43596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6" name=""/>
          <p:cNvSpPr/>
          <p:nvPr/>
        </p:nvSpPr>
        <p:spPr>
          <a:xfrm>
            <a:off x="779400" y="267984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044800" y="2082600"/>
            <a:ext cx="29664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10" idx="2"/>
            <a:endCxn id="467" idx="0"/>
          </p:cNvCxnSpPr>
          <p:nvPr/>
        </p:nvCxnSpPr>
        <p:spPr>
          <a:xfrm flipH="1" rot="16200000">
            <a:off x="1809000" y="1739160"/>
            <a:ext cx="65520" cy="703800"/>
          </a:xfrm>
          <a:prstGeom prst="bentConnector3">
            <a:avLst>
              <a:gd name="adj1" fmla="val 486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7" idx="2"/>
            <a:endCxn id="460" idx="1"/>
          </p:cNvCxnSpPr>
          <p:nvPr/>
        </p:nvCxnSpPr>
        <p:spPr>
          <a:xfrm flipH="1" rot="16200000">
            <a:off x="3003480" y="1782360"/>
            <a:ext cx="45360" cy="1664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5130720" y="2201400"/>
            <a:ext cx="1108080" cy="917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Učest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"/>
          <p:cNvCxnSpPr>
            <a:stCxn id="470" idx="1"/>
            <a:endCxn id="460" idx="3"/>
          </p:cNvCxnSpPr>
          <p:nvPr/>
        </p:nvCxnSpPr>
        <p:spPr>
          <a:xfrm flipH="1" flipV="1">
            <a:off x="4809240" y="2636640"/>
            <a:ext cx="321480" cy="24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2" name=""/>
          <p:cNvSpPr/>
          <p:nvPr/>
        </p:nvSpPr>
        <p:spPr>
          <a:xfrm>
            <a:off x="6548040" y="2510280"/>
            <a:ext cx="8848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rojek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7846920" y="2454120"/>
            <a:ext cx="1225800" cy="408240"/>
            <a:chOff x="7846920" y="2454120"/>
            <a:chExt cx="1225800" cy="408240"/>
          </a:xfrm>
        </p:grpSpPr>
        <p:sp>
          <p:nvSpPr>
            <p:cNvPr id="474" name=""/>
            <p:cNvSpPr/>
            <p:nvPr/>
          </p:nvSpPr>
          <p:spPr>
            <a:xfrm>
              <a:off x="7846920" y="2454120"/>
              <a:ext cx="1225800" cy="408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31160" y="2522160"/>
              <a:ext cx="1058760" cy="276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</a:rPr>
                <a:t>Zadat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76" name=""/>
          <p:cNvCxnSpPr>
            <a:stCxn id="472" idx="3"/>
            <a:endCxn id="474" idx="1"/>
          </p:cNvCxnSpPr>
          <p:nvPr/>
        </p:nvCxnSpPr>
        <p:spPr>
          <a:xfrm flipV="1">
            <a:off x="7437240" y="2658600"/>
            <a:ext cx="410040" cy="5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"/>
          <p:cNvCxnSpPr>
            <a:stCxn id="472" idx="1"/>
            <a:endCxn id="470" idx="3"/>
          </p:cNvCxnSpPr>
          <p:nvPr/>
        </p:nvCxnSpPr>
        <p:spPr>
          <a:xfrm flipH="1" flipV="1">
            <a:off x="6238080" y="2660040"/>
            <a:ext cx="305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1496520" y="3042000"/>
            <a:ext cx="10724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reduzeć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76480" y="2677680"/>
            <a:ext cx="1108080" cy="917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Zapo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0" name=""/>
          <p:cNvCxnSpPr>
            <a:stCxn id="460" idx="2"/>
            <a:endCxn id="479" idx="3"/>
          </p:cNvCxnSpPr>
          <p:nvPr/>
        </p:nvCxnSpPr>
        <p:spPr>
          <a:xfrm rot="5400000">
            <a:off x="4037040" y="2840400"/>
            <a:ext cx="343800" cy="2502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79" idx="1"/>
            <a:endCxn id="478" idx="3"/>
          </p:cNvCxnSpPr>
          <p:nvPr/>
        </p:nvCxnSpPr>
        <p:spPr>
          <a:xfrm flipV="1" rot="10800000">
            <a:off x="2572560" y="3135960"/>
            <a:ext cx="403920" cy="59400"/>
          </a:xfrm>
          <a:prstGeom prst="curvedConnector5">
            <a:avLst>
              <a:gd name="adj1" fmla="val 49955"/>
              <a:gd name="adj2" fmla="val 50000"/>
              <a:gd name="adj3" fmla="val 4995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2" name=""/>
          <p:cNvSpPr/>
          <p:nvPr/>
        </p:nvSpPr>
        <p:spPr>
          <a:xfrm>
            <a:off x="3835440" y="28018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57440" y="29257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41920" y="24271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93000" y="244620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73120" y="2068560"/>
            <a:ext cx="6606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Vrsta (0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760" y="2749680"/>
            <a:ext cx="507960" cy="2142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M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65240" y="2446200"/>
            <a:ext cx="67932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me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88" idx="1"/>
            <a:endCxn id="462" idx="1"/>
          </p:cNvCxnSpPr>
          <p:nvPr/>
        </p:nvCxnSpPr>
        <p:spPr>
          <a:xfrm flipH="1" flipV="1" rot="10800000">
            <a:off x="164160" y="2541600"/>
            <a:ext cx="425880" cy="660600"/>
          </a:xfrm>
          <a:prstGeom prst="curvedConnector5">
            <a:avLst>
              <a:gd name="adj1" fmla="val -7783"/>
              <a:gd name="adj2" fmla="val 50000"/>
              <a:gd name="adj3" fmla="val -77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0" name=""/>
          <p:cNvCxnSpPr>
            <a:stCxn id="462" idx="1"/>
            <a:endCxn id="487" idx="1"/>
          </p:cNvCxnSpPr>
          <p:nvPr/>
        </p:nvCxnSpPr>
        <p:spPr>
          <a:xfrm rot="10800000">
            <a:off x="320040" y="2856960"/>
            <a:ext cx="270360" cy="344880"/>
          </a:xfrm>
          <a:prstGeom prst="curvedConnector5">
            <a:avLst>
              <a:gd name="adj1" fmla="val 104666"/>
              <a:gd name="adj2" fmla="val 49947"/>
              <a:gd name="adj3" fmla="val 1046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1598760" y="2711520"/>
            <a:ext cx="772920" cy="2142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RegB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67080" y="2693880"/>
            <a:ext cx="90792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ivP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78" idx="0"/>
            <a:endCxn id="491" idx="1"/>
          </p:cNvCxnSpPr>
          <p:nvPr/>
        </p:nvCxnSpPr>
        <p:spPr>
          <a:xfrm flipV="1" rot="16200000">
            <a:off x="1706400" y="2710800"/>
            <a:ext cx="219600" cy="435600"/>
          </a:xfrm>
          <a:prstGeom prst="curvedConnector5">
            <a:avLst>
              <a:gd name="adj1" fmla="val 25287"/>
              <a:gd name="adj2" fmla="val 76261"/>
              <a:gd name="adj3" fmla="val 252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78" idx="0"/>
            <a:endCxn id="492" idx="2"/>
          </p:cNvCxnSpPr>
          <p:nvPr/>
        </p:nvCxnSpPr>
        <p:spPr>
          <a:xfrm flipH="1" flipV="1" rot="5400000">
            <a:off x="2399760" y="2517120"/>
            <a:ext cx="154800" cy="888120"/>
          </a:xfrm>
          <a:prstGeom prst="curvedConnector5">
            <a:avLst>
              <a:gd name="adj1" fmla="val 49417"/>
              <a:gd name="adj2" fmla="val 50000"/>
              <a:gd name="adj3" fmla="val 4941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95" name=""/>
          <p:cNvSpPr/>
          <p:nvPr/>
        </p:nvSpPr>
        <p:spPr>
          <a:xfrm>
            <a:off x="2665440" y="2251080"/>
            <a:ext cx="90792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Zanima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stCxn id="495" idx="3"/>
            <a:endCxn id="460" idx="0"/>
          </p:cNvCxnSpPr>
          <p:nvPr/>
        </p:nvCxnSpPr>
        <p:spPr>
          <a:xfrm>
            <a:off x="3573000" y="2346480"/>
            <a:ext cx="761400" cy="133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97" name=""/>
          <p:cNvSpPr/>
          <p:nvPr/>
        </p:nvSpPr>
        <p:spPr>
          <a:xfrm>
            <a:off x="4867200" y="3100320"/>
            <a:ext cx="908280" cy="1969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ŠifP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8" name=""/>
          <p:cNvCxnSpPr>
            <a:stCxn id="472" idx="2"/>
            <a:endCxn id="497" idx="0"/>
          </p:cNvCxnSpPr>
          <p:nvPr/>
        </p:nvCxnSpPr>
        <p:spPr>
          <a:xfrm rot="5400000">
            <a:off x="6015600" y="2125440"/>
            <a:ext cx="280080" cy="1670760"/>
          </a:xfrm>
          <a:prstGeom prst="curvedConnector5">
            <a:avLst>
              <a:gd name="adj1" fmla="val 49935"/>
              <a:gd name="adj2" fmla="val 5000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99" name=""/>
          <p:cNvSpPr/>
          <p:nvPr/>
        </p:nvSpPr>
        <p:spPr>
          <a:xfrm>
            <a:off x="6043680" y="3135240"/>
            <a:ext cx="907920" cy="1969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ivP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72" idx="2"/>
            <a:endCxn id="499" idx="3"/>
          </p:cNvCxnSpPr>
          <p:nvPr/>
        </p:nvCxnSpPr>
        <p:spPr>
          <a:xfrm rot="5400000">
            <a:off x="6764400" y="3007440"/>
            <a:ext cx="413640" cy="403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1" name=""/>
          <p:cNvSpPr/>
          <p:nvPr/>
        </p:nvSpPr>
        <p:spPr>
          <a:xfrm>
            <a:off x="7386480" y="3160800"/>
            <a:ext cx="908280" cy="1969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ivZ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"/>
          <p:cNvCxnSpPr>
            <a:stCxn id="475" idx="2"/>
            <a:endCxn id="501" idx="3"/>
          </p:cNvCxnSpPr>
          <p:nvPr/>
        </p:nvCxnSpPr>
        <p:spPr>
          <a:xfrm rot="5400000">
            <a:off x="8149680" y="2948040"/>
            <a:ext cx="456120" cy="1670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7031160" y="2122560"/>
            <a:ext cx="907920" cy="1969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pisZ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475" idx="0"/>
            <a:endCxn id="503" idx="3"/>
          </p:cNvCxnSpPr>
          <p:nvPr/>
        </p:nvCxnSpPr>
        <p:spPr>
          <a:xfrm flipV="1" rot="16200000">
            <a:off x="8051040" y="2107440"/>
            <a:ext cx="297720" cy="5230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5" name=""/>
          <p:cNvSpPr/>
          <p:nvPr/>
        </p:nvSpPr>
        <p:spPr>
          <a:xfrm>
            <a:off x="7323120" y="24433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507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08FA6A6-4281-4704-8EC0-EA46F3CCBAD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9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1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5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-Primer modela objekti-ve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4000" y="3570120"/>
            <a:ext cx="910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just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onja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 granica preslikavanja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Roditelj</a:t>
            </a:r>
            <a:r>
              <a:rPr b="1" lang="sr-Latn-CS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Student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je jednaka 1. To znači da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Roditelj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ne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može postojati u bazi ako nije vezan za nekog studenta. Ne može se izbaciti neko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pojavljivanje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Studenta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iz baze, ako je za njega vezano pojavljivanje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Roditelja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koje je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Roditelj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samo tom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 Studentu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ili se zajedeno sa njim mora izbaciti i takvo pojavljivanje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Roditelja.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Uopšteno ažuriranje baze podataka mogu da naruše kardinalnost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preslikavanja (tzv. “Strukturna ograničenja”) i zbog toga je neophodno definisati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odgovarajuća dinamička pravila integriteta. Očigledno je da su kritična preslikavanja sa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donjom granicom različitom od nule (najčešće 1) i gornjom granicom različitom od M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(najčešće 1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212120" y="532080"/>
            <a:ext cx="5662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Ko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2440" y="501480"/>
            <a:ext cx="930240" cy="2494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RedB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2440" y="78912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Mar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7360" y="108900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Bo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7" name=""/>
          <p:cNvCxnSpPr>
            <a:stCxn id="513" idx="1"/>
            <a:endCxn id="514" idx="3"/>
          </p:cNvCxnSpPr>
          <p:nvPr/>
        </p:nvCxnSpPr>
        <p:spPr>
          <a:xfrm flipH="1" flipV="1">
            <a:off x="1012320" y="626400"/>
            <a:ext cx="194400" cy="59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8" name=""/>
          <p:cNvCxnSpPr>
            <a:stCxn id="513" idx="1"/>
            <a:endCxn id="515" idx="3"/>
          </p:cNvCxnSpPr>
          <p:nvPr/>
        </p:nvCxnSpPr>
        <p:spPr>
          <a:xfrm flipH="1">
            <a:off x="1012320" y="685440"/>
            <a:ext cx="194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9" name=""/>
          <p:cNvCxnSpPr>
            <a:stCxn id="516" idx="3"/>
            <a:endCxn id="513" idx="1"/>
          </p:cNvCxnSpPr>
          <p:nvPr/>
        </p:nvCxnSpPr>
        <p:spPr>
          <a:xfrm flipV="1">
            <a:off x="1047240" y="685440"/>
            <a:ext cx="159480" cy="529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0" name=""/>
          <p:cNvSpPr/>
          <p:nvPr/>
        </p:nvSpPr>
        <p:spPr>
          <a:xfrm>
            <a:off x="1090440" y="817200"/>
            <a:ext cx="1108080" cy="917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arki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3" idx="2"/>
            <a:endCxn id="520" idx="0"/>
          </p:cNvCxnSpPr>
          <p:nvPr/>
        </p:nvCxnSpPr>
        <p:spPr>
          <a:xfrm>
            <a:off x="1495440" y="842760"/>
            <a:ext cx="14976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1087560" y="82080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68840" y="1748160"/>
            <a:ext cx="842040" cy="3070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cc0000"/>
                </a:solidFill>
                <a:latin typeface="Arial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20" idx="2"/>
            <a:endCxn id="523" idx="0"/>
          </p:cNvCxnSpPr>
          <p:nvPr/>
        </p:nvCxnSpPr>
        <p:spPr>
          <a:xfrm flipH="1">
            <a:off x="1490040" y="1509840"/>
            <a:ext cx="15444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5" name=""/>
          <p:cNvSpPr/>
          <p:nvPr/>
        </p:nvSpPr>
        <p:spPr>
          <a:xfrm>
            <a:off x="1096920" y="15289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320" y="1415880"/>
            <a:ext cx="930240" cy="24948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Broj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23" idx="1"/>
            <a:endCxn id="526" idx="3"/>
          </p:cNvCxnSpPr>
          <p:nvPr/>
        </p:nvCxnSpPr>
        <p:spPr>
          <a:xfrm flipH="1" flipV="1">
            <a:off x="1005840" y="1540800"/>
            <a:ext cx="579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8" name=""/>
          <p:cNvCxnSpPr>
            <a:stCxn id="523" idx="1"/>
            <a:endCxn id="529" idx="3"/>
          </p:cNvCxnSpPr>
          <p:nvPr/>
        </p:nvCxnSpPr>
        <p:spPr>
          <a:xfrm flipH="1" flipV="1">
            <a:off x="999360" y="1851840"/>
            <a:ext cx="64440" cy="50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0" name=""/>
          <p:cNvCxnSpPr>
            <a:stCxn id="523" idx="1"/>
            <a:endCxn id="531" idx="3"/>
          </p:cNvCxnSpPr>
          <p:nvPr/>
        </p:nvCxnSpPr>
        <p:spPr>
          <a:xfrm flipH="1">
            <a:off x="1015200" y="1901520"/>
            <a:ext cx="48600" cy="28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9" name=""/>
          <p:cNvSpPr/>
          <p:nvPr/>
        </p:nvSpPr>
        <p:spPr>
          <a:xfrm>
            <a:off x="69840" y="1727280"/>
            <a:ext cx="930240" cy="24912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5680" y="2058840"/>
            <a:ext cx="930240" cy="24948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Seme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93200" y="529560"/>
            <a:ext cx="136368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Regi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32" idx="1"/>
            <a:endCxn id="523" idx="3"/>
          </p:cNvCxnSpPr>
          <p:nvPr/>
        </p:nvCxnSpPr>
        <p:spPr>
          <a:xfrm flipH="1">
            <a:off x="1915920" y="806040"/>
            <a:ext cx="460800" cy="1096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4" name=""/>
          <p:cNvSpPr/>
          <p:nvPr/>
        </p:nvSpPr>
        <p:spPr>
          <a:xfrm>
            <a:off x="2292480" y="8683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278960" y="1746720"/>
            <a:ext cx="8938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redm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32" idx="3"/>
            <a:endCxn id="535" idx="1"/>
          </p:cNvCxnSpPr>
          <p:nvPr/>
        </p:nvCxnSpPr>
        <p:spPr>
          <a:xfrm>
            <a:off x="3573000" y="806400"/>
            <a:ext cx="70092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7" name=""/>
          <p:cNvSpPr/>
          <p:nvPr/>
        </p:nvSpPr>
        <p:spPr>
          <a:xfrm>
            <a:off x="3201840" y="8683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2387520" y="1623960"/>
            <a:ext cx="1456920" cy="552240"/>
            <a:chOff x="2387520" y="1623960"/>
            <a:chExt cx="1456920" cy="552240"/>
          </a:xfrm>
        </p:grpSpPr>
        <p:sp>
          <p:nvSpPr>
            <p:cNvPr id="539" name=""/>
            <p:cNvSpPr/>
            <p:nvPr/>
          </p:nvSpPr>
          <p:spPr>
            <a:xfrm>
              <a:off x="2387520" y="1667160"/>
              <a:ext cx="1456920" cy="466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393280" y="1623960"/>
              <a:ext cx="1449360" cy="55224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</a:rPr>
                <a:t>Pri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1" name=""/>
          <p:cNvCxnSpPr>
            <a:stCxn id="540" idx="1"/>
            <a:endCxn id="523" idx="3"/>
          </p:cNvCxnSpPr>
          <p:nvPr/>
        </p:nvCxnSpPr>
        <p:spPr>
          <a:xfrm flipH="1">
            <a:off x="1915560" y="1899720"/>
            <a:ext cx="478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42" name=""/>
          <p:cNvCxnSpPr>
            <a:stCxn id="535" idx="1"/>
            <a:endCxn id="540" idx="3"/>
          </p:cNvCxnSpPr>
          <p:nvPr/>
        </p:nvCxnSpPr>
        <p:spPr>
          <a:xfrm flipH="1">
            <a:off x="3842640" y="18997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3" name=""/>
          <p:cNvSpPr/>
          <p:nvPr/>
        </p:nvSpPr>
        <p:spPr>
          <a:xfrm>
            <a:off x="2324160" y="1103400"/>
            <a:ext cx="65232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8120" y="1103400"/>
            <a:ext cx="65232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c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"/>
          <p:cNvCxnSpPr>
            <a:stCxn id="543" idx="2"/>
            <a:endCxn id="540" idx="0"/>
          </p:cNvCxnSpPr>
          <p:nvPr/>
        </p:nvCxnSpPr>
        <p:spPr>
          <a:xfrm>
            <a:off x="2650680" y="1337760"/>
            <a:ext cx="46908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44" idx="2"/>
            <a:endCxn id="540" idx="0"/>
          </p:cNvCxnSpPr>
          <p:nvPr/>
        </p:nvCxnSpPr>
        <p:spPr>
          <a:xfrm flipH="1">
            <a:off x="3119400" y="1337760"/>
            <a:ext cx="25596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7" name=""/>
          <p:cNvSpPr/>
          <p:nvPr/>
        </p:nvSpPr>
        <p:spPr>
          <a:xfrm>
            <a:off x="4172040" y="863280"/>
            <a:ext cx="1108080" cy="917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e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>
            <a:stCxn id="547" idx="2"/>
            <a:endCxn id="535" idx="0"/>
          </p:cNvCxnSpPr>
          <p:nvPr/>
        </p:nvCxnSpPr>
        <p:spPr>
          <a:xfrm>
            <a:off x="4725720" y="1555920"/>
            <a:ext cx="108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9" name=""/>
          <p:cNvSpPr/>
          <p:nvPr/>
        </p:nvSpPr>
        <p:spPr>
          <a:xfrm>
            <a:off x="3763800" y="16714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33560" y="16714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201200" y="525960"/>
            <a:ext cx="10220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Nastav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2" name=""/>
          <p:cNvCxnSpPr>
            <a:stCxn id="551" idx="2"/>
            <a:endCxn id="547" idx="0"/>
          </p:cNvCxnSpPr>
          <p:nvPr/>
        </p:nvCxnSpPr>
        <p:spPr>
          <a:xfrm>
            <a:off x="4713120" y="836280"/>
            <a:ext cx="1368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3" name=""/>
          <p:cNvSpPr/>
          <p:nvPr/>
        </p:nvSpPr>
        <p:spPr>
          <a:xfrm>
            <a:off x="3389400" y="501480"/>
            <a:ext cx="703080" cy="2350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meN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4" name=""/>
          <p:cNvCxnSpPr>
            <a:stCxn id="553" idx="3"/>
            <a:endCxn id="551" idx="1"/>
          </p:cNvCxnSpPr>
          <p:nvPr/>
        </p:nvCxnSpPr>
        <p:spPr>
          <a:xfrm>
            <a:off x="4092120" y="618840"/>
            <a:ext cx="105480" cy="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5" name=""/>
          <p:cNvSpPr/>
          <p:nvPr/>
        </p:nvSpPr>
        <p:spPr>
          <a:xfrm>
            <a:off x="5892840" y="555480"/>
            <a:ext cx="652320" cy="2350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ŠifN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1" idx="3"/>
            <a:endCxn id="555" idx="1"/>
          </p:cNvCxnSpPr>
          <p:nvPr/>
        </p:nvCxnSpPr>
        <p:spPr>
          <a:xfrm flipV="1">
            <a:off x="5227560" y="672480"/>
            <a:ext cx="665640" cy="6840"/>
          </a:xfrm>
          <a:prstGeom prst="bentConnector3">
            <a:avLst>
              <a:gd name="adj1" fmla="val 498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57" name=""/>
          <p:cNvSpPr/>
          <p:nvPr/>
        </p:nvSpPr>
        <p:spPr>
          <a:xfrm>
            <a:off x="4282920" y="82080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67080" y="15541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59320" y="901800"/>
            <a:ext cx="65268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ŠifP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31000" y="739800"/>
            <a:ext cx="858960" cy="2602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P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59" idx="2"/>
          </p:cNvCxnSpPr>
          <p:nvPr/>
        </p:nvCxnSpPr>
        <p:spPr>
          <a:xfrm rot="5400000">
            <a:off x="5065920" y="1137240"/>
            <a:ext cx="621720" cy="619920"/>
          </a:xfrm>
          <a:prstGeom prst="curvedConnector5">
            <a:avLst>
              <a:gd name="adj1" fmla="val 49826"/>
              <a:gd name="adj2" fmla="val 49970"/>
              <a:gd name="adj3" fmla="val 498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60" idx="1"/>
          </p:cNvCxnSpPr>
          <p:nvPr/>
        </p:nvCxnSpPr>
        <p:spPr>
          <a:xfrm flipV="1" rot="10800000">
            <a:off x="5066640" y="869040"/>
            <a:ext cx="1764360" cy="89100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5902200" y="1616040"/>
            <a:ext cx="143676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ip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009280" y="1730880"/>
            <a:ext cx="8438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Kated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35" idx="3"/>
            <a:endCxn id="563" idx="1"/>
          </p:cNvCxnSpPr>
          <p:nvPr/>
        </p:nvCxnSpPr>
        <p:spPr>
          <a:xfrm flipV="1">
            <a:off x="5178600" y="1891800"/>
            <a:ext cx="72432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63" idx="3"/>
            <a:endCxn id="564" idx="1"/>
          </p:cNvCxnSpPr>
          <p:nvPr/>
        </p:nvCxnSpPr>
        <p:spPr>
          <a:xfrm flipV="1">
            <a:off x="7338960" y="1883880"/>
            <a:ext cx="6656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5280120" y="16858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442280" y="168264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205840" y="797040"/>
            <a:ext cx="65232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K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194600" y="1181160"/>
            <a:ext cx="65232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ŠifK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70" idx="3"/>
            <a:endCxn id="564" idx="0"/>
          </p:cNvCxnSpPr>
          <p:nvPr/>
        </p:nvCxnSpPr>
        <p:spPr>
          <a:xfrm>
            <a:off x="7846560" y="1298160"/>
            <a:ext cx="58500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2" name=""/>
          <p:cNvCxnSpPr>
            <a:stCxn id="569" idx="2"/>
            <a:endCxn id="564" idx="0"/>
          </p:cNvCxnSpPr>
          <p:nvPr/>
        </p:nvCxnSpPr>
        <p:spPr>
          <a:xfrm flipH="1">
            <a:off x="8430840" y="1031760"/>
            <a:ext cx="102240" cy="696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3862440" y="2483280"/>
            <a:ext cx="9428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Vanred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93880" y="2263680"/>
            <a:ext cx="1108080" cy="552240"/>
          </a:xfrm>
          <a:prstGeom prst="flowChartDecision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 Narrow"/>
              </a:rPr>
              <a:t>Imaj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94720" y="3048480"/>
            <a:ext cx="834480" cy="3070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cc0000"/>
                </a:solidFill>
                <a:latin typeface="Arial"/>
              </a:rPr>
              <a:t>Roditel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"/>
          <p:cNvCxnSpPr>
            <a:stCxn id="574" idx="0"/>
            <a:endCxn id="523" idx="2"/>
          </p:cNvCxnSpPr>
          <p:nvPr/>
        </p:nvCxnSpPr>
        <p:spPr>
          <a:xfrm flipV="1">
            <a:off x="1447560" y="2058480"/>
            <a:ext cx="43560" cy="246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942840" y="20620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"/>
          <p:cNvCxnSpPr>
            <a:stCxn id="575" idx="0"/>
            <a:endCxn id="574" idx="2"/>
          </p:cNvCxnSpPr>
          <p:nvPr/>
        </p:nvCxnSpPr>
        <p:spPr>
          <a:xfrm flipV="1">
            <a:off x="1012320" y="2773080"/>
            <a:ext cx="43596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9" name=""/>
          <p:cNvSpPr/>
          <p:nvPr/>
        </p:nvSpPr>
        <p:spPr>
          <a:xfrm>
            <a:off x="779400" y="267984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044800" y="2082600"/>
            <a:ext cx="29664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23" idx="2"/>
            <a:endCxn id="580" idx="0"/>
          </p:cNvCxnSpPr>
          <p:nvPr/>
        </p:nvCxnSpPr>
        <p:spPr>
          <a:xfrm flipH="1" rot="16200000">
            <a:off x="1809000" y="1739160"/>
            <a:ext cx="65520" cy="703800"/>
          </a:xfrm>
          <a:prstGeom prst="bentConnector3">
            <a:avLst>
              <a:gd name="adj1" fmla="val 486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2" name=""/>
          <p:cNvCxnSpPr>
            <a:stCxn id="580" idx="2"/>
            <a:endCxn id="573" idx="1"/>
          </p:cNvCxnSpPr>
          <p:nvPr/>
        </p:nvCxnSpPr>
        <p:spPr>
          <a:xfrm flipH="1" rot="16200000">
            <a:off x="3003480" y="1782360"/>
            <a:ext cx="45360" cy="1664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3" name=""/>
          <p:cNvSpPr/>
          <p:nvPr/>
        </p:nvSpPr>
        <p:spPr>
          <a:xfrm>
            <a:off x="5130720" y="2201400"/>
            <a:ext cx="1108080" cy="917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Učest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83" idx="1"/>
            <a:endCxn id="573" idx="3"/>
          </p:cNvCxnSpPr>
          <p:nvPr/>
        </p:nvCxnSpPr>
        <p:spPr>
          <a:xfrm flipH="1" flipV="1">
            <a:off x="4809240" y="2636640"/>
            <a:ext cx="321480" cy="24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5" name=""/>
          <p:cNvSpPr/>
          <p:nvPr/>
        </p:nvSpPr>
        <p:spPr>
          <a:xfrm>
            <a:off x="6548040" y="2510280"/>
            <a:ext cx="8848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rojek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7846920" y="2454120"/>
            <a:ext cx="1225800" cy="408240"/>
            <a:chOff x="7846920" y="2454120"/>
            <a:chExt cx="1225800" cy="408240"/>
          </a:xfrm>
        </p:grpSpPr>
        <p:sp>
          <p:nvSpPr>
            <p:cNvPr id="587" name=""/>
            <p:cNvSpPr/>
            <p:nvPr/>
          </p:nvSpPr>
          <p:spPr>
            <a:xfrm>
              <a:off x="7846920" y="2454120"/>
              <a:ext cx="1225800" cy="408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31160" y="2522160"/>
              <a:ext cx="1058760" cy="276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</a:rPr>
                <a:t>Zadat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9" name=""/>
          <p:cNvCxnSpPr>
            <a:stCxn id="585" idx="3"/>
            <a:endCxn id="587" idx="1"/>
          </p:cNvCxnSpPr>
          <p:nvPr/>
        </p:nvCxnSpPr>
        <p:spPr>
          <a:xfrm flipV="1">
            <a:off x="7437240" y="2658600"/>
            <a:ext cx="410040" cy="5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0" name=""/>
          <p:cNvCxnSpPr>
            <a:stCxn id="585" idx="1"/>
            <a:endCxn id="583" idx="3"/>
          </p:cNvCxnSpPr>
          <p:nvPr/>
        </p:nvCxnSpPr>
        <p:spPr>
          <a:xfrm flipH="1" flipV="1">
            <a:off x="6238080" y="2660040"/>
            <a:ext cx="305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1496520" y="3042000"/>
            <a:ext cx="10724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reduzeć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76480" y="2677680"/>
            <a:ext cx="1108080" cy="917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Zapo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3" name=""/>
          <p:cNvCxnSpPr>
            <a:stCxn id="573" idx="2"/>
            <a:endCxn id="592" idx="3"/>
          </p:cNvCxnSpPr>
          <p:nvPr/>
        </p:nvCxnSpPr>
        <p:spPr>
          <a:xfrm rot="5400000">
            <a:off x="4037040" y="2840400"/>
            <a:ext cx="343800" cy="2502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4" name=""/>
          <p:cNvCxnSpPr>
            <a:stCxn id="592" idx="1"/>
            <a:endCxn id="591" idx="3"/>
          </p:cNvCxnSpPr>
          <p:nvPr/>
        </p:nvCxnSpPr>
        <p:spPr>
          <a:xfrm flipV="1" rot="10800000">
            <a:off x="2572560" y="3135960"/>
            <a:ext cx="403920" cy="59400"/>
          </a:xfrm>
          <a:prstGeom prst="curvedConnector5">
            <a:avLst>
              <a:gd name="adj1" fmla="val 49955"/>
              <a:gd name="adj2" fmla="val 50000"/>
              <a:gd name="adj3" fmla="val 4995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95" name=""/>
          <p:cNvSpPr/>
          <p:nvPr/>
        </p:nvSpPr>
        <p:spPr>
          <a:xfrm>
            <a:off x="3835440" y="28018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57440" y="29257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741920" y="24271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093000" y="244620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473120" y="2068560"/>
            <a:ext cx="6606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Vrsta (0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760" y="2749680"/>
            <a:ext cx="507960" cy="21420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M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5240" y="2446200"/>
            <a:ext cx="679320" cy="19080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Ime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2" name=""/>
          <p:cNvCxnSpPr>
            <a:stCxn id="601" idx="1"/>
            <a:endCxn id="575" idx="1"/>
          </p:cNvCxnSpPr>
          <p:nvPr/>
        </p:nvCxnSpPr>
        <p:spPr>
          <a:xfrm flipH="1" flipV="1" rot="10800000">
            <a:off x="164160" y="2541600"/>
            <a:ext cx="425880" cy="660600"/>
          </a:xfrm>
          <a:prstGeom prst="curvedConnector5">
            <a:avLst>
              <a:gd name="adj1" fmla="val -7783"/>
              <a:gd name="adj2" fmla="val 50000"/>
              <a:gd name="adj3" fmla="val -77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3" name=""/>
          <p:cNvCxnSpPr>
            <a:stCxn id="575" idx="1"/>
            <a:endCxn id="600" idx="1"/>
          </p:cNvCxnSpPr>
          <p:nvPr/>
        </p:nvCxnSpPr>
        <p:spPr>
          <a:xfrm rot="10800000">
            <a:off x="320040" y="2856960"/>
            <a:ext cx="270360" cy="344880"/>
          </a:xfrm>
          <a:prstGeom prst="curvedConnector5">
            <a:avLst>
              <a:gd name="adj1" fmla="val 104666"/>
              <a:gd name="adj2" fmla="val 49947"/>
              <a:gd name="adj3" fmla="val 1046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4" name=""/>
          <p:cNvSpPr/>
          <p:nvPr/>
        </p:nvSpPr>
        <p:spPr>
          <a:xfrm>
            <a:off x="1598760" y="2711520"/>
            <a:ext cx="772920" cy="2142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RegB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467080" y="2693880"/>
            <a:ext cx="90792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ivP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6" name=""/>
          <p:cNvCxnSpPr>
            <a:stCxn id="591" idx="0"/>
            <a:endCxn id="604" idx="1"/>
          </p:cNvCxnSpPr>
          <p:nvPr/>
        </p:nvCxnSpPr>
        <p:spPr>
          <a:xfrm flipV="1" rot="16200000">
            <a:off x="1706400" y="2710800"/>
            <a:ext cx="219600" cy="435600"/>
          </a:xfrm>
          <a:prstGeom prst="curvedConnector5">
            <a:avLst>
              <a:gd name="adj1" fmla="val 25287"/>
              <a:gd name="adj2" fmla="val 76261"/>
              <a:gd name="adj3" fmla="val 252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7" name=""/>
          <p:cNvCxnSpPr>
            <a:stCxn id="591" idx="0"/>
            <a:endCxn id="605" idx="2"/>
          </p:cNvCxnSpPr>
          <p:nvPr/>
        </p:nvCxnSpPr>
        <p:spPr>
          <a:xfrm flipH="1" flipV="1" rot="5400000">
            <a:off x="2399760" y="2517120"/>
            <a:ext cx="154800" cy="888120"/>
          </a:xfrm>
          <a:prstGeom prst="curvedConnector5">
            <a:avLst>
              <a:gd name="adj1" fmla="val 49417"/>
              <a:gd name="adj2" fmla="val 50000"/>
              <a:gd name="adj3" fmla="val 4941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8" name=""/>
          <p:cNvSpPr/>
          <p:nvPr/>
        </p:nvSpPr>
        <p:spPr>
          <a:xfrm>
            <a:off x="2665440" y="2251080"/>
            <a:ext cx="90792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Zanima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8" idx="3"/>
            <a:endCxn id="573" idx="0"/>
          </p:cNvCxnSpPr>
          <p:nvPr/>
        </p:nvCxnSpPr>
        <p:spPr>
          <a:xfrm>
            <a:off x="3573000" y="2346480"/>
            <a:ext cx="761400" cy="133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10" name=""/>
          <p:cNvSpPr/>
          <p:nvPr/>
        </p:nvSpPr>
        <p:spPr>
          <a:xfrm>
            <a:off x="4867200" y="3100320"/>
            <a:ext cx="908280" cy="1969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ŠifP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1" name=""/>
          <p:cNvCxnSpPr>
            <a:stCxn id="585" idx="2"/>
            <a:endCxn id="610" idx="0"/>
          </p:cNvCxnSpPr>
          <p:nvPr/>
        </p:nvCxnSpPr>
        <p:spPr>
          <a:xfrm rot="5400000">
            <a:off x="6015600" y="2125440"/>
            <a:ext cx="280080" cy="1670760"/>
          </a:xfrm>
          <a:prstGeom prst="curvedConnector5">
            <a:avLst>
              <a:gd name="adj1" fmla="val 49935"/>
              <a:gd name="adj2" fmla="val 5000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2" name=""/>
          <p:cNvSpPr/>
          <p:nvPr/>
        </p:nvSpPr>
        <p:spPr>
          <a:xfrm>
            <a:off x="6043680" y="3135240"/>
            <a:ext cx="907920" cy="1969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ivP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3" name=""/>
          <p:cNvCxnSpPr>
            <a:stCxn id="585" idx="2"/>
            <a:endCxn id="612" idx="3"/>
          </p:cNvCxnSpPr>
          <p:nvPr/>
        </p:nvCxnSpPr>
        <p:spPr>
          <a:xfrm rot="5400000">
            <a:off x="6764400" y="3007440"/>
            <a:ext cx="413640" cy="403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14" name=""/>
          <p:cNvSpPr/>
          <p:nvPr/>
        </p:nvSpPr>
        <p:spPr>
          <a:xfrm>
            <a:off x="7386480" y="3160800"/>
            <a:ext cx="908280" cy="1969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ivZ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5" name=""/>
          <p:cNvCxnSpPr>
            <a:stCxn id="588" idx="2"/>
            <a:endCxn id="614" idx="3"/>
          </p:cNvCxnSpPr>
          <p:nvPr/>
        </p:nvCxnSpPr>
        <p:spPr>
          <a:xfrm rot="5400000">
            <a:off x="8149680" y="2948040"/>
            <a:ext cx="456120" cy="1670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16" name=""/>
          <p:cNvSpPr/>
          <p:nvPr/>
        </p:nvSpPr>
        <p:spPr>
          <a:xfrm>
            <a:off x="7031160" y="2122560"/>
            <a:ext cx="907920" cy="1969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pisZ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7" name=""/>
          <p:cNvCxnSpPr>
            <a:stCxn id="588" idx="0"/>
            <a:endCxn id="616" idx="3"/>
          </p:cNvCxnSpPr>
          <p:nvPr/>
        </p:nvCxnSpPr>
        <p:spPr>
          <a:xfrm flipV="1" rot="16200000">
            <a:off x="8051040" y="2107440"/>
            <a:ext cx="297720" cy="5230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18" name=""/>
          <p:cNvSpPr/>
          <p:nvPr/>
        </p:nvSpPr>
        <p:spPr>
          <a:xfrm>
            <a:off x="7323120" y="24433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620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E3FEDFD-24EC-4431-8EC0-90009E3C6A0A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2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2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5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-Primer modela objekti-ve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000" y="4332240"/>
            <a:ext cx="91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just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 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Jedno pojavljivanje klase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Prijava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ima “kao svoje komponente” pojavljivanje objekta iz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klase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Student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i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 Predmet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 . Atributi ove agregacije daju za datog studenta i dati predmet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datum i ocenu položenog isp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212120" y="532080"/>
            <a:ext cx="5662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Ko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2440" y="501480"/>
            <a:ext cx="930240" cy="2494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RedB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2440" y="78912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Mar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7360" y="108900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Bo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26" idx="1"/>
            <a:endCxn id="627" idx="3"/>
          </p:cNvCxnSpPr>
          <p:nvPr/>
        </p:nvCxnSpPr>
        <p:spPr>
          <a:xfrm flipH="1" flipV="1">
            <a:off x="1012320" y="626400"/>
            <a:ext cx="194400" cy="59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1" name=""/>
          <p:cNvCxnSpPr>
            <a:stCxn id="626" idx="1"/>
            <a:endCxn id="628" idx="3"/>
          </p:cNvCxnSpPr>
          <p:nvPr/>
        </p:nvCxnSpPr>
        <p:spPr>
          <a:xfrm flipH="1">
            <a:off x="1012320" y="685440"/>
            <a:ext cx="194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2" name=""/>
          <p:cNvCxnSpPr>
            <a:stCxn id="629" idx="3"/>
            <a:endCxn id="626" idx="1"/>
          </p:cNvCxnSpPr>
          <p:nvPr/>
        </p:nvCxnSpPr>
        <p:spPr>
          <a:xfrm flipV="1">
            <a:off x="1047240" y="685440"/>
            <a:ext cx="159480" cy="529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3" name=""/>
          <p:cNvSpPr/>
          <p:nvPr/>
        </p:nvSpPr>
        <p:spPr>
          <a:xfrm>
            <a:off x="1090440" y="817200"/>
            <a:ext cx="1108080" cy="917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arki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4" name=""/>
          <p:cNvCxnSpPr>
            <a:stCxn id="626" idx="2"/>
            <a:endCxn id="633" idx="0"/>
          </p:cNvCxnSpPr>
          <p:nvPr/>
        </p:nvCxnSpPr>
        <p:spPr>
          <a:xfrm>
            <a:off x="1495440" y="842760"/>
            <a:ext cx="14976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5" name=""/>
          <p:cNvSpPr/>
          <p:nvPr/>
        </p:nvSpPr>
        <p:spPr>
          <a:xfrm>
            <a:off x="1087560" y="82080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68840" y="1748160"/>
            <a:ext cx="842040" cy="3070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cc0000"/>
                </a:solidFill>
                <a:latin typeface="Arial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7" name=""/>
          <p:cNvCxnSpPr>
            <a:stCxn id="633" idx="2"/>
            <a:endCxn id="636" idx="0"/>
          </p:cNvCxnSpPr>
          <p:nvPr/>
        </p:nvCxnSpPr>
        <p:spPr>
          <a:xfrm flipH="1">
            <a:off x="1490040" y="1509840"/>
            <a:ext cx="15444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8" name=""/>
          <p:cNvSpPr/>
          <p:nvPr/>
        </p:nvSpPr>
        <p:spPr>
          <a:xfrm>
            <a:off x="1096920" y="15289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6320" y="1415880"/>
            <a:ext cx="930240" cy="24948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Broj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0" name=""/>
          <p:cNvCxnSpPr>
            <a:stCxn id="636" idx="1"/>
            <a:endCxn id="639" idx="3"/>
          </p:cNvCxnSpPr>
          <p:nvPr/>
        </p:nvCxnSpPr>
        <p:spPr>
          <a:xfrm flipH="1" flipV="1">
            <a:off x="1005840" y="1540800"/>
            <a:ext cx="579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1" name=""/>
          <p:cNvCxnSpPr>
            <a:stCxn id="636" idx="1"/>
            <a:endCxn id="642" idx="3"/>
          </p:cNvCxnSpPr>
          <p:nvPr/>
        </p:nvCxnSpPr>
        <p:spPr>
          <a:xfrm flipH="1" flipV="1">
            <a:off x="999360" y="1851840"/>
            <a:ext cx="64440" cy="50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3" name=""/>
          <p:cNvCxnSpPr>
            <a:stCxn id="636" idx="1"/>
            <a:endCxn id="644" idx="3"/>
          </p:cNvCxnSpPr>
          <p:nvPr/>
        </p:nvCxnSpPr>
        <p:spPr>
          <a:xfrm flipH="1">
            <a:off x="1015200" y="1901520"/>
            <a:ext cx="48600" cy="28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42" name=""/>
          <p:cNvSpPr/>
          <p:nvPr/>
        </p:nvSpPr>
        <p:spPr>
          <a:xfrm>
            <a:off x="69840" y="1727280"/>
            <a:ext cx="930240" cy="24912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5680" y="2058840"/>
            <a:ext cx="930240" cy="24948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Seme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93200" y="529560"/>
            <a:ext cx="136368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Regi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6" name=""/>
          <p:cNvCxnSpPr>
            <a:stCxn id="645" idx="1"/>
            <a:endCxn id="636" idx="3"/>
          </p:cNvCxnSpPr>
          <p:nvPr/>
        </p:nvCxnSpPr>
        <p:spPr>
          <a:xfrm flipH="1">
            <a:off x="1915920" y="806040"/>
            <a:ext cx="460800" cy="1096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47" name=""/>
          <p:cNvSpPr/>
          <p:nvPr/>
        </p:nvSpPr>
        <p:spPr>
          <a:xfrm>
            <a:off x="2292480" y="8683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78960" y="1746720"/>
            <a:ext cx="893880" cy="3070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cc0000"/>
                </a:solidFill>
                <a:latin typeface="Arial"/>
              </a:rPr>
              <a:t>Predm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9" name=""/>
          <p:cNvCxnSpPr>
            <a:stCxn id="645" idx="3"/>
            <a:endCxn id="648" idx="1"/>
          </p:cNvCxnSpPr>
          <p:nvPr/>
        </p:nvCxnSpPr>
        <p:spPr>
          <a:xfrm>
            <a:off x="3573000" y="806400"/>
            <a:ext cx="70092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0" name=""/>
          <p:cNvSpPr/>
          <p:nvPr/>
        </p:nvSpPr>
        <p:spPr>
          <a:xfrm>
            <a:off x="3201840" y="8683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2387520" y="1623960"/>
            <a:ext cx="1456920" cy="552240"/>
            <a:chOff x="2387520" y="1623960"/>
            <a:chExt cx="1456920" cy="552240"/>
          </a:xfrm>
        </p:grpSpPr>
        <p:sp>
          <p:nvSpPr>
            <p:cNvPr id="652" name=""/>
            <p:cNvSpPr/>
            <p:nvPr/>
          </p:nvSpPr>
          <p:spPr>
            <a:xfrm>
              <a:off x="2387520" y="1667160"/>
              <a:ext cx="1456920" cy="466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393280" y="1623960"/>
              <a:ext cx="1449360" cy="552240"/>
            </a:xfrm>
            <a:prstGeom prst="flowChartDecision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cc0000"/>
                  </a:solidFill>
                  <a:latin typeface="Arial"/>
                </a:rPr>
                <a:t>Pri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4" name=""/>
          <p:cNvCxnSpPr>
            <a:stCxn id="653" idx="1"/>
            <a:endCxn id="636" idx="3"/>
          </p:cNvCxnSpPr>
          <p:nvPr/>
        </p:nvCxnSpPr>
        <p:spPr>
          <a:xfrm flipH="1">
            <a:off x="1915560" y="1899720"/>
            <a:ext cx="478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55" name=""/>
          <p:cNvCxnSpPr>
            <a:stCxn id="648" idx="1"/>
            <a:endCxn id="653" idx="3"/>
          </p:cNvCxnSpPr>
          <p:nvPr/>
        </p:nvCxnSpPr>
        <p:spPr>
          <a:xfrm flipH="1">
            <a:off x="3842640" y="18997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6" name=""/>
          <p:cNvSpPr/>
          <p:nvPr/>
        </p:nvSpPr>
        <p:spPr>
          <a:xfrm>
            <a:off x="2324160" y="1103400"/>
            <a:ext cx="652320" cy="23472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Da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048120" y="1103400"/>
            <a:ext cx="652320" cy="23472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Oc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56" idx="2"/>
            <a:endCxn id="653" idx="0"/>
          </p:cNvCxnSpPr>
          <p:nvPr/>
        </p:nvCxnSpPr>
        <p:spPr>
          <a:xfrm>
            <a:off x="2650680" y="1337760"/>
            <a:ext cx="46908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9" name=""/>
          <p:cNvCxnSpPr>
            <a:stCxn id="657" idx="2"/>
            <a:endCxn id="653" idx="0"/>
          </p:cNvCxnSpPr>
          <p:nvPr/>
        </p:nvCxnSpPr>
        <p:spPr>
          <a:xfrm flipH="1">
            <a:off x="3119400" y="1337760"/>
            <a:ext cx="25596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0" name=""/>
          <p:cNvSpPr/>
          <p:nvPr/>
        </p:nvSpPr>
        <p:spPr>
          <a:xfrm>
            <a:off x="4172040" y="863280"/>
            <a:ext cx="1108080" cy="917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e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1" name=""/>
          <p:cNvCxnSpPr>
            <a:stCxn id="660" idx="2"/>
            <a:endCxn id="648" idx="0"/>
          </p:cNvCxnSpPr>
          <p:nvPr/>
        </p:nvCxnSpPr>
        <p:spPr>
          <a:xfrm>
            <a:off x="4725720" y="1555920"/>
            <a:ext cx="108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2" name=""/>
          <p:cNvSpPr/>
          <p:nvPr/>
        </p:nvSpPr>
        <p:spPr>
          <a:xfrm>
            <a:off x="3763800" y="16714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33560" y="16714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01200" y="525960"/>
            <a:ext cx="10220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Nastav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5" name=""/>
          <p:cNvCxnSpPr>
            <a:stCxn id="664" idx="2"/>
            <a:endCxn id="660" idx="0"/>
          </p:cNvCxnSpPr>
          <p:nvPr/>
        </p:nvCxnSpPr>
        <p:spPr>
          <a:xfrm>
            <a:off x="4713120" y="836280"/>
            <a:ext cx="1368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6" name=""/>
          <p:cNvSpPr/>
          <p:nvPr/>
        </p:nvSpPr>
        <p:spPr>
          <a:xfrm>
            <a:off x="3389400" y="501480"/>
            <a:ext cx="703080" cy="2350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meN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7" name=""/>
          <p:cNvCxnSpPr>
            <a:stCxn id="666" idx="3"/>
            <a:endCxn id="664" idx="1"/>
          </p:cNvCxnSpPr>
          <p:nvPr/>
        </p:nvCxnSpPr>
        <p:spPr>
          <a:xfrm>
            <a:off x="4092120" y="618840"/>
            <a:ext cx="105480" cy="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8" name=""/>
          <p:cNvSpPr/>
          <p:nvPr/>
        </p:nvSpPr>
        <p:spPr>
          <a:xfrm>
            <a:off x="5892840" y="555480"/>
            <a:ext cx="652320" cy="2350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ŠifN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9" name=""/>
          <p:cNvCxnSpPr>
            <a:stCxn id="664" idx="3"/>
            <a:endCxn id="668" idx="1"/>
          </p:cNvCxnSpPr>
          <p:nvPr/>
        </p:nvCxnSpPr>
        <p:spPr>
          <a:xfrm flipV="1">
            <a:off x="5227560" y="672480"/>
            <a:ext cx="665640" cy="6840"/>
          </a:xfrm>
          <a:prstGeom prst="bentConnector3">
            <a:avLst>
              <a:gd name="adj1" fmla="val 498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70" name=""/>
          <p:cNvSpPr/>
          <p:nvPr/>
        </p:nvSpPr>
        <p:spPr>
          <a:xfrm>
            <a:off x="4282920" y="82080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67080" y="15541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359320" y="901800"/>
            <a:ext cx="652680" cy="23472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ŠifP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31000" y="739800"/>
            <a:ext cx="858960" cy="26028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NazP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4" name=""/>
          <p:cNvCxnSpPr>
            <a:stCxn id="672" idx="2"/>
          </p:cNvCxnSpPr>
          <p:nvPr/>
        </p:nvCxnSpPr>
        <p:spPr>
          <a:xfrm rot="5400000">
            <a:off x="5065920" y="1137240"/>
            <a:ext cx="621720" cy="619920"/>
          </a:xfrm>
          <a:prstGeom prst="curvedConnector5">
            <a:avLst>
              <a:gd name="adj1" fmla="val 49826"/>
              <a:gd name="adj2" fmla="val 49970"/>
              <a:gd name="adj3" fmla="val 498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5" name=""/>
          <p:cNvCxnSpPr>
            <a:stCxn id="673" idx="1"/>
          </p:cNvCxnSpPr>
          <p:nvPr/>
        </p:nvCxnSpPr>
        <p:spPr>
          <a:xfrm flipV="1" rot="10800000">
            <a:off x="5066640" y="869040"/>
            <a:ext cx="1764360" cy="89100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76" name=""/>
          <p:cNvSpPr/>
          <p:nvPr/>
        </p:nvSpPr>
        <p:spPr>
          <a:xfrm>
            <a:off x="5902200" y="1616040"/>
            <a:ext cx="143676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ip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009280" y="1730880"/>
            <a:ext cx="8438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Kated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8" name=""/>
          <p:cNvCxnSpPr>
            <a:stCxn id="648" idx="3"/>
            <a:endCxn id="676" idx="1"/>
          </p:cNvCxnSpPr>
          <p:nvPr/>
        </p:nvCxnSpPr>
        <p:spPr>
          <a:xfrm flipV="1">
            <a:off x="5178600" y="1891800"/>
            <a:ext cx="72432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9" name=""/>
          <p:cNvCxnSpPr>
            <a:stCxn id="676" idx="3"/>
            <a:endCxn id="677" idx="1"/>
          </p:cNvCxnSpPr>
          <p:nvPr/>
        </p:nvCxnSpPr>
        <p:spPr>
          <a:xfrm flipV="1">
            <a:off x="7338960" y="1883880"/>
            <a:ext cx="6656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80" name=""/>
          <p:cNvSpPr/>
          <p:nvPr/>
        </p:nvSpPr>
        <p:spPr>
          <a:xfrm>
            <a:off x="5280120" y="16858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442280" y="168264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205840" y="797040"/>
            <a:ext cx="65232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K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194600" y="1181160"/>
            <a:ext cx="65232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ŠifK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4" name=""/>
          <p:cNvCxnSpPr>
            <a:stCxn id="683" idx="3"/>
            <a:endCxn id="677" idx="0"/>
          </p:cNvCxnSpPr>
          <p:nvPr/>
        </p:nvCxnSpPr>
        <p:spPr>
          <a:xfrm>
            <a:off x="7846560" y="1298160"/>
            <a:ext cx="58500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5" name=""/>
          <p:cNvCxnSpPr>
            <a:stCxn id="682" idx="2"/>
            <a:endCxn id="677" idx="0"/>
          </p:cNvCxnSpPr>
          <p:nvPr/>
        </p:nvCxnSpPr>
        <p:spPr>
          <a:xfrm flipH="1">
            <a:off x="8430840" y="1031760"/>
            <a:ext cx="102240" cy="696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86" name=""/>
          <p:cNvSpPr/>
          <p:nvPr/>
        </p:nvSpPr>
        <p:spPr>
          <a:xfrm>
            <a:off x="3862440" y="2483280"/>
            <a:ext cx="9428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Vanred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93880" y="2263680"/>
            <a:ext cx="110808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Imaj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94720" y="3048480"/>
            <a:ext cx="8344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Roditel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7" idx="0"/>
            <a:endCxn id="636" idx="2"/>
          </p:cNvCxnSpPr>
          <p:nvPr/>
        </p:nvCxnSpPr>
        <p:spPr>
          <a:xfrm flipV="1">
            <a:off x="1447560" y="2058480"/>
            <a:ext cx="43560" cy="246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0" name=""/>
          <p:cNvSpPr/>
          <p:nvPr/>
        </p:nvSpPr>
        <p:spPr>
          <a:xfrm>
            <a:off x="942840" y="20620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1" name=""/>
          <p:cNvCxnSpPr>
            <a:stCxn id="688" idx="0"/>
            <a:endCxn id="687" idx="2"/>
          </p:cNvCxnSpPr>
          <p:nvPr/>
        </p:nvCxnSpPr>
        <p:spPr>
          <a:xfrm flipV="1">
            <a:off x="1012320" y="2773080"/>
            <a:ext cx="43596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2" name=""/>
          <p:cNvSpPr/>
          <p:nvPr/>
        </p:nvSpPr>
        <p:spPr>
          <a:xfrm>
            <a:off x="779400" y="267984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044800" y="2082600"/>
            <a:ext cx="29664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36" idx="2"/>
            <a:endCxn id="693" idx="0"/>
          </p:cNvCxnSpPr>
          <p:nvPr/>
        </p:nvCxnSpPr>
        <p:spPr>
          <a:xfrm flipH="1" rot="16200000">
            <a:off x="1809000" y="1739160"/>
            <a:ext cx="65520" cy="703800"/>
          </a:xfrm>
          <a:prstGeom prst="bentConnector3">
            <a:avLst>
              <a:gd name="adj1" fmla="val 486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5" name=""/>
          <p:cNvCxnSpPr>
            <a:stCxn id="693" idx="2"/>
            <a:endCxn id="686" idx="1"/>
          </p:cNvCxnSpPr>
          <p:nvPr/>
        </p:nvCxnSpPr>
        <p:spPr>
          <a:xfrm flipH="1" rot="16200000">
            <a:off x="3003480" y="1782360"/>
            <a:ext cx="45360" cy="1664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6" name=""/>
          <p:cNvSpPr/>
          <p:nvPr/>
        </p:nvSpPr>
        <p:spPr>
          <a:xfrm>
            <a:off x="5130720" y="2201400"/>
            <a:ext cx="1108080" cy="917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Učest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96" idx="1"/>
            <a:endCxn id="686" idx="3"/>
          </p:cNvCxnSpPr>
          <p:nvPr/>
        </p:nvCxnSpPr>
        <p:spPr>
          <a:xfrm flipH="1" flipV="1">
            <a:off x="4809240" y="2636640"/>
            <a:ext cx="321480" cy="24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8" name=""/>
          <p:cNvSpPr/>
          <p:nvPr/>
        </p:nvSpPr>
        <p:spPr>
          <a:xfrm>
            <a:off x="6548040" y="2510280"/>
            <a:ext cx="8848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rojek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7846920" y="2454120"/>
            <a:ext cx="1225800" cy="408240"/>
            <a:chOff x="7846920" y="2454120"/>
            <a:chExt cx="1225800" cy="408240"/>
          </a:xfrm>
        </p:grpSpPr>
        <p:sp>
          <p:nvSpPr>
            <p:cNvPr id="700" name=""/>
            <p:cNvSpPr/>
            <p:nvPr/>
          </p:nvSpPr>
          <p:spPr>
            <a:xfrm>
              <a:off x="7846920" y="2454120"/>
              <a:ext cx="1225800" cy="408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931160" y="2522160"/>
              <a:ext cx="1058760" cy="276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</a:rPr>
                <a:t>Zadat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2" name=""/>
          <p:cNvCxnSpPr>
            <a:stCxn id="698" idx="3"/>
            <a:endCxn id="700" idx="1"/>
          </p:cNvCxnSpPr>
          <p:nvPr/>
        </p:nvCxnSpPr>
        <p:spPr>
          <a:xfrm flipV="1">
            <a:off x="7437240" y="2658600"/>
            <a:ext cx="410040" cy="5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8" idx="1"/>
            <a:endCxn id="696" idx="3"/>
          </p:cNvCxnSpPr>
          <p:nvPr/>
        </p:nvCxnSpPr>
        <p:spPr>
          <a:xfrm flipH="1" flipV="1">
            <a:off x="6238080" y="2660040"/>
            <a:ext cx="305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4" name=""/>
          <p:cNvSpPr/>
          <p:nvPr/>
        </p:nvSpPr>
        <p:spPr>
          <a:xfrm>
            <a:off x="1496520" y="3042000"/>
            <a:ext cx="10724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reduzeć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976480" y="2677680"/>
            <a:ext cx="1108080" cy="917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Zapo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6" name=""/>
          <p:cNvCxnSpPr>
            <a:stCxn id="686" idx="2"/>
            <a:endCxn id="705" idx="3"/>
          </p:cNvCxnSpPr>
          <p:nvPr/>
        </p:nvCxnSpPr>
        <p:spPr>
          <a:xfrm rot="5400000">
            <a:off x="4037040" y="2840400"/>
            <a:ext cx="343800" cy="2502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7" name=""/>
          <p:cNvCxnSpPr>
            <a:stCxn id="705" idx="1"/>
            <a:endCxn id="704" idx="3"/>
          </p:cNvCxnSpPr>
          <p:nvPr/>
        </p:nvCxnSpPr>
        <p:spPr>
          <a:xfrm flipV="1" rot="10800000">
            <a:off x="2572560" y="3135960"/>
            <a:ext cx="403920" cy="59400"/>
          </a:xfrm>
          <a:prstGeom prst="curvedConnector5">
            <a:avLst>
              <a:gd name="adj1" fmla="val 49955"/>
              <a:gd name="adj2" fmla="val 50000"/>
              <a:gd name="adj3" fmla="val 4995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08" name=""/>
          <p:cNvSpPr/>
          <p:nvPr/>
        </p:nvSpPr>
        <p:spPr>
          <a:xfrm>
            <a:off x="3835440" y="28018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557440" y="29257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741920" y="24271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093000" y="244620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473120" y="2068560"/>
            <a:ext cx="6606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Vrsta (0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20760" y="2749680"/>
            <a:ext cx="507960" cy="2142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M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65240" y="2446200"/>
            <a:ext cx="67932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me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stCxn id="714" idx="1"/>
            <a:endCxn id="688" idx="1"/>
          </p:cNvCxnSpPr>
          <p:nvPr/>
        </p:nvCxnSpPr>
        <p:spPr>
          <a:xfrm flipH="1" flipV="1" rot="10800000">
            <a:off x="164160" y="2541600"/>
            <a:ext cx="425880" cy="660600"/>
          </a:xfrm>
          <a:prstGeom prst="curvedConnector5">
            <a:avLst>
              <a:gd name="adj1" fmla="val -7783"/>
              <a:gd name="adj2" fmla="val 50000"/>
              <a:gd name="adj3" fmla="val -77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6" name=""/>
          <p:cNvCxnSpPr>
            <a:stCxn id="688" idx="1"/>
            <a:endCxn id="713" idx="1"/>
          </p:cNvCxnSpPr>
          <p:nvPr/>
        </p:nvCxnSpPr>
        <p:spPr>
          <a:xfrm rot="10800000">
            <a:off x="320040" y="2856960"/>
            <a:ext cx="270360" cy="344880"/>
          </a:xfrm>
          <a:prstGeom prst="curvedConnector5">
            <a:avLst>
              <a:gd name="adj1" fmla="val 104666"/>
              <a:gd name="adj2" fmla="val 49947"/>
              <a:gd name="adj3" fmla="val 1046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17" name=""/>
          <p:cNvSpPr/>
          <p:nvPr/>
        </p:nvSpPr>
        <p:spPr>
          <a:xfrm>
            <a:off x="1598760" y="2711520"/>
            <a:ext cx="772920" cy="2142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RegB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467080" y="2693880"/>
            <a:ext cx="90792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ivP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04" idx="0"/>
            <a:endCxn id="717" idx="1"/>
          </p:cNvCxnSpPr>
          <p:nvPr/>
        </p:nvCxnSpPr>
        <p:spPr>
          <a:xfrm flipV="1" rot="16200000">
            <a:off x="1706400" y="2710800"/>
            <a:ext cx="219600" cy="435600"/>
          </a:xfrm>
          <a:prstGeom prst="curvedConnector5">
            <a:avLst>
              <a:gd name="adj1" fmla="val 25287"/>
              <a:gd name="adj2" fmla="val 76261"/>
              <a:gd name="adj3" fmla="val 252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0" name=""/>
          <p:cNvCxnSpPr>
            <a:stCxn id="704" idx="0"/>
            <a:endCxn id="718" idx="2"/>
          </p:cNvCxnSpPr>
          <p:nvPr/>
        </p:nvCxnSpPr>
        <p:spPr>
          <a:xfrm flipH="1" flipV="1" rot="5400000">
            <a:off x="2399760" y="2517120"/>
            <a:ext cx="154800" cy="888120"/>
          </a:xfrm>
          <a:prstGeom prst="curvedConnector5">
            <a:avLst>
              <a:gd name="adj1" fmla="val 49417"/>
              <a:gd name="adj2" fmla="val 50000"/>
              <a:gd name="adj3" fmla="val 4941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1" name=""/>
          <p:cNvSpPr/>
          <p:nvPr/>
        </p:nvSpPr>
        <p:spPr>
          <a:xfrm>
            <a:off x="2665440" y="2251080"/>
            <a:ext cx="90792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Zanima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1" idx="3"/>
            <a:endCxn id="686" idx="0"/>
          </p:cNvCxnSpPr>
          <p:nvPr/>
        </p:nvCxnSpPr>
        <p:spPr>
          <a:xfrm>
            <a:off x="3573000" y="2346480"/>
            <a:ext cx="761400" cy="133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23" name=""/>
          <p:cNvSpPr/>
          <p:nvPr/>
        </p:nvSpPr>
        <p:spPr>
          <a:xfrm>
            <a:off x="4867200" y="3100320"/>
            <a:ext cx="908280" cy="1969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ŠifP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>
            <a:stCxn id="698" idx="2"/>
            <a:endCxn id="723" idx="0"/>
          </p:cNvCxnSpPr>
          <p:nvPr/>
        </p:nvCxnSpPr>
        <p:spPr>
          <a:xfrm rot="5400000">
            <a:off x="6015600" y="2125440"/>
            <a:ext cx="280080" cy="1670760"/>
          </a:xfrm>
          <a:prstGeom prst="curvedConnector5">
            <a:avLst>
              <a:gd name="adj1" fmla="val 49935"/>
              <a:gd name="adj2" fmla="val 5000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5" name=""/>
          <p:cNvSpPr/>
          <p:nvPr/>
        </p:nvSpPr>
        <p:spPr>
          <a:xfrm>
            <a:off x="6043680" y="3135240"/>
            <a:ext cx="907920" cy="1969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ivP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6" name=""/>
          <p:cNvCxnSpPr>
            <a:stCxn id="698" idx="2"/>
            <a:endCxn id="725" idx="3"/>
          </p:cNvCxnSpPr>
          <p:nvPr/>
        </p:nvCxnSpPr>
        <p:spPr>
          <a:xfrm rot="5400000">
            <a:off x="6764400" y="3007440"/>
            <a:ext cx="413640" cy="403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27" name=""/>
          <p:cNvSpPr/>
          <p:nvPr/>
        </p:nvSpPr>
        <p:spPr>
          <a:xfrm>
            <a:off x="7386480" y="3160800"/>
            <a:ext cx="908280" cy="1969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ivZ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8" name=""/>
          <p:cNvCxnSpPr>
            <a:stCxn id="701" idx="2"/>
            <a:endCxn id="727" idx="3"/>
          </p:cNvCxnSpPr>
          <p:nvPr/>
        </p:nvCxnSpPr>
        <p:spPr>
          <a:xfrm rot="5400000">
            <a:off x="8149680" y="2948040"/>
            <a:ext cx="456120" cy="1670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29" name=""/>
          <p:cNvSpPr/>
          <p:nvPr/>
        </p:nvSpPr>
        <p:spPr>
          <a:xfrm>
            <a:off x="7031160" y="2122560"/>
            <a:ext cx="907920" cy="1969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pisZ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01" idx="0"/>
            <a:endCxn id="729" idx="3"/>
          </p:cNvCxnSpPr>
          <p:nvPr/>
        </p:nvCxnSpPr>
        <p:spPr>
          <a:xfrm flipV="1" rot="16200000">
            <a:off x="8051040" y="2107440"/>
            <a:ext cx="297720" cy="5230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1" name=""/>
          <p:cNvSpPr/>
          <p:nvPr/>
        </p:nvSpPr>
        <p:spPr>
          <a:xfrm>
            <a:off x="7323120" y="24433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733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D006960-3B41-4D55-95E7-093EA6ED5480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35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3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5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-Primer modela objekti-ve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000" y="3871800"/>
            <a:ext cx="91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just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Klasa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Vanredni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predstavlja podtip klase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Student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preko specijalizacije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Vrsta.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Znači da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se za jedan nadtip može definisati i samo jedan podtip preko neke specijalizacije.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Međutim u ovom slučaju specijalizacija ne sme da bude obavezna (donja granica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preslikavanja specijalizacije mora da bude jednaka nul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12120" y="532080"/>
            <a:ext cx="5662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Ko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82440" y="501480"/>
            <a:ext cx="930240" cy="2494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RedB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2440" y="78912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Mar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7360" y="108900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Bo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3" name=""/>
          <p:cNvCxnSpPr>
            <a:stCxn id="739" idx="1"/>
            <a:endCxn id="740" idx="3"/>
          </p:cNvCxnSpPr>
          <p:nvPr/>
        </p:nvCxnSpPr>
        <p:spPr>
          <a:xfrm flipH="1" flipV="1">
            <a:off x="1012320" y="626400"/>
            <a:ext cx="194400" cy="59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4" name=""/>
          <p:cNvCxnSpPr>
            <a:stCxn id="739" idx="1"/>
            <a:endCxn id="741" idx="3"/>
          </p:cNvCxnSpPr>
          <p:nvPr/>
        </p:nvCxnSpPr>
        <p:spPr>
          <a:xfrm flipH="1">
            <a:off x="1012320" y="685440"/>
            <a:ext cx="194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5" name=""/>
          <p:cNvCxnSpPr>
            <a:stCxn id="742" idx="3"/>
            <a:endCxn id="739" idx="1"/>
          </p:cNvCxnSpPr>
          <p:nvPr/>
        </p:nvCxnSpPr>
        <p:spPr>
          <a:xfrm flipV="1">
            <a:off x="1047240" y="685440"/>
            <a:ext cx="159480" cy="529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1090440" y="817200"/>
            <a:ext cx="1108080" cy="917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arki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39" idx="2"/>
            <a:endCxn id="746" idx="0"/>
          </p:cNvCxnSpPr>
          <p:nvPr/>
        </p:nvCxnSpPr>
        <p:spPr>
          <a:xfrm>
            <a:off x="1495440" y="842760"/>
            <a:ext cx="14976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48" name=""/>
          <p:cNvSpPr/>
          <p:nvPr/>
        </p:nvSpPr>
        <p:spPr>
          <a:xfrm>
            <a:off x="1087560" y="82080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068840" y="1748160"/>
            <a:ext cx="842040" cy="3070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cc0000"/>
                </a:solidFill>
                <a:latin typeface="Arial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0" name=""/>
          <p:cNvCxnSpPr>
            <a:stCxn id="746" idx="2"/>
            <a:endCxn id="749" idx="0"/>
          </p:cNvCxnSpPr>
          <p:nvPr/>
        </p:nvCxnSpPr>
        <p:spPr>
          <a:xfrm flipH="1">
            <a:off x="1490040" y="1509840"/>
            <a:ext cx="15444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1096920" y="15289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6320" y="1415880"/>
            <a:ext cx="930240" cy="24948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Broj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3" name=""/>
          <p:cNvCxnSpPr>
            <a:stCxn id="749" idx="1"/>
            <a:endCxn id="752" idx="3"/>
          </p:cNvCxnSpPr>
          <p:nvPr/>
        </p:nvCxnSpPr>
        <p:spPr>
          <a:xfrm flipH="1" flipV="1">
            <a:off x="1005840" y="1540800"/>
            <a:ext cx="579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4" name=""/>
          <p:cNvCxnSpPr>
            <a:stCxn id="749" idx="1"/>
            <a:endCxn id="755" idx="3"/>
          </p:cNvCxnSpPr>
          <p:nvPr/>
        </p:nvCxnSpPr>
        <p:spPr>
          <a:xfrm flipH="1" flipV="1">
            <a:off x="999360" y="1851840"/>
            <a:ext cx="64440" cy="50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6" name=""/>
          <p:cNvCxnSpPr>
            <a:stCxn id="749" idx="1"/>
            <a:endCxn id="757" idx="3"/>
          </p:cNvCxnSpPr>
          <p:nvPr/>
        </p:nvCxnSpPr>
        <p:spPr>
          <a:xfrm flipH="1">
            <a:off x="1015200" y="1901520"/>
            <a:ext cx="48600" cy="28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5" name=""/>
          <p:cNvSpPr/>
          <p:nvPr/>
        </p:nvSpPr>
        <p:spPr>
          <a:xfrm>
            <a:off x="69840" y="1727280"/>
            <a:ext cx="930240" cy="24912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5680" y="2058840"/>
            <a:ext cx="930240" cy="24948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Seme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293200" y="529560"/>
            <a:ext cx="136368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Regi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58" idx="1"/>
            <a:endCxn id="749" idx="3"/>
          </p:cNvCxnSpPr>
          <p:nvPr/>
        </p:nvCxnSpPr>
        <p:spPr>
          <a:xfrm flipH="1">
            <a:off x="1915920" y="806040"/>
            <a:ext cx="460800" cy="1096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0" name=""/>
          <p:cNvSpPr/>
          <p:nvPr/>
        </p:nvSpPr>
        <p:spPr>
          <a:xfrm>
            <a:off x="2292480" y="8683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78960" y="1746720"/>
            <a:ext cx="8938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redm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2" name=""/>
          <p:cNvCxnSpPr>
            <a:stCxn id="758" idx="3"/>
            <a:endCxn id="761" idx="1"/>
          </p:cNvCxnSpPr>
          <p:nvPr/>
        </p:nvCxnSpPr>
        <p:spPr>
          <a:xfrm>
            <a:off x="3573000" y="806400"/>
            <a:ext cx="70092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3" name=""/>
          <p:cNvSpPr/>
          <p:nvPr/>
        </p:nvSpPr>
        <p:spPr>
          <a:xfrm>
            <a:off x="3201840" y="8683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387520" y="1623960"/>
            <a:ext cx="1456920" cy="552240"/>
            <a:chOff x="2387520" y="1623960"/>
            <a:chExt cx="1456920" cy="552240"/>
          </a:xfrm>
        </p:grpSpPr>
        <p:sp>
          <p:nvSpPr>
            <p:cNvPr id="765" name=""/>
            <p:cNvSpPr/>
            <p:nvPr/>
          </p:nvSpPr>
          <p:spPr>
            <a:xfrm>
              <a:off x="2387520" y="1667160"/>
              <a:ext cx="1456920" cy="466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393280" y="1623960"/>
              <a:ext cx="1449360" cy="55224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</a:rPr>
                <a:t>Pri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67" name=""/>
          <p:cNvCxnSpPr>
            <a:stCxn id="766" idx="1"/>
            <a:endCxn id="749" idx="3"/>
          </p:cNvCxnSpPr>
          <p:nvPr/>
        </p:nvCxnSpPr>
        <p:spPr>
          <a:xfrm flipH="1">
            <a:off x="1915560" y="1899720"/>
            <a:ext cx="478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68" name=""/>
          <p:cNvCxnSpPr>
            <a:stCxn id="761" idx="1"/>
            <a:endCxn id="766" idx="3"/>
          </p:cNvCxnSpPr>
          <p:nvPr/>
        </p:nvCxnSpPr>
        <p:spPr>
          <a:xfrm flipH="1">
            <a:off x="3842640" y="18997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9" name=""/>
          <p:cNvSpPr/>
          <p:nvPr/>
        </p:nvSpPr>
        <p:spPr>
          <a:xfrm>
            <a:off x="2324160" y="1103400"/>
            <a:ext cx="65232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048120" y="1103400"/>
            <a:ext cx="65232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c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1" name=""/>
          <p:cNvCxnSpPr>
            <a:stCxn id="769" idx="2"/>
            <a:endCxn id="766" idx="0"/>
          </p:cNvCxnSpPr>
          <p:nvPr/>
        </p:nvCxnSpPr>
        <p:spPr>
          <a:xfrm>
            <a:off x="2650680" y="1337760"/>
            <a:ext cx="46908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2" name=""/>
          <p:cNvCxnSpPr>
            <a:stCxn id="770" idx="2"/>
            <a:endCxn id="766" idx="0"/>
          </p:cNvCxnSpPr>
          <p:nvPr/>
        </p:nvCxnSpPr>
        <p:spPr>
          <a:xfrm flipH="1">
            <a:off x="3119400" y="1337760"/>
            <a:ext cx="25596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73" name=""/>
          <p:cNvSpPr/>
          <p:nvPr/>
        </p:nvSpPr>
        <p:spPr>
          <a:xfrm>
            <a:off x="4172040" y="863280"/>
            <a:ext cx="1108080" cy="917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e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4" name=""/>
          <p:cNvCxnSpPr>
            <a:stCxn id="773" idx="2"/>
            <a:endCxn id="761" idx="0"/>
          </p:cNvCxnSpPr>
          <p:nvPr/>
        </p:nvCxnSpPr>
        <p:spPr>
          <a:xfrm>
            <a:off x="4725720" y="1555920"/>
            <a:ext cx="108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75" name=""/>
          <p:cNvSpPr/>
          <p:nvPr/>
        </p:nvSpPr>
        <p:spPr>
          <a:xfrm>
            <a:off x="3763800" y="16714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933560" y="16714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201200" y="525960"/>
            <a:ext cx="10220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Nastav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"/>
          <p:cNvCxnSpPr>
            <a:stCxn id="777" idx="2"/>
            <a:endCxn id="773" idx="0"/>
          </p:cNvCxnSpPr>
          <p:nvPr/>
        </p:nvCxnSpPr>
        <p:spPr>
          <a:xfrm>
            <a:off x="4713120" y="836280"/>
            <a:ext cx="1368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79" name=""/>
          <p:cNvSpPr/>
          <p:nvPr/>
        </p:nvSpPr>
        <p:spPr>
          <a:xfrm>
            <a:off x="3389400" y="501480"/>
            <a:ext cx="703080" cy="2350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meN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"/>
          <p:cNvCxnSpPr>
            <a:stCxn id="779" idx="3"/>
            <a:endCxn id="777" idx="1"/>
          </p:cNvCxnSpPr>
          <p:nvPr/>
        </p:nvCxnSpPr>
        <p:spPr>
          <a:xfrm>
            <a:off x="4092120" y="618840"/>
            <a:ext cx="105480" cy="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1" name=""/>
          <p:cNvSpPr/>
          <p:nvPr/>
        </p:nvSpPr>
        <p:spPr>
          <a:xfrm>
            <a:off x="5892840" y="555480"/>
            <a:ext cx="652320" cy="2350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ŠifN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2" name=""/>
          <p:cNvCxnSpPr>
            <a:stCxn id="777" idx="3"/>
            <a:endCxn id="781" idx="1"/>
          </p:cNvCxnSpPr>
          <p:nvPr/>
        </p:nvCxnSpPr>
        <p:spPr>
          <a:xfrm flipV="1">
            <a:off x="5227560" y="672480"/>
            <a:ext cx="665640" cy="6840"/>
          </a:xfrm>
          <a:prstGeom prst="bentConnector3">
            <a:avLst>
              <a:gd name="adj1" fmla="val 498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83" name=""/>
          <p:cNvSpPr/>
          <p:nvPr/>
        </p:nvSpPr>
        <p:spPr>
          <a:xfrm>
            <a:off x="4282920" y="82080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267080" y="15541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59320" y="901800"/>
            <a:ext cx="65268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ŠifP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31000" y="739800"/>
            <a:ext cx="858960" cy="2602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P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7" name=""/>
          <p:cNvCxnSpPr>
            <a:stCxn id="785" idx="2"/>
          </p:cNvCxnSpPr>
          <p:nvPr/>
        </p:nvCxnSpPr>
        <p:spPr>
          <a:xfrm rot="5400000">
            <a:off x="5065920" y="1137240"/>
            <a:ext cx="621720" cy="619920"/>
          </a:xfrm>
          <a:prstGeom prst="curvedConnector5">
            <a:avLst>
              <a:gd name="adj1" fmla="val 49826"/>
              <a:gd name="adj2" fmla="val 49970"/>
              <a:gd name="adj3" fmla="val 498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8" name=""/>
          <p:cNvCxnSpPr>
            <a:stCxn id="786" idx="1"/>
          </p:cNvCxnSpPr>
          <p:nvPr/>
        </p:nvCxnSpPr>
        <p:spPr>
          <a:xfrm flipV="1" rot="10800000">
            <a:off x="5066640" y="869040"/>
            <a:ext cx="1764360" cy="89100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89" name=""/>
          <p:cNvSpPr/>
          <p:nvPr/>
        </p:nvSpPr>
        <p:spPr>
          <a:xfrm>
            <a:off x="5902200" y="1616040"/>
            <a:ext cx="143676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ip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009280" y="1730880"/>
            <a:ext cx="8438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Kated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1" idx="3"/>
            <a:endCxn id="789" idx="1"/>
          </p:cNvCxnSpPr>
          <p:nvPr/>
        </p:nvCxnSpPr>
        <p:spPr>
          <a:xfrm flipV="1">
            <a:off x="5178600" y="1891800"/>
            <a:ext cx="72432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2" name=""/>
          <p:cNvCxnSpPr>
            <a:stCxn id="789" idx="3"/>
            <a:endCxn id="790" idx="1"/>
          </p:cNvCxnSpPr>
          <p:nvPr/>
        </p:nvCxnSpPr>
        <p:spPr>
          <a:xfrm flipV="1">
            <a:off x="7338960" y="1883880"/>
            <a:ext cx="6656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3" name=""/>
          <p:cNvSpPr/>
          <p:nvPr/>
        </p:nvSpPr>
        <p:spPr>
          <a:xfrm>
            <a:off x="5280120" y="16858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442280" y="168264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205840" y="797040"/>
            <a:ext cx="65232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K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194600" y="1181160"/>
            <a:ext cx="65232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ŠifK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7" name=""/>
          <p:cNvCxnSpPr>
            <a:stCxn id="796" idx="3"/>
            <a:endCxn id="790" idx="0"/>
          </p:cNvCxnSpPr>
          <p:nvPr/>
        </p:nvCxnSpPr>
        <p:spPr>
          <a:xfrm>
            <a:off x="7846560" y="1298160"/>
            <a:ext cx="58500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8" name=""/>
          <p:cNvCxnSpPr>
            <a:stCxn id="795" idx="2"/>
            <a:endCxn id="790" idx="0"/>
          </p:cNvCxnSpPr>
          <p:nvPr/>
        </p:nvCxnSpPr>
        <p:spPr>
          <a:xfrm flipH="1">
            <a:off x="8430840" y="1031760"/>
            <a:ext cx="102240" cy="696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9" name=""/>
          <p:cNvSpPr/>
          <p:nvPr/>
        </p:nvSpPr>
        <p:spPr>
          <a:xfrm>
            <a:off x="3862440" y="2483280"/>
            <a:ext cx="942840" cy="3070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cc0000"/>
                </a:solidFill>
                <a:latin typeface="Arial"/>
              </a:rPr>
              <a:t>Vanred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93880" y="2263680"/>
            <a:ext cx="110808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Imaj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94720" y="3048480"/>
            <a:ext cx="8344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Roditel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2" name=""/>
          <p:cNvCxnSpPr>
            <a:stCxn id="800" idx="0"/>
            <a:endCxn id="749" idx="2"/>
          </p:cNvCxnSpPr>
          <p:nvPr/>
        </p:nvCxnSpPr>
        <p:spPr>
          <a:xfrm flipV="1">
            <a:off x="1447560" y="2058480"/>
            <a:ext cx="43560" cy="246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3" name=""/>
          <p:cNvSpPr/>
          <p:nvPr/>
        </p:nvSpPr>
        <p:spPr>
          <a:xfrm>
            <a:off x="942840" y="20620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4" name=""/>
          <p:cNvCxnSpPr>
            <a:stCxn id="801" idx="0"/>
            <a:endCxn id="800" idx="2"/>
          </p:cNvCxnSpPr>
          <p:nvPr/>
        </p:nvCxnSpPr>
        <p:spPr>
          <a:xfrm flipV="1">
            <a:off x="1012320" y="2773080"/>
            <a:ext cx="43596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5" name=""/>
          <p:cNvSpPr/>
          <p:nvPr/>
        </p:nvSpPr>
        <p:spPr>
          <a:xfrm>
            <a:off x="779400" y="267984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44800" y="2082600"/>
            <a:ext cx="296640" cy="552240"/>
          </a:xfrm>
          <a:prstGeom prst="flowChartDecision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 Narrow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7" name=""/>
          <p:cNvCxnSpPr>
            <a:stCxn id="749" idx="2"/>
            <a:endCxn id="806" idx="0"/>
          </p:cNvCxnSpPr>
          <p:nvPr/>
        </p:nvCxnSpPr>
        <p:spPr>
          <a:xfrm flipH="1" rot="16200000">
            <a:off x="1809000" y="1739160"/>
            <a:ext cx="65520" cy="703800"/>
          </a:xfrm>
          <a:prstGeom prst="bentConnector3">
            <a:avLst>
              <a:gd name="adj1" fmla="val 486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8" name=""/>
          <p:cNvCxnSpPr>
            <a:stCxn id="806" idx="2"/>
            <a:endCxn id="799" idx="1"/>
          </p:cNvCxnSpPr>
          <p:nvPr/>
        </p:nvCxnSpPr>
        <p:spPr>
          <a:xfrm flipH="1" rot="16200000">
            <a:off x="3003480" y="1782360"/>
            <a:ext cx="45360" cy="1664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9" name=""/>
          <p:cNvSpPr/>
          <p:nvPr/>
        </p:nvSpPr>
        <p:spPr>
          <a:xfrm>
            <a:off x="5130720" y="2201400"/>
            <a:ext cx="1108080" cy="917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Učest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"/>
          <p:cNvCxnSpPr>
            <a:stCxn id="809" idx="1"/>
            <a:endCxn id="799" idx="3"/>
          </p:cNvCxnSpPr>
          <p:nvPr/>
        </p:nvCxnSpPr>
        <p:spPr>
          <a:xfrm flipH="1" flipV="1">
            <a:off x="4809240" y="2636640"/>
            <a:ext cx="321480" cy="24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1" name=""/>
          <p:cNvSpPr/>
          <p:nvPr/>
        </p:nvSpPr>
        <p:spPr>
          <a:xfrm>
            <a:off x="6548040" y="2510280"/>
            <a:ext cx="8848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rojek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7846920" y="2454120"/>
            <a:ext cx="1225800" cy="408240"/>
            <a:chOff x="7846920" y="2454120"/>
            <a:chExt cx="1225800" cy="408240"/>
          </a:xfrm>
        </p:grpSpPr>
        <p:sp>
          <p:nvSpPr>
            <p:cNvPr id="813" name=""/>
            <p:cNvSpPr/>
            <p:nvPr/>
          </p:nvSpPr>
          <p:spPr>
            <a:xfrm>
              <a:off x="7846920" y="2454120"/>
              <a:ext cx="1225800" cy="408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931160" y="2522160"/>
              <a:ext cx="1058760" cy="276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</a:rPr>
                <a:t>Zadat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5" name=""/>
          <p:cNvCxnSpPr>
            <a:stCxn id="811" idx="3"/>
            <a:endCxn id="813" idx="1"/>
          </p:cNvCxnSpPr>
          <p:nvPr/>
        </p:nvCxnSpPr>
        <p:spPr>
          <a:xfrm flipV="1">
            <a:off x="7437240" y="2658600"/>
            <a:ext cx="410040" cy="5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6" name=""/>
          <p:cNvCxnSpPr>
            <a:stCxn id="811" idx="1"/>
            <a:endCxn id="809" idx="3"/>
          </p:cNvCxnSpPr>
          <p:nvPr/>
        </p:nvCxnSpPr>
        <p:spPr>
          <a:xfrm flipH="1" flipV="1">
            <a:off x="6238080" y="2660040"/>
            <a:ext cx="305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7" name=""/>
          <p:cNvSpPr/>
          <p:nvPr/>
        </p:nvSpPr>
        <p:spPr>
          <a:xfrm>
            <a:off x="1496520" y="3042000"/>
            <a:ext cx="10724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reduzeć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976480" y="2677680"/>
            <a:ext cx="1108080" cy="917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Zapo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9" name=""/>
          <p:cNvCxnSpPr>
            <a:stCxn id="799" idx="2"/>
            <a:endCxn id="818" idx="3"/>
          </p:cNvCxnSpPr>
          <p:nvPr/>
        </p:nvCxnSpPr>
        <p:spPr>
          <a:xfrm rot="5400000">
            <a:off x="4037040" y="2840400"/>
            <a:ext cx="343800" cy="2502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0" name=""/>
          <p:cNvCxnSpPr>
            <a:stCxn id="818" idx="1"/>
            <a:endCxn id="817" idx="3"/>
          </p:cNvCxnSpPr>
          <p:nvPr/>
        </p:nvCxnSpPr>
        <p:spPr>
          <a:xfrm flipV="1" rot="10800000">
            <a:off x="2572560" y="3135960"/>
            <a:ext cx="403920" cy="59400"/>
          </a:xfrm>
          <a:prstGeom prst="curvedConnector5">
            <a:avLst>
              <a:gd name="adj1" fmla="val 49955"/>
              <a:gd name="adj2" fmla="val 50000"/>
              <a:gd name="adj3" fmla="val 4995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21" name=""/>
          <p:cNvSpPr/>
          <p:nvPr/>
        </p:nvSpPr>
        <p:spPr>
          <a:xfrm>
            <a:off x="3835440" y="28018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557440" y="29257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741920" y="24271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093000" y="244620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473120" y="2068560"/>
            <a:ext cx="6606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cc0000"/>
                </a:solidFill>
                <a:latin typeface="Arial Narrow"/>
              </a:rPr>
              <a:t>Vrsta (0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20760" y="2749680"/>
            <a:ext cx="507960" cy="2142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M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65240" y="2446200"/>
            <a:ext cx="67932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me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"/>
          <p:cNvCxnSpPr>
            <a:stCxn id="827" idx="1"/>
            <a:endCxn id="801" idx="1"/>
          </p:cNvCxnSpPr>
          <p:nvPr/>
        </p:nvCxnSpPr>
        <p:spPr>
          <a:xfrm flipH="1" flipV="1" rot="10800000">
            <a:off x="164160" y="2541600"/>
            <a:ext cx="425880" cy="660600"/>
          </a:xfrm>
          <a:prstGeom prst="curvedConnector5">
            <a:avLst>
              <a:gd name="adj1" fmla="val -7783"/>
              <a:gd name="adj2" fmla="val 50000"/>
              <a:gd name="adj3" fmla="val -77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9" name=""/>
          <p:cNvCxnSpPr>
            <a:stCxn id="801" idx="1"/>
            <a:endCxn id="826" idx="1"/>
          </p:cNvCxnSpPr>
          <p:nvPr/>
        </p:nvCxnSpPr>
        <p:spPr>
          <a:xfrm rot="10800000">
            <a:off x="320040" y="2856960"/>
            <a:ext cx="270360" cy="344880"/>
          </a:xfrm>
          <a:prstGeom prst="curvedConnector5">
            <a:avLst>
              <a:gd name="adj1" fmla="val 104666"/>
              <a:gd name="adj2" fmla="val 49947"/>
              <a:gd name="adj3" fmla="val 1046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30" name=""/>
          <p:cNvSpPr/>
          <p:nvPr/>
        </p:nvSpPr>
        <p:spPr>
          <a:xfrm>
            <a:off x="1598760" y="2711520"/>
            <a:ext cx="772920" cy="2142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RegB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467080" y="2693880"/>
            <a:ext cx="90792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ivP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2" name=""/>
          <p:cNvCxnSpPr>
            <a:stCxn id="817" idx="0"/>
            <a:endCxn id="830" idx="1"/>
          </p:cNvCxnSpPr>
          <p:nvPr/>
        </p:nvCxnSpPr>
        <p:spPr>
          <a:xfrm flipV="1" rot="16200000">
            <a:off x="1706400" y="2710800"/>
            <a:ext cx="219600" cy="435600"/>
          </a:xfrm>
          <a:prstGeom prst="curvedConnector5">
            <a:avLst>
              <a:gd name="adj1" fmla="val 25287"/>
              <a:gd name="adj2" fmla="val 76261"/>
              <a:gd name="adj3" fmla="val 252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3" name=""/>
          <p:cNvCxnSpPr>
            <a:stCxn id="817" idx="0"/>
            <a:endCxn id="831" idx="2"/>
          </p:cNvCxnSpPr>
          <p:nvPr/>
        </p:nvCxnSpPr>
        <p:spPr>
          <a:xfrm flipH="1" flipV="1" rot="5400000">
            <a:off x="2399760" y="2517120"/>
            <a:ext cx="154800" cy="888120"/>
          </a:xfrm>
          <a:prstGeom prst="curvedConnector5">
            <a:avLst>
              <a:gd name="adj1" fmla="val 49417"/>
              <a:gd name="adj2" fmla="val 50000"/>
              <a:gd name="adj3" fmla="val 4941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34" name=""/>
          <p:cNvSpPr/>
          <p:nvPr/>
        </p:nvSpPr>
        <p:spPr>
          <a:xfrm>
            <a:off x="2665440" y="2251080"/>
            <a:ext cx="907920" cy="1904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Zanima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5" name=""/>
          <p:cNvCxnSpPr>
            <a:stCxn id="834" idx="3"/>
            <a:endCxn id="799" idx="0"/>
          </p:cNvCxnSpPr>
          <p:nvPr/>
        </p:nvCxnSpPr>
        <p:spPr>
          <a:xfrm>
            <a:off x="3573000" y="2346480"/>
            <a:ext cx="761400" cy="133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6" name=""/>
          <p:cNvSpPr/>
          <p:nvPr/>
        </p:nvSpPr>
        <p:spPr>
          <a:xfrm>
            <a:off x="4867200" y="3100320"/>
            <a:ext cx="908280" cy="1969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ŠifP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"/>
          <p:cNvCxnSpPr>
            <a:stCxn id="811" idx="2"/>
            <a:endCxn id="836" idx="0"/>
          </p:cNvCxnSpPr>
          <p:nvPr/>
        </p:nvCxnSpPr>
        <p:spPr>
          <a:xfrm rot="5400000">
            <a:off x="6015600" y="2125440"/>
            <a:ext cx="280080" cy="1670760"/>
          </a:xfrm>
          <a:prstGeom prst="curvedConnector5">
            <a:avLst>
              <a:gd name="adj1" fmla="val 49935"/>
              <a:gd name="adj2" fmla="val 5000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38" name=""/>
          <p:cNvSpPr/>
          <p:nvPr/>
        </p:nvSpPr>
        <p:spPr>
          <a:xfrm>
            <a:off x="6043680" y="3135240"/>
            <a:ext cx="907920" cy="1969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ivP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9" name=""/>
          <p:cNvCxnSpPr>
            <a:stCxn id="811" idx="2"/>
            <a:endCxn id="838" idx="3"/>
          </p:cNvCxnSpPr>
          <p:nvPr/>
        </p:nvCxnSpPr>
        <p:spPr>
          <a:xfrm rot="5400000">
            <a:off x="6764400" y="3007440"/>
            <a:ext cx="413640" cy="403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0" name=""/>
          <p:cNvSpPr/>
          <p:nvPr/>
        </p:nvSpPr>
        <p:spPr>
          <a:xfrm>
            <a:off x="7386480" y="3160800"/>
            <a:ext cx="908280" cy="1969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ivZ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1" name=""/>
          <p:cNvCxnSpPr>
            <a:stCxn id="814" idx="2"/>
            <a:endCxn id="840" idx="3"/>
          </p:cNvCxnSpPr>
          <p:nvPr/>
        </p:nvCxnSpPr>
        <p:spPr>
          <a:xfrm rot="5400000">
            <a:off x="8149680" y="2948040"/>
            <a:ext cx="456120" cy="1670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2" name=""/>
          <p:cNvSpPr/>
          <p:nvPr/>
        </p:nvSpPr>
        <p:spPr>
          <a:xfrm>
            <a:off x="7031160" y="2122560"/>
            <a:ext cx="907920" cy="1969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pisZ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3" name=""/>
          <p:cNvCxnSpPr>
            <a:stCxn id="814" idx="0"/>
            <a:endCxn id="842" idx="3"/>
          </p:cNvCxnSpPr>
          <p:nvPr/>
        </p:nvCxnSpPr>
        <p:spPr>
          <a:xfrm flipV="1" rot="16200000">
            <a:off x="8051040" y="2107440"/>
            <a:ext cx="297720" cy="5230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4" name=""/>
          <p:cNvSpPr/>
          <p:nvPr/>
        </p:nvSpPr>
        <p:spPr>
          <a:xfrm>
            <a:off x="7323120" y="24433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846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521241A-77E5-4E93-B42C-1BC9BD192E6E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48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4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5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-Primer modela objekti-ve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4000" y="3871800"/>
            <a:ext cx="910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just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 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Klasa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Zadatak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predstavlja klasu “slabih, identifikaciono zavisnih” objekata, zavisnih od objekata “nadređene” klase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Projekat.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To ovde znači da se pojedini zadaci sami za sebe ne mogu pojavljivati u modelu i da atribut ŠifZad ne može jedinstveno identifikovati jedan zadatak u sistemu. Tek agregacija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&lt;ŠifProj, ŠifZad&gt;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odnosno veza projekta i zadatka jedinstveno identifikuje jedan zadatak u sistemu. Ovakva identifikacija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Zadatka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se naziva “govoreća šifra” jer, pored jedinstvene identifikacije zadatka u sistemu, daje i informaciju o projektu kome zadatak pripada. U mnogim modelima “slabi objekti “ su posledica “govorećih šifara” u odgovarajućem sistemu. “Govoreće šifre” treba izbegavati, jer dati model podataka, odnosno odgovarajuću batu čine neelastičn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212120" y="532080"/>
            <a:ext cx="5662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Ko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2440" y="501480"/>
            <a:ext cx="930240" cy="2494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RedB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78912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Mar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17360" y="108900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Bo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6" name=""/>
          <p:cNvCxnSpPr>
            <a:stCxn id="852" idx="1"/>
            <a:endCxn id="853" idx="3"/>
          </p:cNvCxnSpPr>
          <p:nvPr/>
        </p:nvCxnSpPr>
        <p:spPr>
          <a:xfrm flipH="1" flipV="1">
            <a:off x="1012320" y="626400"/>
            <a:ext cx="194400" cy="59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7" name=""/>
          <p:cNvCxnSpPr>
            <a:stCxn id="852" idx="1"/>
            <a:endCxn id="854" idx="3"/>
          </p:cNvCxnSpPr>
          <p:nvPr/>
        </p:nvCxnSpPr>
        <p:spPr>
          <a:xfrm flipH="1">
            <a:off x="1012320" y="685440"/>
            <a:ext cx="194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8" name=""/>
          <p:cNvCxnSpPr>
            <a:stCxn id="855" idx="3"/>
            <a:endCxn id="852" idx="1"/>
          </p:cNvCxnSpPr>
          <p:nvPr/>
        </p:nvCxnSpPr>
        <p:spPr>
          <a:xfrm flipV="1">
            <a:off x="1047240" y="685440"/>
            <a:ext cx="159480" cy="529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1090440" y="817200"/>
            <a:ext cx="1108080" cy="917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arki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"/>
          <p:cNvCxnSpPr>
            <a:stCxn id="852" idx="2"/>
            <a:endCxn id="859" idx="0"/>
          </p:cNvCxnSpPr>
          <p:nvPr/>
        </p:nvCxnSpPr>
        <p:spPr>
          <a:xfrm>
            <a:off x="1495440" y="842760"/>
            <a:ext cx="14976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61" name=""/>
          <p:cNvSpPr/>
          <p:nvPr/>
        </p:nvSpPr>
        <p:spPr>
          <a:xfrm>
            <a:off x="1087560" y="82080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68840" y="1748160"/>
            <a:ext cx="8420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"/>
          <p:cNvCxnSpPr>
            <a:stCxn id="859" idx="2"/>
            <a:endCxn id="862" idx="0"/>
          </p:cNvCxnSpPr>
          <p:nvPr/>
        </p:nvCxnSpPr>
        <p:spPr>
          <a:xfrm flipH="1">
            <a:off x="1490040" y="1509840"/>
            <a:ext cx="15444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1096920" y="15289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320" y="1415880"/>
            <a:ext cx="930240" cy="2494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Broj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stCxn id="862" idx="1"/>
            <a:endCxn id="865" idx="3"/>
          </p:cNvCxnSpPr>
          <p:nvPr/>
        </p:nvCxnSpPr>
        <p:spPr>
          <a:xfrm flipH="1" flipV="1">
            <a:off x="1005840" y="1540800"/>
            <a:ext cx="579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7" name=""/>
          <p:cNvCxnSpPr>
            <a:stCxn id="862" idx="1"/>
            <a:endCxn id="868" idx="3"/>
          </p:cNvCxnSpPr>
          <p:nvPr/>
        </p:nvCxnSpPr>
        <p:spPr>
          <a:xfrm flipH="1" flipV="1">
            <a:off x="999360" y="1851840"/>
            <a:ext cx="64440" cy="50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9" name=""/>
          <p:cNvCxnSpPr>
            <a:stCxn id="862" idx="1"/>
            <a:endCxn id="870" idx="3"/>
          </p:cNvCxnSpPr>
          <p:nvPr/>
        </p:nvCxnSpPr>
        <p:spPr>
          <a:xfrm flipH="1">
            <a:off x="1015200" y="1901520"/>
            <a:ext cx="48600" cy="28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68" name=""/>
          <p:cNvSpPr/>
          <p:nvPr/>
        </p:nvSpPr>
        <p:spPr>
          <a:xfrm>
            <a:off x="69840" y="172728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5680" y="2058840"/>
            <a:ext cx="930240" cy="2494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Seme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93200" y="529560"/>
            <a:ext cx="136368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Regi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2" name=""/>
          <p:cNvCxnSpPr>
            <a:stCxn id="871" idx="1"/>
            <a:endCxn id="862" idx="3"/>
          </p:cNvCxnSpPr>
          <p:nvPr/>
        </p:nvCxnSpPr>
        <p:spPr>
          <a:xfrm flipH="1">
            <a:off x="1915920" y="806040"/>
            <a:ext cx="460800" cy="1096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3" name=""/>
          <p:cNvSpPr/>
          <p:nvPr/>
        </p:nvSpPr>
        <p:spPr>
          <a:xfrm>
            <a:off x="2292480" y="8683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278960" y="1746720"/>
            <a:ext cx="8938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redm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71" idx="3"/>
            <a:endCxn id="874" idx="1"/>
          </p:cNvCxnSpPr>
          <p:nvPr/>
        </p:nvCxnSpPr>
        <p:spPr>
          <a:xfrm>
            <a:off x="3573000" y="806400"/>
            <a:ext cx="70092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6" name=""/>
          <p:cNvSpPr/>
          <p:nvPr/>
        </p:nvSpPr>
        <p:spPr>
          <a:xfrm>
            <a:off x="3201840" y="8683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2387520" y="1623960"/>
            <a:ext cx="1456920" cy="552240"/>
            <a:chOff x="2387520" y="1623960"/>
            <a:chExt cx="1456920" cy="552240"/>
          </a:xfrm>
        </p:grpSpPr>
        <p:sp>
          <p:nvSpPr>
            <p:cNvPr id="878" name=""/>
            <p:cNvSpPr/>
            <p:nvPr/>
          </p:nvSpPr>
          <p:spPr>
            <a:xfrm>
              <a:off x="2387520" y="1667160"/>
              <a:ext cx="1456920" cy="466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93280" y="1623960"/>
              <a:ext cx="1449360" cy="55224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</a:rPr>
                <a:t>Pri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0" name=""/>
          <p:cNvCxnSpPr>
            <a:stCxn id="879" idx="1"/>
            <a:endCxn id="862" idx="3"/>
          </p:cNvCxnSpPr>
          <p:nvPr/>
        </p:nvCxnSpPr>
        <p:spPr>
          <a:xfrm flipH="1">
            <a:off x="1915560" y="1899720"/>
            <a:ext cx="478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881" name=""/>
          <p:cNvCxnSpPr>
            <a:stCxn id="874" idx="1"/>
            <a:endCxn id="879" idx="3"/>
          </p:cNvCxnSpPr>
          <p:nvPr/>
        </p:nvCxnSpPr>
        <p:spPr>
          <a:xfrm flipH="1">
            <a:off x="3842640" y="18997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2" name=""/>
          <p:cNvSpPr/>
          <p:nvPr/>
        </p:nvSpPr>
        <p:spPr>
          <a:xfrm>
            <a:off x="2324160" y="1103400"/>
            <a:ext cx="65232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048120" y="1103400"/>
            <a:ext cx="65232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c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"/>
          <p:cNvCxnSpPr>
            <a:stCxn id="882" idx="2"/>
            <a:endCxn id="879" idx="0"/>
          </p:cNvCxnSpPr>
          <p:nvPr/>
        </p:nvCxnSpPr>
        <p:spPr>
          <a:xfrm>
            <a:off x="2650680" y="1337760"/>
            <a:ext cx="46908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5" name=""/>
          <p:cNvCxnSpPr>
            <a:stCxn id="883" idx="2"/>
            <a:endCxn id="879" idx="0"/>
          </p:cNvCxnSpPr>
          <p:nvPr/>
        </p:nvCxnSpPr>
        <p:spPr>
          <a:xfrm flipH="1">
            <a:off x="3119400" y="1337760"/>
            <a:ext cx="25596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86" name=""/>
          <p:cNvSpPr/>
          <p:nvPr/>
        </p:nvSpPr>
        <p:spPr>
          <a:xfrm>
            <a:off x="4172040" y="863280"/>
            <a:ext cx="1108080" cy="917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e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7" name=""/>
          <p:cNvCxnSpPr>
            <a:stCxn id="886" idx="2"/>
            <a:endCxn id="874" idx="0"/>
          </p:cNvCxnSpPr>
          <p:nvPr/>
        </p:nvCxnSpPr>
        <p:spPr>
          <a:xfrm>
            <a:off x="4725720" y="1555920"/>
            <a:ext cx="108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88" name=""/>
          <p:cNvSpPr/>
          <p:nvPr/>
        </p:nvSpPr>
        <p:spPr>
          <a:xfrm>
            <a:off x="3763800" y="16714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933560" y="16714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201200" y="525960"/>
            <a:ext cx="10220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Nastav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"/>
          <p:cNvCxnSpPr>
            <a:stCxn id="890" idx="2"/>
            <a:endCxn id="886" idx="0"/>
          </p:cNvCxnSpPr>
          <p:nvPr/>
        </p:nvCxnSpPr>
        <p:spPr>
          <a:xfrm>
            <a:off x="4713120" y="836280"/>
            <a:ext cx="1368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2" name=""/>
          <p:cNvSpPr/>
          <p:nvPr/>
        </p:nvSpPr>
        <p:spPr>
          <a:xfrm>
            <a:off x="3389400" y="501480"/>
            <a:ext cx="703080" cy="2350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meN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"/>
          <p:cNvCxnSpPr>
            <a:stCxn id="892" idx="3"/>
            <a:endCxn id="890" idx="1"/>
          </p:cNvCxnSpPr>
          <p:nvPr/>
        </p:nvCxnSpPr>
        <p:spPr>
          <a:xfrm>
            <a:off x="4092120" y="618840"/>
            <a:ext cx="105480" cy="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4" name=""/>
          <p:cNvSpPr/>
          <p:nvPr/>
        </p:nvSpPr>
        <p:spPr>
          <a:xfrm>
            <a:off x="5892840" y="555480"/>
            <a:ext cx="652320" cy="2350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ŠifN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5" name=""/>
          <p:cNvCxnSpPr>
            <a:stCxn id="890" idx="3"/>
            <a:endCxn id="894" idx="1"/>
          </p:cNvCxnSpPr>
          <p:nvPr/>
        </p:nvCxnSpPr>
        <p:spPr>
          <a:xfrm flipV="1">
            <a:off x="5227560" y="672480"/>
            <a:ext cx="665640" cy="6840"/>
          </a:xfrm>
          <a:prstGeom prst="bentConnector3">
            <a:avLst>
              <a:gd name="adj1" fmla="val 498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96" name=""/>
          <p:cNvSpPr/>
          <p:nvPr/>
        </p:nvSpPr>
        <p:spPr>
          <a:xfrm>
            <a:off x="4282920" y="82080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267080" y="15541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359320" y="901800"/>
            <a:ext cx="65268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ŠifP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831000" y="739800"/>
            <a:ext cx="858960" cy="2602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P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0" name=""/>
          <p:cNvCxnSpPr>
            <a:stCxn id="898" idx="2"/>
          </p:cNvCxnSpPr>
          <p:nvPr/>
        </p:nvCxnSpPr>
        <p:spPr>
          <a:xfrm rot="5400000">
            <a:off x="5065920" y="1137240"/>
            <a:ext cx="621720" cy="619920"/>
          </a:xfrm>
          <a:prstGeom prst="curvedConnector5">
            <a:avLst>
              <a:gd name="adj1" fmla="val 49826"/>
              <a:gd name="adj2" fmla="val 49970"/>
              <a:gd name="adj3" fmla="val 498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1" name=""/>
          <p:cNvCxnSpPr>
            <a:stCxn id="899" idx="1"/>
          </p:cNvCxnSpPr>
          <p:nvPr/>
        </p:nvCxnSpPr>
        <p:spPr>
          <a:xfrm flipV="1" rot="10800000">
            <a:off x="5066640" y="869040"/>
            <a:ext cx="1764360" cy="89100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02" name=""/>
          <p:cNvSpPr/>
          <p:nvPr/>
        </p:nvSpPr>
        <p:spPr>
          <a:xfrm>
            <a:off x="5902200" y="1616040"/>
            <a:ext cx="143676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ip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009280" y="1730880"/>
            <a:ext cx="8438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Kated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"/>
          <p:cNvCxnSpPr>
            <a:stCxn id="874" idx="3"/>
            <a:endCxn id="902" idx="1"/>
          </p:cNvCxnSpPr>
          <p:nvPr/>
        </p:nvCxnSpPr>
        <p:spPr>
          <a:xfrm flipV="1">
            <a:off x="5178600" y="1891800"/>
            <a:ext cx="72432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5" name=""/>
          <p:cNvCxnSpPr>
            <a:stCxn id="902" idx="3"/>
            <a:endCxn id="903" idx="1"/>
          </p:cNvCxnSpPr>
          <p:nvPr/>
        </p:nvCxnSpPr>
        <p:spPr>
          <a:xfrm flipV="1">
            <a:off x="7338960" y="1883880"/>
            <a:ext cx="6656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5280120" y="16858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442280" y="168264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205840" y="797040"/>
            <a:ext cx="65232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K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94600" y="1181160"/>
            <a:ext cx="65232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ŠifK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0" name=""/>
          <p:cNvCxnSpPr>
            <a:stCxn id="909" idx="3"/>
            <a:endCxn id="903" idx="0"/>
          </p:cNvCxnSpPr>
          <p:nvPr/>
        </p:nvCxnSpPr>
        <p:spPr>
          <a:xfrm>
            <a:off x="7846560" y="1298160"/>
            <a:ext cx="58500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1" name=""/>
          <p:cNvCxnSpPr>
            <a:stCxn id="908" idx="2"/>
            <a:endCxn id="903" idx="0"/>
          </p:cNvCxnSpPr>
          <p:nvPr/>
        </p:nvCxnSpPr>
        <p:spPr>
          <a:xfrm flipH="1">
            <a:off x="8430840" y="1031760"/>
            <a:ext cx="102240" cy="696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2" name=""/>
          <p:cNvSpPr/>
          <p:nvPr/>
        </p:nvSpPr>
        <p:spPr>
          <a:xfrm>
            <a:off x="3862440" y="2483280"/>
            <a:ext cx="9428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Vanred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893880" y="2263680"/>
            <a:ext cx="110808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Imaj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94720" y="3048480"/>
            <a:ext cx="8344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Roditel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"/>
          <p:cNvCxnSpPr>
            <a:stCxn id="913" idx="0"/>
            <a:endCxn id="862" idx="2"/>
          </p:cNvCxnSpPr>
          <p:nvPr/>
        </p:nvCxnSpPr>
        <p:spPr>
          <a:xfrm flipV="1">
            <a:off x="1447560" y="2058480"/>
            <a:ext cx="43560" cy="246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6" name=""/>
          <p:cNvSpPr/>
          <p:nvPr/>
        </p:nvSpPr>
        <p:spPr>
          <a:xfrm>
            <a:off x="942840" y="20620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"/>
          <p:cNvCxnSpPr>
            <a:stCxn id="914" idx="0"/>
            <a:endCxn id="913" idx="2"/>
          </p:cNvCxnSpPr>
          <p:nvPr/>
        </p:nvCxnSpPr>
        <p:spPr>
          <a:xfrm flipV="1">
            <a:off x="1012320" y="2773080"/>
            <a:ext cx="43596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8" name=""/>
          <p:cNvSpPr/>
          <p:nvPr/>
        </p:nvSpPr>
        <p:spPr>
          <a:xfrm>
            <a:off x="779400" y="267984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044800" y="2082600"/>
            <a:ext cx="29664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0" name=""/>
          <p:cNvCxnSpPr>
            <a:stCxn id="862" idx="2"/>
            <a:endCxn id="919" idx="0"/>
          </p:cNvCxnSpPr>
          <p:nvPr/>
        </p:nvCxnSpPr>
        <p:spPr>
          <a:xfrm flipH="1" rot="16200000">
            <a:off x="1809000" y="1739160"/>
            <a:ext cx="65520" cy="703800"/>
          </a:xfrm>
          <a:prstGeom prst="bentConnector3">
            <a:avLst>
              <a:gd name="adj1" fmla="val 486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1" name=""/>
          <p:cNvCxnSpPr>
            <a:stCxn id="919" idx="2"/>
            <a:endCxn id="912" idx="1"/>
          </p:cNvCxnSpPr>
          <p:nvPr/>
        </p:nvCxnSpPr>
        <p:spPr>
          <a:xfrm flipH="1" rot="16200000">
            <a:off x="3003480" y="1782360"/>
            <a:ext cx="45360" cy="1664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2" name=""/>
          <p:cNvSpPr/>
          <p:nvPr/>
        </p:nvSpPr>
        <p:spPr>
          <a:xfrm>
            <a:off x="5130720" y="2201400"/>
            <a:ext cx="1108080" cy="917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Učest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3" name=""/>
          <p:cNvCxnSpPr>
            <a:stCxn id="922" idx="1"/>
            <a:endCxn id="912" idx="3"/>
          </p:cNvCxnSpPr>
          <p:nvPr/>
        </p:nvCxnSpPr>
        <p:spPr>
          <a:xfrm flipH="1" flipV="1">
            <a:off x="4809240" y="2636640"/>
            <a:ext cx="321480" cy="24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24" name=""/>
          <p:cNvSpPr/>
          <p:nvPr/>
        </p:nvSpPr>
        <p:spPr>
          <a:xfrm>
            <a:off x="6548040" y="2510280"/>
            <a:ext cx="884880" cy="3070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cc0000"/>
                </a:solidFill>
                <a:latin typeface="Arial"/>
              </a:rPr>
              <a:t>Projek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7846920" y="2454120"/>
            <a:ext cx="1225800" cy="408240"/>
            <a:chOff x="7846920" y="2454120"/>
            <a:chExt cx="1225800" cy="408240"/>
          </a:xfrm>
        </p:grpSpPr>
        <p:sp>
          <p:nvSpPr>
            <p:cNvPr id="926" name=""/>
            <p:cNvSpPr/>
            <p:nvPr/>
          </p:nvSpPr>
          <p:spPr>
            <a:xfrm>
              <a:off x="7846920" y="2454120"/>
              <a:ext cx="1225800" cy="408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931160" y="2522160"/>
              <a:ext cx="1058760" cy="276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cc0000"/>
                  </a:solidFill>
                  <a:latin typeface="Arial"/>
                </a:rPr>
                <a:t>Zadat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24" idx="3"/>
            <a:endCxn id="926" idx="1"/>
          </p:cNvCxnSpPr>
          <p:nvPr/>
        </p:nvCxnSpPr>
        <p:spPr>
          <a:xfrm flipV="1">
            <a:off x="7437240" y="2658600"/>
            <a:ext cx="410040" cy="5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4" idx="1"/>
            <a:endCxn id="922" idx="3"/>
          </p:cNvCxnSpPr>
          <p:nvPr/>
        </p:nvCxnSpPr>
        <p:spPr>
          <a:xfrm flipH="1" flipV="1">
            <a:off x="6238080" y="2660040"/>
            <a:ext cx="305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30" name=""/>
          <p:cNvSpPr/>
          <p:nvPr/>
        </p:nvSpPr>
        <p:spPr>
          <a:xfrm>
            <a:off x="1496520" y="3042000"/>
            <a:ext cx="10724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reduzeć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976480" y="2677680"/>
            <a:ext cx="1108080" cy="917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Zapo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2" name=""/>
          <p:cNvCxnSpPr>
            <a:stCxn id="912" idx="2"/>
            <a:endCxn id="931" idx="3"/>
          </p:cNvCxnSpPr>
          <p:nvPr/>
        </p:nvCxnSpPr>
        <p:spPr>
          <a:xfrm rot="5400000">
            <a:off x="4037040" y="2840400"/>
            <a:ext cx="343800" cy="2502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3" name=""/>
          <p:cNvCxnSpPr>
            <a:stCxn id="931" idx="1"/>
            <a:endCxn id="930" idx="3"/>
          </p:cNvCxnSpPr>
          <p:nvPr/>
        </p:nvCxnSpPr>
        <p:spPr>
          <a:xfrm flipV="1" rot="10800000">
            <a:off x="2572560" y="3135960"/>
            <a:ext cx="403920" cy="59400"/>
          </a:xfrm>
          <a:prstGeom prst="curvedConnector5">
            <a:avLst>
              <a:gd name="adj1" fmla="val 49955"/>
              <a:gd name="adj2" fmla="val 50000"/>
              <a:gd name="adj3" fmla="val 4995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34" name=""/>
          <p:cNvSpPr/>
          <p:nvPr/>
        </p:nvSpPr>
        <p:spPr>
          <a:xfrm>
            <a:off x="3835440" y="28018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557440" y="29257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741920" y="24271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3000" y="244620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473120" y="2068560"/>
            <a:ext cx="6606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Vrsta (0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20760" y="2749680"/>
            <a:ext cx="507960" cy="2142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M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65240" y="2446200"/>
            <a:ext cx="67932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me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1" name=""/>
          <p:cNvCxnSpPr>
            <a:stCxn id="940" idx="1"/>
            <a:endCxn id="914" idx="1"/>
          </p:cNvCxnSpPr>
          <p:nvPr/>
        </p:nvCxnSpPr>
        <p:spPr>
          <a:xfrm flipH="1" flipV="1" rot="10800000">
            <a:off x="164160" y="2541600"/>
            <a:ext cx="425880" cy="660600"/>
          </a:xfrm>
          <a:prstGeom prst="curvedConnector5">
            <a:avLst>
              <a:gd name="adj1" fmla="val -7783"/>
              <a:gd name="adj2" fmla="val 50000"/>
              <a:gd name="adj3" fmla="val -77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2" name=""/>
          <p:cNvCxnSpPr>
            <a:stCxn id="914" idx="1"/>
            <a:endCxn id="939" idx="1"/>
          </p:cNvCxnSpPr>
          <p:nvPr/>
        </p:nvCxnSpPr>
        <p:spPr>
          <a:xfrm rot="10800000">
            <a:off x="320040" y="2856960"/>
            <a:ext cx="270360" cy="344880"/>
          </a:xfrm>
          <a:prstGeom prst="curvedConnector5">
            <a:avLst>
              <a:gd name="adj1" fmla="val 104666"/>
              <a:gd name="adj2" fmla="val 49947"/>
              <a:gd name="adj3" fmla="val 1046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3" name=""/>
          <p:cNvSpPr/>
          <p:nvPr/>
        </p:nvSpPr>
        <p:spPr>
          <a:xfrm>
            <a:off x="1598760" y="2711520"/>
            <a:ext cx="772920" cy="2142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RegB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467080" y="2693880"/>
            <a:ext cx="90792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ivP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stCxn id="930" idx="0"/>
            <a:endCxn id="943" idx="1"/>
          </p:cNvCxnSpPr>
          <p:nvPr/>
        </p:nvCxnSpPr>
        <p:spPr>
          <a:xfrm flipV="1" rot="16200000">
            <a:off x="1706400" y="2710800"/>
            <a:ext cx="219600" cy="435600"/>
          </a:xfrm>
          <a:prstGeom prst="curvedConnector5">
            <a:avLst>
              <a:gd name="adj1" fmla="val 25287"/>
              <a:gd name="adj2" fmla="val 76261"/>
              <a:gd name="adj3" fmla="val 252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6" name=""/>
          <p:cNvCxnSpPr>
            <a:stCxn id="930" idx="0"/>
            <a:endCxn id="944" idx="2"/>
          </p:cNvCxnSpPr>
          <p:nvPr/>
        </p:nvCxnSpPr>
        <p:spPr>
          <a:xfrm flipH="1" flipV="1" rot="5400000">
            <a:off x="2399760" y="2517120"/>
            <a:ext cx="154800" cy="888120"/>
          </a:xfrm>
          <a:prstGeom prst="curvedConnector5">
            <a:avLst>
              <a:gd name="adj1" fmla="val 49417"/>
              <a:gd name="adj2" fmla="val 50000"/>
              <a:gd name="adj3" fmla="val 4941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2665440" y="2251080"/>
            <a:ext cx="90792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Zanima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8" name=""/>
          <p:cNvCxnSpPr>
            <a:stCxn id="947" idx="3"/>
            <a:endCxn id="912" idx="0"/>
          </p:cNvCxnSpPr>
          <p:nvPr/>
        </p:nvCxnSpPr>
        <p:spPr>
          <a:xfrm>
            <a:off x="3573000" y="2346480"/>
            <a:ext cx="761400" cy="133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49" name=""/>
          <p:cNvSpPr/>
          <p:nvPr/>
        </p:nvSpPr>
        <p:spPr>
          <a:xfrm>
            <a:off x="4867200" y="3100320"/>
            <a:ext cx="908280" cy="19692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ŠifP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0" name=""/>
          <p:cNvCxnSpPr>
            <a:stCxn id="924" idx="2"/>
            <a:endCxn id="949" idx="0"/>
          </p:cNvCxnSpPr>
          <p:nvPr/>
        </p:nvCxnSpPr>
        <p:spPr>
          <a:xfrm rot="5400000">
            <a:off x="6015600" y="2125440"/>
            <a:ext cx="280080" cy="1670760"/>
          </a:xfrm>
          <a:prstGeom prst="curvedConnector5">
            <a:avLst>
              <a:gd name="adj1" fmla="val 49935"/>
              <a:gd name="adj2" fmla="val 5000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51" name=""/>
          <p:cNvSpPr/>
          <p:nvPr/>
        </p:nvSpPr>
        <p:spPr>
          <a:xfrm>
            <a:off x="6043680" y="3135240"/>
            <a:ext cx="907920" cy="19692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NazivP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2" name=""/>
          <p:cNvCxnSpPr>
            <a:stCxn id="924" idx="2"/>
            <a:endCxn id="951" idx="3"/>
          </p:cNvCxnSpPr>
          <p:nvPr/>
        </p:nvCxnSpPr>
        <p:spPr>
          <a:xfrm rot="5400000">
            <a:off x="6764400" y="3007440"/>
            <a:ext cx="413640" cy="403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3" name=""/>
          <p:cNvSpPr/>
          <p:nvPr/>
        </p:nvSpPr>
        <p:spPr>
          <a:xfrm>
            <a:off x="7386480" y="3160800"/>
            <a:ext cx="908280" cy="19692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NazivZ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4" name=""/>
          <p:cNvCxnSpPr>
            <a:stCxn id="927" idx="2"/>
            <a:endCxn id="953" idx="3"/>
          </p:cNvCxnSpPr>
          <p:nvPr/>
        </p:nvCxnSpPr>
        <p:spPr>
          <a:xfrm rot="5400000">
            <a:off x="8149680" y="2948040"/>
            <a:ext cx="456120" cy="1670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5" name=""/>
          <p:cNvSpPr/>
          <p:nvPr/>
        </p:nvSpPr>
        <p:spPr>
          <a:xfrm>
            <a:off x="7031160" y="2122560"/>
            <a:ext cx="907920" cy="19692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OpisZ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27" idx="0"/>
            <a:endCxn id="955" idx="3"/>
          </p:cNvCxnSpPr>
          <p:nvPr/>
        </p:nvCxnSpPr>
        <p:spPr>
          <a:xfrm flipV="1" rot="16200000">
            <a:off x="8051040" y="2107440"/>
            <a:ext cx="297720" cy="5230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7" name=""/>
          <p:cNvSpPr/>
          <p:nvPr/>
        </p:nvSpPr>
        <p:spPr>
          <a:xfrm>
            <a:off x="7323120" y="24433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959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53BF13A-8876-4459-9F92-01C03B7A77AC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61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5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-Primer modela objekti-ve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4000" y="3871800"/>
            <a:ext cx="910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 algn="just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 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Posebno je zanimljiva “kruta” veza između klasa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Predmet i Katedra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koja je posledica činjenice da oba preslikavanja ove veze imaju donju granicu kardinalnosti jednaku jedan.  Svaki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Predmet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 mora da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Pripada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 nekoj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Katedri 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i može da pripada samo jednoj, dok svaka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Katedra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mora da ima bar jedan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Predmet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.  To znači da se nova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Katedra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 može ubaciti u bazu samo ako se istovremeno (u istoj transakciji) u bazu ubacuje barem jedan novi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Predmet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koji joj pripada. Isto tako neki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Predmet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koji je poslednji predmet u posmatranoj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Katedri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ne može se izbaciti iz baze ili se sa njim mora izbaciti i odgovarajućia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Kated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212120" y="532080"/>
            <a:ext cx="5662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Ko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2440" y="501480"/>
            <a:ext cx="930240" cy="2494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RedB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82440" y="78912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Mar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17360" y="108900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Bo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9" name=""/>
          <p:cNvCxnSpPr>
            <a:stCxn id="965" idx="1"/>
            <a:endCxn id="966" idx="3"/>
          </p:cNvCxnSpPr>
          <p:nvPr/>
        </p:nvCxnSpPr>
        <p:spPr>
          <a:xfrm flipH="1" flipV="1">
            <a:off x="1012320" y="626400"/>
            <a:ext cx="194400" cy="59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0" name=""/>
          <p:cNvCxnSpPr>
            <a:stCxn id="965" idx="1"/>
            <a:endCxn id="967" idx="3"/>
          </p:cNvCxnSpPr>
          <p:nvPr/>
        </p:nvCxnSpPr>
        <p:spPr>
          <a:xfrm flipH="1">
            <a:off x="1012320" y="685440"/>
            <a:ext cx="194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1" name=""/>
          <p:cNvCxnSpPr>
            <a:stCxn id="968" idx="3"/>
            <a:endCxn id="965" idx="1"/>
          </p:cNvCxnSpPr>
          <p:nvPr/>
        </p:nvCxnSpPr>
        <p:spPr>
          <a:xfrm flipV="1">
            <a:off x="1047240" y="685440"/>
            <a:ext cx="159480" cy="529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72" name=""/>
          <p:cNvSpPr/>
          <p:nvPr/>
        </p:nvSpPr>
        <p:spPr>
          <a:xfrm>
            <a:off x="1090440" y="817200"/>
            <a:ext cx="1108080" cy="917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arki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3" name=""/>
          <p:cNvCxnSpPr>
            <a:stCxn id="965" idx="2"/>
            <a:endCxn id="972" idx="0"/>
          </p:cNvCxnSpPr>
          <p:nvPr/>
        </p:nvCxnSpPr>
        <p:spPr>
          <a:xfrm>
            <a:off x="1495440" y="842760"/>
            <a:ext cx="14976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1087560" y="82080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068840" y="1748160"/>
            <a:ext cx="8420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stCxn id="972" idx="2"/>
            <a:endCxn id="975" idx="0"/>
          </p:cNvCxnSpPr>
          <p:nvPr/>
        </p:nvCxnSpPr>
        <p:spPr>
          <a:xfrm flipH="1">
            <a:off x="1490040" y="1509840"/>
            <a:ext cx="15444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77" name=""/>
          <p:cNvSpPr/>
          <p:nvPr/>
        </p:nvSpPr>
        <p:spPr>
          <a:xfrm>
            <a:off x="1096920" y="15289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6320" y="1415880"/>
            <a:ext cx="930240" cy="2494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Broj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9" name=""/>
          <p:cNvCxnSpPr>
            <a:stCxn id="975" idx="1"/>
            <a:endCxn id="978" idx="3"/>
          </p:cNvCxnSpPr>
          <p:nvPr/>
        </p:nvCxnSpPr>
        <p:spPr>
          <a:xfrm flipH="1" flipV="1">
            <a:off x="1005840" y="1540800"/>
            <a:ext cx="579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0" name=""/>
          <p:cNvCxnSpPr>
            <a:stCxn id="975" idx="1"/>
            <a:endCxn id="981" idx="3"/>
          </p:cNvCxnSpPr>
          <p:nvPr/>
        </p:nvCxnSpPr>
        <p:spPr>
          <a:xfrm flipH="1" flipV="1">
            <a:off x="999360" y="1851840"/>
            <a:ext cx="64440" cy="50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2" name=""/>
          <p:cNvCxnSpPr>
            <a:stCxn id="975" idx="1"/>
            <a:endCxn id="983" idx="3"/>
          </p:cNvCxnSpPr>
          <p:nvPr/>
        </p:nvCxnSpPr>
        <p:spPr>
          <a:xfrm flipH="1">
            <a:off x="1015200" y="1901520"/>
            <a:ext cx="48600" cy="28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1" name=""/>
          <p:cNvSpPr/>
          <p:nvPr/>
        </p:nvSpPr>
        <p:spPr>
          <a:xfrm>
            <a:off x="69840" y="172728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5680" y="2058840"/>
            <a:ext cx="930240" cy="2494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Seme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93200" y="529560"/>
            <a:ext cx="136368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Regi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5" name=""/>
          <p:cNvCxnSpPr>
            <a:stCxn id="984" idx="1"/>
            <a:endCxn id="975" idx="3"/>
          </p:cNvCxnSpPr>
          <p:nvPr/>
        </p:nvCxnSpPr>
        <p:spPr>
          <a:xfrm flipH="1">
            <a:off x="1915920" y="806040"/>
            <a:ext cx="460800" cy="1096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6" name=""/>
          <p:cNvSpPr/>
          <p:nvPr/>
        </p:nvSpPr>
        <p:spPr>
          <a:xfrm>
            <a:off x="2292480" y="8683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278960" y="1746720"/>
            <a:ext cx="893880" cy="3070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cc0000"/>
                </a:solidFill>
                <a:latin typeface="Arial"/>
              </a:rPr>
              <a:t>Predm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8" name=""/>
          <p:cNvCxnSpPr>
            <a:stCxn id="984" idx="3"/>
            <a:endCxn id="987" idx="1"/>
          </p:cNvCxnSpPr>
          <p:nvPr/>
        </p:nvCxnSpPr>
        <p:spPr>
          <a:xfrm>
            <a:off x="3573000" y="806400"/>
            <a:ext cx="70092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9" name=""/>
          <p:cNvSpPr/>
          <p:nvPr/>
        </p:nvSpPr>
        <p:spPr>
          <a:xfrm>
            <a:off x="3201840" y="8683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387520" y="1623960"/>
            <a:ext cx="1456920" cy="552240"/>
            <a:chOff x="2387520" y="1623960"/>
            <a:chExt cx="1456920" cy="552240"/>
          </a:xfrm>
        </p:grpSpPr>
        <p:sp>
          <p:nvSpPr>
            <p:cNvPr id="991" name=""/>
            <p:cNvSpPr/>
            <p:nvPr/>
          </p:nvSpPr>
          <p:spPr>
            <a:xfrm>
              <a:off x="2387520" y="1667160"/>
              <a:ext cx="1456920" cy="466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393280" y="1623960"/>
              <a:ext cx="1449360" cy="55224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</a:rPr>
                <a:t>Pri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3" name=""/>
          <p:cNvCxnSpPr>
            <a:stCxn id="992" idx="1"/>
            <a:endCxn id="975" idx="3"/>
          </p:cNvCxnSpPr>
          <p:nvPr/>
        </p:nvCxnSpPr>
        <p:spPr>
          <a:xfrm flipH="1">
            <a:off x="1915560" y="1899720"/>
            <a:ext cx="478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94" name=""/>
          <p:cNvCxnSpPr>
            <a:stCxn id="987" idx="1"/>
            <a:endCxn id="992" idx="3"/>
          </p:cNvCxnSpPr>
          <p:nvPr/>
        </p:nvCxnSpPr>
        <p:spPr>
          <a:xfrm flipH="1">
            <a:off x="3842640" y="18997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5" name=""/>
          <p:cNvSpPr/>
          <p:nvPr/>
        </p:nvSpPr>
        <p:spPr>
          <a:xfrm>
            <a:off x="2324160" y="1103400"/>
            <a:ext cx="65232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048120" y="1103400"/>
            <a:ext cx="652320" cy="2347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c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7" name=""/>
          <p:cNvCxnSpPr>
            <a:stCxn id="995" idx="2"/>
            <a:endCxn id="992" idx="0"/>
          </p:cNvCxnSpPr>
          <p:nvPr/>
        </p:nvCxnSpPr>
        <p:spPr>
          <a:xfrm>
            <a:off x="2650680" y="1337760"/>
            <a:ext cx="46908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8" name=""/>
          <p:cNvCxnSpPr>
            <a:stCxn id="996" idx="2"/>
            <a:endCxn id="992" idx="0"/>
          </p:cNvCxnSpPr>
          <p:nvPr/>
        </p:nvCxnSpPr>
        <p:spPr>
          <a:xfrm flipH="1">
            <a:off x="3119400" y="1337760"/>
            <a:ext cx="25596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4172040" y="863280"/>
            <a:ext cx="1108080" cy="917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Pre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0" name=""/>
          <p:cNvCxnSpPr>
            <a:stCxn id="999" idx="2"/>
            <a:endCxn id="987" idx="0"/>
          </p:cNvCxnSpPr>
          <p:nvPr/>
        </p:nvCxnSpPr>
        <p:spPr>
          <a:xfrm>
            <a:off x="4725720" y="1555920"/>
            <a:ext cx="108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1" name=""/>
          <p:cNvSpPr/>
          <p:nvPr/>
        </p:nvSpPr>
        <p:spPr>
          <a:xfrm>
            <a:off x="3763800" y="16714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933560" y="16714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201200" y="525960"/>
            <a:ext cx="10220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Nastav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4" name=""/>
          <p:cNvCxnSpPr>
            <a:stCxn id="1003" idx="2"/>
            <a:endCxn id="999" idx="0"/>
          </p:cNvCxnSpPr>
          <p:nvPr/>
        </p:nvCxnSpPr>
        <p:spPr>
          <a:xfrm>
            <a:off x="4713120" y="836280"/>
            <a:ext cx="1368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5" name=""/>
          <p:cNvSpPr/>
          <p:nvPr/>
        </p:nvSpPr>
        <p:spPr>
          <a:xfrm>
            <a:off x="3389400" y="501480"/>
            <a:ext cx="703080" cy="2350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meN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6" name=""/>
          <p:cNvCxnSpPr>
            <a:stCxn id="1005" idx="3"/>
            <a:endCxn id="1003" idx="1"/>
          </p:cNvCxnSpPr>
          <p:nvPr/>
        </p:nvCxnSpPr>
        <p:spPr>
          <a:xfrm>
            <a:off x="4092120" y="618840"/>
            <a:ext cx="105480" cy="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7" name=""/>
          <p:cNvSpPr/>
          <p:nvPr/>
        </p:nvSpPr>
        <p:spPr>
          <a:xfrm>
            <a:off x="5892840" y="555480"/>
            <a:ext cx="652320" cy="2350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ŠifN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8" name=""/>
          <p:cNvCxnSpPr>
            <a:stCxn id="1003" idx="3"/>
            <a:endCxn id="1007" idx="1"/>
          </p:cNvCxnSpPr>
          <p:nvPr/>
        </p:nvCxnSpPr>
        <p:spPr>
          <a:xfrm flipV="1">
            <a:off x="5227560" y="672480"/>
            <a:ext cx="665640" cy="6840"/>
          </a:xfrm>
          <a:prstGeom prst="bentConnector3">
            <a:avLst>
              <a:gd name="adj1" fmla="val 498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09" name=""/>
          <p:cNvSpPr/>
          <p:nvPr/>
        </p:nvSpPr>
        <p:spPr>
          <a:xfrm>
            <a:off x="4282920" y="82080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267080" y="15541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359320" y="901800"/>
            <a:ext cx="652680" cy="23472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ŠifP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31000" y="739800"/>
            <a:ext cx="858960" cy="26028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NazP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3" name=""/>
          <p:cNvCxnSpPr>
            <a:stCxn id="1011" idx="2"/>
          </p:cNvCxnSpPr>
          <p:nvPr/>
        </p:nvCxnSpPr>
        <p:spPr>
          <a:xfrm rot="5400000">
            <a:off x="5065920" y="1137240"/>
            <a:ext cx="621720" cy="619920"/>
          </a:xfrm>
          <a:prstGeom prst="curvedConnector5">
            <a:avLst>
              <a:gd name="adj1" fmla="val 49826"/>
              <a:gd name="adj2" fmla="val 49970"/>
              <a:gd name="adj3" fmla="val 498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4" name=""/>
          <p:cNvCxnSpPr>
            <a:stCxn id="1012" idx="1"/>
          </p:cNvCxnSpPr>
          <p:nvPr/>
        </p:nvCxnSpPr>
        <p:spPr>
          <a:xfrm flipV="1" rot="10800000">
            <a:off x="5066640" y="869040"/>
            <a:ext cx="1764360" cy="89100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15" name=""/>
          <p:cNvSpPr/>
          <p:nvPr/>
        </p:nvSpPr>
        <p:spPr>
          <a:xfrm>
            <a:off x="5902200" y="1616040"/>
            <a:ext cx="1436760" cy="552240"/>
          </a:xfrm>
          <a:prstGeom prst="flowChartDecision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 Narrow"/>
              </a:rPr>
              <a:t>Prip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9280" y="1730880"/>
            <a:ext cx="843840" cy="3070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cc0000"/>
                </a:solidFill>
                <a:latin typeface="Arial"/>
              </a:rPr>
              <a:t>Kated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7" name=""/>
          <p:cNvCxnSpPr>
            <a:stCxn id="987" idx="3"/>
            <a:endCxn id="1015" idx="1"/>
          </p:cNvCxnSpPr>
          <p:nvPr/>
        </p:nvCxnSpPr>
        <p:spPr>
          <a:xfrm flipV="1">
            <a:off x="5178600" y="1891800"/>
            <a:ext cx="72432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8" name=""/>
          <p:cNvCxnSpPr>
            <a:stCxn id="1015" idx="3"/>
            <a:endCxn id="1016" idx="1"/>
          </p:cNvCxnSpPr>
          <p:nvPr/>
        </p:nvCxnSpPr>
        <p:spPr>
          <a:xfrm flipV="1">
            <a:off x="7338960" y="1883880"/>
            <a:ext cx="6656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19" name=""/>
          <p:cNvSpPr/>
          <p:nvPr/>
        </p:nvSpPr>
        <p:spPr>
          <a:xfrm>
            <a:off x="5280120" y="16858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442280" y="168264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205840" y="797040"/>
            <a:ext cx="652320" cy="23472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NazK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194600" y="1181160"/>
            <a:ext cx="652320" cy="23472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ŠifK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3" name=""/>
          <p:cNvCxnSpPr>
            <a:stCxn id="1022" idx="3"/>
            <a:endCxn id="1016" idx="0"/>
          </p:cNvCxnSpPr>
          <p:nvPr/>
        </p:nvCxnSpPr>
        <p:spPr>
          <a:xfrm>
            <a:off x="7846560" y="1298160"/>
            <a:ext cx="58500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1021" idx="2"/>
            <a:endCxn id="1016" idx="0"/>
          </p:cNvCxnSpPr>
          <p:nvPr/>
        </p:nvCxnSpPr>
        <p:spPr>
          <a:xfrm flipH="1">
            <a:off x="8430840" y="1031760"/>
            <a:ext cx="102240" cy="696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5" name=""/>
          <p:cNvSpPr/>
          <p:nvPr/>
        </p:nvSpPr>
        <p:spPr>
          <a:xfrm>
            <a:off x="3862440" y="2483280"/>
            <a:ext cx="9428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Vanred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93880" y="2263680"/>
            <a:ext cx="110808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Imaj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94720" y="3048480"/>
            <a:ext cx="8344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Roditel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8" name=""/>
          <p:cNvCxnSpPr>
            <a:stCxn id="1026" idx="0"/>
            <a:endCxn id="975" idx="2"/>
          </p:cNvCxnSpPr>
          <p:nvPr/>
        </p:nvCxnSpPr>
        <p:spPr>
          <a:xfrm flipV="1">
            <a:off x="1447560" y="2058480"/>
            <a:ext cx="43560" cy="246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9" name=""/>
          <p:cNvSpPr/>
          <p:nvPr/>
        </p:nvSpPr>
        <p:spPr>
          <a:xfrm>
            <a:off x="942840" y="20620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27" idx="0"/>
            <a:endCxn id="1026" idx="2"/>
          </p:cNvCxnSpPr>
          <p:nvPr/>
        </p:nvCxnSpPr>
        <p:spPr>
          <a:xfrm flipV="1">
            <a:off x="1012320" y="2773080"/>
            <a:ext cx="43596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779400" y="267984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044800" y="2082600"/>
            <a:ext cx="296640" cy="55224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3" name=""/>
          <p:cNvCxnSpPr>
            <a:stCxn id="975" idx="2"/>
            <a:endCxn id="1032" idx="0"/>
          </p:cNvCxnSpPr>
          <p:nvPr/>
        </p:nvCxnSpPr>
        <p:spPr>
          <a:xfrm flipH="1" rot="16200000">
            <a:off x="1809000" y="1739160"/>
            <a:ext cx="65520" cy="703800"/>
          </a:xfrm>
          <a:prstGeom prst="bentConnector3">
            <a:avLst>
              <a:gd name="adj1" fmla="val 486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4" name=""/>
          <p:cNvCxnSpPr>
            <a:stCxn id="1032" idx="2"/>
            <a:endCxn id="1025" idx="1"/>
          </p:cNvCxnSpPr>
          <p:nvPr/>
        </p:nvCxnSpPr>
        <p:spPr>
          <a:xfrm flipH="1" rot="16200000">
            <a:off x="3003480" y="1782360"/>
            <a:ext cx="45360" cy="1664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5" name=""/>
          <p:cNvSpPr/>
          <p:nvPr/>
        </p:nvSpPr>
        <p:spPr>
          <a:xfrm>
            <a:off x="5130720" y="2201400"/>
            <a:ext cx="1108080" cy="917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Učest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6" name=""/>
          <p:cNvCxnSpPr>
            <a:stCxn id="1035" idx="1"/>
            <a:endCxn id="1025" idx="3"/>
          </p:cNvCxnSpPr>
          <p:nvPr/>
        </p:nvCxnSpPr>
        <p:spPr>
          <a:xfrm flipH="1" flipV="1">
            <a:off x="4809240" y="2636640"/>
            <a:ext cx="321480" cy="24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37" name=""/>
          <p:cNvSpPr/>
          <p:nvPr/>
        </p:nvSpPr>
        <p:spPr>
          <a:xfrm>
            <a:off x="6548040" y="2510280"/>
            <a:ext cx="8848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rojek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7846920" y="2454120"/>
            <a:ext cx="1225800" cy="408240"/>
            <a:chOff x="7846920" y="2454120"/>
            <a:chExt cx="1225800" cy="408240"/>
          </a:xfrm>
        </p:grpSpPr>
        <p:sp>
          <p:nvSpPr>
            <p:cNvPr id="1039" name=""/>
            <p:cNvSpPr/>
            <p:nvPr/>
          </p:nvSpPr>
          <p:spPr>
            <a:xfrm>
              <a:off x="7846920" y="2454120"/>
              <a:ext cx="1225800" cy="408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931160" y="2522160"/>
              <a:ext cx="1058760" cy="276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</a:rPr>
                <a:t>Zadat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1" name=""/>
          <p:cNvCxnSpPr>
            <a:stCxn id="1037" idx="3"/>
            <a:endCxn id="1039" idx="1"/>
          </p:cNvCxnSpPr>
          <p:nvPr/>
        </p:nvCxnSpPr>
        <p:spPr>
          <a:xfrm flipV="1">
            <a:off x="7437240" y="2658600"/>
            <a:ext cx="410040" cy="5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2" name=""/>
          <p:cNvCxnSpPr>
            <a:stCxn id="1037" idx="1"/>
            <a:endCxn id="1035" idx="3"/>
          </p:cNvCxnSpPr>
          <p:nvPr/>
        </p:nvCxnSpPr>
        <p:spPr>
          <a:xfrm flipH="1" flipV="1">
            <a:off x="6238080" y="2660040"/>
            <a:ext cx="305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3" name=""/>
          <p:cNvSpPr/>
          <p:nvPr/>
        </p:nvSpPr>
        <p:spPr>
          <a:xfrm>
            <a:off x="1496520" y="3042000"/>
            <a:ext cx="10724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reduzeć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976480" y="2677680"/>
            <a:ext cx="1108080" cy="917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 Narrow"/>
              </a:rPr>
              <a:t>Zapo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5" name=""/>
          <p:cNvCxnSpPr>
            <a:stCxn id="1025" idx="2"/>
            <a:endCxn id="1044" idx="3"/>
          </p:cNvCxnSpPr>
          <p:nvPr/>
        </p:nvCxnSpPr>
        <p:spPr>
          <a:xfrm rot="5400000">
            <a:off x="4037040" y="2840400"/>
            <a:ext cx="343800" cy="2502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6" name=""/>
          <p:cNvCxnSpPr>
            <a:stCxn id="1044" idx="1"/>
            <a:endCxn id="1043" idx="3"/>
          </p:cNvCxnSpPr>
          <p:nvPr/>
        </p:nvCxnSpPr>
        <p:spPr>
          <a:xfrm flipV="1" rot="10800000">
            <a:off x="2572560" y="3135960"/>
            <a:ext cx="403920" cy="59400"/>
          </a:xfrm>
          <a:prstGeom prst="curvedConnector5">
            <a:avLst>
              <a:gd name="adj1" fmla="val 49955"/>
              <a:gd name="adj2" fmla="val 50000"/>
              <a:gd name="adj3" fmla="val 4995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47" name=""/>
          <p:cNvSpPr/>
          <p:nvPr/>
        </p:nvSpPr>
        <p:spPr>
          <a:xfrm>
            <a:off x="3835440" y="280188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557440" y="29257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741920" y="24271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3000" y="244620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0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473120" y="2068560"/>
            <a:ext cx="6606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Vrsta (0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20760" y="2749680"/>
            <a:ext cx="507960" cy="2142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M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65240" y="2446200"/>
            <a:ext cx="679320" cy="190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me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4" name=""/>
          <p:cNvCxnSpPr>
            <a:stCxn id="1053" idx="1"/>
            <a:endCxn id="1027" idx="1"/>
          </p:cNvCxnSpPr>
          <p:nvPr/>
        </p:nvCxnSpPr>
        <p:spPr>
          <a:xfrm flipH="1" flipV="1" rot="10800000">
            <a:off x="164160" y="2541600"/>
            <a:ext cx="425880" cy="660600"/>
          </a:xfrm>
          <a:prstGeom prst="curvedConnector5">
            <a:avLst>
              <a:gd name="adj1" fmla="val -7783"/>
              <a:gd name="adj2" fmla="val 50000"/>
              <a:gd name="adj3" fmla="val -77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5" name=""/>
          <p:cNvCxnSpPr>
            <a:stCxn id="1027" idx="1"/>
            <a:endCxn id="1052" idx="1"/>
          </p:cNvCxnSpPr>
          <p:nvPr/>
        </p:nvCxnSpPr>
        <p:spPr>
          <a:xfrm rot="10800000">
            <a:off x="320040" y="2856960"/>
            <a:ext cx="270360" cy="344880"/>
          </a:xfrm>
          <a:prstGeom prst="curvedConnector5">
            <a:avLst>
              <a:gd name="adj1" fmla="val 104666"/>
              <a:gd name="adj2" fmla="val 49947"/>
              <a:gd name="adj3" fmla="val 1046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56" name=""/>
          <p:cNvSpPr/>
          <p:nvPr/>
        </p:nvSpPr>
        <p:spPr>
          <a:xfrm>
            <a:off x="1598760" y="2711520"/>
            <a:ext cx="772920" cy="2142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RegB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467080" y="2693880"/>
            <a:ext cx="90792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ivP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8" name=""/>
          <p:cNvCxnSpPr>
            <a:stCxn id="1043" idx="0"/>
            <a:endCxn id="1056" idx="1"/>
          </p:cNvCxnSpPr>
          <p:nvPr/>
        </p:nvCxnSpPr>
        <p:spPr>
          <a:xfrm flipV="1" rot="16200000">
            <a:off x="1706400" y="2710800"/>
            <a:ext cx="219600" cy="435600"/>
          </a:xfrm>
          <a:prstGeom prst="curvedConnector5">
            <a:avLst>
              <a:gd name="adj1" fmla="val 25287"/>
              <a:gd name="adj2" fmla="val 76261"/>
              <a:gd name="adj3" fmla="val 252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9" name=""/>
          <p:cNvCxnSpPr>
            <a:stCxn id="1043" idx="0"/>
            <a:endCxn id="1057" idx="2"/>
          </p:cNvCxnSpPr>
          <p:nvPr/>
        </p:nvCxnSpPr>
        <p:spPr>
          <a:xfrm flipH="1" flipV="1" rot="5400000">
            <a:off x="2399760" y="2517120"/>
            <a:ext cx="154800" cy="888120"/>
          </a:xfrm>
          <a:prstGeom prst="curvedConnector5">
            <a:avLst>
              <a:gd name="adj1" fmla="val 49417"/>
              <a:gd name="adj2" fmla="val 50000"/>
              <a:gd name="adj3" fmla="val 4941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0" name=""/>
          <p:cNvSpPr/>
          <p:nvPr/>
        </p:nvSpPr>
        <p:spPr>
          <a:xfrm>
            <a:off x="2665440" y="2251080"/>
            <a:ext cx="907920" cy="1904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Zanima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1" name=""/>
          <p:cNvCxnSpPr>
            <a:stCxn id="1060" idx="3"/>
            <a:endCxn id="1025" idx="0"/>
          </p:cNvCxnSpPr>
          <p:nvPr/>
        </p:nvCxnSpPr>
        <p:spPr>
          <a:xfrm>
            <a:off x="3573000" y="2346480"/>
            <a:ext cx="761400" cy="133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62" name=""/>
          <p:cNvSpPr/>
          <p:nvPr/>
        </p:nvSpPr>
        <p:spPr>
          <a:xfrm>
            <a:off x="4867200" y="3100320"/>
            <a:ext cx="908280" cy="1969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ŠifP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3" name=""/>
          <p:cNvCxnSpPr>
            <a:stCxn id="1037" idx="2"/>
            <a:endCxn id="1062" idx="0"/>
          </p:cNvCxnSpPr>
          <p:nvPr/>
        </p:nvCxnSpPr>
        <p:spPr>
          <a:xfrm rot="5400000">
            <a:off x="6015600" y="2125440"/>
            <a:ext cx="280080" cy="1670760"/>
          </a:xfrm>
          <a:prstGeom prst="curvedConnector5">
            <a:avLst>
              <a:gd name="adj1" fmla="val 49935"/>
              <a:gd name="adj2" fmla="val 5000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4" name=""/>
          <p:cNvSpPr/>
          <p:nvPr/>
        </p:nvSpPr>
        <p:spPr>
          <a:xfrm>
            <a:off x="6043680" y="3135240"/>
            <a:ext cx="907920" cy="1969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ivP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5" name=""/>
          <p:cNvCxnSpPr>
            <a:stCxn id="1037" idx="2"/>
            <a:endCxn id="1064" idx="3"/>
          </p:cNvCxnSpPr>
          <p:nvPr/>
        </p:nvCxnSpPr>
        <p:spPr>
          <a:xfrm rot="5400000">
            <a:off x="6764400" y="3007440"/>
            <a:ext cx="413640" cy="403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66" name=""/>
          <p:cNvSpPr/>
          <p:nvPr/>
        </p:nvSpPr>
        <p:spPr>
          <a:xfrm>
            <a:off x="7386480" y="3160800"/>
            <a:ext cx="908280" cy="1969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ivZ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7" name=""/>
          <p:cNvCxnSpPr>
            <a:stCxn id="1040" idx="2"/>
            <a:endCxn id="1066" idx="3"/>
          </p:cNvCxnSpPr>
          <p:nvPr/>
        </p:nvCxnSpPr>
        <p:spPr>
          <a:xfrm rot="5400000">
            <a:off x="8149680" y="2948040"/>
            <a:ext cx="456120" cy="1670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68" name=""/>
          <p:cNvSpPr/>
          <p:nvPr/>
        </p:nvSpPr>
        <p:spPr>
          <a:xfrm>
            <a:off x="7031160" y="2122560"/>
            <a:ext cx="907920" cy="1969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pisZ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9" name=""/>
          <p:cNvCxnSpPr>
            <a:stCxn id="1040" idx="0"/>
            <a:endCxn id="1068" idx="3"/>
          </p:cNvCxnSpPr>
          <p:nvPr/>
        </p:nvCxnSpPr>
        <p:spPr>
          <a:xfrm flipV="1" rot="16200000">
            <a:off x="8051040" y="2107440"/>
            <a:ext cx="297720" cy="5230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0" name=""/>
          <p:cNvSpPr/>
          <p:nvPr/>
        </p:nvSpPr>
        <p:spPr>
          <a:xfrm>
            <a:off x="7323120" y="2443320"/>
            <a:ext cx="561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 Narrow"/>
              </a:rPr>
              <a:t>(1,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1072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29CD972-CB23-4EDF-AD24-201A263451EB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74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7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4920" y="457200"/>
            <a:ext cx="90741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z praktičnih razloga, da bi se broj naziva na DOV smanjio, usvaja se sledeća konvenci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zivi veza se uvek zadaju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zivi preslikavanja se obavezno zadaju u rekurzivnim vezama (binarnim vezama nad jednom klasom objeka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zivi preslikavanja u ostalim vezam su opcioni i zadaju se samo kada je neophodno istaći ulogu objekta u vezi, odnosno kada se uloga oba objekta u vezi ne može dedukovati iz naziva v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Jedna od bitnih karakteristika veza izmedju objekata je kardinalnost preslikavanja koja je čin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Kardinalnost preslikavanja 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1 --&gt;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2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definiše se parom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D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G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)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gde D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donja granic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)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daje najmanji moguć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a G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gornja granic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)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najveći mogući broj pojavljivanja tipa objekata 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2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za jedno pojavljivanje tipa objekata 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56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2E9D0BC-6405-40C3-BB56-A864A8C88760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8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5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Objekti i Veze, konven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920" y="457200"/>
            <a:ext cx="9074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DG može imati vrednos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0, 1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ili neki poznat ceo broj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&gt; 1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GG može imati vrednos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1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neki poznat ceo broj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&gt; 1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ili nepoznat ceo broj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 &gt; 1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koji se označava sa M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Očigledno je da u jednom preslivanju mora biti zadovoljeno D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&gt;=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G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Naprimer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u preslikavnju RADI jednom pojavljivanju objekta RADNIK odgovara najmanje jedno i najviše jedno pojavljivanje objekta ODELEN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D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=1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G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= 1) -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jedan radnik radi u jednom odelenju i svaki radnik radi u jednom odelenju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Il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u preslikavanju PROIZVODI jednom pojavljivanju objekta ODELENJE odgovara nul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jedno ili više pojavljivanja objekta PROIZVO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D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= 0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G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=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M, pogledati prethodni slaj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)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Bez obzira da li se naziv preslikavanja izostavlja ili n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kardinalnost preslikavanja se uvek mora definisat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sem u slučajevima trivijalnih preslikava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o kojima će kasnije biti reč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63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BDB2DCD-CD80-4E04-B2FE-DCF66CCC7DA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5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Objekti i Veze, konven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4920" y="457200"/>
            <a:ext cx="9074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čigledno j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 osnov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efinicije koncepata </a:t>
            </a:r>
            <a:r>
              <a:rPr b="1" lang="sr-Latn-CS" sz="24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atrib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 </a:t>
            </a:r>
            <a:r>
              <a:rPr b="1" lang="sr-Latn-CS" sz="24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vez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a ne postoji forma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(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 možda i suštinsk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razlik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zmedju ova dva koncept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eza definiše dva preslikavanj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irektno i inverzno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zmedju dve klase objekat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 aribut preslikavanje izmedju klase objekata i odgovarajućeg domen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ko bi se svi domeni tretirali kao klase objekata tada bi atribut pretstavljao jedno preslikavanje u vezi te klase sa odgovarajućim objektom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 primer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ko se domen IMENA tretira kao klasa objekat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čija su pojavljivanja nizovi karaktera dužin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20)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tada bi atribut IME predstavljao preslikavanje RADNIK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-----&gt; 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MENA u vezi objekata RADNIK i objekata IMEN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sto tako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moglo bi se postupiti i obrnuto i preslikavanja u datim vezama tretirati kao atribute čiji su domeni odgovarajuće klase objekat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70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B41D5BB-0967-4DF2-BFED-E89002789138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5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Objekti i Veze, konven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632040" y="457200"/>
          <a:ext cx="5477040" cy="187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2040" y="457200"/>
                    <a:ext cx="54770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046160"/>
            <a:ext cx="907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va vrsta modela koji koris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amo koncepte objekata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reslikavanja se nazivaj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funkcionalni modeli podatak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 drugu vrstu modela koji koriste samo koncepte objekata i atributa spadaju pojedini semantički modeli podatak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DM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 objektno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_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rjentisani modeli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snovna karakteristika ovih modela je ta što se pojam veze izmedju objekata eksplicitno ne koristi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eć se implementira na taj načn što se kao domen atributa jednog objekta tretira klasa drugih objekat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skazom INVERZNO u specifikaciji nekog atribut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kazuje se na inverzno preslikavnj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tribut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oji sa posmatranim atributom čini jednu binarnu vezu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79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1208157-FB37-41D2-83C1-7AD78CF72698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1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5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Objekti i Veze, konven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632040" y="457200"/>
          <a:ext cx="5477040" cy="187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2040" y="457200"/>
                    <a:ext cx="54770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4920" y="457200"/>
            <a:ext cx="907416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U PMOV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iz semantičkih i praktičnih razlog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ako se model objekt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-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veze implementira preko nek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"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klasičn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"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rekord orjentisanog jezika ili sistema za upralvjanje bazom podatak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pogodno je razlikovati koncept atributa od koncepta vez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Arial"/>
                <a:ea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Sa semantičke tačke gledišta prihvata se da je prirodnije razdvojiti koncepte atributa i vez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Tak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na primer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prirodni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tretirat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IM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ka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atribu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 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svojstv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)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objeka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RADNI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a RAD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ka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preslikavanje RADNI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------&gt; 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ODELENJE veze izmedju objekata RADNIK i ODELEN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Kriterijum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"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prirodni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"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je veoma relativan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svakom nešto drugo može biti prirodni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Primena tog slabo definisanog kriterijum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"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prirodni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"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dovodi do dilema u modeliranju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-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kada neki skup objekata predstaviti kao domen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odnosno njegov odnos sa nekim drugim tipom objekata kao atribu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a kada ga predstaviti kao tip objekat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odnosno njegov odnos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sa nekim drugim tipom objekata kao vezu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88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EF21B5E-13A4-478E-AF39-C3BB70B51F5B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0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5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Objekti i Veze, konven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4920" y="457200"/>
            <a:ext cx="9074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Uputstva za razrešenje ove dileme su sledeć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Ako ne postoji potreba za posebnim identifikovanjem svakog pojavljivanja objekta u skupu i ako su ta pojavljivanja vrednosti koje su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"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ugradjeni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"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tipovi podatak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bazni domeni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)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nekog SUBP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-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a ili nekog jezik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celobrojne vrednosti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karakteri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nizovi karaktera i slično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)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tada skup takvih objekata treba tretirati kao domen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Ako ne postoji potreba da se neki skup objekata opisuje atributim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tada ga treba tretirati kao domen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Drugačije rečeno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ako neka osobina objekata uzima vrednosti iz skupa prostih vrednosti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treba je predstaviti kao atribut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a dati skup kao domen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ili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ako neka osobina objekta uzima vrednosti iz skupa n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-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torki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parov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trojki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)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tu osobinu treba predstaviti kao vezu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a dati skup vrednosti kao tip objekat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Ova preporuka ne sprečava korišćenje složenog domen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ako je to povoljnij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Ako s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u toku modeliranj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ukaže potreba da se neki već definisani atribut poveže sa nekim objektom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odnosno da se definiše preslikavanje DOMEN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---&gt;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OBJEKAT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tada odgovarajući domen treba tretirati kao tip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objekt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a atribut kao preslikavanje u vezi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95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CBAEA1D-8055-4032-A377-44D6668C5CAA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5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Objekti i Veze, konven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4920" y="457200"/>
            <a:ext cx="907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720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Sa praktične tačke gledišt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u mnogim primenam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za implementaciju model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pogodno je jedan objekat i skup njegovih atributa tretirati kao rekord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pa je to još jedan razlog da se razdvoje koncepti atributa i vez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Time se imlicitno uvodi i koncept agregacij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jer se objekat može definisati kao agregacija njegovih atrib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102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A917FD1-BF4C-41D2-97FB-DE55F668E1E9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4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5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Objekti i Veze, konven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108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CB277E8-8A07-4FA3-AB16-78C3863E050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5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0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5-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Generalizacija i specijaliz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920" y="330120"/>
            <a:ext cx="91090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Generalizacija 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ao što je rečeno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pstrakcija u kojoj se skup sličnih tipova objekata tretira kao generički tip objekt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dtip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. "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ličn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"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tipovi objekata su oni tipovi koji imaju neke zajedničke atribut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eze 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/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li operaci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pecijalizacija je inverzni postupak u kome se za neki tip objekt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efinišu njegovi podtipov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oji imaju neke njima specifične atribut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veze 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/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li operacij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 primer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kup tipova Radnik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tudent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enzioner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Dete može se predstaviti generičkim tipom Gradjanin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sto tako se tip Radnik može specijalizovati u podtipove Vozač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nženjer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Lekar i druge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lasa nadtipa sadrži sva pojavljivanj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"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ličnih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"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bjekat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a onim atributima i preslikavanjima koji su im zajednički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 klase podtipova su podskupovi pojavljivanja nadtipa sa dodatnim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jima specifičnim preslikavanjim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ada se jedno pojavljivanje tipa može specijalizovati sa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 jedan podtip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eksluzivna specijalizacij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tada je GG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=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 primer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jedno pojavljivanje tipa RADN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može imati samo jedno zanim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(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 jednom trenutku vremena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.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Kada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jedno pojavljivanje tipa može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pec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 više podtpova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(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eeksluzivna spec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.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tada je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GG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&gt; 1.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 primer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eki gradjan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m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ože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stovremeno da bude i dete i student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Ako je u specijalizaciji DG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= 0,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tada 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mora svako pojavljivanje tipa biti spec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 neki podtip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(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unija podtipova je po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dskup nadtipa).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41440" y="3526200"/>
            <a:ext cx="9626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Građan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65800" y="316548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M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31040" y="3151080"/>
            <a:ext cx="930240" cy="2494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53360" y="348300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Star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2"/>
            <a:endCxn id="114" idx="0"/>
          </p:cNvCxnSpPr>
          <p:nvPr/>
        </p:nvCxnSpPr>
        <p:spPr>
          <a:xfrm flipH="1">
            <a:off x="6422400" y="3414600"/>
            <a:ext cx="308520" cy="1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16" idx="1"/>
            <a:endCxn id="114" idx="3"/>
          </p:cNvCxnSpPr>
          <p:nvPr/>
        </p:nvCxnSpPr>
        <p:spPr>
          <a:xfrm flipH="1">
            <a:off x="6908040" y="3276720"/>
            <a:ext cx="42300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17" idx="1"/>
            <a:endCxn id="114" idx="3"/>
          </p:cNvCxnSpPr>
          <p:nvPr/>
        </p:nvCxnSpPr>
        <p:spPr>
          <a:xfrm flipH="1">
            <a:off x="6908040" y="3607920"/>
            <a:ext cx="44532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6124680" y="4010040"/>
            <a:ext cx="598320" cy="61380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70720" y="3817800"/>
            <a:ext cx="7603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Narrow"/>
              </a:rPr>
              <a:t>Vrsta(0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4" idx="2"/>
            <a:endCxn id="121" idx="0"/>
          </p:cNvCxnSpPr>
          <p:nvPr/>
        </p:nvCxnSpPr>
        <p:spPr>
          <a:xfrm>
            <a:off x="6423120" y="383688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4324680" y="4816800"/>
            <a:ext cx="8420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64440" y="4816800"/>
            <a:ext cx="7736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Rad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46080" y="4816800"/>
            <a:ext cx="5662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D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3160" y="4816800"/>
            <a:ext cx="10324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enzio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1" idx="2"/>
            <a:endCxn id="124" idx="0"/>
          </p:cNvCxnSpPr>
          <p:nvPr/>
        </p:nvCxnSpPr>
        <p:spPr>
          <a:xfrm rot="5400000">
            <a:off x="5468040" y="3857400"/>
            <a:ext cx="234000" cy="1678680"/>
          </a:xfrm>
          <a:prstGeom prst="bentConnector3">
            <a:avLst>
              <a:gd name="adj1" fmla="val 496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1" idx="2"/>
            <a:endCxn id="125" idx="0"/>
          </p:cNvCxnSpPr>
          <p:nvPr/>
        </p:nvCxnSpPr>
        <p:spPr>
          <a:xfrm rot="5400000">
            <a:off x="6020640" y="4410000"/>
            <a:ext cx="234000" cy="573840"/>
          </a:xfrm>
          <a:prstGeom prst="bentConnector3">
            <a:avLst>
              <a:gd name="adj1" fmla="val 496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1" idx="2"/>
            <a:endCxn id="126" idx="0"/>
          </p:cNvCxnSpPr>
          <p:nvPr/>
        </p:nvCxnSpPr>
        <p:spPr>
          <a:xfrm flipH="1" rot="16200000">
            <a:off x="6409440" y="4593960"/>
            <a:ext cx="234000" cy="205560"/>
          </a:xfrm>
          <a:prstGeom prst="bentConnector3">
            <a:avLst>
              <a:gd name="adj1" fmla="val 496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1" idx="2"/>
            <a:endCxn id="127" idx="0"/>
          </p:cNvCxnSpPr>
          <p:nvPr/>
        </p:nvCxnSpPr>
        <p:spPr>
          <a:xfrm flipH="1" rot="16200000">
            <a:off x="6859440" y="4143960"/>
            <a:ext cx="234000" cy="1105560"/>
          </a:xfrm>
          <a:prstGeom prst="bentConnector3">
            <a:avLst>
              <a:gd name="adj1" fmla="val 496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195880" y="5300640"/>
            <a:ext cx="598320" cy="61380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56640" y="6086880"/>
            <a:ext cx="11120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Daktilogra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97920" y="6086880"/>
            <a:ext cx="6958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Voza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94600" y="6086880"/>
            <a:ext cx="6562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Lek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46960" y="5513400"/>
            <a:ext cx="598320" cy="61380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47000" y="6291720"/>
            <a:ext cx="66672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Stal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84720" y="6291720"/>
            <a:ext cx="110412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rivreme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6" idx="2"/>
            <a:endCxn id="137" idx="0"/>
          </p:cNvCxnSpPr>
          <p:nvPr/>
        </p:nvCxnSpPr>
        <p:spPr>
          <a:xfrm rot="5400000">
            <a:off x="7460640" y="6002280"/>
            <a:ext cx="205560" cy="367200"/>
          </a:xfrm>
          <a:prstGeom prst="bentConnector3">
            <a:avLst>
              <a:gd name="adj1" fmla="val 494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6" idx="2"/>
            <a:endCxn id="138" idx="0"/>
          </p:cNvCxnSpPr>
          <p:nvPr/>
        </p:nvCxnSpPr>
        <p:spPr>
          <a:xfrm flipH="1" rot="16200000">
            <a:off x="7988760" y="5839920"/>
            <a:ext cx="205560" cy="691560"/>
          </a:xfrm>
          <a:prstGeom prst="bentConnector3">
            <a:avLst>
              <a:gd name="adj1" fmla="val 494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2" idx="2"/>
            <a:endCxn id="133" idx="0"/>
          </p:cNvCxnSpPr>
          <p:nvPr/>
        </p:nvCxnSpPr>
        <p:spPr>
          <a:xfrm rot="5400000">
            <a:off x="5047920" y="5635440"/>
            <a:ext cx="213480" cy="682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2" idx="2"/>
            <a:endCxn id="134" idx="0"/>
          </p:cNvCxnSpPr>
          <p:nvPr/>
        </p:nvCxnSpPr>
        <p:spPr>
          <a:xfrm flipH="1" rot="16200000">
            <a:off x="5563440" y="5801040"/>
            <a:ext cx="213480" cy="351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2" idx="2"/>
            <a:endCxn id="135" idx="0"/>
          </p:cNvCxnSpPr>
          <p:nvPr/>
        </p:nvCxnSpPr>
        <p:spPr>
          <a:xfrm flipH="1" rot="16200000">
            <a:off x="5951880" y="5412960"/>
            <a:ext cx="213480" cy="1127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4422600" y="5086440"/>
            <a:ext cx="11242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Narrow"/>
              </a:rPr>
              <a:t>Zanimanje(0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1520" y="5226120"/>
            <a:ext cx="13543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Narrow"/>
              </a:rPr>
              <a:t>RadniOdnos(0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25" idx="2"/>
            <a:endCxn id="132" idx="0"/>
          </p:cNvCxnSpPr>
          <p:nvPr/>
        </p:nvCxnSpPr>
        <p:spPr>
          <a:xfrm rot="5400000">
            <a:off x="5564880" y="5057640"/>
            <a:ext cx="216720" cy="35640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25" idx="2"/>
            <a:endCxn id="136" idx="0"/>
          </p:cNvCxnSpPr>
          <p:nvPr/>
        </p:nvCxnSpPr>
        <p:spPr>
          <a:xfrm flipH="1" rot="16200000">
            <a:off x="6583680" y="4393800"/>
            <a:ext cx="429480" cy="1896120"/>
          </a:xfrm>
          <a:prstGeom prst="bentConnector3">
            <a:avLst>
              <a:gd name="adj1" fmla="val 8548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4348080" y="395604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Broj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16280" y="4330800"/>
            <a:ext cx="93060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Seme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8" idx="1"/>
            <a:endCxn id="124" idx="1"/>
          </p:cNvCxnSpPr>
          <p:nvPr/>
        </p:nvCxnSpPr>
        <p:spPr>
          <a:xfrm flipV="1" rot="10800000">
            <a:off x="4318920" y="4080960"/>
            <a:ext cx="29160" cy="889920"/>
          </a:xfrm>
          <a:prstGeom prst="bentConnector3">
            <a:avLst>
              <a:gd name="adj1" fmla="val 9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" name=""/>
          <p:cNvCxnSpPr>
            <a:stCxn id="149" idx="1"/>
            <a:endCxn id="124" idx="1"/>
          </p:cNvCxnSpPr>
          <p:nvPr/>
        </p:nvCxnSpPr>
        <p:spPr>
          <a:xfrm flipV="1" rot="10800000">
            <a:off x="4318920" y="4455000"/>
            <a:ext cx="297360" cy="515160"/>
          </a:xfrm>
          <a:prstGeom prst="bentConnector3">
            <a:avLst>
              <a:gd name="adj1" fmla="val 1769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4151160" y="5408640"/>
            <a:ext cx="93060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Pl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25" idx="1"/>
            <a:endCxn id="152" idx="3"/>
          </p:cNvCxnSpPr>
          <p:nvPr/>
        </p:nvCxnSpPr>
        <p:spPr>
          <a:xfrm flipH="1">
            <a:off x="5081040" y="4970160"/>
            <a:ext cx="378360" cy="564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5921280" y="519588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Dodat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26" idx="2"/>
            <a:endCxn id="154" idx="0"/>
          </p:cNvCxnSpPr>
          <p:nvPr/>
        </p:nvCxnSpPr>
        <p:spPr>
          <a:xfrm flipH="1">
            <a:off x="6385680" y="5127480"/>
            <a:ext cx="243720" cy="69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7369200" y="407988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Penzi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6" idx="3"/>
            <a:endCxn id="127" idx="3"/>
          </p:cNvCxnSpPr>
          <p:nvPr/>
        </p:nvCxnSpPr>
        <p:spPr>
          <a:xfrm flipH="1">
            <a:off x="8049960" y="4205160"/>
            <a:ext cx="249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9" idx="2"/>
            <a:endCxn id="138" idx="3"/>
          </p:cNvCxnSpPr>
          <p:nvPr/>
        </p:nvCxnSpPr>
        <p:spPr>
          <a:xfrm>
            <a:off x="8528040" y="5805000"/>
            <a:ext cx="465840" cy="64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8062920" y="555624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Sat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56240" y="5548320"/>
            <a:ext cx="1087560" cy="2872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RadnoMe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60" idx="2"/>
            <a:endCxn id="137" idx="1"/>
          </p:cNvCxnSpPr>
          <p:nvPr/>
        </p:nvCxnSpPr>
        <p:spPr>
          <a:xfrm>
            <a:off x="7000560" y="5835240"/>
            <a:ext cx="417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0T16:14:00Z</dcterms:created>
  <dc:creator>Lukic</dc:creator>
  <dc:description/>
  <dc:language>en-US</dc:language>
  <cp:lastModifiedBy>Zoran</cp:lastModifiedBy>
  <dcterms:modified xsi:type="dcterms:W3CDTF">2005-10-09T09:10:18Z</dcterms:modified>
  <cp:revision>308</cp:revision>
  <dc:subject/>
  <dc:title>PowerPoint Presentation</dc:title>
</cp:coreProperties>
</file>