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148E-EE90-4D8B-B122-F8F2F726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B4E-9948-485C-B127-F16EC349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1FCE-5B85-498A-AEBA-3AC579DC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3D6A-D692-47BB-AEF2-4307B38A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8F1-28D1-4C70-B171-6AE5C48A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36D-E7A1-40CF-B7F2-654DE850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04A4-E43B-404F-950B-0DF9F9BE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78E5-2C59-4DBB-A135-0FF64337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549-C354-4AA4-9318-741F2E0D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BF19-B281-4BC0-80B7-62F7D48E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1074-868F-4C04-8F09-A5661E45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D50-54C5-48FC-A27B-EFBFC0A2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D4CF-1D3B-4954-8B23-09C7387AC6A5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FCAA-7807-4F3C-ACF8-A92B008186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38600" y="5924520"/>
            <a:ext cx="33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OGR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11120" y="500040"/>
            <a:ext cx="38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UNIVERZITET U BEOGRA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TEHNIČKI FAKULTET U B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8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Arial"/>
              </a:rPr>
              <a:t>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81280" y="3222720"/>
            <a:ext cx="37893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d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Zoran 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</a:rPr>
              <a:t>.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Anđelkovi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jaz@eunet.y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25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16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.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1520" y="665316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r Zoran R. Anđelkov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4920" y="0"/>
          <a:ext cx="127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0"/>
                    <a:ext cx="127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0" y="6572160"/>
            <a:ext cx="9178920" cy="327240"/>
            <a:chOff x="0" y="6572160"/>
            <a:chExt cx="9178920" cy="327240"/>
          </a:xfrm>
        </p:grpSpPr>
        <p:sp>
          <p:nvSpPr>
            <p:cNvPr id="50" name=""/>
            <p:cNvSpPr/>
            <p:nvPr/>
          </p:nvSpPr>
          <p:spPr>
            <a:xfrm>
              <a:off x="34920" y="66531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8AC7434-71EA-4D67-A07B-87C18DF50A0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920" y="66531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0" y="65721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721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3197160" y="2482920"/>
          <a:ext cx="58737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7160" y="2482920"/>
                    <a:ext cx="58737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1400" y="439560"/>
            <a:ext cx="9061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sam podmodel za nek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imitivnu funkciju dobija s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tegracijom modela odgovaraj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h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okova i sklad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a posmatrajmo,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a primer, funkci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arucivanje.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dmodel z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vu funkciju se dobija integracijo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dmodela za tok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arud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benicaD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skladista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kladisteArtikal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atalog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slovniPartn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truktura sklad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arud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benicaDob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tpunosti 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kvivalentna struktu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ka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aru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đž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benicaDob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a nema potrebe da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sebno treti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-17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ekompozicija sistema i izgradnja podmod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32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00F1660-6CF1-4CA3-B48E-97EA82B92D9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4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-17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KONCEPTUALNO MODELOVANJE-Dekompozicija sistema i izgradnja podmod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9440" y="2666880"/>
          <a:ext cx="6792840" cy="36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440" y="2666880"/>
                    <a:ext cx="679284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40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F028E1C-60AE-4FD2-90C0-C1498EF3606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2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4" name=""/>
          <p:cNvSpPr/>
          <p:nvPr/>
        </p:nvSpPr>
        <p:spPr>
          <a:xfrm>
            <a:off x="41400" y="706320"/>
            <a:ext cx="9061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Model objekti-veze za tok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aru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đž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benicaDob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a DTP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sa prethodnog slajda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, na osnovu izgleda odgovarajuceg dokumenta i njegovog opisa,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prikazan je na slici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.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aru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đž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bencaDob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e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Upu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ć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uje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jednom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PoslovnomPartneru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(Dobavlj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).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arud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ž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benicaDob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m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tavkeNarDob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 n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vakoj stavci je naveden jedan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nar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i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(NarArt)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Artikal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.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tavkaNarDob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je, 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gledno klasa slabih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objekata, jer stavka dokumenta ne 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d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ostoji, niti da se identifikuje nezavisno od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dokumenta k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me pripad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-17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KONCEPTUALNO MODELOVANJE-Dekompozicija sistema i izgradnja podmod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400" y="392040"/>
            <a:ext cx="90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1400" y="804960"/>
          <a:ext cx="9061200" cy="54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41400" y="804960"/>
                    <a:ext cx="9061200" cy="54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50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32F2D0A-9C0A-4909-A9E1-8EACECB8AD8C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2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-17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KONCEPTUALNO MODELOVANJE-Dekompozicija sistema i izgradnja podmod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400" y="392040"/>
            <a:ext cx="90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Integracijom ova dva model adobija se sledeći model: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1400" y="804960"/>
          <a:ext cx="453060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804960"/>
                    <a:ext cx="453060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572000" y="804960"/>
          <a:ext cx="4530600" cy="27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>
                    <a:alphaModFix amt="50000"/>
                  </a:blip>
                  <a:stretch/>
                </p:blipFill>
                <p:spPr>
                  <a:xfrm>
                    <a:off x="4572000" y="804960"/>
                    <a:ext cx="453060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11120" y="3743280"/>
          <a:ext cx="8169480" cy="287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120" y="3743280"/>
                    <a:ext cx="816948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0" y="3533760"/>
            <a:ext cx="9102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572000" y="804960"/>
            <a:ext cx="0" cy="27288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65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99EBF6F-B438-4866-A389-C5736E1472F5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7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-23760" y="573120"/>
            <a:ext cx="9061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ikazani primer jasno ilustruje postupak konstruisanja podmodela i njihove integracije do ko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og modela celokupnog sistema. Strukture tokova i skladista podataka su osnova za nal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a model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elovi navedenog primera mogu se uop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iti, odnosno pos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ti kao uzor za konstruisanje model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podataka u poslovnim sistemi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Neki tok ili skladi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te podataka se sastoji od jednog ili vi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e poslovnih dokumenata. Jedan poslovni dokument prikazuje neki skup povezanih objekata. Neophodno je identifikovati te objekte, utvrditi koja polja dokumenta predstavljaju njihove atribute i razlu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iti veze objekata koje su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na njemu prikaza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3760" y="115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ekompozicija sistema i izgradnja podmod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72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C7D838B-80FB-4CA1-83A7-2CB6EFC68F9F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4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-23760" y="573120"/>
            <a:ext cx="9061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Moze se konstatovati da, naj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e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e, poslovni dokumenti imaju jednu od slede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a dva tipa struktur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320920" indent="-609480"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  <a:tab algn="l" pos="7104240"/>
                <a:tab algn="l" pos="7388280"/>
                <a:tab algn="l" pos="7672320"/>
                <a:tab algn="l" pos="79567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(1) "ravni dokumenat"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u k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me se sva polja pojavljuju s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o jednom (Faktura, UplataDob)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320920" indent="-609480"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  <a:tab algn="l" pos="7104240"/>
                <a:tab algn="l" pos="7388280"/>
                <a:tab algn="l" pos="7672320"/>
                <a:tab algn="l" pos="79567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(2) "dokumenat sa stavkom"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u k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me postoje stavke (tabele), odnosno skup polja koje se vis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truko ponavljaju (NarudzbenicaDob, Otremnica, Katalog). Pogodno je stavke tretirati kao posebne "slabe" objekte u modelu. Isto tak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je pogodno pretpostaviti da stavke imaju redne brojeve.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23760" y="115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ekompozicija sistema i izgradnja podmod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79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3D4DA2C-9FFE-4090-86DD-B37D8F8D2229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1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-23760" y="573120"/>
            <a:ext cx="906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.Dokumenta koja se primaju iz "okoline" treba tretirati kao "slabe objekte" , sa njihovim po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iljaocima kao nadre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enim objektom (Otpremnica, Faktura, Katalog). Ocigledno je da BrojDokumenta ne maze biti njihov jedinstveni identifikator, ve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se identifikacija mora pro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iriti i sa identifikatorom po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iljaoca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23760" y="115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ekompozicija sistema i izgradnja podmod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86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2F6A4DB-62A1-4543-826F-B9ADF705A01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8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-23760" y="115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ekompozicija sistema i izgradnja podmod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-23760" y="573120"/>
            <a:ext cx="9061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Prilikom integracije neophodno je razrešiti nekonzistentnosti koje se u tom postupku javljaju. Podmodeli (a) i (b) su, izolovano posmatrano, korektni. Međutim, njihova integracija dovodi do nekonzistentnosti. U integrisanom modelu klasa A bi postala samoj sebi podtip. D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nekonzistentnosti podmodela ob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no dolazi u velikim projektima, kada na pojedinim podmodelima rade razl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ti projektanti ili timovi i naj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su posledica ner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og problema imenovanj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390680" y="4138560"/>
          <a:ext cx="609588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4138560"/>
                    <a:ext cx="609588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95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D803D27-9E91-491D-AF05-17B1BC530D83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7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-23760" y="115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ekompozicija sistema i izgradnja podmod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-23760" y="573120"/>
            <a:ext cx="9061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tim klasama se daju razl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ta imena (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inonimi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) i razl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tim klasama se daje isto ime (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homonimi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). Da bi se problem imenovanja r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o, neophodno je voditi R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nik definicija u kame bi se za svako ime (klasa, atributa i veza) dala i njegova definicija (precizan opis). Veliki projekti se, medutim, realizuju uz pom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CASE alata koji treba da poseduju mehanizme za spr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vanje nekonzistentnosti i/ili njihovu analizu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90680" y="4138560"/>
          <a:ext cx="609588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4138560"/>
                    <a:ext cx="609588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20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0B14653-8218-403E-B9FB-93B2E902927D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-23760" y="115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KONCEPTUALNO MODELOVANJE-Normalizacija rel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160" y="446040"/>
            <a:ext cx="906156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ilikom definisanja atributa, kao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to je r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o, pristupa se modeliranju podataka odozdo nagore (Bottom Up). Ovaj pristup veoma je prihv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t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jiv za p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tnike u ovoj oblasti, jer polazi od opipljivih informacija definisanih na dokumentima i u kartotekama. Osnovu za ovaj n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n modeliranja podatak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ne analiza funkcionalnih zavisnosti i postupak normalizaci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 okviru aktivnost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"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Postupak normalizacije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"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klanjaju se sve strukture koje stvaraju redundansu podataka, pa je slogan normalizacije: Jedn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njenica na jednom mest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avilno izveden postupak normalizacije podataka omog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je korektno izv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je aktivnosti "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Aplikativno modeliranje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"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koja ima strukturu kojom osigurava da u radu sa njom n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biti n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ljenih anomalija, kao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to su, npr., un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tavanje odr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ih podataka ili neuskl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ost izm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 memorisanih podataka kao posledica 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riranj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21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C122233-9B64-466D-9EBC-C1270225E87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4280" y="65160"/>
            <a:ext cx="84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BP-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evođenje PMOV u relacioni model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51000"/>
            <a:ext cx="91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22360"/>
            <a:ext cx="91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pt-P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Tipovi vez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vezivanje se vr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š</a:t>
            </a: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ao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š</a:t>
            </a: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o smo rekli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 klju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č</a:t>
            </a: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 ili spoljnjem klju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č</a:t>
            </a: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 </a:t>
            </a:r>
            <a:r>
              <a:rPr b="1" lang="sv-S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stoje veze sled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ćih tipov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v-SE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Veza tipa 1:1</a:t>
            </a:r>
            <a:r>
              <a:rPr b="1" lang="sv-SE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58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508CAD5-3E77-424A-B2E2-B0E7AD34C0E5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0" y="26240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2075040"/>
          <a:ext cx="9178920" cy="15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075040"/>
                    <a:ext cx="9178920" cy="15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veze1-1" descr=""/>
          <p:cNvPicPr/>
          <p:nvPr/>
        </p:nvPicPr>
        <p:blipFill>
          <a:blip r:embed="rId5"/>
          <a:stretch/>
        </p:blipFill>
        <p:spPr>
          <a:xfrm>
            <a:off x="603360" y="3695760"/>
            <a:ext cx="7935840" cy="2830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-23760" y="115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KONCEPTUALNO MODELOVANJE-Normalizacija rel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160" y="446040"/>
            <a:ext cx="9061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Drugim r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ma,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postupak normalizacije predstav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ja transformaciju po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etnog entiteta u jednu ili vise korektnih entiteta ili veza u kojima su svi atributi potpuno funkcijski zavisni od klju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a, a me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usobno funkcijski nezavisni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Da bi se mogao opisati postupak normalizacije, treba prethodno opisati pojam funkcijske zavisnos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Ako je svakoj vrednosti atributa A u relaciji R priklju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ena sa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o jedna vrednost atributa B u istoj relaciji, onda je atribut B funkcijski zavisan od atributa 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Funkcijska zavisnost se m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definisati izm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 sl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og klj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 (vise atributa) i jednostavnog atributa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218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2C0702A-2BDF-4D9F-B595-D278F8ACF118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0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14280" y="65160"/>
            <a:ext cx="84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BP-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evođenje PMOV u relacioni model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251000"/>
            <a:ext cx="91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22360"/>
            <a:ext cx="91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pt-P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Veza tipa 1:n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eza tipa jedan prema više omogućava povezivanje jednog zapisa iz jedne tabele sa više zapisa u drugoj tabeli. 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jbolji primer ove veze je svaki dokument koji ima v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še stavki.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70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60A8DC6-2A8B-4D18-8E55-CCF8B46E9B57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4" name=""/>
          <p:cNvSpPr/>
          <p:nvPr/>
        </p:nvSpPr>
        <p:spPr>
          <a:xfrm>
            <a:off x="0" y="26240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4920" y="2100240"/>
          <a:ext cx="4257720" cy="275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" y="2100240"/>
                    <a:ext cx="425772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veze1-n" descr=""/>
          <p:cNvPicPr/>
          <p:nvPr/>
        </p:nvPicPr>
        <p:blipFill>
          <a:blip r:embed="rId5"/>
          <a:stretch/>
        </p:blipFill>
        <p:spPr>
          <a:xfrm>
            <a:off x="3905280" y="4494240"/>
            <a:ext cx="5203800" cy="2112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rot="5400000">
            <a:off x="2331000" y="5058360"/>
            <a:ext cx="1273320" cy="1170000"/>
          </a:xfrm>
          <a:custGeom>
            <a:avLst/>
            <a:gdLst>
              <a:gd name="textAreaLeft" fmla="*/ 424440 w 1273320"/>
              <a:gd name="textAreaRight" fmla="*/ 1090800 w 1273320"/>
              <a:gd name="textAreaTop" fmla="*/ 673920 h 1170000"/>
              <a:gd name="textAreaBottom" fmla="*/ 100224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4280" y="65160"/>
            <a:ext cx="84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BP-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evođenje PMOV u relacioni model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251000"/>
            <a:ext cx="91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22360"/>
            <a:ext cx="91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pt-P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Veza tipa n:m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eza tipa ¨više prema više¨ se može zamisliti kao par veza tipa 1:n između dve tabele. Ovakav par odvojenih, dvosmernih veza tipa 1:n čini vezu tipa n:n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83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0AB98F3-00A1-4A79-89C2-8485227676CE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7" name=""/>
          <p:cNvSpPr/>
          <p:nvPr/>
        </p:nvSpPr>
        <p:spPr>
          <a:xfrm>
            <a:off x="0" y="26240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n-m" descr=""/>
          <p:cNvPicPr/>
          <p:nvPr/>
        </p:nvPicPr>
        <p:blipFill>
          <a:blip r:embed="rId3"/>
          <a:stretch/>
        </p:blipFill>
        <p:spPr>
          <a:xfrm>
            <a:off x="233280" y="2400480"/>
            <a:ext cx="8910720" cy="1163520"/>
          </a:xfrm>
          <a:prstGeom prst="rect">
            <a:avLst/>
          </a:prstGeom>
          <a:ln w="0">
            <a:noFill/>
          </a:ln>
        </p:spPr>
      </p:pic>
      <p:pic>
        <p:nvPicPr>
          <p:cNvPr id="89" name="Acces-n-m" descr=""/>
          <p:cNvPicPr/>
          <p:nvPr/>
        </p:nvPicPr>
        <p:blipFill>
          <a:blip r:embed="rId4"/>
          <a:stretch/>
        </p:blipFill>
        <p:spPr>
          <a:xfrm>
            <a:off x="314280" y="3564000"/>
            <a:ext cx="8462880" cy="2922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KONCEPTUALNO MODELO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400" y="444600"/>
            <a:ext cx="90612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Konceptualni model predstavlj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stinske karakteristike sistema za koji se projektuj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, opisane na visokom nivou apstrakcije, preko modela podataka. On predstavlja celokupan mog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 informacioni sad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j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, nezavisno od toga koji je deo tog sad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ja i kako implementiran.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Modeli podataka, predstavljaju s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o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"intelektualni alat"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za konstruisanje konceptualnog modela nekog sistema.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ok sam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"intelektualni alat"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koji se koristi u modelovanju 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biti manje ili v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i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formalno zasnovan, postupak modelovanja je uvek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"vestina"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, zavisi od sposobnosti, znanja i iskustva analit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Ne mogu se dati neka stroga pravila modelovanja koja bi, bez obzira na to ko modelovanje vrsi, vodila do jedinstvenog modela sl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og realnog sistema. Mogu se dati sarno op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te metodol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ke preporuke, op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ti metodol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ki pristupi, kao pom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u ovom sl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om posl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93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CB959C9-F866-4236-B5D6-D85FC3D58F09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KONCEPTUALNO MODELO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400" y="444600"/>
            <a:ext cx="9061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ostoji v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metodol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kih pristupa konceptualnom modelovanju, a u razvoju modela nekog konkretnog sistem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ni se gotovo uvek kombinuju. Ovd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rna izloziti sled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 pristup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1.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tegracija podmode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2.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Direktno mode/ovanje na bazi verba/nag opisa sistem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3.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Konkretizacija op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tih (generi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č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kih) mode/a, odnosno kori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šć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enje uzora ("paterna'?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4.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orma/izacija re/acij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5.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Transformacija jednog mode/a u drugi ("direktno" i "inverzno" inienjerstv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00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92482A0-C1AD-4777-B991-E4E306AFE23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KONCEPTUALNO MODELO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400" y="322200"/>
            <a:ext cx="9061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190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va tri pristup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1.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/ntegracija podmode/a;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buClr>
                <a:srgbClr val="cc3300"/>
              </a:buClr>
              <a:buFont typeface="Arial"/>
              <a:buAutoNum type="arabicPeriod" startAt="2"/>
              <a:tabLst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Direktno mode/ovanje na bazi verba/nag opisa sistema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buClr>
                <a:srgbClr val="cc3300"/>
              </a:buClr>
              <a:buFont typeface="Arial"/>
              <a:buAutoNum type="arabicPeriod" startAt="2"/>
              <a:tabLst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Konkretizacija op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tih (generi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č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kih) mode/a, odnosno kori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šć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enje uzora ("paterna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)</a:t>
            </a:r>
            <a:r>
              <a:rPr b="1" i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buClr>
                <a:srgbClr val="cc3300"/>
              </a:buClr>
              <a:buFont typeface="Arial"/>
              <a:buAutoNum type="arabicPeriod" startAt="2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s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koriste za izgradnju Modela objekti veze u konvencionalnim metodama ili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jagrama klasa u objektnim metodama,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a cetvr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4.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orma/izacija re/acija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je specif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n za Relacioni model.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Transformacija jednog modela u drugi predstavlja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bilo "direktan" postupak projektovanj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ili "inverzni" postupak dobijanja nekog specifikacionog iz nekog implementacionog model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07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B6BE5DF-03B0-4946-80F8-594D8B520E44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9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KONCEPTUALNO MODELOVANJE-Integracija podmod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400" y="514440"/>
            <a:ext cx="9061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toda integracije podmodela sastoji se iz sled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h korak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1.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Izgradnja poslovnog modela sistema i specifikacija identifikovanih aplikacija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2.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Izgradnja podmodela podataka za svaku specifikovanu aplikaciju, odnosno primitivni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oslovni proces (funkciju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9200" indent="-457200" algn="just">
              <a:lnSpc>
                <a:spcPct val="100000"/>
              </a:lnSpc>
              <a:tabLst>
                <a:tab algn="l" pos="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3.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Integracija podmodela u jedinstveni model celog siste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vd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mo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pretpostaviti 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e Strukturne sistemske analize kao metode za modelovanje poslovnog sistema i specifikaciju aplikacija.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gledno je da se isti postupak m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 primeniti i na opis sl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jeva kor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nja preko Sistemskog dijagrama sekvenci sa, na primer XML opisom argumenata poruka ili Dijagramom aktivnosti sa strukturom objektnih tokova opisanih preko nekog modela podataka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1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9F52654-60EB-4ED6-865B-1CCE33148CDD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197160" y="2482920"/>
          <a:ext cx="58737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7160" y="2482920"/>
                    <a:ext cx="58737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1400" y="439560"/>
            <a:ext cx="9061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stup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kom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dekompozicije sistema na funkcionalne podsisteme metodom Strukturne sistemske analiz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na prethodnim predavanjima prikazani su primeri, a ovde ćemo na njim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lustrovati postupak izgradnje podmodela podataka i njihove integracije. Za prikaz i ilustraciju ove metode koristice se Model objekti- vez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mada se mogu koristiti drug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modeli podatak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dmodeli podataka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zgraduju za primitiv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unkcije SSA na osnov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trukture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relevantni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okova i skladi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a podat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za posmatranu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unkcij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-17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Dekompozicija sistema i izgradnja podmod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23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9B6DA1E-F3B6-45D0-B163-85777ACED479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16:14:00Z</dcterms:created>
  <dc:creator>Lukic</dc:creator>
  <dc:description/>
  <dc:language>en-US</dc:language>
  <cp:lastModifiedBy>Zoran</cp:lastModifiedBy>
  <dcterms:modified xsi:type="dcterms:W3CDTF">2005-11-13T19:33:19Z</dcterms:modified>
  <cp:revision>330</cp:revision>
  <dc:subject/>
  <dc:title>PowerPoint Presentation</dc:title>
</cp:coreProperties>
</file>