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6938-D5E1-450C-BC73-37DEC4270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9518-FAF2-4690-AB90-76099C5B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1F11-B41B-4E59-8CE7-C074D07BC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C5F1-5633-4B6C-A378-2A477269D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2F54-245D-4388-AB32-A65787B6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8C99-311C-4E48-B145-C32493B3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C73F-2B97-4D0D-AB93-84B8EB76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55B8-0FA6-432A-9C6F-C4FD691A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4C8E-981F-4468-8474-ABB5406D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C674-8D11-4B0C-B274-81CF2228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5F5F-7C63-4150-BD52-10CFB8C0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A627-395F-4037-9BF9-55F5FCF8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3896-76AD-4F98-9B75-E5319AA1C74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C8D2-5214-4F0A-AC66-B680B2333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38600" y="5924520"/>
            <a:ext cx="33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EOGR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11120" y="500040"/>
            <a:ext cx="387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UNIVERZITET U BEOGRA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TEHNIČKI FAKULTET U BO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88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Arial"/>
              </a:rPr>
              <a:t>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81280" y="3222720"/>
            <a:ext cx="378936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 Narrow"/>
              </a:rPr>
              <a:t>d</a:t>
            </a:r>
            <a:r>
              <a:rPr b="1" i="1" lang="sr-Latn-CS" sz="2400" spc="-1" strike="noStrike">
                <a:solidFill>
                  <a:srgbClr val="000099"/>
                </a:solidFill>
                <a:latin typeface="Arial Narrow"/>
              </a:rPr>
              <a:t>r</a:t>
            </a:r>
            <a:r>
              <a:rPr b="1" i="1" lang="sr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000099"/>
                </a:solidFill>
                <a:latin typeface="Arial Narrow"/>
              </a:rPr>
              <a:t>Zoran R</a:t>
            </a:r>
            <a:r>
              <a:rPr b="1" i="1" lang="sr-CS" sz="2400" spc="-1" strike="noStrike">
                <a:solidFill>
                  <a:srgbClr val="000099"/>
                </a:solidFill>
                <a:latin typeface="Arial Narrow"/>
              </a:rPr>
              <a:t>.</a:t>
            </a:r>
            <a:r>
              <a:rPr b="1" i="1" lang="sr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000099"/>
                </a:solidFill>
                <a:latin typeface="Arial Narrow"/>
              </a:rPr>
              <a:t>Anđelkovi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 Narrow"/>
              </a:rPr>
              <a:t>jaz@eunet.y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6258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13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.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1520" y="665316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d</a:t>
            </a:r>
            <a:r>
              <a:rPr b="1" lang="sl-SI" sz="1000" spc="-1" strike="noStrike">
                <a:solidFill>
                  <a:srgbClr val="000066"/>
                </a:solidFill>
                <a:latin typeface="Arial"/>
              </a:rPr>
              <a:t>r Zoran R. Anđelković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4920" y="0"/>
          <a:ext cx="1276200" cy="15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0"/>
                    <a:ext cx="127620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" name=""/>
          <p:cNvGrpSpPr/>
          <p:nvPr/>
        </p:nvGrpSpPr>
        <p:grpSpPr>
          <a:xfrm>
            <a:off x="0" y="6572160"/>
            <a:ext cx="9178920" cy="327240"/>
            <a:chOff x="0" y="6572160"/>
            <a:chExt cx="9178920" cy="327240"/>
          </a:xfrm>
        </p:grpSpPr>
        <p:sp>
          <p:nvSpPr>
            <p:cNvPr id="50" name=""/>
            <p:cNvSpPr/>
            <p:nvPr/>
          </p:nvSpPr>
          <p:spPr>
            <a:xfrm>
              <a:off x="34920" y="665316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9F357C0-161E-4FFA-A32C-DEAAD0CA218A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920" y="665316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3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2" name=""/>
            <p:cNvGraphicFramePr/>
            <p:nvPr/>
          </p:nvGraphicFramePr>
          <p:xfrm>
            <a:off x="0" y="657216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7216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 Narrow"/>
              </a:rPr>
              <a:t>BP –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 Narrow"/>
                <a:ea typeface="Times New Roman"/>
              </a:rPr>
              <a:t>Kako dodati atribute entitetu i dodeliti im ime i domene 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 Narrow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8260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me atributu dodeljujete tako što kliknete na opciju New nakon čega vam se otvara prozor New Attribute (slika9). U Attribute Name upisujete zeljeno ime atributa. U prozorčiću Domain određujete koju vrednost će vaš atribut da ima tj. da li će biti : datetime, numb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string ili blob. Pritisnite OK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vratićete se na predhod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ozor sa rezultatom kao 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(slici 10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itisnite jos jenom O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0" y="1787400"/>
            <a:ext cx="4557600" cy="493416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24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49D94E7-C9D5-4809-B495-8CA73E509222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3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6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 Narrow"/>
              </a:rPr>
              <a:t>BP –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 Narrow"/>
                <a:ea typeface="Times New Roman"/>
              </a:rPr>
              <a:t>Kako dodati atribute entitetu i dodeliti im ime i domene 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 Narrow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82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Pregled atributa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38280" y="757080"/>
            <a:ext cx="8291520" cy="563112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32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377685E-BDA9-45C9-A086-C4A34AA8DA64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3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4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 Narrow"/>
              </a:rPr>
              <a:t>BP –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 Narrow"/>
                <a:ea typeface="Times New Roman"/>
              </a:rPr>
              <a:t>Dodeljivanje ključa atributu?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82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ljuč se dodeljuje jednom atributu koji će biti predstavnik entiteta. Ključ dodeljujete atributu na sledeći način: Kliknite desnim tasterom na vaš entitet. Pojaviće se dodatni meni sa opcijama, odaberite Attribute Editor. U prozoru Attribute odaberite vaš atribut i čekirajte u donjem desnom uglu pociju Primary Key (slika 11). Pritisnite na OK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98680" y="2565360"/>
            <a:ext cx="6237360" cy="423864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40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0714D50-7C93-48E5-9D7E-298DBEC3A876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3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2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 Narrow"/>
              </a:rPr>
              <a:t>BP –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 Narrow"/>
                <a:ea typeface="Times New Roman"/>
              </a:rPr>
              <a:t>Kako prikazati ikonice identiteta atributa i entiteta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826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egde na Erwin-ovoj radnoj površini pritisnućete desni taster miša, pojaviće vam se padajući meni gde ćete odabrati opciju Display Options/Entities. Zatim će se otvoriti još jedan dodatni padajući meni gde ćete čekirati opciju Entity Icon i Primary Key Designator. Reultat će biti kao na (slici 12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270080" y="2260440"/>
            <a:ext cx="6603840" cy="459108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48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402EFCC-CAC4-4D49-8BA3-078DE540C00F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3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0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164120" y="1114560"/>
            <a:ext cx="5005440" cy="54925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 Narrow"/>
              </a:rPr>
              <a:t>BP –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 Narrow"/>
                <a:ea typeface="Times New Roman"/>
              </a:rPr>
              <a:t>Kako povezati entitet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826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ntiteti se povezuju vezama koje su ikonicama predstavljene u ERwin Toolbox-u (slika 3). Ralikujemo tri veze u ERwin Toolbox-u a to su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dentifikujuća veza, veza viš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a više i neidentifikujuć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veza (slika13). Vezivan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jednog entiteta sa drugim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vrši na sledeći nači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liknite na odgovarajuću vez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u ERwin Toolbox-u, vezu 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ojom želite da poveže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vaša dva entiteta. Zatim klik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a entitet koji želite da veže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sa drugim pa onda drug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ntite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56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F954A1C-B3B8-4BBB-B016-34A2C8467C10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3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8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5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 Narrow"/>
              </a:rPr>
              <a:t>BP –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 Narrow"/>
                <a:ea typeface="Times New Roman"/>
              </a:rPr>
              <a:t>Kako imenovati vezu i kako je prikazati na radnoj površini ERwina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826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akon spajanja dva entiteta vezom , potrebno je izvršiti desni klik na vezu. Otvata se pomoćni meni Relationship Editor gde na kartici General u prozorčiću Parent-to-Child imenujete vezu (slika 14). Pritisnite O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01760" y="1784520"/>
            <a:ext cx="5100840" cy="502740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64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161FE9B-3351-43B1-9395-51F97688E8B2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3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6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 Narrow"/>
              </a:rPr>
              <a:t>BP –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 Narrow"/>
                <a:ea typeface="Times New Roman"/>
              </a:rPr>
              <a:t>Kako imenovati vezu i kako je prikazati na radnoj površini ERwina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826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menovanu vezu ćete prikazati na Erwino-voj radnoj površini tako što ćete izvršiti desni klik negde na Erwino-voj radnoj površini i iz ponuđenog dodatnog menija odabrati Display Options/Relationship a potom iz drugog ponuđenog menija čekirati opciju Verb Phrase (slika 1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279440" y="2247840"/>
            <a:ext cx="6583320" cy="4603680"/>
          </a:xfrm>
          <a:prstGeom prst="rect">
            <a:avLst/>
          </a:prstGeom>
          <a:ln w="0">
            <a:noFill/>
          </a:ln>
        </p:spPr>
      </p:pic>
      <p:grpSp>
        <p:nvGrpSpPr>
          <p:cNvPr id="171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72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FB329B3-ED10-4802-9943-62668F5B1DB1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3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4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 Narrow"/>
              </a:rPr>
              <a:t>BP –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 Narrow"/>
                <a:ea typeface="Times New Roman"/>
              </a:rPr>
              <a:t>Kako imenovati vezu i kako je prikazati na radnoj površini ERwina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282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akon toga pojaviće vam se naziv iznad veze (slika 16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97000" y="2371680"/>
            <a:ext cx="8548560" cy="306216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80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4E2F00E-4A96-46A7-AAB9-F5B9C97047C1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3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2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 Narrow"/>
              </a:rPr>
              <a:t>BP –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 Narrow"/>
                <a:ea typeface="Times New Roman"/>
              </a:rPr>
              <a:t>Kratko uputstvo ERWIN-a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872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akon instalacije ERWIN-a na racunar, pratite sledeću putanju kako bi otvorili njegovo okruženje sa svim njegovim alatkamai opcijama kao na (slici 1).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Start/Programs/Logic Works Erwin ERX 3.5/ Logic Works Erwin ERX 3.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96880" y="1757520"/>
            <a:ext cx="6613560" cy="509400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58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7B7FB04-77B2-43D0-B852-F5A286E624C3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3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0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 Narrow"/>
              </a:rPr>
              <a:t>BP –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 Narrow"/>
                <a:ea typeface="Times New Roman"/>
              </a:rPr>
              <a:t>Kratko uputstvo ERWIN-a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82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akon ovog postupka trebalo bi da ste dobili (slika 2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3280" y="719280"/>
            <a:ext cx="8701200" cy="613728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66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2FB3EBE-A5A7-4E08-A6D0-25966832CB15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3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 Narrow"/>
              </a:rPr>
              <a:t>BP –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 Narrow"/>
                <a:ea typeface="Times New Roman"/>
              </a:rPr>
              <a:t>Kratko uputstvo ERWIN-a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82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Ako niste onda vam verovatno fali ERw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Toolbox (slika 3) koji ćete otvoritit ak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oristite sledeću putanju. U meni bar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itisnite Opciju Window zatim čekiraj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pciju ERwin Toolbox.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U samom radnom prozoru Erwin-a bi trebao sada da vam se pojavi ERwin Toolbox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672240" y="282600"/>
            <a:ext cx="2189160" cy="1425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"/>
          <p:cNvGraphicFramePr/>
          <p:nvPr/>
        </p:nvGraphicFramePr>
        <p:xfrm>
          <a:off x="652320" y="2867040"/>
          <a:ext cx="3740400" cy="370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2320" y="2867040"/>
                    <a:ext cx="3740400" cy="37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5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76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6A24745-BE58-49A1-B2AD-69DB96921469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3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8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 Narrow"/>
              </a:rPr>
              <a:t>BP –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 Narrow"/>
                <a:ea typeface="Times New Roman"/>
              </a:rPr>
              <a:t>Kako se dobijaju entiteti?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82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osto, posto sad imate ERwin Toolbox izaberite ikonicu  i kliknite u radni list onoliko puta koliko su vam poterbni entiteti (slika 4)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16040" y="1460520"/>
            <a:ext cx="7710480" cy="535140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84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8DD4DCD-3284-4D32-A584-37DFDBC01B10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3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6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 Narrow"/>
              </a:rPr>
              <a:t>BP –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 Narrow"/>
                <a:ea typeface="Times New Roman"/>
              </a:rPr>
              <a:t>Kako dati ime vašem entitetu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82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liknite desnim tasterom na vaš entitet. Pojaviće se dodatni meni sa opcijama (slika 5), odaberite Entity Edit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77720" y="1150920"/>
            <a:ext cx="8186760" cy="566100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92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41199BF-901A-4F97-A2FA-AE7373779F41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3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4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 Narrow"/>
              </a:rPr>
              <a:t>BP –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 Narrow"/>
                <a:ea typeface="Times New Roman"/>
              </a:rPr>
              <a:t>Kako dati ime vašem entitetu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82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akon toga vam se otvara prozor Entity Editor-a gde u prozorčiću Name upisujete ime vašeg entiteta (slika 6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a kraju pritiskate OK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47880" y="1432080"/>
            <a:ext cx="5405400" cy="531468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00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6FB17F6-7EF8-41C6-AB6B-90A3B52335CC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3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 Narrow"/>
              </a:rPr>
              <a:t>BP –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 Narrow"/>
                <a:ea typeface="Times New Roman"/>
              </a:rPr>
              <a:t>Kako dodati atribute entitetu i dodeliti im ime i domene 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 Narrow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82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liknite desnim tasterom na vaš entitet. Pojaviće se dodatni meni sa opcijama (slika 7), odaberite Attribute Edit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41240" y="1187280"/>
            <a:ext cx="7659720" cy="541980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08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1BECE9E-D308-4D52-90C7-9CB3556EDF8F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3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0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 Narrow"/>
              </a:rPr>
              <a:t>BP –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 Narrow"/>
                <a:ea typeface="Times New Roman"/>
              </a:rPr>
              <a:t>Kako dodati atribute entitetu i dodeliti im ime i domene 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 Narrow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82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akon toga vam se otvara prozor Attribute Editor-a (slika 8).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49200" y="704880"/>
            <a:ext cx="8445600" cy="570852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16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9832D91-1F03-4DB6-9255-0B742A7F32BC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3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8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0T16:14:00Z</dcterms:created>
  <dc:creator>Lukic</dc:creator>
  <dc:description/>
  <dc:language>en-US</dc:language>
  <cp:lastModifiedBy>Zoran</cp:lastModifiedBy>
  <dcterms:modified xsi:type="dcterms:W3CDTF">2005-11-07T13:22:09Z</dcterms:modified>
  <cp:revision>320</cp:revision>
  <dc:subject/>
  <dc:title>PowerPoint Presentation</dc:title>
</cp:coreProperties>
</file>