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FD7-7FE9-4207-9E8B-E93E7F94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EC1-D229-44FE-90E7-A5F2E03B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838-496E-476E-A0CD-BB0BE899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979-3BBB-4219-83E8-3E2EBF21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D57D-5AB5-4908-B6CA-91004F11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B96C-163A-4EF0-9AE4-B7F1CF4C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1864-B6ED-4987-84ED-6A8A1E22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7552-88BB-4E06-ABD3-782DAE66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2A5B-443F-4C23-9583-1384F9F0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7E3C-15BC-4F00-83A0-DAE3F4B9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CBFB-7D12-474C-B9A3-288158EB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AD7-2759-41A7-A301-18FD6695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DF08-816D-454B-AD24-AEA7D237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E01D-A1E3-4B5A-A0D3-66201D76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FBCF-0B96-4EC1-B424-342F775C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7915-3B73-4B05-9B9B-30D59403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E47F-E1F2-4A2B-AF9B-F90D2376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14F-BEA6-480D-9B47-BD5B3D5D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FD4-6731-4CDE-BBAF-BC29BD97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D2E-F065-4132-AA20-5843E45F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9D1-7C16-4A61-8A41-EADDF25D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90C-ED14-45BE-8AB6-24C78086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4C3-9136-4315-888E-8F6A3E10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775-2DEB-4743-9E26-AE2F8F67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EE41-43FD-43C9-BB80-933F58EF371A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EFA6-FC17-4748-92B7-60B8D64DB1D1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1960" y="1679400"/>
            <a:ext cx="6399000" cy="12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Модел података</a:t>
            </a:r>
            <a:br>
              <a:rPr sz="4400"/>
            </a:b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Релациони мод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Правила за бинарне вез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2.1 Везе са кардиналношћу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CS" sz="2000" spc="-1" strike="noStrike">
                <a:solidFill>
                  <a:srgbClr val="a50021"/>
                </a:solidFill>
                <a:latin typeface="Tahoma"/>
              </a:rPr>
              <a:t>(1,1) : (1,1), (0,1) : (1,1), (0,1) : (0,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2.2 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Везе са кардиналношћу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l-SI" sz="2000" spc="-1" strike="noStrike">
                <a:solidFill>
                  <a:srgbClr val="a50021"/>
                </a:solidFill>
                <a:latin typeface="Tahoma"/>
              </a:rPr>
              <a:t>(1,1) : (0,М) и (1,1) : (1,М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2.3 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Везе са кардиналношћу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(0,1) : (0,М) и (0,1) : (1,М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2.4.Везе са кардиналношћу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(0,М) : (0.М), (1,М) : (0,М) и (1,М) : (1,М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2.1 Веза са кардиналношћу 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(1,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06240" y="2295000"/>
            <a:ext cx="6545160" cy="38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2.1.1 Веза са кардиналношћу (1,1) – (1,1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а објекта који у њој учествују преводимо у једну шему релације, чија су обележја сва обележја једног и другог објек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ндидат за кључ у овој шеми релације су идентификатори једног и другог објекта који су у вез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2.1 Веза са кардиналношћу </a:t>
            </a:r>
            <a:r>
              <a:rPr b="1" lang="sr-CS" sz="4400" spc="-1" strike="noStrike">
                <a:solidFill>
                  <a:srgbClr val="a80404"/>
                </a:solidFill>
                <a:latin typeface="Tahoma"/>
              </a:rPr>
              <a:t>(1,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2.1.2 Веза са кардиналношћу (0,1) – (1,1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а објекта у вези преводимо у две шеме релациј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 сваки објекат у вези по једна шема релације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дентификатор објекта који има ДГ 0, убацује се као атрибут друге шеме релациј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за се преставља спољним кључ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4495680"/>
            <a:ext cx="8381520" cy="1981080"/>
            <a:chOff x="457200" y="4495680"/>
            <a:chExt cx="8381520" cy="1981080"/>
          </a:xfrm>
        </p:grpSpPr>
        <p:sp>
          <p:nvSpPr>
            <p:cNvPr id="142" name=""/>
            <p:cNvSpPr/>
            <p:nvPr/>
          </p:nvSpPr>
          <p:spPr>
            <a:xfrm>
              <a:off x="1973160" y="5194800"/>
              <a:ext cx="1839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2240" y="4728600"/>
              <a:ext cx="1723320" cy="466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d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67120" y="4728600"/>
              <a:ext cx="1723320" cy="466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85920" y="6127200"/>
              <a:ext cx="1252800" cy="3495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7320" y="6127200"/>
              <a:ext cx="1253160" cy="3495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Fir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45440" y="6127200"/>
              <a:ext cx="1252800" cy="3495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ePrez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" y="6127200"/>
              <a:ext cx="1253160" cy="3495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Rad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55560" y="6127200"/>
              <a:ext cx="1252800" cy="3495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53560" y="4611600"/>
              <a:ext cx="1248480" cy="69912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kovo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005480" y="5194800"/>
              <a:ext cx="140976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15600" y="5194800"/>
              <a:ext cx="7776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5600" y="5194800"/>
              <a:ext cx="148788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55560" y="4961520"/>
              <a:ext cx="11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27160" y="4961520"/>
              <a:ext cx="9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645600" y="5194800"/>
              <a:ext cx="70488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50840" y="5194800"/>
              <a:ext cx="86148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320" y="44956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5960" y="44956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38520" y="214200"/>
            <a:ext cx="605952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2.1.2 Веза са кардиналношћу (0,1) – (1,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23040" y="3200400"/>
            <a:ext cx="522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Fir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Fir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a, SifraFirm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4690800"/>
            <a:ext cx="8153280" cy="21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Tahoma"/>
              </a:rPr>
              <a:t>Шеме релација под а) узроковале би да свака н-торка за сваког радника који није руководилац има нула – вредност обележја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fraFirme</a:t>
            </a:r>
            <a:r>
              <a:rPr b="0" lang="sl-SI" sz="1700" spc="-1" strike="noStrike">
                <a:solidFill>
                  <a:srgbClr val="000000"/>
                </a:solidFill>
                <a:latin typeface="Tahoma"/>
              </a:rPr>
              <a:t> (тј. спољни кључ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Tahoma"/>
              </a:rPr>
              <a:t>Према шемама релација под б), с обзиром да радна јединица обавезно има руководиоца, представљање везе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ukovodi</a:t>
            </a:r>
            <a:r>
              <a:rPr b="0" lang="sl-SI" sz="1700" spc="-1" strike="noStrike">
                <a:solidFill>
                  <a:srgbClr val="000000"/>
                </a:solidFill>
                <a:latin typeface="Tahoma"/>
              </a:rPr>
              <a:t> спољним кључем у шеми релације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rma</a:t>
            </a:r>
            <a:r>
              <a:rPr b="0" lang="sl-SI" sz="1700" spc="-1" strike="noStrike">
                <a:solidFill>
                  <a:srgbClr val="000000"/>
                </a:solidFill>
                <a:latin typeface="Tahoma"/>
              </a:rPr>
              <a:t> доводи до појаве нула – вредности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700" spc="-1" strike="noStrike">
                <a:solidFill>
                  <a:srgbClr val="a80404"/>
                </a:solidFill>
                <a:latin typeface="Tahoma"/>
              </a:rPr>
              <a:t>Правило за превођење везе са кардиналношћу (0,1) : (1,1) је њено представљање спољним кључем у шеми релације објекта са стране (1,1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45280" y="3809880"/>
            <a:ext cx="41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Fir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Fir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aziv, SifraRadni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2520" y="3124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720" y="38862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73392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a8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365760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a8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1600200"/>
            <a:ext cx="16761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1600200"/>
            <a:ext cx="16761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10280" y="25146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514600"/>
            <a:ext cx="121896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raFir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5146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ePrez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2514600"/>
            <a:ext cx="121896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raRadn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25146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63960" y="1523880"/>
            <a:ext cx="1214640" cy="4572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kovo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09480" y="19051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90512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19051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1752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095520" y="19051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19051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14479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0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040" y="14479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Пример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(0,1) – (1,1)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тпремница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Пријемниц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3080" y="41148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Otprem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jOtp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umOtp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fraDobavljaca, SifraNarudzbeni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rijem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jPr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fraDobavljaca, SifraOtp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5580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286000"/>
            <a:ext cx="167652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prem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2286000"/>
            <a:ext cx="167652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jem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15200" y="32004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umPri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2004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jPrijem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3200400"/>
            <a:ext cx="121896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umO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3200400"/>
            <a:ext cx="121896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jO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8880" y="2209680"/>
            <a:ext cx="1214280" cy="4572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e odno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371600" y="25909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400440" y="2590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2590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1337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0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00600" y="21337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82880" y="214200"/>
            <a:ext cx="605952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2.1 Веза са кардиналношћу 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(1,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67816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2.1.3 Веза са кардиналношћу (0,1) –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Креирају се три шеме релације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По једна за сваки објекат и једна за везу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Обележја у шеми релације која одговарају вези су и идентификатори објеката који су у вези и оба су кандидати за кључ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3581280"/>
            <a:ext cx="7390800" cy="1447560"/>
            <a:chOff x="533520" y="3581280"/>
            <a:chExt cx="7390800" cy="1447560"/>
          </a:xfrm>
        </p:grpSpPr>
        <p:sp>
          <p:nvSpPr>
            <p:cNvPr id="211" name=""/>
            <p:cNvSpPr/>
            <p:nvPr/>
          </p:nvSpPr>
          <p:spPr>
            <a:xfrm>
              <a:off x="1851480" y="4092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69600" y="375120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ndid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21280" y="375120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d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19480" y="477360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is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6920" y="477360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Rad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46080" y="477360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ePrez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520" y="477360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Kandi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89160" y="477360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57560" y="366588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nku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016640" y="4092120"/>
              <a:ext cx="124308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60440" y="4092120"/>
              <a:ext cx="6876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60440" y="4092120"/>
              <a:ext cx="131220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9160" y="392148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92560" y="392148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990400" y="4092120"/>
              <a:ext cx="62136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12120" y="4092120"/>
              <a:ext cx="75960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59000" y="35812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55720" y="35812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6320" y="516240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ndid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Kandi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mePrezim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80404"/>
                </a:solidFill>
                <a:latin typeface="Arial"/>
              </a:rPr>
              <a:t>Konkurs</a:t>
            </a:r>
            <a:r>
              <a:rPr b="0" lang="en-US" sz="1600" spc="-1" strike="noStrike">
                <a:solidFill>
                  <a:srgbClr val="a80404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a80404"/>
                </a:solidFill>
                <a:uFillTx/>
                <a:latin typeface="Arial"/>
              </a:rPr>
              <a:t>SifraKandidata</a:t>
            </a:r>
            <a:r>
              <a:rPr b="0" lang="en-US" sz="1600" spc="-1" strike="noStrike">
                <a:solidFill>
                  <a:srgbClr val="a80404"/>
                </a:solidFill>
                <a:latin typeface="Arial"/>
              </a:rPr>
              <a:t>, SifraRadni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isR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518148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ndid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Kandi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mePrezim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80404"/>
                </a:solidFill>
                <a:latin typeface="Arial"/>
              </a:rPr>
              <a:t>Konkurs</a:t>
            </a:r>
            <a:r>
              <a:rPr b="0" lang="en-US" sz="1600" spc="-1" strike="noStrike">
                <a:solidFill>
                  <a:srgbClr val="a80404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a80404"/>
                </a:solidFill>
                <a:uFillTx/>
                <a:latin typeface="Arial"/>
              </a:rPr>
              <a:t>SifraRadnika</a:t>
            </a:r>
            <a:r>
              <a:rPr b="0" lang="en-US" sz="1600" spc="-1" strike="noStrike">
                <a:solidFill>
                  <a:srgbClr val="a80404"/>
                </a:solidFill>
                <a:latin typeface="Arial"/>
              </a:rPr>
              <a:t>, SifraKandi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isR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4560" y="533520"/>
            <a:ext cx="6859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 Веза са кардиналношћу </a:t>
            </a:r>
            <a:br>
              <a:rPr sz="4000"/>
            </a:b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(1,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1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)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 – (0,M) , 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(1,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1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)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 – (1,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 Веза са кардиналношћу (1,1) – (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е постају посебне шеме релација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Идентификатор објекта са стране за коју је горња граница кардиналитета пресликавања 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GG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= М постаје обележје шеме релације која одговара објекту са стране за коју је 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GG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= 1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505320"/>
            <a:ext cx="7390800" cy="1447200"/>
            <a:chOff x="533520" y="3505320"/>
            <a:chExt cx="7390800" cy="1447200"/>
          </a:xfrm>
        </p:grpSpPr>
        <p:sp>
          <p:nvSpPr>
            <p:cNvPr id="235" name=""/>
            <p:cNvSpPr/>
            <p:nvPr/>
          </p:nvSpPr>
          <p:spPr>
            <a:xfrm>
              <a:off x="1851480" y="4016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6960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Rad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2128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es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194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069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Me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460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ePrez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5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Rad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8916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57560" y="358992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i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016640" y="4016160"/>
              <a:ext cx="124308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60440" y="4016160"/>
              <a:ext cx="687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60440" y="4016160"/>
              <a:ext cx="1312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89160" y="384552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92560" y="38455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990400" y="4016160"/>
              <a:ext cx="6213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12120" y="4016160"/>
              <a:ext cx="7596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9000" y="3505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5572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8580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Mes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a80404"/>
                </a:solidFill>
                <a:latin typeface="Arial"/>
              </a:rPr>
              <a:t>SifraMes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4560" y="533520"/>
            <a:ext cx="6859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 Веза са кардиналношћу </a:t>
            </a:r>
            <a:br>
              <a:rPr sz="4000"/>
            </a:b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(1,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1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)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 – (0,M) , 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(1,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1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)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 – (1,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 Веза са кардиналношћу (1,1) – (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е постају посебне шеме релација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Идентификатор објекта са стране за коју је горња граница кардиналитета пресликавања 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GG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= М постаје обележје шеме релације која одговара објекту са стране за коју је 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GG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= 1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851120" y="401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69960" y="3675240"/>
            <a:ext cx="1519200" cy="34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d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21280" y="3675240"/>
            <a:ext cx="1519200" cy="34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nj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19840" y="469728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6920" y="469728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ra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Knji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469728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ra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zd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89160" y="469728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GodinaIzd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57560" y="3591000"/>
            <a:ext cx="1101960" cy="5112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017720" y="4016520"/>
            <a:ext cx="1242720" cy="68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60440" y="4016520"/>
            <a:ext cx="1312920" cy="68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89160" y="3846600"/>
            <a:ext cx="10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92560" y="384660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991120" y="4016520"/>
            <a:ext cx="620640" cy="68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11760" y="4016520"/>
            <a:ext cx="760680" cy="68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59000" y="35053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56080" y="35053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53341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nji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Knji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zd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zdan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dinaIzdan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SifraKnji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0" y="5335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 Веза са кардиналношћу </a:t>
            </a:r>
            <a:br>
              <a:rPr sz="4000"/>
            </a:b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(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0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,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1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)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 – (0,M) , 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(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0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,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1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)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 – (1,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 Веза са кардиналношћу (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,1) – (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Постају</a:t>
            </a:r>
            <a:r>
              <a:rPr b="0" lang="sr-Latn-C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посебне шеме релациј</a:t>
            </a:r>
            <a:r>
              <a:rPr b="0" lang="sr-Latn-CS" sz="17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Обележја ове шеме релације су идентификатори објеката који су у вези, а кључ шеме релације је идентификатор објекта за који је </a:t>
            </a:r>
            <a:r>
              <a:rPr b="0" lang="sr-Latn-CS" sz="1700" spc="-1" strike="noStrike">
                <a:solidFill>
                  <a:srgbClr val="000000"/>
                </a:solidFill>
                <a:latin typeface="Tahoma"/>
              </a:rPr>
              <a:t>GG</a:t>
            </a: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 = 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33520" y="3505320"/>
            <a:ext cx="7390800" cy="1447200"/>
            <a:chOff x="533520" y="3505320"/>
            <a:chExt cx="7390800" cy="1447200"/>
          </a:xfrm>
        </p:grpSpPr>
        <p:sp>
          <p:nvSpPr>
            <p:cNvPr id="278" name=""/>
            <p:cNvSpPr/>
            <p:nvPr/>
          </p:nvSpPr>
          <p:spPr>
            <a:xfrm>
              <a:off x="1851480" y="4016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960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red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2128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dzbe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94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069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Udzbe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460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5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Predm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8916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Op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57560" y="358992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Kori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016640" y="4016160"/>
              <a:ext cx="124308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60440" y="4016160"/>
              <a:ext cx="687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60440" y="4016160"/>
              <a:ext cx="1312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89160" y="384552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92560" y="38455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990400" y="4016160"/>
              <a:ext cx="6213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12120" y="4016160"/>
              <a:ext cx="7596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5900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5720" y="3505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914400" y="5334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edm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dm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p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rist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Udzbenik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SifraPredmet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dzbe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Udzbenik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z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4560" y="533520"/>
            <a:ext cx="6859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 Веза са кардиналношћу </a:t>
            </a:r>
            <a:br>
              <a:rPr sz="4000"/>
            </a:b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(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0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,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1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)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 – (0,M) , 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(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0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,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1</a:t>
            </a:r>
            <a:r>
              <a:rPr b="1" lang="sr-CS" sz="4000" spc="-1" strike="noStrike">
                <a:solidFill>
                  <a:srgbClr val="a80404"/>
                </a:solidFill>
                <a:latin typeface="Tahoma"/>
              </a:rPr>
              <a:t>)</a:t>
            </a:r>
            <a:r>
              <a:rPr b="1" lang="sr-Latn-CS" sz="4000" spc="-1" strike="noStrike">
                <a:solidFill>
                  <a:srgbClr val="a80404"/>
                </a:solidFill>
                <a:latin typeface="Tahoma"/>
              </a:rPr>
              <a:t> – (1,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 Веза са кардиналношћу (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,1) – (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Постају</a:t>
            </a:r>
            <a:r>
              <a:rPr b="0" lang="sr-Latn-C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посебне шеме релациј</a:t>
            </a:r>
            <a:r>
              <a:rPr b="0" lang="sr-Latn-CS" sz="17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Обележја ове шеме релације су идентификатори објеката који су у вези, а кључ шеме релације је идентификатор објекта за који је </a:t>
            </a:r>
            <a:r>
              <a:rPr b="0" lang="sr-Latn-CS" sz="1700" spc="-1" strike="noStrike">
                <a:solidFill>
                  <a:srgbClr val="000000"/>
                </a:solidFill>
                <a:latin typeface="Tahoma"/>
              </a:rPr>
              <a:t>GG</a:t>
            </a: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 = 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3505320"/>
            <a:ext cx="7390800" cy="1447200"/>
            <a:chOff x="533520" y="3505320"/>
            <a:chExt cx="7390800" cy="1447200"/>
          </a:xfrm>
        </p:grpSpPr>
        <p:sp>
          <p:nvSpPr>
            <p:cNvPr id="301" name=""/>
            <p:cNvSpPr/>
            <p:nvPr/>
          </p:nvSpPr>
          <p:spPr>
            <a:xfrm>
              <a:off x="1851480" y="4016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6960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red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2128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Nastav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194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ImePrez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069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stav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460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35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Predm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8916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Op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57560" y="358992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Pred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016640" y="4016160"/>
              <a:ext cx="124308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60440" y="4016160"/>
              <a:ext cx="687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60440" y="4016160"/>
              <a:ext cx="1312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89160" y="384552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92560" y="38455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990400" y="4016160"/>
              <a:ext cx="6213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12120" y="4016160"/>
              <a:ext cx="7596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59000" y="3505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5572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914400" y="5334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edm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dm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p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rist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Predmet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SifraNastavnik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stav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stavnik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сновни концепти релационог моде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елација преставља скуп енторки (скуп објеката неког тип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елација се може представити као </a:t>
            </a:r>
            <a:r>
              <a:rPr b="1" lang="sr-CS" sz="2400" spc="-1" strike="noStrike">
                <a:solidFill>
                  <a:srgbClr val="a50021"/>
                </a:solidFill>
                <a:latin typeface="Tahoma"/>
              </a:rPr>
              <a:t>табела</a:t>
            </a: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где су </a:t>
            </a:r>
            <a:r>
              <a:rPr b="1" lang="sr-CS" sz="2400" spc="-1" strike="noStrike">
                <a:solidFill>
                  <a:srgbClr val="a50021"/>
                </a:solidFill>
                <a:latin typeface="Tahoma"/>
              </a:rPr>
              <a:t>колоне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атрибути релације, а </a:t>
            </a:r>
            <a:r>
              <a:rPr b="1" lang="sr-CS" sz="2400" spc="-1" strike="noStrike">
                <a:solidFill>
                  <a:srgbClr val="a50021"/>
                </a:solidFill>
                <a:latin typeface="Tahoma"/>
              </a:rPr>
              <a:t>врсте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су енторке релац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4699080"/>
          <a:ext cx="2362320" cy="1035000"/>
        </p:xfrm>
        <a:graphic>
          <a:graphicData uri="http://schemas.openxmlformats.org/drawingml/2006/table">
            <a:tbl>
              <a:tblPr/>
              <a:tblGrid>
                <a:gridCol w="789120"/>
                <a:gridCol w="784080"/>
                <a:gridCol w="789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066680" y="42670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941720"/>
            <a:ext cx="388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ема рел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tudent(BrInd, Ime, Semest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 Веза са кардиналношћу </a:t>
            </a:r>
            <a:br>
              <a:rPr sz="4000"/>
            </a:br>
            <a:r>
              <a:rPr b="0" lang="sr-CS" sz="3500" spc="-1" strike="noStrike">
                <a:solidFill>
                  <a:srgbClr val="a80404"/>
                </a:solidFill>
                <a:latin typeface="Tahoma"/>
              </a:rPr>
              <a:t>(</a:t>
            </a:r>
            <a:r>
              <a:rPr b="0" lang="sr-Latn-CS" sz="3500" spc="-1" strike="noStrike">
                <a:solidFill>
                  <a:srgbClr val="a80404"/>
                </a:solidFill>
                <a:latin typeface="Tahoma"/>
              </a:rPr>
              <a:t>0</a:t>
            </a:r>
            <a:r>
              <a:rPr b="0" lang="sr-CS" sz="3500" spc="-1" strike="noStrike">
                <a:solidFill>
                  <a:srgbClr val="a80404"/>
                </a:solidFill>
                <a:latin typeface="Tahoma"/>
              </a:rPr>
              <a:t>,</a:t>
            </a:r>
            <a:r>
              <a:rPr b="0" lang="sr-Latn-CS" sz="3500" spc="-1" strike="noStrike">
                <a:solidFill>
                  <a:srgbClr val="a80404"/>
                </a:solidFill>
                <a:latin typeface="Tahoma"/>
              </a:rPr>
              <a:t>M</a:t>
            </a:r>
            <a:r>
              <a:rPr b="0" lang="sr-CS" sz="3500" spc="-1" strike="noStrike">
                <a:solidFill>
                  <a:srgbClr val="a80404"/>
                </a:solidFill>
                <a:latin typeface="Tahoma"/>
              </a:rPr>
              <a:t>)</a:t>
            </a:r>
            <a:r>
              <a:rPr b="0" lang="sr-Latn-CS" sz="3500" spc="-1" strike="noStrike">
                <a:solidFill>
                  <a:srgbClr val="a80404"/>
                </a:solidFill>
                <a:latin typeface="Tahoma"/>
              </a:rPr>
              <a:t> – (0,M) , </a:t>
            </a:r>
            <a:r>
              <a:rPr b="0" lang="sr-CS" sz="3500" spc="-1" strike="noStrike">
                <a:solidFill>
                  <a:srgbClr val="a80404"/>
                </a:solidFill>
                <a:latin typeface="Tahoma"/>
              </a:rPr>
              <a:t>(</a:t>
            </a:r>
            <a:r>
              <a:rPr b="0" lang="sr-Latn-CS" sz="3500" spc="-1" strike="noStrike">
                <a:solidFill>
                  <a:srgbClr val="a80404"/>
                </a:solidFill>
                <a:latin typeface="Tahoma"/>
              </a:rPr>
              <a:t>0</a:t>
            </a:r>
            <a:r>
              <a:rPr b="0" lang="sr-CS" sz="3500" spc="-1" strike="noStrike">
                <a:solidFill>
                  <a:srgbClr val="a80404"/>
                </a:solidFill>
                <a:latin typeface="Tahoma"/>
              </a:rPr>
              <a:t>,</a:t>
            </a:r>
            <a:r>
              <a:rPr b="0" lang="sr-Latn-CS" sz="3500" spc="-1" strike="noStrike">
                <a:solidFill>
                  <a:srgbClr val="a80404"/>
                </a:solidFill>
                <a:latin typeface="Tahoma"/>
              </a:rPr>
              <a:t>M</a:t>
            </a:r>
            <a:r>
              <a:rPr b="0" lang="sr-CS" sz="3500" spc="-1" strike="noStrike">
                <a:solidFill>
                  <a:srgbClr val="a80404"/>
                </a:solidFill>
                <a:latin typeface="Tahoma"/>
              </a:rPr>
              <a:t>)</a:t>
            </a:r>
            <a:r>
              <a:rPr b="0" lang="sr-Latn-CS" sz="3500" spc="-1" strike="noStrike">
                <a:solidFill>
                  <a:srgbClr val="a80404"/>
                </a:solidFill>
                <a:latin typeface="Tahoma"/>
              </a:rPr>
              <a:t> – (1,M) , (1,M) – (1,M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 Веза са кардиналношћу (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) – (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Постају</a:t>
            </a:r>
            <a:r>
              <a:rPr b="0" lang="sr-Latn-C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посебне шеме релација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ahoma"/>
              </a:rPr>
              <a:t>Обележја ове шеме релације су идентификатори објеката који су у вези, а кључ шеме релације је сложени кључ који се састоји од идентификатора објеката који су у вези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3520" y="3505320"/>
            <a:ext cx="7390800" cy="1447200"/>
            <a:chOff x="533520" y="3505320"/>
            <a:chExt cx="7390800" cy="1447200"/>
          </a:xfrm>
        </p:grpSpPr>
        <p:sp>
          <p:nvSpPr>
            <p:cNvPr id="324" name=""/>
            <p:cNvSpPr/>
            <p:nvPr/>
          </p:nvSpPr>
          <p:spPr>
            <a:xfrm>
              <a:off x="1851480" y="4016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6960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Rad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2128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rgan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194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069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460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ImePrez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35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Rad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8916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Stru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57560" y="358992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Rad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Istor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016640" y="4016160"/>
              <a:ext cx="124308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60440" y="4016160"/>
              <a:ext cx="687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60440" y="4016160"/>
              <a:ext cx="1312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9160" y="384552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92560" y="38455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990400" y="4016160"/>
              <a:ext cx="6213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12120" y="4016160"/>
              <a:ext cx="7596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5900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5572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914400" y="5334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Radni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Prezime, Struk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adnaIstori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Radnika, SifraOR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z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2.5 Агрегирани објект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Аргегирани објекат (мешовити тип објекат-веза, герунд) се посматра на исти начин као и одговарајућа веза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Уколико веза поседује обележје иста постају обележја шеме релације везе када се веза преводи у посебну шему релације или се укључују у ону шему релације у коју се уписује спољни кључ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33520" y="3505320"/>
            <a:ext cx="7390800" cy="1447200"/>
            <a:chOff x="533520" y="3505320"/>
            <a:chExt cx="7390800" cy="1447200"/>
          </a:xfrm>
        </p:grpSpPr>
        <p:sp>
          <p:nvSpPr>
            <p:cNvPr id="347" name=""/>
            <p:cNvSpPr/>
            <p:nvPr/>
          </p:nvSpPr>
          <p:spPr>
            <a:xfrm>
              <a:off x="1851480" y="4016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6960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rgan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128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g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194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Dat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069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Ugov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460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5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8916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Op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57560" y="358992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Sklopi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016640" y="4016160"/>
              <a:ext cx="124308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60440" y="4016160"/>
              <a:ext cx="687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60440" y="4016160"/>
              <a:ext cx="1312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89160" y="384552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92560" y="38455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990400" y="4016160"/>
              <a:ext cx="6213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12120" y="4016160"/>
              <a:ext cx="7596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5900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5572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3399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914400" y="5334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ziv, Op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rgUgovo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Org, SifraUgovo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gov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Ugovor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46720" y="32767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3581280"/>
            <a:ext cx="10670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37040" y="32767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3. Унарне вез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Превођење унарних веза (</a:t>
            </a:r>
            <a:r>
              <a:rPr b="1" i="1" lang="sl-SI" sz="2600" spc="-1" strike="noStrike">
                <a:solidFill>
                  <a:srgbClr val="000000"/>
                </a:solidFill>
                <a:latin typeface="Tahoma"/>
              </a:rPr>
              <a:t>унарном</a:t>
            </a:r>
            <a:r>
              <a:rPr b="0" i="1" lang="sl-SI" sz="2600" spc="-1" strike="noStrike">
                <a:solidFill>
                  <a:srgbClr val="000000"/>
                </a:solidFill>
                <a:latin typeface="Tahoma"/>
              </a:rPr>
              <a:t> називамо везу између два објекта истог типа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) у релациони модел података зависи од кардиналности типа везе и изводи се као и за друге типове раније описаних бинарних веза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Напоменимо да код унарне везе типа (1:1) парцијалност само на једној страни везе, односно тоталност само на једној страни везе, не би имало смисла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Наиме, тиме би се истом типу објекта истовремено допуштало и порицало опц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оно учествовање у вез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3. Унарне везе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 (0,1) – (0,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639936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ahoma"/>
              </a:rPr>
              <a:t>При превођењу унарних веза с обзиром да би спољни кључ у шеми релације имао исто име као и примарни кључ, вршимо његовог преименовање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091040" y="432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9880" y="3733920"/>
            <a:ext cx="1519200" cy="58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86360" y="500220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73440" y="500220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JM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29080" y="5002200"/>
            <a:ext cx="110520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Prez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3320" y="3733920"/>
            <a:ext cx="1617840" cy="6094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r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257280" y="4321080"/>
            <a:ext cx="124308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00720" y="4321080"/>
            <a:ext cx="6804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00720" y="4321080"/>
            <a:ext cx="131256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29080" y="4267080"/>
            <a:ext cx="178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02440" y="39625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29080" y="3809880"/>
            <a:ext cx="178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37240" y="35053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40320" y="351648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r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40320" y="396252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54100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so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JMB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, Prezi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ra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JMBG</a:t>
            </a: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, JMBGBracniDru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3. Унарне везе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 (0,1) – (0,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Tahoma"/>
              </a:rPr>
              <a:t>Један радник може да руководи са више радника и може имати једног надређеног руководиоца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Tahoma"/>
              </a:rPr>
              <a:t>Сваки радник не мора имати надређеног руководиоца и сваки радник не мора бити руководилац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1851120" y="439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69960" y="3809880"/>
            <a:ext cx="1519200" cy="587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4644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ifraRadn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8916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Prez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52880" y="3809880"/>
            <a:ext cx="1617840" cy="6098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ukovo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017720" y="4397400"/>
            <a:ext cx="124272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60440" y="4397400"/>
            <a:ext cx="6840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60440" y="4397400"/>
            <a:ext cx="131292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89160" y="4343400"/>
            <a:ext cx="239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4038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48120" y="3886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35812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5240" y="35812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ukovodjen 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8120" y="40384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ukovodi 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5638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ifraRadni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, Prezi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ukovod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Radnika </a:t>
            </a: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, SifraRadnikaRukovod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3. Унарне везе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 (0,M) – (0,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Tahoma"/>
              </a:rPr>
              <a:t>Један </a:t>
            </a:r>
            <a:r>
              <a:rPr b="0" lang="sr-CS" sz="2100" spc="-1" strike="noStrike">
                <a:solidFill>
                  <a:srgbClr val="000000"/>
                </a:solidFill>
                <a:latin typeface="Tahoma"/>
              </a:rPr>
              <a:t>артикал </a:t>
            </a:r>
            <a:r>
              <a:rPr b="0" lang="sl-SI" sz="2100" spc="-1" strike="noStrike">
                <a:solidFill>
                  <a:srgbClr val="000000"/>
                </a:solidFill>
                <a:latin typeface="Tahoma"/>
              </a:rPr>
              <a:t>може да </a:t>
            </a:r>
            <a:r>
              <a:rPr b="0" lang="sr-CS" sz="2100" spc="-1" strike="noStrike">
                <a:solidFill>
                  <a:srgbClr val="000000"/>
                </a:solidFill>
                <a:latin typeface="Tahoma"/>
              </a:rPr>
              <a:t>се састоји из више саставних делова</a:t>
            </a:r>
            <a:r>
              <a:rPr b="0" lang="sl-SI" sz="21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Tahoma"/>
              </a:rPr>
              <a:t>Сваки </a:t>
            </a:r>
            <a:r>
              <a:rPr b="0" lang="sr-CS" sz="2100" spc="-1" strike="noStrike">
                <a:solidFill>
                  <a:srgbClr val="000000"/>
                </a:solidFill>
                <a:latin typeface="Tahoma"/>
              </a:rPr>
              <a:t>артикал</a:t>
            </a:r>
            <a:r>
              <a:rPr b="0" lang="sl-SI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Tahoma"/>
              </a:rPr>
              <a:t>не мора имати саставни део</a:t>
            </a:r>
            <a:r>
              <a:rPr b="0" lang="sl-SI" sz="2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1851120" y="439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69960" y="3809880"/>
            <a:ext cx="1519200" cy="587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rti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84644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y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ifraArtik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8916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3809880"/>
            <a:ext cx="1617840" cy="6098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asta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017720" y="4397400"/>
            <a:ext cx="124272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60440" y="4397400"/>
            <a:ext cx="6840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60440" y="4397400"/>
            <a:ext cx="131292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89160" y="4343400"/>
            <a:ext cx="239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343400" y="4038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8120" y="3886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76920" y="35812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69800" y="3581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u sastav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24080" y="40384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astoji 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5638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rtik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ifraArtik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ziv, Op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asta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Artikla , SifraArtiklaUSastavu</a:t>
            </a: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82880" y="295200"/>
            <a:ext cx="605952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Основни концепти релационог модел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17880" y="2017800"/>
            <a:ext cx="68371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a80404"/>
                </a:solidFill>
                <a:latin typeface="Tahoma"/>
              </a:rPr>
              <a:t>Примарни кључ</a:t>
            </a:r>
            <a:r>
              <a:rPr b="1" lang="sr-C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релације је атрибут (прост кључ)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или скуп атрибута релације (сложени кључ)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који јединствено идентификује 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торку у релацији (једну врсту у табели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Примарни кључ у приказу релације се подвлачи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a80404"/>
                </a:solidFill>
                <a:latin typeface="Tahoma"/>
              </a:rPr>
              <a:t>Спољни кључ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је атирбут (или скуп атрибута) у релацији Р1 који у њој није примарни кључ, већ је примарни кључ релације Р2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Преко спољних кључева се успоставља веза између релација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33412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rIn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Ime,Semest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stavnik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fraNast,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me, Titula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java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rInd, SifraPre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Ocena, SifraN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рансформација МОВ у Релациони мод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Сваки ентитет из МОВ-а постаје релација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Атрибути ентитета постају атрибути релације.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Примарни кључ добијене релације је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Tahoma"/>
              </a:rPr>
              <a:t>За јаке ентитете, атрибут идентификатор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Tahoma"/>
              </a:rPr>
              <a:t>За слабе ентитете, атрибут идентификатор надређеног ентитета и атрибут или скуп атрибута који јединствено одређује слаб ентитет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Tahoma"/>
              </a:rPr>
              <a:t>За подтип, идентификатор надтипа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Tahoma"/>
              </a:rPr>
              <a:t>За агрегацију, скуп идентификатора које према агрегацији имају пресликавање са горњом границом кардиналности </a:t>
            </a:r>
            <a:r>
              <a:rPr b="1" lang="sr-Latn-CS" sz="1700" spc="-1" strike="noStrike">
                <a:solidFill>
                  <a:srgbClr val="000000"/>
                </a:solidFill>
                <a:latin typeface="Tahoma"/>
              </a:rPr>
              <a:t>M, </a:t>
            </a:r>
            <a:r>
              <a:rPr b="1" lang="sr-CS" sz="1700" spc="-1" strike="noStrike">
                <a:solidFill>
                  <a:srgbClr val="000000"/>
                </a:solidFill>
                <a:latin typeface="Tahoma"/>
              </a:rPr>
              <a:t>или идентификатор једне од компоненти које према агрегацији има пресликавање са горњом границом </a:t>
            </a:r>
            <a:r>
              <a:rPr b="1" lang="sr-Latn-CS" sz="17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Спољни кључ добијене релације је атрибут који представља идентификатор енитета према коме дати ентитет има пресликавање са кардиналношћу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 (1,1)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762120"/>
            <a:ext cx="6399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Правила за превођење МОВ у релациони моде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33360" y="23619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Правила за објекте (ентитет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Правила за бинарне вез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авила за унарне ве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1. Правила за објекте (ентитете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a80404"/>
                </a:solidFill>
                <a:latin typeface="Tahoma"/>
              </a:rPr>
              <a:t>Правило 1</a:t>
            </a:r>
            <a:r>
              <a:rPr b="1" lang="sr-Latn-CS" sz="2600" spc="-1" strike="noStrike">
                <a:solidFill>
                  <a:srgbClr val="a80404"/>
                </a:solidFill>
                <a:latin typeface="Tahoma"/>
              </a:rPr>
              <a:t>.1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ваки објекат из МОВ постаје ентитет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ме типа ентитета постаје име шеме релације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Атрибути објекта су атрибути ентите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a80404"/>
                </a:solidFill>
                <a:latin typeface="Tahoma"/>
              </a:rPr>
              <a:t>Правило </a:t>
            </a:r>
            <a:r>
              <a:rPr b="1" lang="sr-Latn-CS" sz="2600" spc="-1" strike="noStrike">
                <a:solidFill>
                  <a:srgbClr val="a80404"/>
                </a:solidFill>
                <a:latin typeface="Tahoma"/>
              </a:rPr>
              <a:t>1.</a:t>
            </a:r>
            <a:r>
              <a:rPr b="1" lang="sr-CS" sz="2600" spc="-1" strike="noStrike">
                <a:solidFill>
                  <a:srgbClr val="a80404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ваки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лаб објекат</a:t>
            </a:r>
            <a:r>
              <a:rPr b="0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такође постаје шема релације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ме типа објекта постаје име шеме релациј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дентификатор надређеног објекта постаје једно од обележја шеме релације која одговара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лабом</a:t>
            </a:r>
            <a:r>
              <a:rPr b="0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објекту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дентификаторслабог објекта чини идентификатор надређеног објекта и обележја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лабог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објекта која јединствено идентификује појављивање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лабог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објекта у оквиру појављивања њему надређеног објекта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399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Правило 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2 - Пример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057400" y="1371600"/>
          <a:ext cx="52578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52578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4000320"/>
            <a:ext cx="85345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Tahoma"/>
              </a:rPr>
              <a:t>PoslovniPartner</a:t>
            </a:r>
            <a:r>
              <a:rPr b="0" lang="sr-C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Tahoma"/>
              </a:rPr>
              <a:t>SifraPoslP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, NazivPoslP, AdresaPoslP, Delatnost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a80404"/>
                </a:solidFill>
                <a:latin typeface="Tahoma"/>
              </a:rPr>
              <a:t>Narudzbenica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ahoma"/>
              </a:rPr>
              <a:t>BrojNar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, DatumNar, SifraPoslP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a80404"/>
                </a:solidFill>
                <a:latin typeface="Tahoma"/>
              </a:rPr>
              <a:t>StavkaNarudzbenice 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ahoma"/>
              </a:rPr>
              <a:t>BrojNar, Rbr</a:t>
            </a:r>
            <a:r>
              <a:rPr b="0" lang="sr-Latn-CS" sz="2600" spc="-1" strike="noStrike">
                <a:solidFill>
                  <a:srgbClr val="000000"/>
                </a:solidFill>
                <a:latin typeface="Tahoma"/>
              </a:rPr>
              <a:t>, Kolicina, SifraArtikla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Tahoma"/>
              </a:rPr>
              <a:t>Artikal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Tahoma"/>
              </a:rPr>
              <a:t>SifraArtikla</a:t>
            </a:r>
            <a:r>
              <a:rPr b="0" lang="sr-Latn-CS" sz="1900" spc="-1" strike="noStrike">
                <a:solidFill>
                  <a:srgbClr val="000000"/>
                </a:solidFill>
                <a:latin typeface="Tahoma"/>
              </a:rPr>
              <a:t>, VrstaArtikla, NazivArtikla, OpisArtikla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Правила за објекте (ентитете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a80404"/>
                </a:solidFill>
                <a:latin typeface="Tahoma"/>
              </a:rPr>
              <a:t>Правило </a:t>
            </a:r>
            <a:r>
              <a:rPr b="1" lang="sr-Latn-CS" sz="2600" spc="-1" strike="noStrike">
                <a:solidFill>
                  <a:srgbClr val="a80404"/>
                </a:solidFill>
                <a:latin typeface="Tahoma"/>
              </a:rPr>
              <a:t>1.3</a:t>
            </a:r>
            <a:r>
              <a:rPr b="1" lang="sr-CS" sz="2600" spc="-1" strike="noStrike">
                <a:solidFill>
                  <a:srgbClr val="a80404"/>
                </a:solidFill>
                <a:latin typeface="Tahoma"/>
              </a:rPr>
              <a:t> (Надтип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306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јекат надтип (генерализовани тип објекта) постаје шема релациј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306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ме надтипа постаје име шеме релациј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306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ележја надтипа су обележја шеме релациј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306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дентификатор надтипа постаје кључ шеме релациј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a80404"/>
                </a:solidFill>
                <a:latin typeface="Tahoma"/>
              </a:rPr>
              <a:t>Правило </a:t>
            </a:r>
            <a:r>
              <a:rPr b="1" lang="sr-Latn-CS" sz="2600" spc="-1" strike="noStrike">
                <a:solidFill>
                  <a:srgbClr val="a80404"/>
                </a:solidFill>
                <a:latin typeface="Tahoma"/>
              </a:rPr>
              <a:t>1.4</a:t>
            </a:r>
            <a:r>
              <a:rPr b="1" lang="sr-CS" sz="2600" spc="-1" strike="noStrike">
                <a:solidFill>
                  <a:srgbClr val="a80404"/>
                </a:solidFill>
                <a:latin typeface="Tahoma"/>
              </a:rPr>
              <a:t> (Подтип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306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јекат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тип постаје шема релациј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306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ме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о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ипа постаје име шеме релациј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3560" indent="-306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дентификатор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надтип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стаје кључ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(идентификатора) подтип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Правило 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3,</a:t>
            </a: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 1.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4 - Пример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4152960"/>
            <a:ext cx="883908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Tahoma"/>
              </a:rPr>
              <a:t>PoslovniPartner</a:t>
            </a:r>
            <a:r>
              <a:rPr b="0" lang="sr-CS" sz="2000" spc="-1" strike="noStrike">
                <a:solidFill>
                  <a:srgbClr val="a80404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ahoma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 NazivPoslP, AdresaPoslP, Delatno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Tahoma"/>
              </a:rPr>
              <a:t>Kupac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ahoma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 Pol)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a80404"/>
                </a:solidFill>
                <a:latin typeface="Tahoma"/>
              </a:rPr>
              <a:t>Dobavljac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ahoma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 KontaktOsoba, T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33720" y="1447920"/>
            <a:ext cx="4952520" cy="2514600"/>
            <a:chOff x="2133720" y="1447920"/>
            <a:chExt cx="4952520" cy="2514600"/>
          </a:xfrm>
        </p:grpSpPr>
        <p:graphicFrame>
          <p:nvGraphicFramePr>
            <p:cNvPr id="125" name=""/>
            <p:cNvGraphicFramePr/>
            <p:nvPr/>
          </p:nvGraphicFramePr>
          <p:xfrm>
            <a:off x="2133720" y="1447920"/>
            <a:ext cx="4952520" cy="251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1447920"/>
                      <a:ext cx="49525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4661280" y="2270160"/>
            <a:ext cx="2367000" cy="1633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61280" y="2270160"/>
                      <a:ext cx="2367000" cy="163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" name=""/>
          <p:cNvSpPr/>
          <p:nvPr/>
        </p:nvSpPr>
        <p:spPr>
          <a:xfrm flipH="1">
            <a:off x="2057400" y="44956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495680"/>
            <a:ext cx="2971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gistered User</cp:lastModifiedBy>
  <dcterms:modified xsi:type="dcterms:W3CDTF">2008-11-24T11:23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