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7.png" ContentType="image/png"/>
  <Override PartName="/ppt/media/image12.png" ContentType="image/png"/>
  <Override PartName="/ppt/media/image11.png" ContentType="image/png"/>
  <Override PartName="/ppt/media/image6.wmf" ContentType="image/x-wmf"/>
  <Override PartName="/ppt/media/image8.png" ContentType="image/png"/>
  <Override PartName="/ppt/media/image13.png" ContentType="image/png"/>
  <Override PartName="/ppt/media/image14.png" ContentType="image/png"/>
  <Override PartName="/ppt/media/image9.wmf" ContentType="image/x-wmf"/>
  <Override PartName="/ppt/media/image2.png" ContentType="image/png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5DC3-BC54-40F4-A729-A745A7B85BFB}" type="slidenum">
              <a:rPr b="0" lang="sr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4002-ED4F-4799-AB23-6E7D2D9EBA6E}" type="slidenum">
              <a:rPr b="0" lang="sr-C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289B-93A0-45BF-A329-CF81282B38C6}" type="slidenum">
              <a:rPr b="0" lang="sr-C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AE5D-5A91-4A76-96C2-9B34A458ED17}" type="slidenum">
              <a:rPr b="0" lang="sr-C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CDC5-94A6-45A1-A11E-2C87CE635944}" type="slidenum">
              <a:rPr b="0" lang="sr-C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33A9-BD45-4EFB-A064-A4EDD4C58C28}" type="slidenum">
              <a:rPr b="0" lang="sr-C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1CDA-9D0A-437C-B510-72365EEAA9A6}" type="slidenum">
              <a:rPr b="0" lang="sr-C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EA76-538B-4956-8E49-88CE841E9225}" type="slidenum">
              <a:rPr b="0" lang="sr-C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1557-F64D-436F-8B45-5E434B4826FA}" type="slidenum">
              <a:rPr b="0" lang="sr-C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2727-E72F-4CD9-B5E1-AD1656F1D255}" type="slidenum">
              <a:rPr b="0" lang="sr-C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5078-E033-4562-BB01-E7E6A54A243A}" type="slidenum">
              <a:rPr b="0" lang="sr-C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541C-D4FC-47FD-814D-F58D594D7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FF21-862E-4B44-AD67-713D07E1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E64A-2838-45AE-9B0F-96AC8947A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C62E-435E-45B0-AE40-6EC0F4850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64E1-5026-4398-BA42-BF7FC4D9A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34E3-5C3A-4D59-9E35-A75EAA3B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3388-EB3C-47FC-8CEC-FD93DBBD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84A7D-C311-413B-AB57-F4A7ED8E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1E58-BBB8-4A75-A918-143522A9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23186-D36F-462E-8AA3-FD4AE043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4810-746A-4C5D-85CB-9D62056A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D626-1B91-4180-ADE4-C2A22391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C139-D19C-4355-9B6E-F68673D9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3A0A-2760-4259-B840-C0D36114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68B0-C493-4C12-9763-862CA2CA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A86B-4F7A-4AEF-B338-CCFA7F77C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9339C-14FB-4DAC-A488-4BE068A77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C6BE6-56FE-478C-AC0D-BC94BE652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AD157-3F9B-4E45-AE95-75E3E6AD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AD04B-08EE-49A2-82BD-534CEE1D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34880-8851-483F-BB5A-283CF0F8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0B594-0A40-48F5-91DB-684C129F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02C4-D71D-4C14-87E9-16CC00BB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A83CD-FC5E-4B6D-9517-FC87ACA7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B1804-D0BC-4516-B0FB-13BDF2E2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88390-87F2-4AE6-A201-3ACD3AEC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178FC-D083-4BBB-8384-ED20F184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F77C7-ACE3-4F54-AB59-8A5145A8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72A41-6B42-4494-9613-3A41D3F8B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8B597-378B-4F8C-AA22-7E0B75C45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8628E-E9B2-48F3-84E1-AA858C977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7D8B0-5EA9-459A-A985-2B89B9F1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F1665-ABE3-4561-9792-CED4C39B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097C-FE43-4FC1-8EFA-4D74DAA2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D51E5-5CBB-40EC-9A0D-AE52DDED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363BA-B6C8-43A1-990D-C95AC334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5480C-6A82-48CF-B963-D232B83A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117B7-52B8-4A77-BD1D-0BE50D42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B1CA4-426D-40A7-B45A-B9FCE25E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AB0E1-79D9-44C5-99A8-1B96F1BF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226F9-32E2-452A-BCD6-5DA0EDE6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2C114-4A15-44D7-9FF6-09629057C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869F9-A2D5-41A8-BA54-6A646C49F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2CD05-E62C-4808-923A-1AF1C16D1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97FF-8211-4D7C-BD32-B86C00C3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424E6-71DE-491A-9738-53A2F21A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8E5FF-111B-4EBD-A79C-3AB23DD5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8C7CB-3C3A-446D-87FC-2DC48481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BD380-24EE-40E9-A7B2-EE8D1D00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FCBAF-1724-4875-8CCC-CE2102EC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8489F-B7AA-484C-9CE0-8C7A3805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9D2C9-CBEF-4B16-8F66-80C54A64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AB805-5B12-4C5D-9DE7-E18EC64D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02B36-56D0-4EB8-9790-F254414C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74E7B-2882-4515-8FDF-7252046B9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4AB4-45D8-479B-A5A2-3FED3CDE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D9032-8B46-4A55-AD15-7D14A10FE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E20E0-8D60-4A8F-8EC7-0650A2DC9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E7034-163F-4386-BC7A-9EAEEA5A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045DD-BF17-49DE-9AE8-1217560C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87C2E-A514-48D9-A032-FF12EF0C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D9B51-49D4-4E5B-9B6D-6904FBC1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99487-0626-482A-863B-0369F783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FB65D-81B9-4B32-BF9D-E534B447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46C63-506E-4E1B-BA23-B1605F69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2096E-94D1-4C77-A273-E90129E6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7670-A6A8-4E27-B276-1957C642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1A0D3-D0FD-4CD2-828E-423E45AE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FA559-1CC7-4FAC-961F-F9BC20CA7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A1719-1869-4B7A-BA0B-25A4AB891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FE2F8-7824-4FF9-B445-51B704304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E7EAA-74AB-48F4-B468-4B5115AD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8D998-A1B7-4A36-8FA5-7081D5D6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E0904-DFAE-4E45-8E1A-038E9A9B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E37B0-D562-425F-9355-971347DB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451BE-C302-4BEC-8067-E9B514C4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58075-0E52-4500-A0FE-0C6EA1DF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329A-EFB2-46BA-8D8A-55B4752A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DFA2C-DB48-4865-B94E-A103B413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EE2C5-5E3A-40B0-BC2C-58177CE3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EBFE9-8DC0-4222-A8F0-B0559B9E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35446-E0A4-4D30-874F-B9D524B8D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DFD1B-4B91-4575-BB69-FB0DF1293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BD87-63C7-4B90-8D59-BFCE76F5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6B8E-D019-4C41-A1BE-C0EFFE0FCAA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3B96-8BC7-43F7-9AF2-0DF102985E1B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D87E-E60E-48B4-9CC1-5E863648B72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17E0-30C9-43D6-B6BF-B01C80CA3594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11F7-647C-4A1F-9154-1DE0934CB63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6920-3C7A-4D67-8900-748A32D5B11A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4590-14D6-4C5C-8355-E58D15D966DE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pic>
        <p:nvPicPr>
          <p:cNvPr id="309" name="Subtitle 2" descr=""/>
          <p:cNvPicPr/>
          <p:nvPr/>
        </p:nvPicPr>
        <p:blipFill>
          <a:blip r:embed="rId2"/>
          <a:stretch/>
        </p:blipFill>
        <p:spPr>
          <a:xfrm>
            <a:off x="536400" y="2481120"/>
            <a:ext cx="824724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228240" y="188280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osnovu datog relacionog modela nacrtati model objekti i veze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DAVAČ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Latn-C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ŠifIzdavača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aziv, BrojHale)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JIGA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C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Š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fKnjige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slov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raž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a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jamskiPopust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atumO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bravanjaPopusta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Š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VrsteLit,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fIzdavača)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EVNA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AJA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Latn-C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Š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fKnjige</a:t>
            </a:r>
            <a:r>
              <a:rPr b="0" lang="sr-Latn-C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Datum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jPrimeraka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STA_LITERATURE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Latn-C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ŠifVrsteLit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azivVrsteLit)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Š</a:t>
            </a:r>
            <a:r>
              <a:rPr b="0" lang="sr-Latn-C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fAutora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mePrezime, Država)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PISAO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Latn-C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ŠifAutora, ŠifKnjige)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380880" y="1371240"/>
            <a:ext cx="830592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25160" indent="-363240">
              <a:lnSpc>
                <a:spcPct val="10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osnovu date specifikacije kreirati model objekata i veza: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-363240">
              <a:lnSpc>
                <a:spcPct val="10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sac se identifikuje svojim matičnim brojem (MBR), a pored toga postoje informacije o njegovom imenu (IMEP), prezimenu (PRZP) i broju napisanih publikacija (BRNP)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-363240">
              <a:lnSpc>
                <a:spcPct val="10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kacija ima svoj identifikacioni broj (IDPUB), na osnovu koga se identifikuje, i naziv (NAZPUB) i vrstu publikacije (VRPUB). Publikacija može biti članak ili knjiga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-363240">
              <a:lnSpc>
                <a:spcPct val="10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sac je autor nijedne ili više publikacija, a publikaciju je pisao bar jedan pisac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-363240">
              <a:lnSpc>
                <a:spcPct val="10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lanak se objavljuje u časopisu. Časopis ima svoj naziv (NAZCAS), broj (BRCAS) i godinu izdavanja (GODIZD). Časopis je jedinstveno identifikuje na osnovu svog broja. Članak se objavljuje u tačno jednom časopisu, u kom mora biti objavljen bar jedan članak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-363240">
              <a:lnSpc>
                <a:spcPct val="10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svaku knjigu postoje podaci o broju odštampanih primeraka. Knjigu izdaje izdavač, koji se jedinstveno identifikuje preko broja izdavača (IDIZD), a postoji i informacija o nazivu izdavača (NAZIZD) i mestu izdavača (MESTIZD)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-363240">
              <a:lnSpc>
                <a:spcPct val="10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kacija pripada jednoj i samo jednoj oblasti, a jednoj oblasti ne mora, a može da pripada više publikacija. Oblast se identifikuje preko svog identifikacionog broja (IDOBL), a ime i svoj naziv (NAZOBL)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304560" y="1599840"/>
            <a:ext cx="838188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staviti modelom objekti i veze bazu podataka podsistema informacionog sistema Vojske Srbije na osnovu sledećeg opisa: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aki Vojnih Odsek se stara o jednoj ili više kasarni. Vojni Odsek ima svoj ID broj naziv i naziv okruga kojim komanduje, a kasarna se identifikuje samo u okviru Vojnog Odseka. Osim toga, kasarna ima svoj naziv, kao i kapacitet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kasarni postoji jedan ili više rodova vojske koji imaju svoje šifre i nazive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ični vojnici (oni koji nisu zaposleni u VS) identifikuju se pomoću svog jedinstvenog matičnog broja. Osim toga postoje podaci o struci, imenu i prezimenu vojnika. Svaki vojnik ima tačno jedan rod. Rod kome vojnik pripada mora da postoji u okviru kasarne u koju je vojnik raspoređen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posleni se dele na mlađe oficire, oficire i generale. Postoje podaci o JMBG-u zaposlenog, pomoću koga se identifikuje, kao i o imenu i prezimenu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aki mlađi oficir i svaki oficir je zaposlen u tačno jednoj kasarni. Svaki general je zaposlen u tačno jednom Vojnom Odseku.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pomena: 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zvoljeno je uvođenje proizvoljnih atributa za uvedene tipove entiteta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228240" y="18828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5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rtati dijagram objekti-veze za deo kadrovske evidencije u vazduhoplovnoj kompaniji. Potrebno je voditi evidenciju o zaposlenima sa sledećim zajedničkim atributima: JMBG, ImePrezime, GodinaRođenja. Svaki zaposleni je ili Avio-mehaničar ili Pilot ili Stjuardesa(Stjuard). Za svakog avio-mehaničara potrebno je znati datum dobijanja licence za određeni tip aviona (ŠifraTipaAviona, NazivTipaAviona). Jedan avio-mehaničar može imati licence za više tipova aviona. Osnovna svojstva pilota su: DatumPoslednjegSistematskogPregleda i OcenaZdravstvenogStanja. Svaki pilot je dodeljen nekom konkretnom avionu (OznakaAviona, GodProizvodnje) i u toj posadi ima svoju ulogu (ŠifraUloge, NazivUloge). U modelu obezbediti da jedan pilot može biti dodeljen istom avionu više puta bez obzira na ulogu. Voditi evidenciju i o rasporedu stjuardesa (stjuarda) po avionima. Potrebno je omogućiti pamćenje poznavanja stranih jezika za svaku stjuardesu (stjuarda), moraju znati bar dva strana jezika. 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7" name="Object 1"/>
          <p:cNvGraphicFramePr/>
          <p:nvPr/>
        </p:nvGraphicFramePr>
        <p:xfrm>
          <a:off x="1066680" y="1044720"/>
          <a:ext cx="7086600" cy="581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044720"/>
                    <a:ext cx="7086600" cy="58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Rectangle 3"/>
          <p:cNvSpPr/>
          <p:nvPr/>
        </p:nvSpPr>
        <p:spPr>
          <a:xfrm>
            <a:off x="0" y="68580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ormisati prikazani model objekti i veze u relacioni mod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Title 4" descr=""/>
          <p:cNvPicPr/>
          <p:nvPr/>
        </p:nvPicPr>
        <p:blipFill>
          <a:blip r:embed="rId3"/>
          <a:stretch/>
        </p:blipFill>
        <p:spPr>
          <a:xfrm>
            <a:off x="298440" y="-146160"/>
            <a:ext cx="82422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682560" y="-6480"/>
            <a:ext cx="8242200" cy="114624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Group 1"/>
          <p:cNvGrpSpPr/>
          <p:nvPr/>
        </p:nvGrpSpPr>
        <p:grpSpPr>
          <a:xfrm>
            <a:off x="349200" y="1828800"/>
            <a:ext cx="8197920" cy="4495680"/>
            <a:chOff x="349200" y="1828800"/>
            <a:chExt cx="8197920" cy="4495680"/>
          </a:xfrm>
        </p:grpSpPr>
        <p:sp>
          <p:nvSpPr>
            <p:cNvPr id="324" name="AutoShape 4"/>
            <p:cNvSpPr/>
            <p:nvPr/>
          </p:nvSpPr>
          <p:spPr>
            <a:xfrm>
              <a:off x="349200" y="1828800"/>
              <a:ext cx="8197920" cy="449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325" name="Object 3"/>
            <p:cNvGraphicFramePr/>
            <p:nvPr/>
          </p:nvGraphicFramePr>
          <p:xfrm>
            <a:off x="958680" y="1828800"/>
            <a:ext cx="7422480" cy="4495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26" name="Object 3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58680" y="1828800"/>
                      <a:ext cx="7422480" cy="449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7" name="Object 2"/>
            <p:cNvGraphicFramePr/>
            <p:nvPr/>
          </p:nvGraphicFramePr>
          <p:xfrm>
            <a:off x="3074760" y="1989360"/>
            <a:ext cx="5466960" cy="32007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28" name="Object 2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074760" y="1989360"/>
                      <a:ext cx="5466960" cy="320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29" name="Rectangle 7"/>
          <p:cNvSpPr/>
          <p:nvPr/>
        </p:nvSpPr>
        <p:spPr>
          <a:xfrm>
            <a:off x="152280" y="9144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ormisati prikazani model objekti i veze u relacioni mod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304920" y="18828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osnovu datog relacionog modela nacrtati model objekti i vez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lovniPartner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ŠifraPartner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azivPartnera, Adresa, Delatnost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rp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rKorp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atumNarudžbine, ŠifraPartnera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vkaKorp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BR, BrKorp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arKoličina, ŠifraArtikla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logZaOtpremu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rNalog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atum, Opis,BrKorpe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vkaNalog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rNaloga, Rb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oličina, ŠifraArtikla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kl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ŠifraArtikl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azivArtikla, OpisArtikla, VrstaArtikla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304560" y="188280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osnovu datog relacionog modela nacrtati model objekti i veze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rInex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me, Adresa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MET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ŠifraPred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aziv,ŠifraKatedre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STAVNIK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ŠifraNast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meN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JAV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rIndexa, ŠifraPred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atumPol, Ocena, ŠifraNast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TEDR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ŠifraKatedr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azivKatedre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SEK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ŠifraKatedre, ŠifraOdsek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azivOdseka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56840" y="18828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osnovu datog relacionog modela nacrtati model objekti i veze: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isnaKomisija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omisijaID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sednikKomisije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jClanova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kacija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okacijaID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ziv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Lokacije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isnaLista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ista ID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umPopisa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isijaID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kacijaID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vkaPopisneListe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istaID</a:t>
            </a:r>
            <a:r>
              <a:rPr b="0" lang="hr-HR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b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isanaKol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entarniBroj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novnoSredstvo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ventarniBroj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ziv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umNabavke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bavnaVrednost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pisanaVrednost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ortizacionaGrupa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Ognjanovic</dc:creator>
  <dc:description/>
  <dc:language>en-US</dc:language>
  <cp:lastModifiedBy>Ognjanovic</cp:lastModifiedBy>
  <dcterms:modified xsi:type="dcterms:W3CDTF">2008-11-27T22:04:49Z</dcterms:modified>
  <cp:revision>6</cp:revision>
  <dc:subject/>
  <dc:title>Slide 1</dc:title>
</cp:coreProperties>
</file>