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FDF-5800-4183-B0E1-4F37897A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862-F661-4B2C-BFB1-AFDF7AB8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791-6701-4F33-AA50-DAE8F956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F25-DA01-4FB1-AD01-D5D7C39A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954-52DC-41F6-931E-C217C963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6CA-EE36-4253-9325-9376FF3D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E53-6686-4397-842F-8B1DB171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EAC-7875-4519-B9C7-BA8431B1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935-46A1-43F3-AD23-780B430E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34C-33AB-4022-B603-04431985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0F3-6C46-4F7F-89E9-6C9B2489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468-0556-4ABC-BE5D-BEBA937B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B827-2139-4D51-9BDA-FBE6A720E4E2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5D80-89C5-4453-A894-E2F21F9DA1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38600" y="592452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O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11120" y="50004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UNIVERZITET U BEOG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TEHNIČKI FAKULTET U B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Arial"/>
              </a:rPr>
              <a:t>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81280" y="3222720"/>
            <a:ext cx="3789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d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Zoran 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Anđel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jaz@eu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2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26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1520" y="66531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r Zoran R. Anđelkov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127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127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0" y="6572160"/>
            <a:ext cx="9178920" cy="327240"/>
            <a:chOff x="0" y="6572160"/>
            <a:chExt cx="9178920" cy="327240"/>
          </a:xfrm>
        </p:grpSpPr>
        <p:sp>
          <p:nvSpPr>
            <p:cNvPr id="50" name=""/>
            <p:cNvSpPr/>
            <p:nvPr/>
          </p:nvSpPr>
          <p:spPr>
            <a:xfrm>
              <a:off x="34920" y="66531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40481FD-3ABD-4CBD-9579-FE8B6CA89B9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" y="66531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0" y="65721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721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Principi distribucije u DSU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400" y="396720"/>
            <a:ext cx="9061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NS := SELECT *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Organiz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j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Grad = 'NS';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{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Horizontalna fragmentacij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dnNS := SELECT Radnikld, Ime, OrgJedlD FROM Radnik, Organizacij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Radnik.OrgjedlD = Organizacija.OrgJedlD AND Grad = 'NS';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{Horizontalna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vertikalna 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fragmentacija}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434160"/>
            <a:ext cx="1182600" cy="641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 u="sng">
                <a:solidFill>
                  <a:srgbClr val="000000"/>
                </a:solidFill>
                <a:uFillTx/>
                <a:latin typeface="Arial Narrow"/>
              </a:rPr>
              <a:t>Beogr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rganizacij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RadnBg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21480" y="1612440"/>
            <a:ext cx="1644480" cy="649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Komunikaci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mre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20000" y="1614960"/>
            <a:ext cx="1182600" cy="641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 u="sng">
                <a:solidFill>
                  <a:srgbClr val="000000"/>
                </a:solidFill>
                <a:uFillTx/>
                <a:latin typeface="Arial Narrow"/>
              </a:rPr>
              <a:t>NoviS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rgNiš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Radn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4200" y="1614960"/>
            <a:ext cx="1182600" cy="641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 u="sng">
                <a:solidFill>
                  <a:srgbClr val="000000"/>
                </a:solidFill>
                <a:uFillTx/>
                <a:latin typeface="Arial Narrow"/>
              </a:rPr>
              <a:t>Ni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rgNiš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RadnNi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6" idx="2"/>
            <a:endCxn id="127" idx="0"/>
          </p:cNvCxnSpPr>
          <p:nvPr/>
        </p:nvCxnSpPr>
        <p:spPr>
          <a:xfrm>
            <a:off x="6532200" y="1079280"/>
            <a:ext cx="1188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131" name=""/>
          <p:cNvCxnSpPr>
            <a:stCxn id="128" idx="1"/>
            <a:endCxn id="127" idx="6"/>
          </p:cNvCxnSpPr>
          <p:nvPr/>
        </p:nvCxnSpPr>
        <p:spPr>
          <a:xfrm flipH="1">
            <a:off x="7365240" y="1936440"/>
            <a:ext cx="554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132" name=""/>
          <p:cNvCxnSpPr>
            <a:stCxn id="129" idx="3"/>
            <a:endCxn id="127" idx="2"/>
          </p:cNvCxnSpPr>
          <p:nvPr/>
        </p:nvCxnSpPr>
        <p:spPr>
          <a:xfrm>
            <a:off x="5176440" y="1936440"/>
            <a:ext cx="545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grpSp>
        <p:nvGrpSpPr>
          <p:cNvPr id="13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3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180704E-EC0C-4E6B-9449-2DE51357E00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Principi distribucije u DSU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457200"/>
            <a:ext cx="9061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ednosti distribuiranih baza podataka s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ovecana pouzdanost i raspo/o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ž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vost.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uzdanost se najop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ije definise kao verovatnoca da sistem radi u nekom trenutku vremena. Raspo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vost se definise kao verovatn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 d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sistem biti stalno operativan u nekom intervalu vremena. U distribuiranom sistemu postoji v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SUBP. Ako jedan otkaze, ostali j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uvek rade, pa je pouzdanost i raspo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vost ovakvog sistema v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, pogotovo aka se u vis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orov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vaju replikacije cele ili delova distribuiran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obo/j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ane performanse sistema.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ragmentacija podataka grup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podatke na lokacije u kojima se najv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koriste. Lokalni upiti i transakcije pristupaju podacima u lokalnoj bazi koja je manja nego odgovara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 centralizovana. Operacije nad lokalnim bazama se odvijaju paralelno. Svaki lokalni SUBP obraduje konkurentno manji broj transakcija nego odgovara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centralizovani SUB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4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4524385-1A97-4D70-BFBB-B4B84884B25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Principi distribucije u DSU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0" y="1171440"/>
            <a:ext cx="906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ednosti distribuiranih baza podataka s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Jednostavniji rast sistema.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cigledno je da se u distribuiranoj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jednostavnije ostvariti rast sistema bilo pr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rivanjem lokalnih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, bilo dodavanjem novog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ora sa novim S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gledno je da je u distribuiranim bazama mnogo t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ostvariti osnovne funkcije SUBP: vodenje katalog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, optimizaciju upita, upravljanje transakcijama i dru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4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926EB80-93B7-4E96-8501-6642D8D2C5A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838680" y="639720"/>
          <a:ext cx="5238720" cy="56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8680" y="639720"/>
                    <a:ext cx="523872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400" y="317520"/>
            <a:ext cx="54864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tovariste podatak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sad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podatke koji su na pogodan 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 izv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i iz raz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tih Iizvora podatak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Izvori podataka mogu biti relacione ili objektn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, m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e baz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ao i podaci u raz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t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atoteka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cesi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Ekstrakcija i korek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zvl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atke i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dgovara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g izvora 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verava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jihov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rektnost u sklad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efinisan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gra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57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717088F-5872-472E-8F5F-8BB9C42403B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9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838680" y="639720"/>
          <a:ext cx="5238720" cy="56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8680" y="639720"/>
                    <a:ext cx="523872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400" y="317520"/>
            <a:ext cx="54864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euzimanj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ataka se obavlja inkrementalno,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ces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Ekstrakcij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formira kolekciju podatak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ji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menjeni posle poslednjeg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euzimanj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ataka i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zv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ces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Korekcija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k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riguje nekorektn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atk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i koj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e ne mo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rigovati, n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kstrahuj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e.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ces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ransform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 konsolidacij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prip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kstrahovan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atke 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unjenje i 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riranj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tovarista podata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6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A7EE3CD-C7F6-4F67-B9FE-04C7331DA92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3838680" y="639720"/>
          <a:ext cx="5238720" cy="56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8680" y="639720"/>
                    <a:ext cx="523872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400" y="31752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vaj pro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je posebno z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an u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u potreb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a se spoje podaci iz v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izvora u jedinstveni rekord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75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C4F042F-0F18-4C55-A20A-9ABE8E7F2C9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3838680" y="588960"/>
          <a:ext cx="5238720" cy="56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8680" y="588960"/>
                    <a:ext cx="523872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400" y="1241280"/>
            <a:ext cx="379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ces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unjenj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obavlja inicijalno punjenje stova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 podataka. U toku punjenja obavljaju se i operacije uredenja i agregiranja podata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ces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Osve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avanj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v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riranje skfadista podataka na osnovu promena u podacima izvo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8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73F6E7F-F736-41CF-8473-7F9D9A72567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3838680" y="588960"/>
          <a:ext cx="5238720" cy="56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8680" y="588960"/>
                    <a:ext cx="523872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400" y="457200"/>
            <a:ext cx="379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vaj proces se obavlja bilo na taj 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 se u izvore podataka ug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ju trigeri koji odgovara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prom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enose u sk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d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e ili se formira log promena preko koga se v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osv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vanje sad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klad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a podata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ethodne vrednosti izmenjenih podataka ob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 s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vaju kao istorijski podac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93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027BB48-82D4-4C6D-8663-6FF2E9F4A284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Data Warehouse, medijatori-Softverski posrednik (middlew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920" y="1241280"/>
            <a:ext cx="453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k se u sistemima za upravljanje stova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ima podataka fizicki formira integrisana baza podataka,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medijatori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u softverske komponente koje virtuelno integrisu podatke iz razlicit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zvo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rhitektura medijatora je prikazana 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lici. Medijatori poseduju svoju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0" y="1233360"/>
          <a:ext cx="450864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33360"/>
                    <a:ext cx="450864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0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95E9D36-E167-4F5E-A915-A04A3EDDF49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Data Warehouse, medijatori-Softverski posrednik (middlew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20" y="1233360"/>
            <a:ext cx="453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orisnici prosl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ju upite medijatoru,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 ovaj dobija relevantne podatk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sl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, preko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omota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a (Wrapper),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pite odgovara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m izvo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odataka.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 bi efikasno generis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dgovor na postavljeni up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edijatori zahtevaju veoma s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mot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za raz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te izvore podata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0" y="1233360"/>
          <a:ext cx="450864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33360"/>
                    <a:ext cx="450864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1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11AD1A7-671D-470F-BCB2-48DBA557B734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58760"/>
            <a:ext cx="9061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Distribucija, odnosno povezivanje 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narskih sistema u 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narsko-komunikacione m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, je danas karakteristika gotovo svih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 I celokupna oblast za koju je nekad uob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jen naziv b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"informatika", zatim "informacione tehnologije", danas se naj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naziva "informaciono-komunikacione tehnologije"-ICT. Time se ist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efikasna simbioza 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narstva i telekomunikacija koja o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va razvoj veoma s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ih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aj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re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e distribuirane arhitekture su tzv.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"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klijent-server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"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rhitekture u kojima se jasno odvajaju uloge servera i klijenta koji mogu biti u raz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tim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vorovima neke 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narske m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57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4F71515-3C9A-4672-80FA-43088A24859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0" y="444600"/>
            <a:ext cx="9061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ajjednostavnija distribuirana arhitektura je dvoslojna klijent-server arhitektura u kojoj server sad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 funkcije sistema za upravljanj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(server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), a klijent, po pravilu na drugom 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naru, obavlja ostale delove aplikacija i komunikaciju sa koris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im interfejso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Distribuirane baze podatak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edstavljaju sasvim drug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ju distribuiranu arhitekturu. Distribuiran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je "virtuelna" baza podatak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je pojedine komponente predstavljaju fiz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e delove stvarnih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koje se nalaze u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vorovima neke 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narske m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. U ovakvoj arhitekturi postoji barem dva server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, odnosno dva sistema za upravljanj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u raz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tim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vorovima mreze. Ovi serveri pod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vaju lokalne transakcije koje se obavljaju nezavisno ali i distribuirane transakcije koje zajed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i ostvaruj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6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6056A02-6F26-4023-A311-A580427EC0B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DISTRIBUIRANE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55560"/>
            <a:ext cx="9061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stribuiran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predstavlja kolekciju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orova neke m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u kojoj u svakom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oru postoji lokalni sistem za upravljanj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, koji zajedno pr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u takav servis da korisnik sa bilo kog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ora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da pristupi podacima u bilo kojoj lokalnoj bazi. U svakom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oru lokalni SUBP omogucava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e lokalne baze (obrada upita, transakcije, oporavak i s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) kao da ta baza nije deo virtuelne distribuiran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Pored toga, lokalni SUBP su pr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reni tak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da je 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ostvariti njihovu kolaboraciju za realizaciju virtuelne distribuiran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vako pr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reni lokalni SUBP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distribuirani sistem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z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uprav/janje bazom podataka (DSUBP)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SUBP se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realizovati kako u lokalnoj (LAN) tak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i u globalnoj 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narskoj (WAN) m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CFB3177-0D86-41B1-9BAA-76F5F894A5A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Principi distribucije u DSU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0" y="365040"/>
            <a:ext cx="9061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DSUBP treba da zadovolji slede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e osnovne principe distribucij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 algn="just">
              <a:lnSpc>
                <a:spcPct val="100000"/>
              </a:lnSpc>
              <a:buClr>
                <a:srgbClr val="cc3300"/>
              </a:buClr>
              <a:buFont typeface="Arial"/>
              <a:buAutoNum type="arabicPeriod"/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Lokalna autonomija svakog 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vora.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svakom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oru se lokaln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da koristi kao da nije deo distribuirane ba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 algn="just">
              <a:lnSpc>
                <a:spcPct val="100000"/>
              </a:lnSpc>
              <a:buClr>
                <a:srgbClr val="cc3300"/>
              </a:buClr>
              <a:buFont typeface="Arial"/>
              <a:buAutoNum type="arabicPeriod"/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Nepostojanja "centra/nog 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vora" distribuirane 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BP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.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i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orovi u distribuiranoj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su ravnopravni. Postojanje "centralnog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ora" u velikoj meri bi degradiralo pouzdanost i raspo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vost distribuiran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Otkaz "centralnog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ora" doveo bi do otkaza celokupnog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 algn="just">
              <a:lnSpc>
                <a:spcPct val="100000"/>
              </a:lnSpc>
              <a:buClr>
                <a:srgbClr val="cc3300"/>
              </a:buClr>
              <a:buFont typeface="Arial"/>
              <a:buAutoNum type="arabicPeriod"/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ransparentnost distribucije,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dnosno sakrivanje detalja distribucije od korisnika. 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risnik treba da jednostavno koristi distribuiranu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na isti 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 na koji koristi i centralizovanu, bez znanj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tome kako je distribucija podataka fiz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i izvede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50A6D07-EEC8-40FF-A94F-8D96D6B1146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Principi distribucije u DSU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400" y="365040"/>
            <a:ext cx="9061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76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stoje raz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ti tipovi transparentnosti u distribuiranim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ransparentnost mre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ž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e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razumeva da korisnik ne mora da poznaje detalje 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narske m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preko koje je distribucij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reallzovana, odnosno da ne mora da zna na kojoj su lokaciji sm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eni podaci kojim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li da pristupi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lokaciona transparentnost)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sto taka neophodno je ostvariti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ransparentnost imenovanj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objektim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se pristupa preko jednom definisanog imena, bez obzira na lokaciju na kojoj se nala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Replikaciona transparentnost.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a bi se obezbedili raspo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ost, veta pouzdanost i bolje performanse podataka isti podaci se mogu replicirati na v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lokacija u distribuiranoj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gledno je da treba obezbediti replikacionu transparentnost, odnosno "sakriti" postojanje replikacija od korisni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85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4C5BCE3-ABCE-4771-B5B4-678F465F6C7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Principi distribucije u DSU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693720"/>
            <a:ext cx="9061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4120" indent="-193680"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Fragmentaciona transparentnost.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stoje d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vrste fragmentacije podataka u (relacionim)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609840"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Horizontalna fragmentacij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razumeva distribuciju skupova n-torki jedne relacije na vise lok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609840"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Vertikalna fragmentacij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elu relacije po kolonama i sklad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enje ovako dobijenih relacija na v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lokacija u mrezi. 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je jednu relaciju fragmentirati i horizontalno i vertikalno. Fragmentacija mora da zadovolji uslov kompletnosti i uslov rekonstrukcije sad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a. Fragmentacija je kompletna aka se svaki elemenat relacije nalazi barem u jedno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fragmentu. Uslov rekonstrukcije sadržaja zahteva da se polazna relacija može rekonstruisati iz njenih fregmen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9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95CF382-A170-4D8A-8915-D54551EB2FD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Principi distribucije u DSU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400" y="396720"/>
            <a:ext cx="9061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Replikacionu i fragmentacion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ransparentnost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lustrov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mo 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imeru sled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relacion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Radnik(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Radnikld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, Ime, Starost, StrucnaSprema,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Adresa,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OrgJed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Organizacija(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OraJedID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,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Vrsta,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Naziv, Grad, BrojRacun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rganizacije se nalaze u Novom Sadu,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Beogradu. U svakom grad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stoji jedan server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U centrali u Beogradu s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vaju podaci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svim organizacijama i svi podaci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radnicima iz organizacija u Beogradu i Novom Sa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se nalaze svi podaci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organizacijama iz 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 i radnicima koji rade u tim organizacija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0360" y="434160"/>
            <a:ext cx="1182600" cy="641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 u="sng">
                <a:solidFill>
                  <a:srgbClr val="000000"/>
                </a:solidFill>
                <a:uFillTx/>
                <a:latin typeface="Arial Narrow"/>
              </a:rPr>
              <a:t>Beogr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rganizacij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RadnBg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1480" y="1612440"/>
            <a:ext cx="1644480" cy="649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Komunikaci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mre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20000" y="1614960"/>
            <a:ext cx="1182600" cy="641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 u="sng">
                <a:solidFill>
                  <a:srgbClr val="000000"/>
                </a:solidFill>
                <a:uFillTx/>
                <a:latin typeface="Arial Narrow"/>
              </a:rPr>
              <a:t>NoviS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rgNiš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Radn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94200" y="1614960"/>
            <a:ext cx="1182600" cy="641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 u="sng">
                <a:solidFill>
                  <a:srgbClr val="000000"/>
                </a:solidFill>
                <a:uFillTx/>
                <a:latin typeface="Arial Narrow"/>
              </a:rPr>
              <a:t>Ni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rgNiš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RadnNi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8" idx="2"/>
            <a:endCxn id="99" idx="0"/>
          </p:cNvCxnSpPr>
          <p:nvPr/>
        </p:nvCxnSpPr>
        <p:spPr>
          <a:xfrm>
            <a:off x="6532200" y="1079280"/>
            <a:ext cx="1188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103" name=""/>
          <p:cNvCxnSpPr>
            <a:stCxn id="100" idx="1"/>
            <a:endCxn id="99" idx="6"/>
          </p:cNvCxnSpPr>
          <p:nvPr/>
        </p:nvCxnSpPr>
        <p:spPr>
          <a:xfrm flipH="1">
            <a:off x="7365240" y="1936440"/>
            <a:ext cx="554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104" name=""/>
          <p:cNvCxnSpPr>
            <a:stCxn id="101" idx="3"/>
            <a:endCxn id="99" idx="2"/>
          </p:cNvCxnSpPr>
          <p:nvPr/>
        </p:nvCxnSpPr>
        <p:spPr>
          <a:xfrm>
            <a:off x="5176440" y="1936440"/>
            <a:ext cx="545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grpSp>
        <p:nvGrpSpPr>
          <p:cNvPr id="10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0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606EC68-C22B-4754-9439-175EEF0A771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ISTRIBUIRANE ARHITEKTURE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Principi distribucije u DSU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400" y="396720"/>
            <a:ext cx="9061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Novom Sadu s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vaju s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 poda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organizacijama iz tog grada i osnov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aci a radnicima tih organizaci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rmiracemo slede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ragmentacije i replikacij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dnBgd := SELECT Radnik.* FROM Radnik, Organizacij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Radnik.OrgjedlD = Organizacija.OrgJedlD AND Grad = 'Beograd' and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d= 'Novi Sad');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{Horiz. fragmentacija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Nis := SELECT * FROM Organizacij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Grad = 'Nis'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;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{Horizontalna fragmentacij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dnNis := SELECT Radnik.*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Radnik, Organizacij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Radnik.OrgjedlD = Organizacija.OrgJedlD AND Grad = 'Nis'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;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{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Horizontalna fragmentacij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434160"/>
            <a:ext cx="1182600" cy="641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 u="sng">
                <a:solidFill>
                  <a:srgbClr val="000000"/>
                </a:solidFill>
                <a:uFillTx/>
                <a:latin typeface="Arial Narrow"/>
              </a:rPr>
              <a:t>Beogr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rganizacij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RadnBg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21480" y="1612440"/>
            <a:ext cx="1644480" cy="649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Komunikaci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mre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0000" y="1614960"/>
            <a:ext cx="1182600" cy="641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 u="sng">
                <a:solidFill>
                  <a:srgbClr val="000000"/>
                </a:solidFill>
                <a:uFillTx/>
                <a:latin typeface="Arial Narrow"/>
              </a:rPr>
              <a:t>NoviS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rgNiš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Radn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94200" y="1614960"/>
            <a:ext cx="1182600" cy="641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 u="sng">
                <a:solidFill>
                  <a:srgbClr val="000000"/>
                </a:solidFill>
                <a:uFillTx/>
                <a:latin typeface="Arial Narrow"/>
              </a:rPr>
              <a:t>Ni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rgNiš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RadnNi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2" idx="2"/>
            <a:endCxn id="113" idx="0"/>
          </p:cNvCxnSpPr>
          <p:nvPr/>
        </p:nvCxnSpPr>
        <p:spPr>
          <a:xfrm>
            <a:off x="6532200" y="1079280"/>
            <a:ext cx="1188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117" name=""/>
          <p:cNvCxnSpPr>
            <a:stCxn id="114" idx="1"/>
            <a:endCxn id="113" idx="6"/>
          </p:cNvCxnSpPr>
          <p:nvPr/>
        </p:nvCxnSpPr>
        <p:spPr>
          <a:xfrm flipH="1">
            <a:off x="7365240" y="1936440"/>
            <a:ext cx="554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cxnSp>
        <p:nvCxnSpPr>
          <p:cNvPr id="118" name=""/>
          <p:cNvCxnSpPr>
            <a:stCxn id="115" idx="3"/>
            <a:endCxn id="113" idx="2"/>
          </p:cNvCxnSpPr>
          <p:nvPr/>
        </p:nvCxnSpPr>
        <p:spPr>
          <a:xfrm>
            <a:off x="5176440" y="1936440"/>
            <a:ext cx="545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grpSp>
        <p:nvGrpSpPr>
          <p:cNvPr id="11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2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E9EFF83-B345-40FC-93F5-15A09D3E5799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16:14:00Z</dcterms:created>
  <dc:creator>Lukic</dc:creator>
  <dc:description/>
  <dc:language>en-US</dc:language>
  <cp:lastModifiedBy>Zoran</cp:lastModifiedBy>
  <dcterms:modified xsi:type="dcterms:W3CDTF">2005-11-20T10:31:25Z</dcterms:modified>
  <cp:revision>346</cp:revision>
  <dc:subject/>
  <dc:title>PowerPoint Presentation</dc:title>
</cp:coreProperties>
</file>