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0000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BAZE</a:t>
            </a:r>
            <a:r>
              <a:rPr b="1" lang="hr-HR" sz="4400" spc="-1" strike="noStrike">
                <a:solidFill>
                  <a:srgbClr val="000000"/>
                </a:solidFill>
                <a:latin typeface="Garamond"/>
              </a:rPr>
              <a:t> PODATAKA</a:t>
            </a:r>
            <a:endParaRPr b="0" lang="en-US" sz="4400" spc="-1" strike="noStrike">
              <a:solidFill>
                <a:srgbClr val="000000"/>
              </a:solidFill>
              <a:latin typeface="Garamond"/>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Dijagram klasa</a:t>
            </a:r>
            <a:endParaRPr b="0" lang="en-US" sz="3600" spc="-1" strike="noStrike">
              <a:solidFill>
                <a:srgbClr val="000000"/>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ve</a:t>
            </a:r>
            <a:r>
              <a:rPr b="1" lang="hr-HR" sz="3600" spc="-1" strike="noStrike">
                <a:solidFill>
                  <a:srgbClr val="000000"/>
                </a:solidFill>
                <a:latin typeface="Garamond"/>
              </a:rPr>
              <a:t>žbanje-</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Garamond"/>
              </a:rPr>
              <a:t>Primer 1. </a:t>
            </a:r>
            <a:endParaRPr b="0" lang="en-US" sz="4400" spc="-1" strike="noStrike">
              <a:solidFill>
                <a:srgbClr val="000000"/>
              </a:solidFill>
              <a:latin typeface="Garamond"/>
            </a:endParaRPr>
          </a:p>
        </p:txBody>
      </p:sp>
      <p:sp>
        <p:nvSpPr>
          <p:cNvPr id="79" name="PlaceHolder 2"/>
          <p:cNvSpPr>
            <a:spLocks noGrp="1"/>
          </p:cNvSpPr>
          <p:nvPr>
            <p:ph/>
          </p:nvPr>
        </p:nvSpPr>
        <p:spPr>
          <a:xfrm>
            <a:off x="228600" y="1219320"/>
            <a:ext cx="868680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Za radnike su zadati matični broj, kao i ime, prezime i plata. Radnik može da ima najviše jednog (direktno nadredenog) šefa (koji je takođe radnik), dok svaki radnik može biti šef nijednom ili više radnika. Projekti su zadati pomoću svoje šifre i naziva projekta. Svaki projekat ima tačno jednog rukovodioca (radnika). Jedan radnik može da rukovodi sa više projekata, iako ne mora nijednim. Jedan radnik može da radi na više projekata, a ne mora ni na jednom, dok na projektu može da radi više radnika, mada ne mora nijedan. Za svakog radnika koji radi na nekom projektu se zna koliko časova mesečno dati radnik radi na datom projektu.</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80880" y="762120"/>
            <a:ext cx="975348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Garamond"/>
              </a:rPr>
              <a:t>Primer 2.</a:t>
            </a:r>
            <a:endParaRPr b="0" lang="en-US" sz="4400" spc="-1" strike="noStrike">
              <a:solidFill>
                <a:srgbClr val="000000"/>
              </a:solidFill>
              <a:latin typeface="Garamond"/>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lasa Vozilo sa atributima regbr (registarski broj vozila), vrsta (vrsta vozila), boja (boja vozila) može da se specijalizuje na klase Auto (atribut: marka), Kamion (atribut: nosivost), Autobus (atribut: brojPutnika). Klasa BenzinskaPumpa sa atrubutima oznaka i naziv i operacijom sipajGorivo() može da usluži više vozila, a u jednom trenutku može i da nema vozila koja sipaju gorivo. Jedno vozilo može da sipa gorivo na jednom ili više benzinskih pumpi.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235080" y="990720"/>
            <a:ext cx="937908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Garamond"/>
              </a:rPr>
              <a:t>Primer 3.</a:t>
            </a:r>
            <a:endParaRPr b="0" lang="en-US" sz="4400" spc="-1" strike="noStrike">
              <a:solidFill>
                <a:srgbClr val="000000"/>
              </a:solidFill>
              <a:latin typeface="Garamond"/>
            </a:endParaRPr>
          </a:p>
        </p:txBody>
      </p:sp>
      <p:sp>
        <p:nvSpPr>
          <p:cNvPr id="85" name="PlaceHolder 2"/>
          <p:cNvSpPr>
            <a:spLocks noGrp="1"/>
          </p:cNvSpPr>
          <p:nvPr>
            <p:ph/>
          </p:nvPr>
        </p:nvSpPr>
        <p:spPr>
          <a:xfrm>
            <a:off x="0" y="1218960"/>
            <a:ext cx="9144000" cy="2971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terfejs Figura definiše operacije izracunajPovršinu(), izracunajObim(). Klase Trougao, Kvadrat, Pravougaonik, Krug implementiraju interfejs Figura. Klasa ProgramZaIzracunavanjePovršine koristi interfejs Figura.</a:t>
            </a:r>
            <a:endParaRPr b="0" lang="en-US" sz="3200" spc="-1" strike="noStrike">
              <a:solidFill>
                <a:srgbClr val="000000"/>
              </a:solidFill>
              <a:latin typeface="Garamond"/>
            </a:endParaRPr>
          </a:p>
        </p:txBody>
      </p:sp>
      <p:pic>
        <p:nvPicPr>
          <p:cNvPr id="86" name="" descr=""/>
          <p:cNvPicPr/>
          <p:nvPr/>
        </p:nvPicPr>
        <p:blipFill>
          <a:blip r:embed="rId2"/>
          <a:stretch/>
        </p:blipFill>
        <p:spPr>
          <a:xfrm>
            <a:off x="380880" y="3232080"/>
            <a:ext cx="822960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304920"/>
            <a:ext cx="8839080" cy="651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lovan Ognjanovic</cp:lastModifiedBy>
  <dcterms:modified xsi:type="dcterms:W3CDTF">2006-09-21T15:48:4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