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F1C-BFB0-42EC-8741-EBD2664A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5A5-0842-4271-912B-15E0FDE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B29-550B-48EF-827B-5051C9F0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D3F-0912-4FA7-8471-BB66B98B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114-6D3C-45B7-AAFD-7359DEDC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186-00F9-4248-8D7D-EC6613C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932-2435-409F-9C03-39F6D058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09A-A9B9-421F-B2E2-EC83DDF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EBC-45EA-4055-8015-C99BAC3C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A15-23B2-46D5-BC66-6B6A75EB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267-3CBB-4C95-B652-33CD84E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CE1-6B7B-4977-9170-A599E48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EFC-B61A-454D-88E6-59F8996F12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5F8-844A-43DC-89E9-ACAAA54A4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B90F610-3601-485C-A2A9-D0185F09E37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40" y="396720"/>
            <a:ext cx="912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tan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bjekta se reprezentuje putem strukture nad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kupom podataka o realnom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ntite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onašanj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bjekta je skup procedura, koji se nazivaj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metodam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il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peracijam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i programi služe za izmenu stanja objekta ili samo za davanje informacija o njegovom stanju.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702812-B20A-4975-9F3B-B53137E05A2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840" y="309600"/>
            <a:ext cx="912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Poruka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edino metode, pridružene posmatranom objektu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maju pravo da pristupaju njegovoj struktur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dataka, bilo u cilju ažuriranja stanja objekta il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amo davanja informacije o nekoj komponent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jegovog sta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920" y="2305080"/>
          <a:ext cx="9109080" cy="34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305080"/>
                    <a:ext cx="910908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A6E86B9-A1FA-47A4-962A-F1080F876C0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840" y="396720"/>
            <a:ext cx="912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snovni oblik poruke je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prijemnik&gt;, &lt;naziv metode&gt;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eo poruke označen s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prijemnik&gt;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trdstavlja adresu objekta, koji treba da primi i protumači poruku. Ta adresa je ili identifikator objekta ili neki izraz pomoću kojeg se objekat označa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eo poruke označen s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naziv metode&gt;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kazuje o kojoj je metodi reč. Na osnovu naziva objekat poziva određenu metodu.  Objekat vraća pošiljaocu rezultat izvršenja metode, pozvane porukom. Paradigma objekat / poruka predstavlj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da svi podaci predstavljaju obj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da svaki objekat poseduje skup met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da su nazivi tih metoda poznati drugim obj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da svaki obj. odgovara samo na svoje p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da objekti međusobno komuniciraju samo putem poru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25B7390-7DBA-44FA-BAE7-917FE86BEDB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08200" y="2554200"/>
          <a:ext cx="710856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2554200"/>
                    <a:ext cx="710856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5840" y="309600"/>
            <a:ext cx="912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Inkapsulacij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vaki objekat ima svoj privatni i svoj javni 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ivatn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eo objekta čine struktura podfatka i skup metod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a tu strukturu podatka. Taj deo objekta se naziv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mplementacij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Javn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eo objekta čine: identifikator i nazivi metoda. To 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jegov interfejs (sprega s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kolino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AE581AB-71D6-422C-8B4E-E4A97D95246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34920" y="396720"/>
            <a:ext cx="912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ruke pristupaju interfejsu i specificiraju koje metode na objektu bi trebalo da se izvrše, ali ne i kako da se te metode izvrše. Objekat koji primi poruku, određuje kako će se izvršiti tražena metoda. Uvođenjem privatnog dela objekta uvodi se princip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krivanja informaci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 To znači da su detalji realizacije objekta skriveni od svih programa izvan objekta. Često se kaže da objekat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nkapsuli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podatke i prog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52560" y="3130560"/>
          <a:ext cx="609300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3130560"/>
                    <a:ext cx="609300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CCDA5B-367F-4415-9E21-1A4B60ED849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40" y="309600"/>
            <a:ext cx="9128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Klas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nogi objekti u realnom svetu poseduju sl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 karakteristike i izv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vaju sl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 operacije. U proizvodnom pogonu metalskog komple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alaze se glodalice rendisaljke b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lice. Mada je svaki od ovih objekata razl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t svi pripadaju klasi masin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no-orijentisani model podataka se ne svodi samo na pojam objekta. Osnovni pojam objektno-orijentisano modela podataka j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/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a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sa je dvojka. Jedna komponenta te dvojke j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ip objekta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i nosi informaciju o strukturi podataka. Druga komponenta je skup metoda. To su operacije. koje se primenjuju na sve objekte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ja struk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definisana putem 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a objek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je s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u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takvih objeka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i imaju iste kara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eristik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(tip s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u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ur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metode). Svaki individualni objekat j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jav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ke klase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Klasa se opisuje putem naredbe objektno orijentisaniog jezika. To opisivanje se naziva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deklaracijom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k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2F6E3EC-5623-4F2A-987C-FFCEA2CB928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40" y="309600"/>
            <a:ext cx="912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pstraktni tipovi podataka predstavljaj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enje pojma osnovnog tipa podatka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ncepti: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nkapsulacije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javnog i privatnog dela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p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uk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i metod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objektno orijentisanom pris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up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ovi koncepti se realizuju putem klasa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Nasle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đ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ivanje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i nas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ju osobine (tip strukture i metode) ad svoje klase. M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tim i klasa m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nasl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vati osobine od drugih klasa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a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ja nas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je osobine od druge klase, naziva se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pot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lasom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s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osobine nas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edn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ili v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 dr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h kl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a. naziva s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uperklas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17C5E6A-BF90-4B77-BD78-C9818FECEF8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40" y="309600"/>
            <a:ext cx="912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o potklasa m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imati svo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tklase, dolazi se do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a h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rarh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klas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 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šć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 klasa i nas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vanja je veoma bitno za savremena s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versko 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t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novno koriscenje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ma s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stiž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reiranjem novih klasa zasnovanih na obeležjima i metodama postojećih kl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3A4F10-2C7D-4280-9DAD-E9B5F2FE582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76240"/>
            <a:ext cx="912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ldentitet objekt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objektno orijentisanom modelu podataka svaki objekat dobija identitet, koji mu je p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ntno pridr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 i ostaje nepromenjen, bez obzira na promene stanja objekta. Identitet je interna osobina objek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mena mu je da reprezentuje objekat, bez obzira na to kako se objektu pristup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š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ad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ili gde se nalazi. Id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titet ohjekt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m koi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e zavi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od hardversko softverskoe okr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ia i nacina realizaciie obiekta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da se k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da je n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a identiteta da reprezentuje objekat, zeli se ukazati da je cilj uv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a identiteta objekta uvodenje takve karakteristike koja od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va onu bitnost objekta kakvu poseduju i realni entite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F599FC-ADAC-42E8-9DEA-4295DCCD76B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920" y="633240"/>
            <a:ext cx="912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imer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vaka osoba, tokom vremena prolazi kroz niz strukturalnih promen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e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završav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kolu, zap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java se. S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nove osobinc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ka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o su: s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ik, deca, pol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j na poslu. M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d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ć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do promene imena. prezimena, broja zdravstvene knj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ce. Ipak pri svim tim promenama, ostaje n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o sto je jedinstveno, karakteris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o za svaku osobu, njen identitet, njena bitno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tet objekta pridr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je objektu, kao modelu realnog entiteta, osobinu bitnosti. Pored ovog, seman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g zn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a, identitet predstavlja i mehan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a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za povezivanje objekta sa drugim objektima. Jedan objekat postaje komponen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drugih objekata ta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sto se njegov identitet javlja kao vrednost odr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og obe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a tih drugih objek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0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808993B-2B7D-48DC-BA35-208D89AA724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NOVE OBLASTI PRIMENE BAZA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40" y="372960"/>
            <a:ext cx="912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naliza novih primena BP zasniva se pre svega na potrebama SUBP za zadovoljenje potreba projektovanja, multimedijalnih sistema, baza znanj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oftverski sistemi za r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narom podr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no projektollanje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 koriste za r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anje kompleksnih zadataka 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ke prakse. U 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kv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z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t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padaju izrade projekata: m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skih proizvoda, proizvodnih linija, kompletnih fabrika, brodova, aviona, zgrada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ostova, integr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ih kola velike gustine, 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nara ili informacionih sistema. 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ko projektovanje postavlja jedan broj novih zahteva u odnosu na model podataka i sistem za upravljan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Ti zahtevi su posledica sledecih specif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osti primene 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nara u 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kom projektovanj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6CDCA1E-536C-4662-BD73-C790C287500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NOVE OBLASTI PRIMENE BAZA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40" y="372960"/>
            <a:ext cx="912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ehomogenost podataka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ki projekti sad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heterogen skup objekata. Za te projektne objekte je karakteris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n veliki broj razl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tih tipova, svaki sa malim brojem poja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izo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vi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promenlji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izo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vi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like du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ne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igitalizovani cr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predstavljaju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to sastavni deo 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kih projekata. U digitalizovanom obliku ceo cr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je predstavljen kao veoma dug n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bajtova, od kojih svaki 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i info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cij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ivou sivila jedne 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e, izuzetno malih d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zija, na crte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66C4203-B873-438A-9D73-78612BF7F64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NOVE OBLASTI PRIMENE BAZA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40" y="372960"/>
            <a:ext cx="912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ompleksni o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bj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kti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ki projekti. po prnvilu sad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k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leksne objekte. Komple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n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obj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t im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hi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rarhijsku strukturu podatak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pravljanje ver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zi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jama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njerskirn proj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tima j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eophodno voditi zapis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evoluciji r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a. Projektant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to eksperimen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a v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verzija jednog objek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vol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ucija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me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erski projekti ob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o prolaze dug evol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tivn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period. Tokorn tog perioda. intenzivno se menja sta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 struktura projek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kvivalentni objekti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oj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mog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ći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pogleda na isti objekat projektovanja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ve izmene projekata treba sprovesti na svim pogled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AE03039-1030-4516-951E-438B1F1459C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NOVE OBLASTI PRIMENE BAZA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40" y="372960"/>
            <a:ext cx="912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Modularnost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lika sl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ost projekta nam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ć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potrebu paralelnog 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v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g broja projektanata na njeg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rn delovim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-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mo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ulima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oduli projekta nisu m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sobno nezavisni. Pri tome, svaki modul s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da menja s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 njegov projek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t. a drugim projektantima treba da budu poznate njegov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azno-izlazne karakterist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ug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e transakcije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ransakcije u i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njerskorn projektovanju uz prirnenu 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nara traju ve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 du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Multimedijalne baz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dataka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od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 kancelarijskom informacion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ili drug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l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dijaln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istem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,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podaci uklj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ju ne s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 tekstov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i broj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 v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i slik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grafiku i dig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izovan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vuč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ide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z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pi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A52BA2-B0E4-4EB1-83AC-27D98ED8DE2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NOVE OBLASTI PRIMENE BAZA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40" y="372960"/>
            <a:ext cx="912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B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nja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s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 inteligencija i ekspenni sistemi predstavljaju informacije kao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jenice i pravila, koje se mogu z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dno posmatrnti kao baza znanja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dstavljanje znanja z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hteva struktu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poda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a sa bogato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semantiko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E36EAF8-9ED4-4C86-83CD-16A6F566B28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POREKLO OBJEKTNO ORIJENTISANOG 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40" y="768240"/>
            <a:ext cx="91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ijentisan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el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a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OMP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je razvijan na drugi n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i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ego relacioni model podata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Umesto da se p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 od jednostavne definicije i sn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og matematickog aparata, razvoj OOMP je zasnovan na tradicijam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1080" y="31687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Objektno orijentis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programski jez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58240" y="3181320"/>
            <a:ext cx="14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Semant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model podat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1720" y="31813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Relacioni SU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9760" y="3932280"/>
            <a:ext cx="17352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kompleksni objek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identitet objek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klase i met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inkapsul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nasleđi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76400" y="3927600"/>
            <a:ext cx="1346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agreg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specijaliz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9280" y="3927600"/>
            <a:ext cx="25491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trajno memorisanje podat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upitni jez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višekorisnički 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upravljanje transakcij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8040" y="5516640"/>
            <a:ext cx="3151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Objektno orijentisani model podat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8760" y="2916360"/>
            <a:ext cx="6556320" cy="32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98760" y="5124600"/>
            <a:ext cx="117468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4840" y="4481640"/>
            <a:ext cx="0" cy="10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9040" y="4906800"/>
            <a:ext cx="1243080" cy="63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337CAC5-8476-4DFE-86B6-CDA8E14AA93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POREKLO OBJEKTNO ORIJENTISANOG 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1080" y="31687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Objektno orijentis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programski jez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58240" y="3181320"/>
            <a:ext cx="14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Semant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model podat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1720" y="31813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Relacioni SU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59760" y="3932280"/>
            <a:ext cx="17352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kompleksni objek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identitet objek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klase i met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inkapsul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nasleđi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76400" y="3927600"/>
            <a:ext cx="1346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agreg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specijaliz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9280" y="3927600"/>
            <a:ext cx="25491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trajno memorisanje podat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upitni jez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višekorisnički 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-upravljanje transakcij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040" y="5516640"/>
            <a:ext cx="3151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 Narrow"/>
              </a:rPr>
              <a:t>Objektno orijentisani model podat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98760" y="2916360"/>
            <a:ext cx="6556320" cy="32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98760" y="5124600"/>
            <a:ext cx="117468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4840" y="4481640"/>
            <a:ext cx="0" cy="10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89040" y="4906800"/>
            <a:ext cx="1243080" cy="63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"/>
            <a:ext cx="912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azlika između objektno-orijentisanog programskog jezika i objektno orijentisane baze podataka je da baza podataka podrazumeva postojanje permanentno memorisanih objekata na medijumu eksterne memorije, Dok objekti u objektno orijentisanom programskom jeziku postoje samo tokom izvršavanja programa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F7137DF-2912-43C3-95A3-21D6753AED7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SNOVNI KONCEPTI OBJEKTNO-ORIJENTISANOG MODELA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40" y="396720"/>
            <a:ext cx="912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rijentisana paradigma donosi čitav niz novih pojmova i mehanizama za predstavljanje realnih entiteta. Ti pojmovi i mehanizmi predstavljaju koncepte objektno orijentisanog modela podataka. U nove pojmove i mehanizme spadaj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ob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met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poru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inkapsulacija (učauren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nasleđivanje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identitet objek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Objekat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e jedan od mogućih modela realnog entiteta. Model ima dve komponente, to su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tan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onašan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CB96245-F954-4837-97F2-AC84758F2D2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20T09:37:27Z</dcterms:modified>
  <cp:revision>343</cp:revision>
  <dc:subject/>
  <dc:title>PowerPoint Presentation</dc:title>
</cp:coreProperties>
</file>