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7520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1AA6DD-2DC1-454D-9935-68F486E315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518FE8-FC23-4760-B951-631A5AADA5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AEBECD-A5DF-4F72-AFDC-3BB4470DDB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ECF864-5827-48EF-AB4E-7CF73A4686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4A20AC-6381-4451-901C-26815D5CC8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4E23FF-1626-4BEA-BB73-EAC25FC0BC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AA09BD-9FC1-4784-B128-91F8FE8372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D65510-C1C7-4119-BDAB-33215AB61D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BBC6D7-1E53-462E-9B34-D3F590B550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502612-E41D-4587-891C-0A7FB1B10C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212CCE-8407-47D6-B04E-E7D8959424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C4E0AC-AE1E-4CC9-A7B7-9A27E8EC44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CE8309-4D0D-4662-850F-DF1C76E2BB07}" type="datetime">
              <a:rPr b="0" lang="en-US" sz="1400" spc="-1" strike="noStrike">
                <a:solidFill>
                  <a:srgbClr val="000000"/>
                </a:solidFill>
                <a:latin typeface="Times New Roman"/>
              </a:rPr>
              <a:t>07/3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CC1F2E-FFD7-4029-B31E-5F8E38BFD56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oleObject" Target="../embeddings/oleObject2.bin"/><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oleObject" Target="../embeddings/oleObject2.bin"/><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oleObject" Target="../embeddings/oleObject2.bin"/><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oleObject" Target="../embeddings/oleObject2.bin"/><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oleObject" Target="../embeddings/oleObject2.bin"/><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oleObject" Target="../embeddings/oleObject2.bin"/><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oleObject" Target="../embeddings/oleObject1.bin"/><Relationship Id="rId5" Type="http://schemas.openxmlformats.org/officeDocument/2006/relationships/image" Target="../media/image1.png"/><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oleObject" Target="../embeddings/oleObject2.bin"/><Relationship Id="rId7" Type="http://schemas.openxmlformats.org/officeDocument/2006/relationships/image" Target="../media/image1.png"/><Relationship Id="rId8"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oleObject" Target="../embeddings/oleObject2.bin"/><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2838600" y="5924520"/>
            <a:ext cx="3371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BEOGRAD </a:t>
            </a:r>
            <a:endParaRPr b="0" lang="en-US" sz="2400" spc="-1" strike="noStrike">
              <a:solidFill>
                <a:srgbClr val="000000"/>
              </a:solidFill>
              <a:latin typeface="Times New Roman"/>
            </a:endParaRPr>
          </a:p>
        </p:txBody>
      </p:sp>
      <p:sp>
        <p:nvSpPr>
          <p:cNvPr id="42" name=""/>
          <p:cNvSpPr/>
          <p:nvPr/>
        </p:nvSpPr>
        <p:spPr>
          <a:xfrm>
            <a:off x="1311120" y="500040"/>
            <a:ext cx="387324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99"/>
                </a:solidFill>
                <a:latin typeface="Arial"/>
              </a:rPr>
              <a:t>UNIVERZITET U BEOGRADU</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99"/>
                </a:solidFill>
                <a:latin typeface="Arial"/>
              </a:rPr>
              <a:t>TEHNIČKI FAKULTET U BORU</a:t>
            </a:r>
            <a:endParaRPr b="0" lang="en-US" sz="2000" spc="-1" strike="noStrike">
              <a:solidFill>
                <a:srgbClr val="000000"/>
              </a:solidFill>
              <a:latin typeface="Times New Roman"/>
            </a:endParaRPr>
          </a:p>
        </p:txBody>
      </p:sp>
      <p:sp>
        <p:nvSpPr>
          <p:cNvPr id="43" name=""/>
          <p:cNvSpPr/>
          <p:nvPr/>
        </p:nvSpPr>
        <p:spPr>
          <a:xfrm>
            <a:off x="0" y="2058840"/>
            <a:ext cx="9144000" cy="58140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000099"/>
                </a:solidFill>
                <a:latin typeface="Arial"/>
              </a:rPr>
              <a:t>BAZE PODATAKA</a:t>
            </a:r>
            <a:endParaRPr b="0" lang="en-US" sz="3200" spc="-1" strike="noStrike">
              <a:solidFill>
                <a:srgbClr val="000000"/>
              </a:solidFill>
              <a:latin typeface="Times New Roman"/>
            </a:endParaRPr>
          </a:p>
        </p:txBody>
      </p:sp>
      <p:sp>
        <p:nvSpPr>
          <p:cNvPr id="44" name=""/>
          <p:cNvSpPr/>
          <p:nvPr/>
        </p:nvSpPr>
        <p:spPr>
          <a:xfrm>
            <a:off x="2681280" y="3222720"/>
            <a:ext cx="3789360" cy="1216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99"/>
                </a:solidFill>
                <a:latin typeface="Arial Narrow"/>
              </a:rPr>
              <a:t>d</a:t>
            </a:r>
            <a:r>
              <a:rPr b="1" i="1" lang="sr-Latn-CS" sz="2400" spc="-1" strike="noStrike">
                <a:solidFill>
                  <a:srgbClr val="000099"/>
                </a:solidFill>
                <a:latin typeface="Arial Narrow"/>
              </a:rPr>
              <a:t>r</a:t>
            </a:r>
            <a:r>
              <a:rPr b="1" i="1" lang="sr-CS" sz="2400" spc="-1" strike="noStrike">
                <a:solidFill>
                  <a:srgbClr val="000099"/>
                </a:solidFill>
                <a:latin typeface="Arial Narrow"/>
                <a:ea typeface="Times New Roman"/>
              </a:rPr>
              <a:t> </a:t>
            </a:r>
            <a:r>
              <a:rPr b="1" i="1" lang="sr-Latn-CS" sz="2400" spc="-1" strike="noStrike">
                <a:solidFill>
                  <a:srgbClr val="000099"/>
                </a:solidFill>
                <a:latin typeface="Arial Narrow"/>
              </a:rPr>
              <a:t>Zoran R</a:t>
            </a:r>
            <a:r>
              <a:rPr b="1" i="1" lang="sr-CS" sz="2400" spc="-1" strike="noStrike">
                <a:solidFill>
                  <a:srgbClr val="000099"/>
                </a:solidFill>
                <a:latin typeface="Arial Narrow"/>
              </a:rPr>
              <a:t>.</a:t>
            </a:r>
            <a:r>
              <a:rPr b="1" i="1" lang="sr-CS" sz="2400" spc="-1" strike="noStrike">
                <a:solidFill>
                  <a:srgbClr val="000099"/>
                </a:solidFill>
                <a:latin typeface="Arial Narrow"/>
                <a:ea typeface="Times New Roman"/>
              </a:rPr>
              <a:t> </a:t>
            </a:r>
            <a:r>
              <a:rPr b="1" i="1" lang="sr-Latn-CS" sz="2400" spc="-1" strike="noStrike">
                <a:solidFill>
                  <a:srgbClr val="000099"/>
                </a:solidFill>
                <a:latin typeface="Arial Narrow"/>
              </a:rPr>
              <a:t>Anđelković</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99"/>
                </a:solidFill>
                <a:latin typeface="Arial Narrow"/>
              </a:rPr>
              <a:t>jaz@eunet.yu</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
          <p:cNvSpPr/>
          <p:nvPr/>
        </p:nvSpPr>
        <p:spPr>
          <a:xfrm>
            <a:off x="0" y="2625840"/>
            <a:ext cx="914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cc0000"/>
                </a:solidFill>
                <a:latin typeface="Arial"/>
              </a:rPr>
              <a:t>3</a:t>
            </a:r>
            <a:r>
              <a:rPr b="1" lang="en-US" sz="2400" spc="-1" strike="noStrike">
                <a:solidFill>
                  <a:srgbClr val="cc0000"/>
                </a:solidFill>
                <a:latin typeface="Arial"/>
              </a:rPr>
              <a:t>.P</a:t>
            </a:r>
            <a:endParaRPr b="0" lang="en-US" sz="2400" spc="-1" strike="noStrike">
              <a:solidFill>
                <a:srgbClr val="000000"/>
              </a:solidFill>
              <a:latin typeface="Times New Roman"/>
            </a:endParaRPr>
          </a:p>
        </p:txBody>
      </p:sp>
      <p:sp>
        <p:nvSpPr>
          <p:cNvPr id="46" name=""/>
          <p:cNvSpPr/>
          <p:nvPr/>
        </p:nvSpPr>
        <p:spPr>
          <a:xfrm>
            <a:off x="7121520" y="6653160"/>
            <a:ext cx="205740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000" spc="-1" strike="noStrike">
                <a:solidFill>
                  <a:srgbClr val="000066"/>
                </a:solidFill>
                <a:latin typeface="Arial"/>
              </a:rPr>
              <a:t> </a:t>
            </a:r>
            <a:r>
              <a:rPr b="1" lang="en-US" sz="1000" spc="-1" strike="noStrike">
                <a:solidFill>
                  <a:srgbClr val="000066"/>
                </a:solidFill>
                <a:latin typeface="Arial"/>
              </a:rPr>
              <a:t>d</a:t>
            </a:r>
            <a:r>
              <a:rPr b="1" lang="sl-SI" sz="1000" spc="-1" strike="noStrike">
                <a:solidFill>
                  <a:srgbClr val="000066"/>
                </a:solidFill>
                <a:latin typeface="Arial"/>
              </a:rPr>
              <a:t>r Zoran R. Anđelković</a:t>
            </a:r>
            <a:endParaRPr b="0" lang="en-US" sz="1000" spc="-1" strike="noStrike">
              <a:solidFill>
                <a:srgbClr val="000000"/>
              </a:solidFill>
              <a:latin typeface="Times New Roman"/>
            </a:endParaRPr>
          </a:p>
        </p:txBody>
      </p:sp>
      <p:graphicFrame>
        <p:nvGraphicFramePr>
          <p:cNvPr id="47" name=""/>
          <p:cNvGraphicFramePr/>
          <p:nvPr/>
        </p:nvGraphicFramePr>
        <p:xfrm>
          <a:off x="34920" y="0"/>
          <a:ext cx="1276200" cy="1562040"/>
        </p:xfrm>
        <a:graphic>
          <a:graphicData uri="http://schemas.openxmlformats.org/presentationml/2006/ole">
            <p:oleObj r:id="rId1" spid="">
              <p:embed/>
              <p:pic>
                <p:nvPicPr>
                  <p:cNvPr id="48" name="" descr=""/>
                  <p:cNvPicPr/>
                  <p:nvPr/>
                </p:nvPicPr>
                <p:blipFill>
                  <a:blip r:embed="rId2"/>
                  <a:stretch/>
                </p:blipFill>
                <p:spPr>
                  <a:xfrm>
                    <a:off x="34920" y="0"/>
                    <a:ext cx="1276200" cy="1562040"/>
                  </a:xfrm>
                  <a:prstGeom prst="rect">
                    <a:avLst/>
                  </a:prstGeom>
                  <a:ln w="0">
                    <a:noFill/>
                  </a:ln>
                </p:spPr>
              </p:pic>
            </p:oleObj>
          </a:graphicData>
        </a:graphic>
      </p:graphicFrame>
      <p:grpSp>
        <p:nvGrpSpPr>
          <p:cNvPr id="49" name=""/>
          <p:cNvGrpSpPr/>
          <p:nvPr/>
        </p:nvGrpSpPr>
        <p:grpSpPr>
          <a:xfrm>
            <a:off x="0" y="6572160"/>
            <a:ext cx="9178920" cy="327240"/>
            <a:chOff x="0" y="6572160"/>
            <a:chExt cx="9178920" cy="327240"/>
          </a:xfrm>
        </p:grpSpPr>
        <p:sp>
          <p:nvSpPr>
            <p:cNvPr id="50" name=""/>
            <p:cNvSpPr/>
            <p:nvPr/>
          </p:nvSpPr>
          <p:spPr>
            <a:xfrm>
              <a:off x="34920" y="6653160"/>
              <a:ext cx="91440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E818BD-8D3C-409E-BA84-A6CC3E9F7F15}" type="slidenum">
                <a:rPr b="1" lang="sl-SI" sz="1000" spc="-1" strike="noStrike">
                  <a:solidFill>
                    <a:srgbClr val="000066"/>
                  </a:solidFill>
                  <a:latin typeface="Arial"/>
                </a:rPr>
                <a:t>&lt;number&gt;</a:t>
              </a:fld>
              <a:endParaRPr b="0" lang="en-US" sz="1000" spc="-1" strike="noStrike">
                <a:solidFill>
                  <a:srgbClr val="000000"/>
                </a:solidFill>
                <a:latin typeface="Times New Roman"/>
              </a:endParaRPr>
            </a:p>
          </p:txBody>
        </p:sp>
        <p:sp>
          <p:nvSpPr>
            <p:cNvPr id="51" name=""/>
            <p:cNvSpPr/>
            <p:nvPr/>
          </p:nvSpPr>
          <p:spPr>
            <a:xfrm>
              <a:off x="34920" y="6653160"/>
              <a:ext cx="24415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66"/>
                  </a:solidFill>
                  <a:latin typeface="Arial"/>
                </a:rPr>
                <a:t>      </a:t>
              </a:r>
              <a:r>
                <a:rPr b="1" lang="sr-Latn-CS" sz="1000" spc="-1" strike="noStrike">
                  <a:solidFill>
                    <a:srgbClr val="000066"/>
                  </a:solidFill>
                  <a:latin typeface="Arial"/>
                </a:rPr>
                <a:t>BP-3P</a:t>
              </a:r>
              <a:endParaRPr b="0" lang="en-US" sz="1000" spc="-1" strike="noStrike">
                <a:solidFill>
                  <a:srgbClr val="000000"/>
                </a:solidFill>
                <a:latin typeface="Times New Roman"/>
              </a:endParaRPr>
            </a:p>
          </p:txBody>
        </p:sp>
        <p:graphicFrame>
          <p:nvGraphicFramePr>
            <p:cNvPr id="52" name=""/>
            <p:cNvGraphicFramePr/>
            <p:nvPr/>
          </p:nvGraphicFramePr>
          <p:xfrm>
            <a:off x="0" y="6572160"/>
            <a:ext cx="233280" cy="285840"/>
          </p:xfrm>
          <a:graphic>
            <a:graphicData uri="http://schemas.openxmlformats.org/presentationml/2006/ole">
              <p:oleObj r:id="rId3" spid="">
                <p:embed/>
                <p:pic>
                  <p:nvPicPr>
                    <p:cNvPr id="53" name="" descr=""/>
                    <p:cNvPicPr/>
                    <p:nvPr/>
                  </p:nvPicPr>
                  <p:blipFill>
                    <a:blip r:embed="rId4"/>
                    <a:stretch/>
                  </p:blipFill>
                  <p:spPr>
                    <a:xfrm>
                      <a:off x="0" y="6572160"/>
                      <a:ext cx="233280" cy="285840"/>
                    </a:xfrm>
                    <a:prstGeom prst="rect">
                      <a:avLst/>
                    </a:prstGeom>
                    <a:ln w="0">
                      <a:noFill/>
                    </a:ln>
                  </p:spPr>
                </p:pic>
              </p:oleObj>
            </a:graphicData>
          </a:graphic>
        </p:graphicFrame>
      </p:gr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34920" y="396720"/>
            <a:ext cx="9074160" cy="6311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268200"/>
                <a:tab algn="l" pos="536400"/>
                <a:tab algn="l" pos="804960"/>
                <a:tab algn="l" pos="1073160"/>
                <a:tab algn="l" pos="1341360"/>
                <a:tab algn="l" pos="1609560"/>
                <a:tab algn="l" pos="1878120"/>
                <a:tab algn="l" pos="2146320"/>
                <a:tab algn="l" pos="2414520"/>
                <a:tab algn="l" pos="2682720"/>
                <a:tab algn="l" pos="2951280"/>
                <a:tab algn="l" pos="3219480"/>
                <a:tab algn="l" pos="3487680"/>
                <a:tab algn="l" pos="3755880"/>
                <a:tab algn="l" pos="4024440"/>
                <a:tab algn="l" pos="4292640"/>
                <a:tab algn="l" pos="4560840"/>
                <a:tab algn="l" pos="4829040"/>
                <a:tab algn="l" pos="5097600"/>
                <a:tab algn="l" pos="5365800"/>
              </a:tabLst>
            </a:pPr>
            <a:r>
              <a:rPr b="1" i="1" lang="sr-Latn-CS" sz="2400" spc="-1" strike="noStrike" u="sng">
                <a:solidFill>
                  <a:srgbClr val="cc3300"/>
                </a:solidFill>
                <a:uFillTx/>
                <a:latin typeface="Arial Narrow"/>
                <a:ea typeface="Arial"/>
              </a:rPr>
              <a:t>Objektni model OM</a:t>
            </a:r>
            <a:r>
              <a:rPr b="1" i="1" lang="en-US" sz="2400" spc="-1" strike="noStrike" u="sng">
                <a:solidFill>
                  <a:srgbClr val="cc3300"/>
                </a:solidFill>
                <a:uFillTx/>
                <a:latin typeface="Arial Narrow"/>
                <a:ea typeface="Arial"/>
              </a:rPr>
              <a:t> </a:t>
            </a:r>
            <a:r>
              <a:rPr b="1" i="1" lang="sr-Latn-CS" sz="2400" spc="-1" strike="noStrike" u="sng">
                <a:solidFill>
                  <a:srgbClr val="cc3300"/>
                </a:solidFill>
                <a:uFillTx/>
                <a:latin typeface="Arial Narrow"/>
              </a:rPr>
              <a:t>-nastavak</a:t>
            </a:r>
            <a:endParaRPr b="0" lang="en-US" sz="2400" spc="-1" strike="noStrike">
              <a:solidFill>
                <a:srgbClr val="000000"/>
              </a:solidFill>
              <a:latin typeface="Times New Roman"/>
            </a:endParaRPr>
          </a:p>
          <a:p>
            <a:pPr algn="just">
              <a:lnSpc>
                <a:spcPct val="100000"/>
              </a:lnSpc>
              <a:tabLst>
                <a:tab algn="l" pos="0"/>
                <a:tab algn="l" pos="268200"/>
                <a:tab algn="l" pos="536400"/>
                <a:tab algn="l" pos="804960"/>
                <a:tab algn="l" pos="1073160"/>
                <a:tab algn="l" pos="1341360"/>
                <a:tab algn="l" pos="1609560"/>
                <a:tab algn="l" pos="1878120"/>
                <a:tab algn="l" pos="2146320"/>
                <a:tab algn="l" pos="2414520"/>
                <a:tab algn="l" pos="2682720"/>
                <a:tab algn="l" pos="2951280"/>
                <a:tab algn="l" pos="3219480"/>
                <a:tab algn="l" pos="3487680"/>
                <a:tab algn="l" pos="3755880"/>
                <a:tab algn="l" pos="4024440"/>
                <a:tab algn="l" pos="4292640"/>
                <a:tab algn="l" pos="4560840"/>
                <a:tab algn="l" pos="4829040"/>
                <a:tab algn="l" pos="5097600"/>
                <a:tab algn="l" pos="5365800"/>
              </a:tabLst>
            </a:pPr>
            <a:r>
              <a:rPr b="1" lang="sr-Latn-CS" sz="2400" spc="-1" strike="noStrike">
                <a:solidFill>
                  <a:srgbClr val="000099"/>
                </a:solidFill>
                <a:latin typeface="Arial Narrow"/>
                <a:ea typeface="Arial"/>
              </a:rPr>
              <a:t>Osnovni koncepti OM prikazuju se na već poznatom primeru</a:t>
            </a:r>
            <a:r>
              <a:rPr b="1" lang="sr-Latn-CS" sz="2400" spc="-1" strike="noStrike">
                <a:solidFill>
                  <a:srgbClr val="000099"/>
                </a:solidFill>
                <a:latin typeface="Arial Narrow"/>
              </a:rPr>
              <a:t>.</a:t>
            </a:r>
            <a:endParaRPr b="0" lang="en-US" sz="2400" spc="-1" strike="noStrike">
              <a:solidFill>
                <a:srgbClr val="000000"/>
              </a:solidFill>
              <a:latin typeface="Times New Roman"/>
            </a:endParaRPr>
          </a:p>
          <a:p>
            <a:pPr algn="just">
              <a:lnSpc>
                <a:spcPct val="100000"/>
              </a:lnSpc>
              <a:tabLst>
                <a:tab algn="l" pos="0"/>
                <a:tab algn="l" pos="268200"/>
                <a:tab algn="l" pos="536400"/>
                <a:tab algn="l" pos="804960"/>
                <a:tab algn="l" pos="1073160"/>
                <a:tab algn="l" pos="1341360"/>
                <a:tab algn="l" pos="1609560"/>
                <a:tab algn="l" pos="1878120"/>
                <a:tab algn="l" pos="2146320"/>
                <a:tab algn="l" pos="2414520"/>
                <a:tab algn="l" pos="2682720"/>
                <a:tab algn="l" pos="2951280"/>
                <a:tab algn="l" pos="3219480"/>
                <a:tab algn="l" pos="3487680"/>
                <a:tab algn="l" pos="3755880"/>
                <a:tab algn="l" pos="4024440"/>
                <a:tab algn="l" pos="4292640"/>
                <a:tab algn="l" pos="4560840"/>
                <a:tab algn="l" pos="4829040"/>
                <a:tab algn="l" pos="5097600"/>
                <a:tab algn="l" pos="5365800"/>
              </a:tabLst>
            </a:pPr>
            <a:r>
              <a:rPr b="1" lang="sr-Latn-CS" sz="2400" spc="-1" strike="noStrike">
                <a:solidFill>
                  <a:srgbClr val="000099"/>
                </a:solidFill>
                <a:latin typeface="Arial Narrow"/>
                <a:ea typeface="Times New Roman"/>
              </a:rPr>
              <a:t>Deo za specifikaciju  naziva klase (class Student, na primer), naziva se skup pojavljivanja objekata klase koji će se </a:t>
            </a:r>
            <a:endParaRPr b="0" lang="en-US" sz="2400" spc="-1" strike="noStrike">
              <a:solidFill>
                <a:srgbClr val="000000"/>
              </a:solidFill>
              <a:latin typeface="Times New Roman"/>
            </a:endParaRPr>
          </a:p>
          <a:p>
            <a:pPr algn="just">
              <a:lnSpc>
                <a:spcPct val="100000"/>
              </a:lnSpc>
              <a:tabLst>
                <a:tab algn="l" pos="0"/>
                <a:tab algn="l" pos="268200"/>
                <a:tab algn="l" pos="536400"/>
                <a:tab algn="l" pos="804960"/>
                <a:tab algn="l" pos="1073160"/>
                <a:tab algn="l" pos="1341360"/>
                <a:tab algn="l" pos="1609560"/>
                <a:tab algn="l" pos="1878120"/>
                <a:tab algn="l" pos="2146320"/>
                <a:tab algn="l" pos="2414520"/>
                <a:tab algn="l" pos="2682720"/>
                <a:tab algn="l" pos="2951280"/>
                <a:tab algn="l" pos="3219480"/>
                <a:tab algn="l" pos="3487680"/>
                <a:tab algn="l" pos="3755880"/>
                <a:tab algn="l" pos="4024440"/>
                <a:tab algn="l" pos="4292640"/>
                <a:tab algn="l" pos="4560840"/>
                <a:tab algn="l" pos="4829040"/>
                <a:tab algn="l" pos="5097600"/>
                <a:tab algn="l" pos="5365800"/>
              </a:tabLst>
            </a:pPr>
            <a:r>
              <a:rPr b="1" lang="sr-Latn-CS" sz="2400" spc="-1" strike="noStrike">
                <a:solidFill>
                  <a:srgbClr val="000099"/>
                </a:solidFill>
                <a:latin typeface="Arial Narrow"/>
                <a:ea typeface="Times New Roman"/>
              </a:rPr>
              <a:t>čuvati u bazi (extend studenti) i ključa preko</a:t>
            </a:r>
            <a:endParaRPr b="0" lang="en-US" sz="2400" spc="-1" strike="noStrike">
              <a:solidFill>
                <a:srgbClr val="000000"/>
              </a:solidFill>
              <a:latin typeface="Times New Roman"/>
            </a:endParaRPr>
          </a:p>
          <a:p>
            <a:pPr algn="just">
              <a:lnSpc>
                <a:spcPct val="100000"/>
              </a:lnSpc>
              <a:tabLst>
                <a:tab algn="l" pos="0"/>
                <a:tab algn="l" pos="268200"/>
                <a:tab algn="l" pos="536400"/>
                <a:tab algn="l" pos="804960"/>
                <a:tab algn="l" pos="1073160"/>
                <a:tab algn="l" pos="1341360"/>
                <a:tab algn="l" pos="1609560"/>
                <a:tab algn="l" pos="1878120"/>
                <a:tab algn="l" pos="2146320"/>
                <a:tab algn="l" pos="2414520"/>
                <a:tab algn="l" pos="2682720"/>
                <a:tab algn="l" pos="2951280"/>
                <a:tab algn="l" pos="3219480"/>
                <a:tab algn="l" pos="3487680"/>
                <a:tab algn="l" pos="3755880"/>
                <a:tab algn="l" pos="4024440"/>
                <a:tab algn="l" pos="4292640"/>
                <a:tab algn="l" pos="4560840"/>
                <a:tab algn="l" pos="4829040"/>
                <a:tab algn="l" pos="5097600"/>
                <a:tab algn="l" pos="5365800"/>
              </a:tabLst>
            </a:pPr>
            <a:r>
              <a:rPr b="1" lang="sr-Latn-CS" sz="2400" spc="-1" strike="noStrike">
                <a:solidFill>
                  <a:srgbClr val="000099"/>
                </a:solidFill>
                <a:latin typeface="Arial Narrow"/>
                <a:ea typeface="Times New Roman"/>
              </a:rPr>
              <a:t>koga se identifikuje jedno pojavljivanje</a:t>
            </a:r>
            <a:r>
              <a:rPr b="1" lang="sr-Latn-CS" sz="2400" spc="-1" strike="noStrike">
                <a:solidFill>
                  <a:srgbClr val="000099"/>
                </a:solidFill>
                <a:latin typeface="Arial Narrow"/>
              </a:rPr>
              <a:t> </a:t>
            </a:r>
            <a:endParaRPr b="0" lang="en-US" sz="2400" spc="-1" strike="noStrike">
              <a:solidFill>
                <a:srgbClr val="000000"/>
              </a:solidFill>
              <a:latin typeface="Times New Roman"/>
            </a:endParaRPr>
          </a:p>
          <a:p>
            <a:pPr algn="just">
              <a:lnSpc>
                <a:spcPct val="100000"/>
              </a:lnSpc>
              <a:tabLst>
                <a:tab algn="l" pos="0"/>
                <a:tab algn="l" pos="268200"/>
                <a:tab algn="l" pos="536400"/>
                <a:tab algn="l" pos="804960"/>
                <a:tab algn="l" pos="1073160"/>
                <a:tab algn="l" pos="1341360"/>
                <a:tab algn="l" pos="1609560"/>
                <a:tab algn="l" pos="1878120"/>
                <a:tab algn="l" pos="2146320"/>
                <a:tab algn="l" pos="2414520"/>
                <a:tab algn="l" pos="2682720"/>
                <a:tab algn="l" pos="2951280"/>
                <a:tab algn="l" pos="3219480"/>
                <a:tab algn="l" pos="3487680"/>
                <a:tab algn="l" pos="3755880"/>
                <a:tab algn="l" pos="4024440"/>
                <a:tab algn="l" pos="4292640"/>
                <a:tab algn="l" pos="4560840"/>
                <a:tab algn="l" pos="4829040"/>
                <a:tab algn="l" pos="5097600"/>
                <a:tab algn="l" pos="5365800"/>
              </a:tabLst>
            </a:pPr>
            <a:r>
              <a:rPr b="1" lang="sr-Latn-CS" sz="2400" spc="-1" strike="noStrike">
                <a:solidFill>
                  <a:srgbClr val="000099"/>
                </a:solidFill>
                <a:latin typeface="Arial Narrow"/>
                <a:ea typeface="Arial"/>
              </a:rPr>
              <a:t>(key BrojInd).</a:t>
            </a:r>
            <a:endParaRPr b="0" lang="en-US" sz="2400" spc="-1" strike="noStrike">
              <a:solidFill>
                <a:srgbClr val="000000"/>
              </a:solidFill>
              <a:latin typeface="Times New Roman"/>
            </a:endParaRPr>
          </a:p>
          <a:p>
            <a:pPr algn="just">
              <a:lnSpc>
                <a:spcPct val="100000"/>
              </a:lnSpc>
              <a:tabLst>
                <a:tab algn="l" pos="0"/>
                <a:tab algn="l" pos="268200"/>
                <a:tab algn="l" pos="536400"/>
                <a:tab algn="l" pos="804960"/>
                <a:tab algn="l" pos="1073160"/>
                <a:tab algn="l" pos="1341360"/>
                <a:tab algn="l" pos="1609560"/>
                <a:tab algn="l" pos="1878120"/>
                <a:tab algn="l" pos="2146320"/>
                <a:tab algn="l" pos="2414520"/>
                <a:tab algn="l" pos="2682720"/>
                <a:tab algn="l" pos="2951280"/>
                <a:tab algn="l" pos="3219480"/>
                <a:tab algn="l" pos="3487680"/>
                <a:tab algn="l" pos="3755880"/>
                <a:tab algn="l" pos="4024440"/>
                <a:tab algn="l" pos="4292640"/>
                <a:tab algn="l" pos="4560840"/>
                <a:tab algn="l" pos="4829040"/>
                <a:tab algn="l" pos="5097600"/>
                <a:tab algn="l" pos="5365800"/>
              </a:tabLst>
            </a:pPr>
            <a:r>
              <a:rPr b="1" lang="sr-Latn-CS" sz="2400" spc="-1" strike="noStrike">
                <a:solidFill>
                  <a:srgbClr val="000099"/>
                </a:solidFill>
                <a:latin typeface="Arial Narrow"/>
                <a:ea typeface="Arial"/>
              </a:rPr>
              <a:t> </a:t>
            </a:r>
            <a:endParaRPr b="0" lang="en-US" sz="2400" spc="-1" strike="noStrike">
              <a:solidFill>
                <a:srgbClr val="000000"/>
              </a:solidFill>
              <a:latin typeface="Times New Roman"/>
            </a:endParaRPr>
          </a:p>
          <a:p>
            <a:pPr algn="just">
              <a:lnSpc>
                <a:spcPct val="100000"/>
              </a:lnSpc>
              <a:tabLst>
                <a:tab algn="l" pos="0"/>
                <a:tab algn="l" pos="268200"/>
                <a:tab algn="l" pos="536400"/>
                <a:tab algn="l" pos="804960"/>
                <a:tab algn="l" pos="1073160"/>
                <a:tab algn="l" pos="1341360"/>
                <a:tab algn="l" pos="1609560"/>
                <a:tab algn="l" pos="1878120"/>
                <a:tab algn="l" pos="2146320"/>
                <a:tab algn="l" pos="2414520"/>
                <a:tab algn="l" pos="2682720"/>
                <a:tab algn="l" pos="2951280"/>
                <a:tab algn="l" pos="3219480"/>
                <a:tab algn="l" pos="3487680"/>
                <a:tab algn="l" pos="3755880"/>
                <a:tab algn="l" pos="4024440"/>
                <a:tab algn="l" pos="4292640"/>
                <a:tab algn="l" pos="4560840"/>
                <a:tab algn="l" pos="4829040"/>
                <a:tab algn="l" pos="5097600"/>
                <a:tab algn="l" pos="5365800"/>
              </a:tabLst>
            </a:pPr>
            <a:r>
              <a:rPr b="1" lang="sr-Latn-CS" sz="2400" spc="-1" strike="noStrike">
                <a:solidFill>
                  <a:srgbClr val="000099"/>
                </a:solidFill>
                <a:latin typeface="Arial Narrow"/>
                <a:ea typeface="Arial"/>
              </a:rPr>
              <a:t>U ovom delu šematskog prikaza klase definiše </a:t>
            </a:r>
            <a:endParaRPr b="0" lang="en-US" sz="2400" spc="-1" strike="noStrike">
              <a:solidFill>
                <a:srgbClr val="000000"/>
              </a:solidFill>
              <a:latin typeface="Times New Roman"/>
            </a:endParaRPr>
          </a:p>
          <a:p>
            <a:pPr algn="just">
              <a:lnSpc>
                <a:spcPct val="100000"/>
              </a:lnSpc>
              <a:tabLst>
                <a:tab algn="l" pos="0"/>
                <a:tab algn="l" pos="268200"/>
                <a:tab algn="l" pos="536400"/>
                <a:tab algn="l" pos="804960"/>
                <a:tab algn="l" pos="1073160"/>
                <a:tab algn="l" pos="1341360"/>
                <a:tab algn="l" pos="1609560"/>
                <a:tab algn="l" pos="1878120"/>
                <a:tab algn="l" pos="2146320"/>
                <a:tab algn="l" pos="2414520"/>
                <a:tab algn="l" pos="2682720"/>
                <a:tab algn="l" pos="2951280"/>
                <a:tab algn="l" pos="3219480"/>
                <a:tab algn="l" pos="3487680"/>
                <a:tab algn="l" pos="3755880"/>
                <a:tab algn="l" pos="4024440"/>
                <a:tab algn="l" pos="4292640"/>
                <a:tab algn="l" pos="4560840"/>
                <a:tab algn="l" pos="4829040"/>
                <a:tab algn="l" pos="5097600"/>
                <a:tab algn="l" pos="5365800"/>
              </a:tabLst>
            </a:pPr>
            <a:r>
              <a:rPr b="1" lang="sr-Latn-CS" sz="2400" spc="-1" strike="noStrike">
                <a:solidFill>
                  <a:srgbClr val="000099"/>
                </a:solidFill>
                <a:latin typeface="Arial Narrow"/>
                <a:ea typeface="Arial"/>
              </a:rPr>
              <a:t>se i nadtip date klase, ako postoji.</a:t>
            </a:r>
            <a:endParaRPr b="0" lang="en-US" sz="2400" spc="-1" strike="noStrike">
              <a:solidFill>
                <a:srgbClr val="000000"/>
              </a:solidFill>
              <a:latin typeface="Times New Roman"/>
            </a:endParaRPr>
          </a:p>
          <a:p>
            <a:pPr algn="just">
              <a:lnSpc>
                <a:spcPct val="100000"/>
              </a:lnSpc>
              <a:tabLst>
                <a:tab algn="l" pos="0"/>
                <a:tab algn="l" pos="268200"/>
                <a:tab algn="l" pos="536400"/>
                <a:tab algn="l" pos="804960"/>
                <a:tab algn="l" pos="1073160"/>
                <a:tab algn="l" pos="1341360"/>
                <a:tab algn="l" pos="1609560"/>
                <a:tab algn="l" pos="1878120"/>
                <a:tab algn="l" pos="2146320"/>
                <a:tab algn="l" pos="2414520"/>
                <a:tab algn="l" pos="2682720"/>
                <a:tab algn="l" pos="2951280"/>
                <a:tab algn="l" pos="3219480"/>
                <a:tab algn="l" pos="3487680"/>
                <a:tab algn="l" pos="3755880"/>
                <a:tab algn="l" pos="4024440"/>
                <a:tab algn="l" pos="4292640"/>
                <a:tab algn="l" pos="4560840"/>
                <a:tab algn="l" pos="4829040"/>
                <a:tab algn="l" pos="5097600"/>
                <a:tab algn="l" pos="5365800"/>
              </a:tabLst>
            </a:pPr>
            <a:r>
              <a:rPr b="1" lang="sr-Latn-CS" sz="2400" spc="-1" strike="noStrike">
                <a:solidFill>
                  <a:srgbClr val="000099"/>
                </a:solidFill>
                <a:latin typeface="Arial Narrow"/>
                <a:ea typeface="Arial"/>
              </a:rPr>
              <a:t> </a:t>
            </a:r>
            <a:endParaRPr b="0" lang="en-US" sz="2400" spc="-1" strike="noStrike">
              <a:solidFill>
                <a:srgbClr val="000000"/>
              </a:solidFill>
              <a:latin typeface="Times New Roman"/>
            </a:endParaRPr>
          </a:p>
          <a:p>
            <a:pPr algn="just">
              <a:lnSpc>
                <a:spcPct val="100000"/>
              </a:lnSpc>
              <a:tabLst>
                <a:tab algn="l" pos="0"/>
                <a:tab algn="l" pos="268200"/>
                <a:tab algn="l" pos="536400"/>
                <a:tab algn="l" pos="804960"/>
                <a:tab algn="l" pos="1073160"/>
                <a:tab algn="l" pos="1341360"/>
                <a:tab algn="l" pos="1609560"/>
                <a:tab algn="l" pos="1878120"/>
                <a:tab algn="l" pos="2146320"/>
                <a:tab algn="l" pos="2414520"/>
                <a:tab algn="l" pos="2682720"/>
                <a:tab algn="l" pos="2951280"/>
                <a:tab algn="l" pos="3219480"/>
                <a:tab algn="l" pos="3487680"/>
                <a:tab algn="l" pos="3755880"/>
                <a:tab algn="l" pos="4024440"/>
                <a:tab algn="l" pos="4292640"/>
                <a:tab algn="l" pos="4560840"/>
                <a:tab algn="l" pos="4829040"/>
                <a:tab algn="l" pos="5097600"/>
                <a:tab algn="l" pos="5365800"/>
              </a:tabLst>
            </a:pPr>
            <a:r>
              <a:rPr b="1" lang="sr-Latn-CS" sz="2400" spc="-1" strike="noStrike">
                <a:solidFill>
                  <a:srgbClr val="000099"/>
                </a:solidFill>
                <a:latin typeface="Arial Narrow"/>
                <a:ea typeface="Arial"/>
              </a:rPr>
              <a:t>Specifikaciju atributa čine ključna reč </a:t>
            </a:r>
            <a:endParaRPr b="0" lang="en-US" sz="2400" spc="-1" strike="noStrike">
              <a:solidFill>
                <a:srgbClr val="000000"/>
              </a:solidFill>
              <a:latin typeface="Times New Roman"/>
            </a:endParaRPr>
          </a:p>
          <a:p>
            <a:pPr algn="just">
              <a:lnSpc>
                <a:spcPct val="100000"/>
              </a:lnSpc>
              <a:tabLst>
                <a:tab algn="l" pos="0"/>
                <a:tab algn="l" pos="268200"/>
                <a:tab algn="l" pos="536400"/>
                <a:tab algn="l" pos="804960"/>
                <a:tab algn="l" pos="1073160"/>
                <a:tab algn="l" pos="1341360"/>
                <a:tab algn="l" pos="1609560"/>
                <a:tab algn="l" pos="1878120"/>
                <a:tab algn="l" pos="2146320"/>
                <a:tab algn="l" pos="2414520"/>
                <a:tab algn="l" pos="2682720"/>
                <a:tab algn="l" pos="2951280"/>
                <a:tab algn="l" pos="3219480"/>
                <a:tab algn="l" pos="3487680"/>
                <a:tab algn="l" pos="3755880"/>
                <a:tab algn="l" pos="4024440"/>
                <a:tab algn="l" pos="4292640"/>
                <a:tab algn="l" pos="4560840"/>
                <a:tab algn="l" pos="4829040"/>
                <a:tab algn="l" pos="5097600"/>
                <a:tab algn="l" pos="5365800"/>
              </a:tabLst>
            </a:pPr>
            <a:r>
              <a:rPr b="1" lang="sr-Latn-CS" sz="2400" spc="-1" strike="noStrike" u="sng">
                <a:solidFill>
                  <a:srgbClr val="000099"/>
                </a:solidFill>
                <a:uFillTx/>
                <a:latin typeface="Arial Narrow"/>
                <a:ea typeface="Arial"/>
              </a:rPr>
              <a:t>attribute</a:t>
            </a:r>
            <a:r>
              <a:rPr b="1" lang="sr-Latn-CS" sz="2400" spc="-1" strike="noStrike">
                <a:solidFill>
                  <a:srgbClr val="000099"/>
                </a:solidFill>
                <a:latin typeface="Arial Narrow"/>
                <a:ea typeface="Arial"/>
              </a:rPr>
              <a:t>, tip atributa (short, string, enum, </a:t>
            </a:r>
            <a:endParaRPr b="0" lang="en-US" sz="2400" spc="-1" strike="noStrike">
              <a:solidFill>
                <a:srgbClr val="000000"/>
              </a:solidFill>
              <a:latin typeface="Times New Roman"/>
            </a:endParaRPr>
          </a:p>
          <a:p>
            <a:pPr algn="just">
              <a:lnSpc>
                <a:spcPct val="100000"/>
              </a:lnSpc>
              <a:tabLst>
                <a:tab algn="l" pos="0"/>
                <a:tab algn="l" pos="268200"/>
                <a:tab algn="l" pos="536400"/>
                <a:tab algn="l" pos="804960"/>
                <a:tab algn="l" pos="1073160"/>
                <a:tab algn="l" pos="1341360"/>
                <a:tab algn="l" pos="1609560"/>
                <a:tab algn="l" pos="1878120"/>
                <a:tab algn="l" pos="2146320"/>
                <a:tab algn="l" pos="2414520"/>
                <a:tab algn="l" pos="2682720"/>
                <a:tab algn="l" pos="2951280"/>
                <a:tab algn="l" pos="3219480"/>
                <a:tab algn="l" pos="3487680"/>
                <a:tab algn="l" pos="3755880"/>
                <a:tab algn="l" pos="4024440"/>
                <a:tab algn="l" pos="4292640"/>
                <a:tab algn="l" pos="4560840"/>
                <a:tab algn="l" pos="4829040"/>
                <a:tab algn="l" pos="5097600"/>
                <a:tab algn="l" pos="5365800"/>
              </a:tabLst>
            </a:pPr>
            <a:r>
              <a:rPr b="1" lang="sr-Latn-CS" sz="2400" spc="-1" strike="noStrike">
                <a:solidFill>
                  <a:srgbClr val="000099"/>
                </a:solidFill>
                <a:latin typeface="Arial Narrow"/>
                <a:ea typeface="Arial"/>
              </a:rPr>
              <a:t>date...) i naziv atributa (BrojInd, Ime,...).</a:t>
            </a:r>
            <a:endParaRPr b="0" lang="en-US" sz="2400" spc="-1" strike="noStrike">
              <a:solidFill>
                <a:srgbClr val="000000"/>
              </a:solidFill>
              <a:latin typeface="Times New Roman"/>
            </a:endParaRPr>
          </a:p>
          <a:p>
            <a:pPr algn="just">
              <a:lnSpc>
                <a:spcPct val="100000"/>
              </a:lnSpc>
              <a:tabLst>
                <a:tab algn="l" pos="0"/>
                <a:tab algn="l" pos="268200"/>
                <a:tab algn="l" pos="536400"/>
                <a:tab algn="l" pos="804960"/>
                <a:tab algn="l" pos="1073160"/>
                <a:tab algn="l" pos="1341360"/>
                <a:tab algn="l" pos="1609560"/>
                <a:tab algn="l" pos="1878120"/>
                <a:tab algn="l" pos="2146320"/>
                <a:tab algn="l" pos="2414520"/>
                <a:tab algn="l" pos="2682720"/>
                <a:tab algn="l" pos="2951280"/>
                <a:tab algn="l" pos="3219480"/>
                <a:tab algn="l" pos="3487680"/>
                <a:tab algn="l" pos="3755880"/>
                <a:tab algn="l" pos="4024440"/>
                <a:tab algn="l" pos="4292640"/>
                <a:tab algn="l" pos="4560840"/>
                <a:tab algn="l" pos="4829040"/>
                <a:tab algn="l" pos="5097600"/>
                <a:tab algn="l" pos="5365800"/>
              </a:tabLst>
            </a:pPr>
            <a:r>
              <a:rPr b="1" lang="sr-Latn-CS" sz="2400" spc="-1" strike="noStrike">
                <a:solidFill>
                  <a:srgbClr val="000099"/>
                </a:solidFill>
                <a:latin typeface="Arial Narrow"/>
                <a:ea typeface="Arial"/>
              </a:rPr>
              <a:t> </a:t>
            </a:r>
            <a:endParaRPr b="0" lang="en-US" sz="2400" spc="-1" strike="noStrike">
              <a:solidFill>
                <a:srgbClr val="000000"/>
              </a:solidFill>
              <a:latin typeface="Times New Roman"/>
            </a:endParaRPr>
          </a:p>
          <a:p>
            <a:pPr algn="just">
              <a:lnSpc>
                <a:spcPct val="100000"/>
              </a:lnSpc>
              <a:tabLst>
                <a:tab algn="l" pos="0"/>
                <a:tab algn="l" pos="268200"/>
                <a:tab algn="l" pos="536400"/>
                <a:tab algn="l" pos="804960"/>
                <a:tab algn="l" pos="1073160"/>
                <a:tab algn="l" pos="1341360"/>
                <a:tab algn="l" pos="1609560"/>
                <a:tab algn="l" pos="1878120"/>
                <a:tab algn="l" pos="2146320"/>
                <a:tab algn="l" pos="2414520"/>
                <a:tab algn="l" pos="2682720"/>
                <a:tab algn="l" pos="2951280"/>
                <a:tab algn="l" pos="3219480"/>
                <a:tab algn="l" pos="3487680"/>
                <a:tab algn="l" pos="3755880"/>
                <a:tab algn="l" pos="4024440"/>
                <a:tab algn="l" pos="4292640"/>
                <a:tab algn="l" pos="4560840"/>
                <a:tab algn="l" pos="4829040"/>
                <a:tab algn="l" pos="5097600"/>
                <a:tab algn="l" pos="5365800"/>
              </a:tabLst>
            </a:pPr>
            <a:r>
              <a:rPr b="1" lang="sr-Latn-CS" sz="2400" spc="-1" strike="noStrike">
                <a:solidFill>
                  <a:srgbClr val="000099"/>
                </a:solidFill>
                <a:latin typeface="Arial Narrow"/>
                <a:ea typeface="Arial"/>
              </a:rPr>
              <a:t>Veze se specifikuju preko preslikavanja koja ih čine.</a:t>
            </a:r>
            <a:endParaRPr b="0" lang="en-US" sz="2400" spc="-1" strike="noStrike">
              <a:solidFill>
                <a:srgbClr val="000000"/>
              </a:solidFill>
              <a:latin typeface="Times New Roman"/>
            </a:endParaRPr>
          </a:p>
          <a:p>
            <a:pPr algn="just">
              <a:lnSpc>
                <a:spcPct val="100000"/>
              </a:lnSpc>
              <a:tabLst>
                <a:tab algn="l" pos="0"/>
                <a:tab algn="l" pos="268200"/>
                <a:tab algn="l" pos="536400"/>
                <a:tab algn="l" pos="804960"/>
                <a:tab algn="l" pos="1073160"/>
                <a:tab algn="l" pos="1341360"/>
                <a:tab algn="l" pos="1609560"/>
                <a:tab algn="l" pos="1878120"/>
                <a:tab algn="l" pos="2146320"/>
                <a:tab algn="l" pos="2414520"/>
                <a:tab algn="l" pos="2682720"/>
                <a:tab algn="l" pos="2951280"/>
                <a:tab algn="l" pos="3219480"/>
                <a:tab algn="l" pos="3487680"/>
                <a:tab algn="l" pos="3755880"/>
                <a:tab algn="l" pos="4024440"/>
                <a:tab algn="l" pos="4292640"/>
                <a:tab algn="l" pos="4560840"/>
                <a:tab algn="l" pos="4829040"/>
                <a:tab algn="l" pos="5097600"/>
                <a:tab algn="l" pos="5365800"/>
              </a:tabLst>
            </a:pPr>
            <a:r>
              <a:rPr b="1" lang="en-US" sz="2400" spc="-1" strike="noStrike">
                <a:solidFill>
                  <a:srgbClr val="000099"/>
                </a:solidFill>
                <a:latin typeface="Arial Narrow"/>
              </a:rPr>
              <a:t> </a:t>
            </a:r>
            <a:endParaRPr b="0" lang="en-US" sz="2400" spc="-1" strike="noStrike">
              <a:solidFill>
                <a:srgbClr val="000000"/>
              </a:solidFill>
              <a:latin typeface="Times New Roman"/>
            </a:endParaRPr>
          </a:p>
        </p:txBody>
      </p:sp>
      <p:grpSp>
        <p:nvGrpSpPr>
          <p:cNvPr id="121" name=""/>
          <p:cNvGrpSpPr/>
          <p:nvPr/>
        </p:nvGrpSpPr>
        <p:grpSpPr>
          <a:xfrm>
            <a:off x="0" y="6526080"/>
            <a:ext cx="9143640" cy="327240"/>
            <a:chOff x="0" y="6526080"/>
            <a:chExt cx="9143640" cy="327240"/>
          </a:xfrm>
        </p:grpSpPr>
        <p:sp>
          <p:nvSpPr>
            <p:cNvPr id="122" name=""/>
            <p:cNvSpPr/>
            <p:nvPr/>
          </p:nvSpPr>
          <p:spPr>
            <a:xfrm>
              <a:off x="34560" y="6607080"/>
              <a:ext cx="91090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E63683-4BC3-4596-8900-E45D092C25C1}" type="slidenum">
                <a:rPr b="1" lang="sl-SI" sz="1000" spc="-1" strike="noStrike">
                  <a:solidFill>
                    <a:srgbClr val="000066"/>
                  </a:solidFill>
                  <a:latin typeface="Arial"/>
                </a:rPr>
                <a:t>&lt;number&gt;</a:t>
              </a:fld>
              <a:endParaRPr b="0" lang="en-US" sz="1000" spc="-1" strike="noStrike">
                <a:solidFill>
                  <a:srgbClr val="000000"/>
                </a:solidFill>
                <a:latin typeface="Times New Roman"/>
              </a:endParaRPr>
            </a:p>
          </p:txBody>
        </p:sp>
        <p:sp>
          <p:nvSpPr>
            <p:cNvPr id="123" name=""/>
            <p:cNvSpPr/>
            <p:nvPr/>
          </p:nvSpPr>
          <p:spPr>
            <a:xfrm>
              <a:off x="34560" y="6607080"/>
              <a:ext cx="2432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66"/>
                  </a:solidFill>
                  <a:latin typeface="Arial"/>
                </a:rPr>
                <a:t>      </a:t>
              </a:r>
              <a:r>
                <a:rPr b="1" lang="sr-Latn-CS" sz="1000" spc="-1" strike="noStrike">
                  <a:solidFill>
                    <a:srgbClr val="000066"/>
                  </a:solidFill>
                  <a:latin typeface="Arial"/>
                </a:rPr>
                <a:t>BP-3P</a:t>
              </a:r>
              <a:endParaRPr b="0" lang="en-US" sz="1000" spc="-1" strike="noStrike">
                <a:solidFill>
                  <a:srgbClr val="000000"/>
                </a:solidFill>
                <a:latin typeface="Times New Roman"/>
              </a:endParaRPr>
            </a:p>
          </p:txBody>
        </p:sp>
        <p:graphicFrame>
          <p:nvGraphicFramePr>
            <p:cNvPr id="124" name=""/>
            <p:cNvGraphicFramePr/>
            <p:nvPr/>
          </p:nvGraphicFramePr>
          <p:xfrm>
            <a:off x="0" y="6526080"/>
            <a:ext cx="232200" cy="285840"/>
          </p:xfrm>
          <a:graphic>
            <a:graphicData uri="http://schemas.openxmlformats.org/presentationml/2006/ole">
              <p:oleObj r:id="rId1" spid="">
                <p:embed/>
                <p:pic>
                  <p:nvPicPr>
                    <p:cNvPr id="125" name="" descr=""/>
                    <p:cNvPicPr/>
                    <p:nvPr/>
                  </p:nvPicPr>
                  <p:blipFill>
                    <a:blip r:embed="rId2"/>
                    <a:stretch/>
                  </p:blipFill>
                  <p:spPr>
                    <a:xfrm>
                      <a:off x="0" y="6526080"/>
                      <a:ext cx="232200" cy="285840"/>
                    </a:xfrm>
                    <a:prstGeom prst="rect">
                      <a:avLst/>
                    </a:prstGeom>
                    <a:ln w="0">
                      <a:noFill/>
                    </a:ln>
                  </p:spPr>
                </p:pic>
              </p:oleObj>
            </a:graphicData>
          </a:graphic>
        </p:graphicFrame>
      </p:grpSp>
      <p:sp>
        <p:nvSpPr>
          <p:cNvPr id="126" name=""/>
          <p:cNvSpPr/>
          <p:nvPr/>
        </p:nvSpPr>
        <p:spPr>
          <a:xfrm>
            <a:off x="0" y="0"/>
            <a:ext cx="9144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u="sng">
                <a:solidFill>
                  <a:srgbClr val="000099"/>
                </a:solidFill>
                <a:uFillTx/>
                <a:latin typeface="Arial"/>
              </a:rPr>
              <a:t>BP–Modul1-NJ3-</a:t>
            </a:r>
            <a:r>
              <a:rPr b="1" i="1" lang="sr-Latn-CS" sz="2000" spc="-1" strike="noStrike" u="sng">
                <a:solidFill>
                  <a:srgbClr val="000099"/>
                </a:solidFill>
                <a:uFillTx/>
                <a:latin typeface="Arial"/>
                <a:ea typeface="Times New Roman"/>
              </a:rPr>
              <a:t>Savremeni modeli podataka-MOV, RM, OM</a:t>
            </a:r>
            <a:r>
              <a:rPr b="1" lang="en-US" sz="2000" spc="-1" strike="noStrike" u="sng">
                <a:solidFill>
                  <a:srgbClr val="000099"/>
                </a:solidFill>
                <a:uFillTx/>
                <a:latin typeface="Arial"/>
              </a:rPr>
              <a:t> </a:t>
            </a:r>
            <a:endParaRPr b="0" lang="en-US" sz="2000" spc="-1" strike="noStrike">
              <a:solidFill>
                <a:srgbClr val="000000"/>
              </a:solidFill>
              <a:latin typeface="Times New Roman"/>
            </a:endParaRPr>
          </a:p>
        </p:txBody>
      </p:sp>
      <p:graphicFrame>
        <p:nvGraphicFramePr>
          <p:cNvPr id="127" name=""/>
          <p:cNvGraphicFramePr/>
          <p:nvPr/>
        </p:nvGraphicFramePr>
        <p:xfrm>
          <a:off x="5630760" y="1646280"/>
          <a:ext cx="3513240" cy="4162320"/>
        </p:xfrm>
        <a:graphic>
          <a:graphicData uri="http://schemas.openxmlformats.org/presentationml/2006/ole">
            <p:oleObj r:id="rId3" spid="">
              <p:embed/>
              <p:pic>
                <p:nvPicPr>
                  <p:cNvPr id="128" name="" descr=""/>
                  <p:cNvPicPr/>
                  <p:nvPr/>
                </p:nvPicPr>
                <p:blipFill>
                  <a:blip r:embed="rId4"/>
                  <a:stretch/>
                </p:blipFill>
                <p:spPr>
                  <a:xfrm>
                    <a:off x="5630760" y="1646280"/>
                    <a:ext cx="3513240" cy="4162320"/>
                  </a:xfrm>
                  <a:prstGeom prst="rect">
                    <a:avLst/>
                  </a:prstGeom>
                  <a:ln w="0">
                    <a:noFill/>
                  </a:ln>
                </p:spPr>
              </p:pic>
            </p:oleObj>
          </a:graphicData>
        </a:graphic>
      </p:graphicFrame>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p:nvPr/>
        </p:nvSpPr>
        <p:spPr>
          <a:xfrm>
            <a:off x="0" y="1382760"/>
            <a:ext cx="9074160" cy="4848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268200"/>
                <a:tab algn="l" pos="536400"/>
                <a:tab algn="l" pos="804960"/>
                <a:tab algn="l" pos="1073160"/>
                <a:tab algn="l" pos="1341360"/>
                <a:tab algn="l" pos="1609560"/>
                <a:tab algn="l" pos="1878120"/>
                <a:tab algn="l" pos="2146320"/>
                <a:tab algn="l" pos="2414520"/>
                <a:tab algn="l" pos="2682720"/>
                <a:tab algn="l" pos="2951280"/>
                <a:tab algn="l" pos="3219480"/>
                <a:tab algn="l" pos="3487680"/>
                <a:tab algn="l" pos="3755880"/>
                <a:tab algn="l" pos="4024440"/>
                <a:tab algn="l" pos="4292640"/>
                <a:tab algn="l" pos="4560840"/>
                <a:tab algn="l" pos="4829040"/>
                <a:tab algn="l" pos="5097600"/>
                <a:tab algn="l" pos="5365800"/>
              </a:tabLst>
            </a:pPr>
            <a:r>
              <a:rPr b="1" i="1" lang="sr-Latn-CS" sz="2400" spc="-1" strike="noStrike" u="sng">
                <a:solidFill>
                  <a:srgbClr val="cc3300"/>
                </a:solidFill>
                <a:uFillTx/>
                <a:latin typeface="Arial Narrow"/>
                <a:ea typeface="Arial"/>
              </a:rPr>
              <a:t>Objektni model OM</a:t>
            </a:r>
            <a:r>
              <a:rPr b="1" i="1" lang="en-US" sz="2400" spc="-1" strike="noStrike" u="sng">
                <a:solidFill>
                  <a:srgbClr val="cc3300"/>
                </a:solidFill>
                <a:uFillTx/>
                <a:latin typeface="Arial Narrow"/>
                <a:ea typeface="Arial"/>
              </a:rPr>
              <a:t> </a:t>
            </a:r>
            <a:r>
              <a:rPr b="1" i="1" lang="sr-Latn-CS" sz="2400" spc="-1" strike="noStrike" u="sng">
                <a:solidFill>
                  <a:srgbClr val="cc3300"/>
                </a:solidFill>
                <a:uFillTx/>
                <a:latin typeface="Arial Narrow"/>
              </a:rPr>
              <a:t>-nastavak</a:t>
            </a:r>
            <a:endParaRPr b="0" lang="en-US" sz="2400" spc="-1" strike="noStrike">
              <a:solidFill>
                <a:srgbClr val="000000"/>
              </a:solidFill>
              <a:latin typeface="Times New Roman"/>
            </a:endParaRPr>
          </a:p>
          <a:p>
            <a:pPr algn="just">
              <a:lnSpc>
                <a:spcPct val="100000"/>
              </a:lnSpc>
              <a:tabLst>
                <a:tab algn="l" pos="0"/>
                <a:tab algn="l" pos="268200"/>
                <a:tab algn="l" pos="536400"/>
                <a:tab algn="l" pos="804960"/>
                <a:tab algn="l" pos="1073160"/>
                <a:tab algn="l" pos="1341360"/>
                <a:tab algn="l" pos="1609560"/>
                <a:tab algn="l" pos="1878120"/>
                <a:tab algn="l" pos="2146320"/>
                <a:tab algn="l" pos="2414520"/>
                <a:tab algn="l" pos="2682720"/>
                <a:tab algn="l" pos="2951280"/>
                <a:tab algn="l" pos="3219480"/>
                <a:tab algn="l" pos="3487680"/>
                <a:tab algn="l" pos="3755880"/>
                <a:tab algn="l" pos="4024440"/>
                <a:tab algn="l" pos="4292640"/>
                <a:tab algn="l" pos="4560840"/>
                <a:tab algn="l" pos="4829040"/>
                <a:tab algn="l" pos="5097600"/>
                <a:tab algn="l" pos="5365800"/>
              </a:tabLst>
            </a:pPr>
            <a:r>
              <a:rPr b="1" lang="sr-Latn-CS" sz="2400" spc="-1" strike="noStrike">
                <a:solidFill>
                  <a:srgbClr val="000099"/>
                </a:solidFill>
                <a:latin typeface="Arial"/>
                <a:ea typeface="Arial"/>
              </a:rPr>
              <a:t>Operacije se specifikuju preko tipa</a:t>
            </a:r>
            <a:endParaRPr b="0" lang="en-US" sz="2400" spc="-1" strike="noStrike">
              <a:solidFill>
                <a:srgbClr val="000000"/>
              </a:solidFill>
              <a:latin typeface="Times New Roman"/>
            </a:endParaRPr>
          </a:p>
          <a:p>
            <a:pPr algn="just">
              <a:lnSpc>
                <a:spcPct val="100000"/>
              </a:lnSpc>
              <a:tabLst>
                <a:tab algn="l" pos="0"/>
                <a:tab algn="l" pos="268200"/>
                <a:tab algn="l" pos="536400"/>
                <a:tab algn="l" pos="804960"/>
                <a:tab algn="l" pos="1073160"/>
                <a:tab algn="l" pos="1341360"/>
                <a:tab algn="l" pos="1609560"/>
                <a:tab algn="l" pos="1878120"/>
                <a:tab algn="l" pos="2146320"/>
                <a:tab algn="l" pos="2414520"/>
                <a:tab algn="l" pos="2682720"/>
                <a:tab algn="l" pos="2951280"/>
                <a:tab algn="l" pos="3219480"/>
                <a:tab algn="l" pos="3487680"/>
                <a:tab algn="l" pos="3755880"/>
                <a:tab algn="l" pos="4024440"/>
                <a:tab algn="l" pos="4292640"/>
                <a:tab algn="l" pos="4560840"/>
                <a:tab algn="l" pos="4829040"/>
                <a:tab algn="l" pos="5097600"/>
                <a:tab algn="l" pos="5365800"/>
              </a:tabLst>
            </a:pPr>
            <a:r>
              <a:rPr b="1" lang="sr-Latn-CS" sz="2400" spc="-1" strike="noStrike">
                <a:solidFill>
                  <a:srgbClr val="000099"/>
                </a:solidFill>
                <a:latin typeface="Arial"/>
                <a:ea typeface="Arial"/>
              </a:rPr>
              <a:t>rezultata koje daju i naziva operacije</a:t>
            </a:r>
            <a:endParaRPr b="0" lang="en-US" sz="2400" spc="-1" strike="noStrike">
              <a:solidFill>
                <a:srgbClr val="000000"/>
              </a:solidFill>
              <a:latin typeface="Times New Roman"/>
            </a:endParaRPr>
          </a:p>
          <a:p>
            <a:pPr algn="just">
              <a:lnSpc>
                <a:spcPct val="100000"/>
              </a:lnSpc>
              <a:tabLst>
                <a:tab algn="l" pos="0"/>
                <a:tab algn="l" pos="268200"/>
                <a:tab algn="l" pos="536400"/>
                <a:tab algn="l" pos="804960"/>
                <a:tab algn="l" pos="1073160"/>
                <a:tab algn="l" pos="1341360"/>
                <a:tab algn="l" pos="1609560"/>
                <a:tab algn="l" pos="1878120"/>
                <a:tab algn="l" pos="2146320"/>
                <a:tab algn="l" pos="2414520"/>
                <a:tab algn="l" pos="2682720"/>
                <a:tab algn="l" pos="2951280"/>
                <a:tab algn="l" pos="3219480"/>
                <a:tab algn="l" pos="3487680"/>
                <a:tab algn="l" pos="3755880"/>
                <a:tab algn="l" pos="4024440"/>
                <a:tab algn="l" pos="4292640"/>
                <a:tab algn="l" pos="4560840"/>
                <a:tab algn="l" pos="4829040"/>
                <a:tab algn="l" pos="5097600"/>
                <a:tab algn="l" pos="5365800"/>
              </a:tabLst>
            </a:pPr>
            <a:r>
              <a:rPr b="1" lang="sr-Latn-CS" sz="2400" spc="-1" strike="noStrike">
                <a:solidFill>
                  <a:srgbClr val="000099"/>
                </a:solidFill>
                <a:latin typeface="Arial"/>
                <a:ea typeface="Arial"/>
              </a:rPr>
              <a:t>(na primer </a:t>
            </a:r>
            <a:r>
              <a:rPr b="1" lang="sr-Latn-CS" sz="2400" spc="-1" strike="noStrike">
                <a:solidFill>
                  <a:srgbClr val="cc3300"/>
                </a:solidFill>
                <a:latin typeface="Arial"/>
                <a:ea typeface="Arial"/>
              </a:rPr>
              <a:t>boolean</a:t>
            </a:r>
            <a:r>
              <a:rPr b="1" lang="sr-Latn-CS" sz="2400" spc="-1" strike="noStrike">
                <a:solidFill>
                  <a:srgbClr val="000099"/>
                </a:solidFill>
                <a:latin typeface="Arial"/>
                <a:ea typeface="Arial"/>
              </a:rPr>
              <a:t> izostavljen)  i </a:t>
            </a:r>
            <a:endParaRPr b="0" lang="en-US" sz="2400" spc="-1" strike="noStrike">
              <a:solidFill>
                <a:srgbClr val="000000"/>
              </a:solidFill>
              <a:latin typeface="Times New Roman"/>
            </a:endParaRPr>
          </a:p>
          <a:p>
            <a:pPr algn="just">
              <a:lnSpc>
                <a:spcPct val="100000"/>
              </a:lnSpc>
              <a:tabLst>
                <a:tab algn="l" pos="0"/>
                <a:tab algn="l" pos="268200"/>
                <a:tab algn="l" pos="536400"/>
                <a:tab algn="l" pos="804960"/>
                <a:tab algn="l" pos="1073160"/>
                <a:tab algn="l" pos="1341360"/>
                <a:tab algn="l" pos="1609560"/>
                <a:tab algn="l" pos="1878120"/>
                <a:tab algn="l" pos="2146320"/>
                <a:tab algn="l" pos="2414520"/>
                <a:tab algn="l" pos="2682720"/>
                <a:tab algn="l" pos="2951280"/>
                <a:tab algn="l" pos="3219480"/>
                <a:tab algn="l" pos="3487680"/>
                <a:tab algn="l" pos="3755880"/>
                <a:tab algn="l" pos="4024440"/>
                <a:tab algn="l" pos="4292640"/>
                <a:tab algn="l" pos="4560840"/>
                <a:tab algn="l" pos="4829040"/>
                <a:tab algn="l" pos="5097600"/>
                <a:tab algn="l" pos="5365800"/>
              </a:tabLst>
            </a:pPr>
            <a:r>
              <a:rPr b="1" lang="sr-Latn-CS" sz="2400" spc="-1" strike="noStrike">
                <a:solidFill>
                  <a:srgbClr val="000099"/>
                </a:solidFill>
                <a:latin typeface="Arial"/>
                <a:ea typeface="Arial"/>
              </a:rPr>
              <a:t>argumenata koji mogu biti ulazni (in),</a:t>
            </a:r>
            <a:endParaRPr b="0" lang="en-US" sz="2400" spc="-1" strike="noStrike">
              <a:solidFill>
                <a:srgbClr val="000000"/>
              </a:solidFill>
              <a:latin typeface="Times New Roman"/>
            </a:endParaRPr>
          </a:p>
          <a:p>
            <a:pPr algn="just">
              <a:lnSpc>
                <a:spcPct val="100000"/>
              </a:lnSpc>
              <a:tabLst>
                <a:tab algn="l" pos="0"/>
                <a:tab algn="l" pos="268200"/>
                <a:tab algn="l" pos="536400"/>
                <a:tab algn="l" pos="804960"/>
                <a:tab algn="l" pos="1073160"/>
                <a:tab algn="l" pos="1341360"/>
                <a:tab algn="l" pos="1609560"/>
                <a:tab algn="l" pos="1878120"/>
                <a:tab algn="l" pos="2146320"/>
                <a:tab algn="l" pos="2414520"/>
                <a:tab algn="l" pos="2682720"/>
                <a:tab algn="l" pos="2951280"/>
                <a:tab algn="l" pos="3219480"/>
                <a:tab algn="l" pos="3487680"/>
                <a:tab algn="l" pos="3755880"/>
                <a:tab algn="l" pos="4024440"/>
                <a:tab algn="l" pos="4292640"/>
                <a:tab algn="l" pos="4560840"/>
                <a:tab algn="l" pos="4829040"/>
                <a:tab algn="l" pos="5097600"/>
                <a:tab algn="l" pos="5365800"/>
              </a:tabLst>
            </a:pPr>
            <a:r>
              <a:rPr b="1" lang="sr-Latn-CS" sz="2400" spc="-1" strike="noStrike">
                <a:solidFill>
                  <a:srgbClr val="000099"/>
                </a:solidFill>
                <a:latin typeface="Arial"/>
                <a:ea typeface="Arial"/>
              </a:rPr>
              <a:t>izlazni (out) ili ulazno-izlazni (inout) </a:t>
            </a:r>
            <a:endParaRPr b="0" lang="en-US" sz="2400" spc="-1" strike="noStrike">
              <a:solidFill>
                <a:srgbClr val="000000"/>
              </a:solidFill>
              <a:latin typeface="Times New Roman"/>
            </a:endParaRPr>
          </a:p>
          <a:p>
            <a:pPr algn="just">
              <a:lnSpc>
                <a:spcPct val="100000"/>
              </a:lnSpc>
              <a:tabLst>
                <a:tab algn="l" pos="0"/>
                <a:tab algn="l" pos="268200"/>
                <a:tab algn="l" pos="536400"/>
                <a:tab algn="l" pos="804960"/>
                <a:tab algn="l" pos="1073160"/>
                <a:tab algn="l" pos="1341360"/>
                <a:tab algn="l" pos="1609560"/>
                <a:tab algn="l" pos="1878120"/>
                <a:tab algn="l" pos="2146320"/>
                <a:tab algn="l" pos="2414520"/>
                <a:tab algn="l" pos="2682720"/>
                <a:tab algn="l" pos="2951280"/>
                <a:tab algn="l" pos="3219480"/>
                <a:tab algn="l" pos="3487680"/>
                <a:tab algn="l" pos="3755880"/>
                <a:tab algn="l" pos="4024440"/>
                <a:tab algn="l" pos="4292640"/>
                <a:tab algn="l" pos="4560840"/>
                <a:tab algn="l" pos="4829040"/>
                <a:tab algn="l" pos="5097600"/>
                <a:tab algn="l" pos="5365800"/>
              </a:tabLst>
            </a:pPr>
            <a:r>
              <a:rPr b="1" lang="sr-Latn-CS" sz="2400" spc="-1" strike="noStrike">
                <a:solidFill>
                  <a:srgbClr val="000099"/>
                </a:solidFill>
                <a:latin typeface="Arial"/>
                <a:ea typeface="Arial"/>
              </a:rPr>
              <a:t>i za koje se zadaje tip i naziv </a:t>
            </a:r>
            <a:endParaRPr b="0" lang="en-US" sz="2400" spc="-1" strike="noStrike">
              <a:solidFill>
                <a:srgbClr val="000000"/>
              </a:solidFill>
              <a:latin typeface="Times New Roman"/>
            </a:endParaRPr>
          </a:p>
          <a:p>
            <a:pPr algn="just">
              <a:lnSpc>
                <a:spcPct val="100000"/>
              </a:lnSpc>
              <a:tabLst>
                <a:tab algn="l" pos="0"/>
                <a:tab algn="l" pos="268200"/>
                <a:tab algn="l" pos="536400"/>
                <a:tab algn="l" pos="804960"/>
                <a:tab algn="l" pos="1073160"/>
                <a:tab algn="l" pos="1341360"/>
                <a:tab algn="l" pos="1609560"/>
                <a:tab algn="l" pos="1878120"/>
                <a:tab algn="l" pos="2146320"/>
                <a:tab algn="l" pos="2414520"/>
                <a:tab algn="l" pos="2682720"/>
                <a:tab algn="l" pos="2951280"/>
                <a:tab algn="l" pos="3219480"/>
                <a:tab algn="l" pos="3487680"/>
                <a:tab algn="l" pos="3755880"/>
                <a:tab algn="l" pos="4024440"/>
                <a:tab algn="l" pos="4292640"/>
                <a:tab algn="l" pos="4560840"/>
                <a:tab algn="l" pos="4829040"/>
                <a:tab algn="l" pos="5097600"/>
                <a:tab algn="l" pos="5365800"/>
              </a:tabLst>
            </a:pPr>
            <a:r>
              <a:rPr b="1" lang="sr-Latn-CS" sz="2400" spc="-1" strike="noStrike">
                <a:solidFill>
                  <a:srgbClr val="000099"/>
                </a:solidFill>
                <a:latin typeface="Arial"/>
                <a:ea typeface="Arial"/>
              </a:rPr>
              <a:t>(in short ŠifPred).  Pored toga, uz </a:t>
            </a:r>
            <a:endParaRPr b="0" lang="en-US" sz="2400" spc="-1" strike="noStrike">
              <a:solidFill>
                <a:srgbClr val="000000"/>
              </a:solidFill>
              <a:latin typeface="Times New Roman"/>
            </a:endParaRPr>
          </a:p>
          <a:p>
            <a:pPr algn="just">
              <a:lnSpc>
                <a:spcPct val="100000"/>
              </a:lnSpc>
              <a:tabLst>
                <a:tab algn="l" pos="0"/>
                <a:tab algn="l" pos="268200"/>
                <a:tab algn="l" pos="536400"/>
                <a:tab algn="l" pos="804960"/>
                <a:tab algn="l" pos="1073160"/>
                <a:tab algn="l" pos="1341360"/>
                <a:tab algn="l" pos="1609560"/>
                <a:tab algn="l" pos="1878120"/>
                <a:tab algn="l" pos="2146320"/>
                <a:tab algn="l" pos="2414520"/>
                <a:tab algn="l" pos="2682720"/>
                <a:tab algn="l" pos="2951280"/>
                <a:tab algn="l" pos="3219480"/>
                <a:tab algn="l" pos="3487680"/>
                <a:tab algn="l" pos="3755880"/>
                <a:tab algn="l" pos="4024440"/>
                <a:tab algn="l" pos="4292640"/>
                <a:tab algn="l" pos="4560840"/>
                <a:tab algn="l" pos="4829040"/>
                <a:tab algn="l" pos="5097600"/>
                <a:tab algn="l" pos="5365800"/>
              </a:tabLst>
            </a:pPr>
            <a:r>
              <a:rPr b="1" lang="sr-Latn-CS" sz="2400" spc="-1" strike="noStrike">
                <a:solidFill>
                  <a:srgbClr val="000099"/>
                </a:solidFill>
                <a:latin typeface="Arial"/>
                <a:ea typeface="Arial"/>
              </a:rPr>
              <a:t>operaciju se (preko ključne reči  </a:t>
            </a:r>
            <a:endParaRPr b="0" lang="en-US" sz="2400" spc="-1" strike="noStrike">
              <a:solidFill>
                <a:srgbClr val="000000"/>
              </a:solidFill>
              <a:latin typeface="Times New Roman"/>
            </a:endParaRPr>
          </a:p>
          <a:p>
            <a:pPr algn="just">
              <a:lnSpc>
                <a:spcPct val="100000"/>
              </a:lnSpc>
              <a:tabLst>
                <a:tab algn="l" pos="0"/>
                <a:tab algn="l" pos="268200"/>
                <a:tab algn="l" pos="536400"/>
                <a:tab algn="l" pos="804960"/>
                <a:tab algn="l" pos="1073160"/>
                <a:tab algn="l" pos="1341360"/>
                <a:tab algn="l" pos="1609560"/>
                <a:tab algn="l" pos="1878120"/>
                <a:tab algn="l" pos="2146320"/>
                <a:tab algn="l" pos="2414520"/>
                <a:tab algn="l" pos="2682720"/>
                <a:tab algn="l" pos="2951280"/>
                <a:tab algn="l" pos="3219480"/>
                <a:tab algn="l" pos="3487680"/>
                <a:tab algn="l" pos="3755880"/>
                <a:tab algn="l" pos="4024440"/>
                <a:tab algn="l" pos="4292640"/>
                <a:tab algn="l" pos="4560840"/>
                <a:tab algn="l" pos="4829040"/>
                <a:tab algn="l" pos="5097600"/>
                <a:tab algn="l" pos="5365800"/>
              </a:tabLst>
            </a:pPr>
            <a:r>
              <a:rPr b="1" lang="sr-Latn-CS" sz="2400" spc="-1" strike="noStrike">
                <a:solidFill>
                  <a:srgbClr val="cc3300"/>
                </a:solidFill>
                <a:latin typeface="Arial"/>
                <a:ea typeface="Arial"/>
              </a:rPr>
              <a:t>raises</a:t>
            </a:r>
            <a:r>
              <a:rPr b="1" lang="sr-Latn-CS" sz="2400" spc="-1" strike="noStrike">
                <a:solidFill>
                  <a:srgbClr val="000099"/>
                </a:solidFill>
                <a:latin typeface="Arial"/>
                <a:ea typeface="Arial"/>
              </a:rPr>
              <a:t>) mogu zadati i “izuzeci” </a:t>
            </a:r>
            <a:endParaRPr b="0" lang="en-US" sz="2400" spc="-1" strike="noStrike">
              <a:solidFill>
                <a:srgbClr val="000000"/>
              </a:solidFill>
              <a:latin typeface="Times New Roman"/>
            </a:endParaRPr>
          </a:p>
          <a:p>
            <a:pPr algn="just">
              <a:lnSpc>
                <a:spcPct val="100000"/>
              </a:lnSpc>
              <a:tabLst>
                <a:tab algn="l" pos="0"/>
                <a:tab algn="l" pos="268200"/>
                <a:tab algn="l" pos="536400"/>
                <a:tab algn="l" pos="804960"/>
                <a:tab algn="l" pos="1073160"/>
                <a:tab algn="l" pos="1341360"/>
                <a:tab algn="l" pos="1609560"/>
                <a:tab algn="l" pos="1878120"/>
                <a:tab algn="l" pos="2146320"/>
                <a:tab algn="l" pos="2414520"/>
                <a:tab algn="l" pos="2682720"/>
                <a:tab algn="l" pos="2951280"/>
                <a:tab algn="l" pos="3219480"/>
                <a:tab algn="l" pos="3487680"/>
                <a:tab algn="l" pos="3755880"/>
                <a:tab algn="l" pos="4024440"/>
                <a:tab algn="l" pos="4292640"/>
                <a:tab algn="l" pos="4560840"/>
                <a:tab algn="l" pos="4829040"/>
                <a:tab algn="l" pos="5097600"/>
                <a:tab algn="l" pos="5365800"/>
              </a:tabLst>
            </a:pPr>
            <a:r>
              <a:rPr b="1" lang="sr-Latn-CS" sz="2400" spc="-1" strike="noStrike">
                <a:solidFill>
                  <a:srgbClr val="000099"/>
                </a:solidFill>
                <a:latin typeface="Arial"/>
                <a:ea typeface="Arial"/>
              </a:rPr>
              <a:t>koji se okidaju kada u izvršenju </a:t>
            </a:r>
            <a:endParaRPr b="0" lang="en-US" sz="2400" spc="-1" strike="noStrike">
              <a:solidFill>
                <a:srgbClr val="000000"/>
              </a:solidFill>
              <a:latin typeface="Times New Roman"/>
            </a:endParaRPr>
          </a:p>
          <a:p>
            <a:pPr algn="just">
              <a:lnSpc>
                <a:spcPct val="100000"/>
              </a:lnSpc>
              <a:tabLst>
                <a:tab algn="l" pos="0"/>
                <a:tab algn="l" pos="268200"/>
                <a:tab algn="l" pos="536400"/>
                <a:tab algn="l" pos="804960"/>
                <a:tab algn="l" pos="1073160"/>
                <a:tab algn="l" pos="1341360"/>
                <a:tab algn="l" pos="1609560"/>
                <a:tab algn="l" pos="1878120"/>
                <a:tab algn="l" pos="2146320"/>
                <a:tab algn="l" pos="2414520"/>
                <a:tab algn="l" pos="2682720"/>
                <a:tab algn="l" pos="2951280"/>
                <a:tab algn="l" pos="3219480"/>
                <a:tab algn="l" pos="3487680"/>
                <a:tab algn="l" pos="3755880"/>
                <a:tab algn="l" pos="4024440"/>
                <a:tab algn="l" pos="4292640"/>
                <a:tab algn="l" pos="4560840"/>
                <a:tab algn="l" pos="4829040"/>
                <a:tab algn="l" pos="5097600"/>
                <a:tab algn="l" pos="5365800"/>
              </a:tabLst>
            </a:pPr>
            <a:r>
              <a:rPr b="1" lang="sr-Latn-CS" sz="2400" spc="-1" strike="noStrike">
                <a:solidFill>
                  <a:srgbClr val="000099"/>
                </a:solidFill>
                <a:latin typeface="Arial"/>
                <a:ea typeface="Arial"/>
              </a:rPr>
              <a:t>operacije dođe do neke greške.</a:t>
            </a:r>
            <a:endParaRPr b="0" lang="en-US" sz="2400" spc="-1" strike="noStrike">
              <a:solidFill>
                <a:srgbClr val="000000"/>
              </a:solidFill>
              <a:latin typeface="Times New Roman"/>
            </a:endParaRPr>
          </a:p>
          <a:p>
            <a:pPr algn="just">
              <a:lnSpc>
                <a:spcPct val="100000"/>
              </a:lnSpc>
              <a:tabLst>
                <a:tab algn="l" pos="0"/>
                <a:tab algn="l" pos="268200"/>
                <a:tab algn="l" pos="536400"/>
                <a:tab algn="l" pos="804960"/>
                <a:tab algn="l" pos="1073160"/>
                <a:tab algn="l" pos="1341360"/>
                <a:tab algn="l" pos="1609560"/>
                <a:tab algn="l" pos="1878120"/>
                <a:tab algn="l" pos="2146320"/>
                <a:tab algn="l" pos="2414520"/>
                <a:tab algn="l" pos="2682720"/>
                <a:tab algn="l" pos="2951280"/>
                <a:tab algn="l" pos="3219480"/>
                <a:tab algn="l" pos="3487680"/>
                <a:tab algn="l" pos="3755880"/>
                <a:tab algn="l" pos="4024440"/>
                <a:tab algn="l" pos="4292640"/>
                <a:tab algn="l" pos="4560840"/>
                <a:tab algn="l" pos="4829040"/>
                <a:tab algn="l" pos="5097600"/>
                <a:tab algn="l" pos="5365800"/>
              </a:tabLst>
            </a:pPr>
            <a:r>
              <a:rPr b="1" i="1" lang="sr-Latn-CS" sz="2400" spc="-1" strike="noStrike">
                <a:solidFill>
                  <a:srgbClr val="000099"/>
                </a:solidFill>
                <a:latin typeface="Arial"/>
                <a:ea typeface="Arial"/>
              </a:rPr>
              <a:t> </a:t>
            </a:r>
            <a:endParaRPr b="0" lang="en-US" sz="2400" spc="-1" strike="noStrike">
              <a:solidFill>
                <a:srgbClr val="000000"/>
              </a:solidFill>
              <a:latin typeface="Times New Roman"/>
            </a:endParaRPr>
          </a:p>
        </p:txBody>
      </p:sp>
      <p:grpSp>
        <p:nvGrpSpPr>
          <p:cNvPr id="130" name=""/>
          <p:cNvGrpSpPr/>
          <p:nvPr/>
        </p:nvGrpSpPr>
        <p:grpSpPr>
          <a:xfrm>
            <a:off x="0" y="6526080"/>
            <a:ext cx="9143640" cy="327240"/>
            <a:chOff x="0" y="6526080"/>
            <a:chExt cx="9143640" cy="327240"/>
          </a:xfrm>
        </p:grpSpPr>
        <p:sp>
          <p:nvSpPr>
            <p:cNvPr id="131" name=""/>
            <p:cNvSpPr/>
            <p:nvPr/>
          </p:nvSpPr>
          <p:spPr>
            <a:xfrm>
              <a:off x="34560" y="6607080"/>
              <a:ext cx="91090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ABB706-12EF-4498-8A50-8109DB96F6A2}" type="slidenum">
                <a:rPr b="1" lang="sl-SI" sz="1000" spc="-1" strike="noStrike">
                  <a:solidFill>
                    <a:srgbClr val="000066"/>
                  </a:solidFill>
                  <a:latin typeface="Arial"/>
                </a:rPr>
                <a:t>&lt;number&gt;</a:t>
              </a:fld>
              <a:endParaRPr b="0" lang="en-US" sz="1000" spc="-1" strike="noStrike">
                <a:solidFill>
                  <a:srgbClr val="000000"/>
                </a:solidFill>
                <a:latin typeface="Times New Roman"/>
              </a:endParaRPr>
            </a:p>
          </p:txBody>
        </p:sp>
        <p:sp>
          <p:nvSpPr>
            <p:cNvPr id="132" name=""/>
            <p:cNvSpPr/>
            <p:nvPr/>
          </p:nvSpPr>
          <p:spPr>
            <a:xfrm>
              <a:off x="34560" y="6607080"/>
              <a:ext cx="2432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66"/>
                  </a:solidFill>
                  <a:latin typeface="Arial"/>
                </a:rPr>
                <a:t>      </a:t>
              </a:r>
              <a:r>
                <a:rPr b="1" lang="sr-Latn-CS" sz="1000" spc="-1" strike="noStrike">
                  <a:solidFill>
                    <a:srgbClr val="000066"/>
                  </a:solidFill>
                  <a:latin typeface="Arial"/>
                </a:rPr>
                <a:t>BP-3P</a:t>
              </a:r>
              <a:endParaRPr b="0" lang="en-US" sz="1000" spc="-1" strike="noStrike">
                <a:solidFill>
                  <a:srgbClr val="000000"/>
                </a:solidFill>
                <a:latin typeface="Times New Roman"/>
              </a:endParaRPr>
            </a:p>
          </p:txBody>
        </p:sp>
        <p:graphicFrame>
          <p:nvGraphicFramePr>
            <p:cNvPr id="133" name=""/>
            <p:cNvGraphicFramePr/>
            <p:nvPr/>
          </p:nvGraphicFramePr>
          <p:xfrm>
            <a:off x="0" y="6526080"/>
            <a:ext cx="232200" cy="285840"/>
          </p:xfrm>
          <a:graphic>
            <a:graphicData uri="http://schemas.openxmlformats.org/presentationml/2006/ole">
              <p:oleObj r:id="rId1" spid="">
                <p:embed/>
                <p:pic>
                  <p:nvPicPr>
                    <p:cNvPr id="134" name="" descr=""/>
                    <p:cNvPicPr/>
                    <p:nvPr/>
                  </p:nvPicPr>
                  <p:blipFill>
                    <a:blip r:embed="rId2"/>
                    <a:stretch/>
                  </p:blipFill>
                  <p:spPr>
                    <a:xfrm>
                      <a:off x="0" y="6526080"/>
                      <a:ext cx="232200" cy="285840"/>
                    </a:xfrm>
                    <a:prstGeom prst="rect">
                      <a:avLst/>
                    </a:prstGeom>
                    <a:ln w="0">
                      <a:noFill/>
                    </a:ln>
                  </p:spPr>
                </p:pic>
              </p:oleObj>
            </a:graphicData>
          </a:graphic>
        </p:graphicFrame>
      </p:grpSp>
      <p:sp>
        <p:nvSpPr>
          <p:cNvPr id="135" name=""/>
          <p:cNvSpPr/>
          <p:nvPr/>
        </p:nvSpPr>
        <p:spPr>
          <a:xfrm>
            <a:off x="0" y="0"/>
            <a:ext cx="9144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u="sng">
                <a:solidFill>
                  <a:srgbClr val="000099"/>
                </a:solidFill>
                <a:uFillTx/>
                <a:latin typeface="Arial"/>
              </a:rPr>
              <a:t>BP–Modul1-NJ3-</a:t>
            </a:r>
            <a:r>
              <a:rPr b="1" i="1" lang="sr-Latn-CS" sz="2000" spc="-1" strike="noStrike" u="sng">
                <a:solidFill>
                  <a:srgbClr val="000099"/>
                </a:solidFill>
                <a:uFillTx/>
                <a:latin typeface="Arial"/>
                <a:ea typeface="Times New Roman"/>
              </a:rPr>
              <a:t>Savremeni modeli podataka-MOV, RM, OM</a:t>
            </a:r>
            <a:r>
              <a:rPr b="1" lang="en-US" sz="2000" spc="-1" strike="noStrike" u="sng">
                <a:solidFill>
                  <a:srgbClr val="000099"/>
                </a:solidFill>
                <a:uFillTx/>
                <a:latin typeface="Arial"/>
              </a:rPr>
              <a:t> </a:t>
            </a:r>
            <a:endParaRPr b="0" lang="en-US" sz="2000" spc="-1" strike="noStrike">
              <a:solidFill>
                <a:srgbClr val="000000"/>
              </a:solidFill>
              <a:latin typeface="Times New Roman"/>
            </a:endParaRPr>
          </a:p>
        </p:txBody>
      </p:sp>
      <p:graphicFrame>
        <p:nvGraphicFramePr>
          <p:cNvPr id="136" name=""/>
          <p:cNvGraphicFramePr/>
          <p:nvPr/>
        </p:nvGraphicFramePr>
        <p:xfrm>
          <a:off x="5560920" y="1693800"/>
          <a:ext cx="3513240" cy="4162320"/>
        </p:xfrm>
        <a:graphic>
          <a:graphicData uri="http://schemas.openxmlformats.org/presentationml/2006/ole">
            <p:oleObj r:id="rId3" spid="">
              <p:embed/>
              <p:pic>
                <p:nvPicPr>
                  <p:cNvPr id="137" name="" descr=""/>
                  <p:cNvPicPr/>
                  <p:nvPr/>
                </p:nvPicPr>
                <p:blipFill>
                  <a:blip r:embed="rId4"/>
                  <a:stretch/>
                </p:blipFill>
                <p:spPr>
                  <a:xfrm>
                    <a:off x="5560920" y="1693800"/>
                    <a:ext cx="3513240" cy="4162320"/>
                  </a:xfrm>
                  <a:prstGeom prst="rect">
                    <a:avLst/>
                  </a:prstGeom>
                  <a:ln w="0">
                    <a:noFill/>
                  </a:ln>
                </p:spPr>
              </p:pic>
            </p:oleObj>
          </a:graphicData>
        </a:graphic>
      </p:graphicFrame>
    </p:spTree>
  </p:cSld>
  <p:transition>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p:nvPr/>
        </p:nvSpPr>
        <p:spPr>
          <a:xfrm>
            <a:off x="69840" y="396720"/>
            <a:ext cx="9074160" cy="6189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268200"/>
                <a:tab algn="l" pos="536400"/>
                <a:tab algn="l" pos="804960"/>
                <a:tab algn="l" pos="1073160"/>
                <a:tab algn="l" pos="1341360"/>
                <a:tab algn="l" pos="1609560"/>
                <a:tab algn="l" pos="1878120"/>
                <a:tab algn="l" pos="2146320"/>
                <a:tab algn="l" pos="2414520"/>
                <a:tab algn="l" pos="2682720"/>
                <a:tab algn="l" pos="2951280"/>
                <a:tab algn="l" pos="3219480"/>
                <a:tab algn="l" pos="3487680"/>
                <a:tab algn="l" pos="3755880"/>
                <a:tab algn="l" pos="4024440"/>
                <a:tab algn="l" pos="4292640"/>
                <a:tab algn="l" pos="4560840"/>
                <a:tab algn="l" pos="4829040"/>
                <a:tab algn="l" pos="5097600"/>
                <a:tab algn="l" pos="5365800"/>
              </a:tabLst>
            </a:pPr>
            <a:r>
              <a:rPr b="1" i="1" lang="sr-Latn-CS" sz="2400" spc="-1" strike="noStrike" u="sng">
                <a:solidFill>
                  <a:srgbClr val="cc3300"/>
                </a:solidFill>
                <a:uFillTx/>
                <a:latin typeface="Arial Narrow"/>
              </a:rPr>
              <a:t>Da zaključimo</a:t>
            </a:r>
            <a:endParaRPr b="0" lang="en-US" sz="2400" spc="-1" strike="noStrike">
              <a:solidFill>
                <a:srgbClr val="000000"/>
              </a:solidFill>
              <a:latin typeface="Times New Roman"/>
            </a:endParaRPr>
          </a:p>
          <a:p>
            <a:pPr algn="just">
              <a:lnSpc>
                <a:spcPct val="100000"/>
              </a:lnSpc>
              <a:tabLst>
                <a:tab algn="l" pos="0"/>
                <a:tab algn="l" pos="268200"/>
                <a:tab algn="l" pos="536400"/>
                <a:tab algn="l" pos="804960"/>
                <a:tab algn="l" pos="1073160"/>
                <a:tab algn="l" pos="1341360"/>
                <a:tab algn="l" pos="1609560"/>
                <a:tab algn="l" pos="1878120"/>
                <a:tab algn="l" pos="2146320"/>
                <a:tab algn="l" pos="2414520"/>
                <a:tab algn="l" pos="2682720"/>
                <a:tab algn="l" pos="2951280"/>
                <a:tab algn="l" pos="3219480"/>
                <a:tab algn="l" pos="3487680"/>
                <a:tab algn="l" pos="3755880"/>
                <a:tab algn="l" pos="4024440"/>
                <a:tab algn="l" pos="4292640"/>
                <a:tab algn="l" pos="4560840"/>
                <a:tab algn="l" pos="4829040"/>
                <a:tab algn="l" pos="5097600"/>
                <a:tab algn="l" pos="5365800"/>
              </a:tabLst>
            </a:pPr>
            <a:r>
              <a:rPr b="1" lang="sr-Latn-CS" sz="2400" spc="-1" strike="noStrike">
                <a:solidFill>
                  <a:srgbClr val="cc3300"/>
                </a:solidFill>
                <a:latin typeface="Arial Narrow"/>
                <a:ea typeface="Arial"/>
              </a:rPr>
              <a:t>Model objekti-veze</a:t>
            </a:r>
            <a:r>
              <a:rPr b="1" lang="sr-Latn-CS" sz="2400" spc="-1" strike="noStrike">
                <a:solidFill>
                  <a:srgbClr val="000099"/>
                </a:solidFill>
                <a:latin typeface="Arial Narrow"/>
                <a:ea typeface="Arial"/>
              </a:rPr>
              <a:t> je semantički bogat model, prvenstveno namenjen za specifikovanje statičke strukture baze podataka i osnovnih (strukturnih) dinamičkih ograničenja. Za njega nepostoje komercijalno raspoloživi SUBP.  Koristi se za projektovanje baze podataka.</a:t>
            </a:r>
            <a:endParaRPr b="0" lang="en-US" sz="2400" spc="-1" strike="noStrike">
              <a:solidFill>
                <a:srgbClr val="000000"/>
              </a:solidFill>
              <a:latin typeface="Times New Roman"/>
            </a:endParaRPr>
          </a:p>
          <a:p>
            <a:pPr algn="just">
              <a:lnSpc>
                <a:spcPct val="100000"/>
              </a:lnSpc>
              <a:tabLst>
                <a:tab algn="l" pos="0"/>
                <a:tab algn="l" pos="268200"/>
                <a:tab algn="l" pos="536400"/>
                <a:tab algn="l" pos="804960"/>
                <a:tab algn="l" pos="1073160"/>
                <a:tab algn="l" pos="1341360"/>
                <a:tab algn="l" pos="1609560"/>
                <a:tab algn="l" pos="1878120"/>
                <a:tab algn="l" pos="2146320"/>
                <a:tab algn="l" pos="2414520"/>
                <a:tab algn="l" pos="2682720"/>
                <a:tab algn="l" pos="2951280"/>
                <a:tab algn="l" pos="3219480"/>
                <a:tab algn="l" pos="3487680"/>
                <a:tab algn="l" pos="3755880"/>
                <a:tab algn="l" pos="4024440"/>
                <a:tab algn="l" pos="4292640"/>
                <a:tab algn="l" pos="4560840"/>
                <a:tab algn="l" pos="4829040"/>
                <a:tab algn="l" pos="5097600"/>
                <a:tab algn="l" pos="5365800"/>
              </a:tabLst>
            </a:pPr>
            <a:r>
              <a:rPr b="1" lang="sr-Latn-CS" sz="800" spc="-1" strike="noStrike">
                <a:solidFill>
                  <a:srgbClr val="000099"/>
                </a:solidFill>
                <a:latin typeface="Arial Narrow"/>
                <a:ea typeface="Arial"/>
              </a:rPr>
              <a:t> </a:t>
            </a:r>
            <a:endParaRPr b="0" lang="en-US" sz="800" spc="-1" strike="noStrike">
              <a:solidFill>
                <a:srgbClr val="000000"/>
              </a:solidFill>
              <a:latin typeface="Times New Roman"/>
            </a:endParaRPr>
          </a:p>
          <a:p>
            <a:pPr algn="just">
              <a:lnSpc>
                <a:spcPct val="100000"/>
              </a:lnSpc>
              <a:tabLst>
                <a:tab algn="l" pos="0"/>
                <a:tab algn="l" pos="268200"/>
                <a:tab algn="l" pos="536400"/>
                <a:tab algn="l" pos="804960"/>
                <a:tab algn="l" pos="1073160"/>
                <a:tab algn="l" pos="1341360"/>
                <a:tab algn="l" pos="1609560"/>
                <a:tab algn="l" pos="1878120"/>
                <a:tab algn="l" pos="2146320"/>
                <a:tab algn="l" pos="2414520"/>
                <a:tab algn="l" pos="2682720"/>
                <a:tab algn="l" pos="2951280"/>
                <a:tab algn="l" pos="3219480"/>
                <a:tab algn="l" pos="3487680"/>
                <a:tab algn="l" pos="3755880"/>
                <a:tab algn="l" pos="4024440"/>
                <a:tab algn="l" pos="4292640"/>
                <a:tab algn="l" pos="4560840"/>
                <a:tab algn="l" pos="4829040"/>
                <a:tab algn="l" pos="5097600"/>
                <a:tab algn="l" pos="5365800"/>
              </a:tabLst>
            </a:pPr>
            <a:r>
              <a:rPr b="1" lang="sr-Latn-CS" sz="2400" spc="-1" strike="noStrike">
                <a:solidFill>
                  <a:srgbClr val="cc3300"/>
                </a:solidFill>
                <a:latin typeface="Arial Narrow"/>
                <a:ea typeface="Arial"/>
              </a:rPr>
              <a:t>Relacioni model</a:t>
            </a:r>
            <a:r>
              <a:rPr b="1" lang="sr-Latn-CS" sz="2400" spc="-1" strike="noStrike">
                <a:solidFill>
                  <a:srgbClr val="000099"/>
                </a:solidFill>
                <a:latin typeface="Arial Narrow"/>
                <a:ea typeface="Arial"/>
              </a:rPr>
              <a:t> je, zbog svoje strukture i jednostavnog jezika BP (SQL), još uvek najpopularniji model podataka. Jednostavna struktura modela i jednostavne operacije nad njom pogodni su samo za sisteme sa jednostavnim objektima. Na relacionom modelu je zasnovan najveći broj komercijalnih sistema.</a:t>
            </a:r>
            <a:endParaRPr b="0" lang="en-US" sz="2400" spc="-1" strike="noStrike">
              <a:solidFill>
                <a:srgbClr val="000000"/>
              </a:solidFill>
              <a:latin typeface="Times New Roman"/>
            </a:endParaRPr>
          </a:p>
          <a:p>
            <a:pPr algn="just">
              <a:lnSpc>
                <a:spcPct val="100000"/>
              </a:lnSpc>
              <a:tabLst>
                <a:tab algn="l" pos="0"/>
                <a:tab algn="l" pos="268200"/>
                <a:tab algn="l" pos="536400"/>
                <a:tab algn="l" pos="804960"/>
                <a:tab algn="l" pos="1073160"/>
                <a:tab algn="l" pos="1341360"/>
                <a:tab algn="l" pos="1609560"/>
                <a:tab algn="l" pos="1878120"/>
                <a:tab algn="l" pos="2146320"/>
                <a:tab algn="l" pos="2414520"/>
                <a:tab algn="l" pos="2682720"/>
                <a:tab algn="l" pos="2951280"/>
                <a:tab algn="l" pos="3219480"/>
                <a:tab algn="l" pos="3487680"/>
                <a:tab algn="l" pos="3755880"/>
                <a:tab algn="l" pos="4024440"/>
                <a:tab algn="l" pos="4292640"/>
                <a:tab algn="l" pos="4560840"/>
                <a:tab algn="l" pos="4829040"/>
                <a:tab algn="l" pos="5097600"/>
                <a:tab algn="l" pos="5365800"/>
              </a:tabLst>
            </a:pPr>
            <a:r>
              <a:rPr b="1" lang="sr-Latn-CS" sz="800" spc="-1" strike="noStrike">
                <a:solidFill>
                  <a:srgbClr val="000099"/>
                </a:solidFill>
                <a:latin typeface="Arial Narrow"/>
                <a:ea typeface="Arial"/>
              </a:rPr>
              <a:t> </a:t>
            </a:r>
            <a:endParaRPr b="0" lang="en-US" sz="800" spc="-1" strike="noStrike">
              <a:solidFill>
                <a:srgbClr val="000000"/>
              </a:solidFill>
              <a:latin typeface="Times New Roman"/>
            </a:endParaRPr>
          </a:p>
          <a:p>
            <a:pPr algn="just">
              <a:lnSpc>
                <a:spcPct val="100000"/>
              </a:lnSpc>
              <a:tabLst>
                <a:tab algn="l" pos="0"/>
                <a:tab algn="l" pos="268200"/>
                <a:tab algn="l" pos="536400"/>
                <a:tab algn="l" pos="804960"/>
                <a:tab algn="l" pos="1073160"/>
                <a:tab algn="l" pos="1341360"/>
                <a:tab algn="l" pos="1609560"/>
                <a:tab algn="l" pos="1878120"/>
                <a:tab algn="l" pos="2146320"/>
                <a:tab algn="l" pos="2414520"/>
                <a:tab algn="l" pos="2682720"/>
                <a:tab algn="l" pos="2951280"/>
                <a:tab algn="l" pos="3219480"/>
                <a:tab algn="l" pos="3487680"/>
                <a:tab algn="l" pos="3755880"/>
                <a:tab algn="l" pos="4024440"/>
                <a:tab algn="l" pos="4292640"/>
                <a:tab algn="l" pos="4560840"/>
                <a:tab algn="l" pos="4829040"/>
                <a:tab algn="l" pos="5097600"/>
                <a:tab algn="l" pos="5365800"/>
              </a:tabLst>
            </a:pPr>
            <a:r>
              <a:rPr b="1" lang="sr-Latn-CS" sz="2400" spc="-1" strike="noStrike">
                <a:solidFill>
                  <a:srgbClr val="cc3300"/>
                </a:solidFill>
                <a:latin typeface="Arial Narrow"/>
                <a:ea typeface="Arial"/>
              </a:rPr>
              <a:t>Objektni modeli</a:t>
            </a:r>
            <a:r>
              <a:rPr b="1" lang="sr-Latn-CS" sz="2400" spc="-1" strike="noStrike">
                <a:solidFill>
                  <a:srgbClr val="000099"/>
                </a:solidFill>
                <a:latin typeface="Arial Narrow"/>
                <a:ea typeface="Arial"/>
              </a:rPr>
              <a:t> podržavaju modelovanje bilo kakvih, pa i veoma složenih struktura. Apstrakcije koje podržava čine ga veoma pogodnim za modelovanje realnih sistema. Apstrakcije učaurenja, potpuno odvajaju specifikaciju od implementacije objekata i omogućavaju znatno jednostavnije održavanje softvera i ponovno korišćenje već izrađenih softverskih komponenti.</a:t>
            </a:r>
            <a:r>
              <a:rPr b="1" i="1" lang="sr-Latn-CS" sz="2400" spc="-1" strike="noStrike">
                <a:solidFill>
                  <a:srgbClr val="000099"/>
                </a:solidFill>
                <a:latin typeface="Arial Narrow"/>
                <a:ea typeface="Arial"/>
              </a:rPr>
              <a:t> </a:t>
            </a:r>
            <a:endParaRPr b="0" lang="en-US" sz="2400" spc="-1" strike="noStrike">
              <a:solidFill>
                <a:srgbClr val="000000"/>
              </a:solidFill>
              <a:latin typeface="Times New Roman"/>
            </a:endParaRPr>
          </a:p>
        </p:txBody>
      </p:sp>
      <p:grpSp>
        <p:nvGrpSpPr>
          <p:cNvPr id="139" name=""/>
          <p:cNvGrpSpPr/>
          <p:nvPr/>
        </p:nvGrpSpPr>
        <p:grpSpPr>
          <a:xfrm>
            <a:off x="0" y="6526080"/>
            <a:ext cx="9143640" cy="327240"/>
            <a:chOff x="0" y="6526080"/>
            <a:chExt cx="9143640" cy="327240"/>
          </a:xfrm>
        </p:grpSpPr>
        <p:sp>
          <p:nvSpPr>
            <p:cNvPr id="140" name=""/>
            <p:cNvSpPr/>
            <p:nvPr/>
          </p:nvSpPr>
          <p:spPr>
            <a:xfrm>
              <a:off x="34560" y="6607080"/>
              <a:ext cx="91090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5E7D39-191B-47DA-8127-E250F4FE373C}" type="slidenum">
                <a:rPr b="1" lang="sl-SI" sz="1000" spc="-1" strike="noStrike">
                  <a:solidFill>
                    <a:srgbClr val="000066"/>
                  </a:solidFill>
                  <a:latin typeface="Arial"/>
                </a:rPr>
                <a:t>&lt;number&gt;</a:t>
              </a:fld>
              <a:endParaRPr b="0" lang="en-US" sz="1000" spc="-1" strike="noStrike">
                <a:solidFill>
                  <a:srgbClr val="000000"/>
                </a:solidFill>
                <a:latin typeface="Times New Roman"/>
              </a:endParaRPr>
            </a:p>
          </p:txBody>
        </p:sp>
        <p:sp>
          <p:nvSpPr>
            <p:cNvPr id="141" name=""/>
            <p:cNvSpPr/>
            <p:nvPr/>
          </p:nvSpPr>
          <p:spPr>
            <a:xfrm>
              <a:off x="34560" y="6607080"/>
              <a:ext cx="2432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66"/>
                  </a:solidFill>
                  <a:latin typeface="Arial"/>
                </a:rPr>
                <a:t>      </a:t>
              </a:r>
              <a:r>
                <a:rPr b="1" lang="sr-Latn-CS" sz="1000" spc="-1" strike="noStrike">
                  <a:solidFill>
                    <a:srgbClr val="000066"/>
                  </a:solidFill>
                  <a:latin typeface="Arial"/>
                </a:rPr>
                <a:t>BP-3P</a:t>
              </a:r>
              <a:endParaRPr b="0" lang="en-US" sz="1000" spc="-1" strike="noStrike">
                <a:solidFill>
                  <a:srgbClr val="000000"/>
                </a:solidFill>
                <a:latin typeface="Times New Roman"/>
              </a:endParaRPr>
            </a:p>
          </p:txBody>
        </p:sp>
        <p:graphicFrame>
          <p:nvGraphicFramePr>
            <p:cNvPr id="142" name=""/>
            <p:cNvGraphicFramePr/>
            <p:nvPr/>
          </p:nvGraphicFramePr>
          <p:xfrm>
            <a:off x="0" y="6526080"/>
            <a:ext cx="232200" cy="285840"/>
          </p:xfrm>
          <a:graphic>
            <a:graphicData uri="http://schemas.openxmlformats.org/presentationml/2006/ole">
              <p:oleObj r:id="rId1" spid="">
                <p:embed/>
                <p:pic>
                  <p:nvPicPr>
                    <p:cNvPr id="143" name="" descr=""/>
                    <p:cNvPicPr/>
                    <p:nvPr/>
                  </p:nvPicPr>
                  <p:blipFill>
                    <a:blip r:embed="rId2"/>
                    <a:stretch/>
                  </p:blipFill>
                  <p:spPr>
                    <a:xfrm>
                      <a:off x="0" y="6526080"/>
                      <a:ext cx="232200" cy="285840"/>
                    </a:xfrm>
                    <a:prstGeom prst="rect">
                      <a:avLst/>
                    </a:prstGeom>
                    <a:ln w="0">
                      <a:noFill/>
                    </a:ln>
                  </p:spPr>
                </p:pic>
              </p:oleObj>
            </a:graphicData>
          </a:graphic>
        </p:graphicFrame>
      </p:grpSp>
      <p:sp>
        <p:nvSpPr>
          <p:cNvPr id="144" name=""/>
          <p:cNvSpPr/>
          <p:nvPr/>
        </p:nvSpPr>
        <p:spPr>
          <a:xfrm>
            <a:off x="0" y="0"/>
            <a:ext cx="9144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u="sng">
                <a:solidFill>
                  <a:srgbClr val="000099"/>
                </a:solidFill>
                <a:uFillTx/>
                <a:latin typeface="Arial"/>
              </a:rPr>
              <a:t>BP–Modul1-NJ3-</a:t>
            </a:r>
            <a:r>
              <a:rPr b="1" i="1" lang="sr-Latn-CS" sz="2000" spc="-1" strike="noStrike" u="sng">
                <a:solidFill>
                  <a:srgbClr val="000099"/>
                </a:solidFill>
                <a:uFillTx/>
                <a:latin typeface="Arial"/>
                <a:ea typeface="Times New Roman"/>
              </a:rPr>
              <a:t>Savremeni modeli podataka-MOV, RM, OM</a:t>
            </a:r>
            <a:r>
              <a:rPr b="1" lang="en-US" sz="2000" spc="-1" strike="noStrike" u="sng">
                <a:solidFill>
                  <a:srgbClr val="000099"/>
                </a:solidFill>
                <a:uFillTx/>
                <a:latin typeface="Arial"/>
              </a:rPr>
              <a:t> </a:t>
            </a:r>
            <a:endParaRPr b="0" lang="en-US" sz="2000" spc="-1" strike="noStrike">
              <a:solidFill>
                <a:srgbClr val="000000"/>
              </a:solidFill>
              <a:latin typeface="Times New Roman"/>
            </a:endParaRPr>
          </a:p>
        </p:txBody>
      </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0" y="1111320"/>
            <a:ext cx="9074160" cy="4848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268200"/>
                <a:tab algn="l" pos="536400"/>
                <a:tab algn="l" pos="804960"/>
                <a:tab algn="l" pos="1073160"/>
                <a:tab algn="l" pos="1341360"/>
                <a:tab algn="l" pos="1609560"/>
                <a:tab algn="l" pos="1878120"/>
                <a:tab algn="l" pos="2146320"/>
                <a:tab algn="l" pos="2414520"/>
                <a:tab algn="l" pos="2682720"/>
                <a:tab algn="l" pos="2951280"/>
                <a:tab algn="l" pos="3219480"/>
                <a:tab algn="l" pos="3487680"/>
                <a:tab algn="l" pos="3755880"/>
                <a:tab algn="l" pos="4024440"/>
                <a:tab algn="l" pos="4292640"/>
                <a:tab algn="l" pos="4560840"/>
                <a:tab algn="l" pos="4829040"/>
                <a:tab algn="l" pos="5097600"/>
                <a:tab algn="l" pos="5365800"/>
              </a:tabLst>
            </a:pPr>
            <a:r>
              <a:rPr b="1" lang="sr-Latn-CS" sz="2400" spc="-1" strike="noStrike">
                <a:solidFill>
                  <a:srgbClr val="000099"/>
                </a:solidFill>
                <a:latin typeface="Arial"/>
                <a:ea typeface="Arial"/>
              </a:rPr>
              <a:t>Osnovu IS čini dobro projektovana BP, jer ona predstavlja fundamentalne, stabilne, karakteristike </a:t>
            </a:r>
            <a:r>
              <a:rPr b="1" lang="sr-Latn-CS" sz="2400" spc="-1" strike="noStrike" u="sng">
                <a:solidFill>
                  <a:srgbClr val="000099"/>
                </a:solidFill>
                <a:uFillTx/>
                <a:latin typeface="Arial"/>
                <a:ea typeface="Arial"/>
              </a:rPr>
              <a:t>sistema</a:t>
            </a:r>
            <a:r>
              <a:rPr b="1" lang="sr-Latn-CS" sz="2400" spc="-1" strike="noStrike">
                <a:solidFill>
                  <a:srgbClr val="000099"/>
                </a:solidFill>
                <a:latin typeface="Arial"/>
                <a:ea typeface="Arial"/>
              </a:rPr>
              <a:t>, objekte u sistemu, njihove atribute i njihove međusobne veze. </a:t>
            </a:r>
            <a:endParaRPr b="0" lang="en-US" sz="2400" spc="-1" strike="noStrike">
              <a:solidFill>
                <a:srgbClr val="000000"/>
              </a:solidFill>
              <a:latin typeface="Times New Roman"/>
            </a:endParaRPr>
          </a:p>
          <a:p>
            <a:pPr algn="just">
              <a:lnSpc>
                <a:spcPct val="100000"/>
              </a:lnSpc>
              <a:tabLst>
                <a:tab algn="l" pos="0"/>
                <a:tab algn="l" pos="268200"/>
                <a:tab algn="l" pos="536400"/>
                <a:tab algn="l" pos="804960"/>
                <a:tab algn="l" pos="1073160"/>
                <a:tab algn="l" pos="1341360"/>
                <a:tab algn="l" pos="1609560"/>
                <a:tab algn="l" pos="1878120"/>
                <a:tab algn="l" pos="2146320"/>
                <a:tab algn="l" pos="2414520"/>
                <a:tab algn="l" pos="2682720"/>
                <a:tab algn="l" pos="2951280"/>
                <a:tab algn="l" pos="3219480"/>
                <a:tab algn="l" pos="3487680"/>
                <a:tab algn="l" pos="3755880"/>
                <a:tab algn="l" pos="4024440"/>
                <a:tab algn="l" pos="4292640"/>
                <a:tab algn="l" pos="4560840"/>
                <a:tab algn="l" pos="4829040"/>
                <a:tab algn="l" pos="5097600"/>
                <a:tab algn="l" pos="5365800"/>
              </a:tabLst>
            </a:pPr>
            <a:endParaRPr b="0" lang="en-US" sz="2400" spc="-1" strike="noStrike">
              <a:solidFill>
                <a:srgbClr val="000000"/>
              </a:solidFill>
              <a:latin typeface="Times New Roman"/>
            </a:endParaRPr>
          </a:p>
          <a:p>
            <a:pPr algn="just">
              <a:lnSpc>
                <a:spcPct val="100000"/>
              </a:lnSpc>
              <a:tabLst>
                <a:tab algn="l" pos="0"/>
                <a:tab algn="l" pos="268200"/>
                <a:tab algn="l" pos="536400"/>
                <a:tab algn="l" pos="804960"/>
                <a:tab algn="l" pos="1073160"/>
                <a:tab algn="l" pos="1341360"/>
                <a:tab algn="l" pos="1609560"/>
                <a:tab algn="l" pos="1878120"/>
                <a:tab algn="l" pos="2146320"/>
                <a:tab algn="l" pos="2414520"/>
                <a:tab algn="l" pos="2682720"/>
                <a:tab algn="l" pos="2951280"/>
                <a:tab algn="l" pos="3219480"/>
                <a:tab algn="l" pos="3487680"/>
                <a:tab algn="l" pos="3755880"/>
                <a:tab algn="l" pos="4024440"/>
                <a:tab algn="l" pos="4292640"/>
                <a:tab algn="l" pos="4560840"/>
                <a:tab algn="l" pos="4829040"/>
                <a:tab algn="l" pos="5097600"/>
                <a:tab algn="l" pos="5365800"/>
              </a:tabLst>
            </a:pPr>
            <a:r>
              <a:rPr b="1" lang="sr-Latn-CS" sz="2400" spc="-1" strike="noStrike">
                <a:solidFill>
                  <a:srgbClr val="000099"/>
                </a:solidFill>
                <a:latin typeface="Arial"/>
                <a:ea typeface="Arial"/>
              </a:rPr>
              <a:t>Tehnologija BP je znatno izmenila i unapredila metodologiju razvoja IS. IS treba da reflektuje ponašanje realnog sistema, da omogući da se preko njega sagleda stanje realnog sistema i na osnovu toga donesu neke odluke koje će taj sistem voditi ka ostvarivanju postavljenih ciljeva.</a:t>
            </a:r>
            <a:endParaRPr b="0" lang="en-US" sz="2400" spc="-1" strike="noStrike">
              <a:solidFill>
                <a:srgbClr val="000000"/>
              </a:solidFill>
              <a:latin typeface="Times New Roman"/>
            </a:endParaRPr>
          </a:p>
          <a:p>
            <a:pPr algn="just">
              <a:lnSpc>
                <a:spcPct val="100000"/>
              </a:lnSpc>
              <a:tabLst>
                <a:tab algn="l" pos="0"/>
                <a:tab algn="l" pos="268200"/>
                <a:tab algn="l" pos="536400"/>
                <a:tab algn="l" pos="804960"/>
                <a:tab algn="l" pos="1073160"/>
                <a:tab algn="l" pos="1341360"/>
                <a:tab algn="l" pos="1609560"/>
                <a:tab algn="l" pos="1878120"/>
                <a:tab algn="l" pos="2146320"/>
                <a:tab algn="l" pos="2414520"/>
                <a:tab algn="l" pos="2682720"/>
                <a:tab algn="l" pos="2951280"/>
                <a:tab algn="l" pos="3219480"/>
                <a:tab algn="l" pos="3487680"/>
                <a:tab algn="l" pos="3755880"/>
                <a:tab algn="l" pos="4024440"/>
                <a:tab algn="l" pos="4292640"/>
                <a:tab algn="l" pos="4560840"/>
                <a:tab algn="l" pos="4829040"/>
                <a:tab algn="l" pos="5097600"/>
                <a:tab algn="l" pos="5365800"/>
              </a:tabLst>
            </a:pPr>
            <a:endParaRPr b="0" lang="en-US" sz="2400" spc="-1" strike="noStrike">
              <a:solidFill>
                <a:srgbClr val="000000"/>
              </a:solidFill>
              <a:latin typeface="Times New Roman"/>
            </a:endParaRPr>
          </a:p>
          <a:p>
            <a:pPr algn="just">
              <a:lnSpc>
                <a:spcPct val="100000"/>
              </a:lnSpc>
              <a:tabLst>
                <a:tab algn="l" pos="0"/>
                <a:tab algn="l" pos="268200"/>
                <a:tab algn="l" pos="536400"/>
                <a:tab algn="l" pos="804960"/>
                <a:tab algn="l" pos="1073160"/>
                <a:tab algn="l" pos="1341360"/>
                <a:tab algn="l" pos="1609560"/>
                <a:tab algn="l" pos="1878120"/>
                <a:tab algn="l" pos="2146320"/>
                <a:tab algn="l" pos="2414520"/>
                <a:tab algn="l" pos="2682720"/>
                <a:tab algn="l" pos="2951280"/>
                <a:tab algn="l" pos="3219480"/>
                <a:tab algn="l" pos="3487680"/>
                <a:tab algn="l" pos="3755880"/>
                <a:tab algn="l" pos="4024440"/>
                <a:tab algn="l" pos="4292640"/>
                <a:tab algn="l" pos="4560840"/>
                <a:tab algn="l" pos="4829040"/>
                <a:tab algn="l" pos="5097600"/>
                <a:tab algn="l" pos="5365800"/>
              </a:tabLst>
            </a:pPr>
            <a:r>
              <a:rPr b="1" lang="sr-Latn-CS" sz="2400" spc="-1" strike="noStrike">
                <a:solidFill>
                  <a:srgbClr val="000099"/>
                </a:solidFill>
                <a:latin typeface="Arial"/>
                <a:ea typeface="Arial"/>
              </a:rPr>
              <a:t>IS treba da bude model realnog sistema, a razvoj IS se u velikoj meri svodi na nalaženje odgovarajućeg modela realnog sistema</a:t>
            </a:r>
            <a:endParaRPr b="0" lang="en-US" sz="2400" spc="-1" strike="noStrike">
              <a:solidFill>
                <a:srgbClr val="000000"/>
              </a:solidFill>
              <a:latin typeface="Times New Roman"/>
            </a:endParaRPr>
          </a:p>
        </p:txBody>
      </p:sp>
      <p:grpSp>
        <p:nvGrpSpPr>
          <p:cNvPr id="55" name=""/>
          <p:cNvGrpSpPr/>
          <p:nvPr/>
        </p:nvGrpSpPr>
        <p:grpSpPr>
          <a:xfrm>
            <a:off x="0" y="6526080"/>
            <a:ext cx="9143640" cy="327240"/>
            <a:chOff x="0" y="6526080"/>
            <a:chExt cx="9143640" cy="327240"/>
          </a:xfrm>
        </p:grpSpPr>
        <p:sp>
          <p:nvSpPr>
            <p:cNvPr id="56" name=""/>
            <p:cNvSpPr/>
            <p:nvPr/>
          </p:nvSpPr>
          <p:spPr>
            <a:xfrm>
              <a:off x="34560" y="6607080"/>
              <a:ext cx="91090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9B5FB7-C579-40DD-8FF7-163406B451B1}" type="slidenum">
                <a:rPr b="1" lang="sl-SI" sz="1000" spc="-1" strike="noStrike">
                  <a:solidFill>
                    <a:srgbClr val="000066"/>
                  </a:solidFill>
                  <a:latin typeface="Arial"/>
                </a:rPr>
                <a:t>&lt;number&gt;</a:t>
              </a:fld>
              <a:endParaRPr b="0" lang="en-US" sz="1000" spc="-1" strike="noStrike">
                <a:solidFill>
                  <a:srgbClr val="000000"/>
                </a:solidFill>
                <a:latin typeface="Times New Roman"/>
              </a:endParaRPr>
            </a:p>
          </p:txBody>
        </p:sp>
        <p:sp>
          <p:nvSpPr>
            <p:cNvPr id="57" name=""/>
            <p:cNvSpPr/>
            <p:nvPr/>
          </p:nvSpPr>
          <p:spPr>
            <a:xfrm>
              <a:off x="34560" y="6607080"/>
              <a:ext cx="2432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66"/>
                  </a:solidFill>
                  <a:latin typeface="Arial"/>
                </a:rPr>
                <a:t>      </a:t>
              </a:r>
              <a:r>
                <a:rPr b="1" lang="sr-Latn-CS" sz="1000" spc="-1" strike="noStrike">
                  <a:solidFill>
                    <a:srgbClr val="000066"/>
                  </a:solidFill>
                  <a:latin typeface="Arial"/>
                </a:rPr>
                <a:t>BP-3P</a:t>
              </a:r>
              <a:endParaRPr b="0" lang="en-US" sz="1000" spc="-1" strike="noStrike">
                <a:solidFill>
                  <a:srgbClr val="000000"/>
                </a:solidFill>
                <a:latin typeface="Times New Roman"/>
              </a:endParaRPr>
            </a:p>
          </p:txBody>
        </p:sp>
        <p:graphicFrame>
          <p:nvGraphicFramePr>
            <p:cNvPr id="58" name=""/>
            <p:cNvGraphicFramePr/>
            <p:nvPr/>
          </p:nvGraphicFramePr>
          <p:xfrm>
            <a:off x="0" y="6526080"/>
            <a:ext cx="232200" cy="285840"/>
          </p:xfrm>
          <a:graphic>
            <a:graphicData uri="http://schemas.openxmlformats.org/presentationml/2006/ole">
              <p:oleObj r:id="rId1" spid="">
                <p:embed/>
                <p:pic>
                  <p:nvPicPr>
                    <p:cNvPr id="59" name="" descr=""/>
                    <p:cNvPicPr/>
                    <p:nvPr/>
                  </p:nvPicPr>
                  <p:blipFill>
                    <a:blip r:embed="rId2"/>
                    <a:stretch/>
                  </p:blipFill>
                  <p:spPr>
                    <a:xfrm>
                      <a:off x="0" y="6526080"/>
                      <a:ext cx="232200" cy="285840"/>
                    </a:xfrm>
                    <a:prstGeom prst="rect">
                      <a:avLst/>
                    </a:prstGeom>
                    <a:ln w="0">
                      <a:noFill/>
                    </a:ln>
                  </p:spPr>
                </p:pic>
              </p:oleObj>
            </a:graphicData>
          </a:graphic>
        </p:graphicFrame>
      </p:grpSp>
      <p:sp>
        <p:nvSpPr>
          <p:cNvPr id="60" name=""/>
          <p:cNvSpPr/>
          <p:nvPr/>
        </p:nvSpPr>
        <p:spPr>
          <a:xfrm>
            <a:off x="0" y="0"/>
            <a:ext cx="9144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u="sng">
                <a:solidFill>
                  <a:srgbClr val="000099"/>
                </a:solidFill>
                <a:uFillTx/>
                <a:latin typeface="Arial"/>
              </a:rPr>
              <a:t>BP–Modul1-NJ3-Model podataka</a:t>
            </a:r>
            <a:endParaRPr b="0" lang="en-US" sz="2000" spc="-1" strike="noStrike">
              <a:solidFill>
                <a:srgbClr val="000000"/>
              </a:solidFill>
              <a:latin typeface="Times New Roman"/>
            </a:endParaRPr>
          </a:p>
        </p:txBody>
      </p:sp>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69840" y="396720"/>
            <a:ext cx="9074160" cy="2654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268200"/>
                <a:tab algn="l" pos="536400"/>
                <a:tab algn="l" pos="804960"/>
                <a:tab algn="l" pos="1073160"/>
                <a:tab algn="l" pos="1341360"/>
                <a:tab algn="l" pos="1609560"/>
                <a:tab algn="l" pos="1878120"/>
                <a:tab algn="l" pos="2146320"/>
                <a:tab algn="l" pos="2414520"/>
                <a:tab algn="l" pos="2682720"/>
                <a:tab algn="l" pos="2951280"/>
                <a:tab algn="l" pos="3219480"/>
                <a:tab algn="l" pos="3487680"/>
                <a:tab algn="l" pos="3755880"/>
                <a:tab algn="l" pos="4024440"/>
                <a:tab algn="l" pos="4292640"/>
                <a:tab algn="l" pos="4560840"/>
                <a:tab algn="l" pos="4829040"/>
                <a:tab algn="l" pos="5097600"/>
                <a:tab algn="l" pos="5365800"/>
              </a:tabLst>
            </a:pPr>
            <a:r>
              <a:rPr b="1" lang="sr-Latn-CS" sz="2400" spc="-1" strike="noStrike">
                <a:solidFill>
                  <a:srgbClr val="cc3300"/>
                </a:solidFill>
                <a:latin typeface="Arial"/>
                <a:ea typeface="Arial"/>
              </a:rPr>
              <a:t>Sistem se najopširnije definiše kao skup objekata (entiteta) i njihovih megusobnih veza</a:t>
            </a:r>
            <a:r>
              <a:rPr b="1" lang="sr-Latn-CS" sz="2400" spc="-1" strike="noStrike">
                <a:solidFill>
                  <a:srgbClr val="000099"/>
                </a:solidFill>
                <a:latin typeface="Arial"/>
                <a:ea typeface="Arial"/>
              </a:rPr>
              <a:t>. Objekti u sustemu mogu da budu neki fizički objekti, koncepti, događaji i drugo, </a:t>
            </a:r>
            <a:r>
              <a:rPr b="1" lang="sr-Latn-CS" sz="2400" spc="-1" strike="noStrike">
                <a:solidFill>
                  <a:srgbClr val="cc3300"/>
                </a:solidFill>
                <a:latin typeface="Arial"/>
                <a:ea typeface="Arial"/>
              </a:rPr>
              <a:t>sve</a:t>
            </a:r>
            <a:r>
              <a:rPr b="1" lang="sr-Latn-CS" sz="2400" spc="-1" strike="noStrike">
                <a:solidFill>
                  <a:srgbClr val="000099"/>
                </a:solidFill>
                <a:latin typeface="Arial"/>
                <a:ea typeface="Arial"/>
              </a:rPr>
              <a:t> što neko ko modeluje realni sistem proglasi za objekat.  Kod definisanja sistema najvažnije je definisati granice sistema, odnosno skup objekata koji predstavlaju posmatrani sistem. Sve izvan granica sistema naziva se okolina sistema.</a:t>
            </a:r>
            <a:endParaRPr b="0" lang="en-US" sz="2400" spc="-1" strike="noStrike">
              <a:solidFill>
                <a:srgbClr val="000000"/>
              </a:solidFill>
              <a:latin typeface="Times New Roman"/>
            </a:endParaRPr>
          </a:p>
        </p:txBody>
      </p:sp>
      <p:grpSp>
        <p:nvGrpSpPr>
          <p:cNvPr id="62" name=""/>
          <p:cNvGrpSpPr/>
          <p:nvPr/>
        </p:nvGrpSpPr>
        <p:grpSpPr>
          <a:xfrm>
            <a:off x="0" y="6526080"/>
            <a:ext cx="9143640" cy="327240"/>
            <a:chOff x="0" y="6526080"/>
            <a:chExt cx="9143640" cy="327240"/>
          </a:xfrm>
        </p:grpSpPr>
        <p:sp>
          <p:nvSpPr>
            <p:cNvPr id="63" name=""/>
            <p:cNvSpPr/>
            <p:nvPr/>
          </p:nvSpPr>
          <p:spPr>
            <a:xfrm>
              <a:off x="34560" y="6607080"/>
              <a:ext cx="91090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CB9E4C-B6FE-482E-AB7E-7E0178DF74EA}" type="slidenum">
                <a:rPr b="1" lang="sl-SI" sz="1000" spc="-1" strike="noStrike">
                  <a:solidFill>
                    <a:srgbClr val="000066"/>
                  </a:solidFill>
                  <a:latin typeface="Arial"/>
                </a:rPr>
                <a:t>&lt;number&gt;</a:t>
              </a:fld>
              <a:endParaRPr b="0" lang="en-US" sz="1000" spc="-1" strike="noStrike">
                <a:solidFill>
                  <a:srgbClr val="000000"/>
                </a:solidFill>
                <a:latin typeface="Times New Roman"/>
              </a:endParaRPr>
            </a:p>
          </p:txBody>
        </p:sp>
        <p:sp>
          <p:nvSpPr>
            <p:cNvPr id="64" name=""/>
            <p:cNvSpPr/>
            <p:nvPr/>
          </p:nvSpPr>
          <p:spPr>
            <a:xfrm>
              <a:off x="34560" y="6607080"/>
              <a:ext cx="2432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66"/>
                  </a:solidFill>
                  <a:latin typeface="Arial"/>
                </a:rPr>
                <a:t>      </a:t>
              </a:r>
              <a:r>
                <a:rPr b="1" lang="sr-Latn-CS" sz="1000" spc="-1" strike="noStrike">
                  <a:solidFill>
                    <a:srgbClr val="000066"/>
                  </a:solidFill>
                  <a:latin typeface="Arial"/>
                </a:rPr>
                <a:t>BP-3P</a:t>
              </a:r>
              <a:endParaRPr b="0" lang="en-US" sz="1000" spc="-1" strike="noStrike">
                <a:solidFill>
                  <a:srgbClr val="000000"/>
                </a:solidFill>
                <a:latin typeface="Times New Roman"/>
              </a:endParaRPr>
            </a:p>
          </p:txBody>
        </p:sp>
        <p:graphicFrame>
          <p:nvGraphicFramePr>
            <p:cNvPr id="65" name=""/>
            <p:cNvGraphicFramePr/>
            <p:nvPr/>
          </p:nvGraphicFramePr>
          <p:xfrm>
            <a:off x="0" y="6526080"/>
            <a:ext cx="232200" cy="285840"/>
          </p:xfrm>
          <a:graphic>
            <a:graphicData uri="http://schemas.openxmlformats.org/presentationml/2006/ole">
              <p:oleObj r:id="rId1" spid="">
                <p:embed/>
                <p:pic>
                  <p:nvPicPr>
                    <p:cNvPr id="66" name="" descr=""/>
                    <p:cNvPicPr/>
                    <p:nvPr/>
                  </p:nvPicPr>
                  <p:blipFill>
                    <a:blip r:embed="rId2"/>
                    <a:stretch/>
                  </p:blipFill>
                  <p:spPr>
                    <a:xfrm>
                      <a:off x="0" y="6526080"/>
                      <a:ext cx="232200" cy="285840"/>
                    </a:xfrm>
                    <a:prstGeom prst="rect">
                      <a:avLst/>
                    </a:prstGeom>
                    <a:ln w="0">
                      <a:noFill/>
                    </a:ln>
                  </p:spPr>
                </p:pic>
              </p:oleObj>
            </a:graphicData>
          </a:graphic>
        </p:graphicFrame>
      </p:grpSp>
      <p:sp>
        <p:nvSpPr>
          <p:cNvPr id="67" name=""/>
          <p:cNvSpPr/>
          <p:nvPr/>
        </p:nvSpPr>
        <p:spPr>
          <a:xfrm>
            <a:off x="0" y="0"/>
            <a:ext cx="9144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u="sng">
                <a:solidFill>
                  <a:srgbClr val="000099"/>
                </a:solidFill>
                <a:uFillTx/>
                <a:latin typeface="Arial"/>
              </a:rPr>
              <a:t>BP–Modul1-NJ3-Model podataka</a:t>
            </a:r>
            <a:endParaRPr b="0" lang="en-US" sz="2000" spc="-1" strike="noStrike">
              <a:solidFill>
                <a:srgbClr val="000000"/>
              </a:solidFill>
              <a:latin typeface="Times New Roman"/>
            </a:endParaRPr>
          </a:p>
        </p:txBody>
      </p:sp>
      <p:graphicFrame>
        <p:nvGraphicFramePr>
          <p:cNvPr id="68" name=""/>
          <p:cNvGraphicFramePr/>
          <p:nvPr/>
        </p:nvGraphicFramePr>
        <p:xfrm>
          <a:off x="231840" y="3465360"/>
          <a:ext cx="8615160" cy="3144960"/>
        </p:xfrm>
        <a:graphic>
          <a:graphicData uri="http://schemas.openxmlformats.org/presentationml/2006/ole">
            <p:oleObj r:id="rId3" spid="">
              <p:embed/>
              <p:pic>
                <p:nvPicPr>
                  <p:cNvPr id="69" name="" descr=""/>
                  <p:cNvPicPr/>
                  <p:nvPr/>
                </p:nvPicPr>
                <p:blipFill>
                  <a:blip r:embed="rId4"/>
                  <a:stretch/>
                </p:blipFill>
                <p:spPr>
                  <a:xfrm>
                    <a:off x="231840" y="3465360"/>
                    <a:ext cx="8615160" cy="3144960"/>
                  </a:xfrm>
                  <a:prstGeom prst="rect">
                    <a:avLst/>
                  </a:prstGeom>
                  <a:ln w="0">
                    <a:noFill/>
                  </a:ln>
                </p:spPr>
              </p:pic>
            </p:oleObj>
          </a:graphicData>
        </a:graphic>
      </p:graphicFrame>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0" name=""/>
          <p:cNvGraphicFramePr/>
          <p:nvPr/>
        </p:nvGraphicFramePr>
        <p:xfrm>
          <a:off x="3419640" y="330120"/>
          <a:ext cx="5689440" cy="2076480"/>
        </p:xfrm>
        <a:graphic>
          <a:graphicData uri="http://schemas.openxmlformats.org/presentationml/2006/ole">
            <p:oleObj r:id="rId1" spid="">
              <p:embed/>
              <p:pic>
                <p:nvPicPr>
                  <p:cNvPr id="71" name="" descr=""/>
                  <p:cNvPicPr/>
                  <p:nvPr/>
                </p:nvPicPr>
                <p:blipFill>
                  <a:blip r:embed="rId2"/>
                  <a:stretch/>
                </p:blipFill>
                <p:spPr>
                  <a:xfrm>
                    <a:off x="3419640" y="330120"/>
                    <a:ext cx="5689440" cy="2076480"/>
                  </a:xfrm>
                  <a:prstGeom prst="rect">
                    <a:avLst/>
                  </a:prstGeom>
                  <a:ln w="0">
                    <a:noFill/>
                  </a:ln>
                </p:spPr>
              </p:pic>
            </p:oleObj>
          </a:graphicData>
        </a:graphic>
      </p:graphicFrame>
      <p:sp>
        <p:nvSpPr>
          <p:cNvPr id="72" name=""/>
          <p:cNvSpPr/>
          <p:nvPr/>
        </p:nvSpPr>
        <p:spPr>
          <a:xfrm>
            <a:off x="34920" y="396720"/>
            <a:ext cx="9074160" cy="5946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268200"/>
                <a:tab algn="l" pos="536400"/>
                <a:tab algn="l" pos="804960"/>
                <a:tab algn="l" pos="1073160"/>
                <a:tab algn="l" pos="1341360"/>
                <a:tab algn="l" pos="1609560"/>
                <a:tab algn="l" pos="1878120"/>
                <a:tab algn="l" pos="2146320"/>
                <a:tab algn="l" pos="2414520"/>
                <a:tab algn="l" pos="2682720"/>
                <a:tab algn="l" pos="2951280"/>
                <a:tab algn="l" pos="3219480"/>
                <a:tab algn="l" pos="3487680"/>
                <a:tab algn="l" pos="3755880"/>
                <a:tab algn="l" pos="4024440"/>
                <a:tab algn="l" pos="4292640"/>
                <a:tab algn="l" pos="4560840"/>
                <a:tab algn="l" pos="4829040"/>
                <a:tab algn="l" pos="5097600"/>
                <a:tab algn="l" pos="5365800"/>
              </a:tabLst>
            </a:pPr>
            <a:r>
              <a:rPr b="1" lang="sr-Latn-CS" sz="2400" spc="-1" strike="noStrike">
                <a:solidFill>
                  <a:srgbClr val="000099"/>
                </a:solidFill>
                <a:latin typeface="Arial Narrow"/>
                <a:ea typeface="Arial"/>
              </a:rPr>
              <a:t>Dejstvo okoline opisuje </a:t>
            </a:r>
            <a:endParaRPr b="0" lang="en-US" sz="2400" spc="-1" strike="noStrike">
              <a:solidFill>
                <a:srgbClr val="000000"/>
              </a:solidFill>
              <a:latin typeface="Times New Roman"/>
            </a:endParaRPr>
          </a:p>
          <a:p>
            <a:pPr algn="just">
              <a:lnSpc>
                <a:spcPct val="100000"/>
              </a:lnSpc>
              <a:tabLst>
                <a:tab algn="l" pos="0"/>
                <a:tab algn="l" pos="268200"/>
                <a:tab algn="l" pos="536400"/>
                <a:tab algn="l" pos="804960"/>
                <a:tab algn="l" pos="1073160"/>
                <a:tab algn="l" pos="1341360"/>
                <a:tab algn="l" pos="1609560"/>
                <a:tab algn="l" pos="1878120"/>
                <a:tab algn="l" pos="2146320"/>
                <a:tab algn="l" pos="2414520"/>
                <a:tab algn="l" pos="2682720"/>
                <a:tab algn="l" pos="2951280"/>
                <a:tab algn="l" pos="3219480"/>
                <a:tab algn="l" pos="3487680"/>
                <a:tab algn="l" pos="3755880"/>
                <a:tab algn="l" pos="4024440"/>
                <a:tab algn="l" pos="4292640"/>
                <a:tab algn="l" pos="4560840"/>
                <a:tab algn="l" pos="4829040"/>
                <a:tab algn="l" pos="5097600"/>
                <a:tab algn="l" pos="5365800"/>
              </a:tabLst>
            </a:pPr>
            <a:r>
              <a:rPr b="1" lang="sr-Latn-CS" sz="2400" spc="-1" strike="noStrike">
                <a:solidFill>
                  <a:srgbClr val="000099"/>
                </a:solidFill>
                <a:latin typeface="Arial Narrow"/>
                <a:ea typeface="Arial"/>
              </a:rPr>
              <a:t>se preko ulaza u sistem, </a:t>
            </a:r>
            <a:endParaRPr b="0" lang="en-US" sz="2400" spc="-1" strike="noStrike">
              <a:solidFill>
                <a:srgbClr val="000000"/>
              </a:solidFill>
              <a:latin typeface="Times New Roman"/>
            </a:endParaRPr>
          </a:p>
          <a:p>
            <a:pPr algn="just">
              <a:lnSpc>
                <a:spcPct val="100000"/>
              </a:lnSpc>
              <a:tabLst>
                <a:tab algn="l" pos="0"/>
                <a:tab algn="l" pos="268200"/>
                <a:tab algn="l" pos="536400"/>
                <a:tab algn="l" pos="804960"/>
                <a:tab algn="l" pos="1073160"/>
                <a:tab algn="l" pos="1341360"/>
                <a:tab algn="l" pos="1609560"/>
                <a:tab algn="l" pos="1878120"/>
                <a:tab algn="l" pos="2146320"/>
                <a:tab algn="l" pos="2414520"/>
                <a:tab algn="l" pos="2682720"/>
                <a:tab algn="l" pos="2951280"/>
                <a:tab algn="l" pos="3219480"/>
                <a:tab algn="l" pos="3487680"/>
                <a:tab algn="l" pos="3755880"/>
                <a:tab algn="l" pos="4024440"/>
                <a:tab algn="l" pos="4292640"/>
                <a:tab algn="l" pos="4560840"/>
                <a:tab algn="l" pos="4829040"/>
                <a:tab algn="l" pos="5097600"/>
                <a:tab algn="l" pos="5365800"/>
              </a:tabLst>
            </a:pPr>
            <a:r>
              <a:rPr b="1" lang="sr-Latn-CS" sz="2400" spc="-1" strike="noStrike">
                <a:solidFill>
                  <a:srgbClr val="000099"/>
                </a:solidFill>
                <a:latin typeface="Arial Narrow"/>
                <a:ea typeface="Arial"/>
              </a:rPr>
              <a:t>a odgovarajući odziv sistema, odnosno </a:t>
            </a:r>
            <a:endParaRPr b="0" lang="en-US" sz="2400" spc="-1" strike="noStrike">
              <a:solidFill>
                <a:srgbClr val="000000"/>
              </a:solidFill>
              <a:latin typeface="Times New Roman"/>
            </a:endParaRPr>
          </a:p>
          <a:p>
            <a:pPr algn="just">
              <a:lnSpc>
                <a:spcPct val="100000"/>
              </a:lnSpc>
              <a:tabLst>
                <a:tab algn="l" pos="0"/>
                <a:tab algn="l" pos="268200"/>
                <a:tab algn="l" pos="536400"/>
                <a:tab algn="l" pos="804960"/>
                <a:tab algn="l" pos="1073160"/>
                <a:tab algn="l" pos="1341360"/>
                <a:tab algn="l" pos="1609560"/>
                <a:tab algn="l" pos="1878120"/>
                <a:tab algn="l" pos="2146320"/>
                <a:tab algn="l" pos="2414520"/>
                <a:tab algn="l" pos="2682720"/>
                <a:tab algn="l" pos="2951280"/>
                <a:tab algn="l" pos="3219480"/>
                <a:tab algn="l" pos="3487680"/>
                <a:tab algn="l" pos="3755880"/>
                <a:tab algn="l" pos="4024440"/>
                <a:tab algn="l" pos="4292640"/>
                <a:tab algn="l" pos="4560840"/>
                <a:tab algn="l" pos="4829040"/>
                <a:tab algn="l" pos="5097600"/>
                <a:tab algn="l" pos="5365800"/>
              </a:tabLst>
            </a:pPr>
            <a:r>
              <a:rPr b="1" lang="sr-Latn-CS" sz="2400" spc="-1" strike="noStrike">
                <a:solidFill>
                  <a:srgbClr val="000099"/>
                </a:solidFill>
                <a:latin typeface="Arial Narrow"/>
              </a:rPr>
              <a:t>d</a:t>
            </a:r>
            <a:r>
              <a:rPr b="1" lang="sr-Latn-CS" sz="2400" spc="-1" strike="noStrike">
                <a:solidFill>
                  <a:srgbClr val="000099"/>
                </a:solidFill>
                <a:latin typeface="Arial Narrow"/>
                <a:ea typeface="Arial"/>
              </a:rPr>
              <a:t>ejstvo</a:t>
            </a:r>
            <a:r>
              <a:rPr b="1" lang="sr-Latn-CS" sz="2400" spc="-1" strike="noStrike">
                <a:solidFill>
                  <a:srgbClr val="000099"/>
                </a:solidFill>
                <a:latin typeface="Arial Narrow"/>
              </a:rPr>
              <a:t> </a:t>
            </a:r>
            <a:r>
              <a:rPr b="1" lang="sr-Latn-CS" sz="2400" spc="-1" strike="noStrike">
                <a:solidFill>
                  <a:srgbClr val="000099"/>
                </a:solidFill>
                <a:latin typeface="Arial Narrow"/>
                <a:ea typeface="Arial"/>
              </a:rPr>
              <a:t>sistema na okolinu preko </a:t>
            </a:r>
            <a:endParaRPr b="0" lang="en-US" sz="2400" spc="-1" strike="noStrike">
              <a:solidFill>
                <a:srgbClr val="000000"/>
              </a:solidFill>
              <a:latin typeface="Times New Roman"/>
            </a:endParaRPr>
          </a:p>
          <a:p>
            <a:pPr algn="just">
              <a:lnSpc>
                <a:spcPct val="100000"/>
              </a:lnSpc>
              <a:tabLst>
                <a:tab algn="l" pos="0"/>
                <a:tab algn="l" pos="268200"/>
                <a:tab algn="l" pos="536400"/>
                <a:tab algn="l" pos="804960"/>
                <a:tab algn="l" pos="1073160"/>
                <a:tab algn="l" pos="1341360"/>
                <a:tab algn="l" pos="1609560"/>
                <a:tab algn="l" pos="1878120"/>
                <a:tab algn="l" pos="2146320"/>
                <a:tab algn="l" pos="2414520"/>
                <a:tab algn="l" pos="2682720"/>
                <a:tab algn="l" pos="2951280"/>
                <a:tab algn="l" pos="3219480"/>
                <a:tab algn="l" pos="3487680"/>
                <a:tab algn="l" pos="3755880"/>
                <a:tab algn="l" pos="4024440"/>
                <a:tab algn="l" pos="4292640"/>
                <a:tab algn="l" pos="4560840"/>
                <a:tab algn="l" pos="4829040"/>
                <a:tab algn="l" pos="5097600"/>
                <a:tab algn="l" pos="5365800"/>
              </a:tabLst>
            </a:pPr>
            <a:r>
              <a:rPr b="1" lang="sr-Latn-CS" sz="2400" spc="-1" strike="noStrike">
                <a:solidFill>
                  <a:srgbClr val="000099"/>
                </a:solidFill>
                <a:latin typeface="Arial Narrow"/>
                <a:ea typeface="Arial"/>
              </a:rPr>
              <a:t>njegovih izlaza. Stanje sistema se </a:t>
            </a:r>
            <a:endParaRPr b="0" lang="en-US" sz="2400" spc="-1" strike="noStrike">
              <a:solidFill>
                <a:srgbClr val="000000"/>
              </a:solidFill>
              <a:latin typeface="Times New Roman"/>
            </a:endParaRPr>
          </a:p>
          <a:p>
            <a:pPr algn="just">
              <a:lnSpc>
                <a:spcPct val="100000"/>
              </a:lnSpc>
              <a:tabLst>
                <a:tab algn="l" pos="0"/>
                <a:tab algn="l" pos="268200"/>
                <a:tab algn="l" pos="536400"/>
                <a:tab algn="l" pos="804960"/>
                <a:tab algn="l" pos="1073160"/>
                <a:tab algn="l" pos="1341360"/>
                <a:tab algn="l" pos="1609560"/>
                <a:tab algn="l" pos="1878120"/>
                <a:tab algn="l" pos="2146320"/>
                <a:tab algn="l" pos="2414520"/>
                <a:tab algn="l" pos="2682720"/>
                <a:tab algn="l" pos="2951280"/>
                <a:tab algn="l" pos="3219480"/>
                <a:tab algn="l" pos="3487680"/>
                <a:tab algn="l" pos="3755880"/>
                <a:tab algn="l" pos="4024440"/>
                <a:tab algn="l" pos="4292640"/>
                <a:tab algn="l" pos="4560840"/>
                <a:tab algn="l" pos="4829040"/>
                <a:tab algn="l" pos="5097600"/>
                <a:tab algn="l" pos="5365800"/>
              </a:tabLst>
            </a:pPr>
            <a:r>
              <a:rPr b="1" lang="sr-Latn-CS" sz="2400" spc="-1" strike="noStrike">
                <a:solidFill>
                  <a:srgbClr val="000099"/>
                </a:solidFill>
                <a:latin typeface="Arial Narrow"/>
                <a:ea typeface="Arial"/>
              </a:rPr>
              <a:t>definiše kao skup informacija o prošlosti i sadašnjosti sistema koji je potreban da bi se, pod dejstvom bdućih poznatih ulaza, mogli odrediti budući izlazi. Stanje sistema opisuje fundamentalne karakteristike sistema, u jednom trenutku vremena ono predstavlja skup njihovih međusobnih veza i skup vrednosti njihovih atributa u tom trenutku vremena. Pošto je IS model realnog sistema u kome deluje, postupak projektovanja IS se svodi na neku vrstu modelovanja realnog sistema.</a:t>
            </a:r>
            <a:endParaRPr b="0" lang="en-US" sz="2400" spc="-1" strike="noStrike">
              <a:solidFill>
                <a:srgbClr val="000000"/>
              </a:solidFill>
              <a:latin typeface="Times New Roman"/>
            </a:endParaRPr>
          </a:p>
          <a:p>
            <a:pPr algn="just">
              <a:lnSpc>
                <a:spcPct val="100000"/>
              </a:lnSpc>
              <a:tabLst>
                <a:tab algn="l" pos="0"/>
                <a:tab algn="l" pos="268200"/>
                <a:tab algn="l" pos="536400"/>
                <a:tab algn="l" pos="804960"/>
                <a:tab algn="l" pos="1073160"/>
                <a:tab algn="l" pos="1341360"/>
                <a:tab algn="l" pos="1609560"/>
                <a:tab algn="l" pos="1878120"/>
                <a:tab algn="l" pos="2146320"/>
                <a:tab algn="l" pos="2414520"/>
                <a:tab algn="l" pos="2682720"/>
                <a:tab algn="l" pos="2951280"/>
                <a:tab algn="l" pos="3219480"/>
                <a:tab algn="l" pos="3487680"/>
                <a:tab algn="l" pos="3755880"/>
                <a:tab algn="l" pos="4024440"/>
                <a:tab algn="l" pos="4292640"/>
                <a:tab algn="l" pos="4560840"/>
                <a:tab algn="l" pos="4829040"/>
                <a:tab algn="l" pos="5097600"/>
                <a:tab algn="l" pos="5365800"/>
              </a:tabLst>
            </a:pPr>
            <a:endParaRPr b="0" lang="en-US" sz="2400" spc="-1" strike="noStrike">
              <a:solidFill>
                <a:srgbClr val="000000"/>
              </a:solidFill>
              <a:latin typeface="Times New Roman"/>
            </a:endParaRPr>
          </a:p>
          <a:p>
            <a:pPr algn="just">
              <a:lnSpc>
                <a:spcPct val="100000"/>
              </a:lnSpc>
              <a:tabLst>
                <a:tab algn="l" pos="0"/>
                <a:tab algn="l" pos="268200"/>
                <a:tab algn="l" pos="536400"/>
                <a:tab algn="l" pos="804960"/>
                <a:tab algn="l" pos="1073160"/>
                <a:tab algn="l" pos="1341360"/>
                <a:tab algn="l" pos="1609560"/>
                <a:tab algn="l" pos="1878120"/>
                <a:tab algn="l" pos="2146320"/>
                <a:tab algn="l" pos="2414520"/>
                <a:tab algn="l" pos="2682720"/>
                <a:tab algn="l" pos="2951280"/>
                <a:tab algn="l" pos="3219480"/>
                <a:tab algn="l" pos="3487680"/>
                <a:tab algn="l" pos="3755880"/>
                <a:tab algn="l" pos="4024440"/>
                <a:tab algn="l" pos="4292640"/>
                <a:tab algn="l" pos="4560840"/>
                <a:tab algn="l" pos="4829040"/>
                <a:tab algn="l" pos="5097600"/>
                <a:tab algn="l" pos="5365800"/>
              </a:tabLst>
            </a:pPr>
            <a:r>
              <a:rPr b="1" lang="sr-Latn-CS" sz="2400" spc="-1" strike="noStrike">
                <a:solidFill>
                  <a:srgbClr val="000099"/>
                </a:solidFill>
                <a:latin typeface="Arial Narrow"/>
                <a:ea typeface="Arial"/>
              </a:rPr>
              <a:t>Intelektualni alati pomoću kojih se opisuje (modeluje) sistem kao skup objekata, njihovih atributa i njihovih međusobnih veza, se nazivaju </a:t>
            </a:r>
            <a:r>
              <a:rPr b="1" lang="sr-Latn-CS" sz="2400" spc="-1" strike="noStrike" u="sng">
                <a:solidFill>
                  <a:srgbClr val="cc3300"/>
                </a:solidFill>
                <a:uFillTx/>
                <a:latin typeface="Arial Narrow"/>
                <a:ea typeface="Arial"/>
              </a:rPr>
              <a:t>modeli podataka</a:t>
            </a:r>
            <a:r>
              <a:rPr b="1" lang="sr-Latn-CS" sz="2400" spc="-1" strike="noStrike" u="sng">
                <a:solidFill>
                  <a:srgbClr val="000099"/>
                </a:solidFill>
                <a:uFillTx/>
                <a:latin typeface="Arial Narrow"/>
                <a:ea typeface="Arial"/>
              </a:rPr>
              <a:t>.</a:t>
            </a:r>
            <a:r>
              <a:rPr b="1" lang="sr-Latn-CS" sz="2400" spc="-1" strike="noStrike">
                <a:solidFill>
                  <a:srgbClr val="000099"/>
                </a:solidFill>
                <a:latin typeface="Arial Narrow"/>
                <a:ea typeface="Arial"/>
              </a:rPr>
              <a:t> Model podataka je osnov za izgradnju SUBP. </a:t>
            </a:r>
            <a:endParaRPr b="0" lang="en-US" sz="2400" spc="-1" strike="noStrike">
              <a:solidFill>
                <a:srgbClr val="000000"/>
              </a:solidFill>
              <a:latin typeface="Times New Roman"/>
            </a:endParaRPr>
          </a:p>
        </p:txBody>
      </p:sp>
      <p:grpSp>
        <p:nvGrpSpPr>
          <p:cNvPr id="73" name=""/>
          <p:cNvGrpSpPr/>
          <p:nvPr/>
        </p:nvGrpSpPr>
        <p:grpSpPr>
          <a:xfrm>
            <a:off x="0" y="6526080"/>
            <a:ext cx="9143640" cy="327240"/>
            <a:chOff x="0" y="6526080"/>
            <a:chExt cx="9143640" cy="327240"/>
          </a:xfrm>
        </p:grpSpPr>
        <p:sp>
          <p:nvSpPr>
            <p:cNvPr id="74" name=""/>
            <p:cNvSpPr/>
            <p:nvPr/>
          </p:nvSpPr>
          <p:spPr>
            <a:xfrm>
              <a:off x="34560" y="6607080"/>
              <a:ext cx="91090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8DD683-94AF-4A84-9EC7-196981BEDAA7}" type="slidenum">
                <a:rPr b="1" lang="sl-SI" sz="1000" spc="-1" strike="noStrike">
                  <a:solidFill>
                    <a:srgbClr val="000066"/>
                  </a:solidFill>
                  <a:latin typeface="Arial"/>
                </a:rPr>
                <a:t>&lt;number&gt;</a:t>
              </a:fld>
              <a:endParaRPr b="0" lang="en-US" sz="1000" spc="-1" strike="noStrike">
                <a:solidFill>
                  <a:srgbClr val="000000"/>
                </a:solidFill>
                <a:latin typeface="Times New Roman"/>
              </a:endParaRPr>
            </a:p>
          </p:txBody>
        </p:sp>
        <p:sp>
          <p:nvSpPr>
            <p:cNvPr id="75" name=""/>
            <p:cNvSpPr/>
            <p:nvPr/>
          </p:nvSpPr>
          <p:spPr>
            <a:xfrm>
              <a:off x="34560" y="6607080"/>
              <a:ext cx="2432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66"/>
                  </a:solidFill>
                  <a:latin typeface="Arial"/>
                </a:rPr>
                <a:t>      </a:t>
              </a:r>
              <a:r>
                <a:rPr b="1" lang="sr-Latn-CS" sz="1000" spc="-1" strike="noStrike">
                  <a:solidFill>
                    <a:srgbClr val="000066"/>
                  </a:solidFill>
                  <a:latin typeface="Arial"/>
                </a:rPr>
                <a:t>BP-3P</a:t>
              </a:r>
              <a:endParaRPr b="0" lang="en-US" sz="1000" spc="-1" strike="noStrike">
                <a:solidFill>
                  <a:srgbClr val="000000"/>
                </a:solidFill>
                <a:latin typeface="Times New Roman"/>
              </a:endParaRPr>
            </a:p>
          </p:txBody>
        </p:sp>
        <p:graphicFrame>
          <p:nvGraphicFramePr>
            <p:cNvPr id="76" name=""/>
            <p:cNvGraphicFramePr/>
            <p:nvPr/>
          </p:nvGraphicFramePr>
          <p:xfrm>
            <a:off x="0" y="6526080"/>
            <a:ext cx="232200" cy="285840"/>
          </p:xfrm>
          <a:graphic>
            <a:graphicData uri="http://schemas.openxmlformats.org/presentationml/2006/ole">
              <p:oleObj r:id="rId3" spid="">
                <p:embed/>
                <p:pic>
                  <p:nvPicPr>
                    <p:cNvPr id="77" name="" descr=""/>
                    <p:cNvPicPr/>
                    <p:nvPr/>
                  </p:nvPicPr>
                  <p:blipFill>
                    <a:blip r:embed="rId4"/>
                    <a:stretch/>
                  </p:blipFill>
                  <p:spPr>
                    <a:xfrm>
                      <a:off x="0" y="6526080"/>
                      <a:ext cx="232200" cy="285840"/>
                    </a:xfrm>
                    <a:prstGeom prst="rect">
                      <a:avLst/>
                    </a:prstGeom>
                    <a:ln w="0">
                      <a:noFill/>
                    </a:ln>
                  </p:spPr>
                </p:pic>
              </p:oleObj>
            </a:graphicData>
          </a:graphic>
        </p:graphicFrame>
      </p:grpSp>
      <p:sp>
        <p:nvSpPr>
          <p:cNvPr id="78" name=""/>
          <p:cNvSpPr/>
          <p:nvPr/>
        </p:nvSpPr>
        <p:spPr>
          <a:xfrm>
            <a:off x="0" y="0"/>
            <a:ext cx="9144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u="sng">
                <a:solidFill>
                  <a:srgbClr val="000099"/>
                </a:solidFill>
                <a:uFillTx/>
                <a:latin typeface="Arial"/>
              </a:rPr>
              <a:t>BP–Modul1-NJ3-Model podataka</a:t>
            </a:r>
            <a:endParaRPr b="0" lang="en-US" sz="2000" spc="-1" strike="noStrike">
              <a:solidFill>
                <a:srgbClr val="000000"/>
              </a:solidFill>
              <a:latin typeface="Times New Roman"/>
            </a:endParaRPr>
          </a:p>
        </p:txBody>
      </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9" name=""/>
          <p:cNvGraphicFramePr/>
          <p:nvPr/>
        </p:nvGraphicFramePr>
        <p:xfrm>
          <a:off x="3419640" y="330120"/>
          <a:ext cx="5689440" cy="2076480"/>
        </p:xfrm>
        <a:graphic>
          <a:graphicData uri="http://schemas.openxmlformats.org/presentationml/2006/ole">
            <p:oleObj r:id="rId1" spid="">
              <p:embed/>
              <p:pic>
                <p:nvPicPr>
                  <p:cNvPr id="80" name="" descr=""/>
                  <p:cNvPicPr/>
                  <p:nvPr/>
                </p:nvPicPr>
                <p:blipFill>
                  <a:blip r:embed="rId2"/>
                  <a:stretch/>
                </p:blipFill>
                <p:spPr>
                  <a:xfrm>
                    <a:off x="3419640" y="330120"/>
                    <a:ext cx="5689440" cy="2076480"/>
                  </a:xfrm>
                  <a:prstGeom prst="rect">
                    <a:avLst/>
                  </a:prstGeom>
                  <a:ln w="0">
                    <a:noFill/>
                  </a:ln>
                </p:spPr>
              </p:pic>
            </p:oleObj>
          </a:graphicData>
        </a:graphic>
      </p:graphicFrame>
      <p:sp>
        <p:nvSpPr>
          <p:cNvPr id="81" name=""/>
          <p:cNvSpPr/>
          <p:nvPr/>
        </p:nvSpPr>
        <p:spPr>
          <a:xfrm>
            <a:off x="34920" y="396720"/>
            <a:ext cx="9074160" cy="6311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268200"/>
                <a:tab algn="l" pos="536400"/>
                <a:tab algn="l" pos="804960"/>
                <a:tab algn="l" pos="1073160"/>
                <a:tab algn="l" pos="1341360"/>
                <a:tab algn="l" pos="1609560"/>
                <a:tab algn="l" pos="1878120"/>
                <a:tab algn="l" pos="2146320"/>
                <a:tab algn="l" pos="2414520"/>
                <a:tab algn="l" pos="2682720"/>
                <a:tab algn="l" pos="2951280"/>
                <a:tab algn="l" pos="3219480"/>
                <a:tab algn="l" pos="3487680"/>
                <a:tab algn="l" pos="3755880"/>
                <a:tab algn="l" pos="4024440"/>
                <a:tab algn="l" pos="4292640"/>
                <a:tab algn="l" pos="4560840"/>
                <a:tab algn="l" pos="4829040"/>
                <a:tab algn="l" pos="5097600"/>
                <a:tab algn="l" pos="5365800"/>
              </a:tabLst>
            </a:pPr>
            <a:r>
              <a:rPr b="1" lang="sr-Latn-CS" sz="2400" spc="-1" strike="noStrike">
                <a:solidFill>
                  <a:srgbClr val="000099"/>
                </a:solidFill>
                <a:latin typeface="Arial Narrow"/>
                <a:ea typeface="Arial"/>
              </a:rPr>
              <a:t>Ako se podsetimo da je </a:t>
            </a:r>
            <a:endParaRPr b="0" lang="en-US" sz="2400" spc="-1" strike="noStrike">
              <a:solidFill>
                <a:srgbClr val="000000"/>
              </a:solidFill>
              <a:latin typeface="Times New Roman"/>
            </a:endParaRPr>
          </a:p>
          <a:p>
            <a:pPr algn="just">
              <a:lnSpc>
                <a:spcPct val="100000"/>
              </a:lnSpc>
              <a:tabLst>
                <a:tab algn="l" pos="0"/>
                <a:tab algn="l" pos="268200"/>
                <a:tab algn="l" pos="536400"/>
                <a:tab algn="l" pos="804960"/>
                <a:tab algn="l" pos="1073160"/>
                <a:tab algn="l" pos="1341360"/>
                <a:tab algn="l" pos="1609560"/>
                <a:tab algn="l" pos="1878120"/>
                <a:tab algn="l" pos="2146320"/>
                <a:tab algn="l" pos="2414520"/>
                <a:tab algn="l" pos="2682720"/>
                <a:tab algn="l" pos="2951280"/>
                <a:tab algn="l" pos="3219480"/>
                <a:tab algn="l" pos="3487680"/>
                <a:tab algn="l" pos="3755880"/>
                <a:tab algn="l" pos="4024440"/>
                <a:tab algn="l" pos="4292640"/>
                <a:tab algn="l" pos="4560840"/>
                <a:tab algn="l" pos="4829040"/>
                <a:tab algn="l" pos="5097600"/>
                <a:tab algn="l" pos="5365800"/>
              </a:tabLst>
            </a:pPr>
            <a:r>
              <a:rPr b="1" lang="sr-Latn-CS" sz="2400" spc="-1" strike="noStrike">
                <a:solidFill>
                  <a:srgbClr val="000099"/>
                </a:solidFill>
                <a:latin typeface="Arial Narrow"/>
                <a:ea typeface="Arial"/>
              </a:rPr>
              <a:t>Podatak</a:t>
            </a:r>
            <a:r>
              <a:rPr b="1" lang="sr-Latn-CS" sz="2400" spc="-1" strike="noStrike">
                <a:solidFill>
                  <a:srgbClr val="000099"/>
                </a:solidFill>
                <a:latin typeface="Arial Narrow"/>
              </a:rPr>
              <a:t> </a:t>
            </a:r>
            <a:r>
              <a:rPr b="1" lang="sr-Latn-CS" sz="2400" spc="-1" strike="noStrike">
                <a:solidFill>
                  <a:srgbClr val="000099"/>
                </a:solidFill>
                <a:latin typeface="Arial Narrow"/>
                <a:ea typeface="Arial"/>
              </a:rPr>
              <a:t>nosilac informacije, </a:t>
            </a:r>
            <a:endParaRPr b="0" lang="en-US" sz="2400" spc="-1" strike="noStrike">
              <a:solidFill>
                <a:srgbClr val="000000"/>
              </a:solidFill>
              <a:latin typeface="Times New Roman"/>
            </a:endParaRPr>
          </a:p>
          <a:p>
            <a:pPr algn="just">
              <a:lnSpc>
                <a:spcPct val="100000"/>
              </a:lnSpc>
              <a:tabLst>
                <a:tab algn="l" pos="0"/>
                <a:tab algn="l" pos="268200"/>
                <a:tab algn="l" pos="536400"/>
                <a:tab algn="l" pos="804960"/>
                <a:tab algn="l" pos="1073160"/>
                <a:tab algn="l" pos="1341360"/>
                <a:tab algn="l" pos="1609560"/>
                <a:tab algn="l" pos="1878120"/>
                <a:tab algn="l" pos="2146320"/>
                <a:tab algn="l" pos="2414520"/>
                <a:tab algn="l" pos="2682720"/>
                <a:tab algn="l" pos="2951280"/>
                <a:tab algn="l" pos="3219480"/>
                <a:tab algn="l" pos="3487680"/>
                <a:tab algn="l" pos="3755880"/>
                <a:tab algn="l" pos="4024440"/>
                <a:tab algn="l" pos="4292640"/>
                <a:tab algn="l" pos="4560840"/>
                <a:tab algn="l" pos="4829040"/>
                <a:tab algn="l" pos="5097600"/>
                <a:tab algn="l" pos="5365800"/>
              </a:tabLst>
            </a:pPr>
            <a:r>
              <a:rPr b="1" lang="sr-Latn-CS" sz="2400" spc="-1" strike="noStrike">
                <a:solidFill>
                  <a:srgbClr val="000099"/>
                </a:solidFill>
                <a:latin typeface="Arial Narrow"/>
                <a:ea typeface="Arial"/>
              </a:rPr>
              <a:t>a da je informacija protumačeni podatak </a:t>
            </a:r>
            <a:endParaRPr b="0" lang="en-US" sz="2400" spc="-1" strike="noStrike">
              <a:solidFill>
                <a:srgbClr val="000000"/>
              </a:solidFill>
              <a:latin typeface="Times New Roman"/>
            </a:endParaRPr>
          </a:p>
          <a:p>
            <a:pPr algn="just">
              <a:lnSpc>
                <a:spcPct val="100000"/>
              </a:lnSpc>
              <a:tabLst>
                <a:tab algn="l" pos="0"/>
                <a:tab algn="l" pos="268200"/>
                <a:tab algn="l" pos="536400"/>
                <a:tab algn="l" pos="804960"/>
                <a:tab algn="l" pos="1073160"/>
                <a:tab algn="l" pos="1341360"/>
                <a:tab algn="l" pos="1609560"/>
                <a:tab algn="l" pos="1878120"/>
                <a:tab algn="l" pos="2146320"/>
                <a:tab algn="l" pos="2414520"/>
                <a:tab algn="l" pos="2682720"/>
                <a:tab algn="l" pos="2951280"/>
                <a:tab algn="l" pos="3219480"/>
                <a:tab algn="l" pos="3487680"/>
                <a:tab algn="l" pos="3755880"/>
                <a:tab algn="l" pos="4024440"/>
                <a:tab algn="l" pos="4292640"/>
                <a:tab algn="l" pos="4560840"/>
                <a:tab algn="l" pos="4829040"/>
                <a:tab algn="l" pos="5097600"/>
                <a:tab algn="l" pos="5365800"/>
              </a:tabLst>
            </a:pPr>
            <a:r>
              <a:rPr b="1" lang="sr-Latn-CS" sz="2400" spc="-1" strike="noStrike">
                <a:solidFill>
                  <a:srgbClr val="000099"/>
                </a:solidFill>
                <a:latin typeface="Arial Narrow"/>
                <a:ea typeface="Arial"/>
              </a:rPr>
              <a:t>možemo sa sigurnošću tvrditi da krajnju </a:t>
            </a:r>
            <a:endParaRPr b="0" lang="en-US" sz="2400" spc="-1" strike="noStrike">
              <a:solidFill>
                <a:srgbClr val="000000"/>
              </a:solidFill>
              <a:latin typeface="Times New Roman"/>
            </a:endParaRPr>
          </a:p>
          <a:p>
            <a:pPr algn="just">
              <a:lnSpc>
                <a:spcPct val="100000"/>
              </a:lnSpc>
              <a:tabLst>
                <a:tab algn="l" pos="0"/>
                <a:tab algn="l" pos="268200"/>
                <a:tab algn="l" pos="536400"/>
                <a:tab algn="l" pos="804960"/>
                <a:tab algn="l" pos="1073160"/>
                <a:tab algn="l" pos="1341360"/>
                <a:tab algn="l" pos="1609560"/>
                <a:tab algn="l" pos="1878120"/>
                <a:tab algn="l" pos="2146320"/>
                <a:tab algn="l" pos="2414520"/>
                <a:tab algn="l" pos="2682720"/>
                <a:tab algn="l" pos="2951280"/>
                <a:tab algn="l" pos="3219480"/>
                <a:tab algn="l" pos="3487680"/>
                <a:tab algn="l" pos="3755880"/>
                <a:tab algn="l" pos="4024440"/>
                <a:tab algn="l" pos="4292640"/>
                <a:tab algn="l" pos="4560840"/>
                <a:tab algn="l" pos="4829040"/>
                <a:tab algn="l" pos="5097600"/>
                <a:tab algn="l" pos="5365800"/>
              </a:tabLst>
            </a:pPr>
            <a:r>
              <a:rPr b="1" lang="sr-Latn-CS" sz="2400" spc="-1" strike="noStrike">
                <a:solidFill>
                  <a:srgbClr val="000099"/>
                </a:solidFill>
                <a:latin typeface="Arial Narrow"/>
                <a:ea typeface="Arial"/>
              </a:rPr>
              <a:t>interpretaciju podataka iz BP daje korisnik</a:t>
            </a:r>
            <a:endParaRPr b="0" lang="en-US" sz="2400" spc="-1" strike="noStrike">
              <a:solidFill>
                <a:srgbClr val="000000"/>
              </a:solidFill>
              <a:latin typeface="Times New Roman"/>
            </a:endParaRPr>
          </a:p>
          <a:p>
            <a:pPr algn="just">
              <a:lnSpc>
                <a:spcPct val="100000"/>
              </a:lnSpc>
              <a:tabLst>
                <a:tab algn="l" pos="0"/>
                <a:tab algn="l" pos="268200"/>
                <a:tab algn="l" pos="536400"/>
                <a:tab algn="l" pos="804960"/>
                <a:tab algn="l" pos="1073160"/>
                <a:tab algn="l" pos="1341360"/>
                <a:tab algn="l" pos="1609560"/>
                <a:tab algn="l" pos="1878120"/>
                <a:tab algn="l" pos="2146320"/>
                <a:tab algn="l" pos="2414520"/>
                <a:tab algn="l" pos="2682720"/>
                <a:tab algn="l" pos="2951280"/>
                <a:tab algn="l" pos="3219480"/>
                <a:tab algn="l" pos="3487680"/>
                <a:tab algn="l" pos="3755880"/>
                <a:tab algn="l" pos="4024440"/>
                <a:tab algn="l" pos="4292640"/>
                <a:tab algn="l" pos="4560840"/>
                <a:tab algn="l" pos="4829040"/>
                <a:tab algn="l" pos="5097600"/>
                <a:tab algn="l" pos="5365800"/>
              </a:tabLst>
            </a:pPr>
            <a:r>
              <a:rPr b="1" lang="sr-Latn-CS" sz="2400" spc="-1" strike="noStrike">
                <a:solidFill>
                  <a:srgbClr val="000099"/>
                </a:solidFill>
                <a:latin typeface="Arial Narrow"/>
                <a:ea typeface="Arial"/>
              </a:rPr>
              <a:t>IS koristeći odgovarajuće programe ili upite. Interpretacija podataka se vrši na osnovu </a:t>
            </a:r>
            <a:r>
              <a:rPr b="1" lang="sr-Latn-CS" sz="2400" spc="-1" strike="noStrike">
                <a:solidFill>
                  <a:srgbClr val="cc3300"/>
                </a:solidFill>
                <a:latin typeface="Arial Narrow"/>
                <a:ea typeface="Arial"/>
              </a:rPr>
              <a:t>strukture podataka</a:t>
            </a:r>
            <a:r>
              <a:rPr b="1" lang="sr-Latn-CS" sz="2400" spc="-1" strike="noStrike">
                <a:solidFill>
                  <a:srgbClr val="000099"/>
                </a:solidFill>
                <a:latin typeface="Arial Narrow"/>
                <a:ea typeface="Arial"/>
              </a:rPr>
              <a:t>, </a:t>
            </a:r>
            <a:r>
              <a:rPr b="1" lang="sr-Latn-CS" sz="2400" spc="-1" strike="noStrike">
                <a:solidFill>
                  <a:srgbClr val="cc3300"/>
                </a:solidFill>
                <a:latin typeface="Arial Narrow"/>
                <a:ea typeface="Arial"/>
              </a:rPr>
              <a:t>semantičkih ograničenja</a:t>
            </a:r>
            <a:r>
              <a:rPr b="1" lang="sr-Latn-CS" sz="2400" spc="-1" strike="noStrike">
                <a:solidFill>
                  <a:srgbClr val="000099"/>
                </a:solidFill>
                <a:latin typeface="Arial Narrow"/>
                <a:ea typeface="Arial"/>
              </a:rPr>
              <a:t> na njihove vrednosti i preko </a:t>
            </a:r>
            <a:r>
              <a:rPr b="1" lang="sr-Latn-CS" sz="2400" spc="-1" strike="noStrike">
                <a:solidFill>
                  <a:srgbClr val="cc3300"/>
                </a:solidFill>
                <a:latin typeface="Arial Narrow"/>
                <a:ea typeface="Arial"/>
              </a:rPr>
              <a:t>operacija</a:t>
            </a:r>
            <a:r>
              <a:rPr b="1" lang="sr-Latn-CS" sz="2400" spc="-1" strike="noStrike">
                <a:solidFill>
                  <a:srgbClr val="000099"/>
                </a:solidFill>
                <a:latin typeface="Arial Narrow"/>
                <a:ea typeface="Arial"/>
              </a:rPr>
              <a:t> koje se nad podacima mogu izvršiti. Prema ovim definicijama svaki model podataka treba da čine sledeće komponente: </a:t>
            </a:r>
            <a:r>
              <a:rPr b="1" lang="sr-Latn-CS" sz="2400" spc="-1" strike="noStrike">
                <a:solidFill>
                  <a:srgbClr val="cc3300"/>
                </a:solidFill>
                <a:latin typeface="Arial Narrow"/>
                <a:ea typeface="Arial"/>
              </a:rPr>
              <a:t>Struktura modela</a:t>
            </a:r>
            <a:r>
              <a:rPr b="1" lang="sr-Latn-CS" sz="2400" spc="-1" strike="noStrike">
                <a:solidFill>
                  <a:srgbClr val="000099"/>
                </a:solidFill>
                <a:latin typeface="Arial Narrow"/>
                <a:ea typeface="Arial"/>
              </a:rPr>
              <a:t>, odnosno skup koncepata za opis objekata sistema, njihovih atributa i njihovih međusobnih veza; </a:t>
            </a:r>
            <a:r>
              <a:rPr b="1" lang="sr-Latn-CS" sz="2400" spc="-1" strike="noStrike">
                <a:solidFill>
                  <a:srgbClr val="cc3300"/>
                </a:solidFill>
                <a:latin typeface="Arial Narrow"/>
                <a:ea typeface="Arial"/>
              </a:rPr>
              <a:t>Ograničenja</a:t>
            </a:r>
            <a:r>
              <a:rPr b="1" lang="sr-Latn-CS" sz="2400" spc="-1" strike="noStrike">
                <a:solidFill>
                  <a:srgbClr val="000099"/>
                </a:solidFill>
                <a:latin typeface="Arial Narrow"/>
                <a:ea typeface="Arial"/>
              </a:rPr>
              <a:t> na vrednost podataka u modelu koja u svakom trenutku posmatranja moraju biti zadovoljena. Ova ograničenja se obično </a:t>
            </a:r>
            <a:r>
              <a:rPr b="1" lang="sr-Latn-CS" sz="2400" spc="-1" strike="noStrike">
                <a:solidFill>
                  <a:srgbClr val="000099"/>
                </a:solidFill>
                <a:latin typeface="Arial Narrow"/>
                <a:ea typeface="Arial"/>
              </a:rPr>
              <a:t>	</a:t>
            </a:r>
            <a:r>
              <a:rPr b="1" lang="sr-Latn-CS" sz="2400" spc="-1" strike="noStrike">
                <a:solidFill>
                  <a:srgbClr val="000099"/>
                </a:solidFill>
                <a:latin typeface="Arial Narrow"/>
                <a:ea typeface="Arial"/>
              </a:rPr>
              <a:t>nazivaju </a:t>
            </a:r>
            <a:r>
              <a:rPr b="1" lang="sr-Latn-CS" sz="2400" spc="-1" strike="noStrike" u="sng">
                <a:solidFill>
                  <a:srgbClr val="000099"/>
                </a:solidFill>
                <a:uFillTx/>
                <a:latin typeface="Arial Narrow"/>
                <a:ea typeface="Arial"/>
              </a:rPr>
              <a:t>statičkim pravilima integriteta baze</a:t>
            </a:r>
            <a:r>
              <a:rPr b="1" lang="sr-Latn-CS" sz="2400" spc="-1" strike="noStrike">
                <a:solidFill>
                  <a:srgbClr val="000099"/>
                </a:solidFill>
                <a:latin typeface="Arial Narrow"/>
                <a:ea typeface="Arial"/>
              </a:rPr>
              <a:t>; </a:t>
            </a:r>
            <a:r>
              <a:rPr b="1" lang="sr-Latn-CS" sz="2400" spc="-1" strike="noStrike">
                <a:solidFill>
                  <a:srgbClr val="cc3300"/>
                </a:solidFill>
                <a:latin typeface="Arial Narrow"/>
                <a:ea typeface="Arial"/>
              </a:rPr>
              <a:t>Operacije nad konceptima strukture</a:t>
            </a:r>
            <a:r>
              <a:rPr b="1" lang="sr-Latn-CS" sz="2400" spc="-1" strike="noStrike">
                <a:solidFill>
                  <a:srgbClr val="000099"/>
                </a:solidFill>
                <a:latin typeface="Arial Narrow"/>
                <a:ea typeface="Arial"/>
              </a:rPr>
              <a:t> preko kojih je moguće prikazati i menjati vrednosti podataka u bazi; </a:t>
            </a:r>
            <a:r>
              <a:rPr b="1" lang="sr-Latn-CS" sz="2400" spc="-1" strike="noStrike">
                <a:solidFill>
                  <a:srgbClr val="cc3300"/>
                </a:solidFill>
                <a:latin typeface="Arial Narrow"/>
                <a:ea typeface="Arial"/>
              </a:rPr>
              <a:t>Dinamička pravila integriteta</a:t>
            </a:r>
            <a:r>
              <a:rPr b="1" lang="sr-Latn-CS" sz="2400" spc="-1" strike="noStrike">
                <a:solidFill>
                  <a:srgbClr val="000099"/>
                </a:solidFill>
                <a:latin typeface="Arial Narrow"/>
                <a:ea typeface="Arial"/>
              </a:rPr>
              <a:t> kojim se definiše osnovno dinamičko ponašanje modela</a:t>
            </a:r>
            <a:r>
              <a:rPr b="1" lang="sr-Latn-CS" sz="2400" spc="-1" strike="noStrike">
                <a:solidFill>
                  <a:srgbClr val="000099"/>
                </a:solidFill>
                <a:latin typeface="Arial Narrow"/>
              </a:rPr>
              <a:t>,</a:t>
            </a:r>
            <a:r>
              <a:rPr b="1" lang="sr-Latn-CS" sz="2400" spc="-1" strike="noStrike">
                <a:solidFill>
                  <a:srgbClr val="000099"/>
                </a:solidFill>
                <a:latin typeface="Arial Narrow"/>
                <a:ea typeface="Arial"/>
              </a:rPr>
              <a:t> </a:t>
            </a:r>
            <a:r>
              <a:rPr b="1" lang="sr-Latn-CS" sz="2400" spc="-1" strike="noStrike">
                <a:solidFill>
                  <a:srgbClr val="000099"/>
                </a:solidFill>
                <a:latin typeface="Arial Narrow"/>
              </a:rPr>
              <a:t>u smislu</a:t>
            </a:r>
            <a:r>
              <a:rPr b="1" lang="sr-Latn-CS" sz="2400" spc="-1" strike="noStrike">
                <a:solidFill>
                  <a:srgbClr val="000099"/>
                </a:solidFill>
                <a:latin typeface="Arial Narrow"/>
                <a:ea typeface="Arial"/>
              </a:rPr>
              <a:t> kao </a:t>
            </a:r>
            <a:r>
              <a:rPr b="1" lang="sr-Latn-CS" sz="2400" spc="-1" strike="noStrike">
                <a:solidFill>
                  <a:srgbClr val="cc3300"/>
                </a:solidFill>
                <a:latin typeface="Arial Narrow"/>
                <a:ea typeface="Arial"/>
              </a:rPr>
              <a:t>&lt;Operacija, Ograničenje, Akcija&gt;.</a:t>
            </a:r>
            <a:r>
              <a:rPr b="1" lang="en-US" sz="2400" spc="-1" strike="noStrike">
                <a:solidFill>
                  <a:srgbClr val="000099"/>
                </a:solidFill>
                <a:latin typeface="Arial Narrow"/>
              </a:rPr>
              <a:t> </a:t>
            </a:r>
            <a:endParaRPr b="0" lang="en-US" sz="2400" spc="-1" strike="noStrike">
              <a:solidFill>
                <a:srgbClr val="000000"/>
              </a:solidFill>
              <a:latin typeface="Times New Roman"/>
            </a:endParaRPr>
          </a:p>
        </p:txBody>
      </p:sp>
      <p:grpSp>
        <p:nvGrpSpPr>
          <p:cNvPr id="82" name=""/>
          <p:cNvGrpSpPr/>
          <p:nvPr/>
        </p:nvGrpSpPr>
        <p:grpSpPr>
          <a:xfrm>
            <a:off x="0" y="6526080"/>
            <a:ext cx="9143640" cy="327240"/>
            <a:chOff x="0" y="6526080"/>
            <a:chExt cx="9143640" cy="327240"/>
          </a:xfrm>
        </p:grpSpPr>
        <p:sp>
          <p:nvSpPr>
            <p:cNvPr id="83" name=""/>
            <p:cNvSpPr/>
            <p:nvPr/>
          </p:nvSpPr>
          <p:spPr>
            <a:xfrm>
              <a:off x="34560" y="6607080"/>
              <a:ext cx="91090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89107E-12B8-4624-ADFA-2748181E4662}" type="slidenum">
                <a:rPr b="1" lang="sl-SI" sz="1000" spc="-1" strike="noStrike">
                  <a:solidFill>
                    <a:srgbClr val="000066"/>
                  </a:solidFill>
                  <a:latin typeface="Arial"/>
                </a:rPr>
                <a:t>&lt;number&gt;</a:t>
              </a:fld>
              <a:endParaRPr b="0" lang="en-US" sz="1000" spc="-1" strike="noStrike">
                <a:solidFill>
                  <a:srgbClr val="000000"/>
                </a:solidFill>
                <a:latin typeface="Times New Roman"/>
              </a:endParaRPr>
            </a:p>
          </p:txBody>
        </p:sp>
        <p:sp>
          <p:nvSpPr>
            <p:cNvPr id="84" name=""/>
            <p:cNvSpPr/>
            <p:nvPr/>
          </p:nvSpPr>
          <p:spPr>
            <a:xfrm>
              <a:off x="34560" y="6607080"/>
              <a:ext cx="2432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66"/>
                  </a:solidFill>
                  <a:latin typeface="Arial"/>
                </a:rPr>
                <a:t>      </a:t>
              </a:r>
              <a:r>
                <a:rPr b="1" lang="sr-Latn-CS" sz="1000" spc="-1" strike="noStrike">
                  <a:solidFill>
                    <a:srgbClr val="000066"/>
                  </a:solidFill>
                  <a:latin typeface="Arial"/>
                </a:rPr>
                <a:t>BP-3P</a:t>
              </a:r>
              <a:endParaRPr b="0" lang="en-US" sz="1000" spc="-1" strike="noStrike">
                <a:solidFill>
                  <a:srgbClr val="000000"/>
                </a:solidFill>
                <a:latin typeface="Times New Roman"/>
              </a:endParaRPr>
            </a:p>
          </p:txBody>
        </p:sp>
        <p:graphicFrame>
          <p:nvGraphicFramePr>
            <p:cNvPr id="85" name=""/>
            <p:cNvGraphicFramePr/>
            <p:nvPr/>
          </p:nvGraphicFramePr>
          <p:xfrm>
            <a:off x="0" y="6526080"/>
            <a:ext cx="232200" cy="285840"/>
          </p:xfrm>
          <a:graphic>
            <a:graphicData uri="http://schemas.openxmlformats.org/presentationml/2006/ole">
              <p:oleObj r:id="rId3" spid="">
                <p:embed/>
                <p:pic>
                  <p:nvPicPr>
                    <p:cNvPr id="86" name="" descr=""/>
                    <p:cNvPicPr/>
                    <p:nvPr/>
                  </p:nvPicPr>
                  <p:blipFill>
                    <a:blip r:embed="rId4"/>
                    <a:stretch/>
                  </p:blipFill>
                  <p:spPr>
                    <a:xfrm>
                      <a:off x="0" y="6526080"/>
                      <a:ext cx="232200" cy="285840"/>
                    </a:xfrm>
                    <a:prstGeom prst="rect">
                      <a:avLst/>
                    </a:prstGeom>
                    <a:ln w="0">
                      <a:noFill/>
                    </a:ln>
                  </p:spPr>
                </p:pic>
              </p:oleObj>
            </a:graphicData>
          </a:graphic>
        </p:graphicFrame>
      </p:grpSp>
      <p:sp>
        <p:nvSpPr>
          <p:cNvPr id="87" name=""/>
          <p:cNvSpPr/>
          <p:nvPr/>
        </p:nvSpPr>
        <p:spPr>
          <a:xfrm>
            <a:off x="0" y="0"/>
            <a:ext cx="9144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u="sng">
                <a:solidFill>
                  <a:srgbClr val="000099"/>
                </a:solidFill>
                <a:uFillTx/>
                <a:latin typeface="Arial"/>
              </a:rPr>
              <a:t>BP–Modul1-NJ3-Model podataka</a:t>
            </a:r>
            <a:endParaRPr b="0" lang="en-US" sz="2000" spc="-1" strike="noStrike">
              <a:solidFill>
                <a:srgbClr val="000000"/>
              </a:solidFill>
              <a:latin typeface="Times New Roman"/>
            </a:endParaRPr>
          </a:p>
        </p:txBody>
      </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34920" y="396720"/>
            <a:ext cx="9074160" cy="6311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268200"/>
                <a:tab algn="l" pos="536400"/>
                <a:tab algn="l" pos="804960"/>
                <a:tab algn="l" pos="1073160"/>
                <a:tab algn="l" pos="1341360"/>
                <a:tab algn="l" pos="1609560"/>
                <a:tab algn="l" pos="1878120"/>
                <a:tab algn="l" pos="2146320"/>
                <a:tab algn="l" pos="2414520"/>
                <a:tab algn="l" pos="2682720"/>
                <a:tab algn="l" pos="2951280"/>
                <a:tab algn="l" pos="3219480"/>
                <a:tab algn="l" pos="3487680"/>
                <a:tab algn="l" pos="3755880"/>
                <a:tab algn="l" pos="4024440"/>
                <a:tab algn="l" pos="4292640"/>
                <a:tab algn="l" pos="4560840"/>
                <a:tab algn="l" pos="4829040"/>
                <a:tab algn="l" pos="5097600"/>
                <a:tab algn="l" pos="5365800"/>
              </a:tabLst>
            </a:pPr>
            <a:r>
              <a:rPr b="1" lang="sr-Latn-CS" sz="2400" spc="-1" strike="noStrike">
                <a:solidFill>
                  <a:srgbClr val="000099"/>
                </a:solidFill>
                <a:latin typeface="Arial Narrow"/>
                <a:ea typeface="Arial"/>
              </a:rPr>
              <a:t>Osnovni problem u modelovanju realnih sistema je složenost sistema. U realnom sistemu postoje milioni objekata, njihovih složenih veza i njihovih atributa. Opšti metodološki postupak za savlađivanje složenosti u opisu sistema je </a:t>
            </a:r>
            <a:r>
              <a:rPr b="1" lang="sr-Latn-CS" sz="2400" spc="-1" strike="noStrike" u="sng">
                <a:solidFill>
                  <a:srgbClr val="cc3300"/>
                </a:solidFill>
                <a:uFillTx/>
                <a:latin typeface="Arial Narrow"/>
                <a:ea typeface="Arial"/>
              </a:rPr>
              <a:t>apstrakcija</a:t>
            </a:r>
            <a:r>
              <a:rPr b="1" lang="sr-Latn-CS" sz="2400" spc="-1" strike="noStrike">
                <a:solidFill>
                  <a:srgbClr val="cc3300"/>
                </a:solidFill>
                <a:latin typeface="Arial Narrow"/>
                <a:ea typeface="Arial"/>
              </a:rPr>
              <a:t>.</a:t>
            </a:r>
            <a:endParaRPr b="0" lang="en-US" sz="2400" spc="-1" strike="noStrike">
              <a:solidFill>
                <a:srgbClr val="000000"/>
              </a:solidFill>
              <a:latin typeface="Times New Roman"/>
            </a:endParaRPr>
          </a:p>
          <a:p>
            <a:pPr algn="just">
              <a:lnSpc>
                <a:spcPct val="100000"/>
              </a:lnSpc>
              <a:tabLst>
                <a:tab algn="l" pos="0"/>
                <a:tab algn="l" pos="268200"/>
                <a:tab algn="l" pos="536400"/>
                <a:tab algn="l" pos="804960"/>
                <a:tab algn="l" pos="1073160"/>
                <a:tab algn="l" pos="1341360"/>
                <a:tab algn="l" pos="1609560"/>
                <a:tab algn="l" pos="1878120"/>
                <a:tab algn="l" pos="2146320"/>
                <a:tab algn="l" pos="2414520"/>
                <a:tab algn="l" pos="2682720"/>
                <a:tab algn="l" pos="2951280"/>
                <a:tab algn="l" pos="3219480"/>
                <a:tab algn="l" pos="3487680"/>
                <a:tab algn="l" pos="3755880"/>
                <a:tab algn="l" pos="4024440"/>
                <a:tab algn="l" pos="4292640"/>
                <a:tab algn="l" pos="4560840"/>
                <a:tab algn="l" pos="4829040"/>
                <a:tab algn="l" pos="5097600"/>
                <a:tab algn="l" pos="5365800"/>
              </a:tabLst>
            </a:pPr>
            <a:r>
              <a:rPr b="1" lang="sr-Latn-CS" sz="2400" spc="-1" strike="noStrike">
                <a:solidFill>
                  <a:srgbClr val="000099"/>
                </a:solidFill>
                <a:latin typeface="Arial Narrow"/>
                <a:ea typeface="Arial"/>
              </a:rPr>
              <a:t> </a:t>
            </a:r>
            <a:endParaRPr b="0" lang="en-US" sz="2400" spc="-1" strike="noStrike">
              <a:solidFill>
                <a:srgbClr val="000000"/>
              </a:solidFill>
              <a:latin typeface="Times New Roman"/>
            </a:endParaRPr>
          </a:p>
          <a:p>
            <a:pPr algn="just">
              <a:lnSpc>
                <a:spcPct val="100000"/>
              </a:lnSpc>
              <a:tabLst>
                <a:tab algn="l" pos="0"/>
                <a:tab algn="l" pos="268200"/>
                <a:tab algn="l" pos="536400"/>
                <a:tab algn="l" pos="804960"/>
                <a:tab algn="l" pos="1073160"/>
                <a:tab algn="l" pos="1341360"/>
                <a:tab algn="l" pos="1609560"/>
                <a:tab algn="l" pos="1878120"/>
                <a:tab algn="l" pos="2146320"/>
                <a:tab algn="l" pos="2414520"/>
                <a:tab algn="l" pos="2682720"/>
                <a:tab algn="l" pos="2951280"/>
                <a:tab algn="l" pos="3219480"/>
                <a:tab algn="l" pos="3487680"/>
                <a:tab algn="l" pos="3755880"/>
                <a:tab algn="l" pos="4024440"/>
                <a:tab algn="l" pos="4292640"/>
                <a:tab algn="l" pos="4560840"/>
                <a:tab algn="l" pos="4829040"/>
                <a:tab algn="l" pos="5097600"/>
                <a:tab algn="l" pos="5365800"/>
              </a:tabLst>
            </a:pPr>
            <a:r>
              <a:rPr b="1" lang="sr-Latn-CS" sz="2400" spc="-1" strike="noStrike">
                <a:solidFill>
                  <a:srgbClr val="cc3300"/>
                </a:solidFill>
                <a:latin typeface="Arial Narrow"/>
                <a:ea typeface="Arial"/>
              </a:rPr>
              <a:t>Apstrakcija</a:t>
            </a:r>
            <a:r>
              <a:rPr b="1" lang="sr-Latn-CS" sz="2400" spc="-1" strike="noStrike">
                <a:solidFill>
                  <a:srgbClr val="000099"/>
                </a:solidFill>
                <a:latin typeface="Arial Narrow"/>
                <a:ea typeface="Arial"/>
              </a:rPr>
              <a:t> je kontrolisano i postepeno uključivanje detalja u opis sistema, odnosno “sakrivanje” detalja u opisivanju sistema. </a:t>
            </a:r>
            <a:endParaRPr b="0" lang="en-US" sz="2400" spc="-1" strike="noStrike">
              <a:solidFill>
                <a:srgbClr val="000000"/>
              </a:solidFill>
              <a:latin typeface="Times New Roman"/>
            </a:endParaRPr>
          </a:p>
          <a:p>
            <a:pPr algn="just">
              <a:lnSpc>
                <a:spcPct val="100000"/>
              </a:lnSpc>
              <a:tabLst>
                <a:tab algn="l" pos="0"/>
                <a:tab algn="l" pos="268200"/>
                <a:tab algn="l" pos="536400"/>
                <a:tab algn="l" pos="804960"/>
                <a:tab algn="l" pos="1073160"/>
                <a:tab algn="l" pos="1341360"/>
                <a:tab algn="l" pos="1609560"/>
                <a:tab algn="l" pos="1878120"/>
                <a:tab algn="l" pos="2146320"/>
                <a:tab algn="l" pos="2414520"/>
                <a:tab algn="l" pos="2682720"/>
                <a:tab algn="l" pos="2951280"/>
                <a:tab algn="l" pos="3219480"/>
                <a:tab algn="l" pos="3487680"/>
                <a:tab algn="l" pos="3755880"/>
                <a:tab algn="l" pos="4024440"/>
                <a:tab algn="l" pos="4292640"/>
                <a:tab algn="l" pos="4560840"/>
                <a:tab algn="l" pos="4829040"/>
                <a:tab algn="l" pos="5097600"/>
                <a:tab algn="l" pos="5365800"/>
              </a:tabLst>
            </a:pPr>
            <a:r>
              <a:rPr b="1" lang="sr-Latn-CS" sz="2400" spc="-1" strike="noStrike">
                <a:solidFill>
                  <a:srgbClr val="000099"/>
                </a:solidFill>
                <a:latin typeface="Arial Narrow"/>
                <a:ea typeface="Arial"/>
              </a:rPr>
              <a:t> </a:t>
            </a:r>
            <a:endParaRPr b="0" lang="en-US" sz="2400" spc="-1" strike="noStrike">
              <a:solidFill>
                <a:srgbClr val="000000"/>
              </a:solidFill>
              <a:latin typeface="Times New Roman"/>
            </a:endParaRPr>
          </a:p>
          <a:p>
            <a:pPr algn="just">
              <a:lnSpc>
                <a:spcPct val="100000"/>
              </a:lnSpc>
              <a:tabLst>
                <a:tab algn="l" pos="0"/>
                <a:tab algn="l" pos="268200"/>
                <a:tab algn="l" pos="536400"/>
                <a:tab algn="l" pos="804960"/>
                <a:tab algn="l" pos="1073160"/>
                <a:tab algn="l" pos="1341360"/>
                <a:tab algn="l" pos="1609560"/>
                <a:tab algn="l" pos="1878120"/>
                <a:tab algn="l" pos="2146320"/>
                <a:tab algn="l" pos="2414520"/>
                <a:tab algn="l" pos="2682720"/>
                <a:tab algn="l" pos="2951280"/>
                <a:tab algn="l" pos="3219480"/>
                <a:tab algn="l" pos="3487680"/>
                <a:tab algn="l" pos="3755880"/>
                <a:tab algn="l" pos="4024440"/>
                <a:tab algn="l" pos="4292640"/>
                <a:tab algn="l" pos="4560840"/>
                <a:tab algn="l" pos="4829040"/>
                <a:tab algn="l" pos="5097600"/>
                <a:tab algn="l" pos="5365800"/>
              </a:tabLst>
            </a:pPr>
            <a:r>
              <a:rPr b="1" lang="sr-Latn-CS" sz="2400" spc="-1" strike="noStrike">
                <a:solidFill>
                  <a:srgbClr val="000099"/>
                </a:solidFill>
                <a:latin typeface="Arial Narrow"/>
                <a:ea typeface="Arial"/>
              </a:rPr>
              <a:t>U modelima podataka koriste se sledeće apstrakcije:</a:t>
            </a:r>
            <a:endParaRPr b="0" lang="en-US" sz="2400" spc="-1" strike="noStrike">
              <a:solidFill>
                <a:srgbClr val="000000"/>
              </a:solidFill>
              <a:latin typeface="Times New Roman"/>
            </a:endParaRPr>
          </a:p>
          <a:p>
            <a:pPr algn="just">
              <a:lnSpc>
                <a:spcPct val="100000"/>
              </a:lnSpc>
              <a:buSzPct val="102884"/>
              <a:buBlip>
                <a:blip r:embed="rId1"/>
              </a:buBlip>
              <a:tabLst>
                <a:tab algn="l" pos="268200"/>
                <a:tab algn="l" pos="536400"/>
                <a:tab algn="l" pos="804960"/>
                <a:tab algn="l" pos="1073160"/>
                <a:tab algn="l" pos="1341360"/>
                <a:tab algn="l" pos="1609560"/>
                <a:tab algn="l" pos="1878120"/>
                <a:tab algn="l" pos="2146320"/>
                <a:tab algn="l" pos="2414520"/>
                <a:tab algn="l" pos="2682720"/>
                <a:tab algn="l" pos="2951280"/>
                <a:tab algn="l" pos="3219480"/>
                <a:tab algn="l" pos="3487680"/>
                <a:tab algn="l" pos="3755880"/>
                <a:tab algn="l" pos="4024440"/>
                <a:tab algn="l" pos="4292640"/>
                <a:tab algn="l" pos="4560840"/>
                <a:tab algn="l" pos="4829040"/>
                <a:tab algn="l" pos="5097600"/>
                <a:tab algn="l" pos="5365800"/>
              </a:tabLst>
            </a:pPr>
            <a:r>
              <a:rPr b="1" lang="sr-Latn-CS" sz="2400" spc="-1" strike="noStrike">
                <a:solidFill>
                  <a:srgbClr val="cc3300"/>
                </a:solidFill>
                <a:latin typeface="Arial Narrow"/>
                <a:ea typeface="Arial"/>
              </a:rPr>
              <a:t>Tipizacija (klasifikacija)</a:t>
            </a:r>
            <a:r>
              <a:rPr b="1" lang="sr-Latn-CS" sz="2400" spc="-1" strike="noStrike">
                <a:solidFill>
                  <a:srgbClr val="000099"/>
                </a:solidFill>
                <a:latin typeface="Arial Narrow"/>
                <a:ea typeface="Arial"/>
              </a:rPr>
              <a:t> objekata, odnosno podataka. Objekti koji imaju isti skup osobina (atributa i veza) i isto dinamičko ponašanje mogu se predstaviti tipom ili klasom.</a:t>
            </a:r>
            <a:endParaRPr b="0" lang="en-US" sz="2400" spc="-1" strike="noStrike">
              <a:solidFill>
                <a:srgbClr val="000000"/>
              </a:solidFill>
              <a:latin typeface="Times New Roman"/>
            </a:endParaRPr>
          </a:p>
          <a:p>
            <a:pPr algn="just">
              <a:lnSpc>
                <a:spcPct val="100000"/>
              </a:lnSpc>
              <a:buSzPct val="102884"/>
              <a:buBlip>
                <a:blip r:embed="rId2"/>
              </a:buBlip>
              <a:tabLst>
                <a:tab algn="l" pos="268200"/>
                <a:tab algn="l" pos="536400"/>
                <a:tab algn="l" pos="804960"/>
                <a:tab algn="l" pos="1073160"/>
                <a:tab algn="l" pos="1341360"/>
                <a:tab algn="l" pos="1609560"/>
                <a:tab algn="l" pos="1878120"/>
                <a:tab algn="l" pos="2146320"/>
                <a:tab algn="l" pos="2414520"/>
                <a:tab algn="l" pos="2682720"/>
                <a:tab algn="l" pos="2951280"/>
                <a:tab algn="l" pos="3219480"/>
                <a:tab algn="l" pos="3487680"/>
                <a:tab algn="l" pos="3755880"/>
                <a:tab algn="l" pos="4024440"/>
                <a:tab algn="l" pos="4292640"/>
                <a:tab algn="l" pos="4560840"/>
                <a:tab algn="l" pos="4829040"/>
                <a:tab algn="l" pos="5097600"/>
                <a:tab algn="l" pos="5365800"/>
              </a:tabLst>
            </a:pPr>
            <a:r>
              <a:rPr b="1" lang="en-GB" sz="2400" spc="-1" strike="noStrike">
                <a:solidFill>
                  <a:srgbClr val="cc3300"/>
                </a:solidFill>
                <a:latin typeface="Arial Narrow"/>
                <a:ea typeface="Arial"/>
              </a:rPr>
              <a:t>Generali</a:t>
            </a:r>
            <a:r>
              <a:rPr b="1" lang="sr-Latn-CS" sz="2400" spc="-1" strike="noStrike">
                <a:solidFill>
                  <a:srgbClr val="cc3300"/>
                </a:solidFill>
                <a:latin typeface="Arial Narrow"/>
                <a:ea typeface="Arial"/>
              </a:rPr>
              <a:t>z</a:t>
            </a:r>
            <a:r>
              <a:rPr b="1" lang="en-GB" sz="2400" spc="-1" strike="noStrike">
                <a:solidFill>
                  <a:srgbClr val="cc3300"/>
                </a:solidFill>
                <a:latin typeface="Arial Narrow"/>
                <a:ea typeface="Arial"/>
              </a:rPr>
              <a:t>acija</a:t>
            </a:r>
            <a:r>
              <a:rPr b="1" lang="sr-Latn-CS" sz="2400" spc="-1" strike="noStrike">
                <a:solidFill>
                  <a:srgbClr val="000099"/>
                </a:solidFill>
                <a:latin typeface="Arial Narrow"/>
                <a:ea typeface="Arial"/>
              </a:rPr>
              <a:t> je apstrakcija u kojoj se skup sličnih tipova  objekata predstalja opštijim generičkim tipom odnosno nadtipom. Slični su oni tipovi objekata koji imaju neke zajedničke osobine i ponašanje.</a:t>
            </a:r>
            <a:endParaRPr b="0" lang="en-US" sz="2400" spc="-1" strike="noStrike">
              <a:solidFill>
                <a:srgbClr val="000000"/>
              </a:solidFill>
              <a:latin typeface="Times New Roman"/>
            </a:endParaRPr>
          </a:p>
          <a:p>
            <a:pPr algn="just">
              <a:lnSpc>
                <a:spcPct val="100000"/>
              </a:lnSpc>
              <a:buSzPct val="102884"/>
              <a:buBlip>
                <a:blip r:embed="rId3"/>
              </a:buBlip>
              <a:tabLst>
                <a:tab algn="l" pos="268200"/>
                <a:tab algn="l" pos="536400"/>
                <a:tab algn="l" pos="804960"/>
                <a:tab algn="l" pos="1073160"/>
                <a:tab algn="l" pos="1341360"/>
                <a:tab algn="l" pos="1609560"/>
                <a:tab algn="l" pos="1878120"/>
                <a:tab algn="l" pos="2146320"/>
                <a:tab algn="l" pos="2414520"/>
                <a:tab algn="l" pos="2682720"/>
                <a:tab algn="l" pos="2951280"/>
                <a:tab algn="l" pos="3219480"/>
                <a:tab algn="l" pos="3487680"/>
                <a:tab algn="l" pos="3755880"/>
                <a:tab algn="l" pos="4024440"/>
                <a:tab algn="l" pos="4292640"/>
                <a:tab algn="l" pos="4560840"/>
                <a:tab algn="l" pos="4829040"/>
                <a:tab algn="l" pos="5097600"/>
                <a:tab algn="l" pos="5365800"/>
              </a:tabLst>
            </a:pPr>
            <a:r>
              <a:rPr b="1" lang="sr-Latn-CS" sz="2400" spc="-1" strike="noStrike">
                <a:solidFill>
                  <a:srgbClr val="cc3300"/>
                </a:solidFill>
                <a:latin typeface="Arial Narrow"/>
                <a:ea typeface="Arial"/>
              </a:rPr>
              <a:t>Agregacija</a:t>
            </a:r>
            <a:r>
              <a:rPr b="1" lang="sr-Latn-CS" sz="2400" spc="-1" strike="noStrike">
                <a:solidFill>
                  <a:srgbClr val="000099"/>
                </a:solidFill>
                <a:latin typeface="Arial Narrow"/>
                <a:ea typeface="Arial"/>
              </a:rPr>
              <a:t> je apstrakcija u kojoj se skup objekata i njihovih međusobnih veza tretira kao novi, jedinstveni, agregirani tip. </a:t>
            </a:r>
            <a:endParaRPr b="0" lang="en-US" sz="2400" spc="-1" strike="noStrike">
              <a:solidFill>
                <a:srgbClr val="000000"/>
              </a:solidFill>
              <a:latin typeface="Times New Roman"/>
            </a:endParaRPr>
          </a:p>
        </p:txBody>
      </p:sp>
      <p:grpSp>
        <p:nvGrpSpPr>
          <p:cNvPr id="89" name=""/>
          <p:cNvGrpSpPr/>
          <p:nvPr/>
        </p:nvGrpSpPr>
        <p:grpSpPr>
          <a:xfrm>
            <a:off x="0" y="6526080"/>
            <a:ext cx="9143640" cy="327240"/>
            <a:chOff x="0" y="6526080"/>
            <a:chExt cx="9143640" cy="327240"/>
          </a:xfrm>
        </p:grpSpPr>
        <p:sp>
          <p:nvSpPr>
            <p:cNvPr id="90" name=""/>
            <p:cNvSpPr/>
            <p:nvPr/>
          </p:nvSpPr>
          <p:spPr>
            <a:xfrm>
              <a:off x="34560" y="6607080"/>
              <a:ext cx="91090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B52DEB-45A6-47D4-B62D-5EFA5605C3C5}" type="slidenum">
                <a:rPr b="1" lang="sl-SI" sz="1000" spc="-1" strike="noStrike">
                  <a:solidFill>
                    <a:srgbClr val="000066"/>
                  </a:solidFill>
                  <a:latin typeface="Arial"/>
                </a:rPr>
                <a:t>&lt;number&gt;</a:t>
              </a:fld>
              <a:endParaRPr b="0" lang="en-US" sz="1000" spc="-1" strike="noStrike">
                <a:solidFill>
                  <a:srgbClr val="000000"/>
                </a:solidFill>
                <a:latin typeface="Times New Roman"/>
              </a:endParaRPr>
            </a:p>
          </p:txBody>
        </p:sp>
        <p:sp>
          <p:nvSpPr>
            <p:cNvPr id="91" name=""/>
            <p:cNvSpPr/>
            <p:nvPr/>
          </p:nvSpPr>
          <p:spPr>
            <a:xfrm>
              <a:off x="34560" y="6607080"/>
              <a:ext cx="2432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66"/>
                  </a:solidFill>
                  <a:latin typeface="Arial"/>
                </a:rPr>
                <a:t>      </a:t>
              </a:r>
              <a:r>
                <a:rPr b="1" lang="sr-Latn-CS" sz="1000" spc="-1" strike="noStrike">
                  <a:solidFill>
                    <a:srgbClr val="000066"/>
                  </a:solidFill>
                  <a:latin typeface="Arial"/>
                </a:rPr>
                <a:t>BP-3P</a:t>
              </a:r>
              <a:endParaRPr b="0" lang="en-US" sz="1000" spc="-1" strike="noStrike">
                <a:solidFill>
                  <a:srgbClr val="000000"/>
                </a:solidFill>
                <a:latin typeface="Times New Roman"/>
              </a:endParaRPr>
            </a:p>
          </p:txBody>
        </p:sp>
        <p:graphicFrame>
          <p:nvGraphicFramePr>
            <p:cNvPr id="92" name=""/>
            <p:cNvGraphicFramePr/>
            <p:nvPr/>
          </p:nvGraphicFramePr>
          <p:xfrm>
            <a:off x="0" y="6526080"/>
            <a:ext cx="232200" cy="285840"/>
          </p:xfrm>
          <a:graphic>
            <a:graphicData uri="http://schemas.openxmlformats.org/presentationml/2006/ole">
              <p:oleObj r:id="rId4" spid="">
                <p:embed/>
                <p:pic>
                  <p:nvPicPr>
                    <p:cNvPr id="93" name="" descr=""/>
                    <p:cNvPicPr/>
                    <p:nvPr/>
                  </p:nvPicPr>
                  <p:blipFill>
                    <a:blip r:embed="rId5"/>
                    <a:stretch/>
                  </p:blipFill>
                  <p:spPr>
                    <a:xfrm>
                      <a:off x="0" y="6526080"/>
                      <a:ext cx="232200" cy="285840"/>
                    </a:xfrm>
                    <a:prstGeom prst="rect">
                      <a:avLst/>
                    </a:prstGeom>
                    <a:ln w="0">
                      <a:noFill/>
                    </a:ln>
                  </p:spPr>
                </p:pic>
              </p:oleObj>
            </a:graphicData>
          </a:graphic>
        </p:graphicFrame>
      </p:grpSp>
      <p:sp>
        <p:nvSpPr>
          <p:cNvPr id="94" name=""/>
          <p:cNvSpPr/>
          <p:nvPr/>
        </p:nvSpPr>
        <p:spPr>
          <a:xfrm>
            <a:off x="0" y="0"/>
            <a:ext cx="9144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u="sng">
                <a:solidFill>
                  <a:srgbClr val="000099"/>
                </a:solidFill>
                <a:uFillTx/>
                <a:latin typeface="Arial"/>
              </a:rPr>
              <a:t>BP–Modul1-NJ3-Savremeni modeli podataka</a:t>
            </a:r>
            <a:endParaRPr b="0" lang="en-US" sz="2000" spc="-1" strike="noStrike">
              <a:solidFill>
                <a:srgbClr val="000000"/>
              </a:solidFill>
              <a:latin typeface="Times New Roman"/>
            </a:endParaRPr>
          </a:p>
        </p:txBody>
      </p:sp>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5" name=""/>
          <p:cNvGraphicFramePr/>
          <p:nvPr/>
        </p:nvGraphicFramePr>
        <p:xfrm>
          <a:off x="5794200" y="291960"/>
          <a:ext cx="3314880" cy="3090960"/>
        </p:xfrm>
        <a:graphic>
          <a:graphicData uri="http://schemas.openxmlformats.org/presentationml/2006/ole">
            <p:oleObj r:id="rId1" spid="">
              <p:embed/>
              <p:pic>
                <p:nvPicPr>
                  <p:cNvPr id="96" name="" descr=""/>
                  <p:cNvPicPr/>
                  <p:nvPr/>
                </p:nvPicPr>
                <p:blipFill>
                  <a:blip r:embed="rId2"/>
                  <a:stretch/>
                </p:blipFill>
                <p:spPr>
                  <a:xfrm>
                    <a:off x="5794200" y="291960"/>
                    <a:ext cx="3314880" cy="3090960"/>
                  </a:xfrm>
                  <a:prstGeom prst="rect">
                    <a:avLst/>
                  </a:prstGeom>
                  <a:ln w="0">
                    <a:noFill/>
                  </a:ln>
                </p:spPr>
              </p:pic>
            </p:oleObj>
          </a:graphicData>
        </a:graphic>
      </p:graphicFrame>
      <p:sp>
        <p:nvSpPr>
          <p:cNvPr id="97" name=""/>
          <p:cNvSpPr/>
          <p:nvPr/>
        </p:nvSpPr>
        <p:spPr>
          <a:xfrm>
            <a:off x="34920" y="396720"/>
            <a:ext cx="9074160" cy="6677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268200"/>
                <a:tab algn="l" pos="536400"/>
                <a:tab algn="l" pos="804960"/>
                <a:tab algn="l" pos="1073160"/>
                <a:tab algn="l" pos="1341360"/>
                <a:tab algn="l" pos="1609560"/>
                <a:tab algn="l" pos="1878120"/>
                <a:tab algn="l" pos="2146320"/>
                <a:tab algn="l" pos="2414520"/>
                <a:tab algn="l" pos="2682720"/>
                <a:tab algn="l" pos="2951280"/>
                <a:tab algn="l" pos="3219480"/>
                <a:tab algn="l" pos="3487680"/>
                <a:tab algn="l" pos="3755880"/>
                <a:tab algn="l" pos="4024440"/>
                <a:tab algn="l" pos="4292640"/>
                <a:tab algn="l" pos="4560840"/>
                <a:tab algn="l" pos="4829040"/>
                <a:tab algn="l" pos="5097600"/>
                <a:tab algn="l" pos="5365800"/>
              </a:tabLst>
            </a:pPr>
            <a:r>
              <a:rPr b="1" lang="sr-Latn-CS" sz="2400" spc="-1" strike="noStrike">
                <a:solidFill>
                  <a:srgbClr val="000099"/>
                </a:solidFill>
                <a:latin typeface="Arial Narrow"/>
                <a:ea typeface="Arial"/>
              </a:rPr>
              <a:t>Modele podataka čine sledeći modeli:</a:t>
            </a:r>
            <a:endParaRPr b="0" lang="en-US" sz="2400" spc="-1" strike="noStrike">
              <a:solidFill>
                <a:srgbClr val="000000"/>
              </a:solidFill>
              <a:latin typeface="Times New Roman"/>
            </a:endParaRPr>
          </a:p>
          <a:p>
            <a:pPr lvl="1" marL="674640" algn="just">
              <a:lnSpc>
                <a:spcPct val="100000"/>
              </a:lnSpc>
              <a:buSzPct val="102884"/>
              <a:buBlip>
                <a:blip r:embed="rId3"/>
              </a:buBlip>
              <a:tabLst>
                <a:tab algn="l" pos="804960"/>
                <a:tab algn="l" pos="1073160"/>
                <a:tab algn="l" pos="1341360"/>
                <a:tab algn="l" pos="1609560"/>
                <a:tab algn="l" pos="1878120"/>
                <a:tab algn="l" pos="2146320"/>
                <a:tab algn="l" pos="2414520"/>
                <a:tab algn="l" pos="2682720"/>
                <a:tab algn="l" pos="2951280"/>
                <a:tab algn="l" pos="3219480"/>
                <a:tab algn="l" pos="3487680"/>
                <a:tab algn="l" pos="3755880"/>
                <a:tab algn="l" pos="4024440"/>
                <a:tab algn="l" pos="4292640"/>
                <a:tab algn="l" pos="4560840"/>
                <a:tab algn="l" pos="4829040"/>
                <a:tab algn="l" pos="5097600"/>
                <a:tab algn="l" pos="5365800"/>
                <a:tab algn="l" pos="5634000"/>
                <a:tab algn="l" pos="5902200"/>
              </a:tabLst>
            </a:pPr>
            <a:r>
              <a:rPr b="1" lang="sr-Latn-CS" sz="2400" spc="-1" strike="noStrike">
                <a:solidFill>
                  <a:srgbClr val="000099"/>
                </a:solidFill>
                <a:latin typeface="Arial Narrow"/>
                <a:ea typeface="Arial"/>
              </a:rPr>
              <a:t>Model objekti-veze (MOV);</a:t>
            </a:r>
            <a:r>
              <a:rPr b="1" lang="sr-Latn-CS" sz="2400" spc="-1" strike="noStrike">
                <a:solidFill>
                  <a:srgbClr val="000099"/>
                </a:solidFill>
                <a:latin typeface="Arial Narrow"/>
              </a:rPr>
              <a:t> </a:t>
            </a:r>
            <a:endParaRPr b="0" lang="en-US" sz="2400" spc="-1" strike="noStrike">
              <a:solidFill>
                <a:srgbClr val="000000"/>
              </a:solidFill>
              <a:latin typeface="Times New Roman"/>
            </a:endParaRPr>
          </a:p>
          <a:p>
            <a:pPr lvl="1" marL="674640" algn="just">
              <a:lnSpc>
                <a:spcPct val="100000"/>
              </a:lnSpc>
              <a:buSzPct val="102884"/>
              <a:buBlip>
                <a:blip r:embed="rId4"/>
              </a:buBlip>
              <a:tabLst>
                <a:tab algn="l" pos="804960"/>
                <a:tab algn="l" pos="1073160"/>
                <a:tab algn="l" pos="1341360"/>
                <a:tab algn="l" pos="1609560"/>
                <a:tab algn="l" pos="1878120"/>
                <a:tab algn="l" pos="2146320"/>
                <a:tab algn="l" pos="2414520"/>
                <a:tab algn="l" pos="2682720"/>
                <a:tab algn="l" pos="2951280"/>
                <a:tab algn="l" pos="3219480"/>
                <a:tab algn="l" pos="3487680"/>
                <a:tab algn="l" pos="3755880"/>
                <a:tab algn="l" pos="4024440"/>
                <a:tab algn="l" pos="4292640"/>
                <a:tab algn="l" pos="4560840"/>
                <a:tab algn="l" pos="4829040"/>
                <a:tab algn="l" pos="5097600"/>
                <a:tab algn="l" pos="5365800"/>
                <a:tab algn="l" pos="5634000"/>
                <a:tab algn="l" pos="5902200"/>
              </a:tabLst>
            </a:pPr>
            <a:r>
              <a:rPr b="1" lang="sr-Latn-CS" sz="2400" spc="-1" strike="noStrike">
                <a:solidFill>
                  <a:srgbClr val="000099"/>
                </a:solidFill>
                <a:latin typeface="Arial Narrow"/>
                <a:ea typeface="Arial"/>
              </a:rPr>
              <a:t>Relacioni model (RM)</a:t>
            </a:r>
            <a:r>
              <a:rPr b="1" lang="en-US" sz="2400" spc="-1" strike="noStrike">
                <a:solidFill>
                  <a:srgbClr val="000099"/>
                </a:solidFill>
                <a:latin typeface="Arial Narrow"/>
                <a:ea typeface="Arial"/>
              </a:rPr>
              <a:t> i</a:t>
            </a:r>
            <a:endParaRPr b="0" lang="en-US" sz="2400" spc="-1" strike="noStrike">
              <a:solidFill>
                <a:srgbClr val="000000"/>
              </a:solidFill>
              <a:latin typeface="Times New Roman"/>
            </a:endParaRPr>
          </a:p>
          <a:p>
            <a:pPr lvl="1" marL="674640" algn="just">
              <a:lnSpc>
                <a:spcPct val="100000"/>
              </a:lnSpc>
              <a:buSzPct val="102884"/>
              <a:buBlip>
                <a:blip r:embed="rId5"/>
              </a:buBlip>
              <a:tabLst>
                <a:tab algn="l" pos="804960"/>
                <a:tab algn="l" pos="1073160"/>
                <a:tab algn="l" pos="1341360"/>
                <a:tab algn="l" pos="1609560"/>
                <a:tab algn="l" pos="1878120"/>
                <a:tab algn="l" pos="2146320"/>
                <a:tab algn="l" pos="2414520"/>
                <a:tab algn="l" pos="2682720"/>
                <a:tab algn="l" pos="2951280"/>
                <a:tab algn="l" pos="3219480"/>
                <a:tab algn="l" pos="3487680"/>
                <a:tab algn="l" pos="3755880"/>
                <a:tab algn="l" pos="4024440"/>
                <a:tab algn="l" pos="4292640"/>
                <a:tab algn="l" pos="4560840"/>
                <a:tab algn="l" pos="4829040"/>
                <a:tab algn="l" pos="5097600"/>
                <a:tab algn="l" pos="5365800"/>
                <a:tab algn="l" pos="5634000"/>
                <a:tab algn="l" pos="5902200"/>
              </a:tabLst>
            </a:pPr>
            <a:r>
              <a:rPr b="1" lang="sr-Latn-CS" sz="2400" spc="-1" strike="noStrike">
                <a:solidFill>
                  <a:srgbClr val="000099"/>
                </a:solidFill>
                <a:latin typeface="Arial Narrow"/>
                <a:ea typeface="Arial"/>
              </a:rPr>
              <a:t>Objektni model (OM) </a:t>
            </a:r>
            <a:endParaRPr b="0" lang="en-US" sz="2400" spc="-1" strike="noStrike">
              <a:solidFill>
                <a:srgbClr val="000000"/>
              </a:solidFill>
              <a:latin typeface="Times New Roman"/>
            </a:endParaRPr>
          </a:p>
          <a:p>
            <a:pPr algn="just">
              <a:lnSpc>
                <a:spcPct val="100000"/>
              </a:lnSpc>
              <a:tabLst>
                <a:tab algn="l" pos="0"/>
                <a:tab algn="l" pos="268200"/>
                <a:tab algn="l" pos="536400"/>
                <a:tab algn="l" pos="804960"/>
                <a:tab algn="l" pos="1073160"/>
                <a:tab algn="l" pos="1341360"/>
                <a:tab algn="l" pos="1609560"/>
                <a:tab algn="l" pos="1878120"/>
                <a:tab algn="l" pos="2146320"/>
                <a:tab algn="l" pos="2414520"/>
                <a:tab algn="l" pos="2682720"/>
                <a:tab algn="l" pos="2951280"/>
                <a:tab algn="l" pos="3219480"/>
                <a:tab algn="l" pos="3487680"/>
                <a:tab algn="l" pos="3755880"/>
                <a:tab algn="l" pos="4024440"/>
                <a:tab algn="l" pos="4292640"/>
                <a:tab algn="l" pos="4560840"/>
                <a:tab algn="l" pos="4829040"/>
                <a:tab algn="l" pos="5097600"/>
                <a:tab algn="l" pos="5365800"/>
              </a:tabLst>
            </a:pPr>
            <a:r>
              <a:rPr b="1" i="1" lang="sr-Latn-CS" sz="2400" spc="-1" strike="noStrike" u="sng">
                <a:solidFill>
                  <a:srgbClr val="cc3300"/>
                </a:solidFill>
                <a:uFillTx/>
                <a:latin typeface="Arial Narrow"/>
                <a:ea typeface="Arial"/>
              </a:rPr>
              <a:t>Model Objekti i Veze -MOV</a:t>
            </a:r>
            <a:r>
              <a:rPr b="1" lang="en-US" sz="2400" spc="-1" strike="noStrike">
                <a:solidFill>
                  <a:srgbClr val="000099"/>
                </a:solidFill>
                <a:latin typeface="Arial Narrow"/>
              </a:rPr>
              <a:t> </a:t>
            </a:r>
            <a:endParaRPr b="0" lang="en-US" sz="2400" spc="-1" strike="noStrike">
              <a:solidFill>
                <a:srgbClr val="000000"/>
              </a:solidFill>
              <a:latin typeface="Times New Roman"/>
            </a:endParaRPr>
          </a:p>
          <a:p>
            <a:pPr algn="just">
              <a:lnSpc>
                <a:spcPct val="100000"/>
              </a:lnSpc>
              <a:tabLst>
                <a:tab algn="l" pos="0"/>
                <a:tab algn="l" pos="268200"/>
                <a:tab algn="l" pos="536400"/>
                <a:tab algn="l" pos="804960"/>
                <a:tab algn="l" pos="1073160"/>
                <a:tab algn="l" pos="1341360"/>
                <a:tab algn="l" pos="1609560"/>
                <a:tab algn="l" pos="1878120"/>
                <a:tab algn="l" pos="2146320"/>
                <a:tab algn="l" pos="2414520"/>
                <a:tab algn="l" pos="2682720"/>
                <a:tab algn="l" pos="2951280"/>
                <a:tab algn="l" pos="3219480"/>
                <a:tab algn="l" pos="3487680"/>
                <a:tab algn="l" pos="3755880"/>
                <a:tab algn="l" pos="4024440"/>
                <a:tab algn="l" pos="4292640"/>
                <a:tab algn="l" pos="4560840"/>
                <a:tab algn="l" pos="4829040"/>
                <a:tab algn="l" pos="5097600"/>
                <a:tab algn="l" pos="5365800"/>
              </a:tabLst>
            </a:pPr>
            <a:r>
              <a:rPr b="1" lang="sr-Latn-CS" sz="2400" spc="-1" strike="noStrike">
                <a:solidFill>
                  <a:srgbClr val="000099"/>
                </a:solidFill>
                <a:latin typeface="Arial Narrow"/>
                <a:ea typeface="Arial"/>
              </a:rPr>
              <a:t>Osnovni koncepti za modeliranje po metodologiji </a:t>
            </a:r>
            <a:endParaRPr b="0" lang="en-US" sz="2400" spc="-1" strike="noStrike">
              <a:solidFill>
                <a:srgbClr val="000000"/>
              </a:solidFill>
              <a:latin typeface="Times New Roman"/>
            </a:endParaRPr>
          </a:p>
          <a:p>
            <a:pPr algn="just">
              <a:lnSpc>
                <a:spcPct val="100000"/>
              </a:lnSpc>
              <a:tabLst>
                <a:tab algn="l" pos="0"/>
                <a:tab algn="l" pos="268200"/>
                <a:tab algn="l" pos="536400"/>
                <a:tab algn="l" pos="804960"/>
                <a:tab algn="l" pos="1073160"/>
                <a:tab algn="l" pos="1341360"/>
                <a:tab algn="l" pos="1609560"/>
                <a:tab algn="l" pos="1878120"/>
                <a:tab algn="l" pos="2146320"/>
                <a:tab algn="l" pos="2414520"/>
                <a:tab algn="l" pos="2682720"/>
                <a:tab algn="l" pos="2951280"/>
                <a:tab algn="l" pos="3219480"/>
                <a:tab algn="l" pos="3487680"/>
                <a:tab algn="l" pos="3755880"/>
                <a:tab algn="l" pos="4024440"/>
                <a:tab algn="l" pos="4292640"/>
                <a:tab algn="l" pos="4560840"/>
                <a:tab algn="l" pos="4829040"/>
                <a:tab algn="l" pos="5097600"/>
                <a:tab algn="l" pos="5365800"/>
              </a:tabLst>
            </a:pPr>
            <a:r>
              <a:rPr b="1" lang="sr-Latn-CS" sz="2400" spc="-1" strike="noStrike">
                <a:solidFill>
                  <a:srgbClr val="cc3300"/>
                </a:solidFill>
                <a:latin typeface="Arial Narrow"/>
                <a:ea typeface="Arial"/>
              </a:rPr>
              <a:t>Model Objekti i Veze</a:t>
            </a:r>
            <a:r>
              <a:rPr b="1" lang="sr-Latn-CS" sz="2400" spc="-1" strike="noStrike">
                <a:solidFill>
                  <a:srgbClr val="000099"/>
                </a:solidFill>
                <a:latin typeface="Arial Narrow"/>
                <a:ea typeface="Arial"/>
              </a:rPr>
              <a:t> su preuzeti iz opšte definicije</a:t>
            </a:r>
            <a:endParaRPr b="0" lang="en-US" sz="2400" spc="-1" strike="noStrike">
              <a:solidFill>
                <a:srgbClr val="000000"/>
              </a:solidFill>
              <a:latin typeface="Times New Roman"/>
            </a:endParaRPr>
          </a:p>
          <a:p>
            <a:pPr algn="just">
              <a:lnSpc>
                <a:spcPct val="100000"/>
              </a:lnSpc>
              <a:tabLst>
                <a:tab algn="l" pos="0"/>
                <a:tab algn="l" pos="268200"/>
                <a:tab algn="l" pos="536400"/>
                <a:tab algn="l" pos="804960"/>
                <a:tab algn="l" pos="1073160"/>
                <a:tab algn="l" pos="1341360"/>
                <a:tab algn="l" pos="1609560"/>
                <a:tab algn="l" pos="1878120"/>
                <a:tab algn="l" pos="2146320"/>
                <a:tab algn="l" pos="2414520"/>
                <a:tab algn="l" pos="2682720"/>
                <a:tab algn="l" pos="2951280"/>
                <a:tab algn="l" pos="3219480"/>
                <a:tab algn="l" pos="3487680"/>
                <a:tab algn="l" pos="3755880"/>
                <a:tab algn="l" pos="4024440"/>
                <a:tab algn="l" pos="4292640"/>
                <a:tab algn="l" pos="4560840"/>
                <a:tab algn="l" pos="4829040"/>
                <a:tab algn="l" pos="5097600"/>
                <a:tab algn="l" pos="5365800"/>
              </a:tabLst>
            </a:pPr>
            <a:r>
              <a:rPr b="1" lang="sr-Latn-CS" sz="2400" spc="-1" strike="noStrike">
                <a:solidFill>
                  <a:srgbClr val="000099"/>
                </a:solidFill>
                <a:latin typeface="Arial Narrow"/>
                <a:ea typeface="Arial"/>
              </a:rPr>
              <a:t>sistema. Sistem se posmatra kao skup objekata, </a:t>
            </a:r>
            <a:endParaRPr b="0" lang="en-US" sz="2400" spc="-1" strike="noStrike">
              <a:solidFill>
                <a:srgbClr val="000000"/>
              </a:solidFill>
              <a:latin typeface="Times New Roman"/>
            </a:endParaRPr>
          </a:p>
          <a:p>
            <a:pPr algn="just">
              <a:lnSpc>
                <a:spcPct val="100000"/>
              </a:lnSpc>
              <a:tabLst>
                <a:tab algn="l" pos="0"/>
                <a:tab algn="l" pos="268200"/>
                <a:tab algn="l" pos="536400"/>
                <a:tab algn="l" pos="804960"/>
                <a:tab algn="l" pos="1073160"/>
                <a:tab algn="l" pos="1341360"/>
                <a:tab algn="l" pos="1609560"/>
                <a:tab algn="l" pos="1878120"/>
                <a:tab algn="l" pos="2146320"/>
                <a:tab algn="l" pos="2414520"/>
                <a:tab algn="l" pos="2682720"/>
                <a:tab algn="l" pos="2951280"/>
                <a:tab algn="l" pos="3219480"/>
                <a:tab algn="l" pos="3487680"/>
                <a:tab algn="l" pos="3755880"/>
                <a:tab algn="l" pos="4024440"/>
                <a:tab algn="l" pos="4292640"/>
                <a:tab algn="l" pos="4560840"/>
                <a:tab algn="l" pos="4829040"/>
                <a:tab algn="l" pos="5097600"/>
                <a:tab algn="l" pos="5365800"/>
              </a:tabLst>
            </a:pPr>
            <a:r>
              <a:rPr b="1" lang="sr-Latn-CS" sz="2400" spc="-1" strike="noStrike">
                <a:solidFill>
                  <a:srgbClr val="000099"/>
                </a:solidFill>
                <a:latin typeface="Arial Narrow"/>
                <a:ea typeface="Arial"/>
              </a:rPr>
              <a:t>njihovih međusobnih veza i njihovih atributa.</a:t>
            </a:r>
            <a:r>
              <a:rPr b="1" lang="sr-Latn-CS" sz="2400" spc="-1" strike="noStrike">
                <a:solidFill>
                  <a:srgbClr val="000099"/>
                </a:solidFill>
                <a:latin typeface="Arial Narrow"/>
              </a:rPr>
              <a:t>  </a:t>
            </a:r>
            <a:r>
              <a:rPr b="1" lang="sr-Latn-CS" sz="2400" spc="-1" strike="noStrike">
                <a:solidFill>
                  <a:srgbClr val="000099"/>
                </a:solidFill>
                <a:latin typeface="Arial Narrow"/>
                <a:ea typeface="Arial"/>
              </a:rPr>
              <a:t>Objekti imaju svoja svojstva koja se iskazuju  preko atributa i veza prema drugim objektima.</a:t>
            </a:r>
            <a:r>
              <a:rPr b="1" lang="en-US" sz="2400" spc="-1" strike="noStrike">
                <a:solidFill>
                  <a:srgbClr val="000099"/>
                </a:solidFill>
                <a:latin typeface="Arial Narrow"/>
              </a:rPr>
              <a:t> </a:t>
            </a:r>
            <a:endParaRPr b="0" lang="en-US" sz="2400" spc="-1" strike="noStrike">
              <a:solidFill>
                <a:srgbClr val="000000"/>
              </a:solidFill>
              <a:latin typeface="Times New Roman"/>
            </a:endParaRPr>
          </a:p>
          <a:p>
            <a:pPr algn="just">
              <a:lnSpc>
                <a:spcPct val="100000"/>
              </a:lnSpc>
              <a:tabLst>
                <a:tab algn="l" pos="0"/>
                <a:tab algn="l" pos="268200"/>
                <a:tab algn="l" pos="536400"/>
                <a:tab algn="l" pos="804960"/>
                <a:tab algn="l" pos="1073160"/>
                <a:tab algn="l" pos="1341360"/>
                <a:tab algn="l" pos="1609560"/>
                <a:tab algn="l" pos="1878120"/>
                <a:tab algn="l" pos="2146320"/>
                <a:tab algn="l" pos="2414520"/>
                <a:tab algn="l" pos="2682720"/>
                <a:tab algn="l" pos="2951280"/>
                <a:tab algn="l" pos="3219480"/>
                <a:tab algn="l" pos="3487680"/>
                <a:tab algn="l" pos="3755880"/>
                <a:tab algn="l" pos="4024440"/>
                <a:tab algn="l" pos="4292640"/>
                <a:tab algn="l" pos="4560840"/>
                <a:tab algn="l" pos="4829040"/>
                <a:tab algn="l" pos="5097600"/>
                <a:tab algn="l" pos="5365800"/>
              </a:tabLst>
            </a:pPr>
            <a:r>
              <a:rPr b="1" lang="sr-Latn-CS" sz="2400" spc="-1" strike="noStrike">
                <a:solidFill>
                  <a:srgbClr val="000099"/>
                </a:solidFill>
                <a:latin typeface="Arial Narrow"/>
              </a:rPr>
              <a:t>O</a:t>
            </a:r>
            <a:r>
              <a:rPr b="1" lang="sr-Latn-CS" sz="2400" spc="-1" strike="noStrike">
                <a:solidFill>
                  <a:srgbClr val="000099"/>
                </a:solidFill>
                <a:latin typeface="Arial Narrow"/>
                <a:ea typeface="Arial"/>
              </a:rPr>
              <a:t>bja</a:t>
            </a:r>
            <a:r>
              <a:rPr b="1" lang="sr-Latn-CS" sz="2400" spc="-1" strike="noStrike">
                <a:solidFill>
                  <a:srgbClr val="000099"/>
                </a:solidFill>
                <a:latin typeface="Arial Narrow"/>
              </a:rPr>
              <a:t>šnjenje</a:t>
            </a:r>
            <a:r>
              <a:rPr b="1" lang="sr-Latn-CS" sz="2400" spc="-1" strike="noStrike">
                <a:solidFill>
                  <a:srgbClr val="000099"/>
                </a:solidFill>
                <a:latin typeface="Arial Narrow"/>
                <a:ea typeface="Arial"/>
              </a:rPr>
              <a:t>: </a:t>
            </a:r>
            <a:r>
              <a:rPr b="1" i="1" lang="sr-Latn-CS" sz="2400" spc="-1" strike="noStrike">
                <a:solidFill>
                  <a:srgbClr val="000099"/>
                </a:solidFill>
                <a:latin typeface="Arial Narrow"/>
                <a:ea typeface="Arial"/>
              </a:rPr>
              <a:t>Predmet</a:t>
            </a:r>
            <a:r>
              <a:rPr b="1" lang="sr-Latn-CS" sz="2400" spc="-1" strike="noStrike">
                <a:solidFill>
                  <a:srgbClr val="000099"/>
                </a:solidFill>
                <a:latin typeface="Arial Narrow"/>
                <a:ea typeface="Arial"/>
              </a:rPr>
              <a:t> ima svoje atribute </a:t>
            </a:r>
            <a:r>
              <a:rPr b="1" i="1" lang="sr-Latn-CS" sz="2400" spc="-1" strike="noStrike">
                <a:solidFill>
                  <a:srgbClr val="000099"/>
                </a:solidFill>
                <a:latin typeface="Arial Narrow"/>
                <a:ea typeface="Arial"/>
              </a:rPr>
              <a:t>Naziv</a:t>
            </a:r>
            <a:r>
              <a:rPr b="1" lang="sr-Latn-CS" sz="2400" spc="-1" strike="noStrike">
                <a:solidFill>
                  <a:srgbClr val="000099"/>
                </a:solidFill>
                <a:latin typeface="Arial Narrow"/>
                <a:ea typeface="Arial"/>
              </a:rPr>
              <a:t> i </a:t>
            </a:r>
            <a:r>
              <a:rPr b="1" i="1" lang="sr-Latn-CS" sz="2400" spc="-1" strike="noStrike">
                <a:solidFill>
                  <a:srgbClr val="000099"/>
                </a:solidFill>
                <a:latin typeface="Arial Narrow"/>
                <a:ea typeface="Arial"/>
              </a:rPr>
              <a:t>BrojCas</a:t>
            </a:r>
            <a:r>
              <a:rPr b="1" lang="sr-Latn-CS" sz="2400" spc="-1" strike="noStrike">
                <a:solidFill>
                  <a:srgbClr val="000099"/>
                </a:solidFill>
                <a:latin typeface="Arial Narrow"/>
                <a:ea typeface="Arial"/>
              </a:rPr>
              <a:t> i veze </a:t>
            </a:r>
            <a:r>
              <a:rPr b="1" i="1" lang="sr-Latn-CS" sz="2400" spc="-1" strike="noStrike">
                <a:solidFill>
                  <a:srgbClr val="000099"/>
                </a:solidFill>
                <a:latin typeface="Arial Narrow"/>
                <a:ea typeface="Arial"/>
              </a:rPr>
              <a:t>Predaje</a:t>
            </a:r>
            <a:r>
              <a:rPr b="1" lang="sr-Latn-CS" sz="2400" spc="-1" strike="noStrike">
                <a:solidFill>
                  <a:srgbClr val="000099"/>
                </a:solidFill>
                <a:latin typeface="Arial Narrow"/>
                <a:ea typeface="Arial"/>
              </a:rPr>
              <a:t> sa </a:t>
            </a:r>
            <a:r>
              <a:rPr b="1" lang="sr-Latn-CS" sz="2400" spc="-1" strike="noStrike">
                <a:solidFill>
                  <a:srgbClr val="000099"/>
                </a:solidFill>
                <a:latin typeface="Arial Narrow"/>
              </a:rPr>
              <a:t>o</a:t>
            </a:r>
            <a:r>
              <a:rPr b="1" lang="sr-Latn-CS" sz="2400" spc="-1" strike="noStrike">
                <a:solidFill>
                  <a:srgbClr val="000099"/>
                </a:solidFill>
                <a:latin typeface="Arial Narrow"/>
                <a:ea typeface="Arial"/>
              </a:rPr>
              <a:t>bjektom </a:t>
            </a:r>
            <a:r>
              <a:rPr b="1" i="1" lang="sr-Latn-CS" sz="2400" spc="-1" strike="noStrike">
                <a:solidFill>
                  <a:srgbClr val="000099"/>
                </a:solidFill>
                <a:latin typeface="Arial Narrow"/>
                <a:ea typeface="Arial"/>
              </a:rPr>
              <a:t>Nastavnik</a:t>
            </a:r>
            <a:r>
              <a:rPr b="1" lang="sr-Latn-CS" sz="2400" spc="-1" strike="noStrike">
                <a:solidFill>
                  <a:srgbClr val="000099"/>
                </a:solidFill>
                <a:latin typeface="Arial Narrow"/>
                <a:ea typeface="Arial"/>
              </a:rPr>
              <a:t> i </a:t>
            </a:r>
            <a:r>
              <a:rPr b="1" i="1" lang="sr-Latn-CS" sz="2400" spc="-1" strike="noStrike">
                <a:solidFill>
                  <a:srgbClr val="000099"/>
                </a:solidFill>
                <a:latin typeface="Arial Narrow"/>
                <a:ea typeface="Arial"/>
              </a:rPr>
              <a:t>Slu</a:t>
            </a:r>
            <a:r>
              <a:rPr b="1" i="1" lang="sr-Latn-CS" sz="2400" spc="-1" strike="noStrike">
                <a:solidFill>
                  <a:srgbClr val="000099"/>
                </a:solidFill>
                <a:latin typeface="Arial Narrow"/>
              </a:rPr>
              <a:t>š</a:t>
            </a:r>
            <a:r>
              <a:rPr b="1" i="1" lang="sr-Latn-CS" sz="2400" spc="-1" strike="noStrike">
                <a:solidFill>
                  <a:srgbClr val="000099"/>
                </a:solidFill>
                <a:latin typeface="Arial Narrow"/>
                <a:ea typeface="Arial"/>
              </a:rPr>
              <a:t>a</a:t>
            </a:r>
            <a:r>
              <a:rPr b="1" lang="sr-Latn-CS" sz="2400" spc="-1" strike="noStrike">
                <a:solidFill>
                  <a:srgbClr val="000099"/>
                </a:solidFill>
                <a:latin typeface="Arial Narrow"/>
              </a:rPr>
              <a:t> </a:t>
            </a:r>
            <a:r>
              <a:rPr b="1" lang="sr-Latn-CS" sz="2400" spc="-1" strike="noStrike">
                <a:solidFill>
                  <a:srgbClr val="000099"/>
                </a:solidFill>
                <a:latin typeface="Arial Narrow"/>
                <a:ea typeface="Arial"/>
              </a:rPr>
              <a:t>sa objektom </a:t>
            </a:r>
            <a:r>
              <a:rPr b="1" i="1" lang="sr-Latn-CS" sz="2400" spc="-1" strike="noStrike">
                <a:solidFill>
                  <a:srgbClr val="000099"/>
                </a:solidFill>
                <a:latin typeface="Arial Narrow"/>
                <a:ea typeface="Arial"/>
              </a:rPr>
              <a:t>Student</a:t>
            </a:r>
            <a:r>
              <a:rPr b="1" lang="sr-Latn-CS" sz="2400" spc="-1" strike="noStrike">
                <a:solidFill>
                  <a:srgbClr val="000099"/>
                </a:solidFill>
                <a:latin typeface="Arial Narrow"/>
                <a:ea typeface="Arial"/>
              </a:rPr>
              <a:t>. Pored toga veza </a:t>
            </a:r>
            <a:r>
              <a:rPr b="1" i="1" lang="sr-Latn-CS" sz="2400" spc="-1" strike="noStrike">
                <a:solidFill>
                  <a:srgbClr val="000099"/>
                </a:solidFill>
                <a:latin typeface="Arial Narrow"/>
                <a:ea typeface="Arial"/>
              </a:rPr>
              <a:t>Prijava</a:t>
            </a:r>
            <a:r>
              <a:rPr b="1" i="1" lang="sr-Latn-CS" sz="2400" spc="-1" strike="noStrike">
                <a:solidFill>
                  <a:srgbClr val="000099"/>
                </a:solidFill>
                <a:latin typeface="Arial Narrow"/>
              </a:rPr>
              <a:t> </a:t>
            </a:r>
            <a:r>
              <a:rPr b="1" lang="sr-Latn-CS" sz="2400" spc="-1" strike="noStrike">
                <a:solidFill>
                  <a:srgbClr val="000099"/>
                </a:solidFill>
                <a:latin typeface="Arial Narrow"/>
                <a:ea typeface="Arial"/>
              </a:rPr>
              <a:t>ovog objekta i objekta </a:t>
            </a:r>
            <a:r>
              <a:rPr b="1" i="1" lang="sr-Latn-CS" sz="2400" spc="-1" strike="noStrike">
                <a:solidFill>
                  <a:srgbClr val="000099"/>
                </a:solidFill>
                <a:latin typeface="Arial Narrow"/>
                <a:ea typeface="Arial"/>
              </a:rPr>
              <a:t>Student</a:t>
            </a:r>
            <a:r>
              <a:rPr b="1" lang="sr-Latn-CS" sz="2400" spc="-1" strike="noStrike">
                <a:solidFill>
                  <a:srgbClr val="000099"/>
                </a:solidFill>
                <a:latin typeface="Arial Narrow"/>
                <a:ea typeface="Arial"/>
              </a:rPr>
              <a:t> apstrahovana</a:t>
            </a:r>
            <a:r>
              <a:rPr b="1" lang="sr-Latn-CS" sz="2400" spc="-1" strike="noStrike">
                <a:solidFill>
                  <a:srgbClr val="000099"/>
                </a:solidFill>
                <a:latin typeface="Arial Narrow"/>
              </a:rPr>
              <a:t> </a:t>
            </a:r>
            <a:r>
              <a:rPr b="1" lang="sr-Latn-CS" sz="2400" spc="-1" strike="noStrike">
                <a:solidFill>
                  <a:srgbClr val="000099"/>
                </a:solidFill>
                <a:latin typeface="Arial Narrow"/>
                <a:ea typeface="Arial"/>
              </a:rPr>
              <a:t>je u agregaciju </a:t>
            </a:r>
            <a:r>
              <a:rPr b="1" i="1" lang="sr-Latn-CS" sz="2400" spc="-1" strike="noStrike">
                <a:solidFill>
                  <a:srgbClr val="000099"/>
                </a:solidFill>
                <a:latin typeface="Arial Narrow"/>
                <a:ea typeface="Arial"/>
              </a:rPr>
              <a:t>Prijava</a:t>
            </a:r>
            <a:r>
              <a:rPr b="1" lang="sr-Latn-CS" sz="2400" spc="-1" strike="noStrike">
                <a:solidFill>
                  <a:srgbClr val="000099"/>
                </a:solidFill>
                <a:latin typeface="Arial Narrow"/>
                <a:ea typeface="Arial"/>
              </a:rPr>
              <a:t>. Svaku vezu čine dva preslikavanja: Vezu </a:t>
            </a:r>
            <a:r>
              <a:rPr b="1" i="1" lang="sr-Latn-CS" sz="2400" spc="-1" strike="noStrike">
                <a:solidFill>
                  <a:srgbClr val="000099"/>
                </a:solidFill>
                <a:latin typeface="Arial Narrow"/>
                <a:ea typeface="Arial"/>
              </a:rPr>
              <a:t>Slusa</a:t>
            </a:r>
            <a:r>
              <a:rPr b="1" lang="sr-Latn-CS" sz="2400" spc="-1" strike="noStrike">
                <a:solidFill>
                  <a:srgbClr val="000099"/>
                </a:solidFill>
                <a:latin typeface="Arial Narrow"/>
                <a:ea typeface="Arial"/>
              </a:rPr>
              <a:t> čine preslikavanja </a:t>
            </a:r>
            <a:r>
              <a:rPr b="1" lang="sr-Latn-CS" sz="2400" spc="-1" strike="noStrike">
                <a:solidFill>
                  <a:srgbClr val="cc3300"/>
                </a:solidFill>
                <a:latin typeface="Arial Narrow"/>
                <a:ea typeface="Arial"/>
              </a:rPr>
              <a:t>A:Student </a:t>
            </a:r>
            <a:r>
              <a:rPr b="1" lang="sr-Latn-CS" sz="2400" spc="-1" strike="noStrike">
                <a:solidFill>
                  <a:srgbClr val="cc3300"/>
                </a:solidFill>
                <a:latin typeface="Wingdings"/>
                <a:ea typeface="Wingdings"/>
              </a:rPr>
              <a:t></a:t>
            </a:r>
            <a:r>
              <a:rPr b="1" lang="sr-Latn-CS" sz="2400" spc="-1" strike="noStrike">
                <a:solidFill>
                  <a:srgbClr val="cc3300"/>
                </a:solidFill>
                <a:latin typeface="Arial Narrow"/>
                <a:ea typeface="Arial"/>
              </a:rPr>
              <a:t> Predmet</a:t>
            </a:r>
            <a:r>
              <a:rPr b="1" lang="sr-Latn-CS" sz="2400" spc="-1" strike="noStrike">
                <a:solidFill>
                  <a:srgbClr val="000099"/>
                </a:solidFill>
                <a:latin typeface="Arial Narrow"/>
                <a:ea typeface="Arial"/>
              </a:rPr>
              <a:t> i </a:t>
            </a:r>
            <a:r>
              <a:rPr b="1" lang="sr-Latn-CS" sz="2400" spc="-1" strike="noStrike">
                <a:solidFill>
                  <a:srgbClr val="cc3300"/>
                </a:solidFill>
                <a:latin typeface="Arial Narrow"/>
                <a:ea typeface="Arial"/>
              </a:rPr>
              <a:t>B:Predmet </a:t>
            </a:r>
            <a:r>
              <a:rPr b="1" lang="sr-Latn-CS" sz="2400" spc="-1" strike="noStrike">
                <a:solidFill>
                  <a:srgbClr val="cc3300"/>
                </a:solidFill>
                <a:latin typeface="Wingdings"/>
                <a:ea typeface="Wingdings"/>
              </a:rPr>
              <a:t></a:t>
            </a:r>
            <a:r>
              <a:rPr b="1" lang="sr-Latn-CS" sz="2400" spc="-1" strike="noStrike">
                <a:solidFill>
                  <a:srgbClr val="cc3300"/>
                </a:solidFill>
                <a:latin typeface="Arial Narrow"/>
                <a:ea typeface="Arial"/>
              </a:rPr>
              <a:t> Student</a:t>
            </a:r>
            <a:r>
              <a:rPr b="1" lang="sr-Latn-CS" sz="2400" spc="-1" strike="noStrike">
                <a:solidFill>
                  <a:srgbClr val="000099"/>
                </a:solidFill>
                <a:latin typeface="Arial Narrow"/>
                <a:ea typeface="Arial"/>
              </a:rPr>
              <a:t>. Kardinalnost ovih preslikavanja detaljnije opisuje vezu: jedan Student sluša najmanje </a:t>
            </a:r>
            <a:r>
              <a:rPr b="1" lang="sr-Latn-CS" sz="2400" spc="-1" strike="noStrike">
                <a:solidFill>
                  <a:srgbClr val="000099"/>
                </a:solidFill>
                <a:latin typeface="Arial Narrow"/>
              </a:rPr>
              <a:t>0</a:t>
            </a:r>
            <a:r>
              <a:rPr b="1" lang="sr-Latn-CS" sz="2400" spc="-1" strike="noStrike">
                <a:solidFill>
                  <a:srgbClr val="000099"/>
                </a:solidFill>
                <a:latin typeface="Arial Narrow"/>
                <a:ea typeface="Arial"/>
              </a:rPr>
              <a:t> a najviše M predmeta, a 1 Predmet sluša najmanje 0 a najviše M </a:t>
            </a:r>
            <a:r>
              <a:rPr b="1" lang="sr-Latn-CS" sz="2400" spc="-1" strike="noStrike">
                <a:solidFill>
                  <a:srgbClr val="000099"/>
                </a:solidFill>
                <a:latin typeface="Arial Narrow"/>
              </a:rPr>
              <a:t>	</a:t>
            </a:r>
            <a:r>
              <a:rPr b="1" lang="sr-Latn-CS" sz="2400" spc="-1" strike="noStrike">
                <a:solidFill>
                  <a:srgbClr val="000099"/>
                </a:solidFill>
                <a:latin typeface="Arial Narrow"/>
                <a:ea typeface="Arial"/>
              </a:rPr>
              <a:t>stud</a:t>
            </a:r>
            <a:r>
              <a:rPr b="1" lang="sr-Latn-CS" sz="2400" spc="-1" strike="noStrike">
                <a:solidFill>
                  <a:srgbClr val="000099"/>
                </a:solidFill>
                <a:latin typeface="Arial Narrow"/>
              </a:rPr>
              <a:t>enata.</a:t>
            </a:r>
            <a:endParaRPr b="0" lang="en-US" sz="2400" spc="-1" strike="noStrike">
              <a:solidFill>
                <a:srgbClr val="000000"/>
              </a:solidFill>
              <a:latin typeface="Times New Roman"/>
            </a:endParaRPr>
          </a:p>
        </p:txBody>
      </p:sp>
      <p:grpSp>
        <p:nvGrpSpPr>
          <p:cNvPr id="98" name=""/>
          <p:cNvGrpSpPr/>
          <p:nvPr/>
        </p:nvGrpSpPr>
        <p:grpSpPr>
          <a:xfrm>
            <a:off x="0" y="6526080"/>
            <a:ext cx="9143640" cy="327240"/>
            <a:chOff x="0" y="6526080"/>
            <a:chExt cx="9143640" cy="327240"/>
          </a:xfrm>
        </p:grpSpPr>
        <p:sp>
          <p:nvSpPr>
            <p:cNvPr id="99" name=""/>
            <p:cNvSpPr/>
            <p:nvPr/>
          </p:nvSpPr>
          <p:spPr>
            <a:xfrm>
              <a:off x="34560" y="6607080"/>
              <a:ext cx="91090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0F221E-36DC-4A8E-96E0-A73BCC75F6EE}" type="slidenum">
                <a:rPr b="1" lang="sl-SI" sz="1000" spc="-1" strike="noStrike">
                  <a:solidFill>
                    <a:srgbClr val="000066"/>
                  </a:solidFill>
                  <a:latin typeface="Arial"/>
                </a:rPr>
                <a:t>&lt;number&gt;</a:t>
              </a:fld>
              <a:endParaRPr b="0" lang="en-US" sz="1000" spc="-1" strike="noStrike">
                <a:solidFill>
                  <a:srgbClr val="000000"/>
                </a:solidFill>
                <a:latin typeface="Times New Roman"/>
              </a:endParaRPr>
            </a:p>
          </p:txBody>
        </p:sp>
        <p:sp>
          <p:nvSpPr>
            <p:cNvPr id="100" name=""/>
            <p:cNvSpPr/>
            <p:nvPr/>
          </p:nvSpPr>
          <p:spPr>
            <a:xfrm>
              <a:off x="34560" y="6607080"/>
              <a:ext cx="2432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66"/>
                  </a:solidFill>
                  <a:latin typeface="Arial"/>
                </a:rPr>
                <a:t>      </a:t>
              </a:r>
              <a:r>
                <a:rPr b="1" lang="sr-Latn-CS" sz="1000" spc="-1" strike="noStrike">
                  <a:solidFill>
                    <a:srgbClr val="000066"/>
                  </a:solidFill>
                  <a:latin typeface="Arial"/>
                </a:rPr>
                <a:t>BP-3P</a:t>
              </a:r>
              <a:endParaRPr b="0" lang="en-US" sz="1000" spc="-1" strike="noStrike">
                <a:solidFill>
                  <a:srgbClr val="000000"/>
                </a:solidFill>
                <a:latin typeface="Times New Roman"/>
              </a:endParaRPr>
            </a:p>
          </p:txBody>
        </p:sp>
        <p:graphicFrame>
          <p:nvGraphicFramePr>
            <p:cNvPr id="101" name=""/>
            <p:cNvGraphicFramePr/>
            <p:nvPr/>
          </p:nvGraphicFramePr>
          <p:xfrm>
            <a:off x="0" y="6526080"/>
            <a:ext cx="232200" cy="285840"/>
          </p:xfrm>
          <a:graphic>
            <a:graphicData uri="http://schemas.openxmlformats.org/presentationml/2006/ole">
              <p:oleObj r:id="rId6" spid="">
                <p:embed/>
                <p:pic>
                  <p:nvPicPr>
                    <p:cNvPr id="102" name="" descr=""/>
                    <p:cNvPicPr/>
                    <p:nvPr/>
                  </p:nvPicPr>
                  <p:blipFill>
                    <a:blip r:embed="rId7"/>
                    <a:stretch/>
                  </p:blipFill>
                  <p:spPr>
                    <a:xfrm>
                      <a:off x="0" y="6526080"/>
                      <a:ext cx="232200" cy="285840"/>
                    </a:xfrm>
                    <a:prstGeom prst="rect">
                      <a:avLst/>
                    </a:prstGeom>
                    <a:ln w="0">
                      <a:noFill/>
                    </a:ln>
                  </p:spPr>
                </p:pic>
              </p:oleObj>
            </a:graphicData>
          </a:graphic>
        </p:graphicFrame>
      </p:grpSp>
      <p:sp>
        <p:nvSpPr>
          <p:cNvPr id="103" name=""/>
          <p:cNvSpPr/>
          <p:nvPr/>
        </p:nvSpPr>
        <p:spPr>
          <a:xfrm>
            <a:off x="0" y="0"/>
            <a:ext cx="9144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u="sng">
                <a:solidFill>
                  <a:srgbClr val="000099"/>
                </a:solidFill>
                <a:uFillTx/>
                <a:latin typeface="Arial"/>
              </a:rPr>
              <a:t>BP–Modul1-NJ3-</a:t>
            </a:r>
            <a:r>
              <a:rPr b="1" i="1" lang="sr-Latn-CS" sz="2000" spc="-1" strike="noStrike" u="sng">
                <a:solidFill>
                  <a:srgbClr val="000099"/>
                </a:solidFill>
                <a:uFillTx/>
                <a:latin typeface="Arial"/>
                <a:ea typeface="Times New Roman"/>
              </a:rPr>
              <a:t>Savremeni modeli podataka-MOV, RM, OM</a:t>
            </a:r>
            <a:r>
              <a:rPr b="1" lang="en-US" sz="2000" spc="-1" strike="noStrike" u="sng">
                <a:solidFill>
                  <a:srgbClr val="000099"/>
                </a:solidFill>
                <a:uFillTx/>
                <a:latin typeface="Arial"/>
              </a:rPr>
              <a:t> </a:t>
            </a:r>
            <a:endParaRPr b="0" lang="en-US" sz="2000" spc="-1" strike="noStrike">
              <a:solidFill>
                <a:srgbClr val="000000"/>
              </a:solidFill>
              <a:latin typeface="Times New Roman"/>
            </a:endParaRPr>
          </a:p>
        </p:txBody>
      </p:sp>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34920" y="396720"/>
            <a:ext cx="9074160" cy="5946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268200"/>
                <a:tab algn="l" pos="536400"/>
                <a:tab algn="l" pos="804960"/>
                <a:tab algn="l" pos="1073160"/>
                <a:tab algn="l" pos="1341360"/>
                <a:tab algn="l" pos="1609560"/>
                <a:tab algn="l" pos="1878120"/>
                <a:tab algn="l" pos="2146320"/>
                <a:tab algn="l" pos="2414520"/>
                <a:tab algn="l" pos="2682720"/>
                <a:tab algn="l" pos="2951280"/>
                <a:tab algn="l" pos="3219480"/>
                <a:tab algn="l" pos="3487680"/>
                <a:tab algn="l" pos="3755880"/>
                <a:tab algn="l" pos="4024440"/>
                <a:tab algn="l" pos="4292640"/>
                <a:tab algn="l" pos="4560840"/>
                <a:tab algn="l" pos="4829040"/>
                <a:tab algn="l" pos="5097600"/>
                <a:tab algn="l" pos="5365800"/>
              </a:tabLst>
            </a:pPr>
            <a:r>
              <a:rPr b="1" i="1" lang="sr-Latn-CS" sz="2400" spc="-1" strike="noStrike" u="sng">
                <a:solidFill>
                  <a:srgbClr val="cc3300"/>
                </a:solidFill>
                <a:uFillTx/>
                <a:latin typeface="Arial Narrow"/>
                <a:ea typeface="Arial"/>
              </a:rPr>
              <a:t>Model Relacioni model -RM</a:t>
            </a:r>
            <a:r>
              <a:rPr b="1" i="1" lang="en-US" sz="2400" spc="-1" strike="noStrike" u="sng">
                <a:solidFill>
                  <a:srgbClr val="cc3300"/>
                </a:solidFill>
                <a:uFillTx/>
                <a:latin typeface="Arial Narrow"/>
                <a:ea typeface="Arial"/>
              </a:rPr>
              <a:t> </a:t>
            </a:r>
            <a:endParaRPr b="0" lang="en-US" sz="2400" spc="-1" strike="noStrike">
              <a:solidFill>
                <a:srgbClr val="000000"/>
              </a:solidFill>
              <a:latin typeface="Times New Roman"/>
            </a:endParaRPr>
          </a:p>
          <a:p>
            <a:pPr algn="just">
              <a:lnSpc>
                <a:spcPct val="100000"/>
              </a:lnSpc>
              <a:tabLst>
                <a:tab algn="l" pos="0"/>
                <a:tab algn="l" pos="268200"/>
                <a:tab algn="l" pos="536400"/>
                <a:tab algn="l" pos="804960"/>
                <a:tab algn="l" pos="1073160"/>
                <a:tab algn="l" pos="1341360"/>
                <a:tab algn="l" pos="1609560"/>
                <a:tab algn="l" pos="1878120"/>
                <a:tab algn="l" pos="2146320"/>
                <a:tab algn="l" pos="2414520"/>
                <a:tab algn="l" pos="2682720"/>
                <a:tab algn="l" pos="2951280"/>
                <a:tab algn="l" pos="3219480"/>
                <a:tab algn="l" pos="3487680"/>
                <a:tab algn="l" pos="3755880"/>
                <a:tab algn="l" pos="4024440"/>
                <a:tab algn="l" pos="4292640"/>
                <a:tab algn="l" pos="4560840"/>
                <a:tab algn="l" pos="4829040"/>
                <a:tab algn="l" pos="5097600"/>
                <a:tab algn="l" pos="5365800"/>
              </a:tabLst>
            </a:pPr>
            <a:r>
              <a:rPr b="1" lang="sr-Latn-CS" sz="2400" spc="-1" strike="noStrike">
                <a:solidFill>
                  <a:srgbClr val="000099"/>
                </a:solidFill>
                <a:latin typeface="Arial Narrow"/>
                <a:ea typeface="Arial"/>
              </a:rPr>
              <a:t>U Relacionom modelu (RM) sistem </a:t>
            </a:r>
            <a:endParaRPr b="0" lang="en-US" sz="2400" spc="-1" strike="noStrike">
              <a:solidFill>
                <a:srgbClr val="000000"/>
              </a:solidFill>
              <a:latin typeface="Times New Roman"/>
            </a:endParaRPr>
          </a:p>
          <a:p>
            <a:pPr algn="just">
              <a:lnSpc>
                <a:spcPct val="100000"/>
              </a:lnSpc>
              <a:tabLst>
                <a:tab algn="l" pos="0"/>
                <a:tab algn="l" pos="268200"/>
                <a:tab algn="l" pos="536400"/>
                <a:tab algn="l" pos="804960"/>
                <a:tab algn="l" pos="1073160"/>
                <a:tab algn="l" pos="1341360"/>
                <a:tab algn="l" pos="1609560"/>
                <a:tab algn="l" pos="1878120"/>
                <a:tab algn="l" pos="2146320"/>
                <a:tab algn="l" pos="2414520"/>
                <a:tab algn="l" pos="2682720"/>
                <a:tab algn="l" pos="2951280"/>
                <a:tab algn="l" pos="3219480"/>
                <a:tab algn="l" pos="3487680"/>
                <a:tab algn="l" pos="3755880"/>
                <a:tab algn="l" pos="4024440"/>
                <a:tab algn="l" pos="4292640"/>
                <a:tab algn="l" pos="4560840"/>
                <a:tab algn="l" pos="4829040"/>
                <a:tab algn="l" pos="5097600"/>
                <a:tab algn="l" pos="5365800"/>
              </a:tabLst>
            </a:pPr>
            <a:r>
              <a:rPr b="1" lang="sr-Latn-CS" sz="2400" spc="-1" strike="noStrike">
                <a:solidFill>
                  <a:srgbClr val="000099"/>
                </a:solidFill>
                <a:latin typeface="Arial Narrow"/>
                <a:ea typeface="Arial"/>
              </a:rPr>
              <a:t>se predstavlja preko skupa </a:t>
            </a:r>
            <a:endParaRPr b="0" lang="en-US" sz="2400" spc="-1" strike="noStrike">
              <a:solidFill>
                <a:srgbClr val="000000"/>
              </a:solidFill>
              <a:latin typeface="Times New Roman"/>
            </a:endParaRPr>
          </a:p>
          <a:p>
            <a:pPr algn="just">
              <a:lnSpc>
                <a:spcPct val="100000"/>
              </a:lnSpc>
              <a:tabLst>
                <a:tab algn="l" pos="0"/>
                <a:tab algn="l" pos="268200"/>
                <a:tab algn="l" pos="536400"/>
                <a:tab algn="l" pos="804960"/>
                <a:tab algn="l" pos="1073160"/>
                <a:tab algn="l" pos="1341360"/>
                <a:tab algn="l" pos="1609560"/>
                <a:tab algn="l" pos="1878120"/>
                <a:tab algn="l" pos="2146320"/>
                <a:tab algn="l" pos="2414520"/>
                <a:tab algn="l" pos="2682720"/>
                <a:tab algn="l" pos="2951280"/>
                <a:tab algn="l" pos="3219480"/>
                <a:tab algn="l" pos="3487680"/>
                <a:tab algn="l" pos="3755880"/>
                <a:tab algn="l" pos="4024440"/>
                <a:tab algn="l" pos="4292640"/>
                <a:tab algn="l" pos="4560840"/>
                <a:tab algn="l" pos="4829040"/>
                <a:tab algn="l" pos="5097600"/>
                <a:tab algn="l" pos="5365800"/>
              </a:tabLst>
            </a:pPr>
            <a:r>
              <a:rPr b="1" lang="sr-Latn-CS" sz="2400" spc="-1" strike="noStrike">
                <a:solidFill>
                  <a:srgbClr val="000099"/>
                </a:solidFill>
                <a:latin typeface="Arial Narrow"/>
                <a:ea typeface="Arial"/>
              </a:rPr>
              <a:t>tabela (relacija).</a:t>
            </a:r>
            <a:endParaRPr b="0" lang="en-US" sz="2400" spc="-1" strike="noStrike">
              <a:solidFill>
                <a:srgbClr val="000000"/>
              </a:solidFill>
              <a:latin typeface="Times New Roman"/>
            </a:endParaRPr>
          </a:p>
          <a:p>
            <a:pPr algn="just">
              <a:lnSpc>
                <a:spcPct val="100000"/>
              </a:lnSpc>
              <a:tabLst>
                <a:tab algn="l" pos="0"/>
                <a:tab algn="l" pos="268200"/>
                <a:tab algn="l" pos="536400"/>
                <a:tab algn="l" pos="804960"/>
                <a:tab algn="l" pos="1073160"/>
                <a:tab algn="l" pos="1341360"/>
                <a:tab algn="l" pos="1609560"/>
                <a:tab algn="l" pos="1878120"/>
                <a:tab algn="l" pos="2146320"/>
                <a:tab algn="l" pos="2414520"/>
                <a:tab algn="l" pos="2682720"/>
                <a:tab algn="l" pos="2951280"/>
                <a:tab algn="l" pos="3219480"/>
                <a:tab algn="l" pos="3487680"/>
                <a:tab algn="l" pos="3755880"/>
                <a:tab algn="l" pos="4024440"/>
                <a:tab algn="l" pos="4292640"/>
                <a:tab algn="l" pos="4560840"/>
                <a:tab algn="l" pos="4829040"/>
                <a:tab algn="l" pos="5097600"/>
                <a:tab algn="l" pos="5365800"/>
              </a:tabLst>
            </a:pPr>
            <a:r>
              <a:rPr b="1" lang="sr-Latn-CS" sz="2400" spc="-1" strike="noStrike">
                <a:solidFill>
                  <a:srgbClr val="000099"/>
                </a:solidFill>
                <a:latin typeface="Arial Narrow"/>
                <a:ea typeface="Arial"/>
              </a:rPr>
              <a:t> </a:t>
            </a:r>
            <a:endParaRPr b="0" lang="en-US" sz="2400" spc="-1" strike="noStrike">
              <a:solidFill>
                <a:srgbClr val="000000"/>
              </a:solidFill>
              <a:latin typeface="Times New Roman"/>
            </a:endParaRPr>
          </a:p>
          <a:p>
            <a:pPr algn="just">
              <a:lnSpc>
                <a:spcPct val="100000"/>
              </a:lnSpc>
              <a:tabLst>
                <a:tab algn="l" pos="0"/>
                <a:tab algn="l" pos="268200"/>
                <a:tab algn="l" pos="536400"/>
                <a:tab algn="l" pos="804960"/>
                <a:tab algn="l" pos="1073160"/>
                <a:tab algn="l" pos="1341360"/>
                <a:tab algn="l" pos="1609560"/>
                <a:tab algn="l" pos="1878120"/>
                <a:tab algn="l" pos="2146320"/>
                <a:tab algn="l" pos="2414520"/>
                <a:tab algn="l" pos="2682720"/>
                <a:tab algn="l" pos="2951280"/>
                <a:tab algn="l" pos="3219480"/>
                <a:tab algn="l" pos="3487680"/>
                <a:tab algn="l" pos="3755880"/>
                <a:tab algn="l" pos="4024440"/>
                <a:tab algn="l" pos="4292640"/>
                <a:tab algn="l" pos="4560840"/>
                <a:tab algn="l" pos="4829040"/>
                <a:tab algn="l" pos="5097600"/>
                <a:tab algn="l" pos="5365800"/>
              </a:tabLst>
            </a:pPr>
            <a:r>
              <a:rPr b="1" lang="sr-Latn-CS" sz="2400" spc="-1" strike="noStrike">
                <a:solidFill>
                  <a:srgbClr val="000099"/>
                </a:solidFill>
                <a:latin typeface="Arial Narrow"/>
                <a:ea typeface="Arial"/>
              </a:rPr>
              <a:t>Tabele predstavljaju  tipove </a:t>
            </a:r>
            <a:endParaRPr b="0" lang="en-US" sz="2400" spc="-1" strike="noStrike">
              <a:solidFill>
                <a:srgbClr val="000000"/>
              </a:solidFill>
              <a:latin typeface="Times New Roman"/>
            </a:endParaRPr>
          </a:p>
          <a:p>
            <a:pPr algn="just">
              <a:lnSpc>
                <a:spcPct val="100000"/>
              </a:lnSpc>
              <a:tabLst>
                <a:tab algn="l" pos="0"/>
                <a:tab algn="l" pos="268200"/>
                <a:tab algn="l" pos="536400"/>
                <a:tab algn="l" pos="804960"/>
                <a:tab algn="l" pos="1073160"/>
                <a:tab algn="l" pos="1341360"/>
                <a:tab algn="l" pos="1609560"/>
                <a:tab algn="l" pos="1878120"/>
                <a:tab algn="l" pos="2146320"/>
                <a:tab algn="l" pos="2414520"/>
                <a:tab algn="l" pos="2682720"/>
                <a:tab algn="l" pos="2951280"/>
                <a:tab algn="l" pos="3219480"/>
                <a:tab algn="l" pos="3487680"/>
                <a:tab algn="l" pos="3755880"/>
                <a:tab algn="l" pos="4024440"/>
                <a:tab algn="l" pos="4292640"/>
                <a:tab algn="l" pos="4560840"/>
                <a:tab algn="l" pos="4829040"/>
                <a:tab algn="l" pos="5097600"/>
                <a:tab algn="l" pos="5365800"/>
              </a:tabLst>
            </a:pPr>
            <a:r>
              <a:rPr b="1" lang="sr-Latn-CS" sz="2400" spc="-1" strike="noStrike">
                <a:solidFill>
                  <a:srgbClr val="000099"/>
                </a:solidFill>
                <a:latin typeface="Arial Narrow"/>
                <a:ea typeface="Arial"/>
              </a:rPr>
              <a:t>objekata, a zatim i neke veze </a:t>
            </a:r>
            <a:endParaRPr b="0" lang="en-US" sz="2400" spc="-1" strike="noStrike">
              <a:solidFill>
                <a:srgbClr val="000000"/>
              </a:solidFill>
              <a:latin typeface="Times New Roman"/>
            </a:endParaRPr>
          </a:p>
          <a:p>
            <a:pPr algn="just">
              <a:lnSpc>
                <a:spcPct val="100000"/>
              </a:lnSpc>
              <a:tabLst>
                <a:tab algn="l" pos="0"/>
                <a:tab algn="l" pos="268200"/>
                <a:tab algn="l" pos="536400"/>
                <a:tab algn="l" pos="804960"/>
                <a:tab algn="l" pos="1073160"/>
                <a:tab algn="l" pos="1341360"/>
                <a:tab algn="l" pos="1609560"/>
                <a:tab algn="l" pos="1878120"/>
                <a:tab algn="l" pos="2146320"/>
                <a:tab algn="l" pos="2414520"/>
                <a:tab algn="l" pos="2682720"/>
                <a:tab algn="l" pos="2951280"/>
                <a:tab algn="l" pos="3219480"/>
                <a:tab algn="l" pos="3487680"/>
                <a:tab algn="l" pos="3755880"/>
                <a:tab algn="l" pos="4024440"/>
                <a:tab algn="l" pos="4292640"/>
                <a:tab algn="l" pos="4560840"/>
                <a:tab algn="l" pos="4829040"/>
                <a:tab algn="l" pos="5097600"/>
                <a:tab algn="l" pos="5365800"/>
              </a:tabLst>
            </a:pPr>
            <a:r>
              <a:rPr b="1" lang="sr-Latn-CS" sz="2400" spc="-1" strike="noStrike">
                <a:solidFill>
                  <a:srgbClr val="000099"/>
                </a:solidFill>
                <a:latin typeface="Arial Narrow"/>
                <a:ea typeface="Arial"/>
              </a:rPr>
              <a:t>u modelu. Kolone predstavljaju </a:t>
            </a:r>
            <a:endParaRPr b="0" lang="en-US" sz="2400" spc="-1" strike="noStrike">
              <a:solidFill>
                <a:srgbClr val="000000"/>
              </a:solidFill>
              <a:latin typeface="Times New Roman"/>
            </a:endParaRPr>
          </a:p>
          <a:p>
            <a:pPr algn="just">
              <a:lnSpc>
                <a:spcPct val="100000"/>
              </a:lnSpc>
              <a:tabLst>
                <a:tab algn="l" pos="0"/>
                <a:tab algn="l" pos="268200"/>
                <a:tab algn="l" pos="536400"/>
                <a:tab algn="l" pos="804960"/>
                <a:tab algn="l" pos="1073160"/>
                <a:tab algn="l" pos="1341360"/>
                <a:tab algn="l" pos="1609560"/>
                <a:tab algn="l" pos="1878120"/>
                <a:tab algn="l" pos="2146320"/>
                <a:tab algn="l" pos="2414520"/>
                <a:tab algn="l" pos="2682720"/>
                <a:tab algn="l" pos="2951280"/>
                <a:tab algn="l" pos="3219480"/>
                <a:tab algn="l" pos="3487680"/>
                <a:tab algn="l" pos="3755880"/>
                <a:tab algn="l" pos="4024440"/>
                <a:tab algn="l" pos="4292640"/>
                <a:tab algn="l" pos="4560840"/>
                <a:tab algn="l" pos="4829040"/>
                <a:tab algn="l" pos="5097600"/>
                <a:tab algn="l" pos="5365800"/>
              </a:tabLst>
            </a:pPr>
            <a:r>
              <a:rPr b="1" lang="sr-Latn-CS" sz="2400" spc="-1" strike="noStrike">
                <a:solidFill>
                  <a:srgbClr val="000099"/>
                </a:solidFill>
                <a:latin typeface="Arial Narrow"/>
                <a:ea typeface="Arial"/>
              </a:rPr>
              <a:t>atribute objekata. Vrste </a:t>
            </a:r>
            <a:endParaRPr b="0" lang="en-US" sz="2400" spc="-1" strike="noStrike">
              <a:solidFill>
                <a:srgbClr val="000000"/>
              </a:solidFill>
              <a:latin typeface="Times New Roman"/>
            </a:endParaRPr>
          </a:p>
          <a:p>
            <a:pPr algn="just">
              <a:lnSpc>
                <a:spcPct val="100000"/>
              </a:lnSpc>
              <a:tabLst>
                <a:tab algn="l" pos="0"/>
                <a:tab algn="l" pos="268200"/>
                <a:tab algn="l" pos="536400"/>
                <a:tab algn="l" pos="804960"/>
                <a:tab algn="l" pos="1073160"/>
                <a:tab algn="l" pos="1341360"/>
                <a:tab algn="l" pos="1609560"/>
                <a:tab algn="l" pos="1878120"/>
                <a:tab algn="l" pos="2146320"/>
                <a:tab algn="l" pos="2414520"/>
                <a:tab algn="l" pos="2682720"/>
                <a:tab algn="l" pos="2951280"/>
                <a:tab algn="l" pos="3219480"/>
                <a:tab algn="l" pos="3487680"/>
                <a:tab algn="l" pos="3755880"/>
                <a:tab algn="l" pos="4024440"/>
                <a:tab algn="l" pos="4292640"/>
                <a:tab algn="l" pos="4560840"/>
                <a:tab algn="l" pos="4829040"/>
                <a:tab algn="l" pos="5097600"/>
                <a:tab algn="l" pos="5365800"/>
              </a:tabLst>
            </a:pPr>
            <a:r>
              <a:rPr b="1" lang="sr-Latn-CS" sz="2400" spc="-1" strike="noStrike">
                <a:solidFill>
                  <a:srgbClr val="000099"/>
                </a:solidFill>
                <a:latin typeface="Arial Narrow"/>
                <a:ea typeface="Arial"/>
              </a:rPr>
              <a:t>predstavljaju pojavljivanje </a:t>
            </a:r>
            <a:endParaRPr b="0" lang="en-US" sz="2400" spc="-1" strike="noStrike">
              <a:solidFill>
                <a:srgbClr val="000000"/>
              </a:solidFill>
              <a:latin typeface="Times New Roman"/>
            </a:endParaRPr>
          </a:p>
          <a:p>
            <a:pPr algn="just">
              <a:lnSpc>
                <a:spcPct val="100000"/>
              </a:lnSpc>
              <a:tabLst>
                <a:tab algn="l" pos="0"/>
                <a:tab algn="l" pos="268200"/>
                <a:tab algn="l" pos="536400"/>
                <a:tab algn="l" pos="804960"/>
                <a:tab algn="l" pos="1073160"/>
                <a:tab algn="l" pos="1341360"/>
                <a:tab algn="l" pos="1609560"/>
                <a:tab algn="l" pos="1878120"/>
                <a:tab algn="l" pos="2146320"/>
                <a:tab algn="l" pos="2414520"/>
                <a:tab algn="l" pos="2682720"/>
                <a:tab algn="l" pos="2951280"/>
                <a:tab algn="l" pos="3219480"/>
                <a:tab algn="l" pos="3487680"/>
                <a:tab algn="l" pos="3755880"/>
                <a:tab algn="l" pos="4024440"/>
                <a:tab algn="l" pos="4292640"/>
                <a:tab algn="l" pos="4560840"/>
                <a:tab algn="l" pos="4829040"/>
                <a:tab algn="l" pos="5097600"/>
                <a:tab algn="l" pos="5365800"/>
              </a:tabLst>
            </a:pPr>
            <a:r>
              <a:rPr b="1" lang="sr-Latn-CS" sz="2400" spc="-1" strike="noStrike">
                <a:solidFill>
                  <a:srgbClr val="000099"/>
                </a:solidFill>
                <a:latin typeface="Arial Narrow"/>
                <a:ea typeface="Arial"/>
              </a:rPr>
              <a:t>objekta, odnosno veza. </a:t>
            </a:r>
            <a:endParaRPr b="0" lang="en-US" sz="2400" spc="-1" strike="noStrike">
              <a:solidFill>
                <a:srgbClr val="000000"/>
              </a:solidFill>
              <a:latin typeface="Times New Roman"/>
            </a:endParaRPr>
          </a:p>
          <a:p>
            <a:pPr algn="just">
              <a:lnSpc>
                <a:spcPct val="100000"/>
              </a:lnSpc>
              <a:tabLst>
                <a:tab algn="l" pos="0"/>
                <a:tab algn="l" pos="268200"/>
                <a:tab algn="l" pos="536400"/>
                <a:tab algn="l" pos="804960"/>
                <a:tab algn="l" pos="1073160"/>
                <a:tab algn="l" pos="1341360"/>
                <a:tab algn="l" pos="1609560"/>
                <a:tab algn="l" pos="1878120"/>
                <a:tab algn="l" pos="2146320"/>
                <a:tab algn="l" pos="2414520"/>
                <a:tab algn="l" pos="2682720"/>
                <a:tab algn="l" pos="2951280"/>
                <a:tab algn="l" pos="3219480"/>
                <a:tab algn="l" pos="3487680"/>
                <a:tab algn="l" pos="3755880"/>
                <a:tab algn="l" pos="4024440"/>
                <a:tab algn="l" pos="4292640"/>
                <a:tab algn="l" pos="4560840"/>
                <a:tab algn="l" pos="4829040"/>
                <a:tab algn="l" pos="5097600"/>
                <a:tab algn="l" pos="5365800"/>
              </a:tabLst>
            </a:pPr>
            <a:endParaRPr b="0" lang="en-US" sz="2400" spc="-1" strike="noStrike">
              <a:solidFill>
                <a:srgbClr val="000000"/>
              </a:solidFill>
              <a:latin typeface="Times New Roman"/>
            </a:endParaRPr>
          </a:p>
          <a:p>
            <a:pPr algn="just">
              <a:lnSpc>
                <a:spcPct val="100000"/>
              </a:lnSpc>
              <a:tabLst>
                <a:tab algn="l" pos="0"/>
                <a:tab algn="l" pos="268200"/>
                <a:tab algn="l" pos="536400"/>
                <a:tab algn="l" pos="804960"/>
                <a:tab algn="l" pos="1073160"/>
                <a:tab algn="l" pos="1341360"/>
                <a:tab algn="l" pos="1609560"/>
                <a:tab algn="l" pos="1878120"/>
                <a:tab algn="l" pos="2146320"/>
                <a:tab algn="l" pos="2414520"/>
                <a:tab algn="l" pos="2682720"/>
                <a:tab algn="l" pos="2951280"/>
                <a:tab algn="l" pos="3219480"/>
                <a:tab algn="l" pos="3487680"/>
                <a:tab algn="l" pos="3755880"/>
                <a:tab algn="l" pos="4024440"/>
                <a:tab algn="l" pos="4292640"/>
                <a:tab algn="l" pos="4560840"/>
                <a:tab algn="l" pos="4829040"/>
                <a:tab algn="l" pos="5097600"/>
                <a:tab algn="l" pos="5365800"/>
              </a:tabLst>
            </a:pPr>
            <a:r>
              <a:rPr b="1" lang="sr-Latn-CS" sz="2400" spc="-1" strike="noStrike">
                <a:solidFill>
                  <a:srgbClr val="000099"/>
                </a:solidFill>
                <a:latin typeface="Arial Narrow"/>
                <a:ea typeface="Arial"/>
              </a:rPr>
              <a:t>Jedan ili više atributa jedinstveno identifikuju jednu vrstu tabele i taj atribut se naziva ključ relacije. U opisu strukture modela naziv tabele se piše ispred zagrade, atributi tabele u zagradi a primarni ključ tabele se podvlači.</a:t>
            </a:r>
            <a:r>
              <a:rPr b="1" lang="en-US" sz="2400" spc="-1" strike="noStrike">
                <a:solidFill>
                  <a:srgbClr val="000099"/>
                </a:solidFill>
                <a:latin typeface="Arial Narrow"/>
              </a:rPr>
              <a:t> </a:t>
            </a:r>
            <a:endParaRPr b="0" lang="en-US" sz="2400" spc="-1" strike="noStrike">
              <a:solidFill>
                <a:srgbClr val="000000"/>
              </a:solidFill>
              <a:latin typeface="Times New Roman"/>
            </a:endParaRPr>
          </a:p>
        </p:txBody>
      </p:sp>
      <p:graphicFrame>
        <p:nvGraphicFramePr>
          <p:cNvPr id="105" name=""/>
          <p:cNvGraphicFramePr/>
          <p:nvPr/>
        </p:nvGraphicFramePr>
        <p:xfrm>
          <a:off x="3622680" y="396720"/>
          <a:ext cx="5486400" cy="4345200"/>
        </p:xfrm>
        <a:graphic>
          <a:graphicData uri="http://schemas.openxmlformats.org/presentationml/2006/ole">
            <p:oleObj r:id="rId1" spid="">
              <p:embed/>
              <p:pic>
                <p:nvPicPr>
                  <p:cNvPr id="106" name="" descr=""/>
                  <p:cNvPicPr/>
                  <p:nvPr/>
                </p:nvPicPr>
                <p:blipFill>
                  <a:blip r:embed="rId2"/>
                  <a:stretch/>
                </p:blipFill>
                <p:spPr>
                  <a:xfrm>
                    <a:off x="3622680" y="396720"/>
                    <a:ext cx="5486400" cy="4345200"/>
                  </a:xfrm>
                  <a:prstGeom prst="rect">
                    <a:avLst/>
                  </a:prstGeom>
                  <a:ln w="0">
                    <a:noFill/>
                  </a:ln>
                </p:spPr>
              </p:pic>
            </p:oleObj>
          </a:graphicData>
        </a:graphic>
      </p:graphicFrame>
      <p:grpSp>
        <p:nvGrpSpPr>
          <p:cNvPr id="107" name=""/>
          <p:cNvGrpSpPr/>
          <p:nvPr/>
        </p:nvGrpSpPr>
        <p:grpSpPr>
          <a:xfrm>
            <a:off x="0" y="6526080"/>
            <a:ext cx="9143640" cy="327240"/>
            <a:chOff x="0" y="6526080"/>
            <a:chExt cx="9143640" cy="327240"/>
          </a:xfrm>
        </p:grpSpPr>
        <p:sp>
          <p:nvSpPr>
            <p:cNvPr id="108" name=""/>
            <p:cNvSpPr/>
            <p:nvPr/>
          </p:nvSpPr>
          <p:spPr>
            <a:xfrm>
              <a:off x="34560" y="6607080"/>
              <a:ext cx="91090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C22BBC-7414-48E3-85CA-EE6291A600AE}" type="slidenum">
                <a:rPr b="1" lang="sl-SI" sz="1000" spc="-1" strike="noStrike">
                  <a:solidFill>
                    <a:srgbClr val="000066"/>
                  </a:solidFill>
                  <a:latin typeface="Arial"/>
                </a:rPr>
                <a:t>&lt;number&gt;</a:t>
              </a:fld>
              <a:endParaRPr b="0" lang="en-US" sz="1000" spc="-1" strike="noStrike">
                <a:solidFill>
                  <a:srgbClr val="000000"/>
                </a:solidFill>
                <a:latin typeface="Times New Roman"/>
              </a:endParaRPr>
            </a:p>
          </p:txBody>
        </p:sp>
        <p:sp>
          <p:nvSpPr>
            <p:cNvPr id="109" name=""/>
            <p:cNvSpPr/>
            <p:nvPr/>
          </p:nvSpPr>
          <p:spPr>
            <a:xfrm>
              <a:off x="34560" y="6607080"/>
              <a:ext cx="2432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66"/>
                  </a:solidFill>
                  <a:latin typeface="Arial"/>
                </a:rPr>
                <a:t>      </a:t>
              </a:r>
              <a:r>
                <a:rPr b="1" lang="sr-Latn-CS" sz="1000" spc="-1" strike="noStrike">
                  <a:solidFill>
                    <a:srgbClr val="000066"/>
                  </a:solidFill>
                  <a:latin typeface="Arial"/>
                </a:rPr>
                <a:t>BP-3P</a:t>
              </a:r>
              <a:endParaRPr b="0" lang="en-US" sz="1000" spc="-1" strike="noStrike">
                <a:solidFill>
                  <a:srgbClr val="000000"/>
                </a:solidFill>
                <a:latin typeface="Times New Roman"/>
              </a:endParaRPr>
            </a:p>
          </p:txBody>
        </p:sp>
        <p:graphicFrame>
          <p:nvGraphicFramePr>
            <p:cNvPr id="110" name=""/>
            <p:cNvGraphicFramePr/>
            <p:nvPr/>
          </p:nvGraphicFramePr>
          <p:xfrm>
            <a:off x="0" y="6526080"/>
            <a:ext cx="232200" cy="285840"/>
          </p:xfrm>
          <a:graphic>
            <a:graphicData uri="http://schemas.openxmlformats.org/presentationml/2006/ole">
              <p:oleObj r:id="rId3" spid="">
                <p:embed/>
                <p:pic>
                  <p:nvPicPr>
                    <p:cNvPr id="111" name="" descr=""/>
                    <p:cNvPicPr/>
                    <p:nvPr/>
                  </p:nvPicPr>
                  <p:blipFill>
                    <a:blip r:embed="rId4"/>
                    <a:stretch/>
                  </p:blipFill>
                  <p:spPr>
                    <a:xfrm>
                      <a:off x="0" y="6526080"/>
                      <a:ext cx="232200" cy="285840"/>
                    </a:xfrm>
                    <a:prstGeom prst="rect">
                      <a:avLst/>
                    </a:prstGeom>
                    <a:ln w="0">
                      <a:noFill/>
                    </a:ln>
                  </p:spPr>
                </p:pic>
              </p:oleObj>
            </a:graphicData>
          </a:graphic>
        </p:graphicFrame>
      </p:grpSp>
      <p:sp>
        <p:nvSpPr>
          <p:cNvPr id="112" name=""/>
          <p:cNvSpPr/>
          <p:nvPr/>
        </p:nvSpPr>
        <p:spPr>
          <a:xfrm>
            <a:off x="0" y="0"/>
            <a:ext cx="9144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u="sng">
                <a:solidFill>
                  <a:srgbClr val="000099"/>
                </a:solidFill>
                <a:uFillTx/>
                <a:latin typeface="Arial"/>
              </a:rPr>
              <a:t>BP–Modul1-NJ3-</a:t>
            </a:r>
            <a:r>
              <a:rPr b="1" i="1" lang="sr-Latn-CS" sz="2000" spc="-1" strike="noStrike" u="sng">
                <a:solidFill>
                  <a:srgbClr val="000099"/>
                </a:solidFill>
                <a:uFillTx/>
                <a:latin typeface="Arial"/>
                <a:ea typeface="Times New Roman"/>
              </a:rPr>
              <a:t>Savremeni modeli podataka-MOV, RM, OM</a:t>
            </a:r>
            <a:r>
              <a:rPr b="1" lang="en-US" sz="2000" spc="-1" strike="noStrike" u="sng">
                <a:solidFill>
                  <a:srgbClr val="000099"/>
                </a:solidFill>
                <a:uFillTx/>
                <a:latin typeface="Arial"/>
              </a:rPr>
              <a:t> </a:t>
            </a:r>
            <a:endParaRPr b="0" lang="en-US" sz="2000" spc="-1" strike="noStrike">
              <a:solidFill>
                <a:srgbClr val="000000"/>
              </a:solidFill>
              <a:latin typeface="Times New Roman"/>
            </a:endParaRPr>
          </a:p>
        </p:txBody>
      </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34920" y="396720"/>
            <a:ext cx="9074160" cy="6189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268200"/>
                <a:tab algn="l" pos="536400"/>
                <a:tab algn="l" pos="804960"/>
                <a:tab algn="l" pos="1073160"/>
                <a:tab algn="l" pos="1341360"/>
                <a:tab algn="l" pos="1609560"/>
                <a:tab algn="l" pos="1878120"/>
                <a:tab algn="l" pos="2146320"/>
                <a:tab algn="l" pos="2414520"/>
                <a:tab algn="l" pos="2682720"/>
                <a:tab algn="l" pos="2951280"/>
                <a:tab algn="l" pos="3219480"/>
                <a:tab algn="l" pos="3487680"/>
                <a:tab algn="l" pos="3755880"/>
                <a:tab algn="l" pos="4024440"/>
                <a:tab algn="l" pos="4292640"/>
                <a:tab algn="l" pos="4560840"/>
                <a:tab algn="l" pos="4829040"/>
                <a:tab algn="l" pos="5097600"/>
                <a:tab algn="l" pos="5365800"/>
              </a:tabLst>
            </a:pPr>
            <a:r>
              <a:rPr b="1" i="1" lang="sr-Latn-CS" sz="2400" spc="-1" strike="noStrike" u="sng">
                <a:solidFill>
                  <a:srgbClr val="cc3300"/>
                </a:solidFill>
                <a:uFillTx/>
                <a:latin typeface="Arial"/>
                <a:ea typeface="Arial"/>
              </a:rPr>
              <a:t>Objektni model OM</a:t>
            </a:r>
            <a:r>
              <a:rPr b="1" i="1" lang="en-US" sz="2400" spc="-1" strike="noStrike" u="sng">
                <a:solidFill>
                  <a:srgbClr val="cc3300"/>
                </a:solidFill>
                <a:uFillTx/>
                <a:latin typeface="Arial Narrow"/>
                <a:ea typeface="Arial"/>
              </a:rPr>
              <a:t> </a:t>
            </a:r>
            <a:endParaRPr b="0" lang="en-US" sz="2400" spc="-1" strike="noStrike">
              <a:solidFill>
                <a:srgbClr val="000000"/>
              </a:solidFill>
              <a:latin typeface="Times New Roman"/>
            </a:endParaRPr>
          </a:p>
          <a:p>
            <a:pPr algn="just">
              <a:lnSpc>
                <a:spcPct val="100000"/>
              </a:lnSpc>
              <a:tabLst>
                <a:tab algn="l" pos="0"/>
                <a:tab algn="l" pos="268200"/>
                <a:tab algn="l" pos="536400"/>
                <a:tab algn="l" pos="804960"/>
                <a:tab algn="l" pos="1073160"/>
                <a:tab algn="l" pos="1341360"/>
                <a:tab algn="l" pos="1609560"/>
                <a:tab algn="l" pos="1878120"/>
                <a:tab algn="l" pos="2146320"/>
                <a:tab algn="l" pos="2414520"/>
                <a:tab algn="l" pos="2682720"/>
                <a:tab algn="l" pos="2951280"/>
                <a:tab algn="l" pos="3219480"/>
                <a:tab algn="l" pos="3487680"/>
                <a:tab algn="l" pos="3755880"/>
                <a:tab algn="l" pos="4024440"/>
                <a:tab algn="l" pos="4292640"/>
                <a:tab algn="l" pos="4560840"/>
                <a:tab algn="l" pos="4829040"/>
                <a:tab algn="l" pos="5097600"/>
                <a:tab algn="l" pos="5365800"/>
              </a:tabLst>
            </a:pPr>
            <a:r>
              <a:rPr b="1" lang="sr-Latn-CS" sz="2400" spc="-1" strike="noStrike">
                <a:solidFill>
                  <a:srgbClr val="000099"/>
                </a:solidFill>
                <a:latin typeface="Arial"/>
                <a:ea typeface="Arial"/>
              </a:rPr>
              <a:t>U Objektnom modelu objekat se definiše kao entitet koji je sposoban da čuva svoja stanja i koji okolini stavlja na raspolaganje skup operacija preko kojih se tim stanjem pristupa.</a:t>
            </a:r>
            <a:endParaRPr b="0" lang="en-US" sz="2400" spc="-1" strike="noStrike">
              <a:solidFill>
                <a:srgbClr val="000000"/>
              </a:solidFill>
              <a:latin typeface="Times New Roman"/>
            </a:endParaRPr>
          </a:p>
          <a:p>
            <a:pPr algn="just">
              <a:lnSpc>
                <a:spcPct val="100000"/>
              </a:lnSpc>
              <a:tabLst>
                <a:tab algn="l" pos="0"/>
                <a:tab algn="l" pos="268200"/>
                <a:tab algn="l" pos="536400"/>
                <a:tab algn="l" pos="804960"/>
                <a:tab algn="l" pos="1073160"/>
                <a:tab algn="l" pos="1341360"/>
                <a:tab algn="l" pos="1609560"/>
                <a:tab algn="l" pos="1878120"/>
                <a:tab algn="l" pos="2146320"/>
                <a:tab algn="l" pos="2414520"/>
                <a:tab algn="l" pos="2682720"/>
                <a:tab algn="l" pos="2951280"/>
                <a:tab algn="l" pos="3219480"/>
                <a:tab algn="l" pos="3487680"/>
                <a:tab algn="l" pos="3755880"/>
                <a:tab algn="l" pos="4024440"/>
                <a:tab algn="l" pos="4292640"/>
                <a:tab algn="l" pos="4560840"/>
                <a:tab algn="l" pos="4829040"/>
                <a:tab algn="l" pos="5097600"/>
                <a:tab algn="l" pos="5365800"/>
              </a:tabLst>
            </a:pPr>
            <a:r>
              <a:rPr b="1" lang="sr-Latn-CS" sz="800" spc="-1" strike="noStrike">
                <a:solidFill>
                  <a:srgbClr val="000099"/>
                </a:solidFill>
                <a:latin typeface="Arial"/>
                <a:ea typeface="Arial"/>
              </a:rPr>
              <a:t> </a:t>
            </a:r>
            <a:endParaRPr b="0" lang="en-US" sz="800" spc="-1" strike="noStrike">
              <a:solidFill>
                <a:srgbClr val="000000"/>
              </a:solidFill>
              <a:latin typeface="Times New Roman"/>
            </a:endParaRPr>
          </a:p>
          <a:p>
            <a:pPr algn="just">
              <a:lnSpc>
                <a:spcPct val="100000"/>
              </a:lnSpc>
              <a:tabLst>
                <a:tab algn="l" pos="0"/>
                <a:tab algn="l" pos="268200"/>
                <a:tab algn="l" pos="536400"/>
                <a:tab algn="l" pos="804960"/>
                <a:tab algn="l" pos="1073160"/>
                <a:tab algn="l" pos="1341360"/>
                <a:tab algn="l" pos="1609560"/>
                <a:tab algn="l" pos="1878120"/>
                <a:tab algn="l" pos="2146320"/>
                <a:tab algn="l" pos="2414520"/>
                <a:tab algn="l" pos="2682720"/>
                <a:tab algn="l" pos="2951280"/>
                <a:tab algn="l" pos="3219480"/>
                <a:tab algn="l" pos="3487680"/>
                <a:tab algn="l" pos="3755880"/>
                <a:tab algn="l" pos="4024440"/>
                <a:tab algn="l" pos="4292640"/>
                <a:tab algn="l" pos="4560840"/>
                <a:tab algn="l" pos="4829040"/>
                <a:tab algn="l" pos="5097600"/>
                <a:tab algn="l" pos="5365800"/>
              </a:tabLst>
            </a:pPr>
            <a:r>
              <a:rPr b="1" lang="sr-Latn-CS" sz="2400" spc="-1" strike="noStrike">
                <a:solidFill>
                  <a:srgbClr val="000099"/>
                </a:solidFill>
                <a:latin typeface="Arial"/>
                <a:ea typeface="Arial"/>
              </a:rPr>
              <a:t>Stanje objekta predstavlja se vrednostima svojih osobina: atributa objekata, i njegovih veza sa drugim objektima u sistemu. U Modelu Objekti i Veze, u Relacionom Modelu i njihovim prethodnicima Baza Podataka je u osnovi statički koncept koji predstavlja stanje celokupnog sistema u jednom trenutku vremena.</a:t>
            </a:r>
            <a:endParaRPr b="0" lang="en-US" sz="2400" spc="-1" strike="noStrike">
              <a:solidFill>
                <a:srgbClr val="000000"/>
              </a:solidFill>
              <a:latin typeface="Times New Roman"/>
            </a:endParaRPr>
          </a:p>
          <a:p>
            <a:pPr algn="just">
              <a:lnSpc>
                <a:spcPct val="100000"/>
              </a:lnSpc>
              <a:tabLst>
                <a:tab algn="l" pos="0"/>
                <a:tab algn="l" pos="268200"/>
                <a:tab algn="l" pos="536400"/>
                <a:tab algn="l" pos="804960"/>
                <a:tab algn="l" pos="1073160"/>
                <a:tab algn="l" pos="1341360"/>
                <a:tab algn="l" pos="1609560"/>
                <a:tab algn="l" pos="1878120"/>
                <a:tab algn="l" pos="2146320"/>
                <a:tab algn="l" pos="2414520"/>
                <a:tab algn="l" pos="2682720"/>
                <a:tab algn="l" pos="2951280"/>
                <a:tab algn="l" pos="3219480"/>
                <a:tab algn="l" pos="3487680"/>
                <a:tab algn="l" pos="3755880"/>
                <a:tab algn="l" pos="4024440"/>
                <a:tab algn="l" pos="4292640"/>
                <a:tab algn="l" pos="4560840"/>
                <a:tab algn="l" pos="4829040"/>
                <a:tab algn="l" pos="5097600"/>
                <a:tab algn="l" pos="5365800"/>
              </a:tabLst>
            </a:pPr>
            <a:r>
              <a:rPr b="1" lang="sr-Latn-CS" sz="800" spc="-1" strike="noStrike">
                <a:solidFill>
                  <a:srgbClr val="000099"/>
                </a:solidFill>
                <a:latin typeface="Arial Narrow"/>
                <a:ea typeface="Arial"/>
              </a:rPr>
              <a:t> </a:t>
            </a:r>
            <a:endParaRPr b="0" lang="en-US" sz="800" spc="-1" strike="noStrike">
              <a:solidFill>
                <a:srgbClr val="000000"/>
              </a:solidFill>
              <a:latin typeface="Times New Roman"/>
            </a:endParaRPr>
          </a:p>
          <a:p>
            <a:pPr algn="just">
              <a:lnSpc>
                <a:spcPct val="100000"/>
              </a:lnSpc>
              <a:tabLst>
                <a:tab algn="l" pos="0"/>
                <a:tab algn="l" pos="268200"/>
                <a:tab algn="l" pos="536400"/>
                <a:tab algn="l" pos="804960"/>
                <a:tab algn="l" pos="1073160"/>
                <a:tab algn="l" pos="1341360"/>
                <a:tab algn="l" pos="1609560"/>
                <a:tab algn="l" pos="1878120"/>
                <a:tab algn="l" pos="2146320"/>
                <a:tab algn="l" pos="2414520"/>
                <a:tab algn="l" pos="2682720"/>
                <a:tab algn="l" pos="2951280"/>
                <a:tab algn="l" pos="3219480"/>
                <a:tab algn="l" pos="3487680"/>
                <a:tab algn="l" pos="3755880"/>
                <a:tab algn="l" pos="4024440"/>
                <a:tab algn="l" pos="4292640"/>
                <a:tab algn="l" pos="4560840"/>
                <a:tab algn="l" pos="4829040"/>
                <a:tab algn="l" pos="5097600"/>
                <a:tab algn="l" pos="5365800"/>
              </a:tabLst>
            </a:pPr>
            <a:r>
              <a:rPr b="1" lang="sr-Latn-CS" sz="2400" spc="-1" strike="noStrike">
                <a:solidFill>
                  <a:srgbClr val="000099"/>
                </a:solidFill>
                <a:latin typeface="Arial"/>
                <a:ea typeface="Arial"/>
              </a:rPr>
              <a:t>U Objektnom Modelu stanje je karakteristika pojedinih objekata. Stanje se “učauruje” u objekte koji drugim objektima u sistemu i okolini stavlja na raspolaganje tzv. “interfejs”, odnosno podskup svojih operacija koja ta stanja menjaju i transformišu u odziv objekta. </a:t>
            </a:r>
            <a:endParaRPr b="0" lang="en-US" sz="2400" spc="-1" strike="noStrike">
              <a:solidFill>
                <a:srgbClr val="000000"/>
              </a:solidFill>
              <a:latin typeface="Times New Roman"/>
            </a:endParaRPr>
          </a:p>
        </p:txBody>
      </p:sp>
      <p:grpSp>
        <p:nvGrpSpPr>
          <p:cNvPr id="114" name=""/>
          <p:cNvGrpSpPr/>
          <p:nvPr/>
        </p:nvGrpSpPr>
        <p:grpSpPr>
          <a:xfrm>
            <a:off x="0" y="6526080"/>
            <a:ext cx="9143640" cy="327240"/>
            <a:chOff x="0" y="6526080"/>
            <a:chExt cx="9143640" cy="327240"/>
          </a:xfrm>
        </p:grpSpPr>
        <p:sp>
          <p:nvSpPr>
            <p:cNvPr id="115" name=""/>
            <p:cNvSpPr/>
            <p:nvPr/>
          </p:nvSpPr>
          <p:spPr>
            <a:xfrm>
              <a:off x="34560" y="6607080"/>
              <a:ext cx="91090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DF5F94-C29B-4A5E-8673-5E94B6147BC1}" type="slidenum">
                <a:rPr b="1" lang="sl-SI" sz="1000" spc="-1" strike="noStrike">
                  <a:solidFill>
                    <a:srgbClr val="000066"/>
                  </a:solidFill>
                  <a:latin typeface="Arial"/>
                </a:rPr>
                <a:t>&lt;number&gt;</a:t>
              </a:fld>
              <a:endParaRPr b="0" lang="en-US" sz="1000" spc="-1" strike="noStrike">
                <a:solidFill>
                  <a:srgbClr val="000000"/>
                </a:solidFill>
                <a:latin typeface="Times New Roman"/>
              </a:endParaRPr>
            </a:p>
          </p:txBody>
        </p:sp>
        <p:sp>
          <p:nvSpPr>
            <p:cNvPr id="116" name=""/>
            <p:cNvSpPr/>
            <p:nvPr/>
          </p:nvSpPr>
          <p:spPr>
            <a:xfrm>
              <a:off x="34560" y="6607080"/>
              <a:ext cx="2432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66"/>
                  </a:solidFill>
                  <a:latin typeface="Arial"/>
                </a:rPr>
                <a:t>      </a:t>
              </a:r>
              <a:r>
                <a:rPr b="1" lang="sr-Latn-CS" sz="1000" spc="-1" strike="noStrike">
                  <a:solidFill>
                    <a:srgbClr val="000066"/>
                  </a:solidFill>
                  <a:latin typeface="Arial"/>
                </a:rPr>
                <a:t>BP-3P</a:t>
              </a:r>
              <a:endParaRPr b="0" lang="en-US" sz="1000" spc="-1" strike="noStrike">
                <a:solidFill>
                  <a:srgbClr val="000000"/>
                </a:solidFill>
                <a:latin typeface="Times New Roman"/>
              </a:endParaRPr>
            </a:p>
          </p:txBody>
        </p:sp>
        <p:graphicFrame>
          <p:nvGraphicFramePr>
            <p:cNvPr id="117" name=""/>
            <p:cNvGraphicFramePr/>
            <p:nvPr/>
          </p:nvGraphicFramePr>
          <p:xfrm>
            <a:off x="0" y="6526080"/>
            <a:ext cx="232200" cy="285840"/>
          </p:xfrm>
          <a:graphic>
            <a:graphicData uri="http://schemas.openxmlformats.org/presentationml/2006/ole">
              <p:oleObj r:id="rId1" spid="">
                <p:embed/>
                <p:pic>
                  <p:nvPicPr>
                    <p:cNvPr id="118" name="" descr=""/>
                    <p:cNvPicPr/>
                    <p:nvPr/>
                  </p:nvPicPr>
                  <p:blipFill>
                    <a:blip r:embed="rId2"/>
                    <a:stretch/>
                  </p:blipFill>
                  <p:spPr>
                    <a:xfrm>
                      <a:off x="0" y="6526080"/>
                      <a:ext cx="232200" cy="285840"/>
                    </a:xfrm>
                    <a:prstGeom prst="rect">
                      <a:avLst/>
                    </a:prstGeom>
                    <a:ln w="0">
                      <a:noFill/>
                    </a:ln>
                  </p:spPr>
                </p:pic>
              </p:oleObj>
            </a:graphicData>
          </a:graphic>
        </p:graphicFrame>
      </p:grpSp>
      <p:sp>
        <p:nvSpPr>
          <p:cNvPr id="119" name=""/>
          <p:cNvSpPr/>
          <p:nvPr/>
        </p:nvSpPr>
        <p:spPr>
          <a:xfrm>
            <a:off x="0" y="0"/>
            <a:ext cx="9144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u="sng">
                <a:solidFill>
                  <a:srgbClr val="000099"/>
                </a:solidFill>
                <a:uFillTx/>
                <a:latin typeface="Arial"/>
              </a:rPr>
              <a:t>BP–Modul1-NJ3-</a:t>
            </a:r>
            <a:r>
              <a:rPr b="1" i="1" lang="sr-Latn-CS" sz="2000" spc="-1" strike="noStrike" u="sng">
                <a:solidFill>
                  <a:srgbClr val="000099"/>
                </a:solidFill>
                <a:uFillTx/>
                <a:latin typeface="Arial"/>
                <a:ea typeface="Times New Roman"/>
              </a:rPr>
              <a:t>Savremeni modeli podataka-MOV, RM, OM</a:t>
            </a:r>
            <a:r>
              <a:rPr b="1" lang="en-US" sz="2000" spc="-1" strike="noStrike" u="sng">
                <a:solidFill>
                  <a:srgbClr val="000099"/>
                </a:solidFill>
                <a:uFillTx/>
                <a:latin typeface="Arial"/>
              </a:rPr>
              <a:t> </a:t>
            </a:r>
            <a:endParaRPr b="0" lang="en-US" sz="2000" spc="-1" strike="noStrike">
              <a:solidFill>
                <a:srgbClr val="000000"/>
              </a:solidFill>
              <a:latin typeface="Times New Roman"/>
            </a:endParaRPr>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7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10T16:14:00Z</dcterms:created>
  <dc:creator>Lukic</dc:creator>
  <dc:description/>
  <dc:language>en-US</dc:language>
  <cp:lastModifiedBy>Zoran</cp:lastModifiedBy>
  <dcterms:modified xsi:type="dcterms:W3CDTF">2005-10-09T07:38:08Z</dcterms:modified>
  <cp:revision>303</cp:revision>
  <dc:subject/>
  <dc:title>PowerPoint Presentation</dc:title>
</cp:coreProperties>
</file>