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A8B-3C4C-4377-A210-CAA639D7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013-3CF3-405D-B334-F970B8A6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DB7-DBD5-4DD8-B1D9-485608AD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BCE-CBC5-4F52-83A2-A3056F9F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334-3543-4A75-A5A0-FAA268AE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4E8-4AC4-41CD-ACC1-8DAF294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58D-CA0B-40AD-81C5-24D542EF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272-74BD-4F7C-86B6-45A86DEE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775-54D6-43E8-B5BE-2063FE04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79E-6B2A-4F27-A641-B7CF46A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DE7-0DE4-4566-97C0-A1DCD10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E3B-D277-4A7F-8F0E-3965112B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EAE-41B5-413C-B9F1-8064C07FE29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43E-8A62-4562-9180-276D3EE208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DFA0B9-D31A-4827-9F31-FF02E3C50E76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40" y="457200"/>
            <a:ext cx="91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god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MO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deli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rž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žurir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aze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traži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vešt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eri i jednih i drugih operacija će se dati za model n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led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ćoj slic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360" y="27622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31800" y="338940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7680" y="32216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3"/>
            <a:endCxn id="114" idx="0"/>
          </p:cNvCxnSpPr>
          <p:nvPr/>
        </p:nvCxnSpPr>
        <p:spPr>
          <a:xfrm>
            <a:off x="3024000" y="3011400"/>
            <a:ext cx="370440" cy="207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4" idx="2"/>
            <a:endCxn id="118" idx="3"/>
          </p:cNvCxnSpPr>
          <p:nvPr/>
        </p:nvCxnSpPr>
        <p:spPr>
          <a:xfrm rot="5400000">
            <a:off x="3112560" y="349920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2929680" y="27828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4920" y="380700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01760" y="30859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840" y="2951640"/>
            <a:ext cx="52812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76624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7480" y="35344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1"/>
            <a:endCxn id="114" idx="3"/>
          </p:cNvCxnSpPr>
          <p:nvPr/>
        </p:nvCxnSpPr>
        <p:spPr>
          <a:xfrm rot="10800000">
            <a:off x="3753720" y="3359880"/>
            <a:ext cx="3308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970600" y="265176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3400" y="22906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3160" y="3675240"/>
            <a:ext cx="909360" cy="331560"/>
            <a:chOff x="173160" y="3675240"/>
            <a:chExt cx="909360" cy="331560"/>
          </a:xfrm>
        </p:grpSpPr>
        <p:sp>
          <p:nvSpPr>
            <p:cNvPr id="127" name=""/>
            <p:cNvSpPr/>
            <p:nvPr/>
          </p:nvSpPr>
          <p:spPr>
            <a:xfrm>
              <a:off x="173160" y="3675240"/>
              <a:ext cx="909360" cy="331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4360" y="37184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122" idx="3"/>
            <a:endCxn id="118" idx="1"/>
          </p:cNvCxnSpPr>
          <p:nvPr/>
        </p:nvCxnSpPr>
        <p:spPr>
          <a:xfrm>
            <a:off x="845640" y="307512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2" idx="3"/>
            <a:endCxn id="116" idx="1"/>
          </p:cNvCxnSpPr>
          <p:nvPr/>
        </p:nvCxnSpPr>
        <p:spPr>
          <a:xfrm flipV="1">
            <a:off x="845640" y="3010680"/>
            <a:ext cx="374040" cy="64440"/>
          </a:xfrm>
          <a:prstGeom prst="curvedConnector5">
            <a:avLst>
              <a:gd name="adj1" fmla="val 49710"/>
              <a:gd name="adj2" fmla="val 50000"/>
              <a:gd name="adj3" fmla="val 497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2" idx="2"/>
            <a:endCxn id="128" idx="0"/>
          </p:cNvCxnSpPr>
          <p:nvPr/>
        </p:nvCxnSpPr>
        <p:spPr>
          <a:xfrm flipH="1" rot="16200000">
            <a:off x="345600" y="3432600"/>
            <a:ext cx="513720" cy="51480"/>
          </a:xfrm>
          <a:prstGeom prst="curvedConnector5">
            <a:avLst>
              <a:gd name="adj1" fmla="val 49789"/>
              <a:gd name="adj2" fmla="val 50000"/>
              <a:gd name="adj3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47600" y="23716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2766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48080" y="2600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3800" y="22813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54960" y="2562840"/>
            <a:ext cx="846000" cy="796320"/>
            <a:chOff x="7554960" y="2562840"/>
            <a:chExt cx="846000" cy="796320"/>
          </a:xfrm>
        </p:grpSpPr>
        <p:sp>
          <p:nvSpPr>
            <p:cNvPr id="137" name=""/>
            <p:cNvSpPr/>
            <p:nvPr/>
          </p:nvSpPr>
          <p:spPr>
            <a:xfrm>
              <a:off x="7554960" y="2757600"/>
              <a:ext cx="84600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9280" y="2562840"/>
              <a:ext cx="83916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" name=""/>
          <p:cNvCxnSpPr>
            <a:stCxn id="121" idx="3"/>
            <a:endCxn id="124" idx="1"/>
          </p:cNvCxnSpPr>
          <p:nvPr/>
        </p:nvCxnSpPr>
        <p:spPr>
          <a:xfrm flipV="1">
            <a:off x="5406840" y="2790360"/>
            <a:ext cx="557640" cy="572400"/>
          </a:xfrm>
          <a:prstGeom prst="curvedConnector5">
            <a:avLst>
              <a:gd name="adj1" fmla="val 49806"/>
              <a:gd name="adj2" fmla="val 49968"/>
              <a:gd name="adj3" fmla="val 4980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24" idx="0"/>
            <a:endCxn id="138" idx="0"/>
          </p:cNvCxnSpPr>
          <p:nvPr/>
        </p:nvCxnSpPr>
        <p:spPr>
          <a:xfrm flipH="1" rot="16200000">
            <a:off x="7098120" y="1874520"/>
            <a:ext cx="110520" cy="1654920"/>
          </a:xfrm>
          <a:prstGeom prst="curvedConnector5">
            <a:avLst>
              <a:gd name="adj1" fmla="val -208496"/>
              <a:gd name="adj2" fmla="val 50000"/>
              <a:gd name="adj3" fmla="val -2084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4" idx="3"/>
            <a:endCxn id="138" idx="2"/>
          </p:cNvCxnSpPr>
          <p:nvPr/>
        </p:nvCxnSpPr>
        <p:spPr>
          <a:xfrm>
            <a:off x="6686640" y="2790360"/>
            <a:ext cx="1294560" cy="374040"/>
          </a:xfrm>
          <a:prstGeom prst="curvedConnector5">
            <a:avLst>
              <a:gd name="adj1" fmla="val 33713"/>
              <a:gd name="adj2" fmla="val 80635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181560" y="305208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69280" y="38455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78040" y="385992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2"/>
            <a:endCxn id="143" idx="0"/>
          </p:cNvCxnSpPr>
          <p:nvPr/>
        </p:nvCxnSpPr>
        <p:spPr>
          <a:xfrm rot="5400000">
            <a:off x="5993640" y="3504960"/>
            <a:ext cx="280440" cy="394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4" idx="0"/>
          </p:cNvCxnSpPr>
          <p:nvPr/>
        </p:nvCxnSpPr>
        <p:spPr>
          <a:xfrm flipH="1" rot="16200000">
            <a:off x="6757920" y="31341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2"/>
            <a:endCxn id="142" idx="0"/>
          </p:cNvCxnSpPr>
          <p:nvPr/>
        </p:nvCxnSpPr>
        <p:spPr>
          <a:xfrm flipH="1" rot="16200000">
            <a:off x="6246720" y="301068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8250120" y="229860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endCxn id="148" idx="2"/>
          </p:cNvCxnSpPr>
          <p:nvPr/>
        </p:nvCxnSpPr>
        <p:spPr>
          <a:xfrm flipH="1" flipV="1" rot="5400000">
            <a:off x="8240040" y="26488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7976520" y="25304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78680" y="31068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1400" y="2505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77640" y="30877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0320" y="257184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1560" y="27478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8720" y="29098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29160" y="2314440"/>
            <a:ext cx="69876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3"/>
            <a:endCxn id="124" idx="0"/>
          </p:cNvCxnSpPr>
          <p:nvPr/>
        </p:nvCxnSpPr>
        <p:spPr>
          <a:xfrm>
            <a:off x="6127560" y="24094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7215120" y="35114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8440" y="35067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51760" y="35798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4" idx="3"/>
            <a:endCxn id="161" idx="1"/>
          </p:cNvCxnSpPr>
          <p:nvPr/>
        </p:nvCxnSpPr>
        <p:spPr>
          <a:xfrm flipV="1">
            <a:off x="7786800" y="3674520"/>
            <a:ext cx="265680" cy="308520"/>
          </a:xfrm>
          <a:prstGeom prst="curvedConnector5">
            <a:avLst>
              <a:gd name="adj1" fmla="val 49660"/>
              <a:gd name="adj2" fmla="val 50000"/>
              <a:gd name="adj3" fmla="val 496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5483160" y="33559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1"/>
            <a:endCxn id="143" idx="1"/>
          </p:cNvCxnSpPr>
          <p:nvPr/>
        </p:nvCxnSpPr>
        <p:spPr>
          <a:xfrm flipH="1" flipV="1" rot="10800000">
            <a:off x="5482080" y="3450240"/>
            <a:ext cx="181800" cy="518040"/>
          </a:xfrm>
          <a:prstGeom prst="curvedConnector5">
            <a:avLst>
              <a:gd name="adj1" fmla="val -15674"/>
              <a:gd name="adj2" fmla="val 50000"/>
              <a:gd name="adj3" fmla="val -156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587840" y="2298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8160" y="23940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5" idx="3"/>
            <a:endCxn id="124" idx="1"/>
          </p:cNvCxnSpPr>
          <p:nvPr/>
        </p:nvCxnSpPr>
        <p:spPr>
          <a:xfrm>
            <a:off x="5285880" y="23940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6" idx="3"/>
            <a:endCxn id="124" idx="1"/>
          </p:cNvCxnSpPr>
          <p:nvPr/>
        </p:nvCxnSpPr>
        <p:spPr>
          <a:xfrm>
            <a:off x="3976200" y="24890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3779280" y="29574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7840" y="368604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13200" y="3889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14" idx="3"/>
            <a:endCxn id="170" idx="1"/>
          </p:cNvCxnSpPr>
          <p:nvPr/>
        </p:nvCxnSpPr>
        <p:spPr>
          <a:xfrm>
            <a:off x="3754080" y="3360240"/>
            <a:ext cx="834120" cy="421560"/>
          </a:xfrm>
          <a:prstGeom prst="curvedConnector5">
            <a:avLst>
              <a:gd name="adj1" fmla="val 57901"/>
              <a:gd name="adj2" fmla="val 50000"/>
              <a:gd name="adj3" fmla="val 579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14" idx="3"/>
            <a:endCxn id="171" idx="0"/>
          </p:cNvCxnSpPr>
          <p:nvPr/>
        </p:nvCxnSpPr>
        <p:spPr>
          <a:xfrm>
            <a:off x="3754080" y="3360240"/>
            <a:ext cx="50868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3097080" y="30193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2920" y="35082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3120" y="35434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03040" y="29829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32" idx="2"/>
            <a:endCxn id="122" idx="0"/>
          </p:cNvCxnSpPr>
          <p:nvPr/>
        </p:nvCxnSpPr>
        <p:spPr>
          <a:xfrm flipH="1" rot="16200000">
            <a:off x="343080" y="27144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3" idx="2"/>
            <a:endCxn id="122" idx="0"/>
          </p:cNvCxnSpPr>
          <p:nvPr/>
        </p:nvCxnSpPr>
        <p:spPr>
          <a:xfrm rot="5400000">
            <a:off x="672120" y="2371680"/>
            <a:ext cx="481680" cy="672120"/>
          </a:xfrm>
          <a:prstGeom prst="curvedConnector5">
            <a:avLst>
              <a:gd name="adj1" fmla="val 49813"/>
              <a:gd name="adj2" fmla="val 50000"/>
              <a:gd name="adj3" fmla="val 498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35" idx="2"/>
            <a:endCxn id="122" idx="0"/>
          </p:cNvCxnSpPr>
          <p:nvPr/>
        </p:nvCxnSpPr>
        <p:spPr>
          <a:xfrm rot="5400000">
            <a:off x="1071720" y="19771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34" idx="1"/>
            <a:endCxn id="122" idx="0"/>
          </p:cNvCxnSpPr>
          <p:nvPr/>
        </p:nvCxnSpPr>
        <p:spPr>
          <a:xfrm flipV="1" rot="10800000">
            <a:off x="577080" y="2694600"/>
            <a:ext cx="1971000" cy="25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257040" y="31780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760" y="31845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6240" y="34304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1840" y="390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3440" y="34066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27" idx="3"/>
            <a:endCxn id="186" idx="2"/>
          </p:cNvCxnSpPr>
          <p:nvPr/>
        </p:nvCxnSpPr>
        <p:spPr>
          <a:xfrm flipH="1" flipV="1">
            <a:off x="1051920" y="3596760"/>
            <a:ext cx="30600" cy="245520"/>
          </a:xfrm>
          <a:prstGeom prst="curvedConnector5">
            <a:avLst>
              <a:gd name="adj1" fmla="val -757142"/>
              <a:gd name="adj2" fmla="val 42143"/>
              <a:gd name="adj3" fmla="val -7571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27" idx="3"/>
            <a:endCxn id="185" idx="1"/>
          </p:cNvCxnSpPr>
          <p:nvPr/>
        </p:nvCxnSpPr>
        <p:spPr>
          <a:xfrm>
            <a:off x="1082160" y="3841560"/>
            <a:ext cx="320040" cy="159480"/>
          </a:xfrm>
          <a:prstGeom prst="curvedConnector5">
            <a:avLst>
              <a:gd name="adj1" fmla="val 49662"/>
              <a:gd name="adj2" fmla="val 50000"/>
              <a:gd name="adj3" fmla="val 4966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4000" y="417996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 same strukture PMOV očigledno 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rž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aze podataka svode na operacije dodavanja novog objekta u klas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bacivanja 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men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k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tim povezi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zvezivanja 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vezi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v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k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datog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 vez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9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F09B1A-BADE-4543-BD18-DD3B48E92E1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200" idx="3"/>
            <a:endCxn id="198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8" idx="2"/>
            <a:endCxn id="202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5" idx="1"/>
            <a:endCxn id="198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211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3" name=""/>
          <p:cNvCxnSpPr>
            <a:stCxn id="206" idx="3"/>
            <a:endCxn id="202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6" idx="3"/>
            <a:endCxn id="200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6" idx="2"/>
            <a:endCxn id="212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221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3" name=""/>
          <p:cNvCxnSpPr>
            <a:stCxn id="205" idx="3"/>
            <a:endCxn id="208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08" idx="0"/>
            <a:endCxn id="222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08" idx="3"/>
            <a:endCxn id="222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  <a:endCxn id="227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6" idx="2"/>
            <a:endCxn id="228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8" idx="2"/>
            <a:endCxn id="226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endCxn id="232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3"/>
            <a:endCxn id="208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28" idx="3"/>
            <a:endCxn id="245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1"/>
            <a:endCxn id="227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08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50" idx="3"/>
            <a:endCxn id="208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198" idx="3"/>
            <a:endCxn id="254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198" idx="3"/>
            <a:endCxn id="255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16" idx="2"/>
            <a:endCxn id="206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17" idx="2"/>
            <a:endCxn id="206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19" idx="2"/>
            <a:endCxn id="206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18" idx="1"/>
            <a:endCxn id="206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11" idx="3"/>
            <a:endCxn id="270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9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34920" y="317988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just">
              <a:lnSpc>
                <a:spcPct val="100000"/>
              </a:lnSpc>
              <a:buClr>
                <a:srgbClr val="cc3300"/>
              </a:buClr>
              <a:buFont typeface="Arial"/>
              <a:buAutoNum type="arabicParenR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BACIV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nser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votač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ista parova atribu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votač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ista parova 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usednog 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nser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LB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307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AR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25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IF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27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CDCBADD-7F9A-4DD1-98BB-3EBCEEED32E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4" idx="3"/>
            <a:endCxn id="282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2"/>
            <a:endCxn id="286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9" idx="1"/>
            <a:endCxn id="282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295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7" name=""/>
          <p:cNvCxnSpPr>
            <a:stCxn id="290" idx="3"/>
            <a:endCxn id="286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0" idx="3"/>
            <a:endCxn id="284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0" idx="2"/>
            <a:endCxn id="296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305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289" idx="3"/>
            <a:endCxn id="292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2" idx="0"/>
            <a:endCxn id="306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2" idx="3"/>
            <a:endCxn id="306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0" idx="2"/>
            <a:endCxn id="311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0" idx="2"/>
            <a:endCxn id="312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2" idx="2"/>
            <a:endCxn id="310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endCxn id="316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3"/>
            <a:endCxn id="292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12" idx="3"/>
            <a:endCxn id="329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1"/>
            <a:endCxn id="311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3" idx="3"/>
            <a:endCxn id="292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3"/>
            <a:endCxn id="292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282" idx="3"/>
            <a:endCxn id="338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282" idx="3"/>
            <a:endCxn id="339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00" idx="2"/>
            <a:endCxn id="290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1" idx="2"/>
            <a:endCxn id="290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03" idx="2"/>
            <a:endCxn id="290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02" idx="1"/>
            <a:endCxn id="290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295" idx="3"/>
            <a:endCxn id="354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>
            <a:stCxn id="295" idx="3"/>
            <a:endCxn id="353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920" y="2403360"/>
            <a:ext cx="9109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listi parova atribu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 neophodno je zadati sve atribute koji ne mogu imati nula 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drazumeva se d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eđ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j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ribut identifikator 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r o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čigledno ne može da 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ula  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is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arov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usedn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 da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dentifikato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ih susednih objekata prema kojima dati objekat 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avez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"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slika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slikavanje sa donjom granicom većom od nu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drazumeva se da operacija ubac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uzroku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vež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ma svim okolnim objektima pr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matran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avezno preslika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35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21BD1DE-72A3-4600-AAB0-E4D4E033AED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8" idx="3"/>
            <a:endCxn id="366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2"/>
            <a:endCxn id="370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3" idx="1"/>
            <a:endCxn id="366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379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"/>
          <p:cNvCxnSpPr>
            <a:stCxn id="374" idx="3"/>
            <a:endCxn id="370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4" idx="3"/>
            <a:endCxn id="368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4" idx="2"/>
            <a:endCxn id="380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389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1" name=""/>
          <p:cNvCxnSpPr>
            <a:stCxn id="373" idx="3"/>
            <a:endCxn id="376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76" idx="0"/>
            <a:endCxn id="390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76" idx="3"/>
            <a:endCxn id="390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4" idx="2"/>
            <a:endCxn id="395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4" idx="2"/>
            <a:endCxn id="396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76" idx="2"/>
            <a:endCxn id="394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endCxn id="400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9" idx="3"/>
            <a:endCxn id="376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396" idx="3"/>
            <a:endCxn id="413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5" idx="1"/>
            <a:endCxn id="395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7" idx="3"/>
            <a:endCxn id="376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8" idx="3"/>
            <a:endCxn id="376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366" idx="3"/>
            <a:endCxn id="422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366" idx="3"/>
            <a:endCxn id="423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384" idx="2"/>
            <a:endCxn id="374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385" idx="2"/>
            <a:endCxn id="374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387" idx="2"/>
            <a:endCxn id="374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>
            <a:stCxn id="386" idx="1"/>
            <a:endCxn id="374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379" idx="3"/>
            <a:endCxn id="438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379" idx="3"/>
            <a:endCxn id="437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34920" y="2403360"/>
            <a:ext cx="91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2)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ZBACIV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ele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ele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LB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3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drazumeva se da operacija izbaci prouzrokuje operacije razveži 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a preslikavanja u kojima učestvuje posmatrani objeka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443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E15B5A5-F8D2-4259-A490-ECDDD69F598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5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2" idx="3"/>
            <a:endCxn id="450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50" idx="2"/>
            <a:endCxn id="454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7" idx="1"/>
            <a:endCxn id="450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463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5" name=""/>
          <p:cNvCxnSpPr>
            <a:stCxn id="458" idx="3"/>
            <a:endCxn id="454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3"/>
            <a:endCxn id="452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8" idx="2"/>
            <a:endCxn id="464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473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5" name=""/>
          <p:cNvCxnSpPr>
            <a:stCxn id="457" idx="3"/>
            <a:endCxn id="460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0" idx="0"/>
            <a:endCxn id="474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60" idx="3"/>
            <a:endCxn id="474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8" idx="2"/>
            <a:endCxn id="479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8" idx="2"/>
            <a:endCxn id="480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0" idx="2"/>
            <a:endCxn id="478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endCxn id="484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93" idx="3"/>
            <a:endCxn id="460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80" idx="3"/>
            <a:endCxn id="497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9" idx="1"/>
            <a:endCxn id="479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1" idx="3"/>
            <a:endCxn id="460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502" idx="3"/>
            <a:endCxn id="460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5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50" idx="3"/>
            <a:endCxn id="506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50" idx="3"/>
            <a:endCxn id="507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0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468" idx="2"/>
            <a:endCxn id="458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469" idx="2"/>
            <a:endCxn id="458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471" idx="2"/>
            <a:endCxn id="458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0" idx="1"/>
            <a:endCxn id="458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463" idx="3"/>
            <a:endCxn id="522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4" name=""/>
          <p:cNvCxnSpPr>
            <a:stCxn id="463" idx="3"/>
            <a:endCxn id="521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4920" y="2403360"/>
            <a:ext cx="91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3)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AZVEZIV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sconnect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a disconnect se ne može direktno primeniti n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čije su kardinalnosti 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=  1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=  1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ač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ve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rušil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slov integrite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isconnec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UKOV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LB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307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IF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03)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drazumeva se da operacija razveži za jedno preslikavanje prouzrokuje i operaciju razveži za njeno inverzno preslika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2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95AE49-11E9-4F87-AE0F-E97958E736F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6" idx="3"/>
            <a:endCxn id="534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4" idx="2"/>
            <a:endCxn id="538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1"/>
            <a:endCxn id="534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547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9" name=""/>
          <p:cNvCxnSpPr>
            <a:stCxn id="542" idx="3"/>
            <a:endCxn id="538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2" idx="3"/>
            <a:endCxn id="536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2" idx="2"/>
            <a:endCxn id="548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557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9" name=""/>
          <p:cNvCxnSpPr>
            <a:stCxn id="541" idx="3"/>
            <a:endCxn id="544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44" idx="0"/>
            <a:endCxn id="558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44" idx="3"/>
            <a:endCxn id="558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2" idx="2"/>
            <a:endCxn id="563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4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44" idx="2"/>
            <a:endCxn id="562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>
            <a:endCxn id="568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7" idx="3"/>
            <a:endCxn id="544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64" idx="3"/>
            <a:endCxn id="581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3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3" idx="1"/>
            <a:endCxn id="563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"/>
          <p:cNvCxnSpPr>
            <a:stCxn id="585" idx="3"/>
            <a:endCxn id="544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86" idx="3"/>
            <a:endCxn id="544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34" idx="3"/>
            <a:endCxn id="590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34" idx="3"/>
            <a:endCxn id="591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52" idx="2"/>
            <a:endCxn id="542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53" idx="2"/>
            <a:endCxn id="542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0" name=""/>
          <p:cNvCxnSpPr>
            <a:stCxn id="555" idx="2"/>
            <a:endCxn id="542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" name=""/>
          <p:cNvCxnSpPr>
            <a:stCxn id="554" idx="1"/>
            <a:endCxn id="542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547" idx="3"/>
            <a:endCxn id="606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47" idx="3"/>
            <a:endCxn id="605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34920" y="2403360"/>
            <a:ext cx="91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4)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ŽURIR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pda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votač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ista parova aribu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updat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LB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307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ir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ributi pojavljivanja objekta zadatog identifikatoro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obija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date vrednos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entifikator objekta se ne može ažurira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1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40CEAA-7962-4A5A-AB29-704E62F7973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1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6FF964C-A524-4279-A015-A31BA90118D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25" idx="3"/>
            <a:endCxn id="623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2"/>
            <a:endCxn id="627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0" idx="1"/>
            <a:endCxn id="623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636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8" name=""/>
          <p:cNvCxnSpPr>
            <a:stCxn id="631" idx="3"/>
            <a:endCxn id="627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31" idx="3"/>
            <a:endCxn id="625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1" idx="2"/>
            <a:endCxn id="637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646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8" name=""/>
          <p:cNvCxnSpPr>
            <a:stCxn id="630" idx="3"/>
            <a:endCxn id="633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33" idx="0"/>
            <a:endCxn id="647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3" idx="3"/>
            <a:endCxn id="647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1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51" idx="2"/>
            <a:endCxn id="652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51" idx="2"/>
            <a:endCxn id="653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3" idx="2"/>
            <a:endCxn id="651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7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9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stCxn id="666" idx="3"/>
            <a:endCxn id="633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53" idx="3"/>
            <a:endCxn id="670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2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72" idx="1"/>
            <a:endCxn id="652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4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4" idx="3"/>
            <a:endCxn id="633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5" idx="3"/>
            <a:endCxn id="633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8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23" idx="3"/>
            <a:endCxn id="679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23" idx="3"/>
            <a:endCxn id="680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41" idx="2"/>
            <a:endCxn id="631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42" idx="2"/>
            <a:endCxn id="631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44" idx="2"/>
            <a:endCxn id="631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43" idx="1"/>
            <a:endCxn id="631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36" idx="3"/>
            <a:endCxn id="695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36" idx="3"/>
            <a:endCxn id="694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34920" y="2403360"/>
            <a:ext cx="9109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5)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OVEZIV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nnec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n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a connect se ne može direktno primeniti na preslikavanja čije su kardinal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=  1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=  1,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vezi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stvaruje automatski sa ubacivanjem objekta domen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nnect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RUKOV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LB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307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IF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0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drazumeva se da operacija poveži za jedno preslikavanje prouzrokuje i operaciju poveži za njeno inverzno preslika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704" idx="3"/>
            <a:endCxn id="702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5" name=""/>
          <p:cNvCxnSpPr>
            <a:stCxn id="702" idx="2"/>
            <a:endCxn id="706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9" idx="1"/>
            <a:endCxn id="702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2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715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7" name=""/>
          <p:cNvCxnSpPr>
            <a:stCxn id="710" idx="3"/>
            <a:endCxn id="706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0" idx="3"/>
            <a:endCxn id="704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0" idx="2"/>
            <a:endCxn id="716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725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"/>
          <p:cNvCxnSpPr>
            <a:stCxn id="709" idx="3"/>
            <a:endCxn id="712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12" idx="0"/>
            <a:endCxn id="726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12" idx="3"/>
            <a:endCxn id="726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"/>
          <p:cNvCxnSpPr>
            <a:stCxn id="730" idx="2"/>
            <a:endCxn id="731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30" idx="2"/>
            <a:endCxn id="732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712" idx="2"/>
            <a:endCxn id="730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6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endCxn id="736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45" idx="3"/>
            <a:endCxn id="712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32" idx="3"/>
            <a:endCxn id="749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51" idx="1"/>
            <a:endCxn id="731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5" name=""/>
          <p:cNvCxnSpPr>
            <a:stCxn id="753" idx="3"/>
            <a:endCxn id="712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54" idx="3"/>
            <a:endCxn id="712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7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0" name=""/>
          <p:cNvCxnSpPr>
            <a:stCxn id="702" idx="3"/>
            <a:endCxn id="758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02" idx="3"/>
            <a:endCxn id="759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2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0" idx="2"/>
            <a:endCxn id="710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21" idx="2"/>
            <a:endCxn id="710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23" idx="2"/>
            <a:endCxn id="710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22" idx="1"/>
            <a:endCxn id="710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0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15" idx="3"/>
            <a:endCxn id="774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stCxn id="715" idx="3"/>
            <a:endCxn id="773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34920" y="2403360"/>
            <a:ext cx="91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6)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EVEZIVAN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econnec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zi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slikavan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a reconnect se sastoji od uzastopne prinene operacije disconnect sa jednog kodomene i connect na drug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dno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omsko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ransakcij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na se primenjuje na ona preslikavanja na koja se operacije disconnect i connec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og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irekt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eni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econnect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LB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037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IF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03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IF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7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C7C7C1-9F64-42B8-A6E7-6F5F32615AC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345960"/>
            <a:ext cx="910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PMOV je moguće definisati dve vrst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a 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traži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v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kup operacija 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vigacion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“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rod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ne omogućuju kret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roz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ode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 pojedinačnim pojavljivanjim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ekuć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o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tom trenutku pristupil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rugu grup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a čine tz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pecifikacion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govarajuć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pitn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z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skazuje struktur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uslovi koje rezultat operacije treba da zadovolj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sa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era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a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mogućilo jednostavno povezivanje klasa objeka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k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š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 promenljive na sledeći nači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omenljiv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":"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klas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bjekat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to zanači da promenljiva uzima vrednosti iz kla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kup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 pretraživanja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9" idx="3"/>
            <a:endCxn id="787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0" name=""/>
          <p:cNvCxnSpPr>
            <a:stCxn id="787" idx="2"/>
            <a:endCxn id="791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796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94" idx="3"/>
            <a:endCxn id="791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94" idx="3"/>
            <a:endCxn id="789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4" idx="2"/>
            <a:endCxn id="797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94120" y="11700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94120" y="1735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"/>
          <p:cNvCxnSpPr>
            <a:stCxn id="787" idx="3"/>
            <a:endCxn id="805" idx="1"/>
          </p:cNvCxnSpPr>
          <p:nvPr/>
        </p:nvCxnSpPr>
        <p:spPr>
          <a:xfrm flipV="1">
            <a:off x="3790440" y="1264680"/>
            <a:ext cx="104040" cy="254520"/>
          </a:xfrm>
          <a:prstGeom prst="curvedConnector5">
            <a:avLst>
              <a:gd name="adj1" fmla="val 48958"/>
              <a:gd name="adj2" fmla="val 50000"/>
              <a:gd name="adj3" fmla="val 489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787" idx="3"/>
            <a:endCxn id="806" idx="0"/>
          </p:cNvCxnSpPr>
          <p:nvPr/>
        </p:nvCxnSpPr>
        <p:spPr>
          <a:xfrm>
            <a:off x="3790440" y="1519200"/>
            <a:ext cx="453240" cy="216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01" idx="2"/>
            <a:endCxn id="794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02" idx="2"/>
            <a:endCxn id="794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stCxn id="804" idx="2"/>
            <a:endCxn id="794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6" name=""/>
          <p:cNvCxnSpPr>
            <a:stCxn id="803" idx="1"/>
            <a:endCxn id="794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7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6" idx="3"/>
            <a:endCxn id="821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796" idx="3"/>
            <a:endCxn id="820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2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579569-CF41-4521-AEEB-C81773B250D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345960"/>
            <a:ext cx="91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prime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menljiva x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zima 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vo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javlji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lase objekat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DNI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omenljiv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1 ":"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omenljiv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2 "."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eslikavanj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što znači da prv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menljiv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z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vedenog preslikavanja 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t domen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t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šć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ruge promenljiv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DEL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ZAPOŠLJAV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y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uzima vrednosti iz podskupa klase 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i čine pojavljivanja koja su su preko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POŠLJAV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zan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t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ele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ko tekuće vrednosti promenljiv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 pretraživanja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4" name=""/>
          <p:cNvCxnSpPr>
            <a:stCxn id="835" idx="3"/>
            <a:endCxn id="833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33" idx="2"/>
            <a:endCxn id="837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8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842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4" name=""/>
          <p:cNvCxnSpPr>
            <a:stCxn id="840" idx="3"/>
            <a:endCxn id="837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stCxn id="840" idx="3"/>
            <a:endCxn id="835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40" idx="2"/>
            <a:endCxn id="843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94120" y="11700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94120" y="1735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3" name=""/>
          <p:cNvCxnSpPr>
            <a:stCxn id="833" idx="3"/>
            <a:endCxn id="851" idx="1"/>
          </p:cNvCxnSpPr>
          <p:nvPr/>
        </p:nvCxnSpPr>
        <p:spPr>
          <a:xfrm flipV="1">
            <a:off x="3790440" y="1264680"/>
            <a:ext cx="104040" cy="254520"/>
          </a:xfrm>
          <a:prstGeom prst="curvedConnector5">
            <a:avLst>
              <a:gd name="adj1" fmla="val 48958"/>
              <a:gd name="adj2" fmla="val 50000"/>
              <a:gd name="adj3" fmla="val 489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33" idx="3"/>
            <a:endCxn id="852" idx="0"/>
          </p:cNvCxnSpPr>
          <p:nvPr/>
        </p:nvCxnSpPr>
        <p:spPr>
          <a:xfrm>
            <a:off x="3790440" y="1519200"/>
            <a:ext cx="453240" cy="216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5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9" name=""/>
          <p:cNvCxnSpPr>
            <a:stCxn id="847" idx="2"/>
            <a:endCxn id="840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0" name=""/>
          <p:cNvCxnSpPr>
            <a:stCxn id="848" idx="2"/>
            <a:endCxn id="840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stCxn id="850" idx="2"/>
            <a:endCxn id="840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2" name=""/>
          <p:cNvCxnSpPr>
            <a:stCxn id="849" idx="1"/>
            <a:endCxn id="840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3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42" idx="3"/>
            <a:endCxn id="867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42" idx="3"/>
            <a:endCxn id="866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C7CF6D-7206-45E6-9108-F313D080639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graničenja, Strukturna 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457200"/>
            <a:ext cx="91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i uvodjenju i definisanju pojedinih koncepata strukture PMO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sana su i nek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-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rdinalnost preslikavanja i ograničenja na vrednosti dom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edjuti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oje i mnogo složenija semantičk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zajamni odnosi objekata i njihovih 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je je nemoguće ili nepraktično prikazati strukturom PMO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a je neophodno definisati jezik za njihovu specifikaci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 nego što uvedemo jezik za specifikaciju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godno je klasifikovati ograničenja u sledeće kla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1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rukturn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graničenja n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2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rednosn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graničenja na vrednosti 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5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A9F77E6-389C-4241-9E72-ECF8FDB796D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345960"/>
            <a:ext cx="91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ko 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eka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gregacija njegovih 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menljivoj x se takođe mogu pridodati atributi preko iska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prom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en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ljiv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"."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iv 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prime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ZOD ili y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IME ili y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MLB i slično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ao i ran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 definicij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ož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mest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cije promanljiv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svoji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nvenci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menljivi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jednaki nazivima klasa iz koji uzimaju vrednos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peracije pretraživanja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3"/>
            <a:endCxn id="879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9" idx="2"/>
            <a:endCxn id="883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888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0" name=""/>
          <p:cNvCxnSpPr>
            <a:stCxn id="886" idx="3"/>
            <a:endCxn id="883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6" idx="3"/>
            <a:endCxn id="881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6" idx="2"/>
            <a:endCxn id="889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94120" y="11700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94120" y="1735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79" idx="3"/>
            <a:endCxn id="897" idx="1"/>
          </p:cNvCxnSpPr>
          <p:nvPr/>
        </p:nvCxnSpPr>
        <p:spPr>
          <a:xfrm flipV="1">
            <a:off x="3790440" y="1264680"/>
            <a:ext cx="104040" cy="254520"/>
          </a:xfrm>
          <a:prstGeom prst="curvedConnector5">
            <a:avLst>
              <a:gd name="adj1" fmla="val 48958"/>
              <a:gd name="adj2" fmla="val 50000"/>
              <a:gd name="adj3" fmla="val 489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0" name=""/>
          <p:cNvCxnSpPr>
            <a:stCxn id="879" idx="3"/>
            <a:endCxn id="898" idx="0"/>
          </p:cNvCxnSpPr>
          <p:nvPr/>
        </p:nvCxnSpPr>
        <p:spPr>
          <a:xfrm>
            <a:off x="3790440" y="1519200"/>
            <a:ext cx="453240" cy="216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1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893" idx="2"/>
            <a:endCxn id="886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6" name=""/>
          <p:cNvCxnSpPr>
            <a:stCxn id="894" idx="2"/>
            <a:endCxn id="886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896" idx="2"/>
            <a:endCxn id="886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8" name=""/>
          <p:cNvCxnSpPr>
            <a:stCxn id="895" idx="1"/>
            <a:endCxn id="886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88" idx="3"/>
            <a:endCxn id="913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5" name=""/>
          <p:cNvCxnSpPr>
            <a:stCxn id="888" idx="3"/>
            <a:endCxn id="912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16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17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93CFAC-4F4F-49F2-84AF-B8504510992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9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graničenja, Strukturna 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457200"/>
            <a:ext cx="91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trukturna ograničenj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graničenja na preslikavanj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ma struktura PMO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 dijagram objekti veze iskazuje ov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 svakom DOV zadate su kardinalnosti preslikavanja za sve vez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eka od njih se ne upisu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eć se podrazumeva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sto tak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 obzirom na to da se koriste samo jednoznačni atribu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a svaki atribut mora bi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menljivo svojstv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 sva pojavljivanja posmatranog objekta i da su identifikatori objekata označen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plicitno su definisane kardinalnosti direktn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inverznog preslikavanj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BJEKAT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OME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64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2292D0-0451-4AC7-8D3F-A6B9F944AFA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graničenja,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Vrednosna 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000" y="457200"/>
            <a:ext cx="91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Vrednosn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graničenj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ograničenja n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vrednost atributa)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u d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voljene vrednosti atribut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i dozvoljene promene ovih vrednosti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 vrednosna ograničenja spadaju ograničenja na pojedinačne vrednosti atributa, koja se nazivaju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osta vrednosna ograničenja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eđutim postoje 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složena vrednosna ograničenja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 koja vezuju vrednosti različitih atributa u specifičnim pojavljivanjima objekata različitih kl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tudent petog semestra mora da ima položen predmet Matematika I. Ovo je primer je primer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“ograničenja stanja”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od ograničenjem stanja podrazumevaju se dozvoljena stanja, odnosno dozvoljene vrednosti atributa i preslikavanja u jednom MOV. Međutim mogu se definisati 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“ograničenja prelaza stanja”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koja definišu moguće promene datog stanja sistema, odnosno datih vrednosti atribu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1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7AFAF4-F1C9-4379-ABD6-C34B7990829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Ograničenja,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Vrednosna 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000" y="457200"/>
            <a:ext cx="91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cena pri ponavljanju ispita ne može pad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oguće je definisati formalni jezik za iskazivanje vrednosnih ograničenja, mada se u praksi ova ograničenja iskazuju prirodnim jezikom, eventualno struktuiranim preko nekih jednostavnih pravila.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78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5F3076-C029-4AC1-9066-009690AD762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Jezik za iskazivanje vrednosnih ogranič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000" y="647640"/>
            <a:ext cx="91090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Za iskazivanje vrenosnih ograničenja koriste se formule tzv.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bjektnog računa.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od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bjektnim računom 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e ovde podrazumev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redikatski račun prvog red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u kome promenljive uzimaju vrednosti iz definisanih klasa objekata u sistemu. Činjenica da promenljiva uzima vrednost iz neke klase objekata označava se na sledeći nač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 : 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 gde j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pojavljivanje , 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klasa nekog objekta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dnosno promenljiv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uzima vrednost iz skup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ojavljivanja  objekt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`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značava vrednost promenljive pre operaci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žuriranja, dok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značav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vrednost promenljiv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osle operacije ažuriranja. Obe vrednosti su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neophodne da bi se iskazala dozvoljena promen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tanja u modelu podat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85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8EAE34-6151-42BF-A6CC-14C53822744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Jezik za iskazivanje vrednosnih ogranič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000" y="647640"/>
            <a:ext cx="910908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akozvan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“dot notacija”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se koristi da poveže promenljive iz dve klase objekata preko nekog preslikavanja definisanog u model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 : O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.P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 označava d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odnosno x`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uzima vrednost iz klase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oja je kodomen preslikavanj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P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klase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Atomske formule, odnosno simboli koji se koriste da označe neki atomski predikat 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.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y.B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gde su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y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omenljive  (objekti)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B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tribut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tipova objekat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cc3300"/>
                </a:solidFill>
                <a:latin typeface="Arial"/>
              </a:rPr>
              <a:t>1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cc3300"/>
                </a:solidFill>
                <a:latin typeface="Arial"/>
              </a:rPr>
              <a:t>2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z čijih pojavljivanja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respektivno, promenljive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uzimaju vrednosti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:O</a:t>
            </a:r>
            <a:r>
              <a:rPr b="1" lang="sr-Latn-CS" sz="24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Arial"/>
              </a:rPr>
              <a:t>,,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y:O</a:t>
            </a:r>
            <a:r>
              <a:rPr b="1" lang="sr-Latn-C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),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 operacija poređenja,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efinisana nad domenom atributa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B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B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oraju biti definisani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nad istim domeno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2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43C3DA-3B8E-469C-844A-AFED338AD5A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Jezik za iskazivanje vrednosnih ogranič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00" y="425520"/>
            <a:ext cx="9090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.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 C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, gde su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x,A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kao u prethodnom stavu, 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C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konstanta koja ima isti domen kao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Formule objektnog račun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(ddf – dobro definisana formula)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formiraju se preko sledećih produkcionih pravila (sintaks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::=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atom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(ddf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Not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Or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Exists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naziv_promenljive (ddf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ac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naziv_promenljive (ddf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if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hen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d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Exists 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 egzistencijalni kvantifikator, a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ac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je univerzalni kvantifikator. Svako ograničenje je dobro definisana formula u kojoj promenljive uzimaju vrednosti iz definisanih kl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99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0E45CDC-E012-4BF6-A1C9-9087470B61C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-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Jezik za iskazivanje vrednosnih ogranič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000" y="425520"/>
            <a:ext cx="909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graničenje se definiše na sledeći nač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</a:rPr>
              <a:t>definicija_promenljivih naziv_ograničenja (lista_promenljivih) := ddf,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Primer: Student petog ili višeg semestra mora da ima više od 10 položenih isp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Ogr1(Student, Prijava):=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Foreach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tudent (If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Student.Semestar&gt;=5   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Then Card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(Student.Prijava) &gt;1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6526080"/>
            <a:ext cx="9178920" cy="327240"/>
            <a:chOff x="0" y="6526080"/>
            <a:chExt cx="9178920" cy="327240"/>
          </a:xfrm>
        </p:grpSpPr>
        <p:sp>
          <p:nvSpPr>
            <p:cNvPr id="106" name=""/>
            <p:cNvSpPr/>
            <p:nvPr/>
          </p:nvSpPr>
          <p:spPr>
            <a:xfrm>
              <a:off x="34920" y="660708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D27191E-17CB-4764-9D56-33E0D63E829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20" y="660708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0" y="6526080"/>
            <a:ext cx="23328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1-07T07:32:43Z</dcterms:modified>
  <cp:revision>313</cp:revision>
  <dc:subject/>
  <dc:title>PowerPoint Presentation</dc:title>
</cp:coreProperties>
</file>