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F538-B284-4D27-8FD1-A2359CF89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EB89-B21B-43EA-80D2-472FA45E2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A853-5562-4AE2-81CE-C25AA02B9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9702-2DC4-415C-A961-B8CA58C21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3720-18E1-46CD-A04F-55BDBFFB4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5F86-89E8-4AC4-8BE3-D448E8F8D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1912-921C-4CE9-97F8-2D5011C3F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47B9-9F7E-4064-8A3F-7F701570B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ACE9-08F9-4B3C-8C02-14424A388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35DC-7C86-4E30-9C66-C40CA666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24D3-0ADB-49C5-AEE1-ECB68204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836F-1022-4EB4-A5C9-285A0FAB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99249-2E76-48C5-9FB0-DE482912F98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DFDCE-57C9-42C8-8E07-F1BA9BCAB1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38600" y="5924520"/>
            <a:ext cx="33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BEOGR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11120" y="500040"/>
            <a:ext cx="387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99"/>
                </a:solidFill>
                <a:latin typeface="Arial"/>
              </a:rPr>
              <a:t>UNIVERZITET U BEOGRA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99"/>
                </a:solidFill>
                <a:latin typeface="Arial"/>
              </a:rPr>
              <a:t>TEHNIČKI FAKULTET U BOR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0588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Arial"/>
              </a:rPr>
              <a:t>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81280" y="3222720"/>
            <a:ext cx="378936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 Narrow"/>
              </a:rPr>
              <a:t>d</a:t>
            </a:r>
            <a:r>
              <a:rPr b="1" i="1" lang="sr-Latn-CS" sz="2400" spc="-1" strike="noStrike">
                <a:solidFill>
                  <a:srgbClr val="000099"/>
                </a:solidFill>
                <a:latin typeface="Arial Narrow"/>
              </a:rPr>
              <a:t>r</a:t>
            </a:r>
            <a:r>
              <a:rPr b="1" i="1" lang="sr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</a:t>
            </a:r>
            <a:r>
              <a:rPr b="1" i="1" lang="sr-Latn-CS" sz="2400" spc="-1" strike="noStrike">
                <a:solidFill>
                  <a:srgbClr val="000099"/>
                </a:solidFill>
                <a:latin typeface="Arial Narrow"/>
              </a:rPr>
              <a:t>Zoran R</a:t>
            </a:r>
            <a:r>
              <a:rPr b="1" i="1" lang="sr-CS" sz="2400" spc="-1" strike="noStrike">
                <a:solidFill>
                  <a:srgbClr val="000099"/>
                </a:solidFill>
                <a:latin typeface="Arial Narrow"/>
              </a:rPr>
              <a:t>.</a:t>
            </a:r>
            <a:r>
              <a:rPr b="1" i="1" lang="sr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</a:t>
            </a:r>
            <a:r>
              <a:rPr b="1" i="1" lang="sr-Latn-CS" sz="2400" spc="-1" strike="noStrike">
                <a:solidFill>
                  <a:srgbClr val="000099"/>
                </a:solidFill>
                <a:latin typeface="Arial Narrow"/>
              </a:rPr>
              <a:t>Anđelkovi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 Narrow"/>
              </a:rPr>
              <a:t>jaz@eunet.y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6258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00"/>
                </a:solidFill>
                <a:latin typeface="Arial"/>
              </a:rPr>
              <a:t>15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.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121520" y="665316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d</a:t>
            </a:r>
            <a:r>
              <a:rPr b="1" lang="sl-SI" sz="1000" spc="-1" strike="noStrike">
                <a:solidFill>
                  <a:srgbClr val="000066"/>
                </a:solidFill>
                <a:latin typeface="Arial"/>
              </a:rPr>
              <a:t>r Zoran R. Anđelković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34920" y="0"/>
          <a:ext cx="1276200" cy="15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0"/>
                    <a:ext cx="1276200" cy="15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9" name=""/>
          <p:cNvGrpSpPr/>
          <p:nvPr/>
        </p:nvGrpSpPr>
        <p:grpSpPr>
          <a:xfrm>
            <a:off x="0" y="6572160"/>
            <a:ext cx="9178920" cy="327240"/>
            <a:chOff x="0" y="6572160"/>
            <a:chExt cx="9178920" cy="327240"/>
          </a:xfrm>
        </p:grpSpPr>
        <p:sp>
          <p:nvSpPr>
            <p:cNvPr id="50" name=""/>
            <p:cNvSpPr/>
            <p:nvPr/>
          </p:nvSpPr>
          <p:spPr>
            <a:xfrm>
              <a:off x="34920" y="665316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317C5F34-D8AE-4BAB-A163-230D4AAEF2E0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920" y="665316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5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2" name=""/>
            <p:cNvGraphicFramePr/>
            <p:nvPr/>
          </p:nvGraphicFramePr>
          <p:xfrm>
            <a:off x="0" y="6572160"/>
            <a:ext cx="233280" cy="28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657216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14280" y="65160"/>
            <a:ext cx="84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BP-</a:t>
            </a:r>
            <a:r>
              <a:rPr b="1" lang="pt-PT" sz="24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Pravila za prevođenje PMOV- a u relacioni model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11280"/>
            <a:ext cx="910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pt-PT" sz="2400" spc="-1" strike="noStrike" u="sng">
                <a:solidFill>
                  <a:srgbClr val="cc3300"/>
                </a:solidFill>
                <a:uFillTx/>
                <a:latin typeface="Arial"/>
                <a:ea typeface="Times New Roman"/>
              </a:rPr>
              <a:t>Veze sa kardinalnošću (0,1) – (0,1)</a:t>
            </a:r>
            <a:r>
              <a:rPr b="1" lang="en-US" sz="2400" spc="-1" strike="noStrike" u="sng">
                <a:solidFill>
                  <a:srgbClr val="cc3300"/>
                </a:solidFill>
                <a:uFillTx/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pt-PT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Kreiraju se tri šeme relaci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pl-PL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Po jedna za svaki objekat i jedna za vez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pl-PL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Obeležja u šemi relacije koja odgovaraju vezi su i identifikatori objekata koji su u vezi i oba su kandidati za ključ.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29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8E353AD2-E8BE-4568-BD36-7A5B0EFD1464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5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1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3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33" name=""/>
          <p:cNvGraphicFramePr/>
          <p:nvPr/>
        </p:nvGraphicFramePr>
        <p:xfrm>
          <a:off x="0" y="3044880"/>
          <a:ext cx="9109080" cy="1347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3044880"/>
                    <a:ext cx="9109080" cy="13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-34920" y="49100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Kandidat</a:t>
            </a:r>
            <a:r>
              <a:rPr b="1" lang="sv-S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1" lang="sv-SE" sz="24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SifraKandidata</a:t>
            </a:r>
            <a:r>
              <a:rPr b="1" lang="sv-SE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, ImePrezime, Struka</a:t>
            </a:r>
            <a:r>
              <a:rPr b="1" lang="sv-S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Konkurs</a:t>
            </a:r>
            <a:r>
              <a:rPr b="1" lang="sv-S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1" lang="sv-SE" sz="24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SifraKandidata</a:t>
            </a:r>
            <a:r>
              <a:rPr b="1" lang="sv-SE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, SifraRadnika</a:t>
            </a:r>
            <a:r>
              <a:rPr b="1" lang="sv-S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Radni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SifraRadnika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OpisRM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14280" y="65160"/>
            <a:ext cx="84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BP-</a:t>
            </a:r>
            <a:r>
              <a:rPr b="1" lang="pt-PT" sz="24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Pravila za prevođenje PMOV- a u relacioni model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611280"/>
            <a:ext cx="910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it-IT" sz="2400" spc="-1" strike="noStrike" u="sng">
                <a:solidFill>
                  <a:srgbClr val="cc3300"/>
                </a:solidFill>
                <a:uFillTx/>
                <a:latin typeface="Arial"/>
                <a:ea typeface="Times New Roman"/>
              </a:rPr>
              <a:t>Veze sa kardinalnošću (1,1)–(0,M), (1,1)–(1,M)</a:t>
            </a:r>
            <a:r>
              <a:rPr b="1" lang="en-US" sz="2400" spc="-1" strike="noStrike" u="sng">
                <a:solidFill>
                  <a:srgbClr val="cc3300"/>
                </a:solidFill>
                <a:uFillTx/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it-IT" sz="2400" spc="-1" strike="noStrike" u="sng">
                <a:solidFill>
                  <a:srgbClr val="cc3300"/>
                </a:solidFill>
                <a:uFillTx/>
                <a:latin typeface="Arial"/>
                <a:ea typeface="Times New Roman"/>
              </a:rPr>
              <a:t>Veza sa kardinalnošću (1,1)–(0,M)</a:t>
            </a:r>
            <a:r>
              <a:rPr b="1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pl-PL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Ne postaju posebne šeme relacij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pl-PL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Identifikator objekta sa strane za koju je gornja granica kardinaliteta presikavanja GG=M postaje obeležje šeme relacije koje odgovara objektu sa strane za koju je GG=1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39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006D4C23-DCB9-447C-961C-F9F0D0F69CF5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5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1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43" name=""/>
          <p:cNvSpPr/>
          <p:nvPr/>
        </p:nvSpPr>
        <p:spPr>
          <a:xfrm>
            <a:off x="233280" y="4778280"/>
            <a:ext cx="862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9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93300"/>
                </a:solidFill>
                <a:latin typeface="Arial"/>
                <a:ea typeface="Times New Roman"/>
              </a:rPr>
              <a:t>Mesto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(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Sifra</a:t>
            </a: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Mest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, Naziv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  <a:ea typeface="Times New Roman"/>
              </a:rPr>
              <a:t>Radnik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(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SifraRadnika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ImePrezime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Struka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, SifraMesta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0" y="3095640"/>
          <a:ext cx="9109080" cy="1347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095640"/>
                    <a:ext cx="9109080" cy="13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14280" y="65160"/>
            <a:ext cx="84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BP-</a:t>
            </a:r>
            <a:r>
              <a:rPr b="1" lang="pt-PT" sz="24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Pravila za prevođenje PMOV- a u relacioni model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611280"/>
            <a:ext cx="910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it-IT" sz="2400" spc="-1" strike="noStrike" u="sng">
                <a:solidFill>
                  <a:srgbClr val="cc3300"/>
                </a:solidFill>
                <a:uFillTx/>
                <a:latin typeface="Arial"/>
                <a:ea typeface="Times New Roman"/>
              </a:rPr>
              <a:t>Veze sa kardinalnošću (1,1)–(0,M), (1,1)–(1,M)</a:t>
            </a:r>
            <a:r>
              <a:rPr b="1" lang="en-US" sz="2400" spc="-1" strike="noStrike" u="sng">
                <a:solidFill>
                  <a:srgbClr val="cc3300"/>
                </a:solidFill>
                <a:uFillTx/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it-IT" sz="2400" spc="-1" strike="noStrike" u="sng">
                <a:solidFill>
                  <a:srgbClr val="cc3300"/>
                </a:solidFill>
                <a:uFillTx/>
                <a:latin typeface="Arial"/>
                <a:ea typeface="Times New Roman"/>
              </a:rPr>
              <a:t>Veza sa kardinalnošću (1,1) – (1,M)</a:t>
            </a:r>
            <a:r>
              <a:rPr b="1" lang="en-US" sz="2400" spc="-1" strike="noStrike" u="sng">
                <a:solidFill>
                  <a:srgbClr val="cc3300"/>
                </a:solidFill>
                <a:uFillTx/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pl-PL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Ne postaju posebne šeme relacij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pl-PL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Identifikator objekta sa strane za koju je gornja granica kardinaliteta presikavanja GG=M postaje obeležje šeme relacije koje odgovara objektu sa strane za koju je GG=1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49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68439862-DA31-4751-B0BF-F995766D2415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5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1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3" name=""/>
          <p:cNvSpPr/>
          <p:nvPr/>
        </p:nvSpPr>
        <p:spPr>
          <a:xfrm>
            <a:off x="157320" y="5189400"/>
            <a:ext cx="86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9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93300"/>
                </a:solidFill>
                <a:latin typeface="Arial"/>
                <a:ea typeface="Times New Roman"/>
              </a:rPr>
              <a:t>Knjiga</a:t>
            </a:r>
            <a:r>
              <a:rPr b="1" lang="pt-PT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(</a:t>
            </a:r>
            <a:r>
              <a:rPr b="1" lang="pt-PT" sz="24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Sifra</a:t>
            </a: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Knjige</a:t>
            </a:r>
            <a:r>
              <a:rPr b="1" lang="pt-PT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, Naziv)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93300"/>
                </a:solidFill>
                <a:latin typeface="Arial"/>
                <a:ea typeface="Times New Roman"/>
              </a:rPr>
              <a:t>Izdanje</a:t>
            </a:r>
            <a:r>
              <a:rPr b="1" lang="pt-PT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(</a:t>
            </a:r>
            <a:r>
              <a:rPr b="1" lang="pt-PT" sz="24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Sifra</a:t>
            </a: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Izdanja</a:t>
            </a:r>
            <a:r>
              <a:rPr b="1" lang="pt-PT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GodinaIzdanja</a:t>
            </a:r>
            <a:r>
              <a:rPr b="1" lang="pt-PT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SifraKnjige</a:t>
            </a:r>
            <a:r>
              <a:rPr b="1" lang="pt-PT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0" y="3062160"/>
          <a:ext cx="9178920" cy="153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062160"/>
                    <a:ext cx="9178920" cy="15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14280" y="65160"/>
            <a:ext cx="84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BP-</a:t>
            </a:r>
            <a:r>
              <a:rPr b="1" lang="pt-PT" sz="24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Pravila za prevođenje PMOV- a u relacioni model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611280"/>
            <a:ext cx="910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it-IT" sz="2400" spc="-1" strike="noStrike" u="sng">
                <a:solidFill>
                  <a:srgbClr val="cc3300"/>
                </a:solidFill>
                <a:uFillTx/>
                <a:latin typeface="Arial"/>
                <a:ea typeface="Times New Roman"/>
              </a:rPr>
              <a:t>Veze sa kardinalnošću (0,1)–(0,M), (0,1)–(1,M)</a:t>
            </a:r>
            <a:r>
              <a:rPr b="1" lang="en-US" sz="2400" spc="-1" strike="noStrike" u="sng">
                <a:solidFill>
                  <a:srgbClr val="cc3300"/>
                </a:solidFill>
                <a:uFillTx/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it-IT" sz="2400" spc="-1" strike="noStrike" u="sng">
                <a:solidFill>
                  <a:srgbClr val="cc3300"/>
                </a:solidFill>
                <a:uFillTx/>
                <a:latin typeface="Arial"/>
                <a:ea typeface="Times New Roman"/>
              </a:rPr>
              <a:t>Veza sa kardinalnošću (0,1)–(0,M)</a:t>
            </a:r>
            <a:r>
              <a:rPr b="1" lang="en-US" sz="2400" spc="-1" strike="noStrike" u="sng">
                <a:solidFill>
                  <a:srgbClr val="cc3300"/>
                </a:solidFill>
                <a:uFillTx/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Postaju posebne šeme relacij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Obeležja ove šeme relacije su identifikatori objekata koju su u vezi, a ključ šeme relacije je identifikator objekta za koji je GG=1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59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B446E3B3-33DC-4009-8726-A94A1616B8EB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5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1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63" name=""/>
          <p:cNvSpPr/>
          <p:nvPr/>
        </p:nvSpPr>
        <p:spPr>
          <a:xfrm>
            <a:off x="157320" y="5189400"/>
            <a:ext cx="861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93300"/>
                </a:solidFill>
                <a:latin typeface="Arial"/>
                <a:ea typeface="Times New Roman"/>
              </a:rPr>
              <a:t>Predmet</a:t>
            </a:r>
            <a:r>
              <a:rPr b="1" lang="sv-SE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(</a:t>
            </a:r>
            <a:r>
              <a:rPr b="1" lang="sv-SE" sz="24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Sifra</a:t>
            </a: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Predmeta</a:t>
            </a:r>
            <a:r>
              <a:rPr b="1" lang="sv-SE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, Naziv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, Opis</a:t>
            </a:r>
            <a:r>
              <a:rPr b="1" lang="sv-SE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)</a:t>
            </a:r>
            <a:r>
              <a:rPr b="1" lang="sv-SE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93300"/>
                </a:solidFill>
                <a:latin typeface="Arial"/>
                <a:ea typeface="Times New Roman"/>
              </a:rPr>
              <a:t>Koristi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(</a:t>
            </a: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SifraUdzbenika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, SifraPredmeta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93300"/>
                </a:solidFill>
                <a:latin typeface="Arial"/>
                <a:ea typeface="Times New Roman"/>
              </a:rPr>
              <a:t>Udzbenik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(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Sifra</a:t>
            </a: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Udzbenika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Naziv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4920" y="3095640"/>
          <a:ext cx="9109080" cy="1347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920" y="3095640"/>
                    <a:ext cx="9109080" cy="13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14280" y="65160"/>
            <a:ext cx="84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BP-</a:t>
            </a:r>
            <a:r>
              <a:rPr b="1" lang="pt-PT" sz="24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Pravila za prevođenje PMOV- a u relacioni model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611280"/>
            <a:ext cx="910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it-IT" sz="2400" spc="-1" strike="noStrike" u="sng">
                <a:solidFill>
                  <a:srgbClr val="cc3300"/>
                </a:solidFill>
                <a:uFillTx/>
                <a:latin typeface="Arial"/>
                <a:ea typeface="Times New Roman"/>
              </a:rPr>
              <a:t>Veze sa kardinalnošću (0,1)–(0,M), (0,1)–(1,M)</a:t>
            </a:r>
            <a:r>
              <a:rPr b="1" lang="en-US" sz="2400" spc="-1" strike="noStrike" u="sng">
                <a:solidFill>
                  <a:srgbClr val="cc3300"/>
                </a:solidFill>
                <a:uFillTx/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pl-PL" sz="2400" spc="-1" strike="noStrike" u="sng">
                <a:solidFill>
                  <a:srgbClr val="cc3300"/>
                </a:solidFill>
                <a:uFillTx/>
                <a:latin typeface="Arial"/>
                <a:ea typeface="Times New Roman"/>
              </a:rPr>
              <a:t>Veza sa kardinalnošću (0,1)–(1,M)</a:t>
            </a:r>
            <a:r>
              <a:rPr b="1" lang="en-US" sz="2400" spc="-1" strike="noStrike" u="sng">
                <a:solidFill>
                  <a:srgbClr val="cc3300"/>
                </a:solidFill>
                <a:uFillTx/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pl-PL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Postaju posebne šeme relacij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pl-PL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Obeležja ove šeme relacije su identifikatori objekata koju su u vezi, a ključ šeme relacije je identifikator objekta za koji je GG=1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69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9DF5A73C-7D65-44F4-939D-09D372382CD9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5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1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73" name=""/>
          <p:cNvSpPr/>
          <p:nvPr/>
        </p:nvSpPr>
        <p:spPr>
          <a:xfrm>
            <a:off x="157320" y="5189400"/>
            <a:ext cx="861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93300"/>
                </a:solidFill>
                <a:latin typeface="Arial"/>
                <a:ea typeface="Times New Roman"/>
              </a:rPr>
              <a:t>Predmet</a:t>
            </a:r>
            <a:r>
              <a:rPr b="1" lang="sv-SE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(</a:t>
            </a:r>
            <a:r>
              <a:rPr b="1" lang="sv-SE" sz="24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Sifra</a:t>
            </a: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Predmeta</a:t>
            </a:r>
            <a:r>
              <a:rPr b="1" lang="sv-SE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, Naziv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, Opis</a:t>
            </a:r>
            <a:r>
              <a:rPr b="1" lang="sv-SE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)</a:t>
            </a:r>
            <a:r>
              <a:rPr b="1" lang="sv-SE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93300"/>
                </a:solidFill>
                <a:latin typeface="Arial"/>
                <a:ea typeface="Times New Roman"/>
              </a:rPr>
              <a:t>Predaje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(</a:t>
            </a: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SifraPredmeta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, SifraNastavnika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93300"/>
                </a:solidFill>
                <a:latin typeface="Arial"/>
                <a:ea typeface="Times New Roman"/>
              </a:rPr>
              <a:t>Nastavnik</a:t>
            </a:r>
            <a:r>
              <a:rPr b="1" lang="it-IT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(</a:t>
            </a:r>
            <a:r>
              <a:rPr b="1" lang="it-IT" sz="24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Sifra</a:t>
            </a: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Nastavnika</a:t>
            </a:r>
            <a:r>
              <a:rPr b="1" lang="it-IT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ImePrezime</a:t>
            </a:r>
            <a:r>
              <a:rPr b="1" lang="it-IT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0" y="3095640"/>
          <a:ext cx="9178920" cy="13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095640"/>
                    <a:ext cx="9178920" cy="13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14280" y="65160"/>
            <a:ext cx="84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BP-</a:t>
            </a:r>
            <a:r>
              <a:rPr b="1" lang="pt-PT" sz="24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Pravila za prevođenje PMOV- a u relacioni model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611280"/>
            <a:ext cx="910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it-IT" sz="2400" spc="-1" strike="noStrike" u="sng">
                <a:solidFill>
                  <a:srgbClr val="cc3300"/>
                </a:solidFill>
                <a:uFillTx/>
                <a:latin typeface="Arial Narrow"/>
                <a:ea typeface="Times New Roman"/>
              </a:rPr>
              <a:t>Veze sa kardinalnošću </a:t>
            </a:r>
            <a:r>
              <a:rPr b="1" lang="sr-CS" sz="2400" spc="-1" strike="noStrike" u="sng">
                <a:solidFill>
                  <a:srgbClr val="cc3300"/>
                </a:solidFill>
                <a:uFillTx/>
                <a:latin typeface="Arial Narrow"/>
                <a:ea typeface="Times New Roman"/>
              </a:rPr>
              <a:t>(</a:t>
            </a:r>
            <a:r>
              <a:rPr b="1" lang="sr-Latn-CS" sz="2400" spc="-1" strike="noStrike" u="sng">
                <a:solidFill>
                  <a:srgbClr val="cc3300"/>
                </a:solidFill>
                <a:uFillTx/>
                <a:latin typeface="Arial Narrow"/>
                <a:ea typeface="Times New Roman"/>
              </a:rPr>
              <a:t>0</a:t>
            </a:r>
            <a:r>
              <a:rPr b="1" lang="sr-CS" sz="2400" spc="-1" strike="noStrike" u="sng">
                <a:solidFill>
                  <a:srgbClr val="cc3300"/>
                </a:solidFill>
                <a:uFillTx/>
                <a:latin typeface="Arial Narrow"/>
                <a:ea typeface="Times New Roman"/>
              </a:rPr>
              <a:t>,</a:t>
            </a:r>
            <a:r>
              <a:rPr b="1" lang="sr-Latn-CS" sz="2400" spc="-1" strike="noStrike" u="sng">
                <a:solidFill>
                  <a:srgbClr val="cc3300"/>
                </a:solidFill>
                <a:uFillTx/>
                <a:latin typeface="Arial Narrow"/>
                <a:ea typeface="Times New Roman"/>
              </a:rPr>
              <a:t>M</a:t>
            </a:r>
            <a:r>
              <a:rPr b="1" lang="sr-CS" sz="2400" spc="-1" strike="noStrike" u="sng">
                <a:solidFill>
                  <a:srgbClr val="cc3300"/>
                </a:solidFill>
                <a:uFillTx/>
                <a:latin typeface="Arial Narrow"/>
                <a:ea typeface="Times New Roman"/>
              </a:rPr>
              <a:t>)</a:t>
            </a:r>
            <a:r>
              <a:rPr b="1" lang="sr-Latn-CS" sz="2400" spc="-1" strike="noStrike" u="sng">
                <a:solidFill>
                  <a:srgbClr val="cc3300"/>
                </a:solidFill>
                <a:uFillTx/>
                <a:latin typeface="Arial Narrow"/>
                <a:ea typeface="Times New Roman"/>
              </a:rPr>
              <a:t> – (0,M) , </a:t>
            </a:r>
            <a:r>
              <a:rPr b="1" lang="sr-CS" sz="2400" spc="-1" strike="noStrike" u="sng">
                <a:solidFill>
                  <a:srgbClr val="cc3300"/>
                </a:solidFill>
                <a:uFillTx/>
                <a:latin typeface="Arial Narrow"/>
                <a:ea typeface="Times New Roman"/>
              </a:rPr>
              <a:t>(</a:t>
            </a:r>
            <a:r>
              <a:rPr b="1" lang="sr-Latn-CS" sz="2400" spc="-1" strike="noStrike" u="sng">
                <a:solidFill>
                  <a:srgbClr val="cc3300"/>
                </a:solidFill>
                <a:uFillTx/>
                <a:latin typeface="Arial Narrow"/>
                <a:ea typeface="Times New Roman"/>
              </a:rPr>
              <a:t>0</a:t>
            </a:r>
            <a:r>
              <a:rPr b="1" lang="sr-CS" sz="2400" spc="-1" strike="noStrike" u="sng">
                <a:solidFill>
                  <a:srgbClr val="cc3300"/>
                </a:solidFill>
                <a:uFillTx/>
                <a:latin typeface="Arial Narrow"/>
                <a:ea typeface="Times New Roman"/>
              </a:rPr>
              <a:t>,</a:t>
            </a:r>
            <a:r>
              <a:rPr b="1" lang="sr-Latn-CS" sz="2400" spc="-1" strike="noStrike" u="sng">
                <a:solidFill>
                  <a:srgbClr val="cc3300"/>
                </a:solidFill>
                <a:uFillTx/>
                <a:latin typeface="Arial Narrow"/>
                <a:ea typeface="Times New Roman"/>
              </a:rPr>
              <a:t>M</a:t>
            </a:r>
            <a:r>
              <a:rPr b="1" lang="sr-CS" sz="2400" spc="-1" strike="noStrike" u="sng">
                <a:solidFill>
                  <a:srgbClr val="cc3300"/>
                </a:solidFill>
                <a:uFillTx/>
                <a:latin typeface="Arial Narrow"/>
                <a:ea typeface="Times New Roman"/>
              </a:rPr>
              <a:t>)</a:t>
            </a:r>
            <a:r>
              <a:rPr b="1" lang="sr-Latn-CS" sz="2400" spc="-1" strike="noStrike" u="sng">
                <a:solidFill>
                  <a:srgbClr val="cc3300"/>
                </a:solidFill>
                <a:uFillTx/>
                <a:latin typeface="Arial Narrow"/>
                <a:ea typeface="Times New Roman"/>
              </a:rPr>
              <a:t> – (1,M) , (1,M) – (1,M)</a:t>
            </a:r>
            <a:r>
              <a:rPr b="1" lang="en-US" sz="2400" spc="-1" strike="noStrike" u="sng">
                <a:solidFill>
                  <a:srgbClr val="cc3300"/>
                </a:solidFill>
                <a:uFillTx/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pl-PL" sz="2400" spc="-1" strike="noStrike" u="sng">
                <a:solidFill>
                  <a:srgbClr val="cc3300"/>
                </a:solidFill>
                <a:uFillTx/>
                <a:latin typeface="Arial"/>
                <a:ea typeface="Times New Roman"/>
              </a:rPr>
              <a:t>Veza sa kardinalnošću </a:t>
            </a:r>
            <a:r>
              <a:rPr b="1" lang="sr-CS" sz="2400" spc="-1" strike="noStrike" u="sng">
                <a:solidFill>
                  <a:srgbClr val="cc3300"/>
                </a:solidFill>
                <a:uFillTx/>
                <a:latin typeface="Arial"/>
                <a:ea typeface="Times New Roman"/>
              </a:rPr>
              <a:t>(</a:t>
            </a:r>
            <a:r>
              <a:rPr b="1" lang="sr-Latn-CS" sz="2400" spc="-1" strike="noStrike" u="sng">
                <a:solidFill>
                  <a:srgbClr val="cc3300"/>
                </a:solidFill>
                <a:uFillTx/>
                <a:latin typeface="Arial"/>
                <a:ea typeface="Times New Roman"/>
              </a:rPr>
              <a:t>0</a:t>
            </a:r>
            <a:r>
              <a:rPr b="1" lang="sr-CS" sz="2400" spc="-1" strike="noStrike" u="sng">
                <a:solidFill>
                  <a:srgbClr val="cc3300"/>
                </a:solidFill>
                <a:uFillTx/>
                <a:latin typeface="Arial"/>
                <a:ea typeface="Times New Roman"/>
              </a:rPr>
              <a:t>,</a:t>
            </a:r>
            <a:r>
              <a:rPr b="1" lang="sr-Latn-CS" sz="2400" spc="-1" strike="noStrike" u="sng">
                <a:solidFill>
                  <a:srgbClr val="cc3300"/>
                </a:solidFill>
                <a:uFillTx/>
                <a:latin typeface="Arial"/>
                <a:ea typeface="Times New Roman"/>
              </a:rPr>
              <a:t>M</a:t>
            </a:r>
            <a:r>
              <a:rPr b="1" lang="sr-CS" sz="2400" spc="-1" strike="noStrike" u="sng">
                <a:solidFill>
                  <a:srgbClr val="cc3300"/>
                </a:solidFill>
                <a:uFillTx/>
                <a:latin typeface="Arial"/>
                <a:ea typeface="Times New Roman"/>
              </a:rPr>
              <a:t>) – (</a:t>
            </a:r>
            <a:r>
              <a:rPr b="1" lang="sr-Latn-CS" sz="2400" spc="-1" strike="noStrike" u="sng">
                <a:solidFill>
                  <a:srgbClr val="cc3300"/>
                </a:solidFill>
                <a:uFillTx/>
                <a:latin typeface="Arial"/>
                <a:ea typeface="Times New Roman"/>
              </a:rPr>
              <a:t>O</a:t>
            </a:r>
            <a:r>
              <a:rPr b="1" lang="sr-CS" sz="2400" spc="-1" strike="noStrike" u="sng">
                <a:solidFill>
                  <a:srgbClr val="cc3300"/>
                </a:solidFill>
                <a:uFillTx/>
                <a:latin typeface="Arial"/>
                <a:ea typeface="Times New Roman"/>
              </a:rPr>
              <a:t>,</a:t>
            </a:r>
            <a:r>
              <a:rPr b="1" lang="pl-PL" sz="2400" spc="-1" strike="noStrike" u="sng">
                <a:solidFill>
                  <a:srgbClr val="cc3300"/>
                </a:solidFill>
                <a:uFillTx/>
                <a:latin typeface="Arial"/>
                <a:ea typeface="Times New Roman"/>
              </a:rPr>
              <a:t>M</a:t>
            </a:r>
            <a:r>
              <a:rPr b="1" lang="sr-CS" sz="2400" spc="-1" strike="noStrike" u="sng">
                <a:solidFill>
                  <a:srgbClr val="cc3300"/>
                </a:solidFill>
                <a:uFillTx/>
                <a:latin typeface="Arial"/>
                <a:ea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pl-PL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Postaju posebne šeme relacij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pl-PL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Obeležja ove šeme relacije su identifikatori objekata koju su u vezi, a ključ šeme relacije je složeni ključ koji si sastoji od identifikatora objekata koji su u vezi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79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B554DF45-47C8-4E33-929E-31C2A7CC79F7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5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1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3" name=""/>
          <p:cNvSpPr/>
          <p:nvPr/>
        </p:nvSpPr>
        <p:spPr>
          <a:xfrm>
            <a:off x="157320" y="5189400"/>
            <a:ext cx="861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9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93300"/>
                </a:solidFill>
                <a:latin typeface="Arial"/>
                <a:ea typeface="Times New Roman"/>
              </a:rPr>
              <a:t>Radnik</a:t>
            </a:r>
            <a:r>
              <a:rPr b="1" lang="pl-PL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(</a:t>
            </a:r>
            <a:r>
              <a:rPr b="1" lang="pl-PL" sz="24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Sifra</a:t>
            </a: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Radnika</a:t>
            </a:r>
            <a:r>
              <a:rPr b="1" lang="pl-PL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ImePrezime, Struka</a:t>
            </a:r>
            <a:r>
              <a:rPr b="1" lang="pl-PL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)</a:t>
            </a:r>
            <a:r>
              <a:rPr b="1" lang="pl-PL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93300"/>
                </a:solidFill>
                <a:latin typeface="Arial"/>
                <a:ea typeface="Times New Roman"/>
              </a:rPr>
              <a:t>RadnaIstorija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(</a:t>
            </a: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SifraRadnika, SifraORG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93300"/>
                </a:solidFill>
                <a:latin typeface="Arial"/>
                <a:ea typeface="Times New Roman"/>
              </a:rPr>
              <a:t>Organizacija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(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Sifra</a:t>
            </a: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Org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Naziv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34920" y="3095640"/>
          <a:ext cx="9109080" cy="1347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920" y="3095640"/>
                    <a:ext cx="9109080" cy="13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14280" y="65160"/>
            <a:ext cx="84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BP-</a:t>
            </a:r>
            <a:r>
              <a:rPr b="1" lang="pt-PT" sz="24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Pravila za prevođenje PMOV- a u relacioni model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611280"/>
            <a:ext cx="910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sr-Latn-CS" sz="2400" spc="-1" strike="noStrike" u="sng">
                <a:solidFill>
                  <a:srgbClr val="cc3300"/>
                </a:solidFill>
                <a:uFillTx/>
                <a:latin typeface="Arial"/>
                <a:ea typeface="Arial"/>
              </a:rPr>
              <a:t>Agregirani objekti</a:t>
            </a:r>
            <a:r>
              <a:rPr b="1" lang="sr-CS" sz="2400" spc="-1" strike="noStrike" u="sng">
                <a:solidFill>
                  <a:srgbClr val="cc3300"/>
                </a:solidFill>
                <a:uFillTx/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pl-PL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Postaju posebne šeme relacij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pl-PL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Obeležja ove šeme relacije su identifikatori objekata koju su u vezi, a ključ šeme relacije je složeni ključ koji si sastoji od identifikatora objekata koji su u vezi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89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6CD277F3-FCD3-4219-B52D-5E54F17A1111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5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1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93" name=""/>
          <p:cNvSpPr/>
          <p:nvPr/>
        </p:nvSpPr>
        <p:spPr>
          <a:xfrm>
            <a:off x="157320" y="5189400"/>
            <a:ext cx="861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9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93300"/>
                </a:solidFill>
                <a:latin typeface="Arial"/>
                <a:ea typeface="Times New Roman"/>
              </a:rPr>
              <a:t>Organizacija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(</a:t>
            </a: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SifraOrg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, Naziv, Opis)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93300"/>
                </a:solidFill>
                <a:latin typeface="Arial"/>
                <a:ea typeface="Times New Roman"/>
              </a:rPr>
              <a:t>OrgUgovor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(</a:t>
            </a: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SifraOrg, SifraUgovora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93300"/>
                </a:solidFill>
                <a:latin typeface="Arial"/>
                <a:ea typeface="Times New Roman"/>
              </a:rPr>
              <a:t>Ugovor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(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Sifra</a:t>
            </a: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Ugovora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Datum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46720" y="4184640"/>
            <a:ext cx="1690560" cy="318960"/>
          </a:xfrm>
          <a:custGeom>
            <a:avLst/>
            <a:gdLst/>
            <a:ahLst/>
            <a:rect l="l" t="t" r="r" b="b"/>
            <a:pathLst>
              <a:path w="1065" h="201">
                <a:moveTo>
                  <a:pt x="964" y="201"/>
                </a:moveTo>
                <a:lnTo>
                  <a:pt x="1006" y="195"/>
                </a:lnTo>
                <a:lnTo>
                  <a:pt x="1035" y="172"/>
                </a:lnTo>
                <a:lnTo>
                  <a:pt x="1059" y="136"/>
                </a:lnTo>
                <a:lnTo>
                  <a:pt x="1065" y="101"/>
                </a:lnTo>
                <a:lnTo>
                  <a:pt x="1059" y="65"/>
                </a:lnTo>
                <a:lnTo>
                  <a:pt x="1035" y="30"/>
                </a:lnTo>
                <a:lnTo>
                  <a:pt x="1006" y="6"/>
                </a:lnTo>
                <a:lnTo>
                  <a:pt x="964" y="0"/>
                </a:lnTo>
                <a:lnTo>
                  <a:pt x="101" y="0"/>
                </a:lnTo>
                <a:lnTo>
                  <a:pt x="60" y="6"/>
                </a:lnTo>
                <a:lnTo>
                  <a:pt x="30" y="30"/>
                </a:lnTo>
                <a:lnTo>
                  <a:pt x="6" y="65"/>
                </a:lnTo>
                <a:lnTo>
                  <a:pt x="0" y="101"/>
                </a:lnTo>
                <a:lnTo>
                  <a:pt x="6" y="136"/>
                </a:lnTo>
                <a:lnTo>
                  <a:pt x="30" y="172"/>
                </a:lnTo>
                <a:lnTo>
                  <a:pt x="60" y="195"/>
                </a:lnTo>
                <a:lnTo>
                  <a:pt x="101" y="201"/>
                </a:lnTo>
                <a:lnTo>
                  <a:pt x="964" y="20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81520" y="4230720"/>
            <a:ext cx="127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HelveticaPlain"/>
              </a:rPr>
              <a:t>Sifra  Ugovor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968480" y="3340080"/>
            <a:ext cx="1689120" cy="42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83560" y="3441600"/>
            <a:ext cx="111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HelveticaPlain"/>
              </a:rPr>
              <a:t>Organizacij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512040" y="3340080"/>
            <a:ext cx="1689120" cy="42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118280" y="3441600"/>
            <a:ext cx="66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HelveticaPlain"/>
              </a:rPr>
              <a:t>Ugovo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389480" y="3236760"/>
            <a:ext cx="1278000" cy="628920"/>
          </a:xfrm>
          <a:custGeom>
            <a:avLst/>
            <a:gdLst/>
            <a:ahLst/>
            <a:rect l="l" t="t" r="r" b="b"/>
            <a:pathLst>
              <a:path w="805" h="396">
                <a:moveTo>
                  <a:pt x="0" y="201"/>
                </a:moveTo>
                <a:lnTo>
                  <a:pt x="402" y="0"/>
                </a:lnTo>
                <a:lnTo>
                  <a:pt x="805" y="201"/>
                </a:lnTo>
                <a:lnTo>
                  <a:pt x="402" y="396"/>
                </a:lnTo>
                <a:lnTo>
                  <a:pt x="0" y="20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04680" y="3441600"/>
            <a:ext cx="1011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HelveticaPlain"/>
              </a:rPr>
              <a:t>OrgUgovo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3556080"/>
            <a:ext cx="731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47760" y="3122640"/>
            <a:ext cx="340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HelveticaPlain"/>
              </a:rPr>
              <a:t>0,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947760" y="3348000"/>
            <a:ext cx="340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HelveticaPlain"/>
              </a:rPr>
              <a:t>1,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667480" y="3556080"/>
            <a:ext cx="844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955840" y="3122640"/>
            <a:ext cx="340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HelveticaPlain"/>
              </a:rPr>
              <a:t>0,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955840" y="3348000"/>
            <a:ext cx="340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HelveticaPlain"/>
              </a:rPr>
              <a:t>1,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114560" y="4184640"/>
            <a:ext cx="1698480" cy="318960"/>
          </a:xfrm>
          <a:custGeom>
            <a:avLst/>
            <a:gdLst/>
            <a:ahLst/>
            <a:rect l="l" t="t" r="r" b="b"/>
            <a:pathLst>
              <a:path w="1070" h="201">
                <a:moveTo>
                  <a:pt x="970" y="201"/>
                </a:moveTo>
                <a:lnTo>
                  <a:pt x="1005" y="195"/>
                </a:lnTo>
                <a:lnTo>
                  <a:pt x="1041" y="172"/>
                </a:lnTo>
                <a:lnTo>
                  <a:pt x="1058" y="136"/>
                </a:lnTo>
                <a:lnTo>
                  <a:pt x="1070" y="101"/>
                </a:lnTo>
                <a:lnTo>
                  <a:pt x="1058" y="65"/>
                </a:lnTo>
                <a:lnTo>
                  <a:pt x="1041" y="30"/>
                </a:lnTo>
                <a:lnTo>
                  <a:pt x="1005" y="6"/>
                </a:lnTo>
                <a:lnTo>
                  <a:pt x="970" y="0"/>
                </a:lnTo>
                <a:lnTo>
                  <a:pt x="100" y="0"/>
                </a:lnTo>
                <a:lnTo>
                  <a:pt x="65" y="6"/>
                </a:lnTo>
                <a:lnTo>
                  <a:pt x="30" y="30"/>
                </a:lnTo>
                <a:lnTo>
                  <a:pt x="12" y="65"/>
                </a:lnTo>
                <a:lnTo>
                  <a:pt x="0" y="101"/>
                </a:lnTo>
                <a:lnTo>
                  <a:pt x="12" y="136"/>
                </a:lnTo>
                <a:lnTo>
                  <a:pt x="30" y="172"/>
                </a:lnTo>
                <a:lnTo>
                  <a:pt x="65" y="195"/>
                </a:lnTo>
                <a:lnTo>
                  <a:pt x="100" y="201"/>
                </a:lnTo>
                <a:lnTo>
                  <a:pt x="970" y="20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661040" y="4230720"/>
            <a:ext cx="80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HelveticaPlain"/>
              </a:rPr>
              <a:t>Sifra 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1968480" y="3762000"/>
            <a:ext cx="422280" cy="42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019320" y="4184640"/>
            <a:ext cx="1689120" cy="318960"/>
          </a:xfrm>
          <a:custGeom>
            <a:avLst/>
            <a:gdLst/>
            <a:ahLst/>
            <a:rect l="l" t="t" r="r" b="b"/>
            <a:pathLst>
              <a:path w="1064" h="201">
                <a:moveTo>
                  <a:pt x="964" y="201"/>
                </a:moveTo>
                <a:lnTo>
                  <a:pt x="1005" y="195"/>
                </a:lnTo>
                <a:lnTo>
                  <a:pt x="1035" y="172"/>
                </a:lnTo>
                <a:lnTo>
                  <a:pt x="1059" y="136"/>
                </a:lnTo>
                <a:lnTo>
                  <a:pt x="1064" y="101"/>
                </a:lnTo>
                <a:lnTo>
                  <a:pt x="1059" y="65"/>
                </a:lnTo>
                <a:lnTo>
                  <a:pt x="1035" y="30"/>
                </a:lnTo>
                <a:lnTo>
                  <a:pt x="1005" y="6"/>
                </a:lnTo>
                <a:lnTo>
                  <a:pt x="964" y="0"/>
                </a:lnTo>
                <a:lnTo>
                  <a:pt x="101" y="0"/>
                </a:lnTo>
                <a:lnTo>
                  <a:pt x="65" y="6"/>
                </a:lnTo>
                <a:lnTo>
                  <a:pt x="30" y="30"/>
                </a:lnTo>
                <a:lnTo>
                  <a:pt x="6" y="65"/>
                </a:lnTo>
                <a:lnTo>
                  <a:pt x="0" y="101"/>
                </a:lnTo>
                <a:lnTo>
                  <a:pt x="6" y="136"/>
                </a:lnTo>
                <a:lnTo>
                  <a:pt x="30" y="172"/>
                </a:lnTo>
                <a:lnTo>
                  <a:pt x="65" y="195"/>
                </a:lnTo>
                <a:lnTo>
                  <a:pt x="101" y="201"/>
                </a:lnTo>
                <a:lnTo>
                  <a:pt x="964" y="20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31040" y="4230720"/>
            <a:ext cx="488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HelveticaPlain"/>
              </a:rPr>
              <a:t>Nazi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3360" y="3762360"/>
            <a:ext cx="1689120" cy="318960"/>
          </a:xfrm>
          <a:custGeom>
            <a:avLst/>
            <a:gdLst/>
            <a:ahLst/>
            <a:rect l="l" t="t" r="r" b="b"/>
            <a:pathLst>
              <a:path w="1064" h="201">
                <a:moveTo>
                  <a:pt x="963" y="201"/>
                </a:moveTo>
                <a:lnTo>
                  <a:pt x="1005" y="195"/>
                </a:lnTo>
                <a:lnTo>
                  <a:pt x="1034" y="172"/>
                </a:lnTo>
                <a:lnTo>
                  <a:pt x="1058" y="136"/>
                </a:lnTo>
                <a:lnTo>
                  <a:pt x="1064" y="101"/>
                </a:lnTo>
                <a:lnTo>
                  <a:pt x="1058" y="65"/>
                </a:lnTo>
                <a:lnTo>
                  <a:pt x="1034" y="30"/>
                </a:lnTo>
                <a:lnTo>
                  <a:pt x="1005" y="6"/>
                </a:lnTo>
                <a:lnTo>
                  <a:pt x="963" y="0"/>
                </a:lnTo>
                <a:lnTo>
                  <a:pt x="100" y="0"/>
                </a:lnTo>
                <a:lnTo>
                  <a:pt x="59" y="6"/>
                </a:lnTo>
                <a:lnTo>
                  <a:pt x="29" y="30"/>
                </a:lnTo>
                <a:lnTo>
                  <a:pt x="6" y="65"/>
                </a:lnTo>
                <a:lnTo>
                  <a:pt x="0" y="101"/>
                </a:lnTo>
                <a:lnTo>
                  <a:pt x="6" y="136"/>
                </a:lnTo>
                <a:lnTo>
                  <a:pt x="29" y="172"/>
                </a:lnTo>
                <a:lnTo>
                  <a:pt x="59" y="195"/>
                </a:lnTo>
                <a:lnTo>
                  <a:pt x="100" y="201"/>
                </a:lnTo>
                <a:lnTo>
                  <a:pt x="963" y="20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97400" y="3808440"/>
            <a:ext cx="407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HelveticaPlain"/>
              </a:rPr>
              <a:t>Op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459560" y="4184640"/>
            <a:ext cx="1689120" cy="318960"/>
          </a:xfrm>
          <a:custGeom>
            <a:avLst/>
            <a:gdLst/>
            <a:ahLst/>
            <a:rect l="l" t="t" r="r" b="b"/>
            <a:pathLst>
              <a:path w="1064" h="201">
                <a:moveTo>
                  <a:pt x="964" y="201"/>
                </a:moveTo>
                <a:lnTo>
                  <a:pt x="1005" y="195"/>
                </a:lnTo>
                <a:lnTo>
                  <a:pt x="1034" y="172"/>
                </a:lnTo>
                <a:lnTo>
                  <a:pt x="1058" y="136"/>
                </a:lnTo>
                <a:lnTo>
                  <a:pt x="1064" y="101"/>
                </a:lnTo>
                <a:lnTo>
                  <a:pt x="1058" y="65"/>
                </a:lnTo>
                <a:lnTo>
                  <a:pt x="1034" y="30"/>
                </a:lnTo>
                <a:lnTo>
                  <a:pt x="1005" y="6"/>
                </a:lnTo>
                <a:lnTo>
                  <a:pt x="964" y="0"/>
                </a:lnTo>
                <a:lnTo>
                  <a:pt x="100" y="0"/>
                </a:lnTo>
                <a:lnTo>
                  <a:pt x="59" y="6"/>
                </a:lnTo>
                <a:lnTo>
                  <a:pt x="29" y="30"/>
                </a:lnTo>
                <a:lnTo>
                  <a:pt x="6" y="65"/>
                </a:lnTo>
                <a:lnTo>
                  <a:pt x="0" y="101"/>
                </a:lnTo>
                <a:lnTo>
                  <a:pt x="6" y="136"/>
                </a:lnTo>
                <a:lnTo>
                  <a:pt x="29" y="172"/>
                </a:lnTo>
                <a:lnTo>
                  <a:pt x="59" y="195"/>
                </a:lnTo>
                <a:lnTo>
                  <a:pt x="100" y="201"/>
                </a:lnTo>
                <a:lnTo>
                  <a:pt x="964" y="20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044920" y="4230720"/>
            <a:ext cx="61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HelveticaPlain"/>
              </a:rPr>
              <a:t>Datu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3234960" y="3762000"/>
            <a:ext cx="206280" cy="42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1329840" y="3556080"/>
            <a:ext cx="638280" cy="20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6192720" y="3762000"/>
            <a:ext cx="741600" cy="42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7778520" y="3762000"/>
            <a:ext cx="525240" cy="42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397400" y="3257640"/>
            <a:ext cx="1263600" cy="60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14280" y="65160"/>
            <a:ext cx="84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BP-</a:t>
            </a:r>
            <a:r>
              <a:rPr b="1" lang="pt-PT" sz="24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Pravila za prevođenje PMOV- a u relacioni model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640" y="1424160"/>
            <a:ext cx="9108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sr-Latn-CS" sz="2400" spc="-1" strike="noStrike" u="sng">
                <a:solidFill>
                  <a:srgbClr val="cc3300"/>
                </a:solidFill>
                <a:uFillTx/>
                <a:latin typeface="Arial"/>
              </a:rPr>
              <a:t>Pravila za unarne veze</a:t>
            </a:r>
            <a:r>
              <a:rPr b="1" lang="sr-CS" sz="2400" spc="-1" strike="noStrike" u="sng">
                <a:solidFill>
                  <a:srgbClr val="cc3300"/>
                </a:solidFill>
                <a:uFillTx/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pt-PT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Prevođenje unarih veza (</a:t>
            </a:r>
            <a:r>
              <a:rPr b="1" lang="pt-PT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unarom nazivamo vez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u</a:t>
            </a:r>
            <a:r>
              <a:rPr b="1" lang="pt-PT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 između dva objekata istog tipa</a:t>
            </a:r>
            <a:r>
              <a:rPr b="1" lang="pt-PT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) u relacioni model podataka zavisi od kardinalnosti tipa veze i izvodi se kao i za druge tipove ranije opisanih binarnih vez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pt-PT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Napomenimo da kod unarne veze tipa (1:1) parcijalnost samo na jednoj strani veze, odnosno totalnost samo na jednoj strani veze, ne bi imao smis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pt-PT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Naime, time bi se istom tipu objekta istovremeno dopuštalo i poricanje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i </a:t>
            </a:r>
            <a:r>
              <a:rPr b="1" lang="pt-PT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opciono učestvovanje u vez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225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57E3ED7F-5F3A-4E69-9B81-00F21054DCD1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5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7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2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14280" y="65160"/>
            <a:ext cx="84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BP-</a:t>
            </a:r>
            <a:r>
              <a:rPr b="1" lang="pt-PT" sz="24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Pravila za prevođenje PMOV- a u relacioni model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611280"/>
            <a:ext cx="910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46800" bIns="46800" anchor="t">
            <a:spAutoFit/>
          </a:bodyPr>
          <a:p>
            <a:pPr marL="4680" indent="19080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pt-PT" sz="2400" spc="-1" strike="noStrike" u="sng">
                <a:solidFill>
                  <a:srgbClr val="cc3300"/>
                </a:solidFill>
                <a:uFillTx/>
                <a:latin typeface="Arial"/>
                <a:ea typeface="Times New Roman"/>
              </a:rPr>
              <a:t>Unarne veze </a:t>
            </a:r>
            <a:r>
              <a:rPr b="1" lang="sr-Latn-CS" sz="2400" spc="-1" strike="noStrike" u="sng">
                <a:solidFill>
                  <a:srgbClr val="cc3300"/>
                </a:solidFill>
                <a:uFillTx/>
                <a:latin typeface="Arial"/>
                <a:ea typeface="Times New Roman"/>
              </a:rPr>
              <a:t>(0,1) – (0,1)</a:t>
            </a:r>
            <a:r>
              <a:rPr b="1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80" indent="19080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Pri</a:t>
            </a:r>
            <a:r>
              <a:rPr b="1" lang="sr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prevo</a:t>
            </a:r>
            <a:r>
              <a:rPr b="1" lang="sr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đ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enju</a:t>
            </a:r>
            <a:r>
              <a:rPr b="1" lang="sr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unarnih</a:t>
            </a:r>
            <a:r>
              <a:rPr b="1" lang="sr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veza</a:t>
            </a:r>
            <a:r>
              <a:rPr b="1" lang="sr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s</a:t>
            </a:r>
            <a:r>
              <a:rPr b="1" lang="sr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obzirom</a:t>
            </a:r>
            <a:r>
              <a:rPr b="1" lang="sr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da</a:t>
            </a:r>
            <a:r>
              <a:rPr b="1" lang="sr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bi</a:t>
            </a:r>
            <a:r>
              <a:rPr b="1" lang="sr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spoljnii</a:t>
            </a:r>
            <a:r>
              <a:rPr b="1" lang="sr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klju</a:t>
            </a:r>
            <a:r>
              <a:rPr b="1" lang="sr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č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u</a:t>
            </a:r>
            <a:r>
              <a:rPr b="1" lang="sr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š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emi</a:t>
            </a:r>
            <a:r>
              <a:rPr b="1" lang="sr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relacije</a:t>
            </a:r>
            <a:r>
              <a:rPr b="1" lang="sr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imao</a:t>
            </a:r>
            <a:r>
              <a:rPr b="1" lang="sr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isto</a:t>
            </a:r>
            <a:r>
              <a:rPr b="1" lang="sr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ime</a:t>
            </a:r>
            <a:r>
              <a:rPr b="1" lang="sr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kao</a:t>
            </a:r>
            <a:r>
              <a:rPr b="1" lang="sr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i</a:t>
            </a:r>
            <a:r>
              <a:rPr b="1" lang="sr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primarni</a:t>
            </a:r>
            <a:r>
              <a:rPr b="1" lang="sr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klju</a:t>
            </a:r>
            <a:r>
              <a:rPr b="1" lang="sr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č,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vr</a:t>
            </a:r>
            <a:r>
              <a:rPr b="1" lang="sr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š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imo</a:t>
            </a:r>
            <a:r>
              <a:rPr b="1" lang="sr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njegovo</a:t>
            </a:r>
            <a:r>
              <a:rPr b="1" lang="sr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preimenovanje</a:t>
            </a:r>
            <a:r>
              <a:rPr b="1" lang="sr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.</a:t>
            </a:r>
            <a:r>
              <a:rPr b="1" lang="en-US" sz="2400" spc="-1" strike="noStrike" u="sng">
                <a:solidFill>
                  <a:srgbClr val="cc3300"/>
                </a:solidFill>
                <a:uFillTx/>
                <a:latin typeface="Arial"/>
                <a:ea typeface="Times New Roman"/>
              </a:rPr>
              <a:t> </a:t>
            </a:r>
            <a:r>
              <a:rPr b="1" lang="sr-CS" sz="2400" spc="-1" strike="noStrike" u="sng">
                <a:solidFill>
                  <a:srgbClr val="cc3300"/>
                </a:solidFill>
                <a:uFillTx/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232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8605E994-AB03-4422-8CA6-45E734D603B1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5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4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36" name=""/>
          <p:cNvSpPr/>
          <p:nvPr/>
        </p:nvSpPr>
        <p:spPr>
          <a:xfrm>
            <a:off x="157320" y="5189400"/>
            <a:ext cx="86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993300"/>
                </a:solidFill>
                <a:latin typeface="Arial"/>
                <a:ea typeface="Times New Roman"/>
              </a:rPr>
              <a:t>Osoba</a:t>
            </a:r>
            <a:r>
              <a:rPr b="1" lang="pt-PT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(</a:t>
            </a: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JMBG</a:t>
            </a:r>
            <a:r>
              <a:rPr b="1" lang="pt-PT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Ime, Prezime</a:t>
            </a:r>
            <a:r>
              <a:rPr b="1" lang="pt-PT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)</a:t>
            </a:r>
            <a:r>
              <a:rPr b="1" lang="pt-PT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993300"/>
                </a:solidFill>
                <a:latin typeface="Arial"/>
                <a:ea typeface="Times New Roman"/>
              </a:rPr>
              <a:t>Brak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(</a:t>
            </a: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JMBG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, JMBGBracniDrug)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34920" y="2403360"/>
          <a:ext cx="9074160" cy="214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0" y="2403360"/>
                    <a:ext cx="9074160" cy="21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314280" y="65160"/>
            <a:ext cx="84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BP-</a:t>
            </a:r>
            <a:r>
              <a:rPr b="1" lang="pt-PT" sz="24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Pravila za prevođenje PMOV- a u relacioni model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611280"/>
            <a:ext cx="910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pt-PT" sz="2400" spc="-1" strike="noStrike" u="sng">
                <a:solidFill>
                  <a:srgbClr val="cc3300"/>
                </a:solidFill>
                <a:uFillTx/>
                <a:latin typeface="Arial"/>
                <a:ea typeface="Times New Roman"/>
              </a:rPr>
              <a:t>Unarne veze </a:t>
            </a:r>
            <a:r>
              <a:rPr b="1" lang="sr-Latn-CS" sz="2400" spc="-1" strike="noStrike" u="sng">
                <a:solidFill>
                  <a:srgbClr val="cc3300"/>
                </a:solidFill>
                <a:uFillTx/>
                <a:latin typeface="Arial"/>
                <a:ea typeface="Times New Roman"/>
              </a:rPr>
              <a:t>(0,1) – (0,M)</a:t>
            </a:r>
            <a:r>
              <a:rPr b="1" lang="en-US" sz="2400" spc="-1" strike="noStrike" u="sng">
                <a:solidFill>
                  <a:srgbClr val="cc3300"/>
                </a:solidFill>
                <a:uFillTx/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pt-PT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Jedan radnik može da rukovodi sa više radnika i može imati jednog nadređenog rukovodio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pt-PT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Svaki radnik ne mora imati nadređenog rukovodioca i svaki radnik ne mora biti rukovodioc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242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D52AA4AA-5DB2-4571-AC63-F4E0AEA2415A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5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44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4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46" name=""/>
          <p:cNvSpPr/>
          <p:nvPr/>
        </p:nvSpPr>
        <p:spPr>
          <a:xfrm>
            <a:off x="157320" y="5189400"/>
            <a:ext cx="86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9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993300"/>
                </a:solidFill>
                <a:latin typeface="Arial"/>
                <a:ea typeface="Times New Roman"/>
              </a:rPr>
              <a:t>Radnik</a:t>
            </a:r>
            <a:r>
              <a:rPr b="1" lang="pl-PL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(</a:t>
            </a: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SifraRadnika </a:t>
            </a:r>
            <a:r>
              <a:rPr b="1" lang="pl-PL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Ime, Prezime</a:t>
            </a:r>
            <a:r>
              <a:rPr b="1" lang="pl-PL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)</a:t>
            </a:r>
            <a:r>
              <a:rPr b="1" lang="pl-PL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993300"/>
                </a:solidFill>
                <a:latin typeface="Arial"/>
                <a:ea typeface="Times New Roman"/>
              </a:rPr>
              <a:t>Rukovodi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(</a:t>
            </a: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SifraRadnika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, SifraRadnikaRukovodi )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34920" y="2557440"/>
          <a:ext cx="9074160" cy="2149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920" y="2557440"/>
                    <a:ext cx="9074160" cy="21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14280" y="65160"/>
            <a:ext cx="84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BP-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Prevođenje PMOV u relacioni model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251000"/>
            <a:ext cx="910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789200"/>
            <a:ext cx="9109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pt-PT" sz="2400" spc="-1" strike="noStrike" u="sng">
                <a:solidFill>
                  <a:srgbClr val="cc3300"/>
                </a:solidFill>
                <a:uFillTx/>
                <a:latin typeface="Arial"/>
                <a:ea typeface="Times New Roman"/>
              </a:rPr>
              <a:t>Osnovni koncepti relacionog model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pt-PT" sz="24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Primarni ključ</a:t>
            </a:r>
            <a:r>
              <a:rPr b="1" lang="pt-PT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relacije je atribut (</a:t>
            </a:r>
            <a:r>
              <a:rPr b="1" lang="pt-PT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prost ključ</a:t>
            </a:r>
            <a:r>
              <a:rPr b="1" lang="pt-PT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) ili skup atributa relacije (</a:t>
            </a:r>
            <a:r>
              <a:rPr b="1" lang="pt-PT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složeni ključ</a:t>
            </a:r>
            <a:r>
              <a:rPr b="1" lang="pt-PT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) koji jedinstveno indentifikuje n-torku u relaciji (jednu vrstu u tabeli).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Primarni ključ u prikazu relacije se podvlač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pt-PT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pt-PT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Spoljni ključ</a:t>
            </a:r>
            <a:r>
              <a:rPr b="1" lang="pt-PT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je atribut (ili skup atributa) u relaciji R1 koji u njoj nije primarni ključ, već je primarni ključ relacije R2. Preko spoljinih ključeva se uspostavlja veza između relacija.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58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125616E5-D605-4A6A-8B25-EAD36300F170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5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0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14280" y="65160"/>
            <a:ext cx="84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BP-</a:t>
            </a:r>
            <a:r>
              <a:rPr b="1" lang="pt-PT" sz="24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Pravila za prevođenje PMOV- a u relacioni model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611280"/>
            <a:ext cx="91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pt-PT" sz="2400" spc="-1" strike="noStrike" u="sng">
                <a:solidFill>
                  <a:srgbClr val="cc3300"/>
                </a:solidFill>
                <a:uFillTx/>
                <a:latin typeface="Arial"/>
                <a:ea typeface="Times New Roman"/>
              </a:rPr>
              <a:t>Unarne veze </a:t>
            </a:r>
            <a:r>
              <a:rPr b="1" lang="sr-Latn-CS" sz="2400" spc="-1" strike="noStrike" u="sng">
                <a:solidFill>
                  <a:srgbClr val="cc3300"/>
                </a:solidFill>
                <a:uFillTx/>
                <a:latin typeface="Arial"/>
                <a:ea typeface="Times New Roman"/>
              </a:rPr>
              <a:t>(0,M) – (0,M)</a:t>
            </a:r>
            <a:r>
              <a:rPr b="1" lang="en-US" sz="2400" spc="-1" strike="noStrike" u="sng">
                <a:solidFill>
                  <a:srgbClr val="cc3300"/>
                </a:solidFill>
                <a:uFillTx/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pt-PT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Jedan artikal može da se sastoji iz više sastavnih delo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Svaki artikal ne mora imati sastavni deo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252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E571EAF6-8884-4EA5-86B8-73CD3E63229E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5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54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56" name=""/>
          <p:cNvSpPr/>
          <p:nvPr/>
        </p:nvSpPr>
        <p:spPr>
          <a:xfrm>
            <a:off x="157320" y="5189400"/>
            <a:ext cx="86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9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93300"/>
                </a:solidFill>
                <a:latin typeface="Arial"/>
                <a:ea typeface="Times New Roman"/>
              </a:rPr>
              <a:t>Artikal</a:t>
            </a:r>
            <a:r>
              <a:rPr b="1" lang="sv-SE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(</a:t>
            </a: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SifraArtikla </a:t>
            </a:r>
            <a:r>
              <a:rPr b="1" lang="sv-SE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Naziv, Opis</a:t>
            </a:r>
            <a:r>
              <a:rPr b="1" lang="sv-SE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)</a:t>
            </a:r>
            <a:r>
              <a:rPr b="1" lang="sv-SE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9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93300"/>
                </a:solidFill>
                <a:latin typeface="Arial"/>
                <a:ea typeface="Times New Roman"/>
              </a:rPr>
              <a:t>Sastav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(</a:t>
            </a: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SifraArtikla , SifraArtiklaUSastavu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)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0" y="2406600"/>
          <a:ext cx="9178920" cy="203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2406600"/>
                    <a:ext cx="9178920" cy="20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14280" y="65160"/>
            <a:ext cx="84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BP-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Prevođenje PMOV u relacioni model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251000"/>
            <a:ext cx="910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611280"/>
            <a:ext cx="910908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pt-PT" sz="2400" spc="-1" strike="noStrike" u="sng">
                <a:solidFill>
                  <a:srgbClr val="cc3300"/>
                </a:solidFill>
                <a:uFillTx/>
                <a:latin typeface="Arial"/>
                <a:ea typeface="Times New Roman"/>
              </a:rPr>
              <a:t>Transformacija PMOV u relacioni model (osnova)</a:t>
            </a:r>
            <a:r>
              <a:rPr b="1" lang="en-US" sz="2400" spc="-1" strike="noStrike" u="sng">
                <a:solidFill>
                  <a:srgbClr val="cc3300"/>
                </a:solidFill>
                <a:uFillTx/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pl-PL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Svaki entitet iz PMOV-a postaje relacija. </a:t>
            </a:r>
            <a:r>
              <a:rPr b="1" lang="it-IT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Atributi entiteta postaju atributi relacij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pt-PT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Primarni ključ dobijene relacije j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457200" algn="just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</a:tabLst>
            </a:pPr>
            <a:r>
              <a:rPr b="1" lang="pt-PT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Za jake entitete, atribut identifik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457200" algn="just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</a:tabLst>
            </a:pPr>
            <a:r>
              <a:rPr b="1" lang="pt-PT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Za slabe entitete, atribut identifikator nadređenog entiteta i atribut ili skup atributa koji jedinstveno određuje slab entit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457200" algn="just"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</a:tabLst>
            </a:pPr>
            <a:r>
              <a:rPr b="1" lang="pt-PT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Za podtip, indentifikator nadti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457200" algn="just"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</a:tabLst>
            </a:pPr>
            <a:r>
              <a:rPr b="1" lang="pt-PT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Za agregaciju, skup identifikatora koje prema agregaciji imaju preslikavanje sa gornjom granicom kardinalnosti M, ili identifikator jedne od komponenti koji prima agregaciji ima preslikavanje sa gornjom granicom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pt-PT" sz="800" spc="-1" strike="noStrike">
                <a:solidFill>
                  <a:srgbClr val="000099"/>
                </a:solidFill>
                <a:latin typeface="Arial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pt-PT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Spoljni ključ dobijene relacije je atribut koji predstavlja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pt-PT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identifikator entiteta prema kome dati entitet ima preslikavanje sa kardinalnošću (1,1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66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E8C2D2A1-2B02-4082-865B-3084678B4A8F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5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8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14280" y="65160"/>
            <a:ext cx="84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BP-</a:t>
            </a:r>
            <a:r>
              <a:rPr b="1" lang="pt-PT" sz="24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Pravila za prevođenje PMOV- a u relacioni model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251000"/>
            <a:ext cx="910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11280"/>
            <a:ext cx="9109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c3300"/>
              </a:buClr>
              <a:buFont typeface="Arial"/>
              <a:buAutoNum type="arabicPeriod"/>
              <a:tabLst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pt-PT" sz="2400" spc="-1" strike="noStrike" u="sng">
                <a:solidFill>
                  <a:srgbClr val="cc3300"/>
                </a:solidFill>
                <a:uFillTx/>
                <a:latin typeface="Arial"/>
                <a:ea typeface="Times New Roman"/>
              </a:rPr>
              <a:t>Pravila za objekte (entite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457200">
              <a:lnSpc>
                <a:spcPct val="100000"/>
              </a:lnSpc>
              <a:tabLst>
                <a:tab algn="l" pos="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</a:tabLst>
            </a:pPr>
            <a:r>
              <a:rPr b="1" lang="pt-PT" sz="2400" spc="-1" strike="noStrike" u="sng">
                <a:solidFill>
                  <a:srgbClr val="cc3300"/>
                </a:solidFill>
                <a:uFillTx/>
                <a:latin typeface="Arial"/>
                <a:ea typeface="Times New Roman"/>
              </a:rPr>
              <a:t>Pravilo 1.1</a:t>
            </a:r>
            <a:r>
              <a:rPr b="1" lang="en-US" sz="2400" spc="-1" strike="noStrike" u="sng">
                <a:solidFill>
                  <a:srgbClr val="cc3300"/>
                </a:solidFill>
                <a:uFillTx/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457200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</a:tabLst>
            </a:pPr>
            <a:r>
              <a:rPr b="1" lang="pt-PT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Svaki objekat iz MOV postaje entit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457200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</a:tabLst>
            </a:pPr>
            <a:r>
              <a:rPr b="1" lang="pt-PT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Ime tipa entiteta postaje ime šeme relaci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457200"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Atributi objekta su atributi entite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457200">
              <a:lnSpc>
                <a:spcPct val="100000"/>
              </a:lnSpc>
              <a:tabLst>
                <a:tab algn="l" pos="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</a:tabLst>
            </a:pPr>
            <a:r>
              <a:rPr b="1" lang="pt-PT" sz="2400" spc="-1" strike="noStrike" u="sng">
                <a:solidFill>
                  <a:srgbClr val="cc3300"/>
                </a:solidFill>
                <a:uFillTx/>
                <a:latin typeface="Arial"/>
                <a:ea typeface="Times New Roman"/>
              </a:rPr>
              <a:t>Pravilo 1.</a:t>
            </a:r>
            <a:r>
              <a:rPr b="1" lang="sr-Latn-CS" sz="2400" spc="-1" strike="noStrike" u="sng">
                <a:solidFill>
                  <a:srgbClr val="cc3300"/>
                </a:solidFill>
                <a:uFillTx/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457200"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</a:tabLst>
            </a:pPr>
            <a:r>
              <a:rPr b="1" lang="pt-PT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Svaki “slab objekat” takođe postaje šema relacije. Ime tipa objekta postaje ime šeme relaci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457200"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</a:tabLst>
            </a:pPr>
            <a:r>
              <a:rPr b="1" lang="pt-PT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Identifikator nadređenog objekta postaje jedno od obeležja šeme relacije koja odgovara “slabom” objekt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457200"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</a:tabLst>
            </a:pPr>
            <a:r>
              <a:rPr b="1" lang="pt-PT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Identifikator slabog objekta čini identifikator nadređenog objekta i obeležja “slabog”objekta koja jedinstveno identifikuje pojavljivanje “slabog” objek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457200">
              <a:lnSpc>
                <a:spcPct val="100000"/>
              </a:lnSpc>
              <a:tabLst>
                <a:tab algn="l" pos="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74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2258FD12-83DD-4A30-9F56-42567868EA46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5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6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14280" y="65160"/>
            <a:ext cx="84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BP-</a:t>
            </a:r>
            <a:r>
              <a:rPr b="1" lang="pt-PT" sz="24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Pravila za prevođenje PMOV- a u relacioni model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251000"/>
            <a:ext cx="910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11280"/>
            <a:ext cx="91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c3300"/>
              </a:buClr>
              <a:buFont typeface="Arial"/>
              <a:buAutoNum type="arabicPeriod"/>
              <a:tabLst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pt-PT" sz="2400" spc="-1" strike="noStrike" u="sng">
                <a:solidFill>
                  <a:srgbClr val="cc3300"/>
                </a:solidFill>
                <a:uFillTx/>
                <a:latin typeface="Arial"/>
                <a:ea typeface="Times New Roman"/>
              </a:rPr>
              <a:t>Pravila za objekte (entite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457200">
              <a:lnSpc>
                <a:spcPct val="100000"/>
              </a:lnSpc>
              <a:tabLst>
                <a:tab algn="l" pos="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</a:tabLst>
            </a:pPr>
            <a:r>
              <a:rPr b="1" lang="pt-PT" sz="2400" spc="-1" strike="noStrike" u="sng">
                <a:solidFill>
                  <a:srgbClr val="cc3300"/>
                </a:solidFill>
                <a:uFillTx/>
                <a:latin typeface="Arial"/>
                <a:ea typeface="Times New Roman"/>
              </a:rPr>
              <a:t>Pravilo 1.</a:t>
            </a:r>
            <a:r>
              <a:rPr b="1" lang="sr-Latn-CS" sz="2400" spc="-1" strike="noStrike" u="sng">
                <a:solidFill>
                  <a:srgbClr val="cc3300"/>
                </a:solidFill>
                <a:uFillTx/>
                <a:latin typeface="Arial"/>
              </a:rPr>
              <a:t>2-Primer</a:t>
            </a:r>
            <a:r>
              <a:rPr b="1" lang="en-US" sz="2400" spc="-1" strike="noStrike" u="sng">
                <a:solidFill>
                  <a:srgbClr val="cc3300"/>
                </a:solidFill>
                <a:uFillTx/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82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6FA197F1-E8E0-416E-A516-5EBD0FE78683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5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4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86" name=""/>
          <p:cNvGraphicFramePr/>
          <p:nvPr/>
        </p:nvGraphicFramePr>
        <p:xfrm>
          <a:off x="0" y="1433520"/>
          <a:ext cx="9109080" cy="420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433520"/>
                    <a:ext cx="9109080" cy="42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34920" y="5535720"/>
            <a:ext cx="9074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PoslovniPartner(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ifraPoslP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, NazivPoslP, AdresaPoslP, Delatno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a80404"/>
                </a:solidFill>
                <a:latin typeface="Arial"/>
                <a:ea typeface="Arial"/>
              </a:rPr>
              <a:t>Narudzbenic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rojNar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, DatumNar, SifraPosl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a80404"/>
                </a:solidFill>
                <a:latin typeface="Arial"/>
                <a:ea typeface="Arial"/>
              </a:rPr>
              <a:t>StavkaNarudzbenice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rojNar, Rbr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, Kolicina, SifraArtikl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rtikal (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SifraArtikl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VrstaArtikla, NazivArtikla, OpisArtikla)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4280" y="65160"/>
            <a:ext cx="84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BP-</a:t>
            </a:r>
            <a:r>
              <a:rPr b="1" lang="pt-PT" sz="24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Pravila za prevođenje PMOV- a u relacioni model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251000"/>
            <a:ext cx="910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611280"/>
            <a:ext cx="9109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46800" bIns="46800" anchor="t">
            <a:spAutoFit/>
          </a:bodyPr>
          <a:p>
            <a:pPr marL="4680" indent="-4680">
              <a:lnSpc>
                <a:spcPct val="100000"/>
              </a:lnSpc>
              <a:tabLst>
                <a:tab algn="l" pos="0"/>
                <a:tab algn="l" pos="124128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  <a:tab algn="l" pos="6535800"/>
                <a:tab algn="l" pos="6819840"/>
              </a:tabLst>
            </a:pPr>
            <a:r>
              <a:rPr b="1" lang="pt-PT" sz="2400" spc="-1" strike="noStrike" u="sng">
                <a:solidFill>
                  <a:srgbClr val="cc3300"/>
                </a:solidFill>
                <a:uFillTx/>
                <a:latin typeface="Arial"/>
                <a:ea typeface="Times New Roman"/>
              </a:rPr>
              <a:t>Pravilo 1.</a:t>
            </a:r>
            <a:r>
              <a:rPr b="1" lang="sr-Latn-CS" sz="2400" spc="-1" strike="noStrike" u="sng">
                <a:solidFill>
                  <a:srgbClr val="cc3300"/>
                </a:solidFill>
                <a:uFillTx/>
                <a:latin typeface="Arial"/>
              </a:rPr>
              <a:t>3-(Nadt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2320" indent="-457200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124128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  <a:tab algn="l" pos="6535800"/>
                <a:tab algn="l" pos="6819840"/>
              </a:tabLst>
            </a:pPr>
            <a:r>
              <a:rPr b="1" lang="sv-SE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Objekat nadtip (generalizovani tip objekta) postaje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šema relaci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2320" indent="-457200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124128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  <a:tab algn="l" pos="6535800"/>
                <a:tab algn="l" pos="681984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Ime nadtipa postaje ime šeme relaci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2320" indent="-457200"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124128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  <a:tab algn="l" pos="6535800"/>
                <a:tab algn="l" pos="681984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Obeležja nadtipa su obležja šeme relaci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2320" indent="-457200"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124128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  <a:tab algn="l" pos="6535800"/>
                <a:tab algn="l" pos="681984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Identifikator nadtipa postaje ključ šeme relaci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80" indent="-4680" algn="just">
              <a:lnSpc>
                <a:spcPct val="100000"/>
              </a:lnSpc>
              <a:tabLst>
                <a:tab algn="l" pos="0"/>
                <a:tab algn="l" pos="124128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  <a:tab algn="l" pos="6535800"/>
                <a:tab algn="l" pos="6819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80" indent="-4680" algn="just">
              <a:lnSpc>
                <a:spcPct val="100000"/>
              </a:lnSpc>
              <a:tabLst>
                <a:tab algn="l" pos="0"/>
                <a:tab algn="l" pos="124128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  <a:tab algn="l" pos="6535800"/>
                <a:tab algn="l" pos="6819840"/>
              </a:tabLst>
            </a:pPr>
            <a:r>
              <a:rPr b="1" lang="sr-Latn-CS" sz="2400" spc="-1" strike="noStrike" u="sng">
                <a:solidFill>
                  <a:srgbClr val="cc3300"/>
                </a:solidFill>
                <a:uFillTx/>
                <a:latin typeface="Arial"/>
                <a:ea typeface="Times New Roman"/>
              </a:rPr>
              <a:t>Pravilo 1.4 (Podt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2320" indent="-457200" algn="just"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124128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  <a:tab algn="l" pos="6535800"/>
                <a:tab algn="l" pos="681984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Objekat podtip posstaje šema relaci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2320" indent="-457200" algn="just"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124128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  <a:tab algn="l" pos="6535800"/>
                <a:tab algn="l" pos="681984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Ime podtipa posttaje ime šeme relaci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2320" indent="-457200" algn="just">
              <a:lnSpc>
                <a:spcPct val="100000"/>
              </a:lnSpc>
              <a:buSzPct val="102884"/>
              <a:buBlip>
                <a:blip r:embed="rId7"/>
              </a:buBlip>
              <a:tabLst>
                <a:tab algn="l" pos="124128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  <a:tab algn="l" pos="6535800"/>
                <a:tab algn="l" pos="681984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I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dentifikator nadtipa postaje ključ (identifikatora) podtip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80" indent="-4680">
              <a:lnSpc>
                <a:spcPct val="100000"/>
              </a:lnSpc>
              <a:tabLst>
                <a:tab algn="l" pos="0"/>
                <a:tab algn="l" pos="124128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  <a:tab algn="l" pos="6535800"/>
                <a:tab algn="l" pos="681984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93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983960CF-0AF9-45D5-A3EE-BBCEE3B07FD0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5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5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96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4280" y="65160"/>
            <a:ext cx="84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BP-</a:t>
            </a:r>
            <a:r>
              <a:rPr b="1" lang="pt-PT" sz="24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Pravila za prevođenje PMOV- a u relacioni model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251000"/>
            <a:ext cx="910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11280"/>
            <a:ext cx="91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pt-PT" sz="2400" spc="-1" strike="noStrike" u="sng">
                <a:solidFill>
                  <a:srgbClr val="cc3300"/>
                </a:solidFill>
                <a:uFillTx/>
                <a:latin typeface="Arial"/>
                <a:ea typeface="Times New Roman"/>
              </a:rPr>
              <a:t>Pravilo 1.</a:t>
            </a:r>
            <a:r>
              <a:rPr b="1" lang="sr-Latn-CS" sz="2400" spc="-1" strike="noStrike" u="sng">
                <a:solidFill>
                  <a:srgbClr val="cc3300"/>
                </a:solidFill>
                <a:uFillTx/>
                <a:latin typeface="Arial"/>
              </a:rPr>
              <a:t>3,1.4-Primer</a:t>
            </a:r>
            <a:r>
              <a:rPr b="1" lang="en-US" sz="2400" spc="-1" strike="noStrike" u="sng">
                <a:solidFill>
                  <a:srgbClr val="cc3300"/>
                </a:solidFill>
                <a:uFillTx/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01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55639F78-1F26-4C4B-92DB-37FC64CEF7CE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5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3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5" name=""/>
          <p:cNvSpPr/>
          <p:nvPr/>
        </p:nvSpPr>
        <p:spPr>
          <a:xfrm>
            <a:off x="411120" y="5600880"/>
            <a:ext cx="8620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a80404"/>
                </a:solidFill>
                <a:latin typeface="Arial"/>
                <a:ea typeface="Arial"/>
              </a:rPr>
              <a:t>PoslovniPartner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ifraPoslP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, NazivPoslP, AdresaPoslP, Delatno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a80404"/>
                </a:solidFill>
                <a:latin typeface="Arial"/>
                <a:ea typeface="Arial"/>
              </a:rPr>
              <a:t>Kupac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ifraPoslP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, Po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a80404"/>
                </a:solidFill>
                <a:latin typeface="Arial"/>
              </a:rPr>
              <a:t>Do</a:t>
            </a:r>
            <a:r>
              <a:rPr b="1" lang="sr-Latn-CS" sz="2000" spc="-1" strike="noStrike">
                <a:solidFill>
                  <a:srgbClr val="a80404"/>
                </a:solidFill>
                <a:latin typeface="Arial"/>
                <a:ea typeface="Times New Roman"/>
              </a:rPr>
              <a:t>bavljac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SifraPoslP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KontaktOsoba, Tel)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14280" y="1017720"/>
          <a:ext cx="8623440" cy="458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4280" y="1017720"/>
                    <a:ext cx="8623440" cy="45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14280" y="65160"/>
            <a:ext cx="84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BP-</a:t>
            </a:r>
            <a:r>
              <a:rPr b="1" lang="pt-PT" sz="24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Pravila za prevođenje PMOV- a u relacioni model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251000"/>
            <a:ext cx="910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611280"/>
            <a:ext cx="9109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pt-PT" sz="2400" spc="-1" strike="noStrike" u="sng">
                <a:solidFill>
                  <a:srgbClr val="cc3300"/>
                </a:solidFill>
                <a:uFillTx/>
                <a:latin typeface="Arial"/>
                <a:ea typeface="Times New Roman"/>
              </a:rPr>
              <a:t>Pravila za </a:t>
            </a:r>
            <a:r>
              <a:rPr b="1" lang="sr-Latn-CS" sz="2400" spc="-1" strike="noStrike" u="sng">
                <a:solidFill>
                  <a:srgbClr val="cc3300"/>
                </a:solidFill>
                <a:uFillTx/>
                <a:latin typeface="Arial"/>
              </a:rPr>
              <a:t>binarne ve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457200" algn="just">
              <a:lnSpc>
                <a:spcPct val="100000"/>
              </a:lnSpc>
              <a:tabLst>
                <a:tab algn="l" pos="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Veze sa kardinalnošću: </a:t>
            </a:r>
            <a:r>
              <a:rPr b="1" lang="sr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(1,1) : (1,1), (0,1) : (1,1), (0,1) : (0,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457200" algn="just">
              <a:lnSpc>
                <a:spcPct val="100000"/>
              </a:lnSpc>
              <a:tabLst>
                <a:tab algn="l" pos="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Veze sa kardinalnošću: </a:t>
            </a:r>
            <a:r>
              <a:rPr b="1" lang="sl-SI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(1,1) : (0,М) </a:t>
            </a:r>
            <a:r>
              <a:rPr b="1" lang="sl-SI" sz="2400" spc="-1" strike="noStrike">
                <a:solidFill>
                  <a:srgbClr val="000099"/>
                </a:solidFill>
                <a:latin typeface="Arial Narrow"/>
              </a:rPr>
              <a:t>i</a:t>
            </a:r>
            <a:r>
              <a:rPr b="1" lang="sl-SI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(1,1) : (1,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457200" algn="just">
              <a:lnSpc>
                <a:spcPct val="100000"/>
              </a:lnSpc>
              <a:tabLst>
                <a:tab algn="l" pos="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Veze sa kardinalnošću: </a:t>
            </a:r>
            <a:r>
              <a:rPr b="1" lang="sr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(0,1) : (0,М)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i</a:t>
            </a:r>
            <a:r>
              <a:rPr b="1" lang="sr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(0,1) : (1,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457200">
              <a:lnSpc>
                <a:spcPct val="100000"/>
              </a:lnSpc>
              <a:tabLst>
                <a:tab algn="l" pos="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Veze sa kardinalnošću</a:t>
            </a:r>
            <a:r>
              <a:rPr b="1" lang="sr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: (0,М) : (0.М), (1,М) : (0,М)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i</a:t>
            </a:r>
            <a:r>
              <a:rPr b="1" lang="sr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(1,М) : (1,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457200">
              <a:lnSpc>
                <a:spcPct val="100000"/>
              </a:lnSpc>
              <a:tabLst>
                <a:tab algn="l" pos="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</a:tabLst>
            </a:pPr>
            <a:r>
              <a:rPr b="1" lang="it-IT" sz="2400" spc="-1" strike="noStrike" u="sng">
                <a:solidFill>
                  <a:srgbClr val="cc3300"/>
                </a:solidFill>
                <a:uFillTx/>
                <a:latin typeface="Arial"/>
                <a:ea typeface="Times New Roman"/>
              </a:rPr>
              <a:t>Veza sa kardinalnošću (1,1) – (1,1)</a:t>
            </a:r>
            <a:r>
              <a:rPr b="1" lang="en-US" sz="2400" spc="-1" strike="noStrike" u="sng">
                <a:solidFill>
                  <a:srgbClr val="cc3300"/>
                </a:solidFill>
                <a:uFillTx/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45720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Oba objekta koju u njoj učestvuju prevodimo u jednu šemu relacije, čija su obeležja sva obeležja jednog i drugog objek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45720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Kandidat za ključ u ovoj šemi relacije su identifikatori jednog i drugog objekta koju su u vez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12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773F4B12-16B3-4C04-A677-BFF10F91EA13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5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4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14280" y="65160"/>
            <a:ext cx="84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BP-</a:t>
            </a:r>
            <a:r>
              <a:rPr b="1" lang="pt-PT" sz="24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Pravila za prevođenje PMOV- a u relacioni model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611280"/>
            <a:ext cx="910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pt-PT" sz="2400" spc="-1" strike="noStrike" u="sng">
                <a:solidFill>
                  <a:srgbClr val="cc3300"/>
                </a:solidFill>
                <a:uFillTx/>
                <a:latin typeface="Arial"/>
                <a:ea typeface="Times New Roman"/>
              </a:rPr>
              <a:t>Veza sa kardinalnošću (0,1) – (1,1</a:t>
            </a:r>
            <a:r>
              <a:rPr b="1" lang="en-US" sz="2400" spc="-1" strike="noStrike" u="sng">
                <a:solidFill>
                  <a:srgbClr val="cc3300"/>
                </a:solidFill>
                <a:uFillTx/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pt-PT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Oba objekta u vezi prevodimo u dve šeme relaci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pl-PL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Za svaki objekat u vezi po jedna šema relaci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pl-PL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Identifikator jednog od objekta koji su u vezi ubaci za obležje druge šeme relaci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1" lang="pl-PL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Veza se predstavlja spoljnim ključem.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19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3E786DE2-893B-424D-9071-FC4DBDB25817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5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1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3" name=""/>
          <p:cNvSpPr/>
          <p:nvPr/>
        </p:nvSpPr>
        <p:spPr>
          <a:xfrm>
            <a:off x="411120" y="5600880"/>
            <a:ext cx="862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9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993300"/>
                </a:solidFill>
                <a:latin typeface="Arial"/>
                <a:ea typeface="Times New Roman"/>
              </a:rPr>
              <a:t>Otpremnica</a:t>
            </a:r>
            <a:r>
              <a:rPr b="1" lang="pt-PT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 (</a:t>
            </a:r>
            <a:r>
              <a:rPr b="1" lang="pt-PT" sz="20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BrojOtpr</a:t>
            </a:r>
            <a:r>
              <a:rPr b="1" lang="pt-PT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, DatumOtp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993300"/>
                </a:solidFill>
                <a:latin typeface="Arial"/>
                <a:ea typeface="Times New Roman"/>
              </a:rPr>
              <a:t>Prijemnica</a:t>
            </a:r>
            <a:r>
              <a:rPr b="1" lang="pt-PT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 (</a:t>
            </a:r>
            <a:r>
              <a:rPr b="1" lang="pt-PT" sz="20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BrojPrijemnice</a:t>
            </a:r>
            <a:r>
              <a:rPr b="1" lang="pt-PT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, DatumPrijem, BrOtpr)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4920" y="3498840"/>
          <a:ext cx="9074160" cy="1352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920" y="3498840"/>
                    <a:ext cx="907416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0T16:14:00Z</dcterms:created>
  <dc:creator>Lukic</dc:creator>
  <dc:description/>
  <dc:language>en-US</dc:language>
  <cp:lastModifiedBy>Zoran</cp:lastModifiedBy>
  <dcterms:modified xsi:type="dcterms:W3CDTF">2005-11-13T13:29:31Z</dcterms:modified>
  <cp:revision>325</cp:revision>
  <dc:subject/>
  <dc:title>PowerPoint Presentation</dc:title>
</cp:coreProperties>
</file>