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B28-147C-4712-B56C-1E40ECEA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51A-6D0F-46CB-9603-240A4810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8A5-FF1A-401B-A5E2-AC181D53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B45-5083-4B91-A733-AE90050F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A71-2549-43D2-A35C-5FDCA204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216-E540-4E43-925E-9FF854D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AC7-857E-474B-87B9-F8373A9A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D9D-89CA-47E5-A265-700626CD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40D-1C5C-45A3-93A5-5709D6BD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47B-EB96-47EC-BA9B-58FCD7F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30A-DD18-4DB0-8672-0B27938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5D9-B53E-494D-B77A-65B913A6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1677-D8CD-437A-81B5-44CA12DC61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5D05-B722-4412-B3D4-3700A466E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37F9C11-DF1D-4C8C-B620-7A99CDBDF6E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4000" y="314280"/>
            <a:ext cx="909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i kreiranju tabele potrebno je navesti njeno ime i za svaku kolonu tabele naziv, tip, dužinu i da li su NULL vrednosti dozvoljene. Opšti oblik naredbe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REATE TABL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lt;naziv tabe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lt;naziv kolone1&gt;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lt;tip podatka&gt;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[NOT NUL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lt;naziv kolon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lt;tip podatka&gt;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[NOT NUL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..  )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bele radnik i odelenje kreirane su sled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 naredbam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REATE TABLE RAD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RADNIK INTEGER NOT NULL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ME VARCHAR (20) NOT NU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OSAO VARCHAR 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RUKOV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ATZAP 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LATA NUMERIC (1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EMIJA NUMERIC (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DELENJE INTEGER NOT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QL, kreiranje tabele- osnovna sinta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5648D5A-CA98-4D80-B6D2-4B912D7641C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4000" y="314280"/>
            <a:ext cx="909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REATE TABLE ODEL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DELENJE INTEGER NOT NULL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ZIV VARCHAR (20) NOT NU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GRAD VARCHAR (20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QL, kreiranje tabele- osnovna sinta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3ACDC1C-BB79-410F-B56E-36AE3A62F3C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QL, Operacije-up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000" y="1000080"/>
            <a:ext cx="9109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snova SQL-a je upitni blok obli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ELECT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&lt;lista atribut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FROM &lt;lista relacij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WHERE &lt;kvalifikacioni izraz 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Listom atributa zadaje se operacija PROJEKCIJE. Kvalifikacionim izrazom zadaju se uslovi SELEKCIJE i SPAJANJA, odnosno iskazi slični iskazima u relacionom računu. Klauzule SELECT i FROM su obavezne, dok klauzula WHERE n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vd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s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ikazati nekoliko upita tipa projekcije, odnosno upita koji prikazuju neke ili sve kolone posmatrane tabele i sve njene vrste bez ikakve selekc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0264567-2944-41EB-B646-4A3DBFDBA5B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QL, Operacije-up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000" y="314280"/>
            <a:ext cx="91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ikazati sifre, nazive i lokacije svih odeljenja iz relacije o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odeljenjima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SELECT ODELJENJ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, NAZIV, GRAD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FROM ODELJENJ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ODELJENJE#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NAZIV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	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	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10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AD ZAJ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"/>
              <a:buAutoNum type="arabicPlain" startAt="20"/>
              <a:tabLst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IPREN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0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OjEKTOVANJ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40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STRAZIVANJ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NOVI S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A60910E-273B-405E-86BF-2011D6698C6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QL,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WHERE klau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ul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upiti tipa sel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000" y="663480"/>
            <a:ext cx="910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5256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WHERE se može koristiti sa SELECT, UPDATE i DELETE naredb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256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Prikazati sve podatke o radnicima koji rade u odelenju  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256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SELECT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256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FROM RAD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256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WHERE ODELENJ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#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 = 3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256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256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4000" y="3238560"/>
          <a:ext cx="9090000" cy="2344680"/>
        </p:xfrm>
        <a:graphic>
          <a:graphicData uri="http://schemas.openxmlformats.org/drawingml/2006/table">
            <a:tbl>
              <a:tblPr/>
              <a:tblGrid>
                <a:gridCol w="1136520"/>
                <a:gridCol w="1136880"/>
                <a:gridCol w="1135080"/>
                <a:gridCol w="1136520"/>
                <a:gridCol w="1136520"/>
                <a:gridCol w="1136880"/>
                <a:gridCol w="992160"/>
                <a:gridCol w="1279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RAD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S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RUK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Z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L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M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DELENJE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g_Put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/02/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g_Put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/02/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s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ukovodil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rag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g_put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/02/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o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litic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/02/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n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ukovodil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4571FE4-3F68-4CBF-B534-4B01541EEB6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QL, Nula vred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000" y="457200"/>
            <a:ext cx="91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 relacionom modelu mogu se definisati dve vrste “nula vrednos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Nula vrednost sa smislom “još nepoznata vrednost”,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marker s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pecifičnim binarnim kodom koj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značav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edostatak informacij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 vrednosti nekog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atrib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-Nula vrednost sa smislom “neprimenljiivo svojstvo” koj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značava da neki atribut nije primenljivo svojstvo za sve n-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ork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at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QL:1999 podržava samo jednu nula vrednost. Projektant i korisnik treba da pretpostave da je u pitanju nula vrednost sa smislom “još nepoznata vrednost”. Dali neki atribut relacije ima nula vrednost testira se preko klauzul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S NULL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il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20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OT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793AB38-B923-4FEC-AB5C-BD04E2E831E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TANDARDNI UPITNI JEZIK-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40" y="911160"/>
            <a:ext cx="91090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QL 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tructured Query Languag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) je standardni upitni jezik (ANSI i ISO standard). Tvorac je Chamberlin, a nastao je u IBM-ovoj istraživačkoj laboratoriji (IBM Researc Laboratory) u San Jose-u, Kalifornija 1974 god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Zaključno sa SQL-92 standardom SQL naredbe svrstavane su u tri kategorij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za definisanje podatak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(data definition statement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za manipulisanje (rukovanje) podacim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(data manipulation statements)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kontrolne (upravljačke) funkcij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(data control statemen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76E4C2A-A209-4042-B951-947477B93E1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TANDARDNI UPITNI JEZIK-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40" y="1511280"/>
            <a:ext cx="91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za definisanje podata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REATE TABL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kreiranje tabele B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REATE VIEW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kreiranje virtuelne tabele-”pogle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REATE INDEX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kreiranje indeksa nad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ombinaciojom kolona tabele)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ALTER TABL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izmena definicije tabe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ROP TABL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izbacivanje tabele iz baze podata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5F0402F-1115-4E0B-9173-98CB9171688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TANDARDNI UPITNI JEZIK-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000" y="584280"/>
            <a:ext cx="91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2) Naredbe za mabnipulisanje (rukovanje) podaci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ELEC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prikaz sadržaja relacione B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UPDA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izmena vrednosti kolona tabe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ELE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izbacivanje redova tabele)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dodavanje redova postojećoj tabe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3) Naredbe kontrolne (upravljačke) funkcij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E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GRANT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dodela prava korišćenja sopstvene tabel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rugim korisnici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REVOK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oduzimanje prava korišćenja sopstven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tabele od drugih korisnika)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OMMI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prenos dejstva transakcije na baz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data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ROLLBACK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poništavanje dejstva transakci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D468720-F836-4811-8806-5C35B932B18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TANDARDNI UPITNI JEZIK-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000" y="584280"/>
            <a:ext cx="91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QL :1999 standard razvrstava SQL naredbe u sedam kategor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snovni razlog za drugačije razvrstavanje naredbi je uvođenje novih koncepata u SQL u skladu sa razvojem informatičke tehnologije i potreba da se postojeće naredbe preciznije grupiš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11C989F-101B-4663-9B95-36F3B3E2DFC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000" y="1058760"/>
            <a:ext cx="909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 SQL:1999 standardu definisane su sledeće kategori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za šemu BP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SQL-schema statements),  koje se koriste za kreiranje, izmenu i izbacivanje šema i objekata šem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RETE, ALTER,DROP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za podatk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SQL- data statements), koje se koriste za prikaz i ažuriranje podtaka baze 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ELECT, INSERT, UPDATE,DLE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za transakci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(SQL-transaction statements), koje se koriste za startovanje, završavanje i postavljanje parametara za transakcije 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OMMIT, ROLLBAC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za kontrol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SQL-conrol statements), koje se koriste za kontrolu izvršavanja sekvence SQL naredbi 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ALL, RETUR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TANDARDNI UPITNI JEZIK-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30C4319-1D49-46D6-90B2-124C520AF02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000" y="584280"/>
            <a:ext cx="909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"/>
              <a:buAutoNum type="arabicParenR" startAt="5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eredbe za konekci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SQL-connection statements), koje se koriste za uspostavljanje i prekidanje SQL konekcij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CONNECT, DISCONN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"/>
              <a:buAutoNum type="arabicParenR" startAt="5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za sesi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SQL- session statement), koje se koriste za postavljanje default vrednosti i drugih parametara SQL sesij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"/>
              <a:buAutoNum type="arabicParenR" startAt="5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aredbe za dijagnostik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SQL- diagnostic statements), koje koriste dijagnostičke podatke i signaliziraju izuzetke u SQL rutinam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GET, DIAGNO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TANDARDNI UPITNI JEZIK-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A130A66-A156-4EC1-9AE9-710B971BEAF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QL,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domeni, tabele i kolone osnovna svojs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40" y="936720"/>
            <a:ext cx="9108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me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e u SQL-u imenovani, prost korisnički definisani objekat, koji se može specificirati kao alternativa za predefinisani tip podata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abel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ini uređena kolekcija od jedne ili više kolona i neuređena kolkcija od nula ili više redova. Svaka kolona ima Ime i Tip podatka (ili domen). Svaki red ima, za svaku kolonu, tačno jednu vrednost i ona je tipa podatka te kolone. Red je najmanja jedinica podatka koja se može uneti u tabelu ili izbrisati iz n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Tabela može bit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320920" indent="-60948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  <a:tab algn="l" pos="7104240"/>
                <a:tab algn="l" pos="7388280"/>
                <a:tab algn="l" pos="7672320"/>
                <a:tab algn="l" pos="79567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Bazna tabel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320920" indent="-60948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  <a:tab algn="l" pos="7104240"/>
                <a:tab algn="l" pos="7388280"/>
                <a:tab algn="l" pos="7672320"/>
                <a:tab algn="l" pos="79567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abela pogled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320920" indent="-60948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  <a:tab algn="l" pos="7104240"/>
                <a:tab algn="l" pos="7388280"/>
                <a:tab algn="l" pos="7672320"/>
                <a:tab algn="l" pos="79567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zvedena tabe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B732AF0-5D27-4333-8E70-B53A305D418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SQL,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domeni, tabele i kolone osnovna svojs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000" y="314280"/>
            <a:ext cx="91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Bazna tabel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e tabela čiji se podaci negde smeštaju, bilo n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isk ili 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emoriju. Ona je ili objekat šeme BP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pripada šemi) ili objekat modul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pripad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odulu). Svi SQL podaci su smešteni (čuvaj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e) u baznim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tabel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zvedena tabel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edstavlja rezultat izvršavanja upita. Upit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e operacij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oja referencira nula ili viš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baznih tabela i vraća tabel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ogled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je imenovani upit, koji se može pozvati (izvršiti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orišćenjem datog imena. Rezultat poziva je tabel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gleda. Pogled i tabela pogleda se često koriste kao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inoni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206DCDC-19C9-48CE-8382-2C3F205A595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8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16T08:08:52Z</dcterms:modified>
  <cp:revision>328</cp:revision>
  <dc:subject/>
  <dc:title>PowerPoint Presentation</dc:title>
</cp:coreProperties>
</file>