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5.png" ContentType="image/png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1516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4944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38088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1516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4944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1516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4944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8088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1516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4944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516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4944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8088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516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4944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1516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4944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38088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1516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4944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516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944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516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944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1516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4944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8088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1516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4944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1516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4944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8088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1516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4944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1516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4944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8088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1516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4944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1516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4944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8088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1516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4944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1516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4944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8088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1516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4944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80880" y="3700080"/>
            <a:ext cx="8382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8088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040" y="3700080"/>
            <a:ext cx="4090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1516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49440" y="91404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8088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1516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49440" y="3700080"/>
            <a:ext cx="269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285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76720" y="65527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sr-Latn-C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Kodovi za prenos i zapis</a:t>
            </a: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fld id="{356906A3-1AC2-4F0F-AB86-5FBE6800509D}" type="slidenum">
              <a:rPr b="1" i="1" lang="en-US" sz="16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763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3276720" y="6477120"/>
            <a:ext cx="5638680" cy="75960"/>
          </a:xfrm>
          <a:prstGeom prst="rect">
            <a:avLst/>
          </a:prstGeom>
          <a:ln w="0">
            <a:noFill/>
          </a:ln>
        </p:spPr>
      </p:pic>
      <p:sp>
        <p:nvSpPr>
          <p:cNvPr id="5" name="Text Box 7"/>
          <p:cNvSpPr/>
          <p:nvPr/>
        </p:nvSpPr>
        <p:spPr>
          <a:xfrm>
            <a:off x="304920" y="6400800"/>
            <a:ext cx="2971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200" spc="-1" strike="noStrike">
                <a:solidFill>
                  <a:srgbClr val="00cc99"/>
                </a:solidFill>
                <a:latin typeface="Times New Roman"/>
              </a:rPr>
              <a:t>Predrag Ivaniš</a:t>
            </a: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, Elektrotehnički fakult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Katedra za Telekomunikacije, Be</a:t>
            </a:r>
            <a:r>
              <a:rPr b="1" i="1" lang="en-US" sz="1200" spc="-1" strike="noStrike">
                <a:solidFill>
                  <a:srgbClr val="00cc99"/>
                </a:solidFill>
                <a:latin typeface="Times New Roman"/>
              </a:rPr>
              <a:t>ogr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5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763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"/>
          <p:cNvPicPr/>
          <p:nvPr/>
        </p:nvPicPr>
        <p:blipFill>
          <a:blip r:embed="rId3"/>
          <a:stretch/>
        </p:blipFill>
        <p:spPr>
          <a:xfrm>
            <a:off x="3276720" y="6477120"/>
            <a:ext cx="5638680" cy="7596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7"/>
          <p:cNvSpPr/>
          <p:nvPr/>
        </p:nvSpPr>
        <p:spPr>
          <a:xfrm>
            <a:off x="304920" y="6400800"/>
            <a:ext cx="2971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200" spc="-1" strike="noStrike">
                <a:solidFill>
                  <a:srgbClr val="00cc99"/>
                </a:solidFill>
                <a:latin typeface="Times New Roman"/>
              </a:rPr>
              <a:t>Predrag Ivaniš</a:t>
            </a: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, Elektrotehnički fakult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Katedra za Telekomunikacije, Be</a:t>
            </a:r>
            <a:r>
              <a:rPr b="1" i="1" lang="en-US" sz="1200" spc="-1" strike="noStrike">
                <a:solidFill>
                  <a:srgbClr val="00cc99"/>
                </a:solidFill>
                <a:latin typeface="Times New Roman"/>
              </a:rPr>
              <a:t>ogr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10"/>
          </p:nvPr>
        </p:nvSpPr>
        <p:spPr>
          <a:xfrm>
            <a:off x="3276720" y="65527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sr-Latn-C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Kodovi za prenos i zapis</a:t>
            </a: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fld id="{9FA83848-4E73-45DB-BF59-EFDDD0CE5158}" type="slidenum">
              <a:rPr b="1" i="1" lang="en-US" sz="16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5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763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"/>
          <p:cNvPicPr/>
          <p:nvPr/>
        </p:nvPicPr>
        <p:blipFill>
          <a:blip r:embed="rId3"/>
          <a:stretch/>
        </p:blipFill>
        <p:spPr>
          <a:xfrm>
            <a:off x="3276720" y="6477120"/>
            <a:ext cx="5638680" cy="7596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7"/>
          <p:cNvSpPr/>
          <p:nvPr/>
        </p:nvSpPr>
        <p:spPr>
          <a:xfrm>
            <a:off x="304920" y="6400800"/>
            <a:ext cx="2971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200" spc="-1" strike="noStrike">
                <a:solidFill>
                  <a:srgbClr val="00cc99"/>
                </a:solidFill>
                <a:latin typeface="Times New Roman"/>
              </a:rPr>
              <a:t>Predrag Ivaniš</a:t>
            </a: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, Elektrotehnički fakult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Katedra za Telekomunikacije, Be</a:t>
            </a:r>
            <a:r>
              <a:rPr b="1" i="1" lang="en-US" sz="1200" spc="-1" strike="noStrike">
                <a:solidFill>
                  <a:srgbClr val="00cc99"/>
                </a:solidFill>
                <a:latin typeface="Times New Roman"/>
              </a:rPr>
              <a:t>ogr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11"/>
          </p:nvPr>
        </p:nvSpPr>
        <p:spPr>
          <a:xfrm>
            <a:off x="3276720" y="65527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sr-Latn-C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Kodovi za prenos i zapis</a:t>
            </a: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fld id="{D39FD657-5EE6-4879-972D-7440C51300F1}" type="slidenum">
              <a:rPr b="1" i="1" lang="en-US" sz="16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763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" descr=""/>
          <p:cNvPicPr/>
          <p:nvPr/>
        </p:nvPicPr>
        <p:blipFill>
          <a:blip r:embed="rId3"/>
          <a:stretch/>
        </p:blipFill>
        <p:spPr>
          <a:xfrm>
            <a:off x="3276720" y="6477120"/>
            <a:ext cx="5638680" cy="7596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7"/>
          <p:cNvSpPr/>
          <p:nvPr/>
        </p:nvSpPr>
        <p:spPr>
          <a:xfrm>
            <a:off x="304920" y="6400800"/>
            <a:ext cx="2971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200" spc="-1" strike="noStrike">
                <a:solidFill>
                  <a:srgbClr val="00cc99"/>
                </a:solidFill>
                <a:latin typeface="Times New Roman"/>
              </a:rPr>
              <a:t>Predrag Ivaniš</a:t>
            </a: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, Elektrotehnički fakult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Katedra za Telekomunikacije, Be</a:t>
            </a:r>
            <a:r>
              <a:rPr b="1" i="1" lang="en-US" sz="1200" spc="-1" strike="noStrike">
                <a:solidFill>
                  <a:srgbClr val="00cc99"/>
                </a:solidFill>
                <a:latin typeface="Times New Roman"/>
              </a:rPr>
              <a:t>ogr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12"/>
          </p:nvPr>
        </p:nvSpPr>
        <p:spPr>
          <a:xfrm>
            <a:off x="3276720" y="65527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sr-Latn-C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, 2009/20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76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3276720" y="6477120"/>
            <a:ext cx="5638680" cy="75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304920" y="6400800"/>
            <a:ext cx="2971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200" spc="-1" strike="noStrike">
                <a:solidFill>
                  <a:srgbClr val="00cc99"/>
                </a:solidFill>
                <a:latin typeface="Times New Roman"/>
              </a:rPr>
              <a:t>Predrag Ivaniš</a:t>
            </a: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, Elektrotehnički fakult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Katedra za Telekomunikacije, Be</a:t>
            </a:r>
            <a:r>
              <a:rPr b="1" i="1" lang="en-US" sz="1200" spc="-1" strike="noStrike">
                <a:solidFill>
                  <a:srgbClr val="00cc99"/>
                </a:solidFill>
                <a:latin typeface="Times New Roman"/>
              </a:rPr>
              <a:t>ogr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276720" y="65527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sr-Latn-C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Kodovi za prenos i zapis</a:t>
            </a: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fld id="{1D0527EE-65A5-4ABC-A038-BDBACFF8D1E2}" type="slidenum">
              <a:rPr b="1" i="1" lang="en-US" sz="16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76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276720" y="6477120"/>
            <a:ext cx="5638680" cy="759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304920" y="6400800"/>
            <a:ext cx="2971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200" spc="-1" strike="noStrike">
                <a:solidFill>
                  <a:srgbClr val="00cc99"/>
                </a:solidFill>
                <a:latin typeface="Times New Roman"/>
              </a:rPr>
              <a:t>Predrag Ivaniš</a:t>
            </a: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, Elektrotehnički fakult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Katedra za Telekomunikacije, Be</a:t>
            </a:r>
            <a:r>
              <a:rPr b="1" i="1" lang="en-US" sz="1200" spc="-1" strike="noStrike">
                <a:solidFill>
                  <a:srgbClr val="00cc99"/>
                </a:solidFill>
                <a:latin typeface="Times New Roman"/>
              </a:rPr>
              <a:t>ogr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3"/>
          </p:nvPr>
        </p:nvSpPr>
        <p:spPr>
          <a:xfrm>
            <a:off x="3276720" y="65527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sr-Latn-C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Kodovi za prenos i zapis</a:t>
            </a: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fld id="{1209ADCD-D16C-415F-B810-E1EF39E259FB}" type="slidenum">
              <a:rPr b="1" i="1" lang="en-US" sz="16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76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3276720" y="6477120"/>
            <a:ext cx="5638680" cy="75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304920" y="6400800"/>
            <a:ext cx="2971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200" spc="-1" strike="noStrike">
                <a:solidFill>
                  <a:srgbClr val="00cc99"/>
                </a:solidFill>
                <a:latin typeface="Times New Roman"/>
              </a:rPr>
              <a:t>Predrag Ivaniš</a:t>
            </a: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, Elektrotehnički fakult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Katedra za Telekomunikacije, Be</a:t>
            </a:r>
            <a:r>
              <a:rPr b="1" i="1" lang="en-US" sz="1200" spc="-1" strike="noStrike">
                <a:solidFill>
                  <a:srgbClr val="00cc99"/>
                </a:solidFill>
                <a:latin typeface="Times New Roman"/>
              </a:rPr>
              <a:t>ogr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4"/>
          </p:nvPr>
        </p:nvSpPr>
        <p:spPr>
          <a:xfrm>
            <a:off x="3276720" y="65527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sr-Latn-C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Kodovi za prenos i zapis</a:t>
            </a: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fld id="{32E42454-9033-4769-888F-176B6DC28468}" type="slidenum">
              <a:rPr b="1" i="1" lang="en-US" sz="16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76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3276720" y="6477120"/>
            <a:ext cx="5638680" cy="759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304920" y="6400800"/>
            <a:ext cx="2971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200" spc="-1" strike="noStrike">
                <a:solidFill>
                  <a:srgbClr val="00cc99"/>
                </a:solidFill>
                <a:latin typeface="Times New Roman"/>
              </a:rPr>
              <a:t>Predrag Ivaniš</a:t>
            </a: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, Elektrotehnički fakult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Katedra za Telekomunikacije, Be</a:t>
            </a:r>
            <a:r>
              <a:rPr b="1" i="1" lang="en-US" sz="1200" spc="-1" strike="noStrike">
                <a:solidFill>
                  <a:srgbClr val="00cc99"/>
                </a:solidFill>
                <a:latin typeface="Times New Roman"/>
              </a:rPr>
              <a:t>ogr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276720" y="65527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sr-Latn-C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Kodovi za prenos i zapis</a:t>
            </a: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fld id="{67628DA5-C1EB-4A72-816B-82F0A700886A}" type="slidenum">
              <a:rPr b="1" i="1" lang="en-US" sz="16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76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3276720" y="6477120"/>
            <a:ext cx="5638680" cy="75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7"/>
          <p:cNvSpPr/>
          <p:nvPr/>
        </p:nvSpPr>
        <p:spPr>
          <a:xfrm>
            <a:off x="304920" y="6400800"/>
            <a:ext cx="2971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200" spc="-1" strike="noStrike">
                <a:solidFill>
                  <a:srgbClr val="00cc99"/>
                </a:solidFill>
                <a:latin typeface="Times New Roman"/>
              </a:rPr>
              <a:t>Predrag Ivaniš</a:t>
            </a: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, Elektrotehnički fakult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Katedra za Telekomunikacije, Be</a:t>
            </a:r>
            <a:r>
              <a:rPr b="1" i="1" lang="en-US" sz="1200" spc="-1" strike="noStrike">
                <a:solidFill>
                  <a:srgbClr val="00cc99"/>
                </a:solidFill>
                <a:latin typeface="Times New Roman"/>
              </a:rPr>
              <a:t>ogr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6"/>
          </p:nvPr>
        </p:nvSpPr>
        <p:spPr>
          <a:xfrm>
            <a:off x="3276720" y="65527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sr-Latn-C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Kodovi za prenos i zapis</a:t>
            </a: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fld id="{8A9E208A-284B-4D5D-90C8-E87215AC60AC}" type="slidenum">
              <a:rPr b="1" i="1" lang="en-US" sz="16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76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3"/>
          <a:stretch/>
        </p:blipFill>
        <p:spPr>
          <a:xfrm>
            <a:off x="3276720" y="6477120"/>
            <a:ext cx="5638680" cy="759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7"/>
          <p:cNvSpPr/>
          <p:nvPr/>
        </p:nvSpPr>
        <p:spPr>
          <a:xfrm>
            <a:off x="304920" y="6400800"/>
            <a:ext cx="2971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200" spc="-1" strike="noStrike">
                <a:solidFill>
                  <a:srgbClr val="00cc99"/>
                </a:solidFill>
                <a:latin typeface="Times New Roman"/>
              </a:rPr>
              <a:t>Predrag Ivaniš</a:t>
            </a: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, Elektrotehnički fakult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Katedra za Telekomunikacije, Be</a:t>
            </a:r>
            <a:r>
              <a:rPr b="1" i="1" lang="en-US" sz="1200" spc="-1" strike="noStrike">
                <a:solidFill>
                  <a:srgbClr val="00cc99"/>
                </a:solidFill>
                <a:latin typeface="Times New Roman"/>
              </a:rPr>
              <a:t>ogr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7"/>
          </p:nvPr>
        </p:nvSpPr>
        <p:spPr>
          <a:xfrm>
            <a:off x="3276720" y="65527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sr-Latn-C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Kodovi za prenos i zapis</a:t>
            </a: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fld id="{CD68B287-77ED-4C25-99B7-65452F5A77B0}" type="slidenum">
              <a:rPr b="1" i="1" lang="en-US" sz="16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5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76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"/>
          <p:cNvPicPr/>
          <p:nvPr/>
        </p:nvPicPr>
        <p:blipFill>
          <a:blip r:embed="rId3"/>
          <a:stretch/>
        </p:blipFill>
        <p:spPr>
          <a:xfrm>
            <a:off x="3276720" y="6477120"/>
            <a:ext cx="5638680" cy="7596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7"/>
          <p:cNvSpPr/>
          <p:nvPr/>
        </p:nvSpPr>
        <p:spPr>
          <a:xfrm>
            <a:off x="304920" y="6400800"/>
            <a:ext cx="2971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200" spc="-1" strike="noStrike">
                <a:solidFill>
                  <a:srgbClr val="00cc99"/>
                </a:solidFill>
                <a:latin typeface="Times New Roman"/>
              </a:rPr>
              <a:t>Predrag Ivaniš</a:t>
            </a: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, Elektrotehnički fakult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Katedra za Telekomunikacije, Be</a:t>
            </a:r>
            <a:r>
              <a:rPr b="1" i="1" lang="en-US" sz="1200" spc="-1" strike="noStrike">
                <a:solidFill>
                  <a:srgbClr val="00cc99"/>
                </a:solidFill>
                <a:latin typeface="Times New Roman"/>
              </a:rPr>
              <a:t>ogr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8"/>
          </p:nvPr>
        </p:nvSpPr>
        <p:spPr>
          <a:xfrm>
            <a:off x="3276720" y="65527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sr-Latn-C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Kodovi za prenos i zapis</a:t>
            </a: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fld id="{0A95995C-F0DC-42AC-819F-AF6073EAFA99}" type="slidenum">
              <a:rPr b="1" i="1" lang="en-US" sz="16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763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"/>
          <p:cNvPicPr/>
          <p:nvPr/>
        </p:nvPicPr>
        <p:blipFill>
          <a:blip r:embed="rId3"/>
          <a:stretch/>
        </p:blipFill>
        <p:spPr>
          <a:xfrm>
            <a:off x="3276720" y="6477120"/>
            <a:ext cx="5638680" cy="7596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304920" y="6400800"/>
            <a:ext cx="29718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200" spc="-1" strike="noStrike">
                <a:solidFill>
                  <a:srgbClr val="00cc99"/>
                </a:solidFill>
                <a:latin typeface="Times New Roman"/>
              </a:rPr>
              <a:t>Predrag Ivaniš</a:t>
            </a: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, Elektrotehnički fakult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0cc99"/>
                </a:solidFill>
                <a:latin typeface="Times New Roman"/>
              </a:rPr>
              <a:t>Katedra za Telekomunikacije, Be</a:t>
            </a:r>
            <a:r>
              <a:rPr b="1" i="1" lang="en-US" sz="1200" spc="-1" strike="noStrike">
                <a:solidFill>
                  <a:srgbClr val="00cc99"/>
                </a:solidFill>
                <a:latin typeface="Times New Roman"/>
              </a:rPr>
              <a:t>ogr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9"/>
          </p:nvPr>
        </p:nvSpPr>
        <p:spPr>
          <a:xfrm>
            <a:off x="3276720" y="65527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sr-Latn-C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Kodovi za prenos i zapis</a:t>
            </a: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fld id="{707C52FC-068D-40B3-AF4B-D2E6D83FE2EC}" type="slidenum">
              <a:rPr b="1" i="1" lang="en-US" sz="16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2640" y="1482840"/>
            <a:ext cx="8543880" cy="28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a50021"/>
                </a:solidFill>
                <a:latin typeface="Times New Roman"/>
              </a:rPr>
              <a:t>PRINCIPI MODERNIH</a:t>
            </a:r>
            <a:br>
              <a:rPr sz="4800"/>
            </a:br>
            <a:r>
              <a:rPr b="1" lang="sr-Latn-CS" sz="4800" spc="-1" strike="noStrike">
                <a:solidFill>
                  <a:srgbClr val="a50021"/>
                </a:solidFill>
                <a:latin typeface="Times New Roman"/>
              </a:rPr>
              <a:t>TELEKOMUNIKACIJA</a:t>
            </a:r>
            <a:br>
              <a:rPr sz="48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sr-Latn-CS" sz="3600" spc="-1" strike="noStrike">
                <a:solidFill>
                  <a:srgbClr val="a50021"/>
                </a:solidFill>
                <a:latin typeface="Times New Roman"/>
              </a:rPr>
              <a:t>SI2PMT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) </a:t>
            </a:r>
            <a:br>
              <a:rPr sz="3600"/>
            </a:b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1295280" y="4065480"/>
            <a:ext cx="6477120" cy="19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a50021"/>
                </a:solidFill>
                <a:latin typeface="Times New Roman"/>
              </a:rPr>
              <a:t>Elektrotehnički fakul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a50021"/>
                </a:solidFill>
                <a:latin typeface="Times New Roman"/>
              </a:rPr>
              <a:t>Katedra za tele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Times New Roman"/>
              </a:rPr>
              <a:t>Be</a:t>
            </a:r>
            <a:r>
              <a:rPr b="0" i="1" lang="hr-HR" sz="3200" spc="-1" strike="noStrike">
                <a:solidFill>
                  <a:srgbClr val="a50021"/>
                </a:solidFill>
                <a:latin typeface="Times New Roman"/>
              </a:rPr>
              <a:t>ograd</a:t>
            </a:r>
            <a:r>
              <a:rPr b="0" i="1" lang="en-US" sz="3200" spc="-1" strike="noStrike">
                <a:solidFill>
                  <a:srgbClr val="a50021"/>
                </a:solidFill>
                <a:latin typeface="Times New Roman"/>
              </a:rPr>
              <a:t>, 20</a:t>
            </a:r>
            <a:r>
              <a:rPr b="0" i="1" lang="sr-Latn-RS" sz="32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i="1" lang="sr-Latn-CS" sz="3200" spc="-1" strike="noStrike">
                <a:solidFill>
                  <a:srgbClr val="a50021"/>
                </a:solidFill>
                <a:latin typeface="Times New Roman"/>
              </a:rPr>
              <a:t>/201</a:t>
            </a:r>
            <a:r>
              <a:rPr b="0" i="1" lang="en-US" sz="3200" spc="-1" strike="noStrike">
                <a:solidFill>
                  <a:srgbClr val="a50021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8002c"/>
                </a:solidFill>
                <a:latin typeface="Times New Roman"/>
              </a:rPr>
              <a:t>Srednja dužina kodne reči, efikasnost koda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12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371520" y="957240"/>
            <a:ext cx="7029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- Srednja dužina kodne reč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- Entropija izv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- Efikas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4" name="Object 11"/>
          <p:cNvGraphicFramePr/>
          <p:nvPr/>
        </p:nvGraphicFramePr>
        <p:xfrm>
          <a:off x="885960" y="1647720"/>
          <a:ext cx="762300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647720"/>
                    <a:ext cx="76230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Object 12"/>
          <p:cNvGraphicFramePr/>
          <p:nvPr/>
        </p:nvGraphicFramePr>
        <p:xfrm>
          <a:off x="1967040" y="3044880"/>
          <a:ext cx="480852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7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7040" y="3044880"/>
                    <a:ext cx="48085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13"/>
          <p:cNvGraphicFramePr/>
          <p:nvPr/>
        </p:nvGraphicFramePr>
        <p:xfrm>
          <a:off x="2511360" y="4629240"/>
          <a:ext cx="351144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1360" y="4629240"/>
                    <a:ext cx="35114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4BEFB090-615C-4290-B75A-A107DC0FD165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8002c"/>
                </a:solidFill>
                <a:latin typeface="Times New Roman"/>
              </a:rPr>
              <a:t>Predstava pomoću stabla, drugi primer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0520" y="971640"/>
            <a:ext cx="857412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eset simbola izvorne liste, verovatnoće su im bitno različite!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užina kodne reči bitno zavisi od verovatnoće pojavljivanja simbola kome je reč pridružen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365040" y="2798640"/>
            <a:ext cx="8597880" cy="3478320"/>
          </a:xfrm>
          <a:prstGeom prst="rect">
            <a:avLst/>
          </a:prstGeom>
          <a:ln w="0">
            <a:noFill/>
          </a:ln>
        </p:spPr>
      </p:pic>
      <p:sp>
        <p:nvSpPr>
          <p:cNvPr id="560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EE12EED3-5AA3-49B5-897A-5158CD817816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8002c"/>
                </a:solidFill>
                <a:latin typeface="Times New Roman"/>
              </a:rPr>
              <a:t>Proširenje izvora, entropija proširenja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8"/>
          <p:cNvSpPr/>
          <p:nvPr/>
        </p:nvSpPr>
        <p:spPr>
          <a:xfrm>
            <a:off x="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56760" y="856800"/>
            <a:ext cx="857412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65160" indent="-6516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ko se umesto pojednih simbola posmatraju sekvence od po 2, 3 ili više (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) sukcesivnih simbola, tada se kaže da se posmatra drugo, treće ili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n-to proširenje izvor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spcBef>
                <a:spcPts val="499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o se obično obeležava sa S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 broj njegovih simbola je uprav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spcBef>
                <a:spcPts val="499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rugim rečima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to proširenje izvora je izvor čiji su simboli sekvence od p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imbola prvobitnog izvor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>
              <a:spcBef>
                <a:spcPts val="125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ime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spcBef>
                <a:spcPts val="499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riginalni izvor emituje poruke iz skupa S={A, B, C} sa verovatnoćama  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Times New Roman"/>
              </a:rPr>
              <a:t>                 </a:t>
            </a:r>
            <a:r>
              <a:rPr b="0" lang="sr-Latn-CS" sz="1800" spc="-1" strike="noStrike">
                <a:solidFill>
                  <a:srgbClr val="000099"/>
                </a:solidFill>
                <a:latin typeface="Times New Roman"/>
              </a:rPr>
              <a:t>P(A)=1/2, P(B)=1/4, P(C)=1/4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spcBef>
                <a:spcPts val="499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oširenje izvora “emituje” složene simbole iz sledećeg skupa: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imes New Roman"/>
              </a:rPr>
              <a:t>                 </a:t>
            </a:r>
            <a:r>
              <a:rPr b="0" lang="sr-Latn-CS" sz="18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sr-Latn-CS" sz="1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sr-Latn-CS" sz="1800" spc="-1" strike="noStrike">
                <a:solidFill>
                  <a:srgbClr val="000066"/>
                </a:solidFill>
                <a:latin typeface="Times New Roman"/>
              </a:rPr>
              <a:t>={AA, AB, AC, BA, BB, BC, CA, CB, CC}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spcBef>
                <a:spcPts val="499"/>
              </a:spcBef>
              <a:buClr>
                <a:srgbClr val="00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ačuna se na osnovu verovatnoća složenih simbola 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za izvore bez memorije važi </a:t>
            </a:r>
            <a:r>
              <a:rPr b="0" lang="sr-Latn-CS" sz="2000" spc="-1" strike="noStrike">
                <a:solidFill>
                  <a:srgbClr val="cc3300"/>
                </a:solidFill>
                <a:latin typeface="Times New Roman"/>
              </a:rPr>
              <a:t>P(s</a:t>
            </a:r>
            <a:r>
              <a:rPr b="0" lang="sr-Latn-CS" sz="2000" spc="-1" strike="noStrike" baseline="-25000">
                <a:solidFill>
                  <a:srgbClr val="cc3300"/>
                </a:solidFill>
                <a:latin typeface="Times New Roman"/>
              </a:rPr>
              <a:t>i</a:t>
            </a:r>
            <a:r>
              <a:rPr b="0" lang="sr-Latn-CS" sz="2000" spc="-1" strike="noStrike">
                <a:solidFill>
                  <a:srgbClr val="cc3300"/>
                </a:solidFill>
                <a:latin typeface="Times New Roman"/>
              </a:rPr>
              <a:t>,s</a:t>
            </a:r>
            <a:r>
              <a:rPr b="0" lang="sr-Latn-CS" sz="2000" spc="-1" strike="noStrike" baseline="-25000">
                <a:solidFill>
                  <a:srgbClr val="cc3300"/>
                </a:solidFill>
                <a:latin typeface="Times New Roman"/>
              </a:rPr>
              <a:t>k</a:t>
            </a:r>
            <a:r>
              <a:rPr b="0" lang="sr-Latn-CS" sz="2000" spc="-1" strike="noStrike">
                <a:solidFill>
                  <a:srgbClr val="cc3300"/>
                </a:solidFill>
                <a:latin typeface="Times New Roman"/>
              </a:rPr>
              <a:t>)=P(s</a:t>
            </a:r>
            <a:r>
              <a:rPr b="0" lang="sr-Latn-CS" sz="2000" spc="-1" strike="noStrike" baseline="-25000">
                <a:solidFill>
                  <a:srgbClr val="cc3300"/>
                </a:solidFill>
                <a:latin typeface="Times New Roman"/>
              </a:rPr>
              <a:t>i</a:t>
            </a:r>
            <a:r>
              <a:rPr b="0" lang="sr-Latn-CS" sz="2000" spc="-1" strike="noStrike">
                <a:solidFill>
                  <a:srgbClr val="cc3300"/>
                </a:solidFill>
                <a:latin typeface="Times New Roman"/>
              </a:rPr>
              <a:t>)P(s</a:t>
            </a:r>
            <a:r>
              <a:rPr b="0" lang="sr-Latn-CS" sz="2000" spc="-1" strike="noStrike" baseline="-25000">
                <a:solidFill>
                  <a:srgbClr val="cc3300"/>
                </a:solidFill>
                <a:latin typeface="Times New Roman"/>
              </a:rPr>
              <a:t>k</a:t>
            </a:r>
            <a:r>
              <a:rPr b="0" lang="sr-Latn-CS" sz="2000" spc="-1" strike="noStrike">
                <a:solidFill>
                  <a:srgbClr val="cc3300"/>
                </a:solidFill>
                <a:latin typeface="Times New Roman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imes New Roman"/>
              </a:rPr>
              <a:t>                </a:t>
            </a:r>
            <a:r>
              <a:rPr b="0" lang="sr-Latn-CS" sz="1800" spc="-1" strike="noStrike">
                <a:solidFill>
                  <a:srgbClr val="000066"/>
                </a:solidFill>
                <a:latin typeface="Times New Roman"/>
              </a:rPr>
              <a:t>H(S)=1/2*1+1/4*2+1/4*2=1.5 [Sh/simb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imes New Roman"/>
              </a:rPr>
              <a:t>                </a:t>
            </a:r>
            <a:r>
              <a:rPr b="0" lang="sr-Latn-CS" sz="1800" spc="-1" strike="noStrike">
                <a:solidFill>
                  <a:srgbClr val="000066"/>
                </a:solidFill>
                <a:latin typeface="Times New Roman"/>
              </a:rPr>
              <a:t>P(AA)=0.5*0.5=0.25,..., P(CC)=0.25*0.25=0.06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imes New Roman"/>
              </a:rPr>
              <a:t>                </a:t>
            </a:r>
            <a:r>
              <a:rPr b="0" lang="sr-Latn-CS" sz="1800" spc="-1" strike="noStrike">
                <a:solidFill>
                  <a:srgbClr val="000066"/>
                </a:solidFill>
                <a:latin typeface="Times New Roman"/>
              </a:rPr>
              <a:t>H(S</a:t>
            </a:r>
            <a:r>
              <a:rPr b="0" lang="sr-Latn-CS" sz="1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sr-Latn-CS" sz="1800" spc="-1" strike="noStrike">
                <a:solidFill>
                  <a:srgbClr val="000066"/>
                </a:solidFill>
                <a:latin typeface="Times New Roman"/>
              </a:rPr>
              <a:t>)=0.25*ld(4)+...+0.0625*ld(16)=3 [Sh/simb]= 2H(S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spcBef>
                <a:spcPts val="499"/>
              </a:spcBef>
              <a:buClr>
                <a:srgbClr val="00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6F5FD7FD-4AD6-4B45-B0DD-C39D70CE1446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8002c"/>
                </a:solidFill>
                <a:latin typeface="Times New Roman"/>
              </a:rPr>
              <a:t>Prva Šenonova teorema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0"/>
          <p:cNvSpPr/>
          <p:nvPr/>
        </p:nvSpPr>
        <p:spPr>
          <a:xfrm>
            <a:off x="371520" y="917640"/>
            <a:ext cx="8505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99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Ako u tekstu postoji suvišnost, ona se može otkloniti kompresijom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liki stepen kompresije se maksimalno može postić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lika je minimalna dužina kodne reči a da se sačuva kompletna informacija (da kod bude nedestruktivan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Prva Šenonova teorema – dovoljnim proširivanjem reda izvora i njegovim kodiranjem može se postići proizvoljno visoka efikasnos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- Ovaj izraz važi i za izvore sa memorijo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- Kompresija može najviše ići do nivoa gde se svaki simbol u proseku predstavlja sa onoliko bita koliko iznosi entropija izv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6" name="Object 13"/>
          <p:cNvGraphicFramePr/>
          <p:nvPr/>
        </p:nvGraphicFramePr>
        <p:xfrm>
          <a:off x="3500280" y="3429000"/>
          <a:ext cx="211320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3429000"/>
                    <a:ext cx="2113200" cy="10414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8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A6A1712E-DDBF-4A58-BD35-57C626BD16D9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8002c"/>
                </a:solidFill>
                <a:latin typeface="Times New Roman"/>
              </a:rPr>
              <a:t>Lempel Zivov (LZ) algoritam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0" y="914040"/>
            <a:ext cx="8677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Dve faz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vo se formira rečnik na osnovu dela sekvence koju emituje izv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- Kada je rečnik jednom formiran, on se koristi za kompresiju ostalog dela sekvence koju emituje izv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bično se koristi za kompresiju tekst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 prvih 256 pozicija slova, brojevi i specijalni znaci (prošireni ASCI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znavanje ovog (manjeg, standardnog i nezavisnog od statistike prenošene sekvence!) dela rečnika je potreban i dovoljan uslov da se rekonstruiše rečnik i izvrši dekompresija samo na osnovu presretnute sekvenc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kupna veličina rečnika je obično 2048 ili 4096 adresa, pa se svaki složeni simbol upisan u rečnik predstavlja kombinacijom od 11 ili 12 b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C93EBCAA-0B07-4A53-96AC-5535C67A6FD3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8002c"/>
                </a:solidFill>
                <a:latin typeface="Times New Roman"/>
              </a:rPr>
              <a:t>LZ, kompresija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83" name="Picture 6" descr=""/>
          <p:cNvPicPr/>
          <p:nvPr/>
        </p:nvPicPr>
        <p:blipFill>
          <a:blip r:embed="rId1"/>
          <a:stretch/>
        </p:blipFill>
        <p:spPr>
          <a:xfrm>
            <a:off x="590400" y="1243080"/>
            <a:ext cx="8167680" cy="334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"/>
          <p:cNvPicPr/>
          <p:nvPr/>
        </p:nvPicPr>
        <p:blipFill>
          <a:blip r:embed="rId2"/>
          <a:stretch/>
        </p:blipFill>
        <p:spPr>
          <a:xfrm>
            <a:off x="3205080" y="2104920"/>
            <a:ext cx="5919840" cy="39736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"/>
          <p:cNvPicPr/>
          <p:nvPr/>
        </p:nvPicPr>
        <p:blipFill>
          <a:blip r:embed="rId3"/>
          <a:stretch/>
        </p:blipFill>
        <p:spPr>
          <a:xfrm>
            <a:off x="144360" y="2462040"/>
            <a:ext cx="3168720" cy="3094200"/>
          </a:xfrm>
          <a:prstGeom prst="rect">
            <a:avLst/>
          </a:prstGeom>
          <a:ln w="0">
            <a:noFill/>
          </a:ln>
        </p:spPr>
      </p:pic>
      <p:sp>
        <p:nvSpPr>
          <p:cNvPr id="586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A2AF6F66-E58B-4745-B98F-D4D0BA735955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8002c"/>
                </a:solidFill>
                <a:latin typeface="Times New Roman"/>
              </a:rPr>
              <a:t>LZ vs. Hafme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52440" y="856800"/>
            <a:ext cx="5029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ka je sekvenca koju treba komprimovat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abababababababa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ukupno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dve podsekvence dužine 2 (ab,ba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dve podsekvence dužine 3 (aba,bab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dve podsekvence dužine 2 (abab,baba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icture 5" descr=""/>
          <p:cNvPicPr/>
          <p:nvPr/>
        </p:nvPicPr>
        <p:blipFill>
          <a:blip r:embed="rId1"/>
          <a:stretch/>
        </p:blipFill>
        <p:spPr>
          <a:xfrm>
            <a:off x="5791320" y="860400"/>
            <a:ext cx="3181320" cy="346392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6"/>
          <p:cNvSpPr/>
          <p:nvPr/>
        </p:nvSpPr>
        <p:spPr>
          <a:xfrm>
            <a:off x="324000" y="3460680"/>
            <a:ext cx="87246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99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ko rečnik ima 16 adresa (sa 4 bit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&gt; na adr 14. i 15. će biti sekvence dužine 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ko rečnik ima 4096 adresa (sa 12 bit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&gt; na adr 4094. i 4095. će biti sekvence dužine 2048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U realnosti rečnik ima ukupno 4096 pozicija, prvih 256 pozicija osnovni simboli (0-255) a na pozicijama (256-4095) izvedeni simbol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aravno, statistička zavisnost je znatno manja nego u navedenom primeru ali je sasvim dovoljna da za štampani tekst radi bolje nego Haf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FFDEFAB9-8BCF-479B-AACB-51B0C8E143CA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58002c"/>
                </a:solidFill>
                <a:latin typeface="Times New Roman"/>
              </a:rPr>
              <a:t>Primene algoritama za kompresiju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5337000" y="3517920"/>
            <a:ext cx="3816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MPE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do irreversible compression on colour channels (not on shade chann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for each block of 16x16 in a frame, try to find a "similar" block in a previous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r fu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ore the differences between blocks instead of storing entire 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Huffman encode the whole 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5354640" y="1069920"/>
            <a:ext cx="3673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JPE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reversible compression on colour 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compute th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iscrete Cosine Transform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"reduce" the DCT output: more re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Huffman encode the reduce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7" descr="kompr"/>
          <p:cNvPicPr/>
          <p:nvPr/>
        </p:nvPicPr>
        <p:blipFill>
          <a:blip r:embed="rId1"/>
          <a:stretch/>
        </p:blipFill>
        <p:spPr>
          <a:xfrm>
            <a:off x="28440" y="2441520"/>
            <a:ext cx="5300640" cy="350208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8"/>
          <p:cNvSpPr/>
          <p:nvPr/>
        </p:nvSpPr>
        <p:spPr>
          <a:xfrm>
            <a:off x="576360" y="1120680"/>
            <a:ext cx="41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PRIME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edestruktivna kompresija pisanog teksta ili slike obično se zasniva na LZ kodovima (LZ77, LZW) ili kombinaciji LZ/Haf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57408972-FBCB-466D-A7E6-8270FDA65D0A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a50021"/>
                </a:solidFill>
                <a:latin typeface="Times New Roman"/>
              </a:rPr>
              <a:t>Osnovna blok šema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0" name="Object 4"/>
          <p:cNvGraphicFramePr/>
          <p:nvPr/>
        </p:nvGraphicFramePr>
        <p:xfrm>
          <a:off x="468360" y="3068640"/>
          <a:ext cx="8136000" cy="31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068640"/>
                    <a:ext cx="8136000" cy="31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Rectangle 5"/>
          <p:cNvSpPr/>
          <p:nvPr/>
        </p:nvSpPr>
        <p:spPr>
          <a:xfrm>
            <a:off x="395280" y="1125360"/>
            <a:ext cx="820908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Tri vrste kodo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tatistički kodovi – zavise od osobina izvor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odovi za očuvanje tajnosti (kriptografija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aštitni kodov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– zavise od osobina kana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E08D0767-8850-4FFE-B78A-1F5C3E900F52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a50021"/>
                </a:solidFill>
                <a:latin typeface="Times New Roman"/>
              </a:rPr>
              <a:t>Ponavljanje poruke, pravilo odlučivanja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80880" y="71388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Kod zasnovan na ponavljanju poruke tri put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broj poruka je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=2, poruke bi mogle da 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stav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sa ld(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=1 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užina kodne reči je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=3, kodni količnik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=1/3 a protok </a:t>
            </a:r>
            <a:r>
              <a:rPr b="0" i="1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(X,Y)/3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avilo odlučivanja br.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eka se 000 i 111 dekoduje kao 0, odnosno 1, a u svim ostalim slučajevima smatra da su se pojavile greške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Verovatnoća neotkrivene greške za E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=4.3dB tj. p=10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Ovaj nivo greške bez primene koda postiže se za E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=10.5dB -&gt; p=10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avilo odlučivanja br. 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joritetna logika: gre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ške se detektuju ali i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Times New Roman"/>
              </a:rPr>
              <a:t>koriguju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Ispravlja samo jednostruke, verovatnoća neotkrivene greške je sada nešto već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6" name="Object 4"/>
          <p:cNvGraphicFramePr/>
          <p:nvPr/>
        </p:nvGraphicFramePr>
        <p:xfrm>
          <a:off x="2916360" y="1628640"/>
          <a:ext cx="3601800" cy="20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628640"/>
                    <a:ext cx="360180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0" name="Object 7"/>
          <p:cNvGraphicFramePr/>
          <p:nvPr/>
        </p:nvGraphicFramePr>
        <p:xfrm>
          <a:off x="3071880" y="5865840"/>
          <a:ext cx="351936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1880" y="5865840"/>
                    <a:ext cx="35193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Object 8"/>
          <p:cNvGraphicFramePr/>
          <p:nvPr/>
        </p:nvGraphicFramePr>
        <p:xfrm>
          <a:off x="3857760" y="4214880"/>
          <a:ext cx="151920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7760" y="4214880"/>
                    <a:ext cx="15192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55F07056-D752-44E5-BAA3-45445C42A380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243000" y="2079720"/>
            <a:ext cx="85438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9200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920000"/>
                </a:solidFill>
                <a:latin typeface="Times New Roman"/>
              </a:rPr>
              <a:t>II</a:t>
            </a:r>
            <a:r>
              <a:rPr b="1" lang="sr-Latn-CS" sz="4800" spc="-1" strike="noStrike">
                <a:solidFill>
                  <a:srgbClr val="920000"/>
                </a:solidFill>
                <a:latin typeface="Times New Roman"/>
              </a:rPr>
              <a:t>-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920000"/>
                </a:solidFill>
                <a:latin typeface="Times New Roman"/>
              </a:rPr>
              <a:t>Statistički i zaštitni kodov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8AA6960A-EF31-4938-A1C3-6A6BEC6EB344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a50021"/>
                </a:solidFill>
                <a:latin typeface="Times New Roman"/>
              </a:rPr>
              <a:t>Hemingov kod – konstrukcija pomoću šablona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50920" y="914400"/>
            <a:ext cx="374472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Šabl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Vektor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I = [</a:t>
            </a:r>
            <a:r>
              <a:rPr b="0" lang="sr-Latn-CS" sz="1800" spc="-1" strike="noStrike">
                <a:solidFill>
                  <a:srgbClr val="000099"/>
                </a:solidFill>
                <a:latin typeface="Times New Roman"/>
              </a:rPr>
              <a:t>1101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X = [</a:t>
            </a:r>
            <a:r>
              <a:rPr b="0" lang="sr-Latn-CS" sz="1800" spc="-1" strike="noStrike">
                <a:solidFill>
                  <a:srgbClr val="ff0f0f"/>
                </a:solidFill>
                <a:latin typeface="Times New Roman"/>
              </a:rPr>
              <a:t>10</a:t>
            </a:r>
            <a:r>
              <a:rPr b="0" lang="sr-Latn-CS" sz="1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sr-Latn-CS" sz="1800" spc="-1" strike="noStrike">
                <a:solidFill>
                  <a:srgbClr val="ff0f0f"/>
                </a:solidFill>
                <a:latin typeface="Times New Roman"/>
              </a:rPr>
              <a:t>0</a:t>
            </a:r>
            <a:r>
              <a:rPr b="0" lang="sr-Latn-CS" sz="1800" spc="-1" strike="noStrike">
                <a:solidFill>
                  <a:srgbClr val="000099"/>
                </a:solidFill>
                <a:latin typeface="Times New Roman"/>
              </a:rPr>
              <a:t>101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E = [00000</a:t>
            </a:r>
            <a:r>
              <a:rPr b="0" lang="sr-Latn-CS" sz="18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Y = [</a:t>
            </a:r>
            <a:r>
              <a:rPr b="0" lang="sr-Latn-CS" sz="1800" spc="-1" strike="noStrike">
                <a:solidFill>
                  <a:srgbClr val="ff0f0f"/>
                </a:solidFill>
                <a:latin typeface="Times New Roman"/>
              </a:rPr>
              <a:t>10</a:t>
            </a:r>
            <a:r>
              <a:rPr b="0" lang="sr-Latn-CS" sz="1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sr-Latn-CS" sz="1800" spc="-1" strike="noStrike">
                <a:solidFill>
                  <a:srgbClr val="ff0f0f"/>
                </a:solidFill>
                <a:latin typeface="Times New Roman"/>
              </a:rPr>
              <a:t>0</a:t>
            </a:r>
            <a:r>
              <a:rPr b="0" lang="sr-Latn-CS" sz="1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sr-Latn-CS" sz="18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0" lang="sr-Latn-CS" sz="1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- decimalni zapis sindroma pokazuje poziciju grešk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- ovaj kod može da detektuje i ispravlja grešk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7" name="Object 4"/>
          <p:cNvGraphicFramePr/>
          <p:nvPr/>
        </p:nvGraphicFramePr>
        <p:xfrm>
          <a:off x="579600" y="1268280"/>
          <a:ext cx="241776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1268280"/>
                    <a:ext cx="24177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Rectangle 5"/>
          <p:cNvSpPr/>
          <p:nvPr/>
        </p:nvSpPr>
        <p:spPr>
          <a:xfrm>
            <a:off x="3346560" y="836640"/>
            <a:ext cx="59054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eka treba kodovati bite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=0,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=1.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ozicije prve jedinice u kolonama (počev od krajnje desne) određuju pozicije zaštitnih b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4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eostale jedinice u pojedinim kolonama određuju kontrolne s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Greška na šestoj poziciji,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=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ekodovanje se obavlja pomoću sindr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=[110]=6   (pozicija grešk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3673080" y="2711160"/>
            <a:ext cx="402300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=1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=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=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3253680" y="4582800"/>
            <a:ext cx="487944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=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=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=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4909320" y="1751760"/>
            <a:ext cx="230004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774152B0-738F-4FDD-9188-C664ACC16CA1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a50021"/>
                </a:solidFill>
                <a:latin typeface="Times New Roman"/>
              </a:rPr>
              <a:t>Pojava dvostruke greške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583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oslato je [1101] a pri prenosu je pogrešno prenet 5. i 6. bi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indrom S=[011] ukazuje na treću poziciju koja se komplementira pa se rekonstruisana informaciona reč [0011] razlikuje od poslate za tri bita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U ovom primeru dekodovanje je čak pogoršalo performanse sistema. Zato se često dodaje još jedan zaštitni bit - ukupna provera na parnos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Osobine Hemingovog (7,4) kod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=3, 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sr-Latn-C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sr-Latn-C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=1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ovaj kod može da detektuje jednu grešku, koju istovremeno i koriguje (ne može da detektuje dodatne greške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Object 5"/>
          <p:cNvGraphicFramePr/>
          <p:nvPr/>
        </p:nvGraphicFramePr>
        <p:xfrm>
          <a:off x="1476360" y="1346040"/>
          <a:ext cx="1655640" cy="14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46040"/>
                    <a:ext cx="1655640" cy="14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Rectangle 6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Object 7"/>
          <p:cNvGraphicFramePr/>
          <p:nvPr/>
        </p:nvGraphicFramePr>
        <p:xfrm>
          <a:off x="3643200" y="1341360"/>
          <a:ext cx="1865520" cy="159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1341360"/>
                    <a:ext cx="1865520" cy="15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Object 9"/>
          <p:cNvGraphicFramePr/>
          <p:nvPr/>
        </p:nvGraphicFramePr>
        <p:xfrm>
          <a:off x="5867280" y="1341360"/>
          <a:ext cx="2017800" cy="144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1341360"/>
                    <a:ext cx="201780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59B745C4-A8FC-4B38-A180-263A19F0DB71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Literatura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80880" y="111888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] C. E. Shannon, “A mathematical theory of communication,”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ll System Technical Journal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ol. 27, pp. 379-423, July 1948; pp. 623-656, October 1948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[2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. Lin, D. J. Costello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 Control Co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Second Edition, Prentice Hall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ew Jersey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4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Drajić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. Ivaniš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od u teoriju informacija sa kodovanj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reće izdanj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demska misao, Beograd, 20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] D. J. Costello, Jr., J. Hagenauer, H. Imai, S. B. Wicker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pplications of Error-Control Co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EEE Trans. Inform. The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Vol 44 (1998), pp. 2531-256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. Morelos-Zaragoza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rt of Error Correcting Co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John Wiley &amp; Sons, Ltd, England, 200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108B721C-40E5-45F7-9A81-1695C4C37857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20000"/>
                </a:solidFill>
                <a:latin typeface="Times New Roman"/>
              </a:rPr>
              <a:t>Blok šema telekomunikacionog sistema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45600" y="850680"/>
            <a:ext cx="862020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Blok šema sa stanovišta </a:t>
            </a:r>
            <a:r>
              <a:rPr b="1" lang="sr-Latn-CS" sz="2000" spc="-1" strike="noStrike" u="sng">
                <a:solidFill>
                  <a:srgbClr val="ff0000"/>
                </a:solidFill>
                <a:uFillTx/>
                <a:latin typeface="Times New Roman"/>
              </a:rPr>
              <a:t>teorije informacij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00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Zanima nas prenos informacija kroz telekomunikacioni kana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00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Koliko prenos može biti efikasan, siguran i pouzdan?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1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osmatra se prenos na nivou bi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00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Iz izvora izlaze bit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00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U diskretni kanal ulaze bit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Object 6"/>
          <p:cNvGraphicFramePr/>
          <p:nvPr/>
        </p:nvGraphicFramePr>
        <p:xfrm>
          <a:off x="399960" y="3086280"/>
          <a:ext cx="8568000" cy="33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086280"/>
                    <a:ext cx="8568000" cy="33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E3701DAE-7732-4881-BFE8-FDC4971ACC9D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8002c"/>
                </a:solidFill>
                <a:latin typeface="Times New Roman"/>
              </a:rPr>
              <a:t>Diskretni izvor bez memorije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317520" y="1152360"/>
            <a:ext cx="854064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pisuju 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kupom mogućih poru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                                     </a:t>
            </a:r>
            <a:r>
              <a:rPr b="1" i="1" lang="sr-Latn-C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={</a:t>
            </a:r>
            <a:r>
              <a:rPr b="1" i="1" lang="sr-Latn-C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sr-Latn-C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sr-Latn-C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sr-Latn-C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, ..., </a:t>
            </a:r>
            <a:r>
              <a:rPr b="1" i="1" lang="sr-Latn-C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sr-Latn-C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erovatnoćama pojavljivanja pojedinih simbola iz ovog sku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3333cc"/>
                </a:solidFill>
                <a:latin typeface="Times New Roman"/>
              </a:rPr>
              <a:t>                                      </a:t>
            </a:r>
            <a:r>
              <a:rPr b="1" i="1" lang="sr-Latn-C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sr-Latn-C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sr-Latn-C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), </a:t>
            </a:r>
            <a:r>
              <a:rPr b="1" i="1" lang="sr-Latn-C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=1,...</a:t>
            </a:r>
            <a:r>
              <a:rPr b="1" i="1" lang="sr-Latn-C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rim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zvor emituje šest simbola – </a:t>
            </a: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A, B, C, D, E, 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erovatnoće pojavljivan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sr-Latn-CS" sz="2000" spc="-1" strike="noStrike">
                <a:solidFill>
                  <a:srgbClr val="3333cc"/>
                </a:solidFill>
                <a:latin typeface="Times New Roman"/>
              </a:rPr>
              <a:t>P(A)=0.5, P(B)=0.2, P(C)=0.1, P(D)=0.1, P(E)=0.07, P(F)=0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er sekv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ADAABABCAEBAAACCBAFADABADABA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2A356919-D10F-4E93-948B-D52E612BA4FB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8002c"/>
                </a:solidFill>
                <a:latin typeface="Times New Roman"/>
              </a:rPr>
              <a:t>ASCII tabela – za štampani tekst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17" name="Picture 5" descr="asciifull"/>
          <p:cNvPicPr/>
          <p:nvPr/>
        </p:nvPicPr>
        <p:blipFill>
          <a:blip r:embed="rId1"/>
          <a:stretch/>
        </p:blipFill>
        <p:spPr>
          <a:xfrm>
            <a:off x="392040" y="809640"/>
            <a:ext cx="8248680" cy="5629320"/>
          </a:xfrm>
          <a:prstGeom prst="rect">
            <a:avLst/>
          </a:prstGeom>
          <a:ln w="0">
            <a:noFill/>
          </a:ln>
        </p:spPr>
      </p:pic>
      <p:sp>
        <p:nvSpPr>
          <p:cNvPr id="518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A227B84F-53ED-4E01-95B1-7A67EF5FFC42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8002c"/>
                </a:solidFill>
                <a:latin typeface="Times New Roman"/>
              </a:rPr>
              <a:t>Efikasan preno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0880" y="914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eka sekvencu koju emituje diskretni izvor želimo da predstavimo u binarnom oblik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SCII kod – svaki simbol se predstavlja sa 7 bi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rethodni pri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Za prenos 30 slova iz prikazane sekvence potrebno je 30*7=210 bit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Koliko god ima slova potrebno je sedam puta više bita za njihov preno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Da li se poruka može predstaviti manjim brojem bita a da se ne naruši informacija koja se prenosi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Želimo da pravilno rekonstruišemo svih 30 slova na strani prijem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DE21BDE2-02A2-4DB7-8592-B0C956BCAD1F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8002c"/>
                </a:solidFill>
                <a:latin typeface="Times New Roman"/>
              </a:rPr>
              <a:t>Količina informacija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51920" y="6854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550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Informacija može imati više značenja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0000"/>
                </a:solidFill>
                <a:latin typeface="Times New Roman"/>
              </a:rPr>
              <a:t>sintaktički nivo 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– poruka nosi informacije ako na strani prijema postoji neizvesnost o tome koja će poruka biti primljena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0000"/>
                </a:solidFill>
                <a:latin typeface="Times New Roman"/>
              </a:rPr>
              <a:t>semantički nivo 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– zahteva se da korisnik razume značenje poruke (da je shvati)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0000"/>
                </a:solidFill>
                <a:latin typeface="Times New Roman"/>
              </a:rPr>
              <a:t>pragmatički nivo 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– razmatra se vrednost informacija (korist koju izvlači korisnik)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550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Najjednostavniji način – pomoću logaritm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Q</a:t>
            </a:r>
            <a:r>
              <a:rPr b="1" lang="sr-Latn-CS" sz="20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s</a:t>
            </a:r>
            <a:r>
              <a:rPr b="1" lang="sr-Latn-CS" sz="2000" spc="-1" strike="noStrike" baseline="-25000">
                <a:solidFill>
                  <a:srgbClr val="cc3300"/>
                </a:solidFill>
                <a:latin typeface="Times New Roman"/>
              </a:rPr>
              <a:t>i</a:t>
            </a:r>
            <a:r>
              <a:rPr b="1" lang="sr-Latn-CS" sz="2000" spc="-1" strike="noStrike">
                <a:solidFill>
                  <a:srgbClr val="cc3300"/>
                </a:solidFill>
                <a:latin typeface="Times New Roman"/>
              </a:rPr>
              <a:t>)=log[1/P(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s</a:t>
            </a:r>
            <a:r>
              <a:rPr b="1" lang="sr-Latn-CS" sz="2000" spc="-1" strike="noStrike" baseline="-25000">
                <a:solidFill>
                  <a:srgbClr val="cc3300"/>
                </a:solidFill>
                <a:latin typeface="Times New Roman"/>
              </a:rPr>
              <a:t>i</a:t>
            </a:r>
            <a:r>
              <a:rPr b="1" lang="sr-Latn-CS" sz="2000" spc="-1" strike="noStrike">
                <a:solidFill>
                  <a:srgbClr val="cc3300"/>
                </a:solidFill>
                <a:latin typeface="Times New Roman"/>
              </a:rPr>
              <a:t>)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550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Funkcija mora da zadovolji sledeć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Količina informacija ne može biti negativna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Ako je verovatnoća pojave simbola ravna jedinici, događaj je siguran i simbol ne nosi nikakvu informaciju prijemniku log(1)=0;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76"/>
              </a:spcBef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Ako su simboli nezavisni, količine informacija koju oni nose se sabiraju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Q</a:t>
            </a:r>
            <a:r>
              <a:rPr b="1" lang="sr-Latn-CS" sz="20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s</a:t>
            </a:r>
            <a:r>
              <a:rPr b="1" lang="sr-Latn-CS" sz="2000" spc="-1" strike="noStrike" baseline="-25000">
                <a:solidFill>
                  <a:srgbClr val="cc3300"/>
                </a:solidFill>
                <a:latin typeface="Times New Roman"/>
              </a:rPr>
              <a:t>i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s</a:t>
            </a:r>
            <a:r>
              <a:rPr b="1" lang="sr-Latn-CS" sz="2000" spc="-1" strike="noStrike" baseline="-25000">
                <a:solidFill>
                  <a:srgbClr val="cc3300"/>
                </a:solidFill>
                <a:latin typeface="Times New Roman"/>
              </a:rPr>
              <a:t>k</a:t>
            </a:r>
            <a:r>
              <a:rPr b="1" lang="sr-Latn-CS" sz="2000" spc="-1" strike="noStrike">
                <a:solidFill>
                  <a:srgbClr val="cc3300"/>
                </a:solidFill>
                <a:latin typeface="Times New Roman"/>
              </a:rPr>
              <a:t>)=log[1/P(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s</a:t>
            </a:r>
            <a:r>
              <a:rPr b="1" lang="sr-Latn-CS" sz="2000" spc="-1" strike="noStrike" baseline="-25000">
                <a:solidFill>
                  <a:srgbClr val="cc3300"/>
                </a:solidFill>
                <a:latin typeface="Times New Roman"/>
              </a:rPr>
              <a:t>i </a:t>
            </a:r>
            <a:r>
              <a:rPr b="1" lang="sr-Latn-CS" sz="2000" spc="-1" strike="noStrike">
                <a:solidFill>
                  <a:srgbClr val="cc3300"/>
                </a:solidFill>
                <a:latin typeface="Times New Roman"/>
              </a:rPr>
              <a:t>,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s</a:t>
            </a:r>
            <a:r>
              <a:rPr b="1" lang="sr-Latn-CS" sz="2000" spc="-1" strike="noStrike" baseline="-25000">
                <a:solidFill>
                  <a:srgbClr val="cc3300"/>
                </a:solidFill>
                <a:latin typeface="Times New Roman"/>
              </a:rPr>
              <a:t>k</a:t>
            </a:r>
            <a:r>
              <a:rPr b="1" lang="sr-Latn-CS" sz="2000" spc="-1" strike="noStrike">
                <a:solidFill>
                  <a:srgbClr val="cc3300"/>
                </a:solidFill>
                <a:latin typeface="Times New Roman"/>
              </a:rPr>
              <a:t>)]= log[1/P(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s</a:t>
            </a:r>
            <a:r>
              <a:rPr b="1" lang="sr-Latn-CS" sz="2000" spc="-1" strike="noStrike" baseline="-25000">
                <a:solidFill>
                  <a:srgbClr val="cc3300"/>
                </a:solidFill>
                <a:latin typeface="Times New Roman"/>
              </a:rPr>
              <a:t>i</a:t>
            </a:r>
            <a:r>
              <a:rPr b="1" lang="sr-Latn-CS" sz="2000" spc="-1" strike="noStrike">
                <a:solidFill>
                  <a:srgbClr val="cc3300"/>
                </a:solidFill>
                <a:latin typeface="Times New Roman"/>
              </a:rPr>
              <a:t>)P(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s</a:t>
            </a:r>
            <a:r>
              <a:rPr b="1" lang="sr-Latn-CS" sz="2000" spc="-1" strike="noStrike" baseline="-25000">
                <a:solidFill>
                  <a:srgbClr val="cc3300"/>
                </a:solidFill>
                <a:latin typeface="Times New Roman"/>
              </a:rPr>
              <a:t>k</a:t>
            </a:r>
            <a:r>
              <a:rPr b="1" lang="sr-Latn-CS" sz="2000" spc="-1" strike="noStrike">
                <a:solidFill>
                  <a:srgbClr val="cc3300"/>
                </a:solidFill>
                <a:latin typeface="Times New Roman"/>
              </a:rPr>
              <a:t>)]= 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Q</a:t>
            </a:r>
            <a:r>
              <a:rPr b="1" lang="sr-Latn-CS" sz="20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s</a:t>
            </a:r>
            <a:r>
              <a:rPr b="1" lang="sr-Latn-CS" sz="2000" spc="-1" strike="noStrike" baseline="-25000">
                <a:solidFill>
                  <a:srgbClr val="cc3300"/>
                </a:solidFill>
                <a:latin typeface="Times New Roman"/>
              </a:rPr>
              <a:t>i</a:t>
            </a:r>
            <a:r>
              <a:rPr b="1" lang="sr-Latn-CS" sz="2000" spc="-1" strike="noStrike">
                <a:solidFill>
                  <a:srgbClr val="cc3300"/>
                </a:solidFill>
                <a:latin typeface="Times New Roman"/>
              </a:rPr>
              <a:t>)+Q(</a:t>
            </a:r>
            <a:r>
              <a:rPr b="1" i="1" lang="sr-Latn-CS" sz="2000" spc="-1" strike="noStrike">
                <a:solidFill>
                  <a:srgbClr val="cc3300"/>
                </a:solidFill>
                <a:latin typeface="Times New Roman"/>
              </a:rPr>
              <a:t>s</a:t>
            </a:r>
            <a:r>
              <a:rPr b="1" lang="sr-Latn-CS" sz="2000" spc="-1" strike="noStrike" baseline="-25000">
                <a:solidFill>
                  <a:srgbClr val="cc3300"/>
                </a:solidFill>
                <a:latin typeface="Times New Roman"/>
              </a:rPr>
              <a:t>k</a:t>
            </a:r>
            <a:r>
              <a:rPr b="1" lang="sr-Latn-CS" sz="20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550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Ako je baza logaritma 2 jedinica je Šenon (</a:t>
            </a:r>
            <a:r>
              <a:rPr b="1" i="1" lang="sr-Latn-CS" sz="2200" spc="-1" strike="noStrike">
                <a:solidFill>
                  <a:srgbClr val="000000"/>
                </a:solidFill>
                <a:latin typeface="Times New Roman"/>
              </a:rPr>
              <a:t>Claude Shannon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550"/>
              </a:spcBef>
              <a:buClr>
                <a:srgbClr val="3333cc"/>
              </a:buClr>
              <a:buSzPct val="130000"/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Prethodni primer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                 </a:t>
            </a:r>
            <a:r>
              <a:rPr b="1" i="1" lang="sr-Latn-CS" sz="20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(A)=log</a:t>
            </a:r>
            <a:r>
              <a:rPr b="1" lang="sr-Latn-CS" sz="20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(1/0.5)=ld(2)=1[Sh], </a:t>
            </a:r>
            <a:r>
              <a:rPr b="1" i="1" lang="sr-Latn-CS" sz="20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(F)= ld(1/0.03)=5.06[Sh], 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62D78D96-2134-4309-969C-80D195CCA0A1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8002c"/>
                </a:solidFill>
                <a:latin typeface="Times New Roman"/>
              </a:rPr>
              <a:t>Entropija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14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168120" y="1120680"/>
            <a:ext cx="897588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Entropija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predstavlja prosečnu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“meru neizvesnosti (neopredeljenosti)” posmatrača o tome šta će izvor da emituj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itovanjem pojedinih simbola izvor emituje u proseku tačno potrebnu količinu informacija i upravo potpuno razrešava ovu neizvesnos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H(S)=P(A)Q(A)+P(B)Q(B)+P(C)Q(C)+P(D)Q(D)+P(E)Q(E)+P(F)Q(F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=0.5*1[Sh]+0.2*2.32[Sh]+...+0.07*5.06[Sh]=2.05 [Sh/simb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cc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Object 17"/>
          <p:cNvGraphicFramePr/>
          <p:nvPr/>
        </p:nvGraphicFramePr>
        <p:xfrm>
          <a:off x="754200" y="2819520"/>
          <a:ext cx="775476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2819520"/>
                    <a:ext cx="7754760" cy="750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3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DC3DE584-C600-4F10-98BE-06EEB0A911C9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8002c"/>
                </a:solidFill>
                <a:latin typeface="Times New Roman"/>
              </a:rPr>
              <a:t>Hafmenov postupak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290520" y="865080"/>
            <a:ext cx="856152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- Hafmenov kod koji odgovara izvoru koj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mituje šest simbo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erovatnoće zadate u drugoj koloni tab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- Postu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ređati po opadajućim verovatnoć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ažimati po dva simbola i dati im isti prefi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7" descr=""/>
          <p:cNvPicPr/>
          <p:nvPr/>
        </p:nvPicPr>
        <p:blipFill>
          <a:blip r:embed="rId1"/>
          <a:stretch/>
        </p:blipFill>
        <p:spPr>
          <a:xfrm>
            <a:off x="0" y="3705120"/>
            <a:ext cx="9144000" cy="2246400"/>
          </a:xfrm>
          <a:prstGeom prst="rect">
            <a:avLst/>
          </a:prstGeom>
          <a:ln w="0">
            <a:noFill/>
          </a:ln>
        </p:spPr>
      </p:pic>
      <p:sp>
        <p:nvSpPr>
          <p:cNvPr id="537" name="Footer Placeholder 3"/>
          <p:cNvSpPr/>
          <p:nvPr/>
        </p:nvSpPr>
        <p:spPr>
          <a:xfrm>
            <a:off x="3276720" y="6566040"/>
            <a:ext cx="548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3333cc"/>
                </a:solidFill>
                <a:latin typeface="Times New Roman"/>
              </a:rPr>
              <a:t>SI2PMT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fld id="{87C0DEC6-A26E-4310-AFA3-78268575D0FD}" type="slidenum"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09:35:06Z</dcterms:created>
  <dc:creator>Dr Predrag Ivanis</dc:creator>
  <dc:description/>
  <dc:language>en-US</dc:language>
  <cp:lastModifiedBy>predrag</cp:lastModifiedBy>
  <cp:lastPrinted>1999-04-25T09:29:16Z</cp:lastPrinted>
  <dcterms:modified xsi:type="dcterms:W3CDTF">2011-09-26T13:48:38Z</dcterms:modified>
  <cp:revision>590</cp:revision>
  <dc:subject/>
  <dc:title>No Slide Title</dc:title>
</cp:coreProperties>
</file>